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FDCA6-9A92-4A45-B913-1FE0E5639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61960" y="3886200"/>
            <a:ext cx="64767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361960" y="5486400"/>
            <a:ext cx="647676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2361960" y="5924520"/>
            <a:ext cx="647676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2D771-953A-4ADB-962A-215C0335B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361960" y="3886200"/>
            <a:ext cx="64767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361960" y="5486400"/>
            <a:ext cx="316044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680800" y="5486400"/>
            <a:ext cx="316044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361960" y="5924520"/>
            <a:ext cx="316044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680800" y="5924520"/>
            <a:ext cx="316044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548E9-CC52-42AD-8670-CC29ECB45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361960" y="3886200"/>
            <a:ext cx="64767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361960" y="5486400"/>
            <a:ext cx="208512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51840" y="5486400"/>
            <a:ext cx="208512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741360" y="5486400"/>
            <a:ext cx="208512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2361960" y="5924520"/>
            <a:ext cx="208512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4551840" y="5924520"/>
            <a:ext cx="208512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741360" y="5924520"/>
            <a:ext cx="208512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A6D27-106E-4DFF-8F44-AB7B73059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61960" y="3886200"/>
            <a:ext cx="64767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361960" y="5486400"/>
            <a:ext cx="64767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361960" y="3886200"/>
            <a:ext cx="64767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361960" y="5486400"/>
            <a:ext cx="647676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361960" y="3886200"/>
            <a:ext cx="64767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361960" y="5486400"/>
            <a:ext cx="316044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680800" y="5486400"/>
            <a:ext cx="316044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361960" y="3886200"/>
            <a:ext cx="64767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361960" y="3886200"/>
            <a:ext cx="6476760" cy="67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61960" y="3886200"/>
            <a:ext cx="64767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1960" y="5486400"/>
            <a:ext cx="316044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680800" y="5486400"/>
            <a:ext cx="316044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361960" y="5924520"/>
            <a:ext cx="316044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361960" y="3886200"/>
            <a:ext cx="64767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2361960" y="5486400"/>
            <a:ext cx="64767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2923E-3D34-4241-B8A2-B591B5ABC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61960" y="3886200"/>
            <a:ext cx="64767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361960" y="5486400"/>
            <a:ext cx="316044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680800" y="5486400"/>
            <a:ext cx="316044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680800" y="5924520"/>
            <a:ext cx="316044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61960" y="3886200"/>
            <a:ext cx="64767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1960" y="5486400"/>
            <a:ext cx="316044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680800" y="5486400"/>
            <a:ext cx="316044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361960" y="5924520"/>
            <a:ext cx="647676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361960" y="3886200"/>
            <a:ext cx="64767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361960" y="5486400"/>
            <a:ext cx="647676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361960" y="5924520"/>
            <a:ext cx="647676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361960" y="3886200"/>
            <a:ext cx="64767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361960" y="5486400"/>
            <a:ext cx="316044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680800" y="5486400"/>
            <a:ext cx="316044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361960" y="5924520"/>
            <a:ext cx="316044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680800" y="5924520"/>
            <a:ext cx="316044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361960" y="3886200"/>
            <a:ext cx="64767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361960" y="5486400"/>
            <a:ext cx="208512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51840" y="5486400"/>
            <a:ext cx="208512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41360" y="5486400"/>
            <a:ext cx="208512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361960" y="5924520"/>
            <a:ext cx="208512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551840" y="5924520"/>
            <a:ext cx="208512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741360" y="5924520"/>
            <a:ext cx="208512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361960" y="3886200"/>
            <a:ext cx="64767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361960" y="5486400"/>
            <a:ext cx="647676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84AB2-08B5-4149-B956-7E430EBCC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61960" y="3886200"/>
            <a:ext cx="64767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361960" y="5486400"/>
            <a:ext cx="316044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680800" y="5486400"/>
            <a:ext cx="316044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925F0-DD46-4C85-9F5A-82CCCED2C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361960" y="3886200"/>
            <a:ext cx="64767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5FDE0-BB4B-4764-83EA-423AE25E7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361960" y="3886200"/>
            <a:ext cx="6476760" cy="67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D2DB1-C32B-43BB-83B0-0C5EA41DF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361960" y="3886200"/>
            <a:ext cx="64767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361960" y="5486400"/>
            <a:ext cx="316044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680800" y="5486400"/>
            <a:ext cx="316044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2361960" y="5924520"/>
            <a:ext cx="316044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C2EDE-79B1-4FD6-A9FC-83F7B0E87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361960" y="3886200"/>
            <a:ext cx="64767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361960" y="5486400"/>
            <a:ext cx="316044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680800" y="5486400"/>
            <a:ext cx="316044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680800" y="5924520"/>
            <a:ext cx="316044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6E24E-3F64-4F93-94F3-60DCB3682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361960" y="3886200"/>
            <a:ext cx="64767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361960" y="5486400"/>
            <a:ext cx="316044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680800" y="5486400"/>
            <a:ext cx="316044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361960" y="5924520"/>
            <a:ext cx="647676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A6435-2CFA-4642-869E-4F7B71C8E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10666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-230040">
              <a:spcBef>
                <a:spcPts val="700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2480">
              <a:spcBef>
                <a:spcPts val="700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30040">
              <a:spcBef>
                <a:spcPts val="700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60360" indent="-230040">
              <a:spcBef>
                <a:spcPts val="700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222480">
              <a:spcBef>
                <a:spcPts val="700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222480">
              <a:spcBef>
                <a:spcPts val="700"/>
              </a:spcBef>
              <a:buClr>
                <a:srgbClr val="000000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222480">
              <a:spcBef>
                <a:spcPts val="700"/>
              </a:spcBef>
              <a:buClr>
                <a:srgbClr val="000000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082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456840" y="6613200"/>
            <a:ext cx="28954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© 2002 Infosys Technologies Limit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61320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Slide </a:t>
            </a:r>
            <a:fld id="{8396DD37-F6E9-4995-9AF0-799CDCAE6E7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438280" y="104760"/>
            <a:ext cx="2210040" cy="6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alyst Me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ugust 27, 20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38037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1960" y="3886200"/>
            <a:ext cx="64767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5943240" y="6476760"/>
            <a:ext cx="28954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02 Infosys Technologies Limit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172200" y="1523880"/>
            <a:ext cx="2209680" cy="6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alyst Me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ugust 27, 20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362320" y="3505320"/>
            <a:ext cx="3657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ving up to the promise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33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  <a:p>
            <a:pPr lvl="1" marL="34596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84360" algn="ctr">
              <a:spcBef>
                <a:spcPts val="499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30320" algn="ctr">
              <a:spcBef>
                <a:spcPts val="451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6280" algn="ctr">
              <a:spcBef>
                <a:spcPts val="400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376280">
              <a:spcBef>
                <a:spcPts val="400"/>
              </a:spcBef>
              <a:buClr>
                <a:srgbClr val="000000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376280">
              <a:spcBef>
                <a:spcPts val="400"/>
              </a:spcBef>
              <a:buClr>
                <a:srgbClr val="000000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361960" y="3886200"/>
            <a:ext cx="64767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Broadening the services footprint - Business Process Management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361960" y="5486400"/>
            <a:ext cx="64767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3300"/>
                </a:solidFill>
                <a:latin typeface="Arial"/>
              </a:rPr>
              <a:t>Rajiv Kuchhal</a:t>
            </a: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373040" y="4114800"/>
            <a:ext cx="640080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25520" y="165240"/>
            <a:ext cx="8591400" cy="61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3360" rIns="63360" tIns="27000" bIns="27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0666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Building Delivery Capability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2840" indent="-222840">
              <a:spcBef>
                <a:spcPts val="451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fer of senior management from Infosys – to bring values and 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>
              <a:spcBef>
                <a:spcPts val="451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ruitment from Industry – both BPM and Do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>
              <a:spcBef>
                <a:spcPts val="451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ilding brand by using Infosys chann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>
              <a:spcBef>
                <a:spcPts val="451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ilding scalable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1160" indent="-215640">
              <a:spcBef>
                <a:spcPts val="400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reening 1000 resumes a wee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1160" indent="-215640">
              <a:spcBef>
                <a:spcPts val="400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ring, training and deploying 50+ every mon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1160" indent="-215640">
              <a:spcBef>
                <a:spcPts val="400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veraging Infosys Sales &amp; Marketing, Infrastructure and internal 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>
              <a:spcBef>
                <a:spcPts val="451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of Operation specific quality progra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1160" indent="-215640">
              <a:spcBef>
                <a:spcPts val="400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 Sig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1160" indent="-215640">
              <a:spcBef>
                <a:spcPts val="400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PC, ISO 90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>
              <a:spcBef>
                <a:spcPts val="451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raging technology streng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1160" indent="-215640">
              <a:spcBef>
                <a:spcPts val="400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ing Influx for Process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1160" indent="-215640">
              <a:spcBef>
                <a:spcPts val="400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nsaction Monitor for workflow and reporting – providing dashboard functional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>
              <a:spcBef>
                <a:spcPts val="451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ing Infosys Business Consulting Services for Discovery and Tran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0666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Arial"/>
              </a:rPr>
              <a:t>Our First Customer – High Tech Equipment Manufacturer</a:t>
            </a:r>
            <a:endParaRPr b="0" lang="en-US" sz="24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-230040">
              <a:spcBef>
                <a:spcPts val="451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obal partner in product co-development and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451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ing trusted relationship to BP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451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ed operations on 22nd Apr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451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stomer Service Support C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2480">
              <a:spcBef>
                <a:spcPts val="400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rder Entry and error resol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2480">
              <a:spcBef>
                <a:spcPts val="400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 phase growth (total of 160 FT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2480">
              <a:spcBef>
                <a:spcPts val="400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gration of operations from Australia, Holland and U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451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ne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2480">
              <a:spcBef>
                <a:spcPts val="400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st redu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2480">
              <a:spcBef>
                <a:spcPts val="400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hanced customer servic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2480">
              <a:spcBef>
                <a:spcPts val="400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ability for new growth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2480">
              <a:spcBef>
                <a:spcPts val="400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veraging existing infrastruc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791320" y="4038480"/>
            <a:ext cx="2895480" cy="12956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9900"/>
              </a:gs>
              <a:gs pos="50000">
                <a:srgbClr val="99ff99"/>
              </a:gs>
              <a:gs pos="100000">
                <a:srgbClr val="009900"/>
              </a:gs>
            </a:gsLst>
            <a:lin ang="13500000"/>
          </a:gradFill>
          <a:ln w="316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Three Process Gone L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Fourth and Fifth Process in Trai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33520" y="5562720"/>
            <a:ext cx="8229600" cy="88596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50000">
                <a:srgbClr val="ffffff"/>
              </a:gs>
              <a:gs pos="100000">
                <a:srgbClr val="ccecff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990000"/>
                </a:solidFill>
                <a:latin typeface="Arial"/>
                <a:ea typeface="Arial"/>
              </a:rPr>
              <a:t>“</a:t>
            </a:r>
            <a:r>
              <a:rPr b="0" lang="en-US" sz="1300" spc="-1" strike="noStrike">
                <a:solidFill>
                  <a:srgbClr val="990000"/>
                </a:solidFill>
                <a:latin typeface="Arial"/>
                <a:ea typeface="Arial"/>
              </a:rPr>
              <a:t>IRT BPO has been outstanding. Thanks to both teams for one of the best implementation I've ever seen.</a:t>
            </a:r>
            <a:r>
              <a:rPr b="0" lang="en-US" sz="1300" spc="-1" strike="noStrike">
                <a:solidFill>
                  <a:srgbClr val="990000"/>
                </a:solidFill>
                <a:latin typeface="Arial"/>
              </a:rPr>
              <a:t> </a:t>
            </a:r>
            <a:r>
              <a:rPr b="0" lang="en-US" sz="1300" spc="-1" strike="noStrike">
                <a:solidFill>
                  <a:srgbClr val="990000"/>
                </a:solidFill>
                <a:latin typeface="Arial"/>
                <a:ea typeface="Arial"/>
              </a:rPr>
              <a:t>Now to the next one. There is so much more coming, increase challenges, but now more than ever I feel 100% confident we'll get there in a successful way. The proof is there, the role model is there, the team is there, ... It could not be better” – Customer Spons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791320" y="2133720"/>
            <a:ext cx="2895480" cy="1295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9900"/>
              </a:gs>
              <a:gs pos="50000">
                <a:srgbClr val="99ff99"/>
              </a:gs>
              <a:gs pos="100000">
                <a:srgbClr val="009900"/>
              </a:gs>
            </a:gsLst>
            <a:lin ang="13500000"/>
          </a:gradFill>
          <a:ln w="316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Achieved 99.5% quality within 1 wee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361960" y="3886200"/>
            <a:ext cx="64767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Thank You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0666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Progeon – BPM services provider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2120" y="4038480"/>
            <a:ext cx="7848360" cy="912960"/>
          </a:xfrm>
          <a:prstGeom prst="rect">
            <a:avLst/>
          </a:prstGeom>
          <a:solidFill>
            <a:srgbClr val="ccffff">
              <a:alpha val="60000"/>
            </a:srgbClr>
          </a:solidFill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Vision Stat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333399"/>
                </a:solidFill>
                <a:latin typeface="Arial"/>
              </a:rPr>
              <a:t>To be the global partner of choice, providing best-in-class business process management services through innovative and leading technology enabled solution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2120" y="2892600"/>
            <a:ext cx="7848360" cy="912960"/>
          </a:xfrm>
          <a:prstGeom prst="rect">
            <a:avLst/>
          </a:prstGeom>
          <a:solidFill>
            <a:srgbClr val="ccffff">
              <a:alpha val="60000"/>
            </a:srgbClr>
          </a:solidFill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Value Proposi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333399"/>
                </a:solidFill>
                <a:latin typeface="Arial"/>
              </a:rPr>
              <a:t>Progeon delivers value by leveraging the benefits of service delivery globalization, process redesign and technolog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62120" y="2057400"/>
            <a:ext cx="7848360" cy="613080"/>
          </a:xfrm>
          <a:prstGeom prst="rect">
            <a:avLst/>
          </a:prstGeom>
          <a:solidFill>
            <a:srgbClr val="ccffff">
              <a:alpha val="60000"/>
            </a:srgbClr>
          </a:solidFill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Significance of the 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333399"/>
                </a:solidFill>
                <a:latin typeface="Arial"/>
              </a:rPr>
              <a:t>Managing PROcesses in a Global EON (era)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0666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Arial"/>
              </a:rPr>
              <a:t>Progeon has made significant progress in a short time</a:t>
            </a:r>
            <a:endParaRPr b="0" lang="en-US" sz="2400" spc="-1" strike="noStrike">
              <a:solidFill>
                <a:srgbClr val="9933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752480"/>
          <a:ext cx="2057400" cy="1459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752480"/>
                    <a:ext cx="2057400" cy="145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" name=""/>
          <p:cNvSpPr/>
          <p:nvPr/>
        </p:nvSpPr>
        <p:spPr>
          <a:xfrm>
            <a:off x="304920" y="5029200"/>
            <a:ext cx="1295280" cy="60948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50000">
                <a:srgbClr val="ffffff"/>
              </a:gs>
              <a:gs pos="100000">
                <a:srgbClr val="ccecff"/>
              </a:gs>
            </a:gsLst>
            <a:lin ang="13500000"/>
          </a:gra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00"/>
                </a:solidFill>
                <a:latin typeface="Arial"/>
              </a:rPr>
              <a:t>Incorpo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920" y="472428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0000"/>
                </a:solidFill>
                <a:latin typeface="Arial"/>
              </a:rPr>
              <a:t>April 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04920" y="5724360"/>
            <a:ext cx="2209680" cy="7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 MM funding from Infosy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$20MM funding from Citigro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raining for 1</a:t>
            </a:r>
            <a:r>
              <a:rPr b="0" lang="en-US" sz="10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client underw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ployee Strength - 5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209680" y="4419720"/>
            <a:ext cx="1295640" cy="60948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50000">
                <a:srgbClr val="ffffff"/>
              </a:gs>
              <a:gs pos="100000">
                <a:srgbClr val="ccecff"/>
              </a:gs>
            </a:gsLst>
            <a:lin ang="13500000"/>
          </a:gra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00"/>
                </a:solidFill>
                <a:latin typeface="Arial"/>
              </a:rPr>
              <a:t>1</a:t>
            </a:r>
            <a:r>
              <a:rPr b="1" lang="en-US" sz="1400" spc="-1" strike="noStrike" baseline="30000">
                <a:solidFill>
                  <a:srgbClr val="990000"/>
                </a:solidFill>
                <a:latin typeface="Arial"/>
              </a:rPr>
              <a:t>st</a:t>
            </a:r>
            <a:r>
              <a:rPr b="1" lang="en-US" sz="1400" spc="-1" strike="noStrike">
                <a:solidFill>
                  <a:srgbClr val="990000"/>
                </a:solidFill>
                <a:latin typeface="Arial"/>
              </a:rPr>
              <a:t> Cli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209680" y="411480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0000"/>
                </a:solidFill>
                <a:latin typeface="Arial"/>
              </a:rPr>
              <a:t>May 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209680" y="5105520"/>
            <a:ext cx="236232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eady State operations for 1</a:t>
            </a:r>
            <a:r>
              <a:rPr b="0" lang="en-US" sz="10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cli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ployee Strength - 1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191120" y="3657600"/>
            <a:ext cx="1295280" cy="60948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50000">
                <a:srgbClr val="ffffff"/>
              </a:gs>
              <a:gs pos="100000">
                <a:srgbClr val="ccecff"/>
              </a:gs>
            </a:gsLst>
            <a:lin ang="13500000"/>
          </a:gra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00"/>
                </a:solidFill>
                <a:latin typeface="Arial"/>
              </a:rPr>
              <a:t>2</a:t>
            </a:r>
            <a:r>
              <a:rPr b="1" lang="en-US" sz="1400" spc="-1" strike="noStrike" baseline="30000">
                <a:solidFill>
                  <a:srgbClr val="990000"/>
                </a:solidFill>
                <a:latin typeface="Arial"/>
              </a:rPr>
              <a:t>nd</a:t>
            </a:r>
            <a:r>
              <a:rPr b="1" lang="en-US" sz="1400" spc="-1" strike="noStrike">
                <a:solidFill>
                  <a:srgbClr val="990000"/>
                </a:solidFill>
                <a:latin typeface="Arial"/>
              </a:rPr>
              <a:t>  Cli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191120" y="335268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0000"/>
                </a:solidFill>
                <a:latin typeface="Arial"/>
              </a:rPr>
              <a:t>June 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191120" y="4343400"/>
            <a:ext cx="25146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on US Mortgage Service Provi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ployee Strength - 15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867280" y="2819520"/>
            <a:ext cx="1295640" cy="60948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50000">
                <a:srgbClr val="ffffff"/>
              </a:gs>
              <a:gs pos="100000">
                <a:srgbClr val="ccecff"/>
              </a:gs>
            </a:gsLst>
            <a:lin ang="13500000"/>
          </a:gra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00"/>
                </a:solidFill>
                <a:latin typeface="Arial"/>
              </a:rPr>
              <a:t>Ramp-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67280" y="251460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0000"/>
                </a:solidFill>
                <a:latin typeface="Arial"/>
              </a:rPr>
              <a:t>July 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867280" y="3505320"/>
            <a:ext cx="18288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pid ramp up for 2 cli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ployee Strength - 2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97" idx="3"/>
            <a:endCxn id="100" idx="1"/>
          </p:cNvCxnSpPr>
          <p:nvPr/>
        </p:nvCxnSpPr>
        <p:spPr>
          <a:xfrm flipV="1">
            <a:off x="1612440" y="4723920"/>
            <a:ext cx="585000" cy="610560"/>
          </a:xfrm>
          <a:prstGeom prst="bentConnector3">
            <a:avLst>
              <a:gd name="adj1" fmla="val 50000"/>
            </a:avLst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110" name=""/>
          <p:cNvCxnSpPr>
            <a:stCxn id="100" idx="3"/>
            <a:endCxn id="103" idx="1"/>
          </p:cNvCxnSpPr>
          <p:nvPr/>
        </p:nvCxnSpPr>
        <p:spPr>
          <a:xfrm flipV="1">
            <a:off x="3517920" y="3962160"/>
            <a:ext cx="660600" cy="762480"/>
          </a:xfrm>
          <a:prstGeom prst="bentConnector3">
            <a:avLst>
              <a:gd name="adj1" fmla="val 50000"/>
            </a:avLst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111" name=""/>
          <p:cNvCxnSpPr>
            <a:stCxn id="103" idx="3"/>
            <a:endCxn id="106" idx="1"/>
          </p:cNvCxnSpPr>
          <p:nvPr/>
        </p:nvCxnSpPr>
        <p:spPr>
          <a:xfrm flipV="1">
            <a:off x="5499000" y="3123360"/>
            <a:ext cx="356400" cy="839160"/>
          </a:xfrm>
          <a:prstGeom prst="bentConnector3">
            <a:avLst>
              <a:gd name="adj1" fmla="val 49949"/>
            </a:avLst>
          </a:prstGeom>
          <a:ln w="12600">
            <a:solidFill>
              <a:srgbClr val="000000"/>
            </a:solidFill>
            <a:miter/>
          </a:ln>
        </p:spPr>
      </p:cxnSp>
      <p:sp>
        <p:nvSpPr>
          <p:cNvPr id="112" name=""/>
          <p:cNvSpPr/>
          <p:nvPr/>
        </p:nvSpPr>
        <p:spPr>
          <a:xfrm>
            <a:off x="3962520" y="5410080"/>
            <a:ext cx="1600200" cy="980280"/>
          </a:xfrm>
          <a:prstGeom prst="rect">
            <a:avLst/>
          </a:prstGeom>
          <a:solidFill>
            <a:srgbClr val="ccffcc"/>
          </a:solidFill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1</a:t>
            </a:r>
            <a:r>
              <a:rPr b="1" lang="en-US" sz="1600" spc="-1" strike="noStrike" baseline="30000">
                <a:solidFill>
                  <a:srgbClr val="990000"/>
                </a:solidFill>
                <a:latin typeface="Arial"/>
              </a:rPr>
              <a:t>st</a:t>
            </a: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 Cli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 Tech Equipment Manufactur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638680" y="5410080"/>
            <a:ext cx="1600200" cy="1075680"/>
          </a:xfrm>
          <a:prstGeom prst="rect">
            <a:avLst/>
          </a:prstGeom>
          <a:solidFill>
            <a:srgbClr val="ccffcc"/>
          </a:solidFill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2</a:t>
            </a:r>
            <a:r>
              <a:rPr b="1" lang="en-US" sz="1600" spc="-1" strike="noStrike" baseline="30000">
                <a:solidFill>
                  <a:srgbClr val="990000"/>
                </a:solidFill>
                <a:latin typeface="Arial"/>
              </a:rPr>
              <a:t>nd</a:t>
            </a: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  Cli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tgage Service Provi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543800" y="1925640"/>
            <a:ext cx="1295280" cy="60948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50000">
                <a:srgbClr val="ffffff"/>
              </a:gs>
              <a:gs pos="100000">
                <a:srgbClr val="ccecff"/>
              </a:gs>
            </a:gsLst>
            <a:lin ang="13500000"/>
          </a:gra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00"/>
                </a:solidFill>
                <a:latin typeface="Arial"/>
              </a:rPr>
              <a:t>3</a:t>
            </a:r>
            <a:r>
              <a:rPr b="1" lang="en-US" sz="1400" spc="-1" strike="noStrike" baseline="30000">
                <a:solidFill>
                  <a:srgbClr val="990000"/>
                </a:solidFill>
                <a:latin typeface="Arial"/>
              </a:rPr>
              <a:t>rd</a:t>
            </a:r>
            <a:r>
              <a:rPr b="1" lang="en-US" sz="1400" spc="-1" strike="noStrike">
                <a:solidFill>
                  <a:srgbClr val="990000"/>
                </a:solidFill>
                <a:latin typeface="Arial"/>
              </a:rPr>
              <a:t> Cli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543800" y="160020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0000"/>
                </a:solidFill>
                <a:latin typeface="Arial"/>
              </a:rPr>
              <a:t>Aug 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54380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ployee Strength - 26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7" name=""/>
          <p:cNvCxnSpPr>
            <a:stCxn id="106" idx="3"/>
            <a:endCxn id="114" idx="1"/>
          </p:cNvCxnSpPr>
          <p:nvPr/>
        </p:nvCxnSpPr>
        <p:spPr>
          <a:xfrm flipV="1">
            <a:off x="7175520" y="2230200"/>
            <a:ext cx="356400" cy="894240"/>
          </a:xfrm>
          <a:prstGeom prst="bentConnector3">
            <a:avLst>
              <a:gd name="adj1" fmla="val 49949"/>
            </a:avLst>
          </a:prstGeom>
          <a:ln w="12600">
            <a:solidFill>
              <a:srgbClr val="000000"/>
            </a:solidFill>
            <a:miter/>
          </a:ln>
        </p:spPr>
      </p:cxnSp>
      <p:sp>
        <p:nvSpPr>
          <p:cNvPr id="118" name=""/>
          <p:cNvSpPr/>
          <p:nvPr/>
        </p:nvSpPr>
        <p:spPr>
          <a:xfrm>
            <a:off x="7315200" y="5407200"/>
            <a:ext cx="1600200" cy="1075680"/>
          </a:xfrm>
          <a:prstGeom prst="rect">
            <a:avLst/>
          </a:prstGeom>
          <a:solidFill>
            <a:srgbClr val="ccffcc"/>
          </a:solidFill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3rd  Cli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ancial Service Provi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2895480" y="1762200"/>
          <a:ext cx="2057400" cy="14587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95480" y="1762200"/>
                    <a:ext cx="2057400" cy="145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2189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Today companies want partners who can take end-to-end accountability for outsourcing and Progeon-Infosys together form such an entity </a:t>
            </a:r>
            <a:endParaRPr b="0" lang="en-US" sz="18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62120" y="6081840"/>
            <a:ext cx="1676160" cy="271440"/>
          </a:xfrm>
          <a:prstGeom prst="rect">
            <a:avLst/>
          </a:prstGeom>
          <a:solidFill>
            <a:srgbClr val="ccffff"/>
          </a:solidFill>
          <a:ln cap="sq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isting Serv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657600" y="6081840"/>
            <a:ext cx="1676520" cy="271440"/>
          </a:xfrm>
          <a:prstGeom prst="rect">
            <a:avLst/>
          </a:prstGeom>
          <a:solidFill>
            <a:srgbClr val="99ccff"/>
          </a:solidFill>
          <a:ln cap="sq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 Serv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943600" y="6081840"/>
            <a:ext cx="2286000" cy="276480"/>
          </a:xfrm>
          <a:prstGeom prst="rect">
            <a:avLst/>
          </a:prstGeom>
          <a:solidFill>
            <a:srgbClr val="99cc00"/>
          </a:solidFill>
          <a:ln cap="sq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currently addres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62120" y="1905120"/>
            <a:ext cx="7467480" cy="276480"/>
          </a:xfrm>
          <a:prstGeom prst="rect">
            <a:avLst/>
          </a:prstGeom>
          <a:solidFill>
            <a:srgbClr val="99cc00"/>
          </a:solidFill>
          <a:ln cap="sq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agement Consul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4295880"/>
            <a:ext cx="1295280" cy="609480"/>
          </a:xfrm>
          <a:prstGeom prst="rect">
            <a:avLst/>
          </a:prstGeom>
          <a:solidFill>
            <a:srgbClr val="99ccff"/>
          </a:solidFill>
          <a:ln cap="sq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s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62120" y="2287440"/>
            <a:ext cx="7467480" cy="276480"/>
          </a:xfrm>
          <a:prstGeom prst="rect">
            <a:avLst/>
          </a:prstGeom>
          <a:solidFill>
            <a:srgbClr val="ffcc66"/>
          </a:solidFill>
          <a:ln cap="sq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me Vendor Stat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62120" y="3686040"/>
            <a:ext cx="1257120" cy="914400"/>
          </a:xfrm>
          <a:prstGeom prst="rect">
            <a:avLst/>
          </a:prstGeom>
          <a:solidFill>
            <a:srgbClr val="99ccff"/>
          </a:solidFill>
          <a:ln cap="sq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nfrastructure Management Serv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62120" y="3174840"/>
            <a:ext cx="7467480" cy="433440"/>
          </a:xfrm>
          <a:prstGeom prst="rect">
            <a:avLst/>
          </a:prstGeom>
          <a:solidFill>
            <a:srgbClr val="ccffff"/>
          </a:solidFill>
          <a:ln cap="sq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terprise Architecture Defin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581280" y="4295880"/>
            <a:ext cx="2362320" cy="625320"/>
          </a:xfrm>
          <a:prstGeom prst="rect">
            <a:avLst/>
          </a:prstGeom>
          <a:solidFill>
            <a:srgbClr val="ccffff"/>
          </a:solidFill>
          <a:ln cap="sq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ckage Evaluation and Implem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133720" y="3686040"/>
            <a:ext cx="6095880" cy="540000"/>
          </a:xfrm>
          <a:prstGeom prst="rect">
            <a:avLst/>
          </a:prstGeom>
          <a:solidFill>
            <a:srgbClr val="ccffff"/>
          </a:solidFill>
          <a:ln cap="sq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chnology-enabled Busines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Process Re-enginee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095880" y="4299120"/>
            <a:ext cx="2133720" cy="606240"/>
          </a:xfrm>
          <a:prstGeom prst="rect">
            <a:avLst/>
          </a:prstGeom>
          <a:solidFill>
            <a:srgbClr val="ccffff"/>
          </a:solidFill>
          <a:ln cap="sq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 Applic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133720" y="4981680"/>
            <a:ext cx="6095880" cy="404640"/>
          </a:xfrm>
          <a:prstGeom prst="rect">
            <a:avLst/>
          </a:prstGeom>
          <a:solidFill>
            <a:srgbClr val="ccffff"/>
          </a:solidFill>
          <a:ln cap="sq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133720" y="5454720"/>
            <a:ext cx="6095880" cy="403200"/>
          </a:xfrm>
          <a:prstGeom prst="rect">
            <a:avLst/>
          </a:prstGeom>
          <a:solidFill>
            <a:srgbClr val="ccffff"/>
          </a:solidFill>
          <a:ln cap="sq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-enginee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62120" y="2666880"/>
            <a:ext cx="7467480" cy="433440"/>
          </a:xfrm>
          <a:prstGeom prst="rect">
            <a:avLst/>
          </a:prstGeom>
          <a:solidFill>
            <a:srgbClr val="ccffff"/>
          </a:solidFill>
          <a:ln cap="sq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grated Business-IT Roadm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62120" y="4676760"/>
            <a:ext cx="1295280" cy="1219320"/>
          </a:xfrm>
          <a:prstGeom prst="rect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ge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PM Serv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295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Progeon inherits strengths of Infosys as an organization …</a:t>
            </a: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257800" y="2057400"/>
            <a:ext cx="3733920" cy="9907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0">
            <a:noFill/>
          </a:ln>
          <a:effectLst>
            <a:outerShdw dist="17819" dir="2700000" blurRad="0" rotWithShape="0">
              <a:srgbClr val="79987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7360" indent="-117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Strong Outsourcing Capab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7360" indent="-1173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er 20 years of outsourc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7360" indent="-1173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arly 100%  of revenues in a GD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7360" indent="-1173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most zero client lo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52280" y="2057400"/>
            <a:ext cx="4953240" cy="14479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0">
            <a:noFill/>
          </a:ln>
          <a:effectLst>
            <a:outerShdw dist="17819" dir="2700000" blurRad="0" rotWithShape="0">
              <a:srgbClr val="79987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7360" indent="-117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Backing of Visionary Manag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7360" indent="-1173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ancially s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7360" indent="-1173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-risked business mod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7360" indent="-1173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ught leader in IT serv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-1126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oneered the offshore development center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-1126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Indian services company to offer IT strategy consul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257800" y="3251160"/>
            <a:ext cx="3733920" cy="9907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0">
            <a:noFill/>
          </a:ln>
          <a:effectLst>
            <a:outerShdw dist="17819" dir="2700000" blurRad="0" rotWithShape="0">
              <a:srgbClr val="79987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7360" indent="-117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Customer Foc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7360" indent="-1173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er 85% repeat busi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7360" indent="-1173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stained, large relationsh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7360" indent="-1173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tisfied custom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52280" y="3657600"/>
            <a:ext cx="4953240" cy="14479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0">
            <a:noFill/>
          </a:ln>
          <a:effectLst>
            <a:outerShdw dist="17819" dir="2700000" blurRad="0" rotWithShape="0">
              <a:srgbClr val="79987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7360" indent="-117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Business &amp; Technolo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7360" indent="-1173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ditional strength in Business Process Auto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7360" indent="-1173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Consulting group for process innov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7360" indent="-1173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Experts from indus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7360" indent="-1173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action Monitor for providing Dash Board function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7360" indent="-1173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Capture Tool using InFlux Method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257800" y="5562720"/>
            <a:ext cx="3733920" cy="9144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0">
            <a:noFill/>
          </a:ln>
          <a:effectLst>
            <a:outerShdw dist="17819" dir="2700000" blurRad="0" rotWithShape="0">
              <a:srgbClr val="79987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7360" indent="-117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Strong People Foc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7360" indent="-1173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ruit good peo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7360" indent="-1173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ain th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7360" indent="-1173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ployer of choice in Ind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257800" y="4444920"/>
            <a:ext cx="3733920" cy="9144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0">
            <a:noFill/>
          </a:ln>
          <a:effectLst>
            <a:outerShdw dist="17819" dir="2700000" blurRad="0" rotWithShape="0">
              <a:srgbClr val="79987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7360" indent="-117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Ready Infrastructure &amp; Experti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7360" indent="-1173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st-in-Class Infra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7360" indent="-1173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ility to scale up infrastructure rapidly based on customer nee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52280" y="5257800"/>
            <a:ext cx="4953240" cy="12193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0">
            <a:noFill/>
          </a:ln>
          <a:effectLst>
            <a:outerShdw dist="17819" dir="2700000" blurRad="0" rotWithShape="0">
              <a:srgbClr val="79987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7360" indent="-117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Process Strong Compan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7360" indent="-1173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lture of excellence in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7360" indent="-1173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cus on Delivering Quality, in Time, within Co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7360" indent="-1173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 Sigma initia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7360" indent="-1173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ledge Management syst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0666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3300"/>
                </a:solidFill>
                <a:latin typeface="Arial"/>
              </a:rPr>
              <a:t>… </a:t>
            </a:r>
            <a:r>
              <a:rPr b="0" lang="en-US" sz="2000" spc="-1" strike="noStrike">
                <a:solidFill>
                  <a:srgbClr val="993300"/>
                </a:solidFill>
                <a:latin typeface="Arial"/>
              </a:rPr>
              <a:t>leveraging the Global Delivery Model pioneered by Infosys</a:t>
            </a: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990720" y="1981080"/>
            <a:ext cx="3429000" cy="41911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13500000"/>
          </a:gra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724280" y="1981080"/>
            <a:ext cx="3657600" cy="419112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50000">
                <a:srgbClr val="ffffff"/>
              </a:gs>
              <a:gs pos="100000">
                <a:srgbClr val="99ccff"/>
              </a:gs>
            </a:gsLst>
            <a:lin ang="13500000"/>
          </a:gra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1676520"/>
            <a:ext cx="1905120" cy="380880"/>
          </a:xfrm>
          <a:prstGeom prst="flowChartTerminator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Client Si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876920" y="1676520"/>
            <a:ext cx="2361960" cy="380880"/>
          </a:xfrm>
          <a:prstGeom prst="flowChartTerminator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Progeon Facility - Ind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143000" y="2133720"/>
            <a:ext cx="2895480" cy="38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Disco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derstand Customer Organiz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derstand Staff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pare Business Case &amp; Propos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 Buy-in for Process outsourc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Transi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 Proce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e SLAs and Tracking Mechan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 Sign offs to Commence Execution from offsh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Pilo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ecute process in parallel with customer te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Exec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tionship Management and ongoing opportunity iden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038480" y="2133720"/>
            <a:ext cx="152640" cy="137160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038480" y="3505320"/>
            <a:ext cx="990720" cy="15228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876920" y="3657600"/>
            <a:ext cx="152280" cy="236232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038480" y="4495680"/>
            <a:ext cx="152640" cy="68580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990720" y="6248520"/>
            <a:ext cx="7391160" cy="304560"/>
          </a:xfrm>
          <a:prstGeom prst="rect">
            <a:avLst/>
          </a:prstGeom>
          <a:solidFill>
            <a:srgbClr val="ccffcc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Engagement and Change Managemen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181480" y="2133720"/>
            <a:ext cx="2895840" cy="35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Transi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 up Infrastructure &amp; Connec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Recruitment &amp; conduct trai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Pilo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 up user ids &amp; access contro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lidate process understanding, Productivity &amp; Quality go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 up tools for SLA tracking &amp; monito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Exec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n Oper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hieve Steady State with Chosen Proce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view Processes &amp; Improve Produc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dit, Analysis and Improv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1295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Arial"/>
              </a:rPr>
              <a:t>BPM is highly offshore intensive business – esp. on ongoing basis</a:t>
            </a:r>
            <a:endParaRPr b="0" lang="en-US" sz="2400" spc="-1" strike="noStrike">
              <a:solidFill>
                <a:srgbClr val="993300"/>
              </a:solidFill>
              <a:latin typeface="Arial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1371600" y="2133720"/>
          <a:ext cx="6477120" cy="4351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2133720"/>
                    <a:ext cx="6477120" cy="435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12189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Arial"/>
              </a:rPr>
              <a:t>Progeon provides a service evolution that focuses on providing continuous benefits to the client</a:t>
            </a:r>
            <a:endParaRPr b="0" lang="en-US" sz="24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817560" y="4954680"/>
            <a:ext cx="1752480" cy="633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99"/>
              </a:gs>
              <a:gs pos="50000">
                <a:srgbClr val="3399ff"/>
              </a:gs>
              <a:gs pos="100000">
                <a:srgbClr val="3333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hase 1</a:t>
            </a:r>
            <a:br>
              <a:rPr sz="1000"/>
            </a:b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Cost Arbitrag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57080" y="5605560"/>
            <a:ext cx="2392560" cy="6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77840" indent="-177840"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 and Skill Arbitr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vings of 30%+ on As Is proce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04920" y="1568520"/>
            <a:ext cx="14040" cy="492444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06360" y="6477120"/>
            <a:ext cx="8532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489480" y="3538440"/>
            <a:ext cx="2133360" cy="763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99"/>
              </a:gs>
              <a:gs pos="50000">
                <a:srgbClr val="3399ff"/>
              </a:gs>
              <a:gs pos="100000">
                <a:srgbClr val="3333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hase 2</a:t>
            </a:r>
            <a:br>
              <a:rPr sz="1400"/>
            </a:b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Process Optimiza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429000" y="4322880"/>
            <a:ext cx="3103560" cy="21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77840" indent="-177840"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raging Infosys strengths in Business Process Redesign and Domain Experti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inuous process improvement and innov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st practices through Professional partnersh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&amp; implementation of automation opportun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tter turnaround time, lower process def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7" name=""/>
          <p:cNvCxnSpPr>
            <a:stCxn id="161" idx="3"/>
            <a:endCxn id="165" idx="1"/>
          </p:cNvCxnSpPr>
          <p:nvPr/>
        </p:nvCxnSpPr>
        <p:spPr>
          <a:xfrm flipV="1">
            <a:off x="2570040" y="3920400"/>
            <a:ext cx="920160" cy="1351800"/>
          </a:xfrm>
          <a:prstGeom prst="bentConnector3">
            <a:avLst>
              <a:gd name="adj1" fmla="val 49902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8" name=""/>
          <p:cNvSpPr/>
          <p:nvPr/>
        </p:nvSpPr>
        <p:spPr>
          <a:xfrm>
            <a:off x="6324480" y="1695600"/>
            <a:ext cx="1882800" cy="844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99"/>
              </a:gs>
              <a:gs pos="50000">
                <a:srgbClr val="3399ff"/>
              </a:gs>
              <a:gs pos="100000">
                <a:srgbClr val="3333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hase 3</a:t>
            </a:r>
            <a:br>
              <a:rPr sz="1400"/>
            </a:b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Common Platform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248520" y="2638440"/>
            <a:ext cx="260496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77840" indent="-177840"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tform based serv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raging Infosys Technology and Infrastructure Management strengt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action based pricing – cost scales with busi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portunity for increasing the shareholder val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0" name=""/>
          <p:cNvCxnSpPr>
            <a:stCxn id="165" idx="3"/>
            <a:endCxn id="168" idx="1"/>
          </p:cNvCxnSpPr>
          <p:nvPr/>
        </p:nvCxnSpPr>
        <p:spPr>
          <a:xfrm flipV="1">
            <a:off x="5622480" y="2117160"/>
            <a:ext cx="702360" cy="1803960"/>
          </a:xfrm>
          <a:prstGeom prst="bentConnector3">
            <a:avLst>
              <a:gd name="adj1" fmla="val 50000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1" name=""/>
          <p:cNvSpPr/>
          <p:nvPr/>
        </p:nvSpPr>
        <p:spPr>
          <a:xfrm>
            <a:off x="533520" y="1962000"/>
            <a:ext cx="3682800" cy="14605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90000"/>
              </a:lnSpc>
              <a:spcBef>
                <a:spcPts val="975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Extended Process Operations Center (EPOC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dicated to one cl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amless exten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pid start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dual Risk increas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inuous savings in unit costs / trans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12189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Arial"/>
              </a:rPr>
              <a:t>Progeon offers BPM services for industry specific and generic industry processes</a:t>
            </a:r>
            <a:endParaRPr b="0" lang="en-US" sz="24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33520" y="1936800"/>
            <a:ext cx="8037360" cy="463680"/>
          </a:xfrm>
          <a:prstGeom prst="rect">
            <a:avLst/>
          </a:prstGeom>
          <a:gradFill rotWithShape="0">
            <a:gsLst>
              <a:gs pos="0">
                <a:srgbClr val="3399ff"/>
              </a:gs>
              <a:gs pos="50000">
                <a:srgbClr val="ccecff"/>
              </a:gs>
              <a:gs pos="100000">
                <a:srgbClr val="3399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Industry Specific Proces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44680" y="1938240"/>
            <a:ext cx="8016840" cy="251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430440" y="5532480"/>
            <a:ext cx="2221200" cy="9046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x proces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ims proces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008760" y="5532480"/>
            <a:ext cx="2220840" cy="9046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yroll proces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nefits admini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900000" y="5532480"/>
            <a:ext cx="2221200" cy="9046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ounts payable/receiv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l Led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sk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ancial Mgmt and Repor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33520" y="4570560"/>
            <a:ext cx="8037360" cy="463320"/>
          </a:xfrm>
          <a:prstGeom prst="rect">
            <a:avLst/>
          </a:prstGeom>
          <a:gradFill rotWithShape="0">
            <a:gsLst>
              <a:gs pos="0">
                <a:srgbClr val="3399ff"/>
              </a:gs>
              <a:gs pos="50000">
                <a:srgbClr val="ccecff"/>
              </a:gs>
              <a:gs pos="100000">
                <a:srgbClr val="3399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Generic Industry Proces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44680" y="4572000"/>
            <a:ext cx="8016840" cy="194148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04960" y="5140440"/>
            <a:ext cx="2408040" cy="428400"/>
          </a:xfrm>
          <a:prstGeom prst="roundRect">
            <a:avLst>
              <a:gd name="adj" fmla="val 50000"/>
            </a:avLst>
          </a:prstGeom>
          <a:solidFill>
            <a:srgbClr val="ccecff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Finance and accoun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340080" y="5140440"/>
            <a:ext cx="2408400" cy="428400"/>
          </a:xfrm>
          <a:prstGeom prst="roundRect">
            <a:avLst>
              <a:gd name="adj" fmla="val 50000"/>
            </a:avLst>
          </a:prstGeom>
          <a:solidFill>
            <a:srgbClr val="ccecff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Admini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900760" y="5140440"/>
            <a:ext cx="2408040" cy="428400"/>
          </a:xfrm>
          <a:prstGeom prst="roundRect">
            <a:avLst>
              <a:gd name="adj" fmla="val 50000"/>
            </a:avLst>
          </a:prstGeom>
          <a:solidFill>
            <a:srgbClr val="ccecff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Human Re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50960" y="2855880"/>
            <a:ext cx="2295360" cy="15238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fe claims proces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to and Home Claims proces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lth claims proces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nuities and Disability pl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stomer contact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icy owner serv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3360" y="2475000"/>
            <a:ext cx="2590560" cy="428400"/>
          </a:xfrm>
          <a:prstGeom prst="roundRect">
            <a:avLst>
              <a:gd name="adj" fmla="val 50000"/>
            </a:avLst>
          </a:prstGeom>
          <a:solidFill>
            <a:srgbClr val="ccecff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Insurance Indus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457440" y="2855880"/>
            <a:ext cx="2225880" cy="15238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an servic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 proces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edit card proces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sh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ncil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chant settl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stodial serv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313080" y="2475000"/>
            <a:ext cx="2514600" cy="428400"/>
          </a:xfrm>
          <a:prstGeom prst="roundRect">
            <a:avLst>
              <a:gd name="adj" fmla="val 50000"/>
            </a:avLst>
          </a:prstGeom>
          <a:solidFill>
            <a:srgbClr val="ccecff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Banking Indus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054840" y="2855880"/>
            <a:ext cx="2295360" cy="15238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ent account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porate 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ncil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stomer contact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907240" y="2475000"/>
            <a:ext cx="2590560" cy="428400"/>
          </a:xfrm>
          <a:prstGeom prst="roundRect">
            <a:avLst>
              <a:gd name="adj" fmla="val 50000"/>
            </a:avLst>
          </a:prstGeom>
          <a:solidFill>
            <a:srgbClr val="ccecff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Securities Indus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867280" y="1676520"/>
            <a:ext cx="266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llustrative list of Progeon service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6T04:23:38Z</dcterms:created>
  <dc:creator>P R Ganapathy</dc:creator>
  <dc:description/>
  <dc:language>en-US</dc:language>
  <cp:lastModifiedBy>abhay_pawar</cp:lastModifiedBy>
  <dcterms:modified xsi:type="dcterms:W3CDTF">2002-08-27T08:22:47Z</dcterms:modified>
  <cp:revision>45</cp:revision>
  <dc:subject/>
  <dc:title>Keeping the promise</dc:title>
</cp:coreProperties>
</file>