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0FB-3C81-4AF0-A4EA-56737AC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84F-B021-41C6-94AF-33128ED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553-0656-42FD-8820-B93E654D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7AB-7048-4AF3-9378-2CC5C233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B1B-FE38-48FD-B4AD-63C58933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8BF-E719-48A4-A0D3-E4AC6763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9D4-54AD-4012-BC53-61A431A5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121-8254-4644-A853-260CF3B5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731-E81C-4B9F-A9DB-42940662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1E4-E51C-4EC6-BB9D-A236CB7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D59-2B22-4A48-A2A0-1417595F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38F-A2D0-470E-8147-F719E43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7AA4BC9D-21B5-428E-8EF2-D156FB41BB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roadening the services footprint - Business Process Manageme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ajiv Kuchha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3040" y="4114800"/>
            <a:ext cx="6400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5520" y="165240"/>
            <a:ext cx="85914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3360" rIns="6336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uilding Delivery Capabilit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of senior management from Infosys – to bring values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ment from Industry – both BPM an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brand by using Infosys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ing 1000 resumes a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ring, training and deploying 50+ every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ing Infosys Sales &amp; Marketing, Infrastructure and internal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Operation specific quality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 Si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C, ISO 9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ing technology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Influx for Process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Monitor for workflow and reporting – providing dashboard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Infosys Business Consulting Services for Discovery an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Our First Customer – High Tech Equipment Manufacturer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artner in product co-development a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rusted relationship to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operations on 22nd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Service Suppor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Entry and error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phase growth (total of 160 F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of operations from Australia, Holland and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customer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bility for new grow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ing existing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4038480"/>
            <a:ext cx="2895480" cy="1295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00"/>
              </a:gs>
              <a:gs pos="50000">
                <a:srgbClr val="99ff99"/>
              </a:gs>
              <a:gs pos="100000">
                <a:srgbClr val="009900"/>
              </a:gs>
            </a:gsLst>
            <a:lin ang="13500000"/>
          </a:gra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ree Process Gone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urth and Fifth Process in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562720"/>
            <a:ext cx="8229600" cy="885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  <a:ea typeface="Arial"/>
              </a:rPr>
              <a:t>“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  <a:ea typeface="Arial"/>
              </a:rPr>
              <a:t>IRT BPO has been outstanding. Thanks to both teams for one of the best implementation I've ever seen.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 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  <a:ea typeface="Arial"/>
              </a:rPr>
              <a:t>Now to the next one. There is so much more coming, increase challenges, but now more than ever I feel 100% confident we'll get there in a successful way. The proof is there, the role model is there, the team is there, ... It could not be better” – Customer Spon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2133720"/>
            <a:ext cx="289548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00"/>
              </a:gs>
              <a:gs pos="50000">
                <a:srgbClr val="99ff99"/>
              </a:gs>
              <a:gs pos="100000">
                <a:srgbClr val="009900"/>
              </a:gs>
            </a:gsLst>
            <a:lin ang="13500000"/>
          </a:gra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chieved 99.5% quality within 1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rogeon – BPM services provid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038480"/>
            <a:ext cx="7848360" cy="912960"/>
          </a:xfrm>
          <a:prstGeom prst="rect">
            <a:avLst/>
          </a:prstGeom>
          <a:solidFill>
            <a:srgbClr val="ccffff">
              <a:alpha val="60000"/>
            </a:srgbClr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Vision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To be the global partner of choice, providing best-in-class business process management services through innovative and leading technology enabled sol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892600"/>
            <a:ext cx="7848360" cy="912960"/>
          </a:xfrm>
          <a:prstGeom prst="rect">
            <a:avLst/>
          </a:prstGeom>
          <a:solidFill>
            <a:srgbClr val="ccffff">
              <a:alpha val="60000"/>
            </a:srgbClr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Value Propos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Progeon delivers value by leveraging the benefits of service delivery globalization, process redesign and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057400"/>
            <a:ext cx="7848360" cy="613080"/>
          </a:xfrm>
          <a:prstGeom prst="rect">
            <a:avLst/>
          </a:prstGeom>
          <a:solidFill>
            <a:srgbClr val="ccffff">
              <a:alpha val="60000"/>
            </a:srgbClr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Significance of th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naging PROcesses in a Global EON (era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geon has made significant progress in a short tim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752480"/>
          <a:ext cx="2057400" cy="14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20574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04920" y="5029200"/>
            <a:ext cx="12952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724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April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724360"/>
            <a:ext cx="220968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M funding from Infos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0MM funding from Citi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 for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lient under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419720"/>
            <a:ext cx="129564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990000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May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51055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ady State operations for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657600"/>
            <a:ext cx="12952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990000"/>
                </a:solidFill>
                <a:latin typeface="Arial"/>
              </a:rPr>
              <a:t>nd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352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June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34340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on US Mortgage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819520"/>
            <a:ext cx="129564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514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July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0532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pid ramp up for 2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2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97" idx="3"/>
            <a:endCxn id="100" idx="1"/>
          </p:cNvCxnSpPr>
          <p:nvPr/>
        </p:nvCxnSpPr>
        <p:spPr>
          <a:xfrm flipV="1">
            <a:off x="1612440" y="4723920"/>
            <a:ext cx="585000" cy="610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100" idx="3"/>
            <a:endCxn id="103" idx="1"/>
          </p:cNvCxnSpPr>
          <p:nvPr/>
        </p:nvCxnSpPr>
        <p:spPr>
          <a:xfrm flipV="1">
            <a:off x="3517920" y="3962160"/>
            <a:ext cx="660600" cy="7624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3" idx="3"/>
            <a:endCxn id="106" idx="1"/>
          </p:cNvCxnSpPr>
          <p:nvPr/>
        </p:nvCxnSpPr>
        <p:spPr>
          <a:xfrm flipV="1">
            <a:off x="5499000" y="3123360"/>
            <a:ext cx="356400" cy="839160"/>
          </a:xfrm>
          <a:prstGeom prst="bentConnector3">
            <a:avLst>
              <a:gd name="adj1" fmla="val 4994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962520" y="5410080"/>
            <a:ext cx="1600200" cy="980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990000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Tech Equipment Manufactu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5410080"/>
            <a:ext cx="1600200" cy="1075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99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gage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1925640"/>
            <a:ext cx="12952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en-US" sz="1400" spc="-1" strike="noStrike" baseline="30000">
                <a:solidFill>
                  <a:srgbClr val="99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1600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Aug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2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14" idx="1"/>
          </p:cNvCxnSpPr>
          <p:nvPr/>
        </p:nvCxnSpPr>
        <p:spPr>
          <a:xfrm flipV="1">
            <a:off x="7175520" y="2230200"/>
            <a:ext cx="356400" cy="894240"/>
          </a:xfrm>
          <a:prstGeom prst="bentConnector3">
            <a:avLst>
              <a:gd name="adj1" fmla="val 4994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7315200" y="5407200"/>
            <a:ext cx="1600200" cy="1075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rd 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95480" y="1762200"/>
          <a:ext cx="2057400" cy="14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62200"/>
                    <a:ext cx="20574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Today companies want partners who can take end-to-end accountability for outsourcing and Progeon-Infosys together form such an entity 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081840"/>
            <a:ext cx="1676160" cy="2714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6081840"/>
            <a:ext cx="1676520" cy="27144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6081840"/>
            <a:ext cx="2286000" cy="27648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currently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905120"/>
            <a:ext cx="7467480" cy="27648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295880"/>
            <a:ext cx="1295280" cy="60948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287440"/>
            <a:ext cx="7467480" cy="276480"/>
          </a:xfrm>
          <a:prstGeom prst="rect">
            <a:avLst/>
          </a:prstGeom>
          <a:solidFill>
            <a:srgbClr val="ffcc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Vendo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686040"/>
            <a:ext cx="1257120" cy="91440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frastructure Managem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174840"/>
            <a:ext cx="7467480" cy="4334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rchitecture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295880"/>
            <a:ext cx="2362320" cy="6253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 Evaluation and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3686040"/>
            <a:ext cx="6095880" cy="54000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-enabled Busin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s Re-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299120"/>
            <a:ext cx="2133720" cy="6062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81680"/>
            <a:ext cx="6095880" cy="4046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5454720"/>
            <a:ext cx="6095880" cy="40320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666880"/>
            <a:ext cx="7467480" cy="4334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Business-I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676760"/>
            <a:ext cx="1295280" cy="1219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M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ogeon inherits strengths of Infosys as an organization …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057400"/>
            <a:ext cx="3733920" cy="9907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ong Outsourcing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 years of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ly 100%  of revenues in a G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zero clien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057400"/>
            <a:ext cx="4953240" cy="14479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acking of Visionary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ly 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risked business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 leader in I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oneered the offshore development cente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dian services company to offer IT strategy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51160"/>
            <a:ext cx="3733920" cy="9907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ustomer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85% repea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tained, larg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ied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3657600"/>
            <a:ext cx="4953240" cy="14479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usiness &amp;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strength in Business Process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Consulting group for process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Experts from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Monitor for providing Dash Boar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Capture Tool using InFlux Method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562720"/>
            <a:ext cx="3733920" cy="9144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ong People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 goo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of choice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4444920"/>
            <a:ext cx="3733920" cy="9144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eady Infrastructure &amp; Expert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-in-Class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scale up infrastructure rapidly based on custome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257800"/>
            <a:ext cx="4953240" cy="12193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cess Stro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of excellence i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Delivering Quality, in Time, withi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initi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leveraging the Global Delivery Model pioneered by Infosy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981080"/>
            <a:ext cx="3429000" cy="4191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3500000"/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981080"/>
            <a:ext cx="3657600" cy="4191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676520"/>
            <a:ext cx="1905120" cy="380880"/>
          </a:xfrm>
          <a:prstGeom prst="flowChartTerminator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ient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676520"/>
            <a:ext cx="2361960" cy="380880"/>
          </a:xfrm>
          <a:prstGeom prst="flowChartTerminator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geon Facility -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133720"/>
            <a:ext cx="289548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Customer Org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Staff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Business Case &amp;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Buy-in for Process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SLAs and Tracking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Sign offs to Commence Execution from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 process in parallel with custom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Management and ongoing opportunity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133720"/>
            <a:ext cx="152640" cy="1371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3505320"/>
            <a:ext cx="990720" cy="15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657600"/>
            <a:ext cx="152280" cy="23623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495680"/>
            <a:ext cx="15264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6248520"/>
            <a:ext cx="739116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ngagement and Change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133720"/>
            <a:ext cx="28958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Infrastructure &amp;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cruitment &amp; conduct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user ids &amp; access 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process understanding, Productivity &amp; Quality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tools for SLA tracking &amp;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Steady State with Chos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rocesses &amp; Improve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t, Analysis and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BPM is highly offshore intensive business – esp. on ongoing basi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2133720"/>
          <a:ext cx="647712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64771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geon provides a service evolution that focuses on providing continuous benefits to the clie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7560" y="4954680"/>
            <a:ext cx="1752480" cy="63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3399ff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 1</a:t>
            </a:r>
            <a:br>
              <a:rPr sz="10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st Arbit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7080" y="5605560"/>
            <a:ext cx="2392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and Skill Arbi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ings of 30%+ on As Is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568520"/>
            <a:ext cx="14040" cy="4924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360" y="647712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89480" y="3538440"/>
            <a:ext cx="2133360" cy="76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3399ff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 2</a:t>
            </a:r>
            <a:br>
              <a:rPr sz="14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cess Opt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322880"/>
            <a:ext cx="310356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ing Infosys strengths in Business Process Redesign and Domain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process improvement and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s through Professional partner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&amp; implementation of automation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urnaround time, lower process de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3"/>
            <a:endCxn id="165" idx="1"/>
          </p:cNvCxnSpPr>
          <p:nvPr/>
        </p:nvCxnSpPr>
        <p:spPr>
          <a:xfrm flipV="1">
            <a:off x="2570040" y="3920400"/>
            <a:ext cx="920160" cy="1351800"/>
          </a:xfrm>
          <a:prstGeom prst="bentConnector3">
            <a:avLst>
              <a:gd name="adj1" fmla="val 4990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6324480" y="1695600"/>
            <a:ext cx="1882800" cy="84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3399ff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 3</a:t>
            </a:r>
            <a:br>
              <a:rPr sz="14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mon Platf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2638440"/>
            <a:ext cx="2604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 bas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ing Infosys Technology and Infrastructure Management str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based pricing – cost scales with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increasing the shareholder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5" idx="3"/>
            <a:endCxn id="168" idx="1"/>
          </p:cNvCxnSpPr>
          <p:nvPr/>
        </p:nvCxnSpPr>
        <p:spPr>
          <a:xfrm flipV="1">
            <a:off x="5622480" y="2117160"/>
            <a:ext cx="702360" cy="18039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533520" y="1962000"/>
            <a:ext cx="3682800" cy="14605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tended Process Operations Center (EPO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to one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mless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star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l Risk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savings in unit costs / 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geon offers BPM services for industry specific and generic industry process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936800"/>
            <a:ext cx="8037360" cy="463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ccecff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ustry Specific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4680" y="1938240"/>
            <a:ext cx="8016840" cy="251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30440" y="5532480"/>
            <a:ext cx="2221200" cy="9046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08760" y="5532480"/>
            <a:ext cx="2220840" cy="9046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rol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5532480"/>
            <a:ext cx="2221200" cy="9046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/recei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Led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Mgmt and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570560"/>
            <a:ext cx="8037360" cy="463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ccecff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eneric Industry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4680" y="4572000"/>
            <a:ext cx="8016840" cy="19414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4960" y="5140440"/>
            <a:ext cx="240804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inance and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0080" y="5140440"/>
            <a:ext cx="240840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0760" y="5140440"/>
            <a:ext cx="240804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uma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0960" y="2855880"/>
            <a:ext cx="2295360" cy="1523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 and Home 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ities and Disability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contac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owner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360" y="2475000"/>
            <a:ext cx="259056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suranc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57440" y="2855880"/>
            <a:ext cx="2225880" cy="1523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n serv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dit card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hant sett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di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13080" y="2475000"/>
            <a:ext cx="251460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anking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54840" y="2855880"/>
            <a:ext cx="2295360" cy="1523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accou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contac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7240" y="2475000"/>
            <a:ext cx="259056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curities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16765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ve list of Progeon servi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abhay_pawar</cp:lastModifiedBy>
  <dcterms:modified xsi:type="dcterms:W3CDTF">2002-08-27T08:22:47Z</dcterms:modified>
  <cp:revision>45</cp:revision>
  <dc:subject/>
  <dc:title>Keeping the promise</dc:title>
</cp:coreProperties>
</file>