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5638" cy="9226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DFE8-CE16-4ABD-9C9C-955EC3702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317D-E1AD-49EB-B77C-0BCEE803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6983-5DD8-43E3-A6B0-65E65FA7B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5184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413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3619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55184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413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2612-2022-4335-95EA-2BA56D75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361960" y="3886200"/>
            <a:ext cx="6476760" cy="67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3E97-0216-4F67-944D-F33C0BA0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5184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7413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3619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55184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7413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4822-C35B-43FF-B1DF-AA686EFD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7F49-3EE8-4D4F-B2BD-4066360D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FEEC-E0F2-4AC3-A412-42FF8CE9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361960" y="3886200"/>
            <a:ext cx="6476760" cy="67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DAAB-E953-4227-AC5C-831E351C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48E8-7D07-4C2E-95C5-59395A13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A4C0-5E2A-4A1F-ABD2-18BEA351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8C04-5EC3-41E8-AF6D-CDD15F0F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6036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22248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22248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22248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082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6840" y="66132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2 Infosys Technologie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 </a:t>
            </a:r>
            <a:fld id="{A07C6A25-4611-4849-8B67-71F390681FD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438280" y="104760"/>
            <a:ext cx="22100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t M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gust 27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2320" y="305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8037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5943240" y="64767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2 Infosys Technologie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1523880"/>
            <a:ext cx="220968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t M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gust 27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3505320"/>
            <a:ext cx="36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up to the promi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32320" y="305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32320" y="305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1" marL="34596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4360" algn="ctr"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30320" algn="ctr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6280" algn="ctr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37628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37628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60240" y="4191120"/>
            <a:ext cx="777240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Business transformation through technology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U. B. Pravin Rao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228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And faced the risk of being caught in a vicious circle of poor IT effectiveness due to continued business pressure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311560" y="4216320"/>
            <a:ext cx="568080" cy="424080"/>
          </a:xfrm>
          <a:prstGeom prst="rightArrow">
            <a:avLst>
              <a:gd name="adj1" fmla="val 50000"/>
              <a:gd name="adj2" fmla="val 3348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22440" y="325764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kely Telco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647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ication: Lower IT Effective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3000240"/>
            <a:ext cx="3276720" cy="28576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112680" indent="-1126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Lesser money to invest in application ration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Lower investment in crucial infrastructure projects (without immediate benefi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utting back existing implementation plans will have cascading effect on IT effici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ompromise on lifecycle activities that will reduce delivery reli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80880" y="3971880"/>
            <a:ext cx="1768680" cy="912960"/>
          </a:xfrm>
          <a:prstGeom prst="ellipse">
            <a:avLst/>
          </a:prstGeom>
          <a:solidFill>
            <a:srgbClr val="ccffff"/>
          </a:solidFill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ut in discretiona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IT Expendi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2895480" y="3591000"/>
            <a:ext cx="1463760" cy="1676160"/>
            <a:chOff x="2895480" y="3591000"/>
            <a:chExt cx="1463760" cy="1676160"/>
          </a:xfrm>
        </p:grpSpPr>
        <p:sp>
          <p:nvSpPr>
            <p:cNvPr id="592" name=""/>
            <p:cNvSpPr/>
            <p:nvPr/>
          </p:nvSpPr>
          <p:spPr>
            <a:xfrm>
              <a:off x="2895480" y="3591000"/>
              <a:ext cx="1463760" cy="6886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Reduction in investment sp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895480" y="4578480"/>
              <a:ext cx="1463760" cy="6886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Arbitrary cuts in budgeted expendit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4495680" y="4216320"/>
            <a:ext cx="685800" cy="424080"/>
          </a:xfrm>
          <a:prstGeom prst="rightArrow">
            <a:avLst>
              <a:gd name="adj1" fmla="val 50000"/>
              <a:gd name="adj2" fmla="val 4042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6594-AFA4-4F4F-86DD-3B5B39517E2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1998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We proposed a 3 - phased transformation program that would help Telco launch, consolidate and sustain improvements in IT effectiveness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477160" y="2722680"/>
            <a:ext cx="87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200120" y="2722680"/>
            <a:ext cx="229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 Term (6 - 12 Month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811200" y="2722680"/>
            <a:ext cx="170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ng Term (1 Year +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758960" y="3032280"/>
            <a:ext cx="2268360" cy="758520"/>
          </a:xfrm>
          <a:prstGeom prst="rect">
            <a:avLst/>
          </a:prstGeom>
          <a:solidFill>
            <a:srgbClr val="bbff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marL="112680" indent="-112680">
              <a:lnSpc>
                <a:spcPct val="9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Create Inven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9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Migration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103640" y="3032280"/>
            <a:ext cx="2270160" cy="758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marL="112680" indent="-112680">
              <a:lnSpc>
                <a:spcPct val="10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Partial Migration to a lower cost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Decommissioning 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Consolidation of applications kicked of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456240" y="3032280"/>
            <a:ext cx="2173320" cy="758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marL="112680" indent="-112680">
              <a:lnSpc>
                <a:spcPct val="10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Clear migration roadmap for the entire Telco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Rationalized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758960" y="3936960"/>
            <a:ext cx="2268360" cy="708120"/>
          </a:xfrm>
          <a:prstGeom prst="rect">
            <a:avLst/>
          </a:prstGeom>
          <a:solidFill>
            <a:srgbClr val="bbff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marL="112680" indent="-112680">
              <a:lnSpc>
                <a:spcPct val="10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Process Definitions for some Project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Run Pil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103640" y="3936960"/>
            <a:ext cx="2270160" cy="708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marL="112680" indent="-112680">
              <a:lnSpc>
                <a:spcPct val="9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Rollout to all of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9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Process definitions for all project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9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Estimation Model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456240" y="3936960"/>
            <a:ext cx="2173320" cy="708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marL="112680" indent="-112680">
              <a:lnSpc>
                <a:spcPct val="10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Rollout across Tel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Automated process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Formal capability ass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758960" y="4792680"/>
            <a:ext cx="2268360" cy="725400"/>
          </a:xfrm>
          <a:prstGeom prst="rect">
            <a:avLst/>
          </a:prstGeom>
          <a:solidFill>
            <a:srgbClr val="bbff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marL="112680" indent="-112680">
              <a:lnSpc>
                <a:spcPct val="9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10000"/>
                </a:solidFill>
                <a:latin typeface="Arial Narrow"/>
              </a:rPr>
              <a:t>Define Metrics, Skeletal Org Structure, Governance Mechanisms, KP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9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10000"/>
                </a:solidFill>
                <a:latin typeface="Arial Narrow"/>
              </a:rPr>
              <a:t>Process Capability Baseline, Dashboar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103640" y="4792680"/>
            <a:ext cx="2270160" cy="7254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marL="112680" indent="-112680">
              <a:lnSpc>
                <a:spcPct val="9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Rollout to all of IS; Launch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9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Metrics-Inventory (IRM) 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9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Commun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456240" y="4792680"/>
            <a:ext cx="2173320" cy="725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marL="112680" indent="-112680">
              <a:lnSpc>
                <a:spcPct val="10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Rollout across Tel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Communication &amp;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768320" y="5694480"/>
            <a:ext cx="2268720" cy="696960"/>
          </a:xfrm>
          <a:prstGeom prst="rect">
            <a:avLst/>
          </a:prstGeom>
          <a:solidFill>
            <a:srgbClr val="bbff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marL="112680" indent="-112680">
              <a:lnSpc>
                <a:spcPct val="10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Review IT budgets for next financi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Ensure adequate investment in infrastructur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11560" y="5694480"/>
            <a:ext cx="2270160" cy="6969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marL="112680" indent="-112680">
              <a:lnSpc>
                <a:spcPct val="10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Institutionalize demand management 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456240" y="5694480"/>
            <a:ext cx="2173320" cy="696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marL="112680" indent="-112680">
              <a:lnSpc>
                <a:spcPct val="10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Monitor returns and effectiveness of prior inves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50960" y="3032280"/>
            <a:ext cx="942840" cy="7585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Application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50960" y="3936960"/>
            <a:ext cx="942840" cy="7081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Delivery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50960" y="4794120"/>
            <a:ext cx="942840" cy="72396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People and Gover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50960" y="5694480"/>
            <a:ext cx="942840" cy="69696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Investment Pla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11320" y="1822320"/>
            <a:ext cx="1801800" cy="900360"/>
          </a:xfrm>
          <a:custGeom>
            <a:avLst/>
            <a:gdLst>
              <a:gd name="textAreaLeft" fmla="*/ 281520 w 1801800"/>
              <a:gd name="textAreaRight" fmla="*/ 1576800 w 1801800"/>
              <a:gd name="textAreaTop" fmla="*/ 225000 h 900360"/>
              <a:gd name="textAreaBottom" fmla="*/ 675360 h 90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ff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Arial"/>
              </a:rPr>
              <a:t>Launch &amp; En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140360" y="1822320"/>
            <a:ext cx="2234880" cy="900360"/>
          </a:xfrm>
          <a:custGeom>
            <a:avLst/>
            <a:gdLst>
              <a:gd name="textAreaLeft" fmla="*/ 349200 w 2234880"/>
              <a:gd name="textAreaRight" fmla="*/ 1955520 w 2234880"/>
              <a:gd name="textAreaTop" fmla="*/ 225000 h 900360"/>
              <a:gd name="textAreaBottom" fmla="*/ 675360 h 90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333399"/>
                </a:solidFill>
                <a:latin typeface="Arial"/>
              </a:rPr>
              <a:t>Evangelize &amp; Consoli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523200" y="1822320"/>
            <a:ext cx="2077920" cy="900360"/>
          </a:xfrm>
          <a:custGeom>
            <a:avLst/>
            <a:gdLst>
              <a:gd name="textAreaLeft" fmla="*/ 324720 w 2077920"/>
              <a:gd name="textAreaRight" fmla="*/ 1818360 w 2077920"/>
              <a:gd name="textAreaTop" fmla="*/ 225000 h 900360"/>
              <a:gd name="textAreaBottom" fmla="*/ 675360 h 90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Arial"/>
              </a:rPr>
              <a:t>Rollout &amp; Susta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C3D9-141C-4960-A76B-36FDCC821A1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"/>
          <p:cNvGrpSpPr/>
          <p:nvPr/>
        </p:nvGrpSpPr>
        <p:grpSpPr>
          <a:xfrm>
            <a:off x="1353960" y="2136600"/>
            <a:ext cx="6643800" cy="3911760"/>
            <a:chOff x="1353960" y="2136600"/>
            <a:chExt cx="6643800" cy="3911760"/>
          </a:xfrm>
        </p:grpSpPr>
        <p:sp>
          <p:nvSpPr>
            <p:cNvPr id="619" name=""/>
            <p:cNvSpPr/>
            <p:nvPr/>
          </p:nvSpPr>
          <p:spPr>
            <a:xfrm>
              <a:off x="1353960" y="2136600"/>
              <a:ext cx="6643800" cy="3911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332080" y="2468520"/>
              <a:ext cx="5560920" cy="2906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332080" y="5375160"/>
              <a:ext cx="5560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332080" y="4724280"/>
              <a:ext cx="5560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332080" y="4086360"/>
              <a:ext cx="5560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332080" y="3436920"/>
              <a:ext cx="5560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332080" y="2787480"/>
              <a:ext cx="5560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332080" y="2468520"/>
              <a:ext cx="5560920" cy="290664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673440" y="4950000"/>
              <a:ext cx="325440" cy="106200"/>
            </a:xfrm>
            <a:prstGeom prst="rect">
              <a:avLst/>
            </a:prstGeom>
            <a:solidFill>
              <a:srgbClr val="3399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792680" y="4724280"/>
              <a:ext cx="314280" cy="331920"/>
            </a:xfrm>
            <a:prstGeom prst="rect">
              <a:avLst/>
            </a:prstGeom>
            <a:solidFill>
              <a:srgbClr val="3399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99320" y="3495600"/>
              <a:ext cx="326880" cy="1560600"/>
            </a:xfrm>
            <a:prstGeom prst="rect">
              <a:avLst/>
            </a:prstGeom>
            <a:solidFill>
              <a:srgbClr val="3399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018200" y="2550960"/>
              <a:ext cx="314640" cy="2505240"/>
            </a:xfrm>
            <a:prstGeom prst="rect">
              <a:avLst/>
            </a:prstGeom>
            <a:solidFill>
              <a:srgbClr val="3399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881440" y="5056200"/>
              <a:ext cx="314280" cy="11160"/>
            </a:xfrm>
            <a:prstGeom prst="rect">
              <a:avLst/>
            </a:prstGeom>
            <a:solidFill>
              <a:srgbClr val="9933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998880" y="5056200"/>
              <a:ext cx="316080" cy="46080"/>
            </a:xfrm>
            <a:prstGeom prst="rect">
              <a:avLst/>
            </a:prstGeom>
            <a:solidFill>
              <a:srgbClr val="9933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106960" y="5056200"/>
              <a:ext cx="314280" cy="58680"/>
            </a:xfrm>
            <a:prstGeom prst="rect">
              <a:avLst/>
            </a:prstGeom>
            <a:solidFill>
              <a:srgbClr val="9933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226200" y="5056200"/>
              <a:ext cx="314280" cy="176040"/>
            </a:xfrm>
            <a:prstGeom prst="rect">
              <a:avLst/>
            </a:prstGeom>
            <a:solidFill>
              <a:srgbClr val="9933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332840" y="5056200"/>
              <a:ext cx="315720" cy="189000"/>
            </a:xfrm>
            <a:prstGeom prst="rect">
              <a:avLst/>
            </a:prstGeom>
            <a:solidFill>
              <a:srgbClr val="9933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332080" y="2468520"/>
              <a:ext cx="1440" cy="2906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251080" y="5375160"/>
              <a:ext cx="81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251080" y="4724280"/>
              <a:ext cx="81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251080" y="4086360"/>
              <a:ext cx="81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251080" y="3436920"/>
              <a:ext cx="81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251080" y="2787480"/>
              <a:ext cx="81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332080" y="5056200"/>
              <a:ext cx="5560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2332080" y="505584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3440160" y="505584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4559400" y="505584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5665680" y="5055840"/>
              <a:ext cx="18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6784920" y="5055840"/>
              <a:ext cx="18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7893000" y="5055840"/>
              <a:ext cx="18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837080" y="5232240"/>
              <a:ext cx="38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-5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15560" y="4583160"/>
              <a:ext cx="296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778040" y="3944880"/>
              <a:ext cx="444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778040" y="3295800"/>
              <a:ext cx="444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778040" y="2644920"/>
              <a:ext cx="444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885760" y="54212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992040" y="54212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052240" y="54212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160320" y="54212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266600" y="54212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640400" y="5575320"/>
              <a:ext cx="70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Month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16200000">
              <a:off x="1139400" y="3879360"/>
              <a:ext cx="796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Million $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353960" y="5646600"/>
              <a:ext cx="2995920" cy="401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434960" y="5776920"/>
              <a:ext cx="163800" cy="165240"/>
            </a:xfrm>
            <a:prstGeom prst="rect">
              <a:avLst/>
            </a:prstGeom>
            <a:solidFill>
              <a:srgbClr val="3399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667520" y="5705640"/>
              <a:ext cx="771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aving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682720" y="5776920"/>
              <a:ext cx="163800" cy="165240"/>
            </a:xfrm>
            <a:prstGeom prst="rect">
              <a:avLst/>
            </a:prstGeom>
            <a:solidFill>
              <a:srgbClr val="9933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917080" y="5705640"/>
              <a:ext cx="1164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Investment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353960" y="2136600"/>
              <a:ext cx="6643800" cy="3911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998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The solution needs a cumulative investment of $50-80M over three years and can potentially yield annual benefits of $300-400M</a:t>
            </a:r>
            <a:r>
              <a:rPr b="0" lang="en-US" sz="1800" spc="-1" strike="noStrike" baseline="30000">
                <a:solidFill>
                  <a:srgbClr val="9933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by the third year</a:t>
            </a: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449440" y="3981600"/>
            <a:ext cx="1515960" cy="782640"/>
          </a:xfrm>
          <a:custGeom>
            <a:avLst/>
            <a:gdLst>
              <a:gd name="textAreaLeft" fmla="*/ 236880 w 1515960"/>
              <a:gd name="textAreaRight" fmla="*/ 1326600 w 1515960"/>
              <a:gd name="textAreaTop" fmla="*/ 195480 h 782640"/>
              <a:gd name="textAreaBottom" fmla="*/ 587160 h 78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Launch &amp; En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686040" y="2836800"/>
            <a:ext cx="2208240" cy="782640"/>
          </a:xfrm>
          <a:custGeom>
            <a:avLst/>
            <a:gdLst>
              <a:gd name="textAreaLeft" fmla="*/ 344880 w 2208240"/>
              <a:gd name="textAreaRight" fmla="*/ 1932480 w 2208240"/>
              <a:gd name="textAreaTop" fmla="*/ 195480 h 782640"/>
              <a:gd name="textAreaBottom" fmla="*/ 587160 h 78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Evangelize &amp; Consol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499000" y="1785960"/>
            <a:ext cx="2276640" cy="782640"/>
          </a:xfrm>
          <a:custGeom>
            <a:avLst/>
            <a:gdLst>
              <a:gd name="textAreaLeft" fmla="*/ 355680 w 2276640"/>
              <a:gd name="textAreaRight" fmla="*/ 1992240 w 2276640"/>
              <a:gd name="textAreaTop" fmla="*/ 195480 h 782640"/>
              <a:gd name="textAreaBottom" fmla="*/ 587160 h 78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Rollout &amp; Sus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95280" y="1903320"/>
            <a:ext cx="1849680" cy="466920"/>
          </a:xfrm>
          <a:prstGeom prst="borderCallout1">
            <a:avLst>
              <a:gd name="adj1" fmla="val 18750"/>
              <a:gd name="adj2" fmla="val -8333"/>
              <a:gd name="adj3" fmla="val 644009"/>
              <a:gd name="adj4" fmla="val 140564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vestment yields positive returns within one y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346040" y="6192720"/>
            <a:ext cx="67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uming that current annual spend will continue every year for baseline estim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499000" y="5756400"/>
            <a:ext cx="2568600" cy="409320"/>
          </a:xfrm>
          <a:prstGeom prst="borderCallout1">
            <a:avLst>
              <a:gd name="adj1" fmla="val 18750"/>
              <a:gd name="adj2" fmla="val -8333"/>
              <a:gd name="adj3" fmla="val -141666"/>
              <a:gd name="adj4" fmla="val -45787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present self-financing investments that yield benefits within the same perio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24400" y="5172120"/>
            <a:ext cx="17460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5498640" y="5172120"/>
            <a:ext cx="81756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5498640" y="5172120"/>
            <a:ext cx="186876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F32C-5908-49AE-BC40-A79F5F0CC3C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12380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Case Study # 3 : Developing a New Supply Chain Blueprint for a Leading Apparel Company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7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520" indent="-22752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eading designer, marketer &amp; distributor of premium lifestyle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-21996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 categories of products – apparel, home, furnishings &amp; fragr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-21996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nd portfolio consists of some of the world’s most widely recognized brand n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-21996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 sales of USD 2.2 billion in FY 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 Challe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520" indent="-22752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improve inventory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-21996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the cash to cash cycle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-21996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the total inventory in the pip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520" indent="-22752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reduce supply chain operations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-21996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the transportation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-21996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the manpower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-21996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the inventory carrying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B9D6-C30B-4A21-9B61-476148FBAA6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80520" y="115200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The Approach</a:t>
            </a:r>
            <a:br>
              <a:rPr sz="2400"/>
            </a:b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Migrate to the “To-Be” state …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677880" y="1884240"/>
            <a:ext cx="7865640" cy="4573440"/>
            <a:chOff x="677880" y="1884240"/>
            <a:chExt cx="7865640" cy="4573440"/>
          </a:xfrm>
        </p:grpSpPr>
        <p:sp>
          <p:nvSpPr>
            <p:cNvPr id="681" name=""/>
            <p:cNvSpPr/>
            <p:nvPr/>
          </p:nvSpPr>
          <p:spPr>
            <a:xfrm>
              <a:off x="677880" y="2754720"/>
              <a:ext cx="7865640" cy="457560"/>
            </a:xfrm>
            <a:prstGeom prst="rightArrow">
              <a:avLst>
                <a:gd name="adj1" fmla="val 43139"/>
                <a:gd name="adj2" fmla="val 12065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lin ang="8100000"/>
            </a:gradFill>
            <a:ln cap="rnd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roduct Fl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77880" y="1884240"/>
              <a:ext cx="7865640" cy="429480"/>
            </a:xfrm>
            <a:prstGeom prst="leftRightArrow">
              <a:avLst>
                <a:gd name="adj1" fmla="val 49676"/>
                <a:gd name="adj2" fmla="val 123452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lin ang="8100000"/>
            </a:gradFill>
            <a:ln cap="rnd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formation Fl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711360" y="2219760"/>
              <a:ext cx="7796880" cy="666360"/>
              <a:chOff x="711360" y="2219760"/>
              <a:chExt cx="7796880" cy="666360"/>
            </a:xfrm>
          </p:grpSpPr>
          <p:grpSp>
            <p:nvGrpSpPr>
              <p:cNvPr id="684" name=""/>
              <p:cNvGrpSpPr/>
              <p:nvPr/>
            </p:nvGrpSpPr>
            <p:grpSpPr>
              <a:xfrm>
                <a:off x="4044240" y="2571840"/>
                <a:ext cx="1047600" cy="172800"/>
                <a:chOff x="4044240" y="2571840"/>
                <a:chExt cx="1047600" cy="17280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4082760" y="2603520"/>
                  <a:ext cx="894960" cy="118440"/>
                </a:xfrm>
                <a:prstGeom prst="rect">
                  <a:avLst/>
                </a:prstGeom>
                <a:solidFill>
                  <a:srgbClr val="dde5ff"/>
                </a:solidFill>
                <a:ln w="1260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4044240" y="2571840"/>
                  <a:ext cx="972720" cy="19080"/>
                </a:xfrm>
                <a:prstGeom prst="rect">
                  <a:avLst/>
                </a:prstGeom>
                <a:solidFill>
                  <a:srgbClr val="dde5ff"/>
                </a:solidFill>
                <a:ln w="1260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7" name=""/>
                <p:cNvGrpSpPr/>
                <p:nvPr/>
              </p:nvGrpSpPr>
              <p:grpSpPr>
                <a:xfrm>
                  <a:off x="4121640" y="2671200"/>
                  <a:ext cx="695880" cy="39960"/>
                  <a:chOff x="4121640" y="2671200"/>
                  <a:chExt cx="695880" cy="39960"/>
                </a:xfrm>
              </p:grpSpPr>
              <p:sp>
                <p:nvSpPr>
                  <p:cNvPr id="688" name=""/>
                  <p:cNvSpPr/>
                  <p:nvPr/>
                </p:nvSpPr>
                <p:spPr>
                  <a:xfrm>
                    <a:off x="4121640" y="2671200"/>
                    <a:ext cx="38520" cy="39960"/>
                  </a:xfrm>
                  <a:prstGeom prst="rect">
                    <a:avLst/>
                  </a:prstGeom>
                  <a:solidFill>
                    <a:srgbClr val="dde5ff"/>
                  </a:solidFill>
                  <a:ln w="1260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4200480" y="2671200"/>
                    <a:ext cx="38520" cy="39960"/>
                  </a:xfrm>
                  <a:prstGeom prst="rect">
                    <a:avLst/>
                  </a:prstGeom>
                  <a:solidFill>
                    <a:srgbClr val="dde5ff"/>
                  </a:solidFill>
                  <a:ln w="1260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4292640" y="2671200"/>
                    <a:ext cx="38880" cy="39960"/>
                  </a:xfrm>
                  <a:prstGeom prst="rect">
                    <a:avLst/>
                  </a:prstGeom>
                  <a:solidFill>
                    <a:srgbClr val="dde5ff"/>
                  </a:solidFill>
                  <a:ln w="1260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4370040" y="2671200"/>
                    <a:ext cx="27000" cy="39960"/>
                  </a:xfrm>
                  <a:prstGeom prst="rect">
                    <a:avLst/>
                  </a:prstGeom>
                  <a:solidFill>
                    <a:srgbClr val="dde5ff"/>
                  </a:solidFill>
                  <a:ln w="1260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4451040" y="2671200"/>
                    <a:ext cx="36720" cy="39960"/>
                  </a:xfrm>
                  <a:prstGeom prst="rect">
                    <a:avLst/>
                  </a:prstGeom>
                  <a:solidFill>
                    <a:srgbClr val="dde5ff"/>
                  </a:solidFill>
                  <a:ln w="1260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4541760" y="2671200"/>
                    <a:ext cx="38520" cy="39960"/>
                  </a:xfrm>
                  <a:prstGeom prst="rect">
                    <a:avLst/>
                  </a:prstGeom>
                  <a:solidFill>
                    <a:srgbClr val="dde5ff"/>
                  </a:solidFill>
                  <a:ln w="1260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4619160" y="2671200"/>
                    <a:ext cx="40320" cy="39960"/>
                  </a:xfrm>
                  <a:prstGeom prst="rect">
                    <a:avLst/>
                  </a:prstGeom>
                  <a:solidFill>
                    <a:srgbClr val="dde5ff"/>
                  </a:solidFill>
                  <a:ln w="1260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4713480" y="2671200"/>
                    <a:ext cx="24840" cy="39960"/>
                  </a:xfrm>
                  <a:prstGeom prst="rect">
                    <a:avLst/>
                  </a:prstGeom>
                  <a:solidFill>
                    <a:srgbClr val="dde5ff"/>
                  </a:solidFill>
                  <a:ln w="1260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4779000" y="2671200"/>
                    <a:ext cx="38520" cy="39960"/>
                  </a:xfrm>
                  <a:prstGeom prst="rect">
                    <a:avLst/>
                  </a:prstGeom>
                  <a:solidFill>
                    <a:srgbClr val="dde5ff"/>
                  </a:solidFill>
                  <a:ln w="1260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7" name=""/>
                <p:cNvGrpSpPr/>
                <p:nvPr/>
              </p:nvGrpSpPr>
              <p:grpSpPr>
                <a:xfrm>
                  <a:off x="4875120" y="2645640"/>
                  <a:ext cx="216720" cy="99000"/>
                  <a:chOff x="4875120" y="2645640"/>
                  <a:chExt cx="216720" cy="99000"/>
                </a:xfrm>
              </p:grpSpPr>
              <p:sp>
                <p:nvSpPr>
                  <p:cNvPr id="698" name=""/>
                  <p:cNvSpPr/>
                  <p:nvPr/>
                </p:nvSpPr>
                <p:spPr>
                  <a:xfrm>
                    <a:off x="4888440" y="2653920"/>
                    <a:ext cx="191880" cy="77760"/>
                  </a:xfrm>
                  <a:prstGeom prst="rect">
                    <a:avLst/>
                  </a:prstGeom>
                  <a:solidFill>
                    <a:srgbClr val="dde5ff"/>
                  </a:solidFill>
                  <a:ln w="1260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4875120" y="2645640"/>
                    <a:ext cx="216720" cy="16920"/>
                  </a:xfrm>
                  <a:prstGeom prst="rect">
                    <a:avLst/>
                  </a:prstGeom>
                  <a:solidFill>
                    <a:srgbClr val="dde5ff"/>
                  </a:solidFill>
                  <a:ln w="1260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880" bIns="-29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4927320" y="2727720"/>
                    <a:ext cx="13320" cy="16920"/>
                  </a:xfrm>
                  <a:prstGeom prst="rect">
                    <a:avLst/>
                  </a:prstGeom>
                  <a:solidFill>
                    <a:srgbClr val="dde5ff"/>
                  </a:solidFill>
                  <a:ln w="1260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880" bIns="-29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01" name=""/>
                  <p:cNvGrpSpPr/>
                  <p:nvPr/>
                </p:nvGrpSpPr>
                <p:grpSpPr>
                  <a:xfrm>
                    <a:off x="4914000" y="2685600"/>
                    <a:ext cx="165960" cy="16200"/>
                    <a:chOff x="4914000" y="2685600"/>
                    <a:chExt cx="165960" cy="16200"/>
                  </a:xfrm>
                </p:grpSpPr>
                <p:sp>
                  <p:nvSpPr>
                    <p:cNvPr id="702" name=""/>
                    <p:cNvSpPr/>
                    <p:nvPr/>
                  </p:nvSpPr>
                  <p:spPr>
                    <a:xfrm>
                      <a:off x="4914000" y="2685600"/>
                      <a:ext cx="63360" cy="16200"/>
                    </a:xfrm>
                    <a:prstGeom prst="rect">
                      <a:avLst/>
                    </a:prstGeom>
                    <a:solidFill>
                      <a:srgbClr val="dde5ff"/>
                    </a:solidFill>
                    <a:ln w="12600">
                      <a:solidFill>
                        <a:srgbClr val="081d5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3" name=""/>
                    <p:cNvSpPr/>
                    <p:nvPr/>
                  </p:nvSpPr>
                  <p:spPr>
                    <a:xfrm>
                      <a:off x="5004720" y="2685600"/>
                      <a:ext cx="75240" cy="16200"/>
                    </a:xfrm>
                    <a:prstGeom prst="rect">
                      <a:avLst/>
                    </a:prstGeom>
                    <a:solidFill>
                      <a:srgbClr val="dde5ff"/>
                    </a:solidFill>
                    <a:ln w="12600">
                      <a:solidFill>
                        <a:srgbClr val="081d5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704" name=""/>
              <p:cNvSpPr/>
              <p:nvPr/>
            </p:nvSpPr>
            <p:spPr>
              <a:xfrm>
                <a:off x="1689120" y="2313360"/>
                <a:ext cx="63612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806400"/>
                    <a:tab algn="l" pos="1612800"/>
                    <a:tab algn="l" pos="2419200"/>
                    <a:tab algn="l" pos="3225960"/>
                    <a:tab algn="l" pos="4032360"/>
                    <a:tab algn="l" pos="4838760"/>
                    <a:tab algn="l" pos="5645160"/>
                    <a:tab algn="l" pos="6451560"/>
                    <a:tab algn="l" pos="7257960"/>
                    <a:tab algn="l" pos="8064360"/>
                    <a:tab algn="l" pos="8871120"/>
                    <a:tab algn="l" pos="9677520"/>
                    <a:tab algn="l" pos="1048392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upplier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847240" y="2219760"/>
                <a:ext cx="621000" cy="25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806400"/>
                    <a:tab algn="l" pos="1612800"/>
                    <a:tab algn="l" pos="2419200"/>
                    <a:tab algn="l" pos="3225960"/>
                    <a:tab algn="l" pos="4032360"/>
                    <a:tab algn="l" pos="4838760"/>
                    <a:tab algn="l" pos="5645160"/>
                    <a:tab algn="l" pos="6451560"/>
                    <a:tab algn="l" pos="7257960"/>
                    <a:tab algn="l" pos="8064360"/>
                    <a:tab algn="l" pos="8871120"/>
                    <a:tab algn="l" pos="9677520"/>
                    <a:tab algn="l" pos="1048392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Inbound 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Logistic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133520" y="2306520"/>
                <a:ext cx="814320" cy="16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806400"/>
                    <a:tab algn="l" pos="1612800"/>
                    <a:tab algn="l" pos="2419200"/>
                    <a:tab algn="l" pos="3225960"/>
                    <a:tab algn="l" pos="4032360"/>
                    <a:tab algn="l" pos="4838760"/>
                    <a:tab algn="l" pos="5645160"/>
                    <a:tab algn="l" pos="6451560"/>
                    <a:tab algn="l" pos="7257960"/>
                    <a:tab algn="l" pos="8064360"/>
                    <a:tab algn="l" pos="8871120"/>
                    <a:tab algn="l" pos="9677520"/>
                    <a:tab algn="l" pos="1048392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Warehousin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707160" y="2306520"/>
                <a:ext cx="1085760" cy="16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806400"/>
                    <a:tab algn="l" pos="1612800"/>
                    <a:tab algn="l" pos="2419200"/>
                    <a:tab algn="l" pos="3225960"/>
                    <a:tab algn="l" pos="4032360"/>
                    <a:tab algn="l" pos="4838760"/>
                    <a:tab algn="l" pos="5645160"/>
                    <a:tab algn="l" pos="6451560"/>
                    <a:tab algn="l" pos="7257960"/>
                    <a:tab algn="l" pos="8064360"/>
                    <a:tab algn="l" pos="8871120"/>
                    <a:tab algn="l" pos="9677520"/>
                    <a:tab algn="l" pos="1048392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Retailer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999920" y="2306520"/>
                <a:ext cx="508320" cy="16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806400"/>
                    <a:tab algn="l" pos="1612800"/>
                    <a:tab algn="l" pos="2419200"/>
                    <a:tab algn="l" pos="3225960"/>
                    <a:tab algn="l" pos="4032360"/>
                    <a:tab algn="l" pos="4838760"/>
                    <a:tab algn="l" pos="5645160"/>
                    <a:tab algn="l" pos="6451560"/>
                    <a:tab algn="l" pos="7257960"/>
                    <a:tab algn="l" pos="8064360"/>
                    <a:tab algn="l" pos="8871120"/>
                    <a:tab algn="l" pos="9677520"/>
                    <a:tab algn="l" pos="1048392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Custom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9" name=""/>
              <p:cNvGrpSpPr/>
              <p:nvPr/>
            </p:nvGrpSpPr>
            <p:grpSpPr>
              <a:xfrm>
                <a:off x="6804720" y="2547720"/>
                <a:ext cx="871200" cy="183600"/>
                <a:chOff x="6804720" y="2547720"/>
                <a:chExt cx="871200" cy="18360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7024680" y="2660040"/>
                  <a:ext cx="173160" cy="417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7388280" y="2654280"/>
                  <a:ext cx="203040" cy="50400"/>
                </a:xfrm>
                <a:prstGeom prst="rect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7191360" y="2547720"/>
                  <a:ext cx="324720" cy="504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815880" y="2602440"/>
                  <a:ext cx="836280" cy="120600"/>
                </a:xfrm>
                <a:prstGeom prst="rect">
                  <a:avLst/>
                </a:prstGeom>
                <a:solidFill>
                  <a:srgbClr val="3333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804720" y="2610720"/>
                  <a:ext cx="871200" cy="22320"/>
                </a:xfrm>
                <a:prstGeom prst="rect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811200" y="2616480"/>
                  <a:ext cx="862920" cy="10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6839640" y="2660040"/>
                  <a:ext cx="193320" cy="4176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7075440" y="2660040"/>
                  <a:ext cx="168120" cy="38880"/>
                </a:xfrm>
                <a:prstGeom prst="rect">
                  <a:avLst/>
                </a:prstGeom>
                <a:solidFill>
                  <a:srgbClr val="9999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7446960" y="2660040"/>
                  <a:ext cx="193320" cy="4176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7285680" y="2654280"/>
                  <a:ext cx="119160" cy="74160"/>
                </a:xfrm>
                <a:prstGeom prst="rect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292160" y="2660040"/>
                  <a:ext cx="112680" cy="669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7353000" y="2654280"/>
                  <a:ext cx="1800" cy="77040"/>
                </a:xfrm>
                <a:custGeom>
                  <a:avLst/>
                  <a:gdLst/>
                  <a:ahLst/>
                  <a:rect l="l" t="t" r="r" b="b"/>
                  <a:pathLst>
                    <a:path w="1" h="55">
                      <a:moveTo>
                        <a:pt x="0" y="0"/>
                      </a:moveTo>
                      <a:lnTo>
                        <a:pt x="0" y="5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7261920" y="2635920"/>
                  <a:ext cx="164520" cy="2196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7268760" y="2641320"/>
                  <a:ext cx="156240" cy="11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4" name=""/>
                <p:cNvGrpSpPr/>
                <p:nvPr/>
              </p:nvGrpSpPr>
              <p:grpSpPr>
                <a:xfrm>
                  <a:off x="7280640" y="2660040"/>
                  <a:ext cx="145440" cy="64440"/>
                  <a:chOff x="7280640" y="2660040"/>
                  <a:chExt cx="145440" cy="64440"/>
                </a:xfrm>
              </p:grpSpPr>
              <p:sp>
                <p:nvSpPr>
                  <p:cNvPr id="725" name=""/>
                  <p:cNvSpPr/>
                  <p:nvPr/>
                </p:nvSpPr>
                <p:spPr>
                  <a:xfrm>
                    <a:off x="7280640" y="2660040"/>
                    <a:ext cx="13320" cy="644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640" bIns="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7412760" y="2660040"/>
                    <a:ext cx="13320" cy="644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640" bIns="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27" name=""/>
              <p:cNvGrpSpPr/>
              <p:nvPr/>
            </p:nvGrpSpPr>
            <p:grpSpPr>
              <a:xfrm>
                <a:off x="2731320" y="2531160"/>
                <a:ext cx="983880" cy="230040"/>
                <a:chOff x="2731320" y="2531160"/>
                <a:chExt cx="983880" cy="23004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2731320" y="2531160"/>
                  <a:ext cx="983880" cy="230040"/>
                </a:xfrm>
                <a:prstGeom prst="rightArrow">
                  <a:avLst>
                    <a:gd name="adj1" fmla="val 75009"/>
                    <a:gd name="adj2" fmla="val 90807"/>
                  </a:avLst>
                </a:prstGeom>
                <a:solidFill>
                  <a:srgbClr val="dddddd"/>
                </a:solidFill>
                <a:ln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2788200" y="2670120"/>
                  <a:ext cx="484200" cy="10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2806920" y="2588760"/>
                  <a:ext cx="510840" cy="75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2806920" y="2592720"/>
                  <a:ext cx="509400" cy="67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7099fc"/>
                    </a:gs>
                    <a:gs pos="50000">
                      <a:srgbClr val="618ffd"/>
                    </a:gs>
                    <a:gs pos="100000">
                      <a:srgbClr val="7099fc"/>
                    </a:gs>
                  </a:gsLst>
                  <a:lin ang="5400000"/>
                </a:gra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2806920" y="2682720"/>
                  <a:ext cx="0" cy="9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3183480" y="2670120"/>
                  <a:ext cx="13680" cy="10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171600" y="2691000"/>
                  <a:ext cx="13680" cy="10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35" name=""/>
                <p:cNvGrpSpPr/>
                <p:nvPr/>
              </p:nvGrpSpPr>
              <p:grpSpPr>
                <a:xfrm>
                  <a:off x="2813400" y="2670120"/>
                  <a:ext cx="126720" cy="31680"/>
                  <a:chOff x="2813400" y="2670120"/>
                  <a:chExt cx="126720" cy="31680"/>
                </a:xfrm>
              </p:grpSpPr>
              <p:grpSp>
                <p:nvGrpSpPr>
                  <p:cNvPr id="736" name=""/>
                  <p:cNvGrpSpPr/>
                  <p:nvPr/>
                </p:nvGrpSpPr>
                <p:grpSpPr>
                  <a:xfrm>
                    <a:off x="2889000" y="2670120"/>
                    <a:ext cx="51120" cy="31680"/>
                    <a:chOff x="2889000" y="2670120"/>
                    <a:chExt cx="51120" cy="31680"/>
                  </a:xfrm>
                </p:grpSpPr>
                <p:sp>
                  <p:nvSpPr>
                    <p:cNvPr id="737" name=""/>
                    <p:cNvSpPr/>
                    <p:nvPr/>
                  </p:nvSpPr>
                  <p:spPr>
                    <a:xfrm>
                      <a:off x="2889000" y="2670120"/>
                      <a:ext cx="38160" cy="23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8" name=""/>
                    <p:cNvSpPr/>
                    <p:nvPr/>
                  </p:nvSpPr>
                  <p:spPr>
                    <a:xfrm>
                      <a:off x="2889000" y="2670120"/>
                      <a:ext cx="38160" cy="165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9" name=""/>
                    <p:cNvSpPr/>
                    <p:nvPr/>
                  </p:nvSpPr>
                  <p:spPr>
                    <a:xfrm>
                      <a:off x="2889000" y="2676960"/>
                      <a:ext cx="2484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>
                      <a:off x="2901960" y="2685600"/>
                      <a:ext cx="12960" cy="10800"/>
                    </a:xfrm>
                    <a:prstGeom prst="ellipse">
                      <a:avLst/>
                    </a:prstGeom>
                    <a:blipFill rotWithShape="0">
                      <a:blip r:embed="rId1"/>
                      <a:srcRect/>
                      <a:tile tx="0" ty="0" sx="100000" sy="100000" algn="ctr"/>
                    </a:blip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1" name=""/>
                    <p:cNvSpPr/>
                    <p:nvPr/>
                  </p:nvSpPr>
                  <p:spPr>
                    <a:xfrm>
                      <a:off x="2901960" y="267696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2" name=""/>
                    <p:cNvSpPr/>
                    <p:nvPr/>
                  </p:nvSpPr>
                  <p:spPr>
                    <a:xfrm>
                      <a:off x="2889000" y="269100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>
                      <a:off x="2889000" y="269100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4" name=""/>
                    <p:cNvSpPr/>
                    <p:nvPr/>
                  </p:nvSpPr>
                  <p:spPr>
                    <a:xfrm>
                      <a:off x="2901960" y="269100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5" name=""/>
                    <p:cNvSpPr/>
                    <p:nvPr/>
                  </p:nvSpPr>
                  <p:spPr>
                    <a:xfrm>
                      <a:off x="2915280" y="2691000"/>
                      <a:ext cx="1332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>
                      <a:off x="2927160" y="269100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7" name=""/>
                    <p:cNvSpPr/>
                    <p:nvPr/>
                  </p:nvSpPr>
                  <p:spPr>
                    <a:xfrm>
                      <a:off x="2927160" y="268560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>
                      <a:off x="2901960" y="267696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9" name=""/>
                    <p:cNvSpPr/>
                    <p:nvPr/>
                  </p:nvSpPr>
                  <p:spPr>
                    <a:xfrm>
                      <a:off x="2901960" y="2691000"/>
                      <a:ext cx="12960" cy="10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50" name=""/>
                  <p:cNvGrpSpPr/>
                  <p:nvPr/>
                </p:nvGrpSpPr>
                <p:grpSpPr>
                  <a:xfrm>
                    <a:off x="2813400" y="2670120"/>
                    <a:ext cx="51480" cy="31680"/>
                    <a:chOff x="2813400" y="2670120"/>
                    <a:chExt cx="51480" cy="31680"/>
                  </a:xfrm>
                </p:grpSpPr>
                <p:sp>
                  <p:nvSpPr>
                    <p:cNvPr id="751" name=""/>
                    <p:cNvSpPr/>
                    <p:nvPr/>
                  </p:nvSpPr>
                  <p:spPr>
                    <a:xfrm>
                      <a:off x="2813400" y="2670120"/>
                      <a:ext cx="50040" cy="23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2" name=""/>
                    <p:cNvSpPr/>
                    <p:nvPr/>
                  </p:nvSpPr>
                  <p:spPr>
                    <a:xfrm>
                      <a:off x="2813400" y="2670120"/>
                      <a:ext cx="50040" cy="165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3" name=""/>
                    <p:cNvSpPr/>
                    <p:nvPr/>
                  </p:nvSpPr>
                  <p:spPr>
                    <a:xfrm>
                      <a:off x="2824920" y="2676960"/>
                      <a:ext cx="2484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4" name=""/>
                    <p:cNvSpPr/>
                    <p:nvPr/>
                  </p:nvSpPr>
                  <p:spPr>
                    <a:xfrm>
                      <a:off x="2838240" y="2685600"/>
                      <a:ext cx="13320" cy="10800"/>
                    </a:xfrm>
                    <a:prstGeom prst="ellipse">
                      <a:avLst/>
                    </a:prstGeom>
                    <a:blipFill rotWithShape="0">
                      <a:blip r:embed="rId2"/>
                      <a:srcRect/>
                      <a:tile tx="0" ty="0" sx="100000" sy="100000" algn="ctr"/>
                    </a:blip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5" name=""/>
                    <p:cNvSpPr/>
                    <p:nvPr/>
                  </p:nvSpPr>
                  <p:spPr>
                    <a:xfrm>
                      <a:off x="2824920" y="267696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6" name=""/>
                    <p:cNvSpPr/>
                    <p:nvPr/>
                  </p:nvSpPr>
                  <p:spPr>
                    <a:xfrm>
                      <a:off x="2824920" y="269100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7" name=""/>
                    <p:cNvSpPr/>
                    <p:nvPr/>
                  </p:nvSpPr>
                  <p:spPr>
                    <a:xfrm>
                      <a:off x="2824920" y="269100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8" name=""/>
                    <p:cNvSpPr/>
                    <p:nvPr/>
                  </p:nvSpPr>
                  <p:spPr>
                    <a:xfrm>
                      <a:off x="2838240" y="2691000"/>
                      <a:ext cx="1332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9" name=""/>
                    <p:cNvSpPr/>
                    <p:nvPr/>
                  </p:nvSpPr>
                  <p:spPr>
                    <a:xfrm>
                      <a:off x="2851920" y="269100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0" name=""/>
                    <p:cNvSpPr/>
                    <p:nvPr/>
                  </p:nvSpPr>
                  <p:spPr>
                    <a:xfrm>
                      <a:off x="2851920" y="269100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1" name=""/>
                    <p:cNvSpPr/>
                    <p:nvPr/>
                  </p:nvSpPr>
                  <p:spPr>
                    <a:xfrm>
                      <a:off x="2851920" y="268560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2" name=""/>
                    <p:cNvSpPr/>
                    <p:nvPr/>
                  </p:nvSpPr>
                  <p:spPr>
                    <a:xfrm>
                      <a:off x="2851920" y="267696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3" name=""/>
                    <p:cNvSpPr/>
                    <p:nvPr/>
                  </p:nvSpPr>
                  <p:spPr>
                    <a:xfrm>
                      <a:off x="2851920" y="2691000"/>
                      <a:ext cx="12960" cy="10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64" name=""/>
                <p:cNvGrpSpPr/>
                <p:nvPr/>
              </p:nvGrpSpPr>
              <p:grpSpPr>
                <a:xfrm>
                  <a:off x="3197160" y="2588760"/>
                  <a:ext cx="429840" cy="114840"/>
                  <a:chOff x="3197160" y="2588760"/>
                  <a:chExt cx="429840" cy="114840"/>
                </a:xfrm>
              </p:grpSpPr>
              <p:sp>
                <p:nvSpPr>
                  <p:cNvPr id="765" name=""/>
                  <p:cNvSpPr/>
                  <p:nvPr/>
                </p:nvSpPr>
                <p:spPr>
                  <a:xfrm>
                    <a:off x="3432240" y="2616480"/>
                    <a:ext cx="19296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40">
                        <a:moveTo>
                          <a:pt x="106" y="33"/>
                        </a:moveTo>
                        <a:lnTo>
                          <a:pt x="114" y="24"/>
                        </a:lnTo>
                        <a:lnTo>
                          <a:pt x="106" y="19"/>
                        </a:lnTo>
                        <a:lnTo>
                          <a:pt x="84" y="19"/>
                        </a:lnTo>
                        <a:lnTo>
                          <a:pt x="46" y="19"/>
                        </a:lnTo>
                        <a:lnTo>
                          <a:pt x="46" y="14"/>
                        </a:lnTo>
                        <a:lnTo>
                          <a:pt x="46" y="0"/>
                        </a:lnTo>
                        <a:lnTo>
                          <a:pt x="38" y="0"/>
                        </a:lnTo>
                        <a:lnTo>
                          <a:pt x="15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39"/>
                        </a:lnTo>
                        <a:lnTo>
                          <a:pt x="114" y="39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3502440" y="2664360"/>
                    <a:ext cx="75600" cy="15480"/>
                  </a:xfrm>
                  <a:prstGeom prst="rect">
                    <a:avLst/>
                  </a:prstGeom>
                  <a:solidFill>
                    <a:srgbClr val="bbe0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3605040" y="2676960"/>
                    <a:ext cx="13680" cy="10800"/>
                  </a:xfrm>
                  <a:prstGeom prst="rect">
                    <a:avLst/>
                  </a:prstGeom>
                  <a:solidFill>
                    <a:srgbClr val="bbe0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3222000" y="2676960"/>
                    <a:ext cx="139320" cy="10800"/>
                  </a:xfrm>
                  <a:prstGeom prst="rect">
                    <a:avLst/>
                  </a:prstGeom>
                  <a:solidFill>
                    <a:srgbClr val="bbe0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3375000" y="2615400"/>
                    <a:ext cx="38520" cy="64440"/>
                  </a:xfrm>
                  <a:prstGeom prst="rect">
                    <a:avLst/>
                  </a:prstGeom>
                  <a:solidFill>
                    <a:srgbClr val="bbe0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640" bIns="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3381840" y="2588760"/>
                    <a:ext cx="1440" cy="7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55">
                        <a:moveTo>
                          <a:pt x="0" y="54"/>
                        </a:move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0" y="54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3381840" y="2588760"/>
                    <a:ext cx="1440" cy="7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55">
                        <a:moveTo>
                          <a:pt x="0" y="54"/>
                        </a:move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0" y="54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0" y="54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72" name=""/>
                  <p:cNvGrpSpPr/>
                  <p:nvPr/>
                </p:nvGrpSpPr>
                <p:grpSpPr>
                  <a:xfrm>
                    <a:off x="3527640" y="2664360"/>
                    <a:ext cx="51840" cy="37440"/>
                    <a:chOff x="3527640" y="2664360"/>
                    <a:chExt cx="51840" cy="37440"/>
                  </a:xfrm>
                </p:grpSpPr>
                <p:sp>
                  <p:nvSpPr>
                    <p:cNvPr id="773" name=""/>
                    <p:cNvSpPr/>
                    <p:nvPr/>
                  </p:nvSpPr>
                  <p:spPr>
                    <a:xfrm>
                      <a:off x="3527640" y="2664360"/>
                      <a:ext cx="50400" cy="2952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920" bIns="-25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4" name=""/>
                    <p:cNvSpPr/>
                    <p:nvPr/>
                  </p:nvSpPr>
                  <p:spPr>
                    <a:xfrm>
                      <a:off x="3527640" y="2669760"/>
                      <a:ext cx="38520" cy="1656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5" name=""/>
                    <p:cNvSpPr/>
                    <p:nvPr/>
                  </p:nvSpPr>
                  <p:spPr>
                    <a:xfrm>
                      <a:off x="3541320" y="2676960"/>
                      <a:ext cx="24840" cy="1080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6" name=""/>
                    <p:cNvSpPr/>
                    <p:nvPr/>
                  </p:nvSpPr>
                  <p:spPr>
                    <a:xfrm>
                      <a:off x="3554640" y="2685600"/>
                      <a:ext cx="13320" cy="1080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7" name=""/>
                    <p:cNvSpPr/>
                    <p:nvPr/>
                  </p:nvSpPr>
                  <p:spPr>
                    <a:xfrm>
                      <a:off x="3554640" y="2676960"/>
                      <a:ext cx="13320" cy="1080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8" name=""/>
                    <p:cNvSpPr/>
                    <p:nvPr/>
                  </p:nvSpPr>
                  <p:spPr>
                    <a:xfrm>
                      <a:off x="3541320" y="2691000"/>
                      <a:ext cx="13320" cy="1080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9" name=""/>
                    <p:cNvSpPr/>
                    <p:nvPr/>
                  </p:nvSpPr>
                  <p:spPr>
                    <a:xfrm>
                      <a:off x="3554640" y="2691000"/>
                      <a:ext cx="13320" cy="1080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0" name=""/>
                    <p:cNvSpPr/>
                    <p:nvPr/>
                  </p:nvSpPr>
                  <p:spPr>
                    <a:xfrm>
                      <a:off x="3554640" y="2691000"/>
                      <a:ext cx="13320" cy="1080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1" name=""/>
                    <p:cNvSpPr/>
                    <p:nvPr/>
                  </p:nvSpPr>
                  <p:spPr>
                    <a:xfrm>
                      <a:off x="3566160" y="2691000"/>
                      <a:ext cx="13320" cy="1080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2" name=""/>
                    <p:cNvSpPr/>
                    <p:nvPr/>
                  </p:nvSpPr>
                  <p:spPr>
                    <a:xfrm>
                      <a:off x="3566160" y="2691000"/>
                      <a:ext cx="13320" cy="1080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3" name=""/>
                    <p:cNvSpPr/>
                    <p:nvPr/>
                  </p:nvSpPr>
                  <p:spPr>
                    <a:xfrm>
                      <a:off x="3566160" y="2676960"/>
                      <a:ext cx="13320" cy="1080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4" name=""/>
                    <p:cNvSpPr/>
                    <p:nvPr/>
                  </p:nvSpPr>
                  <p:spPr>
                    <a:xfrm>
                      <a:off x="3554640" y="2676960"/>
                      <a:ext cx="13320" cy="1080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5" name=""/>
                    <p:cNvSpPr/>
                    <p:nvPr/>
                  </p:nvSpPr>
                  <p:spPr>
                    <a:xfrm>
                      <a:off x="3554640" y="2691000"/>
                      <a:ext cx="13320" cy="1080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86" name=""/>
                  <p:cNvGrpSpPr/>
                  <p:nvPr/>
                </p:nvGrpSpPr>
                <p:grpSpPr>
                  <a:xfrm>
                    <a:off x="3197160" y="2670120"/>
                    <a:ext cx="140040" cy="31680"/>
                    <a:chOff x="3197160" y="2670120"/>
                    <a:chExt cx="140040" cy="31680"/>
                  </a:xfrm>
                </p:grpSpPr>
                <p:grpSp>
                  <p:nvGrpSpPr>
                    <p:cNvPr id="787" name=""/>
                    <p:cNvGrpSpPr/>
                    <p:nvPr/>
                  </p:nvGrpSpPr>
                  <p:grpSpPr>
                    <a:xfrm>
                      <a:off x="3260520" y="2670120"/>
                      <a:ext cx="76680" cy="31680"/>
                      <a:chOff x="3260520" y="2670120"/>
                      <a:chExt cx="76680" cy="31680"/>
                    </a:xfrm>
                  </p:grpSpPr>
                  <p:sp>
                    <p:nvSpPr>
                      <p:cNvPr id="788" name=""/>
                      <p:cNvSpPr/>
                      <p:nvPr/>
                    </p:nvSpPr>
                    <p:spPr>
                      <a:xfrm>
                        <a:off x="3260520" y="2670120"/>
                        <a:ext cx="75240" cy="2376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520" bIns="-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9" name=""/>
                      <p:cNvSpPr/>
                      <p:nvPr/>
                    </p:nvSpPr>
                    <p:spPr>
                      <a:xfrm>
                        <a:off x="3285360" y="2670120"/>
                        <a:ext cx="36720" cy="1656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4560" bIns="-34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0" name=""/>
                      <p:cNvSpPr/>
                      <p:nvPr/>
                    </p:nvSpPr>
                    <p:spPr>
                      <a:xfrm>
                        <a:off x="3285360" y="2676960"/>
                        <a:ext cx="2520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1" name=""/>
                      <p:cNvSpPr/>
                      <p:nvPr/>
                    </p:nvSpPr>
                    <p:spPr>
                      <a:xfrm>
                        <a:off x="3299040" y="268560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2" name=""/>
                      <p:cNvSpPr/>
                      <p:nvPr/>
                    </p:nvSpPr>
                    <p:spPr>
                      <a:xfrm>
                        <a:off x="3299040" y="267696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3" name=""/>
                      <p:cNvSpPr/>
                      <p:nvPr/>
                    </p:nvSpPr>
                    <p:spPr>
                      <a:xfrm>
                        <a:off x="3285360" y="2691000"/>
                        <a:ext cx="1332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4" name=""/>
                      <p:cNvSpPr/>
                      <p:nvPr/>
                    </p:nvSpPr>
                    <p:spPr>
                      <a:xfrm>
                        <a:off x="3299040" y="269100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5" name=""/>
                      <p:cNvSpPr/>
                      <p:nvPr/>
                    </p:nvSpPr>
                    <p:spPr>
                      <a:xfrm>
                        <a:off x="3299040" y="269100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6" name=""/>
                      <p:cNvSpPr/>
                      <p:nvPr/>
                    </p:nvSpPr>
                    <p:spPr>
                      <a:xfrm>
                        <a:off x="3310920" y="269100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7" name=""/>
                      <p:cNvSpPr/>
                      <p:nvPr/>
                    </p:nvSpPr>
                    <p:spPr>
                      <a:xfrm>
                        <a:off x="3324240" y="269100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8" name=""/>
                      <p:cNvSpPr/>
                      <p:nvPr/>
                    </p:nvSpPr>
                    <p:spPr>
                      <a:xfrm>
                        <a:off x="3310920" y="268560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9" name=""/>
                      <p:cNvSpPr/>
                      <p:nvPr/>
                    </p:nvSpPr>
                    <p:spPr>
                      <a:xfrm>
                        <a:off x="3299040" y="267696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0" name=""/>
                      <p:cNvSpPr/>
                      <p:nvPr/>
                    </p:nvSpPr>
                    <p:spPr>
                      <a:xfrm>
                        <a:off x="3299040" y="269100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01" name=""/>
                    <p:cNvGrpSpPr/>
                    <p:nvPr/>
                  </p:nvGrpSpPr>
                  <p:grpSpPr>
                    <a:xfrm>
                      <a:off x="3197160" y="2670120"/>
                      <a:ext cx="63000" cy="31680"/>
                      <a:chOff x="3197160" y="2670120"/>
                      <a:chExt cx="63000" cy="31680"/>
                    </a:xfrm>
                  </p:grpSpPr>
                  <p:sp>
                    <p:nvSpPr>
                      <p:cNvPr id="802" name=""/>
                      <p:cNvSpPr/>
                      <p:nvPr/>
                    </p:nvSpPr>
                    <p:spPr>
                      <a:xfrm>
                        <a:off x="3197160" y="2670120"/>
                        <a:ext cx="50040" cy="2376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520" bIns="-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3" name=""/>
                      <p:cNvSpPr/>
                      <p:nvPr/>
                    </p:nvSpPr>
                    <p:spPr>
                      <a:xfrm>
                        <a:off x="3208680" y="2670120"/>
                        <a:ext cx="38160" cy="1656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4560" bIns="-34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4" name=""/>
                      <p:cNvSpPr/>
                      <p:nvPr/>
                    </p:nvSpPr>
                    <p:spPr>
                      <a:xfrm>
                        <a:off x="3222000" y="2676960"/>
                        <a:ext cx="2484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5" name=""/>
                      <p:cNvSpPr/>
                      <p:nvPr/>
                    </p:nvSpPr>
                    <p:spPr>
                      <a:xfrm>
                        <a:off x="3222000" y="268560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6" name=""/>
                      <p:cNvSpPr/>
                      <p:nvPr/>
                    </p:nvSpPr>
                    <p:spPr>
                      <a:xfrm>
                        <a:off x="3222000" y="267696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7" name=""/>
                      <p:cNvSpPr/>
                      <p:nvPr/>
                    </p:nvSpPr>
                    <p:spPr>
                      <a:xfrm>
                        <a:off x="3222000" y="269100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8" name=""/>
                      <p:cNvSpPr/>
                      <p:nvPr/>
                    </p:nvSpPr>
                    <p:spPr>
                      <a:xfrm>
                        <a:off x="3222000" y="269100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9" name=""/>
                      <p:cNvSpPr/>
                      <p:nvPr/>
                    </p:nvSpPr>
                    <p:spPr>
                      <a:xfrm>
                        <a:off x="3222000" y="269100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0" name=""/>
                      <p:cNvSpPr/>
                      <p:nvPr/>
                    </p:nvSpPr>
                    <p:spPr>
                      <a:xfrm>
                        <a:off x="3235320" y="269100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1" name=""/>
                      <p:cNvSpPr/>
                      <p:nvPr/>
                    </p:nvSpPr>
                    <p:spPr>
                      <a:xfrm>
                        <a:off x="3247200" y="269100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2" name=""/>
                      <p:cNvSpPr/>
                      <p:nvPr/>
                    </p:nvSpPr>
                    <p:spPr>
                      <a:xfrm>
                        <a:off x="3235320" y="268560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3" name=""/>
                      <p:cNvSpPr/>
                      <p:nvPr/>
                    </p:nvSpPr>
                    <p:spPr>
                      <a:xfrm>
                        <a:off x="3235320" y="267696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4" name=""/>
                      <p:cNvSpPr/>
                      <p:nvPr/>
                    </p:nvSpPr>
                    <p:spPr>
                      <a:xfrm>
                        <a:off x="3235320" y="269100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15" name=""/>
                  <p:cNvSpPr/>
                  <p:nvPr/>
                </p:nvSpPr>
                <p:spPr>
                  <a:xfrm>
                    <a:off x="3509280" y="2664360"/>
                    <a:ext cx="1155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21">
                        <a:moveTo>
                          <a:pt x="68" y="10"/>
                        </a:moveTo>
                        <a:lnTo>
                          <a:pt x="60" y="10"/>
                        </a:lnTo>
                        <a:lnTo>
                          <a:pt x="53" y="10"/>
                        </a:lnTo>
                        <a:lnTo>
                          <a:pt x="53" y="5"/>
                        </a:lnTo>
                        <a:lnTo>
                          <a:pt x="45" y="5"/>
                        </a:lnTo>
                        <a:lnTo>
                          <a:pt x="45" y="0"/>
                        </a:lnTo>
                        <a:lnTo>
                          <a:pt x="38" y="0"/>
                        </a:lnTo>
                        <a:lnTo>
                          <a:pt x="30" y="0"/>
                        </a:lnTo>
                        <a:lnTo>
                          <a:pt x="23" y="0"/>
                        </a:lnTo>
                        <a:lnTo>
                          <a:pt x="15" y="0"/>
                        </a:lnTo>
                        <a:lnTo>
                          <a:pt x="15" y="5"/>
                        </a:lnTo>
                        <a:lnTo>
                          <a:pt x="15" y="10"/>
                        </a:lnTo>
                        <a:lnTo>
                          <a:pt x="8" y="10"/>
                        </a:lnTo>
                        <a:lnTo>
                          <a:pt x="8" y="14"/>
                        </a:lnTo>
                        <a:lnTo>
                          <a:pt x="8" y="2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15" y="0"/>
                        </a:lnTo>
                        <a:lnTo>
                          <a:pt x="23" y="0"/>
                        </a:lnTo>
                        <a:lnTo>
                          <a:pt x="30" y="0"/>
                        </a:lnTo>
                        <a:lnTo>
                          <a:pt x="38" y="0"/>
                        </a:lnTo>
                        <a:lnTo>
                          <a:pt x="45" y="0"/>
                        </a:lnTo>
                        <a:lnTo>
                          <a:pt x="53" y="0"/>
                        </a:lnTo>
                        <a:lnTo>
                          <a:pt x="60" y="0"/>
                        </a:lnTo>
                        <a:lnTo>
                          <a:pt x="60" y="5"/>
                        </a:lnTo>
                        <a:lnTo>
                          <a:pt x="68" y="5"/>
                        </a:lnTo>
                        <a:lnTo>
                          <a:pt x="68" y="10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3509280" y="2664360"/>
                    <a:ext cx="1155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21">
                        <a:moveTo>
                          <a:pt x="68" y="10"/>
                        </a:moveTo>
                        <a:lnTo>
                          <a:pt x="60" y="10"/>
                        </a:lnTo>
                        <a:lnTo>
                          <a:pt x="53" y="10"/>
                        </a:lnTo>
                        <a:lnTo>
                          <a:pt x="53" y="5"/>
                        </a:lnTo>
                        <a:lnTo>
                          <a:pt x="45" y="5"/>
                        </a:lnTo>
                        <a:lnTo>
                          <a:pt x="45" y="0"/>
                        </a:lnTo>
                        <a:lnTo>
                          <a:pt x="38" y="0"/>
                        </a:lnTo>
                        <a:lnTo>
                          <a:pt x="30" y="0"/>
                        </a:lnTo>
                        <a:lnTo>
                          <a:pt x="23" y="0"/>
                        </a:lnTo>
                        <a:lnTo>
                          <a:pt x="15" y="0"/>
                        </a:lnTo>
                        <a:lnTo>
                          <a:pt x="15" y="5"/>
                        </a:lnTo>
                        <a:lnTo>
                          <a:pt x="15" y="10"/>
                        </a:lnTo>
                        <a:lnTo>
                          <a:pt x="8" y="10"/>
                        </a:lnTo>
                        <a:lnTo>
                          <a:pt x="8" y="14"/>
                        </a:lnTo>
                        <a:lnTo>
                          <a:pt x="8" y="2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15" y="0"/>
                        </a:lnTo>
                        <a:lnTo>
                          <a:pt x="23" y="0"/>
                        </a:lnTo>
                        <a:lnTo>
                          <a:pt x="30" y="0"/>
                        </a:lnTo>
                        <a:lnTo>
                          <a:pt x="38" y="0"/>
                        </a:lnTo>
                        <a:lnTo>
                          <a:pt x="45" y="0"/>
                        </a:lnTo>
                        <a:lnTo>
                          <a:pt x="53" y="0"/>
                        </a:lnTo>
                        <a:lnTo>
                          <a:pt x="60" y="0"/>
                        </a:lnTo>
                        <a:lnTo>
                          <a:pt x="60" y="5"/>
                        </a:lnTo>
                        <a:lnTo>
                          <a:pt x="68" y="5"/>
                        </a:lnTo>
                        <a:lnTo>
                          <a:pt x="68" y="10"/>
                        </a:lnTo>
                        <a:lnTo>
                          <a:pt x="60" y="10"/>
                        </a:lnTo>
                        <a:lnTo>
                          <a:pt x="53" y="10"/>
                        </a:lnTo>
                        <a:lnTo>
                          <a:pt x="53" y="5"/>
                        </a:lnTo>
                        <a:lnTo>
                          <a:pt x="45" y="5"/>
                        </a:lnTo>
                        <a:lnTo>
                          <a:pt x="45" y="0"/>
                        </a:lnTo>
                        <a:lnTo>
                          <a:pt x="38" y="0"/>
                        </a:lnTo>
                        <a:lnTo>
                          <a:pt x="30" y="0"/>
                        </a:lnTo>
                        <a:lnTo>
                          <a:pt x="23" y="0"/>
                        </a:lnTo>
                        <a:lnTo>
                          <a:pt x="15" y="0"/>
                        </a:lnTo>
                        <a:lnTo>
                          <a:pt x="15" y="5"/>
                        </a:lnTo>
                        <a:lnTo>
                          <a:pt x="15" y="10"/>
                        </a:lnTo>
                        <a:lnTo>
                          <a:pt x="8" y="10"/>
                        </a:lnTo>
                        <a:lnTo>
                          <a:pt x="8" y="14"/>
                        </a:lnTo>
                        <a:lnTo>
                          <a:pt x="8" y="2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15" y="0"/>
                        </a:lnTo>
                        <a:lnTo>
                          <a:pt x="23" y="0"/>
                        </a:lnTo>
                        <a:lnTo>
                          <a:pt x="30" y="0"/>
                        </a:lnTo>
                        <a:lnTo>
                          <a:pt x="38" y="0"/>
                        </a:lnTo>
                        <a:lnTo>
                          <a:pt x="45" y="0"/>
                        </a:lnTo>
                        <a:lnTo>
                          <a:pt x="53" y="0"/>
                        </a:lnTo>
                        <a:lnTo>
                          <a:pt x="60" y="0"/>
                        </a:lnTo>
                        <a:lnTo>
                          <a:pt x="60" y="5"/>
                        </a:lnTo>
                        <a:lnTo>
                          <a:pt x="68" y="5"/>
                        </a:lnTo>
                        <a:lnTo>
                          <a:pt x="68" y="10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3598560" y="2644920"/>
                    <a:ext cx="2844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0" y="14"/>
                        </a:moveTo>
                        <a:lnTo>
                          <a:pt x="0" y="9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16" y="0"/>
                        </a:lnTo>
                        <a:lnTo>
                          <a:pt x="16" y="5"/>
                        </a:lnTo>
                        <a:lnTo>
                          <a:pt x="16" y="9"/>
                        </a:lnTo>
                        <a:lnTo>
                          <a:pt x="16" y="14"/>
                        </a:lnTo>
                        <a:lnTo>
                          <a:pt x="16" y="19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3598560" y="2644920"/>
                    <a:ext cx="2844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0" y="14"/>
                        </a:moveTo>
                        <a:lnTo>
                          <a:pt x="0" y="9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16" y="0"/>
                        </a:lnTo>
                        <a:lnTo>
                          <a:pt x="16" y="5"/>
                        </a:lnTo>
                        <a:lnTo>
                          <a:pt x="16" y="9"/>
                        </a:lnTo>
                        <a:lnTo>
                          <a:pt x="16" y="14"/>
                        </a:lnTo>
                        <a:lnTo>
                          <a:pt x="16" y="19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3521160" y="2644920"/>
                    <a:ext cx="14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7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0" y="10"/>
                        </a:lnTo>
                        <a:lnTo>
                          <a:pt x="0" y="16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3521160" y="2644920"/>
                    <a:ext cx="14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7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0" y="10"/>
                        </a:lnTo>
                        <a:lnTo>
                          <a:pt x="0" y="16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3457080" y="2616480"/>
                    <a:ext cx="5364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5">
                        <a:moveTo>
                          <a:pt x="23" y="0"/>
                        </a:moveTo>
                        <a:lnTo>
                          <a:pt x="23" y="5"/>
                        </a:lnTo>
                        <a:lnTo>
                          <a:pt x="23" y="9"/>
                        </a:lnTo>
                        <a:lnTo>
                          <a:pt x="31" y="14"/>
                        </a:lnTo>
                        <a:lnTo>
                          <a:pt x="31" y="19"/>
                        </a:lnTo>
                        <a:lnTo>
                          <a:pt x="31" y="24"/>
                        </a:lnTo>
                        <a:lnTo>
                          <a:pt x="31" y="28"/>
                        </a:lnTo>
                        <a:lnTo>
                          <a:pt x="31" y="34"/>
                        </a:lnTo>
                        <a:lnTo>
                          <a:pt x="23" y="34"/>
                        </a:lnTo>
                        <a:lnTo>
                          <a:pt x="16" y="34"/>
                        </a:lnTo>
                        <a:lnTo>
                          <a:pt x="8" y="34"/>
                        </a:lnTo>
                        <a:lnTo>
                          <a:pt x="0" y="34"/>
                        </a:lnTo>
                        <a:lnTo>
                          <a:pt x="0" y="28"/>
                        </a:lnTo>
                        <a:lnTo>
                          <a:pt x="0" y="24"/>
                        </a:lnTo>
                        <a:lnTo>
                          <a:pt x="0" y="19"/>
                        </a:lnTo>
                        <a:lnTo>
                          <a:pt x="0" y="14"/>
                        </a:lnTo>
                        <a:lnTo>
                          <a:pt x="0" y="9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16" y="0"/>
                        </a:lnTo>
                        <a:lnTo>
                          <a:pt x="23" y="0"/>
                        </a:lnTo>
                        <a:lnTo>
                          <a:pt x="23" y="5"/>
                        </a:lnTo>
                        <a:lnTo>
                          <a:pt x="23" y="9"/>
                        </a:lnTo>
                        <a:lnTo>
                          <a:pt x="31" y="14"/>
                        </a:lnTo>
                        <a:lnTo>
                          <a:pt x="31" y="19"/>
                        </a:lnTo>
                        <a:lnTo>
                          <a:pt x="31" y="24"/>
                        </a:lnTo>
                        <a:lnTo>
                          <a:pt x="31" y="28"/>
                        </a:lnTo>
                        <a:lnTo>
                          <a:pt x="31" y="34"/>
                        </a:lnTo>
                        <a:lnTo>
                          <a:pt x="23" y="34"/>
                        </a:lnTo>
                        <a:lnTo>
                          <a:pt x="16" y="34"/>
                        </a:lnTo>
                        <a:lnTo>
                          <a:pt x="8" y="34"/>
                        </a:lnTo>
                        <a:lnTo>
                          <a:pt x="0" y="34"/>
                        </a:lnTo>
                        <a:lnTo>
                          <a:pt x="0" y="28"/>
                        </a:lnTo>
                        <a:lnTo>
                          <a:pt x="0" y="24"/>
                        </a:lnTo>
                        <a:lnTo>
                          <a:pt x="0" y="19"/>
                        </a:lnTo>
                        <a:lnTo>
                          <a:pt x="0" y="14"/>
                        </a:lnTo>
                        <a:lnTo>
                          <a:pt x="0" y="9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16" y="0"/>
                        </a:lnTo>
                        <a:lnTo>
                          <a:pt x="23" y="0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3457080" y="2623680"/>
                    <a:ext cx="40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7">
                        <a:moveTo>
                          <a:pt x="23" y="0"/>
                        </a:moveTo>
                        <a:lnTo>
                          <a:pt x="23" y="16"/>
                        </a:lnTo>
                        <a:lnTo>
                          <a:pt x="0" y="16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23" y="0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3457080" y="2623680"/>
                    <a:ext cx="40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7">
                        <a:moveTo>
                          <a:pt x="23" y="0"/>
                        </a:moveTo>
                        <a:lnTo>
                          <a:pt x="23" y="16"/>
                        </a:lnTo>
                        <a:lnTo>
                          <a:pt x="0" y="16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23" y="0"/>
                        </a:lnTo>
                        <a:lnTo>
                          <a:pt x="23" y="16"/>
                        </a:lnTo>
                        <a:lnTo>
                          <a:pt x="0" y="16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23" y="0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3439080" y="2670120"/>
                    <a:ext cx="50040" cy="10800"/>
                  </a:xfrm>
                  <a:prstGeom prst="rect">
                    <a:avLst/>
                  </a:prstGeom>
                  <a:solidFill>
                    <a:srgbClr val="bbe0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3502440" y="2643480"/>
                    <a:ext cx="13680" cy="10800"/>
                  </a:xfrm>
                  <a:prstGeom prst="rect">
                    <a:avLst/>
                  </a:prstGeom>
                  <a:solidFill>
                    <a:srgbClr val="bbe0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3477240" y="2615400"/>
                    <a:ext cx="13320" cy="10800"/>
                  </a:xfrm>
                  <a:prstGeom prst="rect">
                    <a:avLst/>
                  </a:prstGeom>
                  <a:solidFill>
                    <a:srgbClr val="bbe0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3509280" y="2638080"/>
                    <a:ext cx="903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7">
                        <a:moveTo>
                          <a:pt x="0" y="0"/>
                        </a:move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15" y="16"/>
                        </a:lnTo>
                        <a:lnTo>
                          <a:pt x="23" y="16"/>
                        </a:lnTo>
                        <a:lnTo>
                          <a:pt x="30" y="16"/>
                        </a:lnTo>
                        <a:lnTo>
                          <a:pt x="38" y="16"/>
                        </a:lnTo>
                        <a:lnTo>
                          <a:pt x="45" y="16"/>
                        </a:lnTo>
                        <a:lnTo>
                          <a:pt x="53" y="16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3509280" y="2638080"/>
                    <a:ext cx="903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7">
                        <a:moveTo>
                          <a:pt x="0" y="0"/>
                        </a:move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15" y="16"/>
                        </a:lnTo>
                        <a:lnTo>
                          <a:pt x="23" y="16"/>
                        </a:lnTo>
                        <a:lnTo>
                          <a:pt x="30" y="16"/>
                        </a:lnTo>
                        <a:lnTo>
                          <a:pt x="38" y="16"/>
                        </a:lnTo>
                        <a:lnTo>
                          <a:pt x="45" y="16"/>
                        </a:lnTo>
                        <a:lnTo>
                          <a:pt x="53" y="16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 flipV="1">
                    <a:off x="3502440" y="2615400"/>
                    <a:ext cx="0" cy="7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3432240" y="2616480"/>
                    <a:ext cx="788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7">
                        <a:moveTo>
                          <a:pt x="38" y="0"/>
                        </a:moveTo>
                        <a:lnTo>
                          <a:pt x="46" y="0"/>
                        </a:lnTo>
                        <a:lnTo>
                          <a:pt x="38" y="0"/>
                        </a:lnTo>
                        <a:lnTo>
                          <a:pt x="46" y="0"/>
                        </a:lnTo>
                        <a:lnTo>
                          <a:pt x="38" y="0"/>
                        </a:lnTo>
                        <a:lnTo>
                          <a:pt x="31" y="0"/>
                        </a:lnTo>
                        <a:lnTo>
                          <a:pt x="23" y="0"/>
                        </a:lnTo>
                        <a:lnTo>
                          <a:pt x="15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16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3432240" y="2616480"/>
                    <a:ext cx="65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7">
                        <a:moveTo>
                          <a:pt x="38" y="0"/>
                        </a:moveTo>
                        <a:lnTo>
                          <a:pt x="30" y="0"/>
                        </a:lnTo>
                        <a:lnTo>
                          <a:pt x="23" y="0"/>
                        </a:lnTo>
                        <a:lnTo>
                          <a:pt x="15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16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3420360" y="2616480"/>
                    <a:ext cx="77040" cy="4356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31">
                        <a:moveTo>
                          <a:pt x="0" y="0"/>
                        </a:moveTo>
                        <a:lnTo>
                          <a:pt x="0" y="30"/>
                        </a:lnTo>
                        <a:lnTo>
                          <a:pt x="45" y="30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33" name=""/>
                  <p:cNvGrpSpPr/>
                  <p:nvPr/>
                </p:nvGrpSpPr>
                <p:grpSpPr>
                  <a:xfrm>
                    <a:off x="3349800" y="2664360"/>
                    <a:ext cx="63360" cy="15480"/>
                    <a:chOff x="3349800" y="2664360"/>
                    <a:chExt cx="63360" cy="15480"/>
                  </a:xfrm>
                </p:grpSpPr>
                <p:sp>
                  <p:nvSpPr>
                    <p:cNvPr id="834" name=""/>
                    <p:cNvSpPr/>
                    <p:nvPr/>
                  </p:nvSpPr>
                  <p:spPr>
                    <a:xfrm>
                      <a:off x="3349800" y="2664360"/>
                      <a:ext cx="63360" cy="154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5" name=""/>
                    <p:cNvSpPr/>
                    <p:nvPr/>
                  </p:nvSpPr>
                  <p:spPr>
                    <a:xfrm>
                      <a:off x="3362760" y="2664360"/>
                      <a:ext cx="13320" cy="154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6" name=""/>
                    <p:cNvSpPr/>
                    <p:nvPr/>
                  </p:nvSpPr>
                  <p:spPr>
                    <a:xfrm>
                      <a:off x="3399840" y="2664360"/>
                      <a:ext cx="13320" cy="154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37" name=""/>
                  <p:cNvSpPr/>
                  <p:nvPr/>
                </p:nvSpPr>
                <p:spPr>
                  <a:xfrm>
                    <a:off x="3457080" y="2679840"/>
                    <a:ext cx="40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7">
                        <a:moveTo>
                          <a:pt x="0" y="0"/>
                        </a:move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15" y="16"/>
                        </a:lnTo>
                        <a:lnTo>
                          <a:pt x="23" y="16"/>
                        </a:lnTo>
                        <a:lnTo>
                          <a:pt x="23" y="0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3457080" y="2679840"/>
                    <a:ext cx="40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7">
                        <a:moveTo>
                          <a:pt x="0" y="0"/>
                        </a:move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15" y="16"/>
                        </a:lnTo>
                        <a:lnTo>
                          <a:pt x="23" y="16"/>
                        </a:lnTo>
                        <a:lnTo>
                          <a:pt x="23" y="0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3457080" y="2679840"/>
                    <a:ext cx="40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7">
                        <a:moveTo>
                          <a:pt x="0" y="0"/>
                        </a:move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15" y="16"/>
                        </a:lnTo>
                        <a:lnTo>
                          <a:pt x="23" y="16"/>
                        </a:lnTo>
                        <a:lnTo>
                          <a:pt x="23" y="0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aphicFrame>
            <p:nvGraphicFramePr>
              <p:cNvPr id="840" name=""/>
              <p:cNvGraphicFramePr/>
              <p:nvPr/>
            </p:nvGraphicFramePr>
            <p:xfrm>
              <a:off x="1587960" y="2533680"/>
              <a:ext cx="917640" cy="244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41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587960" y="2533680"/>
                        <a:ext cx="917640" cy="244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842" name=""/>
              <p:cNvGrpSpPr/>
              <p:nvPr/>
            </p:nvGrpSpPr>
            <p:grpSpPr>
              <a:xfrm>
                <a:off x="8074080" y="2520000"/>
                <a:ext cx="368280" cy="249480"/>
                <a:chOff x="8074080" y="2520000"/>
                <a:chExt cx="368280" cy="249480"/>
              </a:xfrm>
            </p:grpSpPr>
            <p:sp>
              <p:nvSpPr>
                <p:cNvPr id="843" name=""/>
                <p:cNvSpPr/>
                <p:nvPr/>
              </p:nvSpPr>
              <p:spPr>
                <a:xfrm>
                  <a:off x="8166240" y="2520000"/>
                  <a:ext cx="129600" cy="246600"/>
                </a:xfrm>
                <a:custGeom>
                  <a:avLst/>
                  <a:gdLst/>
                  <a:ahLst/>
                  <a:rect l="l" t="t" r="r" b="b"/>
                  <a:pathLst>
                    <a:path w="93" h="158">
                      <a:moveTo>
                        <a:pt x="13" y="30"/>
                      </a:moveTo>
                      <a:lnTo>
                        <a:pt x="1" y="44"/>
                      </a:lnTo>
                      <a:lnTo>
                        <a:pt x="0" y="47"/>
                      </a:lnTo>
                      <a:lnTo>
                        <a:pt x="1" y="53"/>
                      </a:lnTo>
                      <a:lnTo>
                        <a:pt x="9" y="66"/>
                      </a:lnTo>
                      <a:lnTo>
                        <a:pt x="17" y="68"/>
                      </a:lnTo>
                      <a:lnTo>
                        <a:pt x="20" y="68"/>
                      </a:lnTo>
                      <a:lnTo>
                        <a:pt x="21" y="62"/>
                      </a:lnTo>
                      <a:lnTo>
                        <a:pt x="17" y="63"/>
                      </a:lnTo>
                      <a:lnTo>
                        <a:pt x="15" y="60"/>
                      </a:lnTo>
                      <a:lnTo>
                        <a:pt x="12" y="50"/>
                      </a:lnTo>
                      <a:lnTo>
                        <a:pt x="20" y="42"/>
                      </a:lnTo>
                      <a:lnTo>
                        <a:pt x="22" y="59"/>
                      </a:lnTo>
                      <a:lnTo>
                        <a:pt x="23" y="61"/>
                      </a:lnTo>
                      <a:lnTo>
                        <a:pt x="21" y="62"/>
                      </a:lnTo>
                      <a:lnTo>
                        <a:pt x="20" y="68"/>
                      </a:lnTo>
                      <a:lnTo>
                        <a:pt x="22" y="67"/>
                      </a:lnTo>
                      <a:lnTo>
                        <a:pt x="22" y="79"/>
                      </a:lnTo>
                      <a:lnTo>
                        <a:pt x="25" y="116"/>
                      </a:lnTo>
                      <a:lnTo>
                        <a:pt x="25" y="152"/>
                      </a:lnTo>
                      <a:lnTo>
                        <a:pt x="27" y="152"/>
                      </a:lnTo>
                      <a:lnTo>
                        <a:pt x="26" y="155"/>
                      </a:lnTo>
                      <a:lnTo>
                        <a:pt x="26" y="157"/>
                      </a:lnTo>
                      <a:lnTo>
                        <a:pt x="35" y="157"/>
                      </a:lnTo>
                      <a:lnTo>
                        <a:pt x="38" y="153"/>
                      </a:lnTo>
                      <a:lnTo>
                        <a:pt x="39" y="152"/>
                      </a:lnTo>
                      <a:lnTo>
                        <a:pt x="41" y="152"/>
                      </a:lnTo>
                      <a:lnTo>
                        <a:pt x="45" y="141"/>
                      </a:lnTo>
                      <a:lnTo>
                        <a:pt x="44" y="121"/>
                      </a:lnTo>
                      <a:lnTo>
                        <a:pt x="45" y="85"/>
                      </a:lnTo>
                      <a:lnTo>
                        <a:pt x="49" y="124"/>
                      </a:lnTo>
                      <a:lnTo>
                        <a:pt x="47" y="143"/>
                      </a:lnTo>
                      <a:lnTo>
                        <a:pt x="51" y="152"/>
                      </a:lnTo>
                      <a:lnTo>
                        <a:pt x="52" y="152"/>
                      </a:lnTo>
                      <a:lnTo>
                        <a:pt x="52" y="156"/>
                      </a:lnTo>
                      <a:lnTo>
                        <a:pt x="53" y="157"/>
                      </a:lnTo>
                      <a:lnTo>
                        <a:pt x="63" y="157"/>
                      </a:lnTo>
                      <a:lnTo>
                        <a:pt x="64" y="156"/>
                      </a:lnTo>
                      <a:lnTo>
                        <a:pt x="64" y="155"/>
                      </a:lnTo>
                      <a:lnTo>
                        <a:pt x="63" y="153"/>
                      </a:lnTo>
                      <a:lnTo>
                        <a:pt x="65" y="152"/>
                      </a:lnTo>
                      <a:lnTo>
                        <a:pt x="69" y="86"/>
                      </a:lnTo>
                      <a:lnTo>
                        <a:pt x="69" y="67"/>
                      </a:lnTo>
                      <a:lnTo>
                        <a:pt x="71" y="68"/>
                      </a:lnTo>
                      <a:lnTo>
                        <a:pt x="71" y="62"/>
                      </a:lnTo>
                      <a:lnTo>
                        <a:pt x="68" y="62"/>
                      </a:lnTo>
                      <a:lnTo>
                        <a:pt x="69" y="59"/>
                      </a:lnTo>
                      <a:lnTo>
                        <a:pt x="69" y="42"/>
                      </a:lnTo>
                      <a:lnTo>
                        <a:pt x="75" y="45"/>
                      </a:lnTo>
                      <a:lnTo>
                        <a:pt x="78" y="48"/>
                      </a:lnTo>
                      <a:lnTo>
                        <a:pt x="76" y="60"/>
                      </a:lnTo>
                      <a:lnTo>
                        <a:pt x="73" y="63"/>
                      </a:lnTo>
                      <a:lnTo>
                        <a:pt x="71" y="62"/>
                      </a:lnTo>
                      <a:lnTo>
                        <a:pt x="71" y="68"/>
                      </a:lnTo>
                      <a:lnTo>
                        <a:pt x="73" y="68"/>
                      </a:lnTo>
                      <a:lnTo>
                        <a:pt x="75" y="68"/>
                      </a:lnTo>
                      <a:lnTo>
                        <a:pt x="84" y="64"/>
                      </a:lnTo>
                      <a:lnTo>
                        <a:pt x="89" y="51"/>
                      </a:lnTo>
                      <a:lnTo>
                        <a:pt x="92" y="46"/>
                      </a:lnTo>
                      <a:lnTo>
                        <a:pt x="90" y="44"/>
                      </a:lnTo>
                      <a:lnTo>
                        <a:pt x="78" y="32"/>
                      </a:lnTo>
                      <a:lnTo>
                        <a:pt x="71" y="28"/>
                      </a:lnTo>
                      <a:lnTo>
                        <a:pt x="52" y="23"/>
                      </a:lnTo>
                      <a:lnTo>
                        <a:pt x="52" y="17"/>
                      </a:lnTo>
                      <a:lnTo>
                        <a:pt x="54" y="17"/>
                      </a:lnTo>
                      <a:lnTo>
                        <a:pt x="56" y="11"/>
                      </a:lnTo>
                      <a:lnTo>
                        <a:pt x="55" y="6"/>
                      </a:lnTo>
                      <a:lnTo>
                        <a:pt x="51" y="1"/>
                      </a:lnTo>
                      <a:lnTo>
                        <a:pt x="50" y="1"/>
                      </a:lnTo>
                      <a:lnTo>
                        <a:pt x="49" y="0"/>
                      </a:lnTo>
                      <a:lnTo>
                        <a:pt x="40" y="0"/>
                      </a:lnTo>
                      <a:lnTo>
                        <a:pt x="35" y="2"/>
                      </a:lnTo>
                      <a:lnTo>
                        <a:pt x="31" y="7"/>
                      </a:lnTo>
                      <a:lnTo>
                        <a:pt x="31" y="13"/>
                      </a:lnTo>
                      <a:lnTo>
                        <a:pt x="31" y="14"/>
                      </a:lnTo>
                      <a:lnTo>
                        <a:pt x="32" y="17"/>
                      </a:lnTo>
                      <a:lnTo>
                        <a:pt x="35" y="17"/>
                      </a:lnTo>
                      <a:lnTo>
                        <a:pt x="37" y="23"/>
                      </a:lnTo>
                      <a:lnTo>
                        <a:pt x="17" y="28"/>
                      </a:lnTo>
                      <a:lnTo>
                        <a:pt x="13" y="30"/>
                      </a:lnTo>
                    </a:path>
                  </a:pathLst>
                </a:custGeom>
                <a:solidFill>
                  <a:srgbClr val="6699ff"/>
                </a:solidFill>
                <a:ln cap="rnd" w="12600">
                  <a:solidFill>
                    <a:srgbClr val="66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8272080" y="2522880"/>
                  <a:ext cx="105840" cy="243360"/>
                </a:xfrm>
                <a:custGeom>
                  <a:avLst/>
                  <a:gdLst/>
                  <a:ahLst/>
                  <a:rect l="l" t="t" r="r" b="b"/>
                  <a:pathLst>
                    <a:path w="76" h="156">
                      <a:moveTo>
                        <a:pt x="0" y="44"/>
                      </a:moveTo>
                      <a:lnTo>
                        <a:pt x="0" y="53"/>
                      </a:lnTo>
                      <a:lnTo>
                        <a:pt x="2" y="54"/>
                      </a:lnTo>
                      <a:lnTo>
                        <a:pt x="1" y="57"/>
                      </a:lnTo>
                      <a:lnTo>
                        <a:pt x="1" y="59"/>
                      </a:lnTo>
                      <a:lnTo>
                        <a:pt x="8" y="62"/>
                      </a:lnTo>
                      <a:lnTo>
                        <a:pt x="9" y="80"/>
                      </a:lnTo>
                      <a:lnTo>
                        <a:pt x="13" y="83"/>
                      </a:lnTo>
                      <a:lnTo>
                        <a:pt x="17" y="120"/>
                      </a:lnTo>
                      <a:lnTo>
                        <a:pt x="13" y="146"/>
                      </a:lnTo>
                      <a:lnTo>
                        <a:pt x="16" y="147"/>
                      </a:lnTo>
                      <a:lnTo>
                        <a:pt x="15" y="151"/>
                      </a:lnTo>
                      <a:lnTo>
                        <a:pt x="16" y="155"/>
                      </a:lnTo>
                      <a:lnTo>
                        <a:pt x="27" y="155"/>
                      </a:lnTo>
                      <a:lnTo>
                        <a:pt x="29" y="153"/>
                      </a:lnTo>
                      <a:lnTo>
                        <a:pt x="29" y="146"/>
                      </a:lnTo>
                      <a:lnTo>
                        <a:pt x="31" y="144"/>
                      </a:lnTo>
                      <a:lnTo>
                        <a:pt x="37" y="90"/>
                      </a:lnTo>
                      <a:lnTo>
                        <a:pt x="41" y="125"/>
                      </a:lnTo>
                      <a:lnTo>
                        <a:pt x="43" y="137"/>
                      </a:lnTo>
                      <a:lnTo>
                        <a:pt x="49" y="148"/>
                      </a:lnTo>
                      <a:lnTo>
                        <a:pt x="48" y="153"/>
                      </a:lnTo>
                      <a:lnTo>
                        <a:pt x="49" y="155"/>
                      </a:lnTo>
                      <a:lnTo>
                        <a:pt x="61" y="155"/>
                      </a:lnTo>
                      <a:lnTo>
                        <a:pt x="61" y="151"/>
                      </a:lnTo>
                      <a:lnTo>
                        <a:pt x="58" y="148"/>
                      </a:lnTo>
                      <a:lnTo>
                        <a:pt x="61" y="147"/>
                      </a:lnTo>
                      <a:lnTo>
                        <a:pt x="58" y="83"/>
                      </a:lnTo>
                      <a:lnTo>
                        <a:pt x="65" y="81"/>
                      </a:lnTo>
                      <a:lnTo>
                        <a:pt x="64" y="66"/>
                      </a:lnTo>
                      <a:lnTo>
                        <a:pt x="75" y="50"/>
                      </a:lnTo>
                      <a:lnTo>
                        <a:pt x="72" y="37"/>
                      </a:lnTo>
                      <a:lnTo>
                        <a:pt x="65" y="25"/>
                      </a:lnTo>
                      <a:lnTo>
                        <a:pt x="46" y="21"/>
                      </a:lnTo>
                      <a:lnTo>
                        <a:pt x="45" y="15"/>
                      </a:lnTo>
                      <a:lnTo>
                        <a:pt x="48" y="15"/>
                      </a:lnTo>
                      <a:lnTo>
                        <a:pt x="50" y="7"/>
                      </a:lnTo>
                      <a:lnTo>
                        <a:pt x="45" y="1"/>
                      </a:lnTo>
                      <a:lnTo>
                        <a:pt x="35" y="0"/>
                      </a:lnTo>
                      <a:lnTo>
                        <a:pt x="27" y="1"/>
                      </a:lnTo>
                      <a:lnTo>
                        <a:pt x="23" y="7"/>
                      </a:lnTo>
                      <a:lnTo>
                        <a:pt x="26" y="15"/>
                      </a:lnTo>
                      <a:lnTo>
                        <a:pt x="27" y="15"/>
                      </a:lnTo>
                      <a:lnTo>
                        <a:pt x="27" y="18"/>
                      </a:lnTo>
                      <a:lnTo>
                        <a:pt x="25" y="21"/>
                      </a:lnTo>
                      <a:lnTo>
                        <a:pt x="5" y="25"/>
                      </a:lnTo>
                      <a:lnTo>
                        <a:pt x="2" y="31"/>
                      </a:lnTo>
                      <a:lnTo>
                        <a:pt x="0" y="44"/>
                      </a:lnTo>
                    </a:path>
                  </a:pathLst>
                </a:custGeom>
                <a:solidFill>
                  <a:srgbClr val="6699ff"/>
                </a:solidFill>
                <a:ln cap="rnd" w="12600">
                  <a:solidFill>
                    <a:srgbClr val="66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8074080" y="2529000"/>
                  <a:ext cx="119880" cy="237240"/>
                </a:xfrm>
                <a:custGeom>
                  <a:avLst/>
                  <a:gdLst/>
                  <a:ahLst/>
                  <a:rect l="l" t="t" r="r" b="b"/>
                  <a:pathLst>
                    <a:path w="86" h="152">
                      <a:moveTo>
                        <a:pt x="81" y="24"/>
                      </a:moveTo>
                      <a:lnTo>
                        <a:pt x="78" y="23"/>
                      </a:lnTo>
                      <a:lnTo>
                        <a:pt x="62" y="21"/>
                      </a:lnTo>
                      <a:lnTo>
                        <a:pt x="62" y="18"/>
                      </a:lnTo>
                      <a:lnTo>
                        <a:pt x="65" y="14"/>
                      </a:lnTo>
                      <a:lnTo>
                        <a:pt x="65" y="10"/>
                      </a:lnTo>
                      <a:lnTo>
                        <a:pt x="63" y="6"/>
                      </a:lnTo>
                      <a:lnTo>
                        <a:pt x="65" y="4"/>
                      </a:lnTo>
                      <a:lnTo>
                        <a:pt x="57" y="0"/>
                      </a:lnTo>
                      <a:lnTo>
                        <a:pt x="52" y="0"/>
                      </a:lnTo>
                      <a:lnTo>
                        <a:pt x="50" y="1"/>
                      </a:lnTo>
                      <a:lnTo>
                        <a:pt x="48" y="0"/>
                      </a:lnTo>
                      <a:lnTo>
                        <a:pt x="40" y="5"/>
                      </a:lnTo>
                      <a:lnTo>
                        <a:pt x="37" y="19"/>
                      </a:lnTo>
                      <a:lnTo>
                        <a:pt x="39" y="22"/>
                      </a:lnTo>
                      <a:lnTo>
                        <a:pt x="27" y="26"/>
                      </a:lnTo>
                      <a:lnTo>
                        <a:pt x="2" y="44"/>
                      </a:lnTo>
                      <a:lnTo>
                        <a:pt x="0" y="48"/>
                      </a:lnTo>
                      <a:lnTo>
                        <a:pt x="23" y="61"/>
                      </a:lnTo>
                      <a:lnTo>
                        <a:pt x="23" y="69"/>
                      </a:lnTo>
                      <a:lnTo>
                        <a:pt x="24" y="72"/>
                      </a:lnTo>
                      <a:lnTo>
                        <a:pt x="17" y="113"/>
                      </a:lnTo>
                      <a:lnTo>
                        <a:pt x="35" y="115"/>
                      </a:lnTo>
                      <a:lnTo>
                        <a:pt x="36" y="121"/>
                      </a:lnTo>
                      <a:lnTo>
                        <a:pt x="42" y="136"/>
                      </a:lnTo>
                      <a:lnTo>
                        <a:pt x="43" y="147"/>
                      </a:lnTo>
                      <a:lnTo>
                        <a:pt x="47" y="151"/>
                      </a:lnTo>
                      <a:lnTo>
                        <a:pt x="53" y="151"/>
                      </a:lnTo>
                      <a:lnTo>
                        <a:pt x="54" y="149"/>
                      </a:lnTo>
                      <a:lnTo>
                        <a:pt x="51" y="138"/>
                      </a:lnTo>
                      <a:lnTo>
                        <a:pt x="51" y="136"/>
                      </a:lnTo>
                      <a:lnTo>
                        <a:pt x="50" y="133"/>
                      </a:lnTo>
                      <a:lnTo>
                        <a:pt x="48" y="124"/>
                      </a:lnTo>
                      <a:lnTo>
                        <a:pt x="47" y="116"/>
                      </a:lnTo>
                      <a:lnTo>
                        <a:pt x="52" y="116"/>
                      </a:lnTo>
                      <a:lnTo>
                        <a:pt x="51" y="119"/>
                      </a:lnTo>
                      <a:lnTo>
                        <a:pt x="54" y="131"/>
                      </a:lnTo>
                      <a:lnTo>
                        <a:pt x="51" y="133"/>
                      </a:lnTo>
                      <a:lnTo>
                        <a:pt x="51" y="136"/>
                      </a:lnTo>
                      <a:lnTo>
                        <a:pt x="55" y="140"/>
                      </a:lnTo>
                      <a:lnTo>
                        <a:pt x="57" y="145"/>
                      </a:lnTo>
                      <a:lnTo>
                        <a:pt x="67" y="149"/>
                      </a:lnTo>
                      <a:lnTo>
                        <a:pt x="72" y="148"/>
                      </a:lnTo>
                      <a:lnTo>
                        <a:pt x="68" y="143"/>
                      </a:lnTo>
                      <a:lnTo>
                        <a:pt x="62" y="135"/>
                      </a:lnTo>
                      <a:lnTo>
                        <a:pt x="61" y="132"/>
                      </a:lnTo>
                      <a:lnTo>
                        <a:pt x="65" y="116"/>
                      </a:lnTo>
                      <a:lnTo>
                        <a:pt x="63" y="109"/>
                      </a:lnTo>
                      <a:lnTo>
                        <a:pt x="69" y="71"/>
                      </a:lnTo>
                      <a:lnTo>
                        <a:pt x="74" y="71"/>
                      </a:lnTo>
                      <a:lnTo>
                        <a:pt x="74" y="72"/>
                      </a:lnTo>
                      <a:lnTo>
                        <a:pt x="75" y="72"/>
                      </a:lnTo>
                      <a:lnTo>
                        <a:pt x="74" y="75"/>
                      </a:lnTo>
                      <a:lnTo>
                        <a:pt x="74" y="83"/>
                      </a:lnTo>
                      <a:lnTo>
                        <a:pt x="80" y="80"/>
                      </a:lnTo>
                      <a:lnTo>
                        <a:pt x="81" y="80"/>
                      </a:lnTo>
                      <a:lnTo>
                        <a:pt x="85" y="78"/>
                      </a:lnTo>
                      <a:lnTo>
                        <a:pt x="82" y="74"/>
                      </a:lnTo>
                      <a:lnTo>
                        <a:pt x="83" y="74"/>
                      </a:lnTo>
                      <a:lnTo>
                        <a:pt x="83" y="63"/>
                      </a:lnTo>
                      <a:lnTo>
                        <a:pt x="83" y="57"/>
                      </a:lnTo>
                      <a:lnTo>
                        <a:pt x="83" y="42"/>
                      </a:lnTo>
                      <a:lnTo>
                        <a:pt x="82" y="27"/>
                      </a:lnTo>
                      <a:lnTo>
                        <a:pt x="81" y="24"/>
                      </a:lnTo>
                    </a:path>
                  </a:pathLst>
                </a:custGeom>
                <a:solidFill>
                  <a:srgbClr val="6699ff"/>
                </a:solidFill>
                <a:ln cap="rnd" w="12600">
                  <a:solidFill>
                    <a:srgbClr val="66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8367120" y="2533680"/>
                  <a:ext cx="75240" cy="235800"/>
                </a:xfrm>
                <a:custGeom>
                  <a:avLst/>
                  <a:gdLst/>
                  <a:ahLst/>
                  <a:rect l="l" t="t" r="r" b="b"/>
                  <a:pathLst>
                    <a:path w="54" h="151">
                      <a:moveTo>
                        <a:pt x="3" y="56"/>
                      </a:moveTo>
                      <a:lnTo>
                        <a:pt x="1" y="60"/>
                      </a:lnTo>
                      <a:lnTo>
                        <a:pt x="0" y="68"/>
                      </a:lnTo>
                      <a:lnTo>
                        <a:pt x="3" y="105"/>
                      </a:lnTo>
                      <a:lnTo>
                        <a:pt x="9" y="105"/>
                      </a:lnTo>
                      <a:lnTo>
                        <a:pt x="11" y="118"/>
                      </a:lnTo>
                      <a:lnTo>
                        <a:pt x="21" y="139"/>
                      </a:lnTo>
                      <a:lnTo>
                        <a:pt x="17" y="144"/>
                      </a:lnTo>
                      <a:lnTo>
                        <a:pt x="10" y="147"/>
                      </a:lnTo>
                      <a:lnTo>
                        <a:pt x="11" y="148"/>
                      </a:lnTo>
                      <a:lnTo>
                        <a:pt x="22" y="148"/>
                      </a:lnTo>
                      <a:lnTo>
                        <a:pt x="28" y="145"/>
                      </a:lnTo>
                      <a:lnTo>
                        <a:pt x="29" y="147"/>
                      </a:lnTo>
                      <a:lnTo>
                        <a:pt x="32" y="147"/>
                      </a:lnTo>
                      <a:lnTo>
                        <a:pt x="34" y="145"/>
                      </a:lnTo>
                      <a:lnTo>
                        <a:pt x="31" y="141"/>
                      </a:lnTo>
                      <a:lnTo>
                        <a:pt x="29" y="138"/>
                      </a:lnTo>
                      <a:lnTo>
                        <a:pt x="27" y="127"/>
                      </a:lnTo>
                      <a:lnTo>
                        <a:pt x="31" y="137"/>
                      </a:lnTo>
                      <a:lnTo>
                        <a:pt x="31" y="141"/>
                      </a:lnTo>
                      <a:lnTo>
                        <a:pt x="34" y="145"/>
                      </a:lnTo>
                      <a:lnTo>
                        <a:pt x="40" y="150"/>
                      </a:lnTo>
                      <a:lnTo>
                        <a:pt x="43" y="150"/>
                      </a:lnTo>
                      <a:lnTo>
                        <a:pt x="45" y="148"/>
                      </a:lnTo>
                      <a:lnTo>
                        <a:pt x="38" y="137"/>
                      </a:lnTo>
                      <a:lnTo>
                        <a:pt x="37" y="128"/>
                      </a:lnTo>
                      <a:lnTo>
                        <a:pt x="32" y="113"/>
                      </a:lnTo>
                      <a:lnTo>
                        <a:pt x="28" y="106"/>
                      </a:lnTo>
                      <a:lnTo>
                        <a:pt x="34" y="106"/>
                      </a:lnTo>
                      <a:lnTo>
                        <a:pt x="40" y="78"/>
                      </a:lnTo>
                      <a:lnTo>
                        <a:pt x="41" y="65"/>
                      </a:lnTo>
                      <a:lnTo>
                        <a:pt x="35" y="55"/>
                      </a:lnTo>
                      <a:lnTo>
                        <a:pt x="38" y="49"/>
                      </a:lnTo>
                      <a:lnTo>
                        <a:pt x="37" y="48"/>
                      </a:lnTo>
                      <a:lnTo>
                        <a:pt x="40" y="42"/>
                      </a:lnTo>
                      <a:lnTo>
                        <a:pt x="41" y="49"/>
                      </a:lnTo>
                      <a:lnTo>
                        <a:pt x="38" y="49"/>
                      </a:lnTo>
                      <a:lnTo>
                        <a:pt x="35" y="55"/>
                      </a:lnTo>
                      <a:lnTo>
                        <a:pt x="49" y="56"/>
                      </a:lnTo>
                      <a:lnTo>
                        <a:pt x="53" y="53"/>
                      </a:lnTo>
                      <a:lnTo>
                        <a:pt x="45" y="26"/>
                      </a:lnTo>
                      <a:lnTo>
                        <a:pt x="27" y="19"/>
                      </a:lnTo>
                      <a:lnTo>
                        <a:pt x="25" y="16"/>
                      </a:lnTo>
                      <a:lnTo>
                        <a:pt x="30" y="7"/>
                      </a:lnTo>
                      <a:lnTo>
                        <a:pt x="30" y="6"/>
                      </a:lnTo>
                      <a:lnTo>
                        <a:pt x="20" y="0"/>
                      </a:lnTo>
                      <a:lnTo>
                        <a:pt x="8" y="0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6" y="10"/>
                      </a:lnTo>
                      <a:lnTo>
                        <a:pt x="6" y="13"/>
                      </a:lnTo>
                      <a:lnTo>
                        <a:pt x="9" y="19"/>
                      </a:lnTo>
                      <a:lnTo>
                        <a:pt x="11" y="19"/>
                      </a:lnTo>
                      <a:lnTo>
                        <a:pt x="11" y="21"/>
                      </a:lnTo>
                      <a:lnTo>
                        <a:pt x="8" y="22"/>
                      </a:lnTo>
                      <a:lnTo>
                        <a:pt x="6" y="24"/>
                      </a:lnTo>
                      <a:lnTo>
                        <a:pt x="5" y="24"/>
                      </a:lnTo>
                      <a:lnTo>
                        <a:pt x="3" y="30"/>
                      </a:lnTo>
                      <a:lnTo>
                        <a:pt x="2" y="33"/>
                      </a:lnTo>
                      <a:lnTo>
                        <a:pt x="0" y="38"/>
                      </a:lnTo>
                      <a:lnTo>
                        <a:pt x="1" y="41"/>
                      </a:lnTo>
                      <a:lnTo>
                        <a:pt x="5" y="44"/>
                      </a:lnTo>
                      <a:lnTo>
                        <a:pt x="6" y="48"/>
                      </a:lnTo>
                      <a:lnTo>
                        <a:pt x="3" y="56"/>
                      </a:lnTo>
                    </a:path>
                  </a:pathLst>
                </a:custGeom>
                <a:solidFill>
                  <a:srgbClr val="6699ff"/>
                </a:solidFill>
                <a:ln cap="rnd" w="12600">
                  <a:solidFill>
                    <a:srgbClr val="66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5663520" y="2533680"/>
                <a:ext cx="703440" cy="230400"/>
                <a:chOff x="5663520" y="2533680"/>
                <a:chExt cx="703440" cy="23040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5663520" y="2533680"/>
                  <a:ext cx="703440" cy="230400"/>
                </a:xfrm>
                <a:prstGeom prst="rightArrow">
                  <a:avLst>
                    <a:gd name="adj1" fmla="val 75009"/>
                    <a:gd name="adj2" fmla="val 64822"/>
                  </a:avLst>
                </a:prstGeom>
                <a:solidFill>
                  <a:srgbClr val="dddddd"/>
                </a:solidFill>
                <a:ln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5678640" y="2678040"/>
                  <a:ext cx="344880" cy="10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5690160" y="2596680"/>
                  <a:ext cx="367200" cy="75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5693400" y="2600640"/>
                  <a:ext cx="358560" cy="67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7099fc"/>
                    </a:gs>
                    <a:gs pos="50000">
                      <a:srgbClr val="618ffd"/>
                    </a:gs>
                    <a:gs pos="100000">
                      <a:srgbClr val="7099fc"/>
                    </a:gs>
                  </a:gsLst>
                  <a:lin ang="5400000"/>
                </a:gra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5690160" y="2691000"/>
                  <a:ext cx="0" cy="9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5963040" y="2678040"/>
                  <a:ext cx="13320" cy="10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5954760" y="2699280"/>
                  <a:ext cx="13320" cy="10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55" name=""/>
                <p:cNvGrpSpPr/>
                <p:nvPr/>
              </p:nvGrpSpPr>
              <p:grpSpPr>
                <a:xfrm>
                  <a:off x="5697000" y="2678040"/>
                  <a:ext cx="95040" cy="31680"/>
                  <a:chOff x="5697000" y="2678040"/>
                  <a:chExt cx="95040" cy="31680"/>
                </a:xfrm>
              </p:grpSpPr>
              <p:grpSp>
                <p:nvGrpSpPr>
                  <p:cNvPr id="856" name=""/>
                  <p:cNvGrpSpPr/>
                  <p:nvPr/>
                </p:nvGrpSpPr>
                <p:grpSpPr>
                  <a:xfrm>
                    <a:off x="5750640" y="2678040"/>
                    <a:ext cx="41400" cy="31680"/>
                    <a:chOff x="5750640" y="2678040"/>
                    <a:chExt cx="41400" cy="31680"/>
                  </a:xfrm>
                </p:grpSpPr>
                <p:sp>
                  <p:nvSpPr>
                    <p:cNvPr id="857" name=""/>
                    <p:cNvSpPr/>
                    <p:nvPr/>
                  </p:nvSpPr>
                  <p:spPr>
                    <a:xfrm>
                      <a:off x="5750640" y="2678040"/>
                      <a:ext cx="24840" cy="23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8" name=""/>
                    <p:cNvSpPr/>
                    <p:nvPr/>
                  </p:nvSpPr>
                  <p:spPr>
                    <a:xfrm>
                      <a:off x="5750640" y="2678040"/>
                      <a:ext cx="24840" cy="165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9" name=""/>
                    <p:cNvSpPr/>
                    <p:nvPr/>
                  </p:nvSpPr>
                  <p:spPr>
                    <a:xfrm>
                      <a:off x="5750640" y="2684880"/>
                      <a:ext cx="1512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0" name=""/>
                    <p:cNvSpPr/>
                    <p:nvPr/>
                  </p:nvSpPr>
                  <p:spPr>
                    <a:xfrm>
                      <a:off x="5760720" y="2693520"/>
                      <a:ext cx="12960" cy="10800"/>
                    </a:xfrm>
                    <a:prstGeom prst="ellipse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1" name=""/>
                    <p:cNvSpPr/>
                    <p:nvPr/>
                  </p:nvSpPr>
                  <p:spPr>
                    <a:xfrm>
                      <a:off x="5760720" y="268488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2" name=""/>
                    <p:cNvSpPr/>
                    <p:nvPr/>
                  </p:nvSpPr>
                  <p:spPr>
                    <a:xfrm>
                      <a:off x="5750640" y="2698920"/>
                      <a:ext cx="1332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3" name=""/>
                    <p:cNvSpPr/>
                    <p:nvPr/>
                  </p:nvSpPr>
                  <p:spPr>
                    <a:xfrm>
                      <a:off x="5750640" y="2698920"/>
                      <a:ext cx="1332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4" name=""/>
                    <p:cNvSpPr/>
                    <p:nvPr/>
                  </p:nvSpPr>
                  <p:spPr>
                    <a:xfrm>
                      <a:off x="5760720" y="269892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5" name=""/>
                    <p:cNvSpPr/>
                    <p:nvPr/>
                  </p:nvSpPr>
                  <p:spPr>
                    <a:xfrm>
                      <a:off x="5770440" y="269892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6" name=""/>
                    <p:cNvSpPr/>
                    <p:nvPr/>
                  </p:nvSpPr>
                  <p:spPr>
                    <a:xfrm>
                      <a:off x="5779080" y="269892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7" name=""/>
                    <p:cNvSpPr/>
                    <p:nvPr/>
                  </p:nvSpPr>
                  <p:spPr>
                    <a:xfrm>
                      <a:off x="5779080" y="269352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8" name=""/>
                    <p:cNvSpPr/>
                    <p:nvPr/>
                  </p:nvSpPr>
                  <p:spPr>
                    <a:xfrm>
                      <a:off x="5760720" y="268488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9" name=""/>
                    <p:cNvSpPr/>
                    <p:nvPr/>
                  </p:nvSpPr>
                  <p:spPr>
                    <a:xfrm>
                      <a:off x="5760720" y="2698920"/>
                      <a:ext cx="12960" cy="10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70" name=""/>
                  <p:cNvGrpSpPr/>
                  <p:nvPr/>
                </p:nvGrpSpPr>
                <p:grpSpPr>
                  <a:xfrm>
                    <a:off x="5697000" y="2678040"/>
                    <a:ext cx="41400" cy="31680"/>
                    <a:chOff x="5697000" y="2678040"/>
                    <a:chExt cx="41400" cy="31680"/>
                  </a:xfrm>
                </p:grpSpPr>
                <p:sp>
                  <p:nvSpPr>
                    <p:cNvPr id="871" name=""/>
                    <p:cNvSpPr/>
                    <p:nvPr/>
                  </p:nvSpPr>
                  <p:spPr>
                    <a:xfrm>
                      <a:off x="5697000" y="2678040"/>
                      <a:ext cx="31680" cy="23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2" name=""/>
                    <p:cNvSpPr/>
                    <p:nvPr/>
                  </p:nvSpPr>
                  <p:spPr>
                    <a:xfrm>
                      <a:off x="5697000" y="2678040"/>
                      <a:ext cx="31680" cy="165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3" name=""/>
                    <p:cNvSpPr/>
                    <p:nvPr/>
                  </p:nvSpPr>
                  <p:spPr>
                    <a:xfrm>
                      <a:off x="5705280" y="2684880"/>
                      <a:ext cx="1512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4" name=""/>
                    <p:cNvSpPr/>
                    <p:nvPr/>
                  </p:nvSpPr>
                  <p:spPr>
                    <a:xfrm>
                      <a:off x="5715360" y="2693520"/>
                      <a:ext cx="12960" cy="10800"/>
                    </a:xfrm>
                    <a:prstGeom prst="ellipse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5" name=""/>
                    <p:cNvSpPr/>
                    <p:nvPr/>
                  </p:nvSpPr>
                  <p:spPr>
                    <a:xfrm>
                      <a:off x="5705280" y="268488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6" name=""/>
                    <p:cNvSpPr/>
                    <p:nvPr/>
                  </p:nvSpPr>
                  <p:spPr>
                    <a:xfrm>
                      <a:off x="5705280" y="269892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7" name=""/>
                    <p:cNvSpPr/>
                    <p:nvPr/>
                  </p:nvSpPr>
                  <p:spPr>
                    <a:xfrm>
                      <a:off x="5705280" y="269892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8" name=""/>
                    <p:cNvSpPr/>
                    <p:nvPr/>
                  </p:nvSpPr>
                  <p:spPr>
                    <a:xfrm>
                      <a:off x="5715360" y="269892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9" name=""/>
                    <p:cNvSpPr/>
                    <p:nvPr/>
                  </p:nvSpPr>
                  <p:spPr>
                    <a:xfrm>
                      <a:off x="5725440" y="269892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0" name=""/>
                    <p:cNvSpPr/>
                    <p:nvPr/>
                  </p:nvSpPr>
                  <p:spPr>
                    <a:xfrm>
                      <a:off x="5725440" y="269892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1" name=""/>
                    <p:cNvSpPr/>
                    <p:nvPr/>
                  </p:nvSpPr>
                  <p:spPr>
                    <a:xfrm>
                      <a:off x="5725440" y="269352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2" name=""/>
                    <p:cNvSpPr/>
                    <p:nvPr/>
                  </p:nvSpPr>
                  <p:spPr>
                    <a:xfrm>
                      <a:off x="5725440" y="268488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3" name=""/>
                    <p:cNvSpPr/>
                    <p:nvPr/>
                  </p:nvSpPr>
                  <p:spPr>
                    <a:xfrm>
                      <a:off x="5725440" y="2698920"/>
                      <a:ext cx="12960" cy="10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4" name=""/>
                <p:cNvGrpSpPr/>
                <p:nvPr/>
              </p:nvGrpSpPr>
              <p:grpSpPr>
                <a:xfrm>
                  <a:off x="5973120" y="2596680"/>
                  <a:ext cx="314640" cy="114840"/>
                  <a:chOff x="5973120" y="2596680"/>
                  <a:chExt cx="314640" cy="114840"/>
                </a:xfrm>
              </p:grpSpPr>
              <p:sp>
                <p:nvSpPr>
                  <p:cNvPr id="885" name=""/>
                  <p:cNvSpPr/>
                  <p:nvPr/>
                </p:nvSpPr>
                <p:spPr>
                  <a:xfrm>
                    <a:off x="6139800" y="2624400"/>
                    <a:ext cx="13968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40">
                        <a:moveTo>
                          <a:pt x="76" y="33"/>
                        </a:moveTo>
                        <a:lnTo>
                          <a:pt x="82" y="24"/>
                        </a:lnTo>
                        <a:lnTo>
                          <a:pt x="76" y="19"/>
                        </a:lnTo>
                        <a:lnTo>
                          <a:pt x="60" y="19"/>
                        </a:lnTo>
                        <a:lnTo>
                          <a:pt x="33" y="19"/>
                        </a:lnTo>
                        <a:lnTo>
                          <a:pt x="33" y="14"/>
                        </a:lnTo>
                        <a:lnTo>
                          <a:pt x="33" y="0"/>
                        </a:lnTo>
                        <a:lnTo>
                          <a:pt x="27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0" y="39"/>
                        </a:lnTo>
                        <a:lnTo>
                          <a:pt x="82" y="39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6193440" y="2672280"/>
                    <a:ext cx="50040" cy="15480"/>
                  </a:xfrm>
                  <a:prstGeom prst="rect">
                    <a:avLst/>
                  </a:prstGeom>
                  <a:solidFill>
                    <a:srgbClr val="bbe0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6266160" y="2684880"/>
                    <a:ext cx="13320" cy="10800"/>
                  </a:xfrm>
                  <a:prstGeom prst="rect">
                    <a:avLst/>
                  </a:prstGeom>
                  <a:solidFill>
                    <a:srgbClr val="bbe0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5991480" y="2684880"/>
                    <a:ext cx="95760" cy="10800"/>
                  </a:xfrm>
                  <a:prstGeom prst="rect">
                    <a:avLst/>
                  </a:prstGeom>
                  <a:solidFill>
                    <a:srgbClr val="bbe0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6100920" y="2623320"/>
                    <a:ext cx="23400" cy="64440"/>
                  </a:xfrm>
                  <a:prstGeom prst="rect">
                    <a:avLst/>
                  </a:prstGeom>
                  <a:solidFill>
                    <a:srgbClr val="bbe0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640" bIns="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6104160" y="2596680"/>
                    <a:ext cx="1800" cy="7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55">
                        <a:moveTo>
                          <a:pt x="0" y="54"/>
                        </a:move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0" y="54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6104160" y="2596680"/>
                    <a:ext cx="1800" cy="7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55">
                        <a:moveTo>
                          <a:pt x="0" y="54"/>
                        </a:move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0" y="54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0" y="54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92" name=""/>
                  <p:cNvGrpSpPr/>
                  <p:nvPr/>
                </p:nvGrpSpPr>
                <p:grpSpPr>
                  <a:xfrm>
                    <a:off x="6210360" y="2672280"/>
                    <a:ext cx="41400" cy="37440"/>
                    <a:chOff x="6210360" y="2672280"/>
                    <a:chExt cx="41400" cy="37440"/>
                  </a:xfrm>
                </p:grpSpPr>
                <p:sp>
                  <p:nvSpPr>
                    <p:cNvPr id="893" name=""/>
                    <p:cNvSpPr/>
                    <p:nvPr/>
                  </p:nvSpPr>
                  <p:spPr>
                    <a:xfrm>
                      <a:off x="6210360" y="2672280"/>
                      <a:ext cx="33120" cy="2952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920" bIns="-25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4" name=""/>
                    <p:cNvSpPr/>
                    <p:nvPr/>
                  </p:nvSpPr>
                  <p:spPr>
                    <a:xfrm>
                      <a:off x="6210360" y="2677680"/>
                      <a:ext cx="24840" cy="1656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" name=""/>
                    <p:cNvSpPr/>
                    <p:nvPr/>
                  </p:nvSpPr>
                  <p:spPr>
                    <a:xfrm>
                      <a:off x="6220440" y="2684880"/>
                      <a:ext cx="14760" cy="1080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6" name=""/>
                    <p:cNvSpPr/>
                    <p:nvPr/>
                  </p:nvSpPr>
                  <p:spPr>
                    <a:xfrm>
                      <a:off x="6230160" y="2693520"/>
                      <a:ext cx="12960" cy="1080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7" name=""/>
                    <p:cNvSpPr/>
                    <p:nvPr/>
                  </p:nvSpPr>
                  <p:spPr>
                    <a:xfrm>
                      <a:off x="6230160" y="2684880"/>
                      <a:ext cx="12960" cy="1080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8" name=""/>
                    <p:cNvSpPr/>
                    <p:nvPr/>
                  </p:nvSpPr>
                  <p:spPr>
                    <a:xfrm>
                      <a:off x="6220440" y="2698920"/>
                      <a:ext cx="12960" cy="1080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9" name=""/>
                    <p:cNvSpPr/>
                    <p:nvPr/>
                  </p:nvSpPr>
                  <p:spPr>
                    <a:xfrm>
                      <a:off x="6230160" y="2698920"/>
                      <a:ext cx="12960" cy="1080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0" name=""/>
                    <p:cNvSpPr/>
                    <p:nvPr/>
                  </p:nvSpPr>
                  <p:spPr>
                    <a:xfrm>
                      <a:off x="6230160" y="2698920"/>
                      <a:ext cx="12960" cy="1080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1" name=""/>
                    <p:cNvSpPr/>
                    <p:nvPr/>
                  </p:nvSpPr>
                  <p:spPr>
                    <a:xfrm>
                      <a:off x="6238800" y="2698920"/>
                      <a:ext cx="12960" cy="1080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2" name=""/>
                    <p:cNvSpPr/>
                    <p:nvPr/>
                  </p:nvSpPr>
                  <p:spPr>
                    <a:xfrm>
                      <a:off x="6238800" y="2698920"/>
                      <a:ext cx="12960" cy="1080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3" name=""/>
                    <p:cNvSpPr/>
                    <p:nvPr/>
                  </p:nvSpPr>
                  <p:spPr>
                    <a:xfrm>
                      <a:off x="6238800" y="2684880"/>
                      <a:ext cx="12960" cy="1080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4" name=""/>
                    <p:cNvSpPr/>
                    <p:nvPr/>
                  </p:nvSpPr>
                  <p:spPr>
                    <a:xfrm>
                      <a:off x="6230160" y="2684880"/>
                      <a:ext cx="12960" cy="1080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5" name=""/>
                    <p:cNvSpPr/>
                    <p:nvPr/>
                  </p:nvSpPr>
                  <p:spPr>
                    <a:xfrm>
                      <a:off x="6230160" y="2698920"/>
                      <a:ext cx="12960" cy="1080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06" name=""/>
                  <p:cNvGrpSpPr/>
                  <p:nvPr/>
                </p:nvGrpSpPr>
                <p:grpSpPr>
                  <a:xfrm>
                    <a:off x="5973120" y="2678040"/>
                    <a:ext cx="103680" cy="31680"/>
                    <a:chOff x="5973120" y="2678040"/>
                    <a:chExt cx="103680" cy="31680"/>
                  </a:xfrm>
                </p:grpSpPr>
                <p:grpSp>
                  <p:nvGrpSpPr>
                    <p:cNvPr id="907" name=""/>
                    <p:cNvGrpSpPr/>
                    <p:nvPr/>
                  </p:nvGrpSpPr>
                  <p:grpSpPr>
                    <a:xfrm>
                      <a:off x="6018120" y="2678040"/>
                      <a:ext cx="58680" cy="31680"/>
                      <a:chOff x="6018120" y="2678040"/>
                      <a:chExt cx="58680" cy="31680"/>
                    </a:xfrm>
                  </p:grpSpPr>
                  <p:sp>
                    <p:nvSpPr>
                      <p:cNvPr id="908" name=""/>
                      <p:cNvSpPr/>
                      <p:nvPr/>
                    </p:nvSpPr>
                    <p:spPr>
                      <a:xfrm>
                        <a:off x="6018120" y="2678040"/>
                        <a:ext cx="50400" cy="2376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520" bIns="-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9" name=""/>
                      <p:cNvSpPr/>
                      <p:nvPr/>
                    </p:nvSpPr>
                    <p:spPr>
                      <a:xfrm>
                        <a:off x="6036480" y="2678040"/>
                        <a:ext cx="21600" cy="1656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4560" bIns="-34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0" name=""/>
                      <p:cNvSpPr/>
                      <p:nvPr/>
                    </p:nvSpPr>
                    <p:spPr>
                      <a:xfrm>
                        <a:off x="6036480" y="2684880"/>
                        <a:ext cx="1332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1" name=""/>
                      <p:cNvSpPr/>
                      <p:nvPr/>
                    </p:nvSpPr>
                    <p:spPr>
                      <a:xfrm>
                        <a:off x="6046560" y="2693520"/>
                        <a:ext cx="1368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2" name=""/>
                      <p:cNvSpPr/>
                      <p:nvPr/>
                    </p:nvSpPr>
                    <p:spPr>
                      <a:xfrm>
                        <a:off x="6046560" y="2684880"/>
                        <a:ext cx="1368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3" name=""/>
                      <p:cNvSpPr/>
                      <p:nvPr/>
                    </p:nvSpPr>
                    <p:spPr>
                      <a:xfrm>
                        <a:off x="6036480" y="2698920"/>
                        <a:ext cx="1332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4" name=""/>
                      <p:cNvSpPr/>
                      <p:nvPr/>
                    </p:nvSpPr>
                    <p:spPr>
                      <a:xfrm>
                        <a:off x="6046560" y="2698920"/>
                        <a:ext cx="1368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5" name=""/>
                      <p:cNvSpPr/>
                      <p:nvPr/>
                    </p:nvSpPr>
                    <p:spPr>
                      <a:xfrm>
                        <a:off x="6046560" y="2698920"/>
                        <a:ext cx="1368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6" name=""/>
                      <p:cNvSpPr/>
                      <p:nvPr/>
                    </p:nvSpPr>
                    <p:spPr>
                      <a:xfrm>
                        <a:off x="6054840" y="2698920"/>
                        <a:ext cx="1368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7" name=""/>
                      <p:cNvSpPr/>
                      <p:nvPr/>
                    </p:nvSpPr>
                    <p:spPr>
                      <a:xfrm>
                        <a:off x="6063120" y="2698920"/>
                        <a:ext cx="1368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8" name=""/>
                      <p:cNvSpPr/>
                      <p:nvPr/>
                    </p:nvSpPr>
                    <p:spPr>
                      <a:xfrm>
                        <a:off x="6054840" y="2693520"/>
                        <a:ext cx="1368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9" name=""/>
                      <p:cNvSpPr/>
                      <p:nvPr/>
                    </p:nvSpPr>
                    <p:spPr>
                      <a:xfrm>
                        <a:off x="6046560" y="2684880"/>
                        <a:ext cx="1368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0" name=""/>
                      <p:cNvSpPr/>
                      <p:nvPr/>
                    </p:nvSpPr>
                    <p:spPr>
                      <a:xfrm>
                        <a:off x="6046560" y="2698920"/>
                        <a:ext cx="1368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21" name=""/>
                    <p:cNvGrpSpPr/>
                    <p:nvPr/>
                  </p:nvGrpSpPr>
                  <p:grpSpPr>
                    <a:xfrm>
                      <a:off x="5973120" y="2678040"/>
                      <a:ext cx="48240" cy="31680"/>
                      <a:chOff x="5973120" y="2678040"/>
                      <a:chExt cx="48240" cy="31680"/>
                    </a:xfrm>
                  </p:grpSpPr>
                  <p:sp>
                    <p:nvSpPr>
                      <p:cNvPr id="922" name=""/>
                      <p:cNvSpPr/>
                      <p:nvPr/>
                    </p:nvSpPr>
                    <p:spPr>
                      <a:xfrm>
                        <a:off x="5973120" y="2678040"/>
                        <a:ext cx="31680" cy="2376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520" bIns="-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3" name=""/>
                      <p:cNvSpPr/>
                      <p:nvPr/>
                    </p:nvSpPr>
                    <p:spPr>
                      <a:xfrm>
                        <a:off x="5981400" y="2678040"/>
                        <a:ext cx="23400" cy="1656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4560" bIns="-34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4" name=""/>
                      <p:cNvSpPr/>
                      <p:nvPr/>
                    </p:nvSpPr>
                    <p:spPr>
                      <a:xfrm>
                        <a:off x="5991480" y="268488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5" name=""/>
                      <p:cNvSpPr/>
                      <p:nvPr/>
                    </p:nvSpPr>
                    <p:spPr>
                      <a:xfrm>
                        <a:off x="5991480" y="269352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6" name=""/>
                      <p:cNvSpPr/>
                      <p:nvPr/>
                    </p:nvSpPr>
                    <p:spPr>
                      <a:xfrm>
                        <a:off x="5991480" y="268488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7" name=""/>
                      <p:cNvSpPr/>
                      <p:nvPr/>
                    </p:nvSpPr>
                    <p:spPr>
                      <a:xfrm>
                        <a:off x="5991480" y="269892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8" name=""/>
                      <p:cNvSpPr/>
                      <p:nvPr/>
                    </p:nvSpPr>
                    <p:spPr>
                      <a:xfrm>
                        <a:off x="5991480" y="269892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9" name=""/>
                      <p:cNvSpPr/>
                      <p:nvPr/>
                    </p:nvSpPr>
                    <p:spPr>
                      <a:xfrm>
                        <a:off x="5991480" y="269892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0" name=""/>
                      <p:cNvSpPr/>
                      <p:nvPr/>
                    </p:nvSpPr>
                    <p:spPr>
                      <a:xfrm>
                        <a:off x="5999760" y="269892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1" name=""/>
                      <p:cNvSpPr/>
                      <p:nvPr/>
                    </p:nvSpPr>
                    <p:spPr>
                      <a:xfrm>
                        <a:off x="6008400" y="269892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2" name=""/>
                      <p:cNvSpPr/>
                      <p:nvPr/>
                    </p:nvSpPr>
                    <p:spPr>
                      <a:xfrm>
                        <a:off x="5999760" y="269352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3" name=""/>
                      <p:cNvSpPr/>
                      <p:nvPr/>
                    </p:nvSpPr>
                    <p:spPr>
                      <a:xfrm>
                        <a:off x="5999760" y="268488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4" name=""/>
                      <p:cNvSpPr/>
                      <p:nvPr/>
                    </p:nvSpPr>
                    <p:spPr>
                      <a:xfrm>
                        <a:off x="5999760" y="269892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935" name=""/>
                  <p:cNvSpPr/>
                  <p:nvPr/>
                </p:nvSpPr>
                <p:spPr>
                  <a:xfrm>
                    <a:off x="6195240" y="2672280"/>
                    <a:ext cx="842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1">
                        <a:moveTo>
                          <a:pt x="49" y="10"/>
                        </a:moveTo>
                        <a:lnTo>
                          <a:pt x="43" y="10"/>
                        </a:lnTo>
                        <a:lnTo>
                          <a:pt x="38" y="10"/>
                        </a:lnTo>
                        <a:lnTo>
                          <a:pt x="38" y="5"/>
                        </a:lnTo>
                        <a:lnTo>
                          <a:pt x="32" y="5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1" y="0"/>
                        </a:lnTo>
                        <a:lnTo>
                          <a:pt x="16" y="0"/>
                        </a:lnTo>
                        <a:lnTo>
                          <a:pt x="10" y="0"/>
                        </a:lnTo>
                        <a:lnTo>
                          <a:pt x="10" y="5"/>
                        </a:lnTo>
                        <a:lnTo>
                          <a:pt x="10" y="10"/>
                        </a:lnTo>
                        <a:lnTo>
                          <a:pt x="5" y="10"/>
                        </a:lnTo>
                        <a:lnTo>
                          <a:pt x="5" y="14"/>
                        </a:lnTo>
                        <a:lnTo>
                          <a:pt x="5" y="2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10" y="0"/>
                        </a:lnTo>
                        <a:lnTo>
                          <a:pt x="16" y="0"/>
                        </a:lnTo>
                        <a:lnTo>
                          <a:pt x="21" y="0"/>
                        </a:lnTo>
                        <a:lnTo>
                          <a:pt x="27" y="0"/>
                        </a:lnTo>
                        <a:lnTo>
                          <a:pt x="32" y="0"/>
                        </a:lnTo>
                        <a:lnTo>
                          <a:pt x="38" y="0"/>
                        </a:lnTo>
                        <a:lnTo>
                          <a:pt x="43" y="0"/>
                        </a:lnTo>
                        <a:lnTo>
                          <a:pt x="43" y="5"/>
                        </a:lnTo>
                        <a:lnTo>
                          <a:pt x="49" y="5"/>
                        </a:lnTo>
                        <a:lnTo>
                          <a:pt x="49" y="10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6195240" y="2672280"/>
                    <a:ext cx="842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1">
                        <a:moveTo>
                          <a:pt x="49" y="10"/>
                        </a:moveTo>
                        <a:lnTo>
                          <a:pt x="43" y="10"/>
                        </a:lnTo>
                        <a:lnTo>
                          <a:pt x="38" y="10"/>
                        </a:lnTo>
                        <a:lnTo>
                          <a:pt x="38" y="5"/>
                        </a:lnTo>
                        <a:lnTo>
                          <a:pt x="32" y="5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1" y="0"/>
                        </a:lnTo>
                        <a:lnTo>
                          <a:pt x="16" y="0"/>
                        </a:lnTo>
                        <a:lnTo>
                          <a:pt x="10" y="0"/>
                        </a:lnTo>
                        <a:lnTo>
                          <a:pt x="10" y="5"/>
                        </a:lnTo>
                        <a:lnTo>
                          <a:pt x="10" y="10"/>
                        </a:lnTo>
                        <a:lnTo>
                          <a:pt x="5" y="10"/>
                        </a:lnTo>
                        <a:lnTo>
                          <a:pt x="5" y="14"/>
                        </a:lnTo>
                        <a:lnTo>
                          <a:pt x="5" y="2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10" y="0"/>
                        </a:lnTo>
                        <a:lnTo>
                          <a:pt x="16" y="0"/>
                        </a:lnTo>
                        <a:lnTo>
                          <a:pt x="21" y="0"/>
                        </a:lnTo>
                        <a:lnTo>
                          <a:pt x="27" y="0"/>
                        </a:lnTo>
                        <a:lnTo>
                          <a:pt x="32" y="0"/>
                        </a:lnTo>
                        <a:lnTo>
                          <a:pt x="38" y="0"/>
                        </a:lnTo>
                        <a:lnTo>
                          <a:pt x="43" y="0"/>
                        </a:lnTo>
                        <a:lnTo>
                          <a:pt x="43" y="5"/>
                        </a:lnTo>
                        <a:lnTo>
                          <a:pt x="49" y="5"/>
                        </a:lnTo>
                        <a:lnTo>
                          <a:pt x="49" y="10"/>
                        </a:lnTo>
                        <a:lnTo>
                          <a:pt x="43" y="10"/>
                        </a:lnTo>
                        <a:lnTo>
                          <a:pt x="38" y="10"/>
                        </a:lnTo>
                        <a:lnTo>
                          <a:pt x="38" y="5"/>
                        </a:lnTo>
                        <a:lnTo>
                          <a:pt x="32" y="5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1" y="0"/>
                        </a:lnTo>
                        <a:lnTo>
                          <a:pt x="16" y="0"/>
                        </a:lnTo>
                        <a:lnTo>
                          <a:pt x="10" y="0"/>
                        </a:lnTo>
                        <a:lnTo>
                          <a:pt x="10" y="5"/>
                        </a:lnTo>
                        <a:lnTo>
                          <a:pt x="10" y="10"/>
                        </a:lnTo>
                        <a:lnTo>
                          <a:pt x="5" y="10"/>
                        </a:lnTo>
                        <a:lnTo>
                          <a:pt x="5" y="14"/>
                        </a:lnTo>
                        <a:lnTo>
                          <a:pt x="5" y="2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10" y="0"/>
                        </a:lnTo>
                        <a:lnTo>
                          <a:pt x="16" y="0"/>
                        </a:lnTo>
                        <a:lnTo>
                          <a:pt x="21" y="0"/>
                        </a:lnTo>
                        <a:lnTo>
                          <a:pt x="27" y="0"/>
                        </a:lnTo>
                        <a:lnTo>
                          <a:pt x="32" y="0"/>
                        </a:lnTo>
                        <a:lnTo>
                          <a:pt x="38" y="0"/>
                        </a:lnTo>
                        <a:lnTo>
                          <a:pt x="43" y="0"/>
                        </a:lnTo>
                        <a:lnTo>
                          <a:pt x="43" y="5"/>
                        </a:lnTo>
                        <a:lnTo>
                          <a:pt x="49" y="5"/>
                        </a:lnTo>
                        <a:lnTo>
                          <a:pt x="49" y="10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6259320" y="2652840"/>
                    <a:ext cx="2844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0" y="14"/>
                        </a:moveTo>
                        <a:lnTo>
                          <a:pt x="0" y="9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16" y="0"/>
                        </a:lnTo>
                        <a:lnTo>
                          <a:pt x="16" y="5"/>
                        </a:lnTo>
                        <a:lnTo>
                          <a:pt x="16" y="9"/>
                        </a:lnTo>
                        <a:lnTo>
                          <a:pt x="16" y="14"/>
                        </a:lnTo>
                        <a:lnTo>
                          <a:pt x="16" y="19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6259320" y="2652840"/>
                    <a:ext cx="2844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0" y="14"/>
                        </a:moveTo>
                        <a:lnTo>
                          <a:pt x="0" y="9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16" y="0"/>
                        </a:lnTo>
                        <a:lnTo>
                          <a:pt x="16" y="5"/>
                        </a:lnTo>
                        <a:lnTo>
                          <a:pt x="16" y="9"/>
                        </a:lnTo>
                        <a:lnTo>
                          <a:pt x="16" y="14"/>
                        </a:lnTo>
                        <a:lnTo>
                          <a:pt x="16" y="19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6203520" y="2652840"/>
                    <a:ext cx="18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7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0" y="10"/>
                        </a:lnTo>
                        <a:lnTo>
                          <a:pt x="0" y="16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6203520" y="2652840"/>
                    <a:ext cx="18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7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0" y="10"/>
                        </a:lnTo>
                        <a:lnTo>
                          <a:pt x="0" y="16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6158160" y="2624400"/>
                    <a:ext cx="3888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35">
                        <a:moveTo>
                          <a:pt x="16" y="0"/>
                        </a:moveTo>
                        <a:lnTo>
                          <a:pt x="16" y="5"/>
                        </a:lnTo>
                        <a:lnTo>
                          <a:pt x="16" y="9"/>
                        </a:lnTo>
                        <a:lnTo>
                          <a:pt x="22" y="14"/>
                        </a:lnTo>
                        <a:lnTo>
                          <a:pt x="22" y="19"/>
                        </a:lnTo>
                        <a:lnTo>
                          <a:pt x="22" y="24"/>
                        </a:lnTo>
                        <a:lnTo>
                          <a:pt x="22" y="28"/>
                        </a:lnTo>
                        <a:lnTo>
                          <a:pt x="22" y="34"/>
                        </a:lnTo>
                        <a:lnTo>
                          <a:pt x="16" y="34"/>
                        </a:lnTo>
                        <a:lnTo>
                          <a:pt x="11" y="34"/>
                        </a:lnTo>
                        <a:lnTo>
                          <a:pt x="5" y="34"/>
                        </a:lnTo>
                        <a:lnTo>
                          <a:pt x="0" y="34"/>
                        </a:lnTo>
                        <a:lnTo>
                          <a:pt x="0" y="28"/>
                        </a:lnTo>
                        <a:lnTo>
                          <a:pt x="0" y="24"/>
                        </a:lnTo>
                        <a:lnTo>
                          <a:pt x="0" y="19"/>
                        </a:lnTo>
                        <a:lnTo>
                          <a:pt x="0" y="14"/>
                        </a:lnTo>
                        <a:lnTo>
                          <a:pt x="0" y="9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11" y="0"/>
                        </a:lnTo>
                        <a:lnTo>
                          <a:pt x="16" y="0"/>
                        </a:lnTo>
                        <a:lnTo>
                          <a:pt x="16" y="5"/>
                        </a:lnTo>
                        <a:lnTo>
                          <a:pt x="16" y="9"/>
                        </a:lnTo>
                        <a:lnTo>
                          <a:pt x="22" y="14"/>
                        </a:lnTo>
                        <a:lnTo>
                          <a:pt x="22" y="19"/>
                        </a:lnTo>
                        <a:lnTo>
                          <a:pt x="22" y="24"/>
                        </a:lnTo>
                        <a:lnTo>
                          <a:pt x="22" y="28"/>
                        </a:lnTo>
                        <a:lnTo>
                          <a:pt x="22" y="34"/>
                        </a:lnTo>
                        <a:lnTo>
                          <a:pt x="16" y="34"/>
                        </a:lnTo>
                        <a:lnTo>
                          <a:pt x="11" y="34"/>
                        </a:lnTo>
                        <a:lnTo>
                          <a:pt x="5" y="34"/>
                        </a:lnTo>
                        <a:lnTo>
                          <a:pt x="0" y="34"/>
                        </a:lnTo>
                        <a:lnTo>
                          <a:pt x="0" y="28"/>
                        </a:lnTo>
                        <a:lnTo>
                          <a:pt x="0" y="24"/>
                        </a:lnTo>
                        <a:lnTo>
                          <a:pt x="0" y="19"/>
                        </a:lnTo>
                        <a:lnTo>
                          <a:pt x="0" y="14"/>
                        </a:lnTo>
                        <a:lnTo>
                          <a:pt x="0" y="9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11" y="0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6158160" y="2631600"/>
                    <a:ext cx="30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7">
                        <a:moveTo>
                          <a:pt x="17" y="0"/>
                        </a:moveTo>
                        <a:lnTo>
                          <a:pt x="17" y="16"/>
                        </a:lnTo>
                        <a:lnTo>
                          <a:pt x="0" y="16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6158160" y="2631600"/>
                    <a:ext cx="30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7">
                        <a:moveTo>
                          <a:pt x="17" y="0"/>
                        </a:moveTo>
                        <a:lnTo>
                          <a:pt x="17" y="16"/>
                        </a:lnTo>
                        <a:lnTo>
                          <a:pt x="0" y="16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17" y="0"/>
                        </a:lnTo>
                        <a:lnTo>
                          <a:pt x="17" y="16"/>
                        </a:lnTo>
                        <a:lnTo>
                          <a:pt x="0" y="16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6146640" y="2678040"/>
                    <a:ext cx="33480" cy="10800"/>
                  </a:xfrm>
                  <a:prstGeom prst="rect">
                    <a:avLst/>
                  </a:prstGeom>
                  <a:solidFill>
                    <a:srgbClr val="bbe0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6193440" y="2651400"/>
                    <a:ext cx="13320" cy="10800"/>
                  </a:xfrm>
                  <a:prstGeom prst="rect">
                    <a:avLst/>
                  </a:prstGeom>
                  <a:solidFill>
                    <a:srgbClr val="bbe0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6175080" y="2623320"/>
                    <a:ext cx="13680" cy="10800"/>
                  </a:xfrm>
                  <a:prstGeom prst="rect">
                    <a:avLst/>
                  </a:prstGeom>
                  <a:solidFill>
                    <a:srgbClr val="bbe0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6195240" y="2646000"/>
                    <a:ext cx="65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7">
                        <a:moveTo>
                          <a:pt x="0" y="0"/>
                        </a:moveTo>
                        <a:lnTo>
                          <a:pt x="0" y="16"/>
                        </a:lnTo>
                        <a:lnTo>
                          <a:pt x="5" y="16"/>
                        </a:lnTo>
                        <a:lnTo>
                          <a:pt x="10" y="16"/>
                        </a:lnTo>
                        <a:lnTo>
                          <a:pt x="16" y="16"/>
                        </a:lnTo>
                        <a:lnTo>
                          <a:pt x="21" y="16"/>
                        </a:lnTo>
                        <a:lnTo>
                          <a:pt x="27" y="16"/>
                        </a:lnTo>
                        <a:lnTo>
                          <a:pt x="32" y="16"/>
                        </a:lnTo>
                        <a:lnTo>
                          <a:pt x="38" y="16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6195240" y="2646000"/>
                    <a:ext cx="65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7">
                        <a:moveTo>
                          <a:pt x="0" y="0"/>
                        </a:moveTo>
                        <a:lnTo>
                          <a:pt x="0" y="16"/>
                        </a:lnTo>
                        <a:lnTo>
                          <a:pt x="5" y="16"/>
                        </a:lnTo>
                        <a:lnTo>
                          <a:pt x="10" y="16"/>
                        </a:lnTo>
                        <a:lnTo>
                          <a:pt x="16" y="16"/>
                        </a:lnTo>
                        <a:lnTo>
                          <a:pt x="21" y="16"/>
                        </a:lnTo>
                        <a:lnTo>
                          <a:pt x="27" y="16"/>
                        </a:lnTo>
                        <a:lnTo>
                          <a:pt x="32" y="16"/>
                        </a:lnTo>
                        <a:lnTo>
                          <a:pt x="38" y="16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 flipV="1">
                    <a:off x="6190200" y="2623320"/>
                    <a:ext cx="0" cy="7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6139800" y="2624400"/>
                    <a:ext cx="57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7">
                        <a:moveTo>
                          <a:pt x="27" y="0"/>
                        </a:moveTo>
                        <a:lnTo>
                          <a:pt x="33" y="0"/>
                        </a:lnTo>
                        <a:lnTo>
                          <a:pt x="27" y="0"/>
                        </a:lnTo>
                        <a:lnTo>
                          <a:pt x="33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6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0" y="16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6139800" y="2624400"/>
                    <a:ext cx="48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7">
                        <a:moveTo>
                          <a:pt x="28" y="0"/>
                        </a:moveTo>
                        <a:lnTo>
                          <a:pt x="22" y="0"/>
                        </a:lnTo>
                        <a:lnTo>
                          <a:pt x="16" y="0"/>
                        </a:lnTo>
                        <a:lnTo>
                          <a:pt x="11" y="0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0" y="16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6131520" y="2624400"/>
                    <a:ext cx="57240" cy="435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31">
                        <a:moveTo>
                          <a:pt x="0" y="0"/>
                        </a:moveTo>
                        <a:lnTo>
                          <a:pt x="0" y="30"/>
                        </a:lnTo>
                        <a:lnTo>
                          <a:pt x="33" y="30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53" name=""/>
                  <p:cNvGrpSpPr/>
                  <p:nvPr/>
                </p:nvGrpSpPr>
                <p:grpSpPr>
                  <a:xfrm>
                    <a:off x="6082560" y="2672280"/>
                    <a:ext cx="49680" cy="15480"/>
                    <a:chOff x="6082560" y="2672280"/>
                    <a:chExt cx="49680" cy="15480"/>
                  </a:xfrm>
                </p:grpSpPr>
                <p:sp>
                  <p:nvSpPr>
                    <p:cNvPr id="954" name=""/>
                    <p:cNvSpPr/>
                    <p:nvPr/>
                  </p:nvSpPr>
                  <p:spPr>
                    <a:xfrm>
                      <a:off x="6082560" y="2672280"/>
                      <a:ext cx="41400" cy="154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5" name=""/>
                    <p:cNvSpPr/>
                    <p:nvPr/>
                  </p:nvSpPr>
                  <p:spPr>
                    <a:xfrm>
                      <a:off x="6092280" y="2672280"/>
                      <a:ext cx="13320" cy="154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6" name=""/>
                    <p:cNvSpPr/>
                    <p:nvPr/>
                  </p:nvSpPr>
                  <p:spPr>
                    <a:xfrm>
                      <a:off x="6119280" y="2672280"/>
                      <a:ext cx="12960" cy="154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57" name=""/>
                  <p:cNvSpPr/>
                  <p:nvPr/>
                </p:nvSpPr>
                <p:spPr>
                  <a:xfrm>
                    <a:off x="6158160" y="2687760"/>
                    <a:ext cx="30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7">
                        <a:moveTo>
                          <a:pt x="0" y="0"/>
                        </a:move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5" y="16"/>
                        </a:lnTo>
                        <a:lnTo>
                          <a:pt x="11" y="16"/>
                        </a:lnTo>
                        <a:lnTo>
                          <a:pt x="17" y="16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6158160" y="2687760"/>
                    <a:ext cx="30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7">
                        <a:moveTo>
                          <a:pt x="0" y="0"/>
                        </a:move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5" y="16"/>
                        </a:lnTo>
                        <a:lnTo>
                          <a:pt x="11" y="16"/>
                        </a:lnTo>
                        <a:lnTo>
                          <a:pt x="17" y="16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6158160" y="2687760"/>
                    <a:ext cx="30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7">
                        <a:moveTo>
                          <a:pt x="0" y="0"/>
                        </a:move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5" y="16"/>
                        </a:lnTo>
                        <a:lnTo>
                          <a:pt x="11" y="16"/>
                        </a:lnTo>
                        <a:lnTo>
                          <a:pt x="17" y="16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aphicFrame>
            <p:nvGraphicFramePr>
              <p:cNvPr id="960" name=""/>
              <p:cNvGraphicFramePr/>
              <p:nvPr/>
            </p:nvGraphicFramePr>
            <p:xfrm>
              <a:off x="744840" y="2500560"/>
              <a:ext cx="536760" cy="3855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961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44840" y="2500560"/>
                        <a:ext cx="536760" cy="38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62" name=""/>
              <p:cNvSpPr/>
              <p:nvPr/>
            </p:nvSpPr>
            <p:spPr>
              <a:xfrm>
                <a:off x="711360" y="2313360"/>
                <a:ext cx="40212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806400"/>
                    <a:tab algn="l" pos="1612800"/>
                    <a:tab algn="l" pos="2419200"/>
                    <a:tab algn="l" pos="3225960"/>
                    <a:tab algn="l" pos="4032360"/>
                    <a:tab algn="l" pos="4838760"/>
                    <a:tab algn="l" pos="5645160"/>
                    <a:tab algn="l" pos="6451560"/>
                    <a:tab algn="l" pos="7257960"/>
                    <a:tab algn="l" pos="8064360"/>
                    <a:tab algn="l" pos="8871120"/>
                    <a:tab algn="l" pos="9677520"/>
                    <a:tab algn="l" pos="1048392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Desig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3" name=""/>
            <p:cNvSpPr/>
            <p:nvPr/>
          </p:nvSpPr>
          <p:spPr>
            <a:xfrm>
              <a:off x="785520" y="3249000"/>
              <a:ext cx="7648920" cy="19659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559320" y="3236400"/>
              <a:ext cx="210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pply Chain Execu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5" name=""/>
            <p:cNvGrpSpPr/>
            <p:nvPr/>
          </p:nvGrpSpPr>
          <p:grpSpPr>
            <a:xfrm>
              <a:off x="920160" y="3493440"/>
              <a:ext cx="7378920" cy="943920"/>
              <a:chOff x="920160" y="3493440"/>
              <a:chExt cx="7378920" cy="943920"/>
            </a:xfrm>
          </p:grpSpPr>
          <p:sp>
            <p:nvSpPr>
              <p:cNvPr id="966" name=""/>
              <p:cNvSpPr/>
              <p:nvPr/>
            </p:nvSpPr>
            <p:spPr>
              <a:xfrm>
                <a:off x="920160" y="3493440"/>
                <a:ext cx="2437200" cy="943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25560" bIns="25560" anchor="t">
                <a:noAutofit/>
              </a:bodyPr>
              <a:p>
                <a:pPr marL="231840" indent="-231840" algn="ctr">
                  <a:lnSpc>
                    <a:spcPct val="90000"/>
                  </a:lnSpc>
                  <a:spcBef>
                    <a:spcPts val="374"/>
                  </a:spcBef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esign and Develop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31840" indent="-231840">
                  <a:lnSpc>
                    <a:spcPct val="90000"/>
                  </a:lnSpc>
                  <a:spcBef>
                    <a:spcPts val="374"/>
                  </a:spcBef>
                  <a:spcAft>
                    <a:spcPts val="300"/>
                  </a:spcAft>
                  <a:buClr>
                    <a:srgbClr val="0033cc"/>
                  </a:buClr>
                  <a:buSzPct val="8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duct design and development closer to dema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31840" indent="-231840">
                  <a:lnSpc>
                    <a:spcPct val="90000"/>
                  </a:lnSpc>
                  <a:spcBef>
                    <a:spcPts val="374"/>
                  </a:spcBef>
                  <a:spcAft>
                    <a:spcPts val="300"/>
                  </a:spcAft>
                  <a:buClr>
                    <a:srgbClr val="0033cc"/>
                  </a:buClr>
                  <a:buSzPct val="8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dherence to design calend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425040" y="3493440"/>
                <a:ext cx="2612160" cy="943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360" rIns="63360" tIns="25560" bIns="25560" anchor="t">
                <a:noAutofit/>
              </a:bodyPr>
              <a:p>
                <a:pPr marL="231840" indent="-231840" algn="ctr">
                  <a:lnSpc>
                    <a:spcPct val="90000"/>
                  </a:lnSpc>
                  <a:spcBef>
                    <a:spcPts val="374"/>
                  </a:spcBef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Vendor Manage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31840" indent="-231840">
                  <a:lnSpc>
                    <a:spcPct val="90000"/>
                  </a:lnSpc>
                  <a:spcBef>
                    <a:spcPts val="374"/>
                  </a:spcBef>
                  <a:spcAft>
                    <a:spcPts val="300"/>
                  </a:spcAft>
                  <a:buClr>
                    <a:srgbClr val="0033cc"/>
                  </a:buClr>
                  <a:buSzPct val="8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endor managed invent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31840" indent="-231840">
                  <a:lnSpc>
                    <a:spcPct val="90000"/>
                  </a:lnSpc>
                  <a:spcBef>
                    <a:spcPts val="374"/>
                  </a:spcBef>
                  <a:spcAft>
                    <a:spcPts val="300"/>
                  </a:spcAft>
                  <a:buClr>
                    <a:srgbClr val="0033cc"/>
                  </a:buClr>
                  <a:buSzPct val="8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0% compliant vendo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31840" indent="-231840">
                  <a:lnSpc>
                    <a:spcPct val="90000"/>
                  </a:lnSpc>
                  <a:spcBef>
                    <a:spcPts val="374"/>
                  </a:spcBef>
                  <a:spcAft>
                    <a:spcPts val="300"/>
                  </a:spcAft>
                  <a:buClr>
                    <a:srgbClr val="0033cc"/>
                  </a:buClr>
                  <a:buSzPct val="8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117840" y="3493440"/>
                <a:ext cx="2181240" cy="932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360" rIns="63360" tIns="25560" bIns="25560" anchor="t">
                <a:noAutofit/>
              </a:bodyPr>
              <a:p>
                <a:pPr marL="231840" indent="-231840" algn="ctr">
                  <a:lnSpc>
                    <a:spcPct val="90000"/>
                  </a:lnSpc>
                  <a:spcBef>
                    <a:spcPts val="374"/>
                  </a:spcBef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ogistic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31840" indent="-231840">
                  <a:lnSpc>
                    <a:spcPct val="90000"/>
                  </a:lnSpc>
                  <a:spcBef>
                    <a:spcPts val="374"/>
                  </a:spcBef>
                  <a:spcAft>
                    <a:spcPts val="300"/>
                  </a:spcAft>
                  <a:buClr>
                    <a:srgbClr val="0033cc"/>
                  </a:buClr>
                  <a:buSzPct val="8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ross dock of ship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31840" indent="-231840">
                  <a:lnSpc>
                    <a:spcPct val="90000"/>
                  </a:lnSpc>
                  <a:spcBef>
                    <a:spcPts val="374"/>
                  </a:spcBef>
                  <a:spcAft>
                    <a:spcPts val="300"/>
                  </a:spcAft>
                  <a:buClr>
                    <a:srgbClr val="0033cc"/>
                  </a:buClr>
                  <a:buSzPct val="8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verage 3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rd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party / suppliers and customers logistics networ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31840" indent="-231840">
                  <a:lnSpc>
                    <a:spcPct val="90000"/>
                  </a:lnSpc>
                  <a:spcBef>
                    <a:spcPts val="374"/>
                  </a:spcBef>
                  <a:spcAft>
                    <a:spcPts val="300"/>
                  </a:spcAft>
                  <a:buClr>
                    <a:srgbClr val="0033cc"/>
                  </a:buClr>
                  <a:buSzPct val="8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"/>
            <p:cNvSpPr/>
            <p:nvPr/>
          </p:nvSpPr>
          <p:spPr>
            <a:xfrm>
              <a:off x="900000" y="4515840"/>
              <a:ext cx="7419960" cy="60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noAutofit/>
            </a:bodyPr>
            <a:p>
              <a:pPr marL="231840" indent="-231840">
                <a:lnSpc>
                  <a:spcPct val="90000"/>
                </a:lnSpc>
                <a:spcBef>
                  <a:spcPts val="374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tomated and Integrated transaction systems across the supply chain and business divis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90000"/>
                </a:lnSpc>
                <a:spcBef>
                  <a:spcPts val="300"/>
                </a:spcBef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sibility to logistics and inventory data across the supply chain and business divis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90000"/>
                </a:lnSpc>
                <a:spcBef>
                  <a:spcPts val="300"/>
                </a:spcBef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mon pool of inventory across business divis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832320" y="5312160"/>
              <a:ext cx="7554600" cy="11455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559320" y="5299200"/>
              <a:ext cx="210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pply Chain Plan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953640" y="5489280"/>
              <a:ext cx="7312320" cy="89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noAutofit/>
            </a:bodyPr>
            <a:p>
              <a:pPr marL="231840" indent="-231840">
                <a:lnSpc>
                  <a:spcPct val="90000"/>
                </a:lnSpc>
                <a:spcBef>
                  <a:spcPts val="975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tomated forecasting and planning systems across departments – merchandize planning, sales planning, production / capacity planning, inventory planning and allo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90000"/>
                </a:lnSpc>
                <a:spcBef>
                  <a:spcPts val="300"/>
                </a:spcBef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ing and planning by do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90000"/>
                </a:lnSpc>
                <a:spcBef>
                  <a:spcPts val="300"/>
                </a:spcBef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grated sales and operations planning across depart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655240" y="2219760"/>
              <a:ext cx="6210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Outbound 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ogistic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2C02-1FB7-4409-8692-2D35F10289C8}" type="slidenum">
              <a:t>14</a:t>
            </a:fld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131436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The Response </a:t>
            </a:r>
            <a:br>
              <a:rPr sz="2400"/>
            </a:b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… through implementing multiple initiatives … 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476280" y="2525760"/>
            <a:ext cx="8195760" cy="3483000"/>
            <a:chOff x="476280" y="2525760"/>
            <a:chExt cx="8195760" cy="3483000"/>
          </a:xfrm>
        </p:grpSpPr>
        <p:sp>
          <p:nvSpPr>
            <p:cNvPr id="976" name=""/>
            <p:cNvSpPr/>
            <p:nvPr/>
          </p:nvSpPr>
          <p:spPr>
            <a:xfrm>
              <a:off x="476280" y="2525760"/>
              <a:ext cx="2288520" cy="34830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noAutofit/>
            </a:bodyPr>
            <a:p>
              <a:pPr marL="231840" indent="-231840" algn="ctr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In-Process Initiati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 algn="ctr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ving from FOB to LDP/DD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ndor Compli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designing of Corporate Calenda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eb based ASN Capt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044880" y="2525760"/>
              <a:ext cx="2670120" cy="34830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noAutofit/>
            </a:bodyPr>
            <a:p>
              <a:pPr marL="231840" indent="-231840" algn="ctr">
                <a:lnSpc>
                  <a:spcPct val="85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Phase 1 Initiati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 algn="ctr">
                <a:lnSpc>
                  <a:spcPct val="85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85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censee VM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85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ing &amp; Planning - Wholesa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85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oss-Dock – Reta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85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MI Stage 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85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r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Party Fulfill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85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ey Performance Indicato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85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gistics and Inventory Visibility Solu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85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ndardizing WMS Solutions across DC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85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ing &amp; Planning – Retail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001560" y="2525760"/>
              <a:ext cx="2670480" cy="3483000"/>
            </a:xfrm>
            <a:prstGeom prst="rect">
              <a:avLst/>
            </a:prstGeom>
            <a:solidFill>
              <a:srgbClr val="bbffdd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noAutofit/>
            </a:bodyPr>
            <a:p>
              <a:pPr marL="231840" indent="-231840" algn="ctr">
                <a:lnSpc>
                  <a:spcPct val="85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Phase 2 / 3 Initiati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 algn="ctr">
                <a:lnSpc>
                  <a:spcPct val="85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85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ice Optimization Solu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85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MI Stage 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85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ventory Visibility and Order Processing at Sto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85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eamlining Markdown Planning and Execu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85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lobal Production Plann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85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portation Optimization T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85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lobal QA Modu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85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PI System Develop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85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rporate-wide Costing System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Product costing being evaluated to be moved to Phase 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65B1-C632-401D-9729-DF011F8185F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14666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The Results</a:t>
            </a:r>
            <a:br>
              <a:rPr sz="2400"/>
            </a:b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Recurring annual benefits of $24MM for one-time investment of $25MM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graphicFrame>
        <p:nvGraphicFramePr>
          <p:cNvPr id="980" name=""/>
          <p:cNvGraphicFramePr/>
          <p:nvPr/>
        </p:nvGraphicFramePr>
        <p:xfrm>
          <a:off x="457200" y="3463920"/>
          <a:ext cx="8224920" cy="2552760"/>
        </p:xfrm>
        <a:graphic>
          <a:graphicData uri="http://schemas.openxmlformats.org/drawingml/2006/table">
            <a:tbl>
              <a:tblPr/>
              <a:tblGrid>
                <a:gridCol w="2060640"/>
                <a:gridCol w="2054160"/>
                <a:gridCol w="2055960"/>
                <a:gridCol w="2054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 Ph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urring Annual Benefi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-Time Inves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 Back Peri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3 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1 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 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 2 &amp;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1 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4 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 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4 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5 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BD0A-F11F-4EED-B6C1-3D28701A823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228600" y="763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521240" y="5257800"/>
            <a:ext cx="4165560" cy="824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Infosys’ Organizational Change Management Methodology, training and documentation ensured a successful transi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C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80880" y="5257800"/>
            <a:ext cx="4038840" cy="824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When I work with Infosys I don’t have to worry about them because they do not make promises that they can’t keep. They are committed to making us successfu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437000" y="2014200"/>
            <a:ext cx="4303800" cy="3047040"/>
          </a:xfrm>
          <a:prstGeom prst="roundRect">
            <a:avLst>
              <a:gd name="adj" fmla="val 12148"/>
            </a:avLst>
          </a:prstGeom>
          <a:solidFill>
            <a:srgbClr val="ccec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lawless Execution of Oracle Financ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114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 outdated financial system and build a foundation for future grow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 indent="-11412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flexibility &amp; back-office effici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 indent="-11412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ation for better controls and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 indent="-11412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manageable chart of ac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 indent="-11412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reporting flexi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114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114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key milestone in Client’s business 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 indent="-11412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ation for integration with Retail Inventory and Merchandising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114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114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ying on knowledge and expertise from 10-year old relationship to minimize business impact of the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41440" y="2764800"/>
            <a:ext cx="3565440" cy="1935000"/>
          </a:xfrm>
          <a:prstGeom prst="roundRect">
            <a:avLst>
              <a:gd name="adj" fmla="val 12148"/>
            </a:avLst>
          </a:prstGeom>
          <a:solidFill>
            <a:srgbClr val="ccec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ne Of USA’s Leading Fashion Specialty Retai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114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 100 years in 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114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2 US Stores, located in 25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114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 International Boutiques, primarily in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114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line presence and direct mail catalo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47840" y="1228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Case Study # 4 : Flawless Execution To Install Complex Financial System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D3C7-3CC1-4D23-B96D-8DE1FDD8A18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4648320" y="4878360"/>
            <a:ext cx="4114800" cy="1342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Infosys’ technological expertise and excellent execution were exactly what we needed to provide our  customers the convenience of self-service and online confirmation of important transactions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Vice President, Information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74600" y="1928880"/>
            <a:ext cx="8764560" cy="787320"/>
          </a:xfrm>
          <a:prstGeom prst="roundRect">
            <a:avLst>
              <a:gd name="adj" fmla="val 12148"/>
            </a:avLst>
          </a:prstGeom>
          <a:solidFill>
            <a:srgbClr val="ccec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SA’s leading provider of individual life insu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d by Fortune as the Most admired company in the world, in its categ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rs of annuities, mutual funds, long-term care insurance, and disability income insuran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77720" y="2800440"/>
            <a:ext cx="3990960" cy="3311640"/>
          </a:xfrm>
          <a:prstGeom prst="roundRect">
            <a:avLst>
              <a:gd name="adj" fmla="val 12148"/>
            </a:avLst>
          </a:prstGeom>
          <a:solidFill>
            <a:srgbClr val="ccec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Develop &amp; launch an online funds transfer o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variable life and annuity policy hol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iven by business nee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1144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x7 customer self-service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1144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er reliance on customer service call cen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1144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emely aggressive time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1144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type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sen based on prior experience of Infosys delivering high quality results on time and within bud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648320" y="2904840"/>
            <a:ext cx="4140000" cy="1705320"/>
          </a:xfrm>
          <a:prstGeom prst="roundRect">
            <a:avLst>
              <a:gd name="adj" fmla="val 12148"/>
            </a:avLst>
          </a:prstGeom>
          <a:solidFill>
            <a:srgbClr val="ccec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End-to-end Partner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114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design to building of the 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114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ed to extremely aggressive time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114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Infosys originally hired in 19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11412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ship started with Y2K initia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11412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ded to all IT pro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Case Study # 5: Partner To Create Transactional Web Site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85C6-CE98-4077-9390-06244A608BE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228600" y="1247760"/>
            <a:ext cx="853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In Conclusion, Infosys’ Range Of Services From “Strategy To Execution” Helps In Partnering On Such Transformation Initi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32480" y="1962000"/>
            <a:ext cx="2930400" cy="738360"/>
          </a:xfrm>
          <a:custGeom>
            <a:avLst/>
            <a:gdLst>
              <a:gd name="textAreaLeft" fmla="*/ 0 w 2930400"/>
              <a:gd name="textAreaRight" fmla="*/ 2930760 w 2930400"/>
              <a:gd name="textAreaTop" fmla="*/ 0 h 738360"/>
              <a:gd name="textAreaBottom" fmla="*/ 738720 h 73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80" y="0"/>
                </a:lnTo>
                <a:lnTo>
                  <a:pt x="21600" y="10800"/>
                </a:lnTo>
                <a:lnTo>
                  <a:pt x="18680" y="21600"/>
                </a:lnTo>
                <a:lnTo>
                  <a:pt x="0" y="21600"/>
                </a:lnTo>
                <a:lnTo>
                  <a:pt x="2920" y="10800"/>
                </a:lnTo>
                <a:close/>
              </a:path>
            </a:pathLst>
          </a:custGeom>
          <a:solidFill>
            <a:srgbClr val="003399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468520" y="1962000"/>
            <a:ext cx="2454480" cy="738360"/>
          </a:xfrm>
          <a:custGeom>
            <a:avLst/>
            <a:gdLst>
              <a:gd name="textAreaLeft" fmla="*/ 0 w 2454480"/>
              <a:gd name="textAreaRight" fmla="*/ 2454840 w 2454480"/>
              <a:gd name="textAreaTop" fmla="*/ 0 h 738360"/>
              <a:gd name="textAreaBottom" fmla="*/ 738720 h 73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45" y="0"/>
                </a:lnTo>
                <a:lnTo>
                  <a:pt x="21600" y="10800"/>
                </a:lnTo>
                <a:lnTo>
                  <a:pt x="18145" y="21600"/>
                </a:lnTo>
                <a:lnTo>
                  <a:pt x="0" y="21600"/>
                </a:lnTo>
                <a:lnTo>
                  <a:pt x="3455" y="10800"/>
                </a:lnTo>
                <a:close/>
              </a:path>
            </a:pathLst>
          </a:custGeom>
          <a:solidFill>
            <a:srgbClr val="003399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165480" y="2141640"/>
            <a:ext cx="132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uild and 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1640" y="1962000"/>
            <a:ext cx="2314800" cy="738360"/>
          </a:xfrm>
          <a:custGeom>
            <a:avLst/>
            <a:gdLst>
              <a:gd name="textAreaLeft" fmla="*/ 0 w 2314800"/>
              <a:gd name="textAreaRight" fmla="*/ 2315160 w 2314800"/>
              <a:gd name="textAreaTop" fmla="*/ 0 h 738360"/>
              <a:gd name="textAreaBottom" fmla="*/ 738720 h 73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75" y="0"/>
                </a:lnTo>
                <a:lnTo>
                  <a:pt x="21600" y="10800"/>
                </a:lnTo>
                <a:lnTo>
                  <a:pt x="177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99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257800" y="21258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stitute Operational Excell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12640" y="2125800"/>
            <a:ext cx="179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sign for 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494480" y="2041560"/>
            <a:ext cx="125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lient Needs For Business Trans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480440" y="4616280"/>
            <a:ext cx="1136520" cy="550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ulting &amp;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T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42800" y="4610160"/>
            <a:ext cx="2233800" cy="558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ulting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&amp; technology align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chitecture &amp; roadmap defin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746440" y="4610160"/>
            <a:ext cx="2373120" cy="558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erprise IT Solu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ckage and systems integ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 software solu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189400" y="4610160"/>
            <a:ext cx="2233800" cy="558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T Operations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s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 Outsourcing &amp; mainten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480440" y="5797440"/>
            <a:ext cx="113652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siness Process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42800" y="5797440"/>
            <a:ext cx="2233800" cy="559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siness Process Consul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modeling and rede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inuous process improv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746440" y="5797440"/>
            <a:ext cx="2373120" cy="559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s Change Implem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&amp; IT reengineer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189400" y="5797440"/>
            <a:ext cx="2233800" cy="559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siness Process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sourced process cen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d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42800" y="5197320"/>
            <a:ext cx="2233800" cy="557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 Strategy Consul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chitecture &amp; roadmap defin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asibility and prototyp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746440" y="5197320"/>
            <a:ext cx="2373120" cy="557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 engine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ftware development &amp; integ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elopment &amp; testing la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189400" y="5197320"/>
            <a:ext cx="2233800" cy="557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 Support Outsour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 support cen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 product enhanc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480440" y="5195880"/>
            <a:ext cx="1136520" cy="550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chnology Product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442800" y="3171960"/>
            <a:ext cx="6981480" cy="1257120"/>
            <a:chOff x="442800" y="3171960"/>
            <a:chExt cx="6981480" cy="1257120"/>
          </a:xfrm>
        </p:grpSpPr>
        <p:sp>
          <p:nvSpPr>
            <p:cNvPr id="1013" name=""/>
            <p:cNvSpPr/>
            <p:nvPr/>
          </p:nvSpPr>
          <p:spPr>
            <a:xfrm>
              <a:off x="442800" y="3171960"/>
              <a:ext cx="2233800" cy="1257120"/>
            </a:xfrm>
            <a:prstGeom prst="rect">
              <a:avLst/>
            </a:prstGeom>
            <a:gradFill rotWithShape="0">
              <a:gsLst>
                <a:gs pos="0">
                  <a:srgbClr val="d8ebfe"/>
                </a:gs>
                <a:gs pos="50000">
                  <a:srgbClr val="99ccff"/>
                </a:gs>
                <a:gs pos="100000">
                  <a:srgbClr val="d8ebf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Design For A Constantly Changing Business &amp; Technology Environ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746800" y="3171960"/>
              <a:ext cx="2373480" cy="1257120"/>
            </a:xfrm>
            <a:prstGeom prst="rect">
              <a:avLst/>
            </a:prstGeom>
            <a:gradFill rotWithShape="0">
              <a:gsLst>
                <a:gs pos="0">
                  <a:srgbClr val="d8ebfe"/>
                </a:gs>
                <a:gs pos="50000">
                  <a:srgbClr val="99ccff"/>
                </a:gs>
                <a:gs pos="100000">
                  <a:srgbClr val="d8ebf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Build Future-Proof Solutions That Enable A Continuous Evolution Of The Enterpri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190480" y="3171960"/>
              <a:ext cx="2233800" cy="1257120"/>
            </a:xfrm>
            <a:prstGeom prst="rect">
              <a:avLst/>
            </a:prstGeom>
            <a:gradFill rotWithShape="0">
              <a:gsLst>
                <a:gs pos="0">
                  <a:srgbClr val="d8ebfe"/>
                </a:gs>
                <a:gs pos="50000">
                  <a:srgbClr val="99ccff"/>
                </a:gs>
                <a:gs pos="100000">
                  <a:srgbClr val="d8ebf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Leverage Current Investments in People &amp; IT Infrastruct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582120" y="2822040"/>
            <a:ext cx="6649920" cy="279720"/>
            <a:chOff x="582120" y="2822040"/>
            <a:chExt cx="6649920" cy="279720"/>
          </a:xfrm>
        </p:grpSpPr>
        <p:sp>
          <p:nvSpPr>
            <p:cNvPr id="1017" name=""/>
            <p:cNvSpPr/>
            <p:nvPr/>
          </p:nvSpPr>
          <p:spPr>
            <a:xfrm rot="10800000">
              <a:off x="2938320" y="2822040"/>
              <a:ext cx="1902600" cy="27972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rot="10800000">
              <a:off x="582120" y="2822040"/>
              <a:ext cx="1902600" cy="27972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rot="10800000">
              <a:off x="5329440" y="2822040"/>
              <a:ext cx="1902600" cy="27972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477B-7AA5-4452-ACA1-BEF3457FA3A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IT Is a Powerful Enabler As Well as A Driver to Unlock Business Value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75160" y="1838160"/>
            <a:ext cx="3446640" cy="429444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501480" y="2017800"/>
            <a:ext cx="4552920" cy="4620600"/>
            <a:chOff x="501480" y="2017800"/>
            <a:chExt cx="4552920" cy="4620600"/>
          </a:xfrm>
        </p:grpSpPr>
        <p:grpSp>
          <p:nvGrpSpPr>
            <p:cNvPr id="95" name=""/>
            <p:cNvGrpSpPr/>
            <p:nvPr/>
          </p:nvGrpSpPr>
          <p:grpSpPr>
            <a:xfrm>
              <a:off x="1005120" y="2017800"/>
              <a:ext cx="3825000" cy="3836160"/>
              <a:chOff x="1005120" y="2017800"/>
              <a:chExt cx="3825000" cy="3836160"/>
            </a:xfrm>
          </p:grpSpPr>
          <p:sp>
            <p:nvSpPr>
              <p:cNvPr id="96" name=""/>
              <p:cNvSpPr/>
              <p:nvPr/>
            </p:nvSpPr>
            <p:spPr>
              <a:xfrm flipV="1">
                <a:off x="1009440" y="2017800"/>
                <a:ext cx="0" cy="383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05120" y="5846040"/>
                <a:ext cx="382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2000880" y="5870520"/>
              <a:ext cx="123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echnology Matur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6200000">
              <a:off x="-110880" y="3530160"/>
              <a:ext cx="1798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usiness Value Cre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904200" y="2825640"/>
              <a:ext cx="5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De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80480" y="3493080"/>
              <a:ext cx="112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Capit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82880" y="5055840"/>
              <a:ext cx="5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NH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32920" y="5063760"/>
              <a:ext cx="66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Pfiz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88600" y="349596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69520" y="4472280"/>
              <a:ext cx="563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T&amp;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80120" y="4156560"/>
              <a:ext cx="88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Walm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59440" y="417168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K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37400" y="5276160"/>
              <a:ext cx="113040" cy="13896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41120" y="5009400"/>
              <a:ext cx="113040" cy="13896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58120" y="4529880"/>
              <a:ext cx="113040" cy="13860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98840" y="4377240"/>
              <a:ext cx="113040" cy="13896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09200" y="4100760"/>
              <a:ext cx="113040" cy="13860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77760" y="3610080"/>
              <a:ext cx="113040" cy="13896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20200" y="3369240"/>
              <a:ext cx="113040" cy="13860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01000" y="2928960"/>
              <a:ext cx="113040" cy="13896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02240" y="2591280"/>
              <a:ext cx="3760920" cy="3213360"/>
            </a:xfrm>
            <a:custGeom>
              <a:avLst/>
              <a:gdLst/>
              <a:ahLst/>
              <a:rect l="l" t="t" r="r" b="b"/>
              <a:pathLst>
                <a:path w="2761" h="2359">
                  <a:moveTo>
                    <a:pt x="0" y="2359"/>
                  </a:moveTo>
                  <a:cubicBezTo>
                    <a:pt x="83" y="2238"/>
                    <a:pt x="166" y="2117"/>
                    <a:pt x="283" y="2030"/>
                  </a:cubicBezTo>
                  <a:cubicBezTo>
                    <a:pt x="400" y="1943"/>
                    <a:pt x="614" y="1931"/>
                    <a:pt x="704" y="1838"/>
                  </a:cubicBezTo>
                  <a:cubicBezTo>
                    <a:pt x="794" y="1745"/>
                    <a:pt x="739" y="1551"/>
                    <a:pt x="823" y="1472"/>
                  </a:cubicBezTo>
                  <a:cubicBezTo>
                    <a:pt x="907" y="1393"/>
                    <a:pt x="1046" y="1415"/>
                    <a:pt x="1207" y="1363"/>
                  </a:cubicBezTo>
                  <a:cubicBezTo>
                    <a:pt x="1368" y="1311"/>
                    <a:pt x="1660" y="1258"/>
                    <a:pt x="1792" y="1162"/>
                  </a:cubicBezTo>
                  <a:cubicBezTo>
                    <a:pt x="1924" y="1066"/>
                    <a:pt x="1912" y="872"/>
                    <a:pt x="2002" y="787"/>
                  </a:cubicBezTo>
                  <a:cubicBezTo>
                    <a:pt x="2092" y="702"/>
                    <a:pt x="2243" y="735"/>
                    <a:pt x="2331" y="650"/>
                  </a:cubicBezTo>
                  <a:cubicBezTo>
                    <a:pt x="2419" y="565"/>
                    <a:pt x="2460" y="383"/>
                    <a:pt x="2532" y="275"/>
                  </a:cubicBezTo>
                  <a:cubicBezTo>
                    <a:pt x="2604" y="167"/>
                    <a:pt x="2682" y="83"/>
                    <a:pt x="2761" y="0"/>
                  </a:cubicBezTo>
                </a:path>
              </a:pathLst>
            </a:custGeom>
            <a:noFill/>
            <a:ln w="2844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87720" y="6377040"/>
              <a:ext cx="37666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100" spc="-1" strike="noStrike">
                  <a:solidFill>
                    <a:srgbClr val="000000"/>
                  </a:solidFill>
                  <a:latin typeface="Arial"/>
                </a:rPr>
                <a:t>Source: Corporate websites, Economist, Infosys Analysis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1480" y="5645520"/>
              <a:ext cx="46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66960" y="5889600"/>
              <a:ext cx="46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53040" y="5851080"/>
              <a:ext cx="49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3240" y="2196360"/>
              <a:ext cx="476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361F-3D88-4A19-9A51-142FD0D17A0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50800" y="1844640"/>
            <a:ext cx="816156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7640" y="1871640"/>
            <a:ext cx="85896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marL="281160" indent="-281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00000"/>
              </a:lnSpc>
              <a:buClr>
                <a:srgbClr val="0033cc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04960" y="1871640"/>
            <a:ext cx="98100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marL="281160" indent="-281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00000"/>
              </a:lnSpc>
              <a:buClr>
                <a:srgbClr val="0033cc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11560" y="1871640"/>
            <a:ext cx="1845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marL="281160" indent="-281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4440" y="4630680"/>
            <a:ext cx="145404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d built 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undament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l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95400" y="4665600"/>
            <a:ext cx="8622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083040" y="5686560"/>
            <a:ext cx="5641920" cy="847080"/>
            <a:chOff x="3083040" y="5686560"/>
            <a:chExt cx="5641920" cy="847080"/>
          </a:xfrm>
        </p:grpSpPr>
        <p:sp>
          <p:nvSpPr>
            <p:cNvPr id="129" name=""/>
            <p:cNvSpPr/>
            <p:nvPr/>
          </p:nvSpPr>
          <p:spPr>
            <a:xfrm>
              <a:off x="3083040" y="6302880"/>
              <a:ext cx="5641920" cy="2307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83040" y="5686560"/>
              <a:ext cx="5641920" cy="2311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83040" y="5985360"/>
              <a:ext cx="5641920" cy="2307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63160" y="5708520"/>
              <a:ext cx="227844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99"/>
                  </a:solidFill>
                  <a:latin typeface="Arial"/>
                </a:rPr>
                <a:t>Open Governan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26240" y="6313320"/>
              <a:ext cx="195228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99"/>
                  </a:solidFill>
                  <a:latin typeface="Arial"/>
                </a:rPr>
                <a:t>Performance-Ethi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27680" y="6029280"/>
              <a:ext cx="195192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99"/>
                  </a:solidFill>
                  <a:latin typeface="Arial"/>
                </a:rPr>
                <a:t>Talent Magn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090960" y="3355920"/>
            <a:ext cx="668160" cy="2273400"/>
          </a:xfrm>
          <a:prstGeom prst="rect">
            <a:avLst/>
          </a:prstGeom>
          <a:solidFill>
            <a:srgbClr val="ccecff"/>
          </a:soli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60720" y="3630600"/>
            <a:ext cx="73188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Arial Narrow"/>
              </a:rPr>
              <a:t>Bread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1" lang="en-US" sz="1100" spc="-1" strike="noStrike">
                <a:solidFill>
                  <a:srgbClr val="333399"/>
                </a:solidFill>
                <a:latin typeface="Arial Narrow"/>
              </a:rPr>
              <a:t>&amp; Dep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Arial Narrow"/>
              </a:rPr>
              <a:t>of Integrated Service lin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( Meet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Clients’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full servic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Needs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43840" y="3355920"/>
            <a:ext cx="671400" cy="2273400"/>
          </a:xfrm>
          <a:prstGeom prst="rect">
            <a:avLst/>
          </a:prstGeom>
          <a:solidFill>
            <a:srgbClr val="ccecff"/>
          </a:soli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23320" y="3630600"/>
            <a:ext cx="684000" cy="18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Arial Narrow"/>
              </a:rPr>
              <a:t>One Fir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Arial Narrow"/>
              </a:rPr>
              <a:t>Execu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( Glob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scale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singl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Face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76760" y="3354480"/>
            <a:ext cx="669960" cy="2273040"/>
          </a:xfrm>
          <a:prstGeom prst="rect">
            <a:avLst/>
          </a:prstGeom>
          <a:solidFill>
            <a:srgbClr val="ccecff"/>
          </a:soli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86480" y="3630600"/>
            <a:ext cx="674640" cy="13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Arial Narrow"/>
              </a:rPr>
              <a:t>GD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( Cor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Valu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Driver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19800" y="3354480"/>
            <a:ext cx="668520" cy="2273040"/>
          </a:xfrm>
          <a:prstGeom prst="rect">
            <a:avLst/>
          </a:prstGeom>
          <a:solidFill>
            <a:srgbClr val="ccecff"/>
          </a:soli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84880" y="3630600"/>
            <a:ext cx="7416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Arial Narrow"/>
              </a:rPr>
              <a:t>Tru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Arial Narrow"/>
              </a:rPr>
              <a:t>Ba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Arial Narrow"/>
              </a:rPr>
              <a:t>Seni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Arial Narrow"/>
              </a:rPr>
              <a:t>Relation-</a:t>
            </a:r>
            <a:br>
              <a:rPr sz="1100"/>
            </a:br>
            <a:r>
              <a:rPr b="1" lang="en-US" sz="1100" spc="-1" strike="noStrike">
                <a:solidFill>
                  <a:srgbClr val="333399"/>
                </a:solidFill>
                <a:latin typeface="Arial Narrow"/>
              </a:rPr>
              <a:t>shi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( Build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comfor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Factor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24360" y="3354480"/>
            <a:ext cx="669960" cy="2273040"/>
          </a:xfrm>
          <a:prstGeom prst="rect">
            <a:avLst/>
          </a:prstGeom>
          <a:solidFill>
            <a:srgbClr val="ccecff"/>
          </a:soli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92680" y="3630600"/>
            <a:ext cx="726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Arial Narrow"/>
              </a:rPr>
              <a:t>Doma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Arial Narrow"/>
              </a:rPr>
              <a:t>Experti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( Wha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client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valu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the most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49840" y="3354480"/>
            <a:ext cx="671400" cy="2273040"/>
          </a:xfrm>
          <a:prstGeom prst="rect">
            <a:avLst/>
          </a:prstGeom>
          <a:solidFill>
            <a:srgbClr val="ccecff"/>
          </a:soli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60920" y="3630600"/>
            <a:ext cx="8348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Arial Narrow"/>
              </a:rPr>
              <a:t>Technolog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Arial Narrow"/>
              </a:rPr>
              <a:t>Excelle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( “In sync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with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latest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at pa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with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best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96120" y="3355920"/>
            <a:ext cx="668160" cy="2273400"/>
          </a:xfrm>
          <a:prstGeom prst="rect">
            <a:avLst/>
          </a:prstGeom>
          <a:solidFill>
            <a:srgbClr val="ccecff"/>
          </a:soli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35640" y="3630600"/>
            <a:ext cx="77940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Arial Narrow"/>
              </a:rPr>
              <a:t>Prime &amp; Partner-</a:t>
            </a:r>
            <a:br>
              <a:rPr sz="1100"/>
            </a:br>
            <a:r>
              <a:rPr b="1" lang="en-US" sz="1100" spc="-1" strike="noStrike">
                <a:solidFill>
                  <a:srgbClr val="333399"/>
                </a:solidFill>
                <a:latin typeface="Arial Narrow"/>
              </a:rPr>
              <a:t>shi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( Singl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poin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accounta 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bility whi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leveraging “partn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web”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4440" y="2362320"/>
            <a:ext cx="12571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Go-to-market position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95400" y="2387520"/>
            <a:ext cx="598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marL="281160" indent="-281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5352120" y="-199080"/>
            <a:ext cx="1131840" cy="5825880"/>
          </a:xfrm>
          <a:custGeom>
            <a:avLst/>
            <a:gdLst/>
            <a:ahLst/>
            <a:rect l="l" t="t" r="r" b="b"/>
            <a:pathLst>
              <a:path w="862" h="2976">
                <a:moveTo>
                  <a:pt x="0" y="2976"/>
                </a:moveTo>
                <a:lnTo>
                  <a:pt x="862" y="1488"/>
                </a:lnTo>
                <a:lnTo>
                  <a:pt x="2" y="0"/>
                </a:lnTo>
                <a:lnTo>
                  <a:pt x="0" y="2976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02240" y="2538360"/>
            <a:ext cx="25844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marL="281160" indent="-2811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ransforming business </a:t>
            </a:r>
            <a:br>
              <a:rPr sz="900"/>
            </a:b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hrough integrated technology solutions. Absolutely, Positively!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(Emphasis on Value, Execution &amp; Comfort factor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4440" y="3365640"/>
            <a:ext cx="1189080" cy="10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executed throu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Integr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apa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95400" y="3395520"/>
            <a:ext cx="1138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t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7144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And Such Business transformation Through Technology is the Center of Infosys’ Go-to-Market Position Today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3A2C-37EC-4E11-B4A8-29DA5168B4F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361960" y="437184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1 – Manufacturing</a:t>
            </a:r>
            <a:br>
              <a:rPr sz="2800"/>
            </a:b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2 – Telco</a:t>
            </a:r>
            <a:br>
              <a:rPr sz="2800"/>
            </a:b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3 – Retail</a:t>
            </a:r>
            <a:br>
              <a:rPr sz="2800"/>
            </a:b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4 – Retail</a:t>
            </a:r>
            <a:br>
              <a:rPr sz="2800"/>
            </a:b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5 – Insurance</a:t>
            </a:r>
            <a:br>
              <a:rPr sz="2800"/>
            </a:b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808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Case Study # 1: Developing a Roadmap for Transformation of Supply Chain by Leveraging e-Business Technologies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475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0680" indent="-22068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uropean subsidiary of a leading global manufacturer of food-grain and agricultural chemi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reduce supply chain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5400" indent="-21348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the costs “hidden” in the extended supply 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5400" indent="-213480"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business with technology to improve effectiveness of supply 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5400" indent="-213480"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 against “best-of-breed” in indus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achieve maximum impact from limited e-Business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5400" indent="-21348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y Quick Wins with short pay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5400" indent="-21348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erage latest technologies for communication and e-Business to achieve greater integration with vendors, customers and logistics &amp; transportation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5400" indent="-21348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ter integration among internal systems to support and streamline supply chain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internal consensus regarding 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0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50D3-6783-4C37-B587-987D310C902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2571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Define &amp; prioritize initiatives to streamline the supply chain processes and create an implementation roadmap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0560" y="4759200"/>
            <a:ext cx="1917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-Is’ state for key supply chain 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y and description of identified initi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chmarking of supply chain e-maturity against industry pe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89240" y="5283360"/>
            <a:ext cx="276876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M “pain points” and value creation opportun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SCM trends &amp; B2B focus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ized initiatives and Quick W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level IT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27680" y="4863960"/>
            <a:ext cx="190512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case analysis &amp; payback calc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d implementation roadmap including time, cost and resource budg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74840" y="4676760"/>
            <a:ext cx="2819520" cy="533520"/>
          </a:xfrm>
          <a:prstGeom prst="rect">
            <a:avLst/>
          </a:prstGeom>
          <a:solidFill>
            <a:srgbClr val="bbffd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evel IT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74840" y="2886120"/>
            <a:ext cx="2819520" cy="533520"/>
          </a:xfrm>
          <a:prstGeom prst="rect">
            <a:avLst/>
          </a:prstGeom>
          <a:solidFill>
            <a:srgbClr val="bbffd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y Quick 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51040" y="3495600"/>
            <a:ext cx="1365120" cy="1067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‘As Is’ Supply Chain and Initi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8320" y="3305160"/>
            <a:ext cx="1460520" cy="1447920"/>
          </a:xfrm>
          <a:prstGeom prst="irregularSeal1">
            <a:avLst/>
          </a:prstGeom>
          <a:solidFill>
            <a:srgbClr val="333399"/>
          </a:solidFill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efin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eBusiness roadma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68720" y="3495600"/>
            <a:ext cx="1365120" cy="10670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sess SCM Pain/ Opportunity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86480" y="3495600"/>
            <a:ext cx="1295280" cy="10670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dentify and Prioritize Initi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62120" y="3800520"/>
            <a:ext cx="381240" cy="4572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08640" y="3800520"/>
            <a:ext cx="381240" cy="4572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97360" y="2349360"/>
            <a:ext cx="140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19920" y="2333520"/>
            <a:ext cx="164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1160" y="2335320"/>
            <a:ext cx="140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 rot="5400000">
            <a:off x="1558080" y="1494720"/>
            <a:ext cx="152280" cy="2514600"/>
          </a:xfrm>
          <a:custGeom>
            <a:avLst/>
            <a:gdLst>
              <a:gd name="textAreaLeft" fmla="*/ 0 w 152280"/>
              <a:gd name="textAreaRight" fmla="*/ 55080 w 15228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 rot="5400000">
            <a:off x="4520160" y="1494720"/>
            <a:ext cx="152280" cy="2514600"/>
          </a:xfrm>
          <a:custGeom>
            <a:avLst/>
            <a:gdLst>
              <a:gd name="textAreaLeft" fmla="*/ 0 w 152280"/>
              <a:gd name="textAreaRight" fmla="*/ 55080 w 15228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 rot="5400000">
            <a:off x="7667640" y="1608840"/>
            <a:ext cx="152280" cy="2286000"/>
          </a:xfrm>
          <a:custGeom>
            <a:avLst/>
            <a:gdLst>
              <a:gd name="textAreaLeft" fmla="*/ 0 w 152280"/>
              <a:gd name="textAreaRight" fmla="*/ 55080 w 1522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6240" y="201456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he Appro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6D4A-AB00-4C8D-9A4E-C5D8F85347E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32984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Implement prioritized initiatives and build supporting architecture in phase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38560" y="3759120"/>
            <a:ext cx="0" cy="603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38560" y="4784760"/>
            <a:ext cx="0" cy="542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040200"/>
            <a:ext cx="1204920" cy="498240"/>
          </a:xfrm>
          <a:prstGeom prst="rect">
            <a:avLst/>
          </a:prstGeom>
          <a:solidFill>
            <a:srgbClr val="bbff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Production Schedu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59400" y="3040200"/>
            <a:ext cx="1154160" cy="500040"/>
          </a:xfrm>
          <a:prstGeom prst="rect">
            <a:avLst/>
          </a:prstGeom>
          <a:solidFill>
            <a:srgbClr val="bbff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B2B with Suppli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75200" y="3040200"/>
            <a:ext cx="1184040" cy="500040"/>
          </a:xfrm>
          <a:prstGeom prst="rect">
            <a:avLst/>
          </a:prstGeom>
          <a:solidFill>
            <a:srgbClr val="bbff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Finished Goods Mov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91400" y="3040200"/>
            <a:ext cx="1204920" cy="500040"/>
          </a:xfrm>
          <a:prstGeom prst="rect">
            <a:avLst/>
          </a:prstGeom>
          <a:solidFill>
            <a:srgbClr val="bbff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B2B with Transpor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65400" y="3035160"/>
            <a:ext cx="1206360" cy="501840"/>
          </a:xfrm>
          <a:prstGeom prst="rect">
            <a:avLst/>
          </a:prstGeom>
          <a:solidFill>
            <a:srgbClr val="bbff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Enterprise Application Integ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35760" y="4060800"/>
            <a:ext cx="0" cy="1809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64320" y="4784760"/>
            <a:ext cx="542880" cy="301680"/>
          </a:xfrm>
          <a:prstGeom prst="ellipse">
            <a:avLst/>
          </a:prstGeom>
          <a:solidFill>
            <a:srgbClr val="0000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B2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45160" y="5870520"/>
            <a:ext cx="782640" cy="3016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l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03840" y="5256360"/>
            <a:ext cx="663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rder to ca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62440" y="3639960"/>
            <a:ext cx="746280" cy="420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37160" y="35701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19480" y="3589200"/>
            <a:ext cx="63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75000" y="4313160"/>
            <a:ext cx="746280" cy="420840"/>
          </a:xfrm>
          <a:prstGeom prst="rect">
            <a:avLst/>
          </a:prstGeom>
          <a:solidFill>
            <a:srgbClr val="0000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Transport Plan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86320" y="3790800"/>
            <a:ext cx="0" cy="5414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78360" y="3770280"/>
            <a:ext cx="0" cy="542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97280" y="4734000"/>
            <a:ext cx="0" cy="482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53040" y="5278320"/>
            <a:ext cx="901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ransport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94400" y="4000680"/>
            <a:ext cx="0" cy="18698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012080" y="3639960"/>
            <a:ext cx="745920" cy="420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93080" y="4784760"/>
            <a:ext cx="542880" cy="301680"/>
          </a:xfrm>
          <a:prstGeom prst="ellipse">
            <a:avLst/>
          </a:prstGeom>
          <a:solidFill>
            <a:srgbClr val="0000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B2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72480" y="5840280"/>
            <a:ext cx="844200" cy="3016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por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51680" y="5267160"/>
            <a:ext cx="663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rder to ca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265400" y="3639960"/>
            <a:ext cx="1206360" cy="1748160"/>
            <a:chOff x="1265400" y="3639960"/>
            <a:chExt cx="1206360" cy="1748160"/>
          </a:xfrm>
        </p:grpSpPr>
        <p:sp>
          <p:nvSpPr>
            <p:cNvPr id="205" name=""/>
            <p:cNvSpPr/>
            <p:nvPr/>
          </p:nvSpPr>
          <p:spPr>
            <a:xfrm>
              <a:off x="1265400" y="3639960"/>
              <a:ext cx="1206360" cy="174816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87680" y="3760560"/>
              <a:ext cx="422280" cy="30096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06600" y="4168440"/>
              <a:ext cx="723600" cy="200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75480" y="4433400"/>
              <a:ext cx="421920" cy="30132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49480" y="4423320"/>
              <a:ext cx="422280" cy="30096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1567080" y="4303080"/>
              <a:ext cx="32400" cy="12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47800" y="4543920"/>
              <a:ext cx="12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28880" y="4543920"/>
              <a:ext cx="12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1715040" y="4061880"/>
              <a:ext cx="32760" cy="12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1956600" y="4061880"/>
              <a:ext cx="32400" cy="12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2076480" y="4303080"/>
              <a:ext cx="32760" cy="12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87680" y="4845600"/>
              <a:ext cx="404280" cy="266040"/>
            </a:xfrm>
            <a:prstGeom prst="rect">
              <a:avLst/>
            </a:prstGeom>
            <a:solidFill>
              <a:srgbClr val="0000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A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3238560" y="5931000"/>
            <a:ext cx="0" cy="60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6520" y="4362480"/>
            <a:ext cx="784080" cy="603360"/>
          </a:xfrm>
          <a:prstGeom prst="rect">
            <a:avLst/>
          </a:prstGeom>
          <a:solidFill>
            <a:srgbClr val="0000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Extra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Territory Foreca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&amp;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16280" y="5327640"/>
            <a:ext cx="844560" cy="603360"/>
          </a:xfrm>
          <a:prstGeom prst="rect">
            <a:avLst/>
          </a:prstGeom>
          <a:solidFill>
            <a:srgbClr val="0000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Production Scheduling 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06640" y="6022800"/>
            <a:ext cx="663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duction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78640" y="4000680"/>
            <a:ext cx="657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16280" y="3639960"/>
            <a:ext cx="844560" cy="3002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es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73720" y="6303960"/>
            <a:ext cx="241560" cy="120600"/>
          </a:xfrm>
          <a:prstGeom prst="rect">
            <a:avLst/>
          </a:prstGeom>
          <a:solidFill>
            <a:srgbClr val="0000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6440" y="6234120"/>
            <a:ext cx="139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pplications identifi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01920" y="1973160"/>
            <a:ext cx="2789280" cy="587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upply Chain Within the 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8040" indent="-2235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supply chain co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8040" indent="-223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ain supply chain excell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59320" y="1973160"/>
            <a:ext cx="2745000" cy="493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upply Chain With Business Partn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8040" indent="-223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the foundations of future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6040" y="2152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h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426B-8627-4A3A-8951-40B078D758C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76280" y="11808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Resulting in Over $ 2.5 M of annual benefits for $ 3.4 M of one-time investments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908680" y="2208240"/>
            <a:ext cx="2604960" cy="841320"/>
            <a:chOff x="5908680" y="2208240"/>
            <a:chExt cx="2604960" cy="84132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5908680" y="2239920"/>
              <a:ext cx="260496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6407640" y="244476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NP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91800" y="263664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NP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44920" y="2208240"/>
              <a:ext cx="130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Discount facto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76280" y="2138400"/>
            <a:ext cx="4408560" cy="251280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733320" y="3008160"/>
            <a:ext cx="4118760" cy="2263320"/>
            <a:chOff x="733320" y="3008160"/>
            <a:chExt cx="4118760" cy="2263320"/>
          </a:xfrm>
        </p:grpSpPr>
        <p:sp>
          <p:nvSpPr>
            <p:cNvPr id="236" name=""/>
            <p:cNvSpPr/>
            <p:nvPr/>
          </p:nvSpPr>
          <p:spPr>
            <a:xfrm>
              <a:off x="733320" y="4934160"/>
              <a:ext cx="23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back in 15 month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082240" y="4266720"/>
              <a:ext cx="631440" cy="74592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88440" y="3810240"/>
              <a:ext cx="86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Investm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60080" y="3008160"/>
              <a:ext cx="63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aving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5896080" y="2892600"/>
            <a:ext cx="2905200" cy="2199960"/>
          </a:xfrm>
          <a:prstGeom prst="irregularSeal2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nual benefits of over $2.5 Mill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9600" y="1803240"/>
            <a:ext cx="13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he Benef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3560" y="5319720"/>
            <a:ext cx="8209080" cy="985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Client Testimonial – CIO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“We has a long history of working with large traditional consulting firms. However, the way Infosys worked collaboratively with our people and crafted a unique solution on business and technology aspects appealed to the Leadership Team.The benefits delivered by Infosys were very tangible.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C425-F3DF-47C7-9E83-EA142ECA136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23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Case Study # 2 : A large Telco spent $300-400M</a:t>
            </a:r>
            <a:r>
              <a:rPr b="0" lang="en-US" sz="1800" spc="-1" strike="noStrike" baseline="30000">
                <a:solidFill>
                  <a:srgbClr val="9933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more annually due to poor IT effectiveness compared to best-in-class organizations</a:t>
            </a: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067200" cy="4297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igh Level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34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d on the data available and stakeholder interviews, Telco was assessed between Levels 1 and 2 on the CMM Maturity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34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co IT effectiveness was conservatively equated  to “Average in Class” on the Capers-Jones productivity benchmarks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34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ers-Jones Productivity benchmarks for the “Best in Class” were used to arrive at the extra spend ( based on current IT Delivery &amp; Maintenance Budget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52440" y="6210360"/>
            <a:ext cx="6248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Does not include Operations, Infrastructure, Internal IT staff co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Current IT Delivery &amp; Maintenance Budget excluding spend on Redundant applications $891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540240" y="1838160"/>
            <a:ext cx="5217840" cy="3635640"/>
            <a:chOff x="3540240" y="1838160"/>
            <a:chExt cx="5217840" cy="3635640"/>
          </a:xfrm>
        </p:grpSpPr>
        <p:sp>
          <p:nvSpPr>
            <p:cNvPr id="247" name=""/>
            <p:cNvSpPr/>
            <p:nvPr/>
          </p:nvSpPr>
          <p:spPr>
            <a:xfrm>
              <a:off x="3540240" y="1838160"/>
              <a:ext cx="5217840" cy="3635640"/>
            </a:xfrm>
            <a:prstGeom prst="rect">
              <a:avLst/>
            </a:prstGeom>
            <a:solidFill>
              <a:srgbClr val="000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919400" y="5125320"/>
              <a:ext cx="3146040" cy="297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69960" y="5162400"/>
              <a:ext cx="1113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60760" y="2098800"/>
              <a:ext cx="4188960" cy="250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460760" y="2098800"/>
              <a:ext cx="4188960" cy="250272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5087880" y="3643920"/>
              <a:ext cx="844200" cy="957240"/>
              <a:chOff x="5087880" y="3643920"/>
              <a:chExt cx="844200" cy="957240"/>
            </a:xfrm>
          </p:grpSpPr>
          <p:sp>
            <p:nvSpPr>
              <p:cNvPr id="253" name=""/>
              <p:cNvSpPr/>
              <p:nvPr/>
            </p:nvSpPr>
            <p:spPr>
              <a:xfrm>
                <a:off x="5087880" y="3643920"/>
                <a:ext cx="844200" cy="11880"/>
              </a:xfrm>
              <a:prstGeom prst="rect">
                <a:avLst/>
              </a:prstGeom>
              <a:solidFill>
                <a:srgbClr val="989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087880" y="3655800"/>
                <a:ext cx="844200" cy="11520"/>
              </a:xfrm>
              <a:prstGeom prst="rect">
                <a:avLst/>
              </a:prstGeom>
              <a:solidFill>
                <a:srgbClr val="989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087880" y="3667680"/>
                <a:ext cx="844200" cy="12960"/>
              </a:xfrm>
              <a:prstGeom prst="rect">
                <a:avLst/>
              </a:prstGeom>
              <a:solidFill>
                <a:srgbClr val="989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087880" y="3680640"/>
                <a:ext cx="844200" cy="11880"/>
              </a:xfrm>
              <a:prstGeom prst="rect">
                <a:avLst/>
              </a:prstGeom>
              <a:solidFill>
                <a:srgbClr val="9898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087880" y="3692880"/>
                <a:ext cx="844200" cy="12960"/>
              </a:xfrm>
              <a:prstGeom prst="rect">
                <a:avLst/>
              </a:prstGeom>
              <a:solidFill>
                <a:srgbClr val="9898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087880" y="3705840"/>
                <a:ext cx="844200" cy="11880"/>
              </a:xfrm>
              <a:prstGeom prst="rect">
                <a:avLst/>
              </a:prstGeom>
              <a:solidFill>
                <a:srgbClr val="9797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087880" y="3718080"/>
                <a:ext cx="844200" cy="11520"/>
              </a:xfrm>
              <a:prstGeom prst="rect">
                <a:avLst/>
              </a:prstGeom>
              <a:solidFill>
                <a:srgbClr val="9797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087880" y="3729960"/>
                <a:ext cx="844200" cy="13320"/>
              </a:xfrm>
              <a:prstGeom prst="rect">
                <a:avLst/>
              </a:prstGeom>
              <a:solidFill>
                <a:srgbClr val="9797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087880" y="3743280"/>
                <a:ext cx="844200" cy="11520"/>
              </a:xfrm>
              <a:prstGeom prst="rect">
                <a:avLst/>
              </a:prstGeom>
              <a:solidFill>
                <a:srgbClr val="9696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087880" y="3755160"/>
                <a:ext cx="844200" cy="13320"/>
              </a:xfrm>
              <a:prstGeom prst="rect">
                <a:avLst/>
              </a:prstGeom>
              <a:solidFill>
                <a:srgbClr val="9696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087880" y="3768480"/>
                <a:ext cx="844200" cy="11520"/>
              </a:xfrm>
              <a:prstGeom prst="rect">
                <a:avLst/>
              </a:prstGeom>
              <a:solidFill>
                <a:srgbClr val="9595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087880" y="3780360"/>
                <a:ext cx="844200" cy="11520"/>
              </a:xfrm>
              <a:prstGeom prst="rect">
                <a:avLst/>
              </a:prstGeom>
              <a:solidFill>
                <a:srgbClr val="9595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087880" y="3791880"/>
                <a:ext cx="844200" cy="13320"/>
              </a:xfrm>
              <a:prstGeom prst="rect">
                <a:avLst/>
              </a:prstGeom>
              <a:solidFill>
                <a:srgbClr val="9494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087880" y="3805560"/>
                <a:ext cx="844200" cy="11520"/>
              </a:xfrm>
              <a:prstGeom prst="rect">
                <a:avLst/>
              </a:prstGeom>
              <a:solidFill>
                <a:srgbClr val="9494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087880" y="3817080"/>
                <a:ext cx="844200" cy="13320"/>
              </a:xfrm>
              <a:prstGeom prst="rect">
                <a:avLst/>
              </a:prstGeom>
              <a:solidFill>
                <a:srgbClr val="9393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087880" y="3830760"/>
                <a:ext cx="844200" cy="11520"/>
              </a:xfrm>
              <a:prstGeom prst="rect">
                <a:avLst/>
              </a:prstGeom>
              <a:solidFill>
                <a:srgbClr val="9393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087880" y="3842280"/>
                <a:ext cx="844200" cy="11520"/>
              </a:xfrm>
              <a:prstGeom prst="rect">
                <a:avLst/>
              </a:prstGeom>
              <a:solidFill>
                <a:srgbClr val="9292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087880" y="3854160"/>
                <a:ext cx="844200" cy="13320"/>
              </a:xfrm>
              <a:prstGeom prst="rect">
                <a:avLst/>
              </a:prstGeom>
              <a:solidFill>
                <a:srgbClr val="919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087880" y="3867480"/>
                <a:ext cx="844200" cy="11520"/>
              </a:xfrm>
              <a:prstGeom prst="rect">
                <a:avLst/>
              </a:prstGeom>
              <a:solidFill>
                <a:srgbClr val="909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087880" y="3879360"/>
                <a:ext cx="844200" cy="13320"/>
              </a:xfrm>
              <a:prstGeom prst="rect">
                <a:avLst/>
              </a:prstGeom>
              <a:solidFill>
                <a:srgbClr val="909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087880" y="3892680"/>
                <a:ext cx="844200" cy="11520"/>
              </a:xfrm>
              <a:prstGeom prst="rect">
                <a:avLst/>
              </a:prstGeom>
              <a:solidFill>
                <a:srgbClr val="8f8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087880" y="3904560"/>
                <a:ext cx="844200" cy="11880"/>
              </a:xfrm>
              <a:prstGeom prst="rect">
                <a:avLst/>
              </a:prstGeom>
              <a:solidFill>
                <a:srgbClr val="8e8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087880" y="3916800"/>
                <a:ext cx="844200" cy="12960"/>
              </a:xfrm>
              <a:prstGeom prst="rect">
                <a:avLst/>
              </a:prstGeom>
              <a:solidFill>
                <a:srgbClr val="8d8d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087880" y="3929760"/>
                <a:ext cx="844200" cy="11880"/>
              </a:xfrm>
              <a:prstGeom prst="rect">
                <a:avLst/>
              </a:prstGeom>
              <a:solidFill>
                <a:srgbClr val="8c8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087880" y="3942000"/>
                <a:ext cx="844200" cy="12960"/>
              </a:xfrm>
              <a:prstGeom prst="rect">
                <a:avLst/>
              </a:prstGeom>
              <a:solidFill>
                <a:srgbClr val="8b8b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087880" y="3954960"/>
                <a:ext cx="844200" cy="11880"/>
              </a:xfrm>
              <a:prstGeom prst="rect">
                <a:avLst/>
              </a:prstGeom>
              <a:solidFill>
                <a:srgbClr val="8a8a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087880" y="3967200"/>
                <a:ext cx="844200" cy="11520"/>
              </a:xfrm>
              <a:prstGeom prst="rect">
                <a:avLst/>
              </a:prstGeom>
              <a:solidFill>
                <a:srgbClr val="888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087880" y="3978720"/>
                <a:ext cx="844200" cy="13320"/>
              </a:xfrm>
              <a:prstGeom prst="rect">
                <a:avLst/>
              </a:prstGeom>
              <a:solidFill>
                <a:srgbClr val="8787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087880" y="3992400"/>
                <a:ext cx="844200" cy="11520"/>
              </a:xfrm>
              <a:prstGeom prst="rect">
                <a:avLst/>
              </a:prstGeom>
              <a:solidFill>
                <a:srgbClr val="868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087880" y="4003920"/>
                <a:ext cx="844200" cy="13320"/>
              </a:xfrm>
              <a:prstGeom prst="rect">
                <a:avLst/>
              </a:prstGeom>
              <a:solidFill>
                <a:srgbClr val="848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087880" y="4017600"/>
                <a:ext cx="844200" cy="11520"/>
              </a:xfrm>
              <a:prstGeom prst="rect">
                <a:avLst/>
              </a:prstGeom>
              <a:solidFill>
                <a:srgbClr val="838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087880" y="4029120"/>
                <a:ext cx="844200" cy="11520"/>
              </a:xfrm>
              <a:prstGeom prst="rect">
                <a:avLst/>
              </a:prstGeom>
              <a:solidFill>
                <a:srgbClr val="828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087880" y="4041000"/>
                <a:ext cx="844200" cy="13320"/>
              </a:xfrm>
              <a:prstGeom prst="rect">
                <a:avLst/>
              </a:prstGeom>
              <a:solidFill>
                <a:srgbClr val="808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087880" y="4054320"/>
                <a:ext cx="844200" cy="11520"/>
              </a:xfrm>
              <a:prstGeom prst="rect">
                <a:avLst/>
              </a:prstGeom>
              <a:solidFill>
                <a:srgbClr val="7f7f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087880" y="4066200"/>
                <a:ext cx="844200" cy="13320"/>
              </a:xfrm>
              <a:prstGeom prst="rect">
                <a:avLst/>
              </a:prstGeom>
              <a:solidFill>
                <a:srgbClr val="7d7d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087880" y="4079520"/>
                <a:ext cx="844200" cy="11520"/>
              </a:xfrm>
              <a:prstGeom prst="rect">
                <a:avLst/>
              </a:prstGeom>
              <a:solidFill>
                <a:srgbClr val="7b7b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087880" y="4091400"/>
                <a:ext cx="844200" cy="11520"/>
              </a:xfrm>
              <a:prstGeom prst="rect">
                <a:avLst/>
              </a:prstGeom>
              <a:solidFill>
                <a:srgbClr val="7a7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087880" y="4103280"/>
                <a:ext cx="844200" cy="13320"/>
              </a:xfrm>
              <a:prstGeom prst="rect">
                <a:avLst/>
              </a:prstGeom>
              <a:solidFill>
                <a:srgbClr val="797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087880" y="4116600"/>
                <a:ext cx="844200" cy="11520"/>
              </a:xfrm>
              <a:prstGeom prst="rect">
                <a:avLst/>
              </a:prstGeom>
              <a:solidFill>
                <a:srgbClr val="7777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087880" y="4128480"/>
                <a:ext cx="844200" cy="11880"/>
              </a:xfrm>
              <a:prstGeom prst="rect">
                <a:avLst/>
              </a:prstGeom>
              <a:solidFill>
                <a:srgbClr val="757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087880" y="4140360"/>
                <a:ext cx="844200" cy="12960"/>
              </a:xfrm>
              <a:prstGeom prst="rect">
                <a:avLst/>
              </a:prstGeom>
              <a:solidFill>
                <a:srgbClr val="7373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087880" y="4153680"/>
                <a:ext cx="844200" cy="11520"/>
              </a:xfrm>
              <a:prstGeom prst="rect">
                <a:avLst/>
              </a:prstGeom>
              <a:solidFill>
                <a:srgbClr val="7272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087880" y="4165560"/>
                <a:ext cx="844200" cy="13320"/>
              </a:xfrm>
              <a:prstGeom prst="rect">
                <a:avLst/>
              </a:prstGeom>
              <a:solidFill>
                <a:srgbClr val="7070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087880" y="4178880"/>
                <a:ext cx="844200" cy="11520"/>
              </a:xfrm>
              <a:prstGeom prst="rect">
                <a:avLst/>
              </a:prstGeom>
              <a:solidFill>
                <a:srgbClr val="6e6e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087880" y="4190760"/>
                <a:ext cx="844200" cy="11880"/>
              </a:xfrm>
              <a:prstGeom prst="rect">
                <a:avLst/>
              </a:prstGeom>
              <a:solidFill>
                <a:srgbClr val="6d6d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087880" y="4202640"/>
                <a:ext cx="844200" cy="12960"/>
              </a:xfrm>
              <a:prstGeom prst="rect">
                <a:avLst/>
              </a:prstGeom>
              <a:solidFill>
                <a:srgbClr val="6b6b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087880" y="4215960"/>
                <a:ext cx="844200" cy="11880"/>
              </a:xfrm>
              <a:prstGeom prst="rect">
                <a:avLst/>
              </a:prstGeom>
              <a:solidFill>
                <a:srgbClr val="6969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087880" y="4227840"/>
                <a:ext cx="844200" cy="12960"/>
              </a:xfrm>
              <a:prstGeom prst="rect">
                <a:avLst/>
              </a:prstGeom>
              <a:solidFill>
                <a:srgbClr val="6767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087880" y="4241160"/>
                <a:ext cx="844200" cy="11880"/>
              </a:xfrm>
              <a:prstGeom prst="rect">
                <a:avLst/>
              </a:prstGeom>
              <a:solidFill>
                <a:srgbClr val="6565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087880" y="4253040"/>
                <a:ext cx="844200" cy="11520"/>
              </a:xfrm>
              <a:prstGeom prst="rect">
                <a:avLst/>
              </a:prstGeom>
              <a:solidFill>
                <a:srgbClr val="6464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087880" y="4264920"/>
                <a:ext cx="844200" cy="13320"/>
              </a:xfrm>
              <a:prstGeom prst="rect">
                <a:avLst/>
              </a:prstGeom>
              <a:solidFill>
                <a:srgbClr val="62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087880" y="4278240"/>
                <a:ext cx="844200" cy="11520"/>
              </a:xfrm>
              <a:prstGeom prst="rect">
                <a:avLst/>
              </a:prstGeom>
              <a:solidFill>
                <a:srgbClr val="606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087880" y="4290120"/>
                <a:ext cx="844200" cy="13320"/>
              </a:xfrm>
              <a:prstGeom prst="rect">
                <a:avLst/>
              </a:prstGeom>
              <a:solidFill>
                <a:srgbClr val="5f5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087880" y="4303440"/>
                <a:ext cx="844200" cy="11520"/>
              </a:xfrm>
              <a:prstGeom prst="rect">
                <a:avLst/>
              </a:prstGeom>
              <a:solidFill>
                <a:srgbClr val="5d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087880" y="4315320"/>
                <a:ext cx="844200" cy="11520"/>
              </a:xfrm>
              <a:prstGeom prst="rect">
                <a:avLst/>
              </a:prstGeom>
              <a:solidFill>
                <a:srgbClr val="5c5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087880" y="4327200"/>
                <a:ext cx="844200" cy="13320"/>
              </a:xfrm>
              <a:prstGeom prst="rect">
                <a:avLst/>
              </a:prstGeom>
              <a:solidFill>
                <a:srgbClr val="5a5a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087880" y="4340520"/>
                <a:ext cx="844200" cy="11520"/>
              </a:xfrm>
              <a:prstGeom prst="rect">
                <a:avLst/>
              </a:prstGeom>
              <a:solidFill>
                <a:srgbClr val="5959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087880" y="4352400"/>
                <a:ext cx="844200" cy="13320"/>
              </a:xfrm>
              <a:prstGeom prst="rect">
                <a:avLst/>
              </a:prstGeom>
              <a:solidFill>
                <a:srgbClr val="575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087880" y="4365720"/>
                <a:ext cx="844200" cy="11520"/>
              </a:xfrm>
              <a:prstGeom prst="rect">
                <a:avLst/>
              </a:prstGeom>
              <a:solidFill>
                <a:srgbClr val="5656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087880" y="4377600"/>
                <a:ext cx="844200" cy="11520"/>
              </a:xfrm>
              <a:prstGeom prst="rect">
                <a:avLst/>
              </a:prstGeom>
              <a:solidFill>
                <a:srgbClr val="5555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087880" y="4389120"/>
                <a:ext cx="844200" cy="13320"/>
              </a:xfrm>
              <a:prstGeom prst="rect">
                <a:avLst/>
              </a:prstGeom>
              <a:solidFill>
                <a:srgbClr val="5353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087880" y="4402800"/>
                <a:ext cx="844200" cy="11520"/>
              </a:xfrm>
              <a:prstGeom prst="rect">
                <a:avLst/>
              </a:prstGeom>
              <a:solidFill>
                <a:srgbClr val="525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087880" y="4414320"/>
                <a:ext cx="844200" cy="13320"/>
              </a:xfrm>
              <a:prstGeom prst="rect">
                <a:avLst/>
              </a:prstGeom>
              <a:solidFill>
                <a:srgbClr val="5151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087880" y="4428000"/>
                <a:ext cx="844200" cy="11520"/>
              </a:xfrm>
              <a:prstGeom prst="rect">
                <a:avLst/>
              </a:prstGeom>
              <a:solidFill>
                <a:srgbClr val="5050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087880" y="4439520"/>
                <a:ext cx="844200" cy="11880"/>
              </a:xfrm>
              <a:prstGeom prst="rect">
                <a:avLst/>
              </a:prstGeom>
              <a:solidFill>
                <a:srgbClr val="4f4f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087880" y="4451760"/>
                <a:ext cx="844200" cy="12960"/>
              </a:xfrm>
              <a:prstGeom prst="rect">
                <a:avLst/>
              </a:prstGeom>
              <a:solidFill>
                <a:srgbClr val="4e4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087880" y="4464720"/>
                <a:ext cx="844200" cy="11880"/>
              </a:xfrm>
              <a:prstGeom prst="rect">
                <a:avLst/>
              </a:prstGeom>
              <a:solidFill>
                <a:srgbClr val="4d4d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087880" y="4476960"/>
                <a:ext cx="844200" cy="12960"/>
              </a:xfrm>
              <a:prstGeom prst="rect">
                <a:avLst/>
              </a:prstGeom>
              <a:solidFill>
                <a:srgbClr val="4c4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87880" y="4490280"/>
                <a:ext cx="844200" cy="11520"/>
              </a:xfrm>
              <a:prstGeom prst="rect">
                <a:avLst/>
              </a:prstGeom>
              <a:solidFill>
                <a:srgbClr val="4b4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087880" y="4501800"/>
                <a:ext cx="844200" cy="11880"/>
              </a:xfrm>
              <a:prstGeom prst="rect">
                <a:avLst/>
              </a:prstGeom>
              <a:solidFill>
                <a:srgbClr val="4a4a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087880" y="4514040"/>
                <a:ext cx="844200" cy="12960"/>
              </a:xfrm>
              <a:prstGeom prst="rect">
                <a:avLst/>
              </a:prstGeom>
              <a:solidFill>
                <a:srgbClr val="4a4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087880" y="4527000"/>
                <a:ext cx="844200" cy="11880"/>
              </a:xfrm>
              <a:prstGeom prst="rect">
                <a:avLst/>
              </a:prstGeom>
              <a:solidFill>
                <a:srgbClr val="494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087880" y="4539240"/>
                <a:ext cx="844200" cy="12960"/>
              </a:xfrm>
              <a:prstGeom prst="rect">
                <a:avLst/>
              </a:prstGeom>
              <a:solidFill>
                <a:srgbClr val="484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087880" y="4552200"/>
                <a:ext cx="844200" cy="11880"/>
              </a:xfrm>
              <a:prstGeom prst="rect">
                <a:avLst/>
              </a:prstGeom>
              <a:solidFill>
                <a:srgbClr val="484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087880" y="4564440"/>
                <a:ext cx="844200" cy="11520"/>
              </a:xfrm>
              <a:prstGeom prst="rect">
                <a:avLst/>
              </a:prstGeom>
              <a:solidFill>
                <a:srgbClr val="4848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087880" y="4576320"/>
                <a:ext cx="844200" cy="13320"/>
              </a:xfrm>
              <a:prstGeom prst="rect">
                <a:avLst/>
              </a:prstGeom>
              <a:solidFill>
                <a:srgbClr val="474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087880" y="4589640"/>
                <a:ext cx="844200" cy="11520"/>
              </a:xfrm>
              <a:prstGeom prst="rect">
                <a:avLst/>
              </a:prstGeom>
              <a:solidFill>
                <a:srgbClr val="474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5087880" y="3643920"/>
              <a:ext cx="844200" cy="957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7188120" y="4116960"/>
              <a:ext cx="833040" cy="484200"/>
              <a:chOff x="7188120" y="4116960"/>
              <a:chExt cx="833040" cy="484200"/>
            </a:xfrm>
          </p:grpSpPr>
          <p:sp>
            <p:nvSpPr>
              <p:cNvPr id="332" name=""/>
              <p:cNvSpPr/>
              <p:nvPr/>
            </p:nvSpPr>
            <p:spPr>
              <a:xfrm>
                <a:off x="7188120" y="4116960"/>
                <a:ext cx="833040" cy="11520"/>
              </a:xfrm>
              <a:prstGeom prst="rect">
                <a:avLst/>
              </a:prstGeom>
              <a:solidFill>
                <a:srgbClr val="989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188120" y="4128480"/>
                <a:ext cx="833040" cy="11880"/>
              </a:xfrm>
              <a:prstGeom prst="rect">
                <a:avLst/>
              </a:prstGeom>
              <a:solidFill>
                <a:srgbClr val="989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188120" y="4140720"/>
                <a:ext cx="833040" cy="12960"/>
              </a:xfrm>
              <a:prstGeom prst="rect">
                <a:avLst/>
              </a:prstGeom>
              <a:solidFill>
                <a:srgbClr val="9797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188120" y="4153680"/>
                <a:ext cx="833040" cy="11520"/>
              </a:xfrm>
              <a:prstGeom prst="rect">
                <a:avLst/>
              </a:prstGeom>
              <a:solidFill>
                <a:srgbClr val="9797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188120" y="4165560"/>
                <a:ext cx="833040" cy="13320"/>
              </a:xfrm>
              <a:prstGeom prst="rect">
                <a:avLst/>
              </a:prstGeom>
              <a:solidFill>
                <a:srgbClr val="9696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188120" y="4178880"/>
                <a:ext cx="833040" cy="11520"/>
              </a:xfrm>
              <a:prstGeom prst="rect">
                <a:avLst/>
              </a:prstGeom>
              <a:solidFill>
                <a:srgbClr val="9595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188120" y="4190760"/>
                <a:ext cx="833040" cy="11880"/>
              </a:xfrm>
              <a:prstGeom prst="rect">
                <a:avLst/>
              </a:prstGeom>
              <a:solidFill>
                <a:srgbClr val="9494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188120" y="4202640"/>
                <a:ext cx="833040" cy="12960"/>
              </a:xfrm>
              <a:prstGeom prst="rect">
                <a:avLst/>
              </a:prstGeom>
              <a:solidFill>
                <a:srgbClr val="9393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188120" y="4215960"/>
                <a:ext cx="833040" cy="11880"/>
              </a:xfrm>
              <a:prstGeom prst="rect">
                <a:avLst/>
              </a:prstGeom>
              <a:solidFill>
                <a:srgbClr val="9292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188120" y="4227840"/>
                <a:ext cx="833040" cy="12960"/>
              </a:xfrm>
              <a:prstGeom prst="rect">
                <a:avLst/>
              </a:prstGeom>
              <a:solidFill>
                <a:srgbClr val="909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188120" y="4241160"/>
                <a:ext cx="833040" cy="11880"/>
              </a:xfrm>
              <a:prstGeom prst="rect">
                <a:avLst/>
              </a:prstGeom>
              <a:solidFill>
                <a:srgbClr val="8f8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188120" y="4253040"/>
                <a:ext cx="833040" cy="11520"/>
              </a:xfrm>
              <a:prstGeom prst="rect">
                <a:avLst/>
              </a:prstGeom>
              <a:solidFill>
                <a:srgbClr val="8d8d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188120" y="4264920"/>
                <a:ext cx="833040" cy="13320"/>
              </a:xfrm>
              <a:prstGeom prst="rect">
                <a:avLst/>
              </a:prstGeom>
              <a:solidFill>
                <a:srgbClr val="8a8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188120" y="4278600"/>
                <a:ext cx="833040" cy="11520"/>
              </a:xfrm>
              <a:prstGeom prst="rect">
                <a:avLst/>
              </a:prstGeom>
              <a:solidFill>
                <a:srgbClr val="888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188120" y="4290120"/>
                <a:ext cx="833040" cy="13320"/>
              </a:xfrm>
              <a:prstGeom prst="rect">
                <a:avLst/>
              </a:prstGeom>
              <a:solidFill>
                <a:srgbClr val="8686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188120" y="4303800"/>
                <a:ext cx="833040" cy="11520"/>
              </a:xfrm>
              <a:prstGeom prst="rect">
                <a:avLst/>
              </a:prstGeom>
              <a:solidFill>
                <a:srgbClr val="838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188120" y="4315320"/>
                <a:ext cx="833040" cy="11520"/>
              </a:xfrm>
              <a:prstGeom prst="rect">
                <a:avLst/>
              </a:prstGeom>
              <a:solidFill>
                <a:srgbClr val="808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188120" y="4327200"/>
                <a:ext cx="833040" cy="13320"/>
              </a:xfrm>
              <a:prstGeom prst="rect">
                <a:avLst/>
              </a:prstGeom>
              <a:solidFill>
                <a:srgbClr val="7d7d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188120" y="4340520"/>
                <a:ext cx="833040" cy="11520"/>
              </a:xfrm>
              <a:prstGeom prst="rect">
                <a:avLst/>
              </a:prstGeom>
              <a:solidFill>
                <a:srgbClr val="7a7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188120" y="4352400"/>
                <a:ext cx="833040" cy="13320"/>
              </a:xfrm>
              <a:prstGeom prst="rect">
                <a:avLst/>
              </a:prstGeom>
              <a:solidFill>
                <a:srgbClr val="7777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188120" y="4365720"/>
                <a:ext cx="833040" cy="11520"/>
              </a:xfrm>
              <a:prstGeom prst="rect">
                <a:avLst/>
              </a:prstGeom>
              <a:solidFill>
                <a:srgbClr val="7373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188120" y="4377600"/>
                <a:ext cx="833040" cy="11520"/>
              </a:xfrm>
              <a:prstGeom prst="rect">
                <a:avLst/>
              </a:prstGeom>
              <a:solidFill>
                <a:srgbClr val="7070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188120" y="4389480"/>
                <a:ext cx="833040" cy="13320"/>
              </a:xfrm>
              <a:prstGeom prst="rect">
                <a:avLst/>
              </a:prstGeom>
              <a:solidFill>
                <a:srgbClr val="6d6d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188120" y="4402800"/>
                <a:ext cx="833040" cy="11520"/>
              </a:xfrm>
              <a:prstGeom prst="rect">
                <a:avLst/>
              </a:prstGeom>
              <a:solidFill>
                <a:srgbClr val="6969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188120" y="4414680"/>
                <a:ext cx="833040" cy="13320"/>
              </a:xfrm>
              <a:prstGeom prst="rect">
                <a:avLst/>
              </a:prstGeom>
              <a:solidFill>
                <a:srgbClr val="6666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188120" y="4428000"/>
                <a:ext cx="833040" cy="11520"/>
              </a:xfrm>
              <a:prstGeom prst="rect">
                <a:avLst/>
              </a:prstGeom>
              <a:solidFill>
                <a:srgbClr val="62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188120" y="4439880"/>
                <a:ext cx="833040" cy="11880"/>
              </a:xfrm>
              <a:prstGeom prst="rect">
                <a:avLst/>
              </a:prstGeom>
              <a:solidFill>
                <a:srgbClr val="5f5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188120" y="4451760"/>
                <a:ext cx="833040" cy="12960"/>
              </a:xfrm>
              <a:prstGeom prst="rect">
                <a:avLst/>
              </a:prstGeom>
              <a:solidFill>
                <a:srgbClr val="5c5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188120" y="4465080"/>
                <a:ext cx="833040" cy="11880"/>
              </a:xfrm>
              <a:prstGeom prst="rect">
                <a:avLst/>
              </a:prstGeom>
              <a:solidFill>
                <a:srgbClr val="5959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188120" y="4476960"/>
                <a:ext cx="833040" cy="12960"/>
              </a:xfrm>
              <a:prstGeom prst="rect">
                <a:avLst/>
              </a:prstGeom>
              <a:solidFill>
                <a:srgbClr val="5656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188120" y="4490280"/>
                <a:ext cx="833040" cy="11520"/>
              </a:xfrm>
              <a:prstGeom prst="rect">
                <a:avLst/>
              </a:prstGeom>
              <a:solidFill>
                <a:srgbClr val="5454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188120" y="4501800"/>
                <a:ext cx="833040" cy="11880"/>
              </a:xfrm>
              <a:prstGeom prst="rect">
                <a:avLst/>
              </a:prstGeom>
              <a:solidFill>
                <a:srgbClr val="5151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188120" y="4514040"/>
                <a:ext cx="833040" cy="12960"/>
              </a:xfrm>
              <a:prstGeom prst="rect">
                <a:avLst/>
              </a:prstGeom>
              <a:solidFill>
                <a:srgbClr val="4f4f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188120" y="4527000"/>
                <a:ext cx="833040" cy="11880"/>
              </a:xfrm>
              <a:prstGeom prst="rect">
                <a:avLst/>
              </a:prstGeom>
              <a:solidFill>
                <a:srgbClr val="4d4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188120" y="4539240"/>
                <a:ext cx="833040" cy="12960"/>
              </a:xfrm>
              <a:prstGeom prst="rect">
                <a:avLst/>
              </a:prstGeom>
              <a:solidFill>
                <a:srgbClr val="4c4c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188120" y="4552200"/>
                <a:ext cx="833040" cy="11880"/>
              </a:xfrm>
              <a:prstGeom prst="rect">
                <a:avLst/>
              </a:prstGeom>
              <a:solidFill>
                <a:srgbClr val="4a4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188120" y="4564440"/>
                <a:ext cx="833040" cy="11520"/>
              </a:xfrm>
              <a:prstGeom prst="rect">
                <a:avLst/>
              </a:prstGeom>
              <a:solidFill>
                <a:srgbClr val="494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188120" y="4576320"/>
                <a:ext cx="833040" cy="13320"/>
              </a:xfrm>
              <a:prstGeom prst="rect">
                <a:avLst/>
              </a:prstGeom>
              <a:solidFill>
                <a:srgbClr val="4848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188120" y="4589640"/>
                <a:ext cx="833040" cy="11520"/>
              </a:xfrm>
              <a:prstGeom prst="rect">
                <a:avLst/>
              </a:prstGeom>
              <a:solidFill>
                <a:srgbClr val="474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7188120" y="4116960"/>
              <a:ext cx="833040" cy="484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932440" y="3643920"/>
              <a:ext cx="1255320" cy="47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5087880" y="2274120"/>
              <a:ext cx="844200" cy="1369440"/>
              <a:chOff x="5087880" y="2274120"/>
              <a:chExt cx="844200" cy="1369440"/>
            </a:xfrm>
          </p:grpSpPr>
          <p:sp>
            <p:nvSpPr>
              <p:cNvPr id="374" name=""/>
              <p:cNvSpPr/>
              <p:nvPr/>
            </p:nvSpPr>
            <p:spPr>
              <a:xfrm>
                <a:off x="5087880" y="2274120"/>
                <a:ext cx="844200" cy="11520"/>
              </a:xfrm>
              <a:prstGeom prst="rect">
                <a:avLst/>
              </a:prstGeom>
              <a:solidFill>
                <a:srgbClr val="983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087880" y="2285640"/>
                <a:ext cx="844200" cy="25200"/>
              </a:xfrm>
              <a:prstGeom prst="rect">
                <a:avLst/>
              </a:prstGeom>
              <a:solidFill>
                <a:srgbClr val="983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087880" y="2310840"/>
                <a:ext cx="844200" cy="11520"/>
              </a:xfrm>
              <a:prstGeom prst="rect">
                <a:avLst/>
              </a:prstGeom>
              <a:solidFill>
                <a:srgbClr val="983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087880" y="2322720"/>
                <a:ext cx="844200" cy="13320"/>
              </a:xfrm>
              <a:prstGeom prst="rect">
                <a:avLst/>
              </a:prstGeom>
              <a:solidFill>
                <a:srgbClr val="983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87880" y="2336040"/>
                <a:ext cx="844200" cy="25200"/>
              </a:xfrm>
              <a:prstGeom prst="rect">
                <a:avLst/>
              </a:prstGeom>
              <a:solidFill>
                <a:srgbClr val="983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087880" y="2361240"/>
                <a:ext cx="844200" cy="11520"/>
              </a:xfrm>
              <a:prstGeom prst="rect">
                <a:avLst/>
              </a:prstGeom>
              <a:solidFill>
                <a:srgbClr val="973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087880" y="2373120"/>
                <a:ext cx="844200" cy="11520"/>
              </a:xfrm>
              <a:prstGeom prst="rect">
                <a:avLst/>
              </a:prstGeom>
              <a:solidFill>
                <a:srgbClr val="973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087880" y="2385000"/>
                <a:ext cx="844200" cy="25200"/>
              </a:xfrm>
              <a:prstGeom prst="rect">
                <a:avLst/>
              </a:prstGeom>
              <a:solidFill>
                <a:srgbClr val="973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087880" y="2410200"/>
                <a:ext cx="844200" cy="13320"/>
              </a:xfrm>
              <a:prstGeom prst="rect">
                <a:avLst/>
              </a:prstGeom>
              <a:solidFill>
                <a:srgbClr val="963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087880" y="2423520"/>
                <a:ext cx="844200" cy="11520"/>
              </a:xfrm>
              <a:prstGeom prst="rect">
                <a:avLst/>
              </a:prstGeom>
              <a:solidFill>
                <a:srgbClr val="963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087880" y="2435400"/>
                <a:ext cx="844200" cy="25200"/>
              </a:xfrm>
              <a:prstGeom prst="rect">
                <a:avLst/>
              </a:prstGeom>
              <a:solidFill>
                <a:srgbClr val="963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087880" y="2460600"/>
                <a:ext cx="844200" cy="11880"/>
              </a:xfrm>
              <a:prstGeom prst="rect">
                <a:avLst/>
              </a:prstGeom>
              <a:solidFill>
                <a:srgbClr val="953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087880" y="2472480"/>
                <a:ext cx="844200" cy="12960"/>
              </a:xfrm>
              <a:prstGeom prst="rect">
                <a:avLst/>
              </a:prstGeom>
              <a:solidFill>
                <a:srgbClr val="953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087880" y="2485800"/>
                <a:ext cx="844200" cy="23760"/>
              </a:xfrm>
              <a:prstGeom prst="rect">
                <a:avLst/>
              </a:prstGeom>
              <a:solidFill>
                <a:srgbClr val="943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087880" y="2509560"/>
                <a:ext cx="844200" cy="13320"/>
              </a:xfrm>
              <a:prstGeom prst="rect">
                <a:avLst/>
              </a:prstGeom>
              <a:solidFill>
                <a:srgbClr val="943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087880" y="2523240"/>
                <a:ext cx="844200" cy="11520"/>
              </a:xfrm>
              <a:prstGeom prst="rect">
                <a:avLst/>
              </a:prstGeom>
              <a:solidFill>
                <a:srgbClr val="933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087880" y="2534760"/>
                <a:ext cx="844200" cy="25200"/>
              </a:xfrm>
              <a:prstGeom prst="rect">
                <a:avLst/>
              </a:prstGeom>
              <a:solidFill>
                <a:srgbClr val="933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087880" y="2559960"/>
                <a:ext cx="844200" cy="11520"/>
              </a:xfrm>
              <a:prstGeom prst="rect">
                <a:avLst/>
              </a:prstGeom>
              <a:solidFill>
                <a:srgbClr val="923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087880" y="2571840"/>
                <a:ext cx="844200" cy="13320"/>
              </a:xfrm>
              <a:prstGeom prst="rect">
                <a:avLst/>
              </a:prstGeom>
              <a:solidFill>
                <a:srgbClr val="913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087880" y="2585160"/>
                <a:ext cx="844200" cy="25200"/>
              </a:xfrm>
              <a:prstGeom prst="rect">
                <a:avLst/>
              </a:prstGeom>
              <a:solidFill>
                <a:srgbClr val="913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087880" y="2610360"/>
                <a:ext cx="844200" cy="11520"/>
              </a:xfrm>
              <a:prstGeom prst="rect">
                <a:avLst/>
              </a:prstGeom>
              <a:solidFill>
                <a:srgbClr val="903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087880" y="2622240"/>
                <a:ext cx="844200" cy="11520"/>
              </a:xfrm>
              <a:prstGeom prst="rect">
                <a:avLst/>
              </a:prstGeom>
              <a:solidFill>
                <a:srgbClr val="8f2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087880" y="2634120"/>
                <a:ext cx="844200" cy="13320"/>
              </a:xfrm>
              <a:prstGeom prst="rect">
                <a:avLst/>
              </a:prstGeom>
              <a:solidFill>
                <a:srgbClr val="8e2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87880" y="2647440"/>
                <a:ext cx="844200" cy="25200"/>
              </a:xfrm>
              <a:prstGeom prst="rect">
                <a:avLst/>
              </a:prstGeom>
              <a:solidFill>
                <a:srgbClr val="8d2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087880" y="2672640"/>
                <a:ext cx="844200" cy="11520"/>
              </a:xfrm>
              <a:prstGeom prst="rect">
                <a:avLst/>
              </a:prstGeom>
              <a:solidFill>
                <a:srgbClr val="8d2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087880" y="2684520"/>
                <a:ext cx="844200" cy="11520"/>
              </a:xfrm>
              <a:prstGeom prst="rect">
                <a:avLst/>
              </a:prstGeom>
              <a:solidFill>
                <a:srgbClr val="8c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087880" y="2696400"/>
                <a:ext cx="844200" cy="25200"/>
              </a:xfrm>
              <a:prstGeom prst="rect">
                <a:avLst/>
              </a:prstGeom>
              <a:solidFill>
                <a:srgbClr val="8b2e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087880" y="2721600"/>
                <a:ext cx="844200" cy="13320"/>
              </a:xfrm>
              <a:prstGeom prst="rect">
                <a:avLst/>
              </a:prstGeom>
              <a:solidFill>
                <a:srgbClr val="8a2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087880" y="2734920"/>
                <a:ext cx="844200" cy="11520"/>
              </a:xfrm>
              <a:prstGeom prst="rect">
                <a:avLst/>
              </a:prstGeom>
              <a:solidFill>
                <a:srgbClr val="892d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087880" y="2746800"/>
                <a:ext cx="844200" cy="25200"/>
              </a:xfrm>
              <a:prstGeom prst="rect">
                <a:avLst/>
              </a:prstGeom>
              <a:solidFill>
                <a:srgbClr val="872d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087880" y="2772000"/>
                <a:ext cx="844200" cy="11880"/>
              </a:xfrm>
              <a:prstGeom prst="rect">
                <a:avLst/>
              </a:prstGeom>
              <a:solidFill>
                <a:srgbClr val="862c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087880" y="2783880"/>
                <a:ext cx="844200" cy="12960"/>
              </a:xfrm>
              <a:prstGeom prst="rect">
                <a:avLst/>
              </a:prstGeom>
              <a:solidFill>
                <a:srgbClr val="852c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087880" y="2797200"/>
                <a:ext cx="844200" cy="23760"/>
              </a:xfrm>
              <a:prstGeom prst="rect">
                <a:avLst/>
              </a:prstGeom>
              <a:solidFill>
                <a:srgbClr val="842b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087880" y="2820960"/>
                <a:ext cx="844200" cy="13320"/>
              </a:xfrm>
              <a:prstGeom prst="rect">
                <a:avLst/>
              </a:prstGeom>
              <a:solidFill>
                <a:srgbClr val="822b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087880" y="2834280"/>
                <a:ext cx="844200" cy="11520"/>
              </a:xfrm>
              <a:prstGeom prst="rect">
                <a:avLst/>
              </a:prstGeom>
              <a:solidFill>
                <a:srgbClr val="812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087880" y="2846160"/>
                <a:ext cx="844200" cy="25200"/>
              </a:xfrm>
              <a:prstGeom prst="rect">
                <a:avLst/>
              </a:prstGeom>
              <a:solidFill>
                <a:srgbClr val="802a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087880" y="2871360"/>
                <a:ext cx="844200" cy="11520"/>
              </a:xfrm>
              <a:prstGeom prst="rect">
                <a:avLst/>
              </a:prstGeom>
              <a:solidFill>
                <a:srgbClr val="7e2a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087880" y="2883240"/>
                <a:ext cx="844200" cy="13320"/>
              </a:xfrm>
              <a:prstGeom prst="rect">
                <a:avLst/>
              </a:prstGeom>
              <a:solidFill>
                <a:srgbClr val="7d29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087880" y="2896560"/>
                <a:ext cx="844200" cy="25200"/>
              </a:xfrm>
              <a:prstGeom prst="rect">
                <a:avLst/>
              </a:prstGeom>
              <a:solidFill>
                <a:srgbClr val="7b29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087880" y="2921760"/>
                <a:ext cx="844200" cy="11520"/>
              </a:xfrm>
              <a:prstGeom prst="rect">
                <a:avLst/>
              </a:prstGeom>
              <a:solidFill>
                <a:srgbClr val="7a28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087880" y="2933640"/>
                <a:ext cx="844200" cy="11520"/>
              </a:xfrm>
              <a:prstGeom prst="rect">
                <a:avLst/>
              </a:prstGeom>
              <a:solidFill>
                <a:srgbClr val="792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087880" y="2945520"/>
                <a:ext cx="844200" cy="25200"/>
              </a:xfrm>
              <a:prstGeom prst="rect">
                <a:avLst/>
              </a:prstGeom>
              <a:solidFill>
                <a:srgbClr val="772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087880" y="2970720"/>
                <a:ext cx="844200" cy="13320"/>
              </a:xfrm>
              <a:prstGeom prst="rect">
                <a:avLst/>
              </a:prstGeom>
              <a:solidFill>
                <a:srgbClr val="7526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087880" y="2984040"/>
                <a:ext cx="844200" cy="11520"/>
              </a:xfrm>
              <a:prstGeom prst="rect">
                <a:avLst/>
              </a:prstGeom>
              <a:solidFill>
                <a:srgbClr val="732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087880" y="2995920"/>
                <a:ext cx="844200" cy="25200"/>
              </a:xfrm>
              <a:prstGeom prst="rect">
                <a:avLst/>
              </a:prstGeom>
              <a:solidFill>
                <a:srgbClr val="7225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087880" y="3021120"/>
                <a:ext cx="844200" cy="11520"/>
              </a:xfrm>
              <a:prstGeom prst="rect">
                <a:avLst/>
              </a:prstGeom>
              <a:solidFill>
                <a:srgbClr val="702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087880" y="3033000"/>
                <a:ext cx="844200" cy="13320"/>
              </a:xfrm>
              <a:prstGeom prst="rect">
                <a:avLst/>
              </a:prstGeom>
              <a:solidFill>
                <a:srgbClr val="6f24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087880" y="3046320"/>
                <a:ext cx="844200" cy="23760"/>
              </a:xfrm>
              <a:prstGeom prst="rect">
                <a:avLst/>
              </a:prstGeom>
              <a:solidFill>
                <a:srgbClr val="6d2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087880" y="3070080"/>
                <a:ext cx="844200" cy="12960"/>
              </a:xfrm>
              <a:prstGeom prst="rect">
                <a:avLst/>
              </a:prstGeom>
              <a:solidFill>
                <a:srgbClr val="6c2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087880" y="3083400"/>
                <a:ext cx="844200" cy="11880"/>
              </a:xfrm>
              <a:prstGeom prst="rect">
                <a:avLst/>
              </a:prstGeom>
              <a:solidFill>
                <a:srgbClr val="6a2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087880" y="3095280"/>
                <a:ext cx="844200" cy="25200"/>
              </a:xfrm>
              <a:prstGeom prst="rect">
                <a:avLst/>
              </a:prstGeom>
              <a:solidFill>
                <a:srgbClr val="6822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087880" y="3120480"/>
                <a:ext cx="844200" cy="11520"/>
              </a:xfrm>
              <a:prstGeom prst="rect">
                <a:avLst/>
              </a:prstGeom>
              <a:solidFill>
                <a:srgbClr val="672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087880" y="3132360"/>
                <a:ext cx="844200" cy="13320"/>
              </a:xfrm>
              <a:prstGeom prst="rect">
                <a:avLst/>
              </a:prstGeom>
              <a:solidFill>
                <a:srgbClr val="6521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087880" y="3145680"/>
                <a:ext cx="844200" cy="25200"/>
              </a:xfrm>
              <a:prstGeom prst="rect">
                <a:avLst/>
              </a:prstGeom>
              <a:solidFill>
                <a:srgbClr val="632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087880" y="3170880"/>
                <a:ext cx="844200" cy="11520"/>
              </a:xfrm>
              <a:prstGeom prst="rect">
                <a:avLst/>
              </a:prstGeom>
              <a:solidFill>
                <a:srgbClr val="6220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087880" y="3182760"/>
                <a:ext cx="844200" cy="11520"/>
              </a:xfrm>
              <a:prstGeom prst="rect">
                <a:avLst/>
              </a:prstGeom>
              <a:solidFill>
                <a:srgbClr val="601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087880" y="3194640"/>
                <a:ext cx="844200" cy="25200"/>
              </a:xfrm>
              <a:prstGeom prst="rect">
                <a:avLst/>
              </a:prstGeom>
              <a:solidFill>
                <a:srgbClr val="5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087880" y="3219840"/>
                <a:ext cx="844200" cy="11520"/>
              </a:xfrm>
              <a:prstGeom prst="rect">
                <a:avLst/>
              </a:prstGeom>
              <a:solidFill>
                <a:srgbClr val="5d1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087880" y="3231360"/>
                <a:ext cx="844200" cy="13320"/>
              </a:xfrm>
              <a:prstGeom prst="rect">
                <a:avLst/>
              </a:prstGeom>
              <a:solidFill>
                <a:srgbClr val="5c1e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087880" y="3245040"/>
                <a:ext cx="844200" cy="25200"/>
              </a:xfrm>
              <a:prstGeom prst="rect">
                <a:avLst/>
              </a:prstGeom>
              <a:solidFill>
                <a:srgbClr val="5b1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087880" y="3270240"/>
                <a:ext cx="844200" cy="11520"/>
              </a:xfrm>
              <a:prstGeom prst="rect">
                <a:avLst/>
              </a:prstGeom>
              <a:solidFill>
                <a:srgbClr val="591d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087880" y="3282120"/>
                <a:ext cx="844200" cy="11880"/>
              </a:xfrm>
              <a:prstGeom prst="rect">
                <a:avLst/>
              </a:prstGeom>
              <a:solidFill>
                <a:srgbClr val="581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087880" y="3294000"/>
                <a:ext cx="844200" cy="12960"/>
              </a:xfrm>
              <a:prstGeom prst="rect">
                <a:avLst/>
              </a:prstGeom>
              <a:solidFill>
                <a:srgbClr val="571c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087880" y="3307320"/>
                <a:ext cx="844200" cy="25200"/>
              </a:xfrm>
              <a:prstGeom prst="rect">
                <a:avLst/>
              </a:prstGeom>
              <a:solidFill>
                <a:srgbClr val="551c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087880" y="3332520"/>
                <a:ext cx="844200" cy="11520"/>
              </a:xfrm>
              <a:prstGeom prst="rect">
                <a:avLst/>
              </a:prstGeom>
              <a:solidFill>
                <a:srgbClr val="541b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087880" y="3344040"/>
                <a:ext cx="844200" cy="11880"/>
              </a:xfrm>
              <a:prstGeom prst="rect">
                <a:avLst/>
              </a:prstGeom>
              <a:solidFill>
                <a:srgbClr val="531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087880" y="3356280"/>
                <a:ext cx="844200" cy="25200"/>
              </a:xfrm>
              <a:prstGeom prst="rect">
                <a:avLst/>
              </a:prstGeom>
              <a:solidFill>
                <a:srgbClr val="521a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087880" y="3381480"/>
                <a:ext cx="844200" cy="12960"/>
              </a:xfrm>
              <a:prstGeom prst="rect">
                <a:avLst/>
              </a:prstGeom>
              <a:solidFill>
                <a:srgbClr val="511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087880" y="3394440"/>
                <a:ext cx="844200" cy="11880"/>
              </a:xfrm>
              <a:prstGeom prst="rect">
                <a:avLst/>
              </a:prstGeom>
              <a:solidFill>
                <a:srgbClr val="501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087880" y="3406680"/>
                <a:ext cx="844200" cy="25200"/>
              </a:xfrm>
              <a:prstGeom prst="rect">
                <a:avLst/>
              </a:prstGeom>
              <a:solidFill>
                <a:srgbClr val="4f19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087880" y="3431880"/>
                <a:ext cx="844200" cy="11520"/>
              </a:xfrm>
              <a:prstGeom prst="rect">
                <a:avLst/>
              </a:prstGeom>
              <a:solidFill>
                <a:srgbClr val="4e1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087880" y="3443760"/>
                <a:ext cx="844200" cy="13320"/>
              </a:xfrm>
              <a:prstGeom prst="rect">
                <a:avLst/>
              </a:prstGeom>
              <a:solidFill>
                <a:srgbClr val="4d1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087880" y="3457080"/>
                <a:ext cx="844200" cy="23400"/>
              </a:xfrm>
              <a:prstGeom prst="rect">
                <a:avLst/>
              </a:prstGeom>
              <a:solidFill>
                <a:srgbClr val="4c1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087880" y="3480840"/>
                <a:ext cx="844200" cy="13320"/>
              </a:xfrm>
              <a:prstGeom prst="rect">
                <a:avLst/>
              </a:prstGeom>
              <a:solidFill>
                <a:srgbClr val="4c1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087880" y="3494160"/>
                <a:ext cx="844200" cy="11520"/>
              </a:xfrm>
              <a:prstGeom prst="rect">
                <a:avLst/>
              </a:prstGeom>
              <a:solidFill>
                <a:srgbClr val="4b1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087880" y="3506040"/>
                <a:ext cx="844200" cy="25200"/>
              </a:xfrm>
              <a:prstGeom prst="rect">
                <a:avLst/>
              </a:prstGeom>
              <a:solidFill>
                <a:srgbClr val="4a1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087880" y="3531240"/>
                <a:ext cx="844200" cy="11520"/>
              </a:xfrm>
              <a:prstGeom prst="rect">
                <a:avLst/>
              </a:prstGeom>
              <a:solidFill>
                <a:srgbClr val="4a1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087880" y="3542760"/>
                <a:ext cx="844200" cy="13320"/>
              </a:xfrm>
              <a:prstGeom prst="rect">
                <a:avLst/>
              </a:prstGeom>
              <a:solidFill>
                <a:srgbClr val="491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087880" y="3556440"/>
                <a:ext cx="844200" cy="25200"/>
              </a:xfrm>
              <a:prstGeom prst="rect">
                <a:avLst/>
              </a:prstGeom>
              <a:solidFill>
                <a:srgbClr val="481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087880" y="3581640"/>
                <a:ext cx="844200" cy="11520"/>
              </a:xfrm>
              <a:prstGeom prst="rect">
                <a:avLst/>
              </a:prstGeom>
              <a:solidFill>
                <a:srgbClr val="4817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087880" y="3593160"/>
                <a:ext cx="844200" cy="11880"/>
              </a:xfrm>
              <a:prstGeom prst="rect">
                <a:avLst/>
              </a:prstGeom>
              <a:solidFill>
                <a:srgbClr val="4717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087880" y="3605400"/>
                <a:ext cx="844200" cy="25200"/>
              </a:xfrm>
              <a:prstGeom prst="rect">
                <a:avLst/>
              </a:prstGeom>
              <a:solidFill>
                <a:srgbClr val="4717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087880" y="3630600"/>
                <a:ext cx="844200" cy="12960"/>
              </a:xfrm>
              <a:prstGeom prst="rect">
                <a:avLst/>
              </a:prstGeom>
              <a:solidFill>
                <a:srgbClr val="4717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5087880" y="2274120"/>
              <a:ext cx="844200" cy="1369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7188120" y="3207960"/>
              <a:ext cx="833040" cy="908280"/>
              <a:chOff x="7188120" y="3207960"/>
              <a:chExt cx="833040" cy="908280"/>
            </a:xfrm>
          </p:grpSpPr>
          <p:sp>
            <p:nvSpPr>
              <p:cNvPr id="459" name=""/>
              <p:cNvSpPr/>
              <p:nvPr/>
            </p:nvSpPr>
            <p:spPr>
              <a:xfrm>
                <a:off x="7188120" y="3207960"/>
                <a:ext cx="833040" cy="11520"/>
              </a:xfrm>
              <a:prstGeom prst="rect">
                <a:avLst/>
              </a:prstGeom>
              <a:solidFill>
                <a:srgbClr val="983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188120" y="3219480"/>
                <a:ext cx="833040" cy="11520"/>
              </a:xfrm>
              <a:prstGeom prst="rect">
                <a:avLst/>
              </a:prstGeom>
              <a:solidFill>
                <a:srgbClr val="983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188120" y="3231360"/>
                <a:ext cx="833040" cy="13320"/>
              </a:xfrm>
              <a:prstGeom prst="rect">
                <a:avLst/>
              </a:prstGeom>
              <a:solidFill>
                <a:srgbClr val="983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188120" y="3244680"/>
                <a:ext cx="833040" cy="11520"/>
              </a:xfrm>
              <a:prstGeom prst="rect">
                <a:avLst/>
              </a:prstGeom>
              <a:solidFill>
                <a:srgbClr val="983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188120" y="3256560"/>
                <a:ext cx="833040" cy="13320"/>
              </a:xfrm>
              <a:prstGeom prst="rect">
                <a:avLst/>
              </a:prstGeom>
              <a:solidFill>
                <a:srgbClr val="973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188120" y="3269880"/>
                <a:ext cx="833040" cy="11520"/>
              </a:xfrm>
              <a:prstGeom prst="rect">
                <a:avLst/>
              </a:prstGeom>
              <a:solidFill>
                <a:srgbClr val="973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188120" y="3281760"/>
                <a:ext cx="833040" cy="11880"/>
              </a:xfrm>
              <a:prstGeom prst="rect">
                <a:avLst/>
              </a:prstGeom>
              <a:solidFill>
                <a:srgbClr val="973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188120" y="3294000"/>
                <a:ext cx="833040" cy="12960"/>
              </a:xfrm>
              <a:prstGeom prst="rect">
                <a:avLst/>
              </a:prstGeom>
              <a:solidFill>
                <a:srgbClr val="963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188120" y="3306960"/>
                <a:ext cx="833040" cy="11880"/>
              </a:xfrm>
              <a:prstGeom prst="rect">
                <a:avLst/>
              </a:prstGeom>
              <a:solidFill>
                <a:srgbClr val="963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188120" y="3319200"/>
                <a:ext cx="833040" cy="12960"/>
              </a:xfrm>
              <a:prstGeom prst="rect">
                <a:avLst/>
              </a:prstGeom>
              <a:solidFill>
                <a:srgbClr val="963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188120" y="3332160"/>
                <a:ext cx="833040" cy="11520"/>
              </a:xfrm>
              <a:prstGeom prst="rect">
                <a:avLst/>
              </a:prstGeom>
              <a:solidFill>
                <a:srgbClr val="953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188120" y="3344040"/>
                <a:ext cx="833040" cy="11880"/>
              </a:xfrm>
              <a:prstGeom prst="rect">
                <a:avLst/>
              </a:prstGeom>
              <a:solidFill>
                <a:srgbClr val="953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188120" y="3355920"/>
                <a:ext cx="833040" cy="12960"/>
              </a:xfrm>
              <a:prstGeom prst="rect">
                <a:avLst/>
              </a:prstGeom>
              <a:solidFill>
                <a:srgbClr val="943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188120" y="3369240"/>
                <a:ext cx="833040" cy="11880"/>
              </a:xfrm>
              <a:prstGeom prst="rect">
                <a:avLst/>
              </a:prstGeom>
              <a:solidFill>
                <a:srgbClr val="933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188120" y="3381120"/>
                <a:ext cx="833040" cy="12960"/>
              </a:xfrm>
              <a:prstGeom prst="rect">
                <a:avLst/>
              </a:prstGeom>
              <a:solidFill>
                <a:srgbClr val="933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188120" y="3394440"/>
                <a:ext cx="833040" cy="11880"/>
              </a:xfrm>
              <a:prstGeom prst="rect">
                <a:avLst/>
              </a:prstGeom>
              <a:solidFill>
                <a:srgbClr val="923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188120" y="3406320"/>
                <a:ext cx="833040" cy="11520"/>
              </a:xfrm>
              <a:prstGeom prst="rect">
                <a:avLst/>
              </a:prstGeom>
              <a:solidFill>
                <a:srgbClr val="913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188120" y="3418200"/>
                <a:ext cx="833040" cy="13320"/>
              </a:xfrm>
              <a:prstGeom prst="rect">
                <a:avLst/>
              </a:prstGeom>
              <a:solidFill>
                <a:srgbClr val="903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188120" y="3431520"/>
                <a:ext cx="833040" cy="11520"/>
              </a:xfrm>
              <a:prstGeom prst="rect">
                <a:avLst/>
              </a:prstGeom>
              <a:solidFill>
                <a:srgbClr val="902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188120" y="3443400"/>
                <a:ext cx="833040" cy="13320"/>
              </a:xfrm>
              <a:prstGeom prst="rect">
                <a:avLst/>
              </a:prstGeom>
              <a:solidFill>
                <a:srgbClr val="8f2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188120" y="3456720"/>
                <a:ext cx="833040" cy="11520"/>
              </a:xfrm>
              <a:prstGeom prst="rect">
                <a:avLst/>
              </a:prstGeom>
              <a:solidFill>
                <a:srgbClr val="8e2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188120" y="3468600"/>
                <a:ext cx="833040" cy="11520"/>
              </a:xfrm>
              <a:prstGeom prst="rect">
                <a:avLst/>
              </a:prstGeom>
              <a:solidFill>
                <a:srgbClr val="8d2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188120" y="3480480"/>
                <a:ext cx="833040" cy="13320"/>
              </a:xfrm>
              <a:prstGeom prst="rect">
                <a:avLst/>
              </a:prstGeom>
              <a:solidFill>
                <a:srgbClr val="8c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188120" y="3493800"/>
                <a:ext cx="833040" cy="11520"/>
              </a:xfrm>
              <a:prstGeom prst="rect">
                <a:avLst/>
              </a:prstGeom>
              <a:solidFill>
                <a:srgbClr val="8a2e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188120" y="3505680"/>
                <a:ext cx="833040" cy="13320"/>
              </a:xfrm>
              <a:prstGeom prst="rect">
                <a:avLst/>
              </a:prstGeom>
              <a:solidFill>
                <a:srgbClr val="892d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188120" y="3519000"/>
                <a:ext cx="833040" cy="11520"/>
              </a:xfrm>
              <a:prstGeom prst="rect">
                <a:avLst/>
              </a:prstGeom>
              <a:solidFill>
                <a:srgbClr val="882d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188120" y="3530880"/>
                <a:ext cx="833040" cy="11520"/>
              </a:xfrm>
              <a:prstGeom prst="rect">
                <a:avLst/>
              </a:prstGeom>
              <a:solidFill>
                <a:srgbClr val="872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188120" y="3542760"/>
                <a:ext cx="833040" cy="13320"/>
              </a:xfrm>
              <a:prstGeom prst="rect">
                <a:avLst/>
              </a:prstGeom>
              <a:solidFill>
                <a:srgbClr val="852c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188120" y="3556080"/>
                <a:ext cx="833040" cy="11520"/>
              </a:xfrm>
              <a:prstGeom prst="rect">
                <a:avLst/>
              </a:prstGeom>
              <a:solidFill>
                <a:srgbClr val="842c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188120" y="3567960"/>
                <a:ext cx="833040" cy="13320"/>
              </a:xfrm>
              <a:prstGeom prst="rect">
                <a:avLst/>
              </a:prstGeom>
              <a:solidFill>
                <a:srgbClr val="822b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188120" y="3581280"/>
                <a:ext cx="833040" cy="11520"/>
              </a:xfrm>
              <a:prstGeom prst="rect">
                <a:avLst/>
              </a:prstGeom>
              <a:solidFill>
                <a:srgbClr val="812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188120" y="3593160"/>
                <a:ext cx="833040" cy="11880"/>
              </a:xfrm>
              <a:prstGeom prst="rect">
                <a:avLst/>
              </a:prstGeom>
              <a:solidFill>
                <a:srgbClr val="7f2a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188120" y="3605040"/>
                <a:ext cx="833040" cy="12960"/>
              </a:xfrm>
              <a:prstGeom prst="rect">
                <a:avLst/>
              </a:prstGeom>
              <a:solidFill>
                <a:srgbClr val="7e2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188120" y="3618360"/>
                <a:ext cx="833040" cy="11880"/>
              </a:xfrm>
              <a:prstGeom prst="rect">
                <a:avLst/>
              </a:prstGeom>
              <a:solidFill>
                <a:srgbClr val="7c29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188120" y="3630240"/>
                <a:ext cx="833040" cy="12960"/>
              </a:xfrm>
              <a:prstGeom prst="rect">
                <a:avLst/>
              </a:prstGeom>
              <a:solidFill>
                <a:srgbClr val="7a28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188120" y="3643560"/>
                <a:ext cx="833040" cy="11880"/>
              </a:xfrm>
              <a:prstGeom prst="rect">
                <a:avLst/>
              </a:prstGeom>
              <a:solidFill>
                <a:srgbClr val="792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188120" y="3655440"/>
                <a:ext cx="833040" cy="11520"/>
              </a:xfrm>
              <a:prstGeom prst="rect">
                <a:avLst/>
              </a:prstGeom>
              <a:solidFill>
                <a:srgbClr val="772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188120" y="3667320"/>
                <a:ext cx="833040" cy="12960"/>
              </a:xfrm>
              <a:prstGeom prst="rect">
                <a:avLst/>
              </a:prstGeom>
              <a:solidFill>
                <a:srgbClr val="7526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188120" y="3680280"/>
                <a:ext cx="833040" cy="11880"/>
              </a:xfrm>
              <a:prstGeom prst="rect">
                <a:avLst/>
              </a:prstGeom>
              <a:solidFill>
                <a:srgbClr val="732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188120" y="3692520"/>
                <a:ext cx="833040" cy="12960"/>
              </a:xfrm>
              <a:prstGeom prst="rect">
                <a:avLst/>
              </a:prstGeom>
              <a:solidFill>
                <a:srgbClr val="712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188120" y="3705480"/>
                <a:ext cx="833040" cy="11880"/>
              </a:xfrm>
              <a:prstGeom prst="rect">
                <a:avLst/>
              </a:prstGeom>
              <a:solidFill>
                <a:srgbClr val="6f2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188120" y="3717720"/>
                <a:ext cx="833040" cy="11520"/>
              </a:xfrm>
              <a:prstGeom prst="rect">
                <a:avLst/>
              </a:prstGeom>
              <a:solidFill>
                <a:srgbClr val="6e2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188120" y="3729600"/>
                <a:ext cx="833040" cy="13320"/>
              </a:xfrm>
              <a:prstGeom prst="rect">
                <a:avLst/>
              </a:prstGeom>
              <a:solidFill>
                <a:srgbClr val="6c2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188120" y="3742920"/>
                <a:ext cx="833040" cy="11520"/>
              </a:xfrm>
              <a:prstGeom prst="rect">
                <a:avLst/>
              </a:prstGeom>
              <a:solidFill>
                <a:srgbClr val="6a2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188120" y="3754800"/>
                <a:ext cx="833040" cy="13320"/>
              </a:xfrm>
              <a:prstGeom prst="rect">
                <a:avLst/>
              </a:prstGeom>
              <a:solidFill>
                <a:srgbClr val="6822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188120" y="3768120"/>
                <a:ext cx="833040" cy="11520"/>
              </a:xfrm>
              <a:prstGeom prst="rect">
                <a:avLst/>
              </a:prstGeom>
              <a:solidFill>
                <a:srgbClr val="6621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188120" y="3780000"/>
                <a:ext cx="833040" cy="11520"/>
              </a:xfrm>
              <a:prstGeom prst="rect">
                <a:avLst/>
              </a:prstGeom>
              <a:solidFill>
                <a:srgbClr val="6421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188120" y="3791880"/>
                <a:ext cx="833040" cy="13320"/>
              </a:xfrm>
              <a:prstGeom prst="rect">
                <a:avLst/>
              </a:prstGeom>
              <a:solidFill>
                <a:srgbClr val="632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188120" y="3805200"/>
                <a:ext cx="833040" cy="11520"/>
              </a:xfrm>
              <a:prstGeom prst="rect">
                <a:avLst/>
              </a:prstGeom>
              <a:solidFill>
                <a:srgbClr val="612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188120" y="3817080"/>
                <a:ext cx="833040" cy="13320"/>
              </a:xfrm>
              <a:prstGeom prst="rect">
                <a:avLst/>
              </a:prstGeom>
              <a:solidFill>
                <a:srgbClr val="5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188120" y="3830400"/>
                <a:ext cx="833040" cy="11520"/>
              </a:xfrm>
              <a:prstGeom prst="rect">
                <a:avLst/>
              </a:prstGeom>
              <a:solidFill>
                <a:srgbClr val="5d1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188120" y="3842280"/>
                <a:ext cx="833040" cy="11520"/>
              </a:xfrm>
              <a:prstGeom prst="rect">
                <a:avLst/>
              </a:prstGeom>
              <a:solidFill>
                <a:srgbClr val="5c1e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188120" y="3853800"/>
                <a:ext cx="833040" cy="13320"/>
              </a:xfrm>
              <a:prstGeom prst="rect">
                <a:avLst/>
              </a:prstGeom>
              <a:solidFill>
                <a:srgbClr val="5a1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188120" y="3867480"/>
                <a:ext cx="833040" cy="11520"/>
              </a:xfrm>
              <a:prstGeom prst="rect">
                <a:avLst/>
              </a:prstGeom>
              <a:solidFill>
                <a:srgbClr val="591d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188120" y="3879000"/>
                <a:ext cx="833040" cy="13320"/>
              </a:xfrm>
              <a:prstGeom prst="rect">
                <a:avLst/>
              </a:prstGeom>
              <a:solidFill>
                <a:srgbClr val="571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188120" y="3892680"/>
                <a:ext cx="833040" cy="11520"/>
              </a:xfrm>
              <a:prstGeom prst="rect">
                <a:avLst/>
              </a:prstGeom>
              <a:solidFill>
                <a:srgbClr val="561c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188120" y="3904200"/>
                <a:ext cx="833040" cy="11880"/>
              </a:xfrm>
              <a:prstGeom prst="rect">
                <a:avLst/>
              </a:prstGeom>
              <a:solidFill>
                <a:srgbClr val="541b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188120" y="3916440"/>
                <a:ext cx="833040" cy="12960"/>
              </a:xfrm>
              <a:prstGeom prst="rect">
                <a:avLst/>
              </a:prstGeom>
              <a:solidFill>
                <a:srgbClr val="531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188120" y="3929400"/>
                <a:ext cx="833040" cy="11880"/>
              </a:xfrm>
              <a:prstGeom prst="rect">
                <a:avLst/>
              </a:prstGeom>
              <a:solidFill>
                <a:srgbClr val="521a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188120" y="3941640"/>
                <a:ext cx="833040" cy="12960"/>
              </a:xfrm>
              <a:prstGeom prst="rect">
                <a:avLst/>
              </a:prstGeom>
              <a:solidFill>
                <a:srgbClr val="511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188120" y="3954600"/>
                <a:ext cx="833040" cy="11880"/>
              </a:xfrm>
              <a:prstGeom prst="rect">
                <a:avLst/>
              </a:prstGeom>
              <a:solidFill>
                <a:srgbClr val="4f1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188120" y="3966840"/>
                <a:ext cx="833040" cy="11520"/>
              </a:xfrm>
              <a:prstGeom prst="rect">
                <a:avLst/>
              </a:prstGeom>
              <a:solidFill>
                <a:srgbClr val="4e19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188120" y="3978720"/>
                <a:ext cx="833040" cy="13320"/>
              </a:xfrm>
              <a:prstGeom prst="rect">
                <a:avLst/>
              </a:prstGeom>
              <a:solidFill>
                <a:srgbClr val="4d1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188120" y="3992040"/>
                <a:ext cx="833040" cy="11520"/>
              </a:xfrm>
              <a:prstGeom prst="rect">
                <a:avLst/>
              </a:prstGeom>
              <a:solidFill>
                <a:srgbClr val="4d1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188120" y="4003920"/>
                <a:ext cx="833040" cy="13320"/>
              </a:xfrm>
              <a:prstGeom prst="rect">
                <a:avLst/>
              </a:prstGeom>
              <a:solidFill>
                <a:srgbClr val="4c1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188120" y="4017240"/>
                <a:ext cx="833040" cy="11520"/>
              </a:xfrm>
              <a:prstGeom prst="rect">
                <a:avLst/>
              </a:prstGeom>
              <a:solidFill>
                <a:srgbClr val="4b1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188120" y="4029120"/>
                <a:ext cx="833040" cy="11520"/>
              </a:xfrm>
              <a:prstGeom prst="rect">
                <a:avLst/>
              </a:prstGeom>
              <a:solidFill>
                <a:srgbClr val="4a1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188120" y="4040640"/>
                <a:ext cx="833040" cy="13320"/>
              </a:xfrm>
              <a:prstGeom prst="rect">
                <a:avLst/>
              </a:prstGeom>
              <a:solidFill>
                <a:srgbClr val="491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188120" y="4054320"/>
                <a:ext cx="833040" cy="11520"/>
              </a:xfrm>
              <a:prstGeom prst="rect">
                <a:avLst/>
              </a:prstGeom>
              <a:solidFill>
                <a:srgbClr val="491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188120" y="4065840"/>
                <a:ext cx="833040" cy="13320"/>
              </a:xfrm>
              <a:prstGeom prst="rect">
                <a:avLst/>
              </a:prstGeom>
              <a:solidFill>
                <a:srgbClr val="481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188120" y="4079520"/>
                <a:ext cx="833040" cy="11520"/>
              </a:xfrm>
              <a:prstGeom prst="rect">
                <a:avLst/>
              </a:prstGeom>
              <a:solidFill>
                <a:srgbClr val="4817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188120" y="4091400"/>
                <a:ext cx="833040" cy="11520"/>
              </a:xfrm>
              <a:prstGeom prst="rect">
                <a:avLst/>
              </a:prstGeom>
              <a:solidFill>
                <a:srgbClr val="4717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188120" y="4102920"/>
                <a:ext cx="833040" cy="13320"/>
              </a:xfrm>
              <a:prstGeom prst="rect">
                <a:avLst/>
              </a:prstGeom>
              <a:solidFill>
                <a:srgbClr val="4717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" name=""/>
            <p:cNvSpPr/>
            <p:nvPr/>
          </p:nvSpPr>
          <p:spPr>
            <a:xfrm>
              <a:off x="7188120" y="3207960"/>
              <a:ext cx="833040" cy="908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932440" y="2274120"/>
              <a:ext cx="1255320" cy="9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389120" y="2098800"/>
              <a:ext cx="1440" cy="2502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344840" y="4601880"/>
              <a:ext cx="43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344840" y="435276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4840" y="410364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4840" y="385452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344840" y="3605400"/>
              <a:ext cx="43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344840" y="3356280"/>
              <a:ext cx="43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44840" y="3095640"/>
              <a:ext cx="43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344840" y="2846160"/>
              <a:ext cx="43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344840" y="2597040"/>
              <a:ext cx="43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344840" y="234792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344840" y="209880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460760" y="4601880"/>
              <a:ext cx="4188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4389120" y="4601880"/>
              <a:ext cx="1440" cy="50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561000" y="4601880"/>
              <a:ext cx="1080" cy="50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8650080" y="4601880"/>
              <a:ext cx="1080" cy="50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27760" y="4502160"/>
              <a:ext cx="26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$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976200" y="4253400"/>
              <a:ext cx="459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$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976200" y="4002480"/>
              <a:ext cx="459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$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976200" y="3755160"/>
              <a:ext cx="459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$3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976200" y="3506040"/>
              <a:ext cx="459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$4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976200" y="3256920"/>
              <a:ext cx="459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$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976200" y="2995920"/>
              <a:ext cx="459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$6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976200" y="2748600"/>
              <a:ext cx="459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$7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976200" y="2498040"/>
              <a:ext cx="459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$8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976200" y="2248920"/>
              <a:ext cx="459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$9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55960" y="1999800"/>
              <a:ext cx="608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$1,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281200" y="4739760"/>
              <a:ext cx="46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el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458120" y="4739760"/>
              <a:ext cx="44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16200000">
              <a:off x="3265920" y="3164040"/>
              <a:ext cx="1062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Million AU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5068800" y="5238000"/>
              <a:ext cx="75600" cy="86760"/>
              <a:chOff x="5068800" y="5238000"/>
              <a:chExt cx="75600" cy="86760"/>
            </a:xfrm>
          </p:grpSpPr>
          <p:sp>
            <p:nvSpPr>
              <p:cNvPr id="565" name=""/>
              <p:cNvSpPr/>
              <p:nvPr/>
            </p:nvSpPr>
            <p:spPr>
              <a:xfrm>
                <a:off x="5068800" y="5238000"/>
                <a:ext cx="75600" cy="11520"/>
              </a:xfrm>
              <a:prstGeom prst="rect">
                <a:avLst/>
              </a:prstGeom>
              <a:solidFill>
                <a:srgbClr val="9797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068800" y="5249520"/>
                <a:ext cx="75600" cy="13320"/>
              </a:xfrm>
              <a:prstGeom prst="rect">
                <a:avLst/>
              </a:prstGeom>
              <a:solidFill>
                <a:srgbClr val="9292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068800" y="5262840"/>
                <a:ext cx="75600" cy="11520"/>
              </a:xfrm>
              <a:prstGeom prst="rect">
                <a:avLst/>
              </a:prstGeom>
              <a:solidFill>
                <a:srgbClr val="8787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068800" y="5274720"/>
                <a:ext cx="75600" cy="13320"/>
              </a:xfrm>
              <a:prstGeom prst="rect">
                <a:avLst/>
              </a:prstGeom>
              <a:solidFill>
                <a:srgbClr val="7777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068800" y="5288040"/>
                <a:ext cx="75600" cy="11520"/>
              </a:xfrm>
              <a:prstGeom prst="rect">
                <a:avLst/>
              </a:prstGeom>
              <a:solidFill>
                <a:srgbClr val="6464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068800" y="5299920"/>
                <a:ext cx="75600" cy="11880"/>
              </a:xfrm>
              <a:prstGeom prst="rect">
                <a:avLst/>
              </a:prstGeom>
              <a:solidFill>
                <a:srgbClr val="5353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068800" y="5311800"/>
                <a:ext cx="75600" cy="12960"/>
              </a:xfrm>
              <a:prstGeom prst="rect">
                <a:avLst/>
              </a:prstGeom>
              <a:solidFill>
                <a:srgbClr val="474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5054400" y="5224320"/>
              <a:ext cx="85320" cy="99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6581520" y="5224320"/>
              <a:ext cx="75960" cy="86760"/>
              <a:chOff x="6581520" y="5224320"/>
              <a:chExt cx="75960" cy="86760"/>
            </a:xfrm>
          </p:grpSpPr>
          <p:sp>
            <p:nvSpPr>
              <p:cNvPr id="574" name=""/>
              <p:cNvSpPr/>
              <p:nvPr/>
            </p:nvSpPr>
            <p:spPr>
              <a:xfrm>
                <a:off x="6581520" y="5224320"/>
                <a:ext cx="75960" cy="11520"/>
              </a:xfrm>
              <a:prstGeom prst="rect">
                <a:avLst/>
              </a:prstGeom>
              <a:solidFill>
                <a:srgbClr val="973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581520" y="5235840"/>
                <a:ext cx="75960" cy="13320"/>
              </a:xfrm>
              <a:prstGeom prst="rect">
                <a:avLst/>
              </a:prstGeom>
              <a:solidFill>
                <a:srgbClr val="923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581520" y="5249160"/>
                <a:ext cx="75960" cy="11520"/>
              </a:xfrm>
              <a:prstGeom prst="rect">
                <a:avLst/>
              </a:prstGeom>
              <a:solidFill>
                <a:srgbClr val="872d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81520" y="5261040"/>
                <a:ext cx="75960" cy="13320"/>
              </a:xfrm>
              <a:prstGeom prst="rect">
                <a:avLst/>
              </a:prstGeom>
              <a:solidFill>
                <a:srgbClr val="772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581520" y="5274360"/>
                <a:ext cx="75960" cy="11520"/>
              </a:xfrm>
              <a:prstGeom prst="rect">
                <a:avLst/>
              </a:prstGeom>
              <a:solidFill>
                <a:srgbClr val="6421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581520" y="5286240"/>
                <a:ext cx="75960" cy="11880"/>
              </a:xfrm>
              <a:prstGeom prst="rect">
                <a:avLst/>
              </a:prstGeom>
              <a:solidFill>
                <a:srgbClr val="531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581520" y="5298120"/>
                <a:ext cx="75960" cy="12960"/>
              </a:xfrm>
              <a:prstGeom prst="rect">
                <a:avLst/>
              </a:prstGeom>
              <a:solidFill>
                <a:srgbClr val="4717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6581520" y="5224320"/>
              <a:ext cx="87120" cy="99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696720" y="5162400"/>
              <a:ext cx="1083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ainten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540240" y="1838160"/>
              <a:ext cx="5217840" cy="36356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3567240" y="5549760"/>
            <a:ext cx="5203800" cy="540000"/>
          </a:xfrm>
          <a:prstGeom prst="rect">
            <a:avLst/>
          </a:prstGeom>
          <a:noFill/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se estimates of expected overspend are based on IT Effectiveness and not on any unit cost differenti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9CE8-4CEB-4D98-A49C-49A01EACED3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2T06:20:23Z</dcterms:created>
  <dc:creator>Balaji</dc:creator>
  <dc:description/>
  <dc:language>en-US</dc:language>
  <cp:lastModifiedBy>abhay_pawar</cp:lastModifiedBy>
  <cp:lastPrinted>2001-09-12T17:18:20Z</cp:lastPrinted>
  <dcterms:modified xsi:type="dcterms:W3CDTF">2002-08-26T18:51:48Z</dcterms:modified>
  <cp:revision>1495</cp:revision>
  <dc:subject/>
  <dc:title>Business Tranformation through Technology</dc:title>
</cp:coreProperties>
</file>