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590-377B-4B2D-8900-81FBFDDD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191-5DBD-4A33-8B81-B81963DE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D26-F6B0-4565-B9B7-B9303F5F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C58-D381-455B-8511-4A379470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024-F136-436B-BD9E-91EC3255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184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41360" y="548640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3619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5184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41360" y="5924520"/>
            <a:ext cx="208512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58D-B7E6-4B38-8472-CA60049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578-2E27-458F-8E81-3E2A43B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6DE-EBB4-49C2-A05C-461DD49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1960" y="3886200"/>
            <a:ext cx="647676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218-A18E-431F-A7EE-111ED686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314-6F26-4D5D-89CF-6C87E49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80800" y="592452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A9E-4E2B-4032-990C-729D9D7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0800" y="5486400"/>
            <a:ext cx="316044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1960" y="5924520"/>
            <a:ext cx="647676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468-C4F3-4E20-92A0-93D9D71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3004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222480">
              <a:spcBef>
                <a:spcPts val="7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22248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D092A34-7752-4568-9662-4175AE69CD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38280" y="104760"/>
            <a:ext cx="2210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943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2 Infosys Technologie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1523880"/>
            <a:ext cx="22096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gust 27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5053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up to the promi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3459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49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0320" algn="ctr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6280" algn="ctr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76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0240" y="4191120"/>
            <a:ext cx="777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usiness transformation through technolog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1960" y="54864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U. B. Pravin Rao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228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nd faced the risk of being caught in a vicious circle of poor IT effectiveness due to continued business pressur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11560" y="4216320"/>
            <a:ext cx="568080" cy="424080"/>
          </a:xfrm>
          <a:prstGeom prst="rightArrow">
            <a:avLst>
              <a:gd name="adj1" fmla="val 50000"/>
              <a:gd name="adj2" fmla="val 3348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325764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ly Telco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64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ication: Lower I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3000240"/>
            <a:ext cx="3276720" cy="2857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esser money to invest in application ration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ower investment in crucial infrastructure projects (without immediate benef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utting back existing implementation plans will have cascading effect on IT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mpromise on lifecycle activities that will reduce delivery re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3971880"/>
            <a:ext cx="1768680" cy="912960"/>
          </a:xfrm>
          <a:prstGeom prst="ellipse">
            <a:avLst/>
          </a:prstGeom>
          <a:solidFill>
            <a:srgbClr val="ccffff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ut in discretio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T Expendi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895480" y="3591000"/>
            <a:ext cx="1463760" cy="1676160"/>
            <a:chOff x="2895480" y="3591000"/>
            <a:chExt cx="1463760" cy="1676160"/>
          </a:xfrm>
        </p:grpSpPr>
        <p:sp>
          <p:nvSpPr>
            <p:cNvPr id="592" name=""/>
            <p:cNvSpPr/>
            <p:nvPr/>
          </p:nvSpPr>
          <p:spPr>
            <a:xfrm>
              <a:off x="2895480" y="3591000"/>
              <a:ext cx="1463760" cy="688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Reduction in investment sp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95480" y="4578480"/>
              <a:ext cx="1463760" cy="688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rbitrary cuts in budgeted expendi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4495680" y="4216320"/>
            <a:ext cx="685800" cy="424080"/>
          </a:xfrm>
          <a:prstGeom prst="rightArrow">
            <a:avLst>
              <a:gd name="adj1" fmla="val 50000"/>
              <a:gd name="adj2" fmla="val 4042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9D8-F3A9-4CC3-AEE2-3A61A38D2C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998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We proposed a 3 - phased transformation program that would help Telco launch, consolidate and sustain improvements in IT effectivenes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72268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0120" y="2722680"/>
            <a:ext cx="22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Term (6 - 12 Mont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11200" y="27226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 Term (1 Year 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58960" y="3032280"/>
            <a:ext cx="2268360" cy="75852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reate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03640" y="3032280"/>
            <a:ext cx="2270160" cy="75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artial Migration to a lower cost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Decommissioning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nsolidation of applications kicked of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56240" y="3032280"/>
            <a:ext cx="2173320" cy="75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lear migration roadmap for the entire Telco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ationalized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58960" y="3936960"/>
            <a:ext cx="2268360" cy="70812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rocess Definitions for some Projec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un Pi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03640" y="3936960"/>
            <a:ext cx="2270160" cy="708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to all of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Process definitions for all projec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Estimation Mode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56240" y="3936960"/>
            <a:ext cx="2173320" cy="70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across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Automated process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Formal capability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8960" y="4792680"/>
            <a:ext cx="2268360" cy="72540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 Narrow"/>
              </a:rPr>
              <a:t>Define Metrics, Skeletal Org Structure, Governance Mechanisms, KP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0000"/>
                </a:solidFill>
                <a:latin typeface="Arial Narrow"/>
              </a:rPr>
              <a:t>Process Capability Baseline, Dash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03640" y="4792680"/>
            <a:ext cx="2270160" cy="725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to all of IS; Launch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etrics-Inventory (IRM)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56240" y="4792680"/>
            <a:ext cx="2173320" cy="725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ollout across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Communication &amp;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68320" y="5694480"/>
            <a:ext cx="2268720" cy="69696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Review IT budgets for next financi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Ensure adequate investment in infrastructur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1560" y="5694480"/>
            <a:ext cx="2270160" cy="696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Institutionalize demand management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56240" y="5694480"/>
            <a:ext cx="217332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marL="112680" indent="-112680">
              <a:lnSpc>
                <a:spcPct val="100000"/>
              </a:lnSpc>
              <a:buClr>
                <a:srgbClr val="01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 Narrow"/>
              </a:rPr>
              <a:t>Monitor returns and effectiveness of prior 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50960" y="3032280"/>
            <a:ext cx="942840" cy="7585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0960" y="3936960"/>
            <a:ext cx="942840" cy="7081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eliver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0960" y="4794120"/>
            <a:ext cx="942840" cy="723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eople and Gover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0960" y="5694480"/>
            <a:ext cx="942840" cy="69696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vestment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11320" y="1822320"/>
            <a:ext cx="1801800" cy="900360"/>
          </a:xfrm>
          <a:custGeom>
            <a:avLst/>
            <a:gdLst>
              <a:gd name="textAreaLeft" fmla="*/ 281520 w 1801800"/>
              <a:gd name="textAreaRight" fmla="*/ 1576800 w 180180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ff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Launch &amp; En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40360" y="1822320"/>
            <a:ext cx="2234880" cy="900360"/>
          </a:xfrm>
          <a:custGeom>
            <a:avLst/>
            <a:gdLst>
              <a:gd name="textAreaLeft" fmla="*/ 349200 w 2234880"/>
              <a:gd name="textAreaRight" fmla="*/ 1955520 w 223488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Evangelize &amp; Consoli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23200" y="1822320"/>
            <a:ext cx="2077920" cy="900360"/>
          </a:xfrm>
          <a:custGeom>
            <a:avLst/>
            <a:gdLst>
              <a:gd name="textAreaLeft" fmla="*/ 324720 w 2077920"/>
              <a:gd name="textAreaRight" fmla="*/ 1818360 w 2077920"/>
              <a:gd name="textAreaTop" fmla="*/ 225000 h 900360"/>
              <a:gd name="textAreaBottom" fmla="*/ 675360 h 90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Rollout &amp; Sus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1A1-A69C-43B1-9E59-786EF3C0D1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1353960" y="2136600"/>
            <a:ext cx="6643800" cy="3911760"/>
            <a:chOff x="1353960" y="2136600"/>
            <a:chExt cx="6643800" cy="3911760"/>
          </a:xfrm>
        </p:grpSpPr>
        <p:sp>
          <p:nvSpPr>
            <p:cNvPr id="619" name=""/>
            <p:cNvSpPr/>
            <p:nvPr/>
          </p:nvSpPr>
          <p:spPr>
            <a:xfrm>
              <a:off x="1353960" y="2136600"/>
              <a:ext cx="6643800" cy="391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32080" y="2468520"/>
              <a:ext cx="5560920" cy="2906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2080" y="537516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32080" y="472428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080" y="408636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32080" y="343692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32080" y="2787480"/>
              <a:ext cx="556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2080" y="2468520"/>
              <a:ext cx="5560920" cy="2906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73440" y="4950000"/>
              <a:ext cx="325440" cy="1062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92680" y="4724280"/>
              <a:ext cx="314280" cy="33192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99320" y="3495600"/>
              <a:ext cx="326880" cy="15606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18200" y="2550960"/>
              <a:ext cx="314640" cy="25052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81440" y="5056200"/>
              <a:ext cx="314280" cy="1116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98880" y="5056200"/>
              <a:ext cx="316080" cy="460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06960" y="5056200"/>
              <a:ext cx="314280" cy="5868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6200" y="5056200"/>
              <a:ext cx="314280" cy="1760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32840" y="5056200"/>
              <a:ext cx="315720" cy="18900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2080" y="2468520"/>
              <a:ext cx="1440" cy="290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51080" y="537516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51080" y="47242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51080" y="4086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51080" y="34369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51080" y="27874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32080" y="5056200"/>
              <a:ext cx="556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33208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44016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59400" y="50558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66568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78492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893000" y="50558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37080" y="5232240"/>
              <a:ext cx="38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15560" y="458316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78040" y="394488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778040" y="32958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78040" y="264492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85760" y="5421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92040" y="5421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5224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6032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66600" y="5421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40400" y="5575320"/>
              <a:ext cx="70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6200000">
              <a:off x="1139400" y="3879360"/>
              <a:ext cx="79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illion $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53960" y="5646600"/>
              <a:ext cx="2995920" cy="40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34960" y="5776920"/>
              <a:ext cx="163800" cy="1652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67520" y="5705640"/>
              <a:ext cx="77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aving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82720" y="5776920"/>
              <a:ext cx="163800" cy="16524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17080" y="5705640"/>
              <a:ext cx="116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53960" y="2136600"/>
              <a:ext cx="6643800" cy="3911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998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The solution needs a cumulative investment of $50-80M over three years and can potentially yield annual benefits of $300-400M</a:t>
            </a:r>
            <a:r>
              <a:rPr b="0" lang="en-US" sz="18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by the third year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9440" y="3981600"/>
            <a:ext cx="1515960" cy="782640"/>
          </a:xfrm>
          <a:custGeom>
            <a:avLst/>
            <a:gdLst>
              <a:gd name="textAreaLeft" fmla="*/ 236880 w 1515960"/>
              <a:gd name="textAreaRight" fmla="*/ 1326600 w 151596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Launch &amp; E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686040" y="2836800"/>
            <a:ext cx="2208240" cy="782640"/>
          </a:xfrm>
          <a:custGeom>
            <a:avLst/>
            <a:gdLst>
              <a:gd name="textAreaLeft" fmla="*/ 344880 w 2208240"/>
              <a:gd name="textAreaRight" fmla="*/ 1932480 w 220824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Evangelize &amp; Consol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99000" y="1785960"/>
            <a:ext cx="2276640" cy="782640"/>
          </a:xfrm>
          <a:custGeom>
            <a:avLst/>
            <a:gdLst>
              <a:gd name="textAreaLeft" fmla="*/ 355680 w 2276640"/>
              <a:gd name="textAreaRight" fmla="*/ 1992240 w 2276640"/>
              <a:gd name="textAreaTop" fmla="*/ 195480 h 782640"/>
              <a:gd name="textAreaBottom" fmla="*/ 58716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ollout &amp; Sus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3320"/>
            <a:ext cx="1849680" cy="466920"/>
          </a:xfrm>
          <a:prstGeom prst="borderCallout1">
            <a:avLst>
              <a:gd name="adj1" fmla="val 18750"/>
              <a:gd name="adj2" fmla="val -8333"/>
              <a:gd name="adj3" fmla="val 644009"/>
              <a:gd name="adj4" fmla="val 140564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stment yields positive returns within on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46040" y="6192720"/>
            <a:ext cx="67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ing that current annual spend will continue every year for baseline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99000" y="5756400"/>
            <a:ext cx="2568600" cy="409320"/>
          </a:xfrm>
          <a:prstGeom prst="borderCallout1">
            <a:avLst>
              <a:gd name="adj1" fmla="val 18750"/>
              <a:gd name="adj2" fmla="val -8333"/>
              <a:gd name="adj3" fmla="val -141666"/>
              <a:gd name="adj4" fmla="val -45787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resent self-financing investments that yield benefits within the same peri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24400" y="5172120"/>
            <a:ext cx="174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498640" y="5172120"/>
            <a:ext cx="8175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5498640" y="5172120"/>
            <a:ext cx="186876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308-A80B-4E81-97E9-FE941674EB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238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3 : Developing a New Supply Chain Blueprint for a Leading Apparel Company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ading designer, marketer &amp; distributor of premium lifesty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categories of products – apparel, home, furnishings &amp; fragr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portfolio consists of some of the world’s most widely recognized brand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sales of USD 2.2 billion in F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improve inventory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cash to cash cyc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total inventory in the pip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duce supply chain operations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transporta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manp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1996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inventory carry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77D-1229-4ABA-B0C8-CF69B9A5C9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11520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 Approach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igrate to the “To-Be” state …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77880" y="1884240"/>
            <a:ext cx="7865640" cy="4573440"/>
            <a:chOff x="677880" y="1884240"/>
            <a:chExt cx="7865640" cy="4573440"/>
          </a:xfrm>
        </p:grpSpPr>
        <p:sp>
          <p:nvSpPr>
            <p:cNvPr id="681" name=""/>
            <p:cNvSpPr/>
            <p:nvPr/>
          </p:nvSpPr>
          <p:spPr>
            <a:xfrm>
              <a:off x="677880" y="2754720"/>
              <a:ext cx="7865640" cy="457560"/>
            </a:xfrm>
            <a:prstGeom prst="rightArrow">
              <a:avLst>
                <a:gd name="adj1" fmla="val 43139"/>
                <a:gd name="adj2" fmla="val 12065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7880" y="1884240"/>
              <a:ext cx="7865640" cy="429480"/>
            </a:xfrm>
            <a:prstGeom prst="leftRightArrow">
              <a:avLst>
                <a:gd name="adj1" fmla="val 49676"/>
                <a:gd name="adj2" fmla="val 123452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8100000"/>
            </a:gradFill>
            <a:ln cap="rnd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rmation 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11360" y="2219760"/>
              <a:ext cx="7796880" cy="666360"/>
              <a:chOff x="711360" y="2219760"/>
              <a:chExt cx="7796880" cy="6663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044240" y="2571840"/>
                <a:ext cx="1047600" cy="172800"/>
                <a:chOff x="4044240" y="2571840"/>
                <a:chExt cx="1047600" cy="172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082760" y="2603520"/>
                  <a:ext cx="894960" cy="118440"/>
                </a:xfrm>
                <a:prstGeom prst="rect">
                  <a:avLst/>
                </a:prstGeom>
                <a:solidFill>
                  <a:srgbClr val="dde5ff"/>
                </a:solidFill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044240" y="2571840"/>
                  <a:ext cx="972720" cy="19080"/>
                </a:xfrm>
                <a:prstGeom prst="rect">
                  <a:avLst/>
                </a:prstGeom>
                <a:solidFill>
                  <a:srgbClr val="dde5ff"/>
                </a:solidFill>
                <a:ln w="1260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121640" y="2671200"/>
                  <a:ext cx="695880" cy="39960"/>
                  <a:chOff x="4121640" y="2671200"/>
                  <a:chExt cx="695880" cy="3996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412164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20048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292640" y="2671200"/>
                    <a:ext cx="3888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370040" y="2671200"/>
                    <a:ext cx="2700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451040" y="2671200"/>
                    <a:ext cx="367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54176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619160" y="2671200"/>
                    <a:ext cx="403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713480" y="2671200"/>
                    <a:ext cx="2484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779000" y="2671200"/>
                    <a:ext cx="38520" cy="399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4875120" y="2645640"/>
                  <a:ext cx="216720" cy="99000"/>
                  <a:chOff x="4875120" y="2645640"/>
                  <a:chExt cx="216720" cy="990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4888440" y="2653920"/>
                    <a:ext cx="191880" cy="7776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875120" y="2645640"/>
                    <a:ext cx="216720" cy="1692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927320" y="2727720"/>
                    <a:ext cx="13320" cy="16920"/>
                  </a:xfrm>
                  <a:prstGeom prst="rect">
                    <a:avLst/>
                  </a:prstGeom>
                  <a:solidFill>
                    <a:srgbClr val="dde5ff"/>
                  </a:solidFill>
                  <a:ln w="1260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4914000" y="2685600"/>
                    <a:ext cx="165960" cy="16200"/>
                    <a:chOff x="4914000" y="2685600"/>
                    <a:chExt cx="165960" cy="1620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914000" y="2685600"/>
                      <a:ext cx="63360" cy="16200"/>
                    </a:xfrm>
                    <a:prstGeom prst="rect">
                      <a:avLst/>
                    </a:prstGeom>
                    <a:solidFill>
                      <a:srgbClr val="dde5ff"/>
                    </a:solidFill>
                    <a:ln w="1260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5004720" y="2685600"/>
                      <a:ext cx="75240" cy="16200"/>
                    </a:xfrm>
                    <a:prstGeom prst="rect">
                      <a:avLst/>
                    </a:prstGeom>
                    <a:solidFill>
                      <a:srgbClr val="dde5ff"/>
                    </a:solidFill>
                    <a:ln w="1260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04" name=""/>
              <p:cNvSpPr/>
              <p:nvPr/>
            </p:nvSpPr>
            <p:spPr>
              <a:xfrm>
                <a:off x="1689120" y="2313360"/>
                <a:ext cx="63612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uppli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847240" y="2219760"/>
                <a:ext cx="621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nbound 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Logistic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33520" y="2306520"/>
                <a:ext cx="81432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arehous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07160" y="2306520"/>
                <a:ext cx="108576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etail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99920" y="2306520"/>
                <a:ext cx="50832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6804720" y="2547720"/>
                <a:ext cx="871200" cy="183600"/>
                <a:chOff x="6804720" y="2547720"/>
                <a:chExt cx="871200" cy="1836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024680" y="2660040"/>
                  <a:ext cx="173160" cy="4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388280" y="2654280"/>
                  <a:ext cx="203040" cy="504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191360" y="2547720"/>
                  <a:ext cx="324720" cy="504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815880" y="2602440"/>
                  <a:ext cx="836280" cy="120600"/>
                </a:xfrm>
                <a:prstGeom prst="rect">
                  <a:avLst/>
                </a:prstGeom>
                <a:solidFill>
                  <a:srgbClr val="3333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804720" y="2610720"/>
                  <a:ext cx="871200" cy="223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811200" y="2616480"/>
                  <a:ext cx="86292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839640" y="2660040"/>
                  <a:ext cx="193320" cy="41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075440" y="2660040"/>
                  <a:ext cx="168120" cy="3888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446960" y="2660040"/>
                  <a:ext cx="193320" cy="41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285680" y="2654280"/>
                  <a:ext cx="119160" cy="7416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292160" y="2660040"/>
                  <a:ext cx="112680" cy="66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353000" y="265428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55">
                      <a:moveTo>
                        <a:pt x="0" y="0"/>
                      </a:moveTo>
                      <a:lnTo>
                        <a:pt x="0" y="5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261920" y="2635920"/>
                  <a:ext cx="164520" cy="219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268760" y="2641320"/>
                  <a:ext cx="1562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7280640" y="2660040"/>
                  <a:ext cx="145440" cy="64440"/>
                  <a:chOff x="7280640" y="2660040"/>
                  <a:chExt cx="145440" cy="6444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280640" y="2660040"/>
                    <a:ext cx="13320" cy="6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412760" y="2660040"/>
                    <a:ext cx="13320" cy="6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2731320" y="2531160"/>
                <a:ext cx="983880" cy="230040"/>
                <a:chOff x="2731320" y="2531160"/>
                <a:chExt cx="983880" cy="230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2731320" y="2531160"/>
                  <a:ext cx="983880" cy="230040"/>
                </a:xfrm>
                <a:prstGeom prst="rightArrow">
                  <a:avLst>
                    <a:gd name="adj1" fmla="val 75009"/>
                    <a:gd name="adj2" fmla="val 90807"/>
                  </a:avLst>
                </a:prstGeom>
                <a:solidFill>
                  <a:srgbClr val="dddddd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788200" y="2670120"/>
                  <a:ext cx="4842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06920" y="2588760"/>
                  <a:ext cx="510840" cy="7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806920" y="2592720"/>
                  <a:ext cx="509400" cy="67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99fc"/>
                    </a:gs>
                    <a:gs pos="50000">
                      <a:srgbClr val="618ffd"/>
                    </a:gs>
                    <a:gs pos="100000">
                      <a:srgbClr val="7099fc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806920" y="2682720"/>
                  <a:ext cx="0" cy="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183480" y="2670120"/>
                  <a:ext cx="136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171600" y="2691000"/>
                  <a:ext cx="136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5" name=""/>
                <p:cNvGrpSpPr/>
                <p:nvPr/>
              </p:nvGrpSpPr>
              <p:grpSpPr>
                <a:xfrm>
                  <a:off x="2813400" y="2670120"/>
                  <a:ext cx="126720" cy="31680"/>
                  <a:chOff x="2813400" y="2670120"/>
                  <a:chExt cx="126720" cy="3168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2889000" y="2670120"/>
                    <a:ext cx="51120" cy="31680"/>
                    <a:chOff x="2889000" y="2670120"/>
                    <a:chExt cx="51120" cy="3168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2889000" y="2670120"/>
                      <a:ext cx="3816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2889000" y="2670120"/>
                      <a:ext cx="3816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288900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2901960" y="268560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290196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288900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288900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29019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291528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29271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2927160" y="26856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290196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290196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813400" y="2670120"/>
                    <a:ext cx="51480" cy="31680"/>
                    <a:chOff x="2813400" y="2670120"/>
                    <a:chExt cx="51480" cy="3168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2813400" y="2670120"/>
                      <a:ext cx="5004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2813400" y="2670120"/>
                      <a:ext cx="5004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282492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2838240" y="2685600"/>
                      <a:ext cx="13320" cy="1080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282492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2824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2824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28382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2851920" y="268560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2851920" y="267696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2851920" y="269100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3197160" y="2588760"/>
                  <a:ext cx="429840" cy="114840"/>
                  <a:chOff x="3197160" y="2588760"/>
                  <a:chExt cx="429840" cy="1148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3432240" y="2616480"/>
                    <a:ext cx="19296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40">
                        <a:moveTo>
                          <a:pt x="106" y="33"/>
                        </a:moveTo>
                        <a:lnTo>
                          <a:pt x="114" y="24"/>
                        </a:lnTo>
                        <a:lnTo>
                          <a:pt x="106" y="19"/>
                        </a:lnTo>
                        <a:lnTo>
                          <a:pt x="84" y="19"/>
                        </a:lnTo>
                        <a:lnTo>
                          <a:pt x="46" y="19"/>
                        </a:lnTo>
                        <a:lnTo>
                          <a:pt x="46" y="14"/>
                        </a:ln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14" y="3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3502440" y="2664360"/>
                    <a:ext cx="75600" cy="1548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605040" y="267696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222000" y="2676960"/>
                    <a:ext cx="139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3375000" y="2615400"/>
                    <a:ext cx="38520" cy="6444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3381840" y="2588760"/>
                    <a:ext cx="14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381840" y="2588760"/>
                    <a:ext cx="14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3527640" y="2664360"/>
                    <a:ext cx="51840" cy="37440"/>
                    <a:chOff x="3527640" y="2664360"/>
                    <a:chExt cx="51840" cy="3744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3527640" y="2664360"/>
                      <a:ext cx="50400" cy="295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527640" y="2669760"/>
                      <a:ext cx="38520" cy="16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3541320" y="2676960"/>
                      <a:ext cx="2484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3554640" y="26856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355464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354132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356616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356616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356616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3554640" y="267696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3554640" y="2691000"/>
                      <a:ext cx="1332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3197160" y="2670120"/>
                    <a:ext cx="140040" cy="31680"/>
                    <a:chOff x="3197160" y="2670120"/>
                    <a:chExt cx="140040" cy="31680"/>
                  </a:xfrm>
                </p:grpSpPr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3260520" y="2670120"/>
                      <a:ext cx="76680" cy="31680"/>
                      <a:chOff x="3260520" y="2670120"/>
                      <a:chExt cx="76680" cy="3168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3260520" y="2670120"/>
                        <a:ext cx="7524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3285360" y="2670120"/>
                        <a:ext cx="3672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3285360" y="2676960"/>
                        <a:ext cx="2520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329904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329904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3285360" y="269100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33109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33242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331092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329904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329904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1" name=""/>
                    <p:cNvGrpSpPr/>
                    <p:nvPr/>
                  </p:nvGrpSpPr>
                  <p:grpSpPr>
                    <a:xfrm>
                      <a:off x="3197160" y="2670120"/>
                      <a:ext cx="63000" cy="31680"/>
                      <a:chOff x="3197160" y="2670120"/>
                      <a:chExt cx="63000" cy="31680"/>
                    </a:xfrm>
                  </p:grpSpPr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3197160" y="2670120"/>
                        <a:ext cx="5004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3208680" y="2670120"/>
                        <a:ext cx="3816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3222000" y="2676960"/>
                        <a:ext cx="2484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322200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22200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32220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32353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324720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3235320" y="26856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3235320" y="267696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3235320" y="269100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3509280" y="2664360"/>
                    <a:ext cx="115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68" y="10"/>
                        </a:move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509280" y="2664360"/>
                    <a:ext cx="1155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">
                        <a:moveTo>
                          <a:pt x="68" y="10"/>
                        </a:move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  <a:lnTo>
                          <a:pt x="60" y="10"/>
                        </a:lnTo>
                        <a:lnTo>
                          <a:pt x="53" y="10"/>
                        </a:lnTo>
                        <a:lnTo>
                          <a:pt x="53" y="5"/>
                        </a:lnTo>
                        <a:lnTo>
                          <a:pt x="45" y="5"/>
                        </a:lnTo>
                        <a:lnTo>
                          <a:pt x="45" y="0"/>
                        </a:lnTo>
                        <a:lnTo>
                          <a:pt x="38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4"/>
                        </a:lnTo>
                        <a:lnTo>
                          <a:pt x="8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8" y="0"/>
                        </a:lnTo>
                        <a:lnTo>
                          <a:pt x="45" y="0"/>
                        </a:lnTo>
                        <a:lnTo>
                          <a:pt x="53" y="0"/>
                        </a:lnTo>
                        <a:lnTo>
                          <a:pt x="60" y="0"/>
                        </a:lnTo>
                        <a:lnTo>
                          <a:pt x="60" y="5"/>
                        </a:lnTo>
                        <a:lnTo>
                          <a:pt x="68" y="5"/>
                        </a:lnTo>
                        <a:lnTo>
                          <a:pt x="68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598560" y="264492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98560" y="264492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521160" y="2644920"/>
                    <a:ext cx="1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521160" y="2644920"/>
                    <a:ext cx="1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457080" y="2616480"/>
                    <a:ext cx="536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5">
                        <a:moveTo>
                          <a:pt x="23" y="0"/>
                        </a:moveTo>
                        <a:lnTo>
                          <a:pt x="23" y="5"/>
                        </a:lnTo>
                        <a:lnTo>
                          <a:pt x="23" y="9"/>
                        </a:lnTo>
                        <a:lnTo>
                          <a:pt x="31" y="14"/>
                        </a:lnTo>
                        <a:lnTo>
                          <a:pt x="31" y="19"/>
                        </a:lnTo>
                        <a:lnTo>
                          <a:pt x="31" y="24"/>
                        </a:lnTo>
                        <a:lnTo>
                          <a:pt x="31" y="28"/>
                        </a:lnTo>
                        <a:lnTo>
                          <a:pt x="31" y="34"/>
                        </a:lnTo>
                        <a:lnTo>
                          <a:pt x="23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23" y="5"/>
                        </a:lnTo>
                        <a:lnTo>
                          <a:pt x="23" y="9"/>
                        </a:lnTo>
                        <a:lnTo>
                          <a:pt x="31" y="14"/>
                        </a:lnTo>
                        <a:lnTo>
                          <a:pt x="31" y="19"/>
                        </a:lnTo>
                        <a:lnTo>
                          <a:pt x="31" y="24"/>
                        </a:lnTo>
                        <a:lnTo>
                          <a:pt x="31" y="28"/>
                        </a:lnTo>
                        <a:lnTo>
                          <a:pt x="31" y="34"/>
                        </a:lnTo>
                        <a:lnTo>
                          <a:pt x="23" y="34"/>
                        </a:lnTo>
                        <a:lnTo>
                          <a:pt x="16" y="34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457080" y="262368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0"/>
                        </a:move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457080" y="262368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23" y="0"/>
                        </a:move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  <a:lnTo>
                          <a:pt x="23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439080" y="2670120"/>
                    <a:ext cx="5004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502440" y="264348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477240" y="261540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509280" y="2638080"/>
                    <a:ext cx="90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5" y="16"/>
                        </a:lnTo>
                        <a:lnTo>
                          <a:pt x="53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509280" y="2638080"/>
                    <a:ext cx="90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5" y="16"/>
                        </a:lnTo>
                        <a:lnTo>
                          <a:pt x="53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3502440" y="261540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432240" y="2616480"/>
                    <a:ext cx="78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7">
                        <a:moveTo>
                          <a:pt x="38" y="0"/>
                        </a:move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46" y="0"/>
                        </a:lnTo>
                        <a:lnTo>
                          <a:pt x="38" y="0"/>
                        </a:lnTo>
                        <a:lnTo>
                          <a:pt x="31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432240" y="261648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38" y="0"/>
                        </a:move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3420360" y="2616480"/>
                    <a:ext cx="770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45" y="3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349800" y="2664360"/>
                    <a:ext cx="63360" cy="15480"/>
                    <a:chOff x="3349800" y="2664360"/>
                    <a:chExt cx="63360" cy="1548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349800" y="2664360"/>
                      <a:ext cx="6336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3362760" y="266436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3399840" y="266436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7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7080" y="2679840"/>
                    <a:ext cx="40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5" y="16"/>
                        </a:lnTo>
                        <a:lnTo>
                          <a:pt x="23" y="16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aphicFrame>
            <p:nvGraphicFramePr>
              <p:cNvPr id="840" name=""/>
              <p:cNvGraphicFramePr/>
              <p:nvPr/>
            </p:nvGraphicFramePr>
            <p:xfrm>
              <a:off x="1587960" y="2533680"/>
              <a:ext cx="917640" cy="244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4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87960" y="2533680"/>
                        <a:ext cx="917640" cy="24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42" name=""/>
              <p:cNvGrpSpPr/>
              <p:nvPr/>
            </p:nvGrpSpPr>
            <p:grpSpPr>
              <a:xfrm>
                <a:off x="8074080" y="2520000"/>
                <a:ext cx="368280" cy="249480"/>
                <a:chOff x="8074080" y="2520000"/>
                <a:chExt cx="368280" cy="2494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8166240" y="2520000"/>
                  <a:ext cx="129600" cy="246600"/>
                </a:xfrm>
                <a:custGeom>
                  <a:avLst/>
                  <a:gdLst/>
                  <a:ahLst/>
                  <a:rect l="l" t="t" r="r" b="b"/>
                  <a:pathLst>
                    <a:path w="93" h="158">
                      <a:moveTo>
                        <a:pt x="13" y="30"/>
                      </a:moveTo>
                      <a:lnTo>
                        <a:pt x="1" y="44"/>
                      </a:lnTo>
                      <a:lnTo>
                        <a:pt x="0" y="47"/>
                      </a:lnTo>
                      <a:lnTo>
                        <a:pt x="1" y="53"/>
                      </a:lnTo>
                      <a:lnTo>
                        <a:pt x="9" y="66"/>
                      </a:lnTo>
                      <a:lnTo>
                        <a:pt x="17" y="68"/>
                      </a:lnTo>
                      <a:lnTo>
                        <a:pt x="20" y="68"/>
                      </a:lnTo>
                      <a:lnTo>
                        <a:pt x="21" y="62"/>
                      </a:lnTo>
                      <a:lnTo>
                        <a:pt x="17" y="63"/>
                      </a:lnTo>
                      <a:lnTo>
                        <a:pt x="15" y="60"/>
                      </a:lnTo>
                      <a:lnTo>
                        <a:pt x="12" y="50"/>
                      </a:lnTo>
                      <a:lnTo>
                        <a:pt x="20" y="42"/>
                      </a:lnTo>
                      <a:lnTo>
                        <a:pt x="22" y="59"/>
                      </a:lnTo>
                      <a:lnTo>
                        <a:pt x="23" y="61"/>
                      </a:lnTo>
                      <a:lnTo>
                        <a:pt x="21" y="62"/>
                      </a:lnTo>
                      <a:lnTo>
                        <a:pt x="20" y="68"/>
                      </a:lnTo>
                      <a:lnTo>
                        <a:pt x="22" y="67"/>
                      </a:lnTo>
                      <a:lnTo>
                        <a:pt x="22" y="79"/>
                      </a:lnTo>
                      <a:lnTo>
                        <a:pt x="25" y="116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6" y="155"/>
                      </a:lnTo>
                      <a:lnTo>
                        <a:pt x="26" y="157"/>
                      </a:lnTo>
                      <a:lnTo>
                        <a:pt x="35" y="157"/>
                      </a:lnTo>
                      <a:lnTo>
                        <a:pt x="38" y="153"/>
                      </a:lnTo>
                      <a:lnTo>
                        <a:pt x="39" y="152"/>
                      </a:lnTo>
                      <a:lnTo>
                        <a:pt x="41" y="152"/>
                      </a:lnTo>
                      <a:lnTo>
                        <a:pt x="45" y="141"/>
                      </a:lnTo>
                      <a:lnTo>
                        <a:pt x="44" y="121"/>
                      </a:lnTo>
                      <a:lnTo>
                        <a:pt x="45" y="85"/>
                      </a:lnTo>
                      <a:lnTo>
                        <a:pt x="49" y="124"/>
                      </a:lnTo>
                      <a:lnTo>
                        <a:pt x="47" y="143"/>
                      </a:lnTo>
                      <a:lnTo>
                        <a:pt x="51" y="152"/>
                      </a:lnTo>
                      <a:lnTo>
                        <a:pt x="52" y="152"/>
                      </a:lnTo>
                      <a:lnTo>
                        <a:pt x="52" y="156"/>
                      </a:lnTo>
                      <a:lnTo>
                        <a:pt x="53" y="157"/>
                      </a:lnTo>
                      <a:lnTo>
                        <a:pt x="63" y="157"/>
                      </a:lnTo>
                      <a:lnTo>
                        <a:pt x="64" y="156"/>
                      </a:lnTo>
                      <a:lnTo>
                        <a:pt x="64" y="155"/>
                      </a:lnTo>
                      <a:lnTo>
                        <a:pt x="63" y="153"/>
                      </a:lnTo>
                      <a:lnTo>
                        <a:pt x="65" y="152"/>
                      </a:lnTo>
                      <a:lnTo>
                        <a:pt x="69" y="86"/>
                      </a:lnTo>
                      <a:lnTo>
                        <a:pt x="69" y="67"/>
                      </a:lnTo>
                      <a:lnTo>
                        <a:pt x="71" y="68"/>
                      </a:lnTo>
                      <a:lnTo>
                        <a:pt x="71" y="62"/>
                      </a:lnTo>
                      <a:lnTo>
                        <a:pt x="68" y="62"/>
                      </a:lnTo>
                      <a:lnTo>
                        <a:pt x="69" y="59"/>
                      </a:lnTo>
                      <a:lnTo>
                        <a:pt x="69" y="42"/>
                      </a:lnTo>
                      <a:lnTo>
                        <a:pt x="75" y="45"/>
                      </a:lnTo>
                      <a:lnTo>
                        <a:pt x="78" y="48"/>
                      </a:lnTo>
                      <a:lnTo>
                        <a:pt x="76" y="60"/>
                      </a:lnTo>
                      <a:lnTo>
                        <a:pt x="73" y="63"/>
                      </a:lnTo>
                      <a:lnTo>
                        <a:pt x="71" y="62"/>
                      </a:lnTo>
                      <a:lnTo>
                        <a:pt x="71" y="68"/>
                      </a:lnTo>
                      <a:lnTo>
                        <a:pt x="73" y="68"/>
                      </a:lnTo>
                      <a:lnTo>
                        <a:pt x="75" y="68"/>
                      </a:lnTo>
                      <a:lnTo>
                        <a:pt x="84" y="64"/>
                      </a:lnTo>
                      <a:lnTo>
                        <a:pt x="89" y="51"/>
                      </a:lnTo>
                      <a:lnTo>
                        <a:pt x="92" y="46"/>
                      </a:lnTo>
                      <a:lnTo>
                        <a:pt x="90" y="44"/>
                      </a:lnTo>
                      <a:lnTo>
                        <a:pt x="78" y="32"/>
                      </a:lnTo>
                      <a:lnTo>
                        <a:pt x="71" y="28"/>
                      </a:lnTo>
                      <a:lnTo>
                        <a:pt x="52" y="23"/>
                      </a:lnTo>
                      <a:lnTo>
                        <a:pt x="52" y="17"/>
                      </a:lnTo>
                      <a:lnTo>
                        <a:pt x="54" y="17"/>
                      </a:lnTo>
                      <a:lnTo>
                        <a:pt x="56" y="11"/>
                      </a:lnTo>
                      <a:lnTo>
                        <a:pt x="55" y="6"/>
                      </a:lnTo>
                      <a:lnTo>
                        <a:pt x="51" y="1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31" y="7"/>
                      </a:lnTo>
                      <a:lnTo>
                        <a:pt x="31" y="13"/>
                      </a:lnTo>
                      <a:lnTo>
                        <a:pt x="31" y="14"/>
                      </a:lnTo>
                      <a:lnTo>
                        <a:pt x="32" y="17"/>
                      </a:lnTo>
                      <a:lnTo>
                        <a:pt x="35" y="17"/>
                      </a:lnTo>
                      <a:lnTo>
                        <a:pt x="37" y="23"/>
                      </a:lnTo>
                      <a:lnTo>
                        <a:pt x="17" y="28"/>
                      </a:lnTo>
                      <a:lnTo>
                        <a:pt x="13" y="30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272080" y="2522880"/>
                  <a:ext cx="105840" cy="243360"/>
                </a:xfrm>
                <a:custGeom>
                  <a:avLst/>
                  <a:gdLst/>
                  <a:ahLst/>
                  <a:rect l="l" t="t" r="r" b="b"/>
                  <a:pathLst>
                    <a:path w="76" h="156">
                      <a:moveTo>
                        <a:pt x="0" y="44"/>
                      </a:moveTo>
                      <a:lnTo>
                        <a:pt x="0" y="53"/>
                      </a:lnTo>
                      <a:lnTo>
                        <a:pt x="2" y="54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8" y="62"/>
                      </a:lnTo>
                      <a:lnTo>
                        <a:pt x="9" y="80"/>
                      </a:lnTo>
                      <a:lnTo>
                        <a:pt x="13" y="83"/>
                      </a:lnTo>
                      <a:lnTo>
                        <a:pt x="17" y="120"/>
                      </a:lnTo>
                      <a:lnTo>
                        <a:pt x="13" y="146"/>
                      </a:lnTo>
                      <a:lnTo>
                        <a:pt x="16" y="147"/>
                      </a:lnTo>
                      <a:lnTo>
                        <a:pt x="15" y="151"/>
                      </a:lnTo>
                      <a:lnTo>
                        <a:pt x="16" y="155"/>
                      </a:lnTo>
                      <a:lnTo>
                        <a:pt x="27" y="155"/>
                      </a:lnTo>
                      <a:lnTo>
                        <a:pt x="29" y="153"/>
                      </a:lnTo>
                      <a:lnTo>
                        <a:pt x="29" y="146"/>
                      </a:lnTo>
                      <a:lnTo>
                        <a:pt x="31" y="144"/>
                      </a:lnTo>
                      <a:lnTo>
                        <a:pt x="37" y="90"/>
                      </a:lnTo>
                      <a:lnTo>
                        <a:pt x="41" y="125"/>
                      </a:lnTo>
                      <a:lnTo>
                        <a:pt x="43" y="137"/>
                      </a:lnTo>
                      <a:lnTo>
                        <a:pt x="49" y="148"/>
                      </a:lnTo>
                      <a:lnTo>
                        <a:pt x="48" y="153"/>
                      </a:lnTo>
                      <a:lnTo>
                        <a:pt x="49" y="155"/>
                      </a:lnTo>
                      <a:lnTo>
                        <a:pt x="61" y="155"/>
                      </a:lnTo>
                      <a:lnTo>
                        <a:pt x="61" y="151"/>
                      </a:lnTo>
                      <a:lnTo>
                        <a:pt x="58" y="148"/>
                      </a:lnTo>
                      <a:lnTo>
                        <a:pt x="61" y="147"/>
                      </a:lnTo>
                      <a:lnTo>
                        <a:pt x="58" y="83"/>
                      </a:lnTo>
                      <a:lnTo>
                        <a:pt x="65" y="81"/>
                      </a:lnTo>
                      <a:lnTo>
                        <a:pt x="64" y="66"/>
                      </a:lnTo>
                      <a:lnTo>
                        <a:pt x="75" y="50"/>
                      </a:lnTo>
                      <a:lnTo>
                        <a:pt x="72" y="37"/>
                      </a:lnTo>
                      <a:lnTo>
                        <a:pt x="65" y="25"/>
                      </a:lnTo>
                      <a:lnTo>
                        <a:pt x="46" y="21"/>
                      </a:lnTo>
                      <a:lnTo>
                        <a:pt x="45" y="15"/>
                      </a:lnTo>
                      <a:lnTo>
                        <a:pt x="48" y="15"/>
                      </a:lnTo>
                      <a:lnTo>
                        <a:pt x="50" y="7"/>
                      </a:lnTo>
                      <a:lnTo>
                        <a:pt x="45" y="1"/>
                      </a:lnTo>
                      <a:lnTo>
                        <a:pt x="35" y="0"/>
                      </a:lnTo>
                      <a:lnTo>
                        <a:pt x="27" y="1"/>
                      </a:lnTo>
                      <a:lnTo>
                        <a:pt x="23" y="7"/>
                      </a:lnTo>
                      <a:lnTo>
                        <a:pt x="26" y="15"/>
                      </a:lnTo>
                      <a:lnTo>
                        <a:pt x="27" y="15"/>
                      </a:lnTo>
                      <a:lnTo>
                        <a:pt x="27" y="18"/>
                      </a:lnTo>
                      <a:lnTo>
                        <a:pt x="25" y="21"/>
                      </a:lnTo>
                      <a:lnTo>
                        <a:pt x="5" y="25"/>
                      </a:lnTo>
                      <a:lnTo>
                        <a:pt x="2" y="31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74080" y="2529000"/>
                  <a:ext cx="119880" cy="237240"/>
                </a:xfrm>
                <a:custGeom>
                  <a:avLst/>
                  <a:gdLst/>
                  <a:ahLst/>
                  <a:rect l="l" t="t" r="r" b="b"/>
                  <a:pathLst>
                    <a:path w="86" h="152">
                      <a:moveTo>
                        <a:pt x="81" y="24"/>
                      </a:moveTo>
                      <a:lnTo>
                        <a:pt x="78" y="23"/>
                      </a:lnTo>
                      <a:lnTo>
                        <a:pt x="62" y="21"/>
                      </a:lnTo>
                      <a:lnTo>
                        <a:pt x="62" y="18"/>
                      </a:lnTo>
                      <a:lnTo>
                        <a:pt x="65" y="14"/>
                      </a:lnTo>
                      <a:lnTo>
                        <a:pt x="65" y="10"/>
                      </a:lnTo>
                      <a:lnTo>
                        <a:pt x="63" y="6"/>
                      </a:lnTo>
                      <a:lnTo>
                        <a:pt x="65" y="4"/>
                      </a:lnTo>
                      <a:lnTo>
                        <a:pt x="57" y="0"/>
                      </a:lnTo>
                      <a:lnTo>
                        <a:pt x="52" y="0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0" y="5"/>
                      </a:lnTo>
                      <a:lnTo>
                        <a:pt x="37" y="19"/>
                      </a:lnTo>
                      <a:lnTo>
                        <a:pt x="39" y="22"/>
                      </a:lnTo>
                      <a:lnTo>
                        <a:pt x="27" y="26"/>
                      </a:lnTo>
                      <a:lnTo>
                        <a:pt x="2" y="44"/>
                      </a:lnTo>
                      <a:lnTo>
                        <a:pt x="0" y="48"/>
                      </a:lnTo>
                      <a:lnTo>
                        <a:pt x="23" y="61"/>
                      </a:lnTo>
                      <a:lnTo>
                        <a:pt x="23" y="69"/>
                      </a:lnTo>
                      <a:lnTo>
                        <a:pt x="24" y="72"/>
                      </a:lnTo>
                      <a:lnTo>
                        <a:pt x="17" y="113"/>
                      </a:lnTo>
                      <a:lnTo>
                        <a:pt x="35" y="115"/>
                      </a:lnTo>
                      <a:lnTo>
                        <a:pt x="36" y="121"/>
                      </a:lnTo>
                      <a:lnTo>
                        <a:pt x="42" y="136"/>
                      </a:lnTo>
                      <a:lnTo>
                        <a:pt x="43" y="147"/>
                      </a:lnTo>
                      <a:lnTo>
                        <a:pt x="47" y="151"/>
                      </a:lnTo>
                      <a:lnTo>
                        <a:pt x="53" y="151"/>
                      </a:lnTo>
                      <a:lnTo>
                        <a:pt x="54" y="149"/>
                      </a:lnTo>
                      <a:lnTo>
                        <a:pt x="51" y="138"/>
                      </a:lnTo>
                      <a:lnTo>
                        <a:pt x="51" y="136"/>
                      </a:lnTo>
                      <a:lnTo>
                        <a:pt x="50" y="133"/>
                      </a:lnTo>
                      <a:lnTo>
                        <a:pt x="48" y="124"/>
                      </a:lnTo>
                      <a:lnTo>
                        <a:pt x="47" y="116"/>
                      </a:lnTo>
                      <a:lnTo>
                        <a:pt x="52" y="116"/>
                      </a:lnTo>
                      <a:lnTo>
                        <a:pt x="51" y="119"/>
                      </a:lnTo>
                      <a:lnTo>
                        <a:pt x="54" y="131"/>
                      </a:lnTo>
                      <a:lnTo>
                        <a:pt x="51" y="133"/>
                      </a:lnTo>
                      <a:lnTo>
                        <a:pt x="51" y="136"/>
                      </a:lnTo>
                      <a:lnTo>
                        <a:pt x="55" y="140"/>
                      </a:lnTo>
                      <a:lnTo>
                        <a:pt x="57" y="145"/>
                      </a:lnTo>
                      <a:lnTo>
                        <a:pt x="67" y="149"/>
                      </a:lnTo>
                      <a:lnTo>
                        <a:pt x="72" y="148"/>
                      </a:lnTo>
                      <a:lnTo>
                        <a:pt x="68" y="143"/>
                      </a:lnTo>
                      <a:lnTo>
                        <a:pt x="62" y="135"/>
                      </a:lnTo>
                      <a:lnTo>
                        <a:pt x="61" y="132"/>
                      </a:lnTo>
                      <a:lnTo>
                        <a:pt x="65" y="116"/>
                      </a:lnTo>
                      <a:lnTo>
                        <a:pt x="63" y="109"/>
                      </a:lnTo>
                      <a:lnTo>
                        <a:pt x="69" y="71"/>
                      </a:lnTo>
                      <a:lnTo>
                        <a:pt x="74" y="71"/>
                      </a:lnTo>
                      <a:lnTo>
                        <a:pt x="74" y="72"/>
                      </a:lnTo>
                      <a:lnTo>
                        <a:pt x="75" y="72"/>
                      </a:lnTo>
                      <a:lnTo>
                        <a:pt x="74" y="75"/>
                      </a:lnTo>
                      <a:lnTo>
                        <a:pt x="74" y="83"/>
                      </a:lnTo>
                      <a:lnTo>
                        <a:pt x="80" y="80"/>
                      </a:lnTo>
                      <a:lnTo>
                        <a:pt x="81" y="80"/>
                      </a:lnTo>
                      <a:lnTo>
                        <a:pt x="85" y="78"/>
                      </a:lnTo>
                      <a:lnTo>
                        <a:pt x="82" y="74"/>
                      </a:lnTo>
                      <a:lnTo>
                        <a:pt x="83" y="74"/>
                      </a:lnTo>
                      <a:lnTo>
                        <a:pt x="83" y="63"/>
                      </a:lnTo>
                      <a:lnTo>
                        <a:pt x="83" y="57"/>
                      </a:lnTo>
                      <a:lnTo>
                        <a:pt x="83" y="42"/>
                      </a:lnTo>
                      <a:lnTo>
                        <a:pt x="82" y="27"/>
                      </a:lnTo>
                      <a:lnTo>
                        <a:pt x="81" y="24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67120" y="2533680"/>
                  <a:ext cx="75240" cy="235800"/>
                </a:xfrm>
                <a:custGeom>
                  <a:avLst/>
                  <a:gdLst/>
                  <a:ahLst/>
                  <a:rect l="l" t="t" r="r" b="b"/>
                  <a:pathLst>
                    <a:path w="54" h="151">
                      <a:moveTo>
                        <a:pt x="3" y="56"/>
                      </a:moveTo>
                      <a:lnTo>
                        <a:pt x="1" y="60"/>
                      </a:lnTo>
                      <a:lnTo>
                        <a:pt x="0" y="68"/>
                      </a:lnTo>
                      <a:lnTo>
                        <a:pt x="3" y="105"/>
                      </a:lnTo>
                      <a:lnTo>
                        <a:pt x="9" y="105"/>
                      </a:lnTo>
                      <a:lnTo>
                        <a:pt x="11" y="118"/>
                      </a:lnTo>
                      <a:lnTo>
                        <a:pt x="21" y="139"/>
                      </a:lnTo>
                      <a:lnTo>
                        <a:pt x="17" y="144"/>
                      </a:lnTo>
                      <a:lnTo>
                        <a:pt x="10" y="147"/>
                      </a:lnTo>
                      <a:lnTo>
                        <a:pt x="11" y="148"/>
                      </a:lnTo>
                      <a:lnTo>
                        <a:pt x="22" y="148"/>
                      </a:lnTo>
                      <a:lnTo>
                        <a:pt x="28" y="145"/>
                      </a:lnTo>
                      <a:lnTo>
                        <a:pt x="29" y="147"/>
                      </a:lnTo>
                      <a:lnTo>
                        <a:pt x="32" y="147"/>
                      </a:lnTo>
                      <a:lnTo>
                        <a:pt x="34" y="145"/>
                      </a:lnTo>
                      <a:lnTo>
                        <a:pt x="31" y="141"/>
                      </a:lnTo>
                      <a:lnTo>
                        <a:pt x="29" y="138"/>
                      </a:lnTo>
                      <a:lnTo>
                        <a:pt x="27" y="127"/>
                      </a:lnTo>
                      <a:lnTo>
                        <a:pt x="31" y="137"/>
                      </a:lnTo>
                      <a:lnTo>
                        <a:pt x="31" y="141"/>
                      </a:lnTo>
                      <a:lnTo>
                        <a:pt x="34" y="145"/>
                      </a:lnTo>
                      <a:lnTo>
                        <a:pt x="40" y="150"/>
                      </a:lnTo>
                      <a:lnTo>
                        <a:pt x="43" y="150"/>
                      </a:lnTo>
                      <a:lnTo>
                        <a:pt x="45" y="148"/>
                      </a:lnTo>
                      <a:lnTo>
                        <a:pt x="38" y="137"/>
                      </a:lnTo>
                      <a:lnTo>
                        <a:pt x="37" y="128"/>
                      </a:lnTo>
                      <a:lnTo>
                        <a:pt x="32" y="113"/>
                      </a:lnTo>
                      <a:lnTo>
                        <a:pt x="28" y="106"/>
                      </a:lnTo>
                      <a:lnTo>
                        <a:pt x="34" y="106"/>
                      </a:lnTo>
                      <a:lnTo>
                        <a:pt x="40" y="78"/>
                      </a:lnTo>
                      <a:lnTo>
                        <a:pt x="41" y="65"/>
                      </a:lnTo>
                      <a:lnTo>
                        <a:pt x="35" y="55"/>
                      </a:lnTo>
                      <a:lnTo>
                        <a:pt x="38" y="49"/>
                      </a:lnTo>
                      <a:lnTo>
                        <a:pt x="37" y="48"/>
                      </a:lnTo>
                      <a:lnTo>
                        <a:pt x="40" y="42"/>
                      </a:lnTo>
                      <a:lnTo>
                        <a:pt x="41" y="49"/>
                      </a:lnTo>
                      <a:lnTo>
                        <a:pt x="38" y="49"/>
                      </a:lnTo>
                      <a:lnTo>
                        <a:pt x="35" y="55"/>
                      </a:lnTo>
                      <a:lnTo>
                        <a:pt x="49" y="56"/>
                      </a:lnTo>
                      <a:lnTo>
                        <a:pt x="53" y="53"/>
                      </a:lnTo>
                      <a:lnTo>
                        <a:pt x="45" y="26"/>
                      </a:lnTo>
                      <a:lnTo>
                        <a:pt x="27" y="19"/>
                      </a:lnTo>
                      <a:lnTo>
                        <a:pt x="25" y="16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0" y="0"/>
                      </a:lnTo>
                      <a:lnTo>
                        <a:pt x="8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9" y="19"/>
                      </a:lnTo>
                      <a:lnTo>
                        <a:pt x="11" y="19"/>
                      </a:lnTo>
                      <a:lnTo>
                        <a:pt x="11" y="21"/>
                      </a:lnTo>
                      <a:lnTo>
                        <a:pt x="8" y="22"/>
                      </a:lnTo>
                      <a:lnTo>
                        <a:pt x="6" y="24"/>
                      </a:lnTo>
                      <a:lnTo>
                        <a:pt x="5" y="24"/>
                      </a:lnTo>
                      <a:lnTo>
                        <a:pt x="3" y="30"/>
                      </a:lnTo>
                      <a:lnTo>
                        <a:pt x="2" y="33"/>
                      </a:lnTo>
                      <a:lnTo>
                        <a:pt x="0" y="38"/>
                      </a:lnTo>
                      <a:lnTo>
                        <a:pt x="1" y="41"/>
                      </a:lnTo>
                      <a:lnTo>
                        <a:pt x="5" y="44"/>
                      </a:lnTo>
                      <a:lnTo>
                        <a:pt x="6" y="48"/>
                      </a:lnTo>
                      <a:lnTo>
                        <a:pt x="3" y="56"/>
                      </a:lnTo>
                    </a:path>
                  </a:pathLst>
                </a:custGeom>
                <a:solidFill>
                  <a:srgbClr val="6699ff"/>
                </a:solidFill>
                <a:ln cap="rnd" w="12600">
                  <a:solidFill>
                    <a:srgbClr val="66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5663520" y="2533680"/>
                <a:ext cx="703440" cy="230400"/>
                <a:chOff x="5663520" y="2533680"/>
                <a:chExt cx="703440" cy="2304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5663520" y="2533680"/>
                  <a:ext cx="703440" cy="230400"/>
                </a:xfrm>
                <a:prstGeom prst="rightArrow">
                  <a:avLst>
                    <a:gd name="adj1" fmla="val 75009"/>
                    <a:gd name="adj2" fmla="val 64822"/>
                  </a:avLst>
                </a:prstGeom>
                <a:solidFill>
                  <a:srgbClr val="dddddd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678640" y="2678040"/>
                  <a:ext cx="3448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690160" y="2596680"/>
                  <a:ext cx="367200" cy="75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693400" y="2600640"/>
                  <a:ext cx="358560" cy="67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99fc"/>
                    </a:gs>
                    <a:gs pos="50000">
                      <a:srgbClr val="618ffd"/>
                    </a:gs>
                    <a:gs pos="100000">
                      <a:srgbClr val="7099fc"/>
                    </a:gs>
                  </a:gsLst>
                  <a:lin ang="54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690160" y="2691000"/>
                  <a:ext cx="0" cy="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963040" y="2678040"/>
                  <a:ext cx="1332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954760" y="2699280"/>
                  <a:ext cx="1332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5697000" y="2678040"/>
                  <a:ext cx="95040" cy="31680"/>
                  <a:chOff x="5697000" y="2678040"/>
                  <a:chExt cx="95040" cy="3168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750640" y="2678040"/>
                    <a:ext cx="41400" cy="31680"/>
                    <a:chOff x="5750640" y="2678040"/>
                    <a:chExt cx="41400" cy="3168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5750640" y="2678040"/>
                      <a:ext cx="2484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5750640" y="2678040"/>
                      <a:ext cx="2484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5750640" y="2684880"/>
                      <a:ext cx="151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5760720" y="269352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576072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750640" y="269892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5750640" y="2698920"/>
                      <a:ext cx="133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576072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5770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57790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577908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76072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576072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5697000" y="2678040"/>
                    <a:ext cx="41400" cy="31680"/>
                    <a:chOff x="5697000" y="2678040"/>
                    <a:chExt cx="41400" cy="316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5697000" y="2678040"/>
                      <a:ext cx="31680" cy="23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5697000" y="2678040"/>
                      <a:ext cx="31680" cy="1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5705280" y="2684880"/>
                      <a:ext cx="1512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5715360" y="2693520"/>
                      <a:ext cx="12960" cy="10800"/>
                    </a:xfrm>
                    <a:prstGeom prst="ellipse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570528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57052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570528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57153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72544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72544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5725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973120" y="2596680"/>
                  <a:ext cx="314640" cy="114840"/>
                  <a:chOff x="5973120" y="2596680"/>
                  <a:chExt cx="314640" cy="11484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6139800" y="2624400"/>
                    <a:ext cx="1396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0">
                        <a:moveTo>
                          <a:pt x="76" y="33"/>
                        </a:moveTo>
                        <a:lnTo>
                          <a:pt x="82" y="24"/>
                        </a:lnTo>
                        <a:lnTo>
                          <a:pt x="76" y="19"/>
                        </a:lnTo>
                        <a:lnTo>
                          <a:pt x="60" y="19"/>
                        </a:lnTo>
                        <a:lnTo>
                          <a:pt x="33" y="19"/>
                        </a:lnTo>
                        <a:lnTo>
                          <a:pt x="33" y="14"/>
                        </a:ln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82" y="3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193440" y="2672280"/>
                    <a:ext cx="50040" cy="1548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266160" y="268488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991480" y="2684880"/>
                    <a:ext cx="9576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100920" y="2623320"/>
                    <a:ext cx="23400" cy="6444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104160" y="25966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104160" y="25966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55">
                        <a:moveTo>
                          <a:pt x="0" y="54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6210360" y="2672280"/>
                    <a:ext cx="41400" cy="37440"/>
                    <a:chOff x="6210360" y="2672280"/>
                    <a:chExt cx="41400" cy="3744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6210360" y="2672280"/>
                      <a:ext cx="33120" cy="295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210360" y="2677680"/>
                      <a:ext cx="24840" cy="16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6220440" y="2684880"/>
                      <a:ext cx="147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6230160" y="26935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23016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622044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623880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623880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623880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230160" y="268488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230160" y="2698920"/>
                      <a:ext cx="12960" cy="1080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973120" y="2678040"/>
                    <a:ext cx="103680" cy="31680"/>
                    <a:chOff x="5973120" y="2678040"/>
                    <a:chExt cx="103680" cy="31680"/>
                  </a:xfrm>
                </p:grpSpPr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018120" y="2678040"/>
                      <a:ext cx="58680" cy="31680"/>
                      <a:chOff x="6018120" y="2678040"/>
                      <a:chExt cx="58680" cy="31680"/>
                    </a:xfrm>
                  </p:grpSpPr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6018120" y="2678040"/>
                        <a:ext cx="5040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6036480" y="2678040"/>
                        <a:ext cx="2160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6036480" y="268488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6046560" y="26935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6046560" y="268488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>
                        <a:off x="6036480" y="2698920"/>
                        <a:ext cx="1332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5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605484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606312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054840" y="26935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046560" y="268488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046560" y="2698920"/>
                        <a:ext cx="1368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5973120" y="2678040"/>
                      <a:ext cx="48240" cy="31680"/>
                      <a:chOff x="5973120" y="2678040"/>
                      <a:chExt cx="48240" cy="3168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5973120" y="2678040"/>
                        <a:ext cx="31680" cy="237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5981400" y="2678040"/>
                        <a:ext cx="23400" cy="1656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>
                        <a:off x="599148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5991480" y="26935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599148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599148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>
                        <a:off x="599976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>
                        <a:off x="600840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>
                        <a:off x="5999760" y="26935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5999760" y="268488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5999760" y="2698920"/>
                        <a:ext cx="12960" cy="1080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35" name=""/>
                  <p:cNvSpPr/>
                  <p:nvPr/>
                </p:nvSpPr>
                <p:spPr>
                  <a:xfrm>
                    <a:off x="6195240" y="2672280"/>
                    <a:ext cx="84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10"/>
                        </a:move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6195240" y="2672280"/>
                    <a:ext cx="84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1">
                        <a:moveTo>
                          <a:pt x="49" y="10"/>
                        </a:move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  <a:lnTo>
                          <a:pt x="43" y="10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2" y="5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14"/>
                        </a:lnTo>
                        <a:lnTo>
                          <a:pt x="5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9" y="5"/>
                        </a:lnTo>
                        <a:lnTo>
                          <a:pt x="49" y="1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259320" y="265284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259320" y="2652840"/>
                    <a:ext cx="2844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14"/>
                        </a:move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16" y="14"/>
                        </a:lnTo>
                        <a:lnTo>
                          <a:pt x="16" y="19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203520" y="2652840"/>
                    <a:ext cx="1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203520" y="2652840"/>
                    <a:ext cx="1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158160" y="2624400"/>
                    <a:ext cx="38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5">
                        <a:moveTo>
                          <a:pt x="16" y="0"/>
                        </a:move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22" y="14"/>
                        </a:lnTo>
                        <a:lnTo>
                          <a:pt x="22" y="19"/>
                        </a:lnTo>
                        <a:lnTo>
                          <a:pt x="22" y="24"/>
                        </a:lnTo>
                        <a:lnTo>
                          <a:pt x="22" y="28"/>
                        </a:lnTo>
                        <a:lnTo>
                          <a:pt x="22" y="34"/>
                        </a:lnTo>
                        <a:lnTo>
                          <a:pt x="16" y="34"/>
                        </a:lnTo>
                        <a:lnTo>
                          <a:pt x="11" y="34"/>
                        </a:lnTo>
                        <a:lnTo>
                          <a:pt x="5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  <a:lnTo>
                          <a:pt x="16" y="5"/>
                        </a:lnTo>
                        <a:lnTo>
                          <a:pt x="16" y="9"/>
                        </a:lnTo>
                        <a:lnTo>
                          <a:pt x="22" y="14"/>
                        </a:lnTo>
                        <a:lnTo>
                          <a:pt x="22" y="19"/>
                        </a:lnTo>
                        <a:lnTo>
                          <a:pt x="22" y="24"/>
                        </a:lnTo>
                        <a:lnTo>
                          <a:pt x="22" y="28"/>
                        </a:lnTo>
                        <a:lnTo>
                          <a:pt x="22" y="34"/>
                        </a:lnTo>
                        <a:lnTo>
                          <a:pt x="16" y="34"/>
                        </a:lnTo>
                        <a:lnTo>
                          <a:pt x="11" y="34"/>
                        </a:lnTo>
                        <a:lnTo>
                          <a:pt x="5" y="34"/>
                        </a:lnTo>
                        <a:lnTo>
                          <a:pt x="0" y="34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58160" y="263160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158160" y="263160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17" y="0"/>
                        </a:move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146640" y="2678040"/>
                    <a:ext cx="334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193440" y="2651400"/>
                    <a:ext cx="1332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175080" y="2623320"/>
                    <a:ext cx="13680" cy="10800"/>
                  </a:xfrm>
                  <a:prstGeom prst="rect">
                    <a:avLst/>
                  </a:prstGeom>
                  <a:solidFill>
                    <a:srgbClr val="bbe0e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195240" y="26460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21" y="16"/>
                        </a:lnTo>
                        <a:lnTo>
                          <a:pt x="27" y="16"/>
                        </a:lnTo>
                        <a:lnTo>
                          <a:pt x="32" y="16"/>
                        </a:lnTo>
                        <a:lnTo>
                          <a:pt x="38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195240" y="26460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21" y="16"/>
                        </a:lnTo>
                        <a:lnTo>
                          <a:pt x="27" y="16"/>
                        </a:lnTo>
                        <a:lnTo>
                          <a:pt x="32" y="16"/>
                        </a:lnTo>
                        <a:lnTo>
                          <a:pt x="38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6190200" y="2623320"/>
                    <a:ext cx="0" cy="7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139800" y="2624400"/>
                    <a:ext cx="57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27" y="0"/>
                        </a:move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33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139800" y="2624400"/>
                    <a:ext cx="48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28" y="0"/>
                        </a:move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31520" y="2624400"/>
                    <a:ext cx="572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33" y="3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6082560" y="2672280"/>
                    <a:ext cx="49680" cy="15480"/>
                    <a:chOff x="6082560" y="2672280"/>
                    <a:chExt cx="49680" cy="1548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6082560" y="2672280"/>
                      <a:ext cx="4140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6092280" y="2672280"/>
                      <a:ext cx="1332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119280" y="2672280"/>
                      <a:ext cx="12960" cy="154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57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158160" y="26877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5" y="16"/>
                        </a:lnTo>
                        <a:lnTo>
                          <a:pt x="11" y="16"/>
                        </a:lnTo>
                        <a:lnTo>
                          <a:pt x="17" y="16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bbe0e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aphicFrame>
            <p:nvGraphicFramePr>
              <p:cNvPr id="960" name=""/>
              <p:cNvGraphicFramePr/>
              <p:nvPr/>
            </p:nvGraphicFramePr>
            <p:xfrm>
              <a:off x="744840" y="2500560"/>
              <a:ext cx="536760" cy="385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6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44840" y="2500560"/>
                        <a:ext cx="536760" cy="38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2" name=""/>
              <p:cNvSpPr/>
              <p:nvPr/>
            </p:nvSpPr>
            <p:spPr>
              <a:xfrm>
                <a:off x="711360" y="2313360"/>
                <a:ext cx="40212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esig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785520" y="3249000"/>
              <a:ext cx="7648920" cy="19659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59320" y="3236400"/>
              <a:ext cx="21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y Chain Exec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920160" y="3493440"/>
              <a:ext cx="7378920" cy="943920"/>
              <a:chOff x="920160" y="3493440"/>
              <a:chExt cx="7378920" cy="943920"/>
            </a:xfrm>
          </p:grpSpPr>
          <p:sp>
            <p:nvSpPr>
              <p:cNvPr id="966" name=""/>
              <p:cNvSpPr/>
              <p:nvPr/>
            </p:nvSpPr>
            <p:spPr>
              <a:xfrm>
                <a:off x="920160" y="3493440"/>
                <a:ext cx="2437200" cy="94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sign and Develop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ct design and development closer to dem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herence to design calend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25040" y="3493440"/>
                <a:ext cx="2612160" cy="94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Vendor Manag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endor managed inven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% compliant vend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17840" y="3493440"/>
                <a:ext cx="2181240" cy="93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noAutofit/>
              </a:bodyPr>
              <a:p>
                <a:pPr marL="231840" indent="-231840" algn="ctr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gis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oss dock of ship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verage 3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arty / suppliers and customers logistics 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1840" indent="-231840">
                  <a:lnSpc>
                    <a:spcPct val="90000"/>
                  </a:lnSpc>
                  <a:spcBef>
                    <a:spcPts val="374"/>
                  </a:spcBef>
                  <a:spcAft>
                    <a:spcPts val="300"/>
                  </a:spcAft>
                  <a:buClr>
                    <a:srgbClr val="0033cc"/>
                  </a:buClr>
                  <a:buSzPct val="8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900000" y="4515840"/>
              <a:ext cx="741996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>
                <a:lnSpc>
                  <a:spcPct val="90000"/>
                </a:lnSpc>
                <a:spcBef>
                  <a:spcPts val="374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mated and Integrated transaction systems across the supply chain and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ibility to logistics and inventory data across the supply chain and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on pool of inventory across business div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32320" y="5312160"/>
              <a:ext cx="7554600" cy="11455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59320" y="5299200"/>
              <a:ext cx="210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y Chai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53640" y="5489280"/>
              <a:ext cx="7312320" cy="89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>
                <a:lnSpc>
                  <a:spcPct val="90000"/>
                </a:lnSpc>
                <a:spcBef>
                  <a:spcPts val="975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mated forecasting and planning systems across departments – merchandize planning, sales planning, production / capacity planning, inventory planning and allo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and planning by do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ated sales and operations planning across depar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55240" y="2219760"/>
              <a:ext cx="6210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bound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590-642F-4F4D-B32E-28F7A0B44AD8}" type="slidenum">
              <a:t>14</a:t>
            </a:fld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314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Response 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… through implementing multiple initiatives …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476280" y="2525760"/>
            <a:ext cx="8195760" cy="3483000"/>
            <a:chOff x="476280" y="2525760"/>
            <a:chExt cx="8195760" cy="3483000"/>
          </a:xfrm>
        </p:grpSpPr>
        <p:sp>
          <p:nvSpPr>
            <p:cNvPr id="976" name=""/>
            <p:cNvSpPr/>
            <p:nvPr/>
          </p:nvSpPr>
          <p:spPr>
            <a:xfrm>
              <a:off x="476280" y="2525760"/>
              <a:ext cx="2288520" cy="3483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In-Process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ving from FOB to LDP/D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dor Compli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esigning of Corporate Calend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 based ASN Cap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44880" y="2525760"/>
              <a:ext cx="2670120" cy="3483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hase 1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censee V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&amp; Planning - Wholes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ss-Dock – Re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MI Stage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arty Fulfill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Performance Indica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istics and Inventory Visibility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ndardizing WMS Solutions across DC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ing &amp; Planning – Retai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1560" y="2525760"/>
              <a:ext cx="2670480" cy="3483000"/>
            </a:xfrm>
            <a:prstGeom prst="rect">
              <a:avLst/>
            </a:prstGeom>
            <a:solidFill>
              <a:srgbClr val="bbffd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hase 2 / 3 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 algn="ctr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ce Optimization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MI Stage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ntory Visibility and Order Processing at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eamlining Markdown Planning and Execu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obal Production Plann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ation Optimization T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obal QA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PI System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85000"/>
                </a:lnSpc>
                <a:spcBef>
                  <a:spcPts val="300"/>
                </a:spcBef>
                <a:spcAft>
                  <a:spcPts val="300"/>
                </a:spcAft>
                <a:buClr>
                  <a:srgbClr val="0033cc"/>
                </a:buClr>
                <a:buSzPct val="8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porate-wide Costing 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Product costing being evaluated to be moved to Phase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183-8ADA-4AB5-9817-B8CCEC0606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146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Results</a:t>
            </a:r>
            <a:br>
              <a:rPr sz="2400"/>
            </a:b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Recurring annual benefits of $24MM for one-time investment of $25MM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80" name=""/>
          <p:cNvGraphicFramePr/>
          <p:nvPr/>
        </p:nvGraphicFramePr>
        <p:xfrm>
          <a:off x="457200" y="3463920"/>
          <a:ext cx="8224920" cy="2552760"/>
        </p:xfrm>
        <a:graphic>
          <a:graphicData uri="http://schemas.openxmlformats.org/drawingml/2006/table">
            <a:tbl>
              <a:tblPr/>
              <a:tblGrid>
                <a:gridCol w="2060640"/>
                <a:gridCol w="2054160"/>
                <a:gridCol w="2055960"/>
                <a:gridCol w="205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ring Annual Benef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-Time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Back 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3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2 &amp;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E6F-87AE-437B-B97A-4E333CCF43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228600" y="76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21240" y="5257800"/>
            <a:ext cx="416556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sys’ Organizational Change Management Methodology, training and documentation ensured a successful transi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0880" y="5257800"/>
            <a:ext cx="403884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en I work with Infosys I don’t have to worry about them because they do not make promises that they can’t keep. They are committed to making us successfu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437000" y="2014200"/>
            <a:ext cx="4303800" cy="304704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awless Execution of Oracle Finan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outdated financial system and build a foundation for future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flexibility &amp; back-office effici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for better controls and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nageable chart of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reporting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ey milestone in Client’s business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for integration with Retail Inventory and Merchandis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ing on knowledge and expertise from 10-year old relationship to minimize business impact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440" y="2764800"/>
            <a:ext cx="3565440" cy="193500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ne Of USA’s Leading Fashion Specialty Ret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00 years in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2 US Stores, located in 25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 International Boutiques, primarily in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presence and direct mail 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7840" y="1228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4 : Flawless Execution To Install Complex Financial System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240-7E71-475F-9537-1E514CB06A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4648320" y="4878360"/>
            <a:ext cx="4114800" cy="1342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fosys’ technological expertise and excellent execution were exactly what we needed to provide our  customers the convenience of self-service and online confirmation of important transaction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ice President,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4600" y="1928880"/>
            <a:ext cx="8764560" cy="78732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SA’s leading provider of individual life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d by Fortune as the Most admired company in the world, in its categ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rs of annuities, mutual funds, long-term care insurance, and disability income insur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7720" y="2800440"/>
            <a:ext cx="3990960" cy="331164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evelop &amp; launch an online funds transfer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variable life and annuity policy 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business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x7 customer self-service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reliance on customer service call c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emely aggressive time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typ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sen based on prior experience of Infosys delivering high quality results on time and within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904840"/>
            <a:ext cx="4140000" cy="1705320"/>
          </a:xfrm>
          <a:prstGeom prst="roundRect">
            <a:avLst>
              <a:gd name="adj" fmla="val 12148"/>
            </a:avLst>
          </a:prstGeom>
          <a:solidFill>
            <a:srgbClr val="cce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nd-to-end Part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design to building of the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ed to extremely aggressive time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fosys originally hired in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 started with Y2K initi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ed to all I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se Study # 5: Partner To Create Transactional Web Sit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EB0-D30E-42E3-8B0B-26CAAE11808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228600" y="124776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n Conclusion, Infosys’ Range Of Services From “Strategy To Execution” Helps In Partnering On Such Transformation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32480" y="1962000"/>
            <a:ext cx="2930400" cy="73836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0" y="0"/>
                </a:lnTo>
                <a:lnTo>
                  <a:pt x="21600" y="10800"/>
                </a:lnTo>
                <a:lnTo>
                  <a:pt x="18680" y="21600"/>
                </a:lnTo>
                <a:lnTo>
                  <a:pt x="0" y="21600"/>
                </a:lnTo>
                <a:lnTo>
                  <a:pt x="2920" y="108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68520" y="1962000"/>
            <a:ext cx="2454480" cy="738360"/>
          </a:xfrm>
          <a:custGeom>
            <a:avLst/>
            <a:gdLst>
              <a:gd name="textAreaLeft" fmla="*/ 0 w 2454480"/>
              <a:gd name="textAreaRight" fmla="*/ 2454840 w 24544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5" y="0"/>
                </a:lnTo>
                <a:lnTo>
                  <a:pt x="21600" y="10800"/>
                </a:lnTo>
                <a:lnTo>
                  <a:pt x="18145" y="21600"/>
                </a:lnTo>
                <a:lnTo>
                  <a:pt x="0" y="21600"/>
                </a:lnTo>
                <a:lnTo>
                  <a:pt x="3455" y="108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65480" y="2141640"/>
            <a:ext cx="132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ild and 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1640" y="1962000"/>
            <a:ext cx="2314800" cy="738360"/>
          </a:xfrm>
          <a:custGeom>
            <a:avLst/>
            <a:gdLst>
              <a:gd name="textAreaLeft" fmla="*/ 0 w 2314800"/>
              <a:gd name="textAreaRight" fmla="*/ 2315160 w 23148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5" y="0"/>
                </a:lnTo>
                <a:lnTo>
                  <a:pt x="21600" y="10800"/>
                </a:lnTo>
                <a:lnTo>
                  <a:pt x="17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257800" y="21258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titute Operational Excel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2640" y="2125800"/>
            <a:ext cx="179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 for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494480" y="2041560"/>
            <a:ext cx="125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lient Needs For Business Trans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80440" y="4616280"/>
            <a:ext cx="1136520" cy="550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&amp;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2800" y="4610160"/>
            <a:ext cx="223380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&amp; technology alig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itecture &amp; roadmap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46440" y="4610160"/>
            <a:ext cx="237312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erprise IT 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 and systems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software 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9400" y="4610160"/>
            <a:ext cx="2233800" cy="55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Operation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Outsourcing &amp;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480440" y="5797440"/>
            <a:ext cx="113652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42800" y="5797440"/>
            <a:ext cx="223380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Consul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odeling and re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process impr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6440" y="5797440"/>
            <a:ext cx="237312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Change 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&amp; IT reenginee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89400" y="5797440"/>
            <a:ext cx="2233800" cy="55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rocess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 process ce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2800" y="5197320"/>
            <a:ext cx="223380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Strategy Consul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itecture &amp; roadmap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asibility and prototy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46440" y="5197320"/>
            <a:ext cx="237312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development &amp;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&amp; testing la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189400" y="5197320"/>
            <a:ext cx="2233800" cy="55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 Support 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support ce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product enhanc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80440" y="5195880"/>
            <a:ext cx="113652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 Produc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42800" y="3171960"/>
            <a:ext cx="6981480" cy="1257120"/>
            <a:chOff x="442800" y="3171960"/>
            <a:chExt cx="6981480" cy="1257120"/>
          </a:xfrm>
        </p:grpSpPr>
        <p:sp>
          <p:nvSpPr>
            <p:cNvPr id="1013" name=""/>
            <p:cNvSpPr/>
            <p:nvPr/>
          </p:nvSpPr>
          <p:spPr>
            <a:xfrm>
              <a:off x="442800" y="3171960"/>
              <a:ext cx="223380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esign For A Constantly Changing Business &amp; Technology Enviro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46800" y="3171960"/>
              <a:ext cx="237348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Build Future-Proof Solutions That Enable A Continuous Evolution Of The Enterpr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90480" y="3171960"/>
              <a:ext cx="2233800" cy="1257120"/>
            </a:xfrm>
            <a:prstGeom prst="rect">
              <a:avLst/>
            </a:prstGeom>
            <a:gradFill rotWithShape="0">
              <a:gsLst>
                <a:gs pos="0">
                  <a:srgbClr val="d8ebfe"/>
                </a:gs>
                <a:gs pos="50000">
                  <a:srgbClr val="99ccff"/>
                </a:gs>
                <a:gs pos="100000">
                  <a:srgbClr val="d8ebf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everage Current Investments in People &amp; I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82120" y="2822040"/>
            <a:ext cx="6649920" cy="279720"/>
            <a:chOff x="582120" y="2822040"/>
            <a:chExt cx="6649920" cy="279720"/>
          </a:xfrm>
        </p:grpSpPr>
        <p:sp>
          <p:nvSpPr>
            <p:cNvPr id="1017" name=""/>
            <p:cNvSpPr/>
            <p:nvPr/>
          </p:nvSpPr>
          <p:spPr>
            <a:xfrm rot="10800000">
              <a:off x="293832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58212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0800000">
              <a:off x="5329440" y="2822040"/>
              <a:ext cx="1902600" cy="2797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F9F-8B9D-4300-BA57-44E5E3CC1D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T Is a Powerful Enabler As Well as A Driver to Unlock Business Value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75160" y="1838160"/>
            <a:ext cx="3446640" cy="42944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1480" y="2017800"/>
            <a:ext cx="4552920" cy="4620600"/>
            <a:chOff x="501480" y="2017800"/>
            <a:chExt cx="4552920" cy="4620600"/>
          </a:xfrm>
        </p:grpSpPr>
        <p:grpSp>
          <p:nvGrpSpPr>
            <p:cNvPr id="95" name=""/>
            <p:cNvGrpSpPr/>
            <p:nvPr/>
          </p:nvGrpSpPr>
          <p:grpSpPr>
            <a:xfrm>
              <a:off x="1005120" y="2017800"/>
              <a:ext cx="3825000" cy="3836160"/>
              <a:chOff x="1005120" y="2017800"/>
              <a:chExt cx="3825000" cy="3836160"/>
            </a:xfrm>
          </p:grpSpPr>
          <p:sp>
            <p:nvSpPr>
              <p:cNvPr id="96" name=""/>
              <p:cNvSpPr/>
              <p:nvPr/>
            </p:nvSpPr>
            <p:spPr>
              <a:xfrm flipV="1">
                <a:off x="1009440" y="2017800"/>
                <a:ext cx="0" cy="383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05120" y="5846040"/>
                <a:ext cx="382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000880" y="5870520"/>
              <a:ext cx="123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chnology Mat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-110880" y="3530160"/>
              <a:ext cx="179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usiness Value Cre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04200" y="28256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0480" y="34930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pit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2880" y="50558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2920" y="506376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f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88600" y="34959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9520" y="4472280"/>
              <a:ext cx="563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0120" y="415656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al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9440" y="4171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K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7400" y="527616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1120" y="500940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8120" y="452988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8840" y="437724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9200" y="410076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7760" y="361008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0200" y="3369240"/>
              <a:ext cx="113040" cy="1386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1000" y="2928960"/>
              <a:ext cx="113040" cy="1389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2240" y="2591280"/>
              <a:ext cx="3760920" cy="3213360"/>
            </a:xfrm>
            <a:custGeom>
              <a:avLst/>
              <a:gdLst/>
              <a:ahLst/>
              <a:rect l="l" t="t" r="r" b="b"/>
              <a:pathLst>
                <a:path w="2761" h="2359">
                  <a:moveTo>
                    <a:pt x="0" y="2359"/>
                  </a:moveTo>
                  <a:cubicBezTo>
                    <a:pt x="83" y="2238"/>
                    <a:pt x="166" y="2117"/>
                    <a:pt x="283" y="2030"/>
                  </a:cubicBezTo>
                  <a:cubicBezTo>
                    <a:pt x="400" y="1943"/>
                    <a:pt x="614" y="1931"/>
                    <a:pt x="704" y="1838"/>
                  </a:cubicBezTo>
                  <a:cubicBezTo>
                    <a:pt x="794" y="1745"/>
                    <a:pt x="739" y="1551"/>
                    <a:pt x="823" y="1472"/>
                  </a:cubicBezTo>
                  <a:cubicBezTo>
                    <a:pt x="907" y="1393"/>
                    <a:pt x="1046" y="1415"/>
                    <a:pt x="1207" y="1363"/>
                  </a:cubicBezTo>
                  <a:cubicBezTo>
                    <a:pt x="1368" y="1311"/>
                    <a:pt x="1660" y="1258"/>
                    <a:pt x="1792" y="1162"/>
                  </a:cubicBezTo>
                  <a:cubicBezTo>
                    <a:pt x="1924" y="1066"/>
                    <a:pt x="1912" y="872"/>
                    <a:pt x="2002" y="787"/>
                  </a:cubicBezTo>
                  <a:cubicBezTo>
                    <a:pt x="2092" y="702"/>
                    <a:pt x="2243" y="735"/>
                    <a:pt x="2331" y="650"/>
                  </a:cubicBezTo>
                  <a:cubicBezTo>
                    <a:pt x="2419" y="565"/>
                    <a:pt x="2460" y="383"/>
                    <a:pt x="2532" y="275"/>
                  </a:cubicBezTo>
                  <a:cubicBezTo>
                    <a:pt x="2604" y="167"/>
                    <a:pt x="2682" y="83"/>
                    <a:pt x="2761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7720" y="6377040"/>
              <a:ext cx="37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Arial"/>
                </a:rPr>
                <a:t>Source: Corporate websites, Economist, Infosys Analys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1480" y="56455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6960" y="58896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3040" y="585108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240" y="2196360"/>
              <a:ext cx="476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858-2A30-45FB-A4B0-874BC7DF3C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361960" y="38862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0800" y="1844640"/>
            <a:ext cx="816156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71640"/>
            <a:ext cx="8589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buClr>
                <a:srgbClr val="00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4960" y="1871640"/>
            <a:ext cx="981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buClr>
                <a:srgbClr val="0033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1560" y="1871640"/>
            <a:ext cx="1845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440" y="4630680"/>
            <a:ext cx="14540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d built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5400" y="4665600"/>
            <a:ext cx="862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83040" y="5686560"/>
            <a:ext cx="5641920" cy="847080"/>
            <a:chOff x="3083040" y="5686560"/>
            <a:chExt cx="5641920" cy="847080"/>
          </a:xfrm>
        </p:grpSpPr>
        <p:sp>
          <p:nvSpPr>
            <p:cNvPr id="129" name=""/>
            <p:cNvSpPr/>
            <p:nvPr/>
          </p:nvSpPr>
          <p:spPr>
            <a:xfrm>
              <a:off x="3083040" y="6302880"/>
              <a:ext cx="5641920" cy="230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83040" y="5686560"/>
              <a:ext cx="5641920" cy="231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3040" y="5985360"/>
              <a:ext cx="5641920" cy="230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63160" y="5708520"/>
              <a:ext cx="227844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Open Governa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6240" y="6313320"/>
              <a:ext cx="19522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Performance-Eth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7680" y="6029280"/>
              <a:ext cx="195192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Talent Magn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090960" y="3355920"/>
            <a:ext cx="66816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0720" y="3630600"/>
            <a:ext cx="7318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Bread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&amp; Dep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of Integrated Service 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lients’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ull servi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Needs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43840" y="3355920"/>
            <a:ext cx="67140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23320" y="3630600"/>
            <a:ext cx="68400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One Fi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ec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Glob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scal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sing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ace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6760" y="3354480"/>
            <a:ext cx="66996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86480" y="3630600"/>
            <a:ext cx="67464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G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Co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Valu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Driver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19800" y="3354480"/>
            <a:ext cx="66852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3630600"/>
            <a:ext cx="741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Tru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B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eni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Relation-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Bui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omfo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Factor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354480"/>
            <a:ext cx="66996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2680" y="3630600"/>
            <a:ext cx="726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Dom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pert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W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cli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valu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the most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9840" y="3354480"/>
            <a:ext cx="671400" cy="227304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60920" y="3630600"/>
            <a:ext cx="8348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Technolo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Excell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“In syn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ith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latest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at p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ith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best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6120" y="3355920"/>
            <a:ext cx="668160" cy="2273400"/>
          </a:xfrm>
          <a:prstGeom prst="rect">
            <a:avLst/>
          </a:prstGeom>
          <a:solidFill>
            <a:srgbClr val="cce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35640" y="3630600"/>
            <a:ext cx="7794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Prime &amp; Partner-</a:t>
            </a:r>
            <a:br>
              <a:rPr sz="1100"/>
            </a:br>
            <a:r>
              <a:rPr b="1" lang="en-US" sz="1100" spc="-1" strike="noStrike">
                <a:solidFill>
                  <a:srgbClr val="333399"/>
                </a:solidFill>
                <a:latin typeface="Arial Narrow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( Sing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poi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accounta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bility wh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leveraging “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 Narrow"/>
              </a:rPr>
              <a:t>web”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440" y="2362320"/>
            <a:ext cx="1257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Go-to-market position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95400" y="2387520"/>
            <a:ext cx="598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352120" y="-199080"/>
            <a:ext cx="1131840" cy="5825880"/>
          </a:xfrm>
          <a:custGeom>
            <a:avLst/>
            <a:gdLst/>
            <a:ahLst/>
            <a:rect l="l" t="t" r="r" b="b"/>
            <a:pathLst>
              <a:path w="862" h="2976">
                <a:moveTo>
                  <a:pt x="0" y="2976"/>
                </a:moveTo>
                <a:lnTo>
                  <a:pt x="862" y="1488"/>
                </a:lnTo>
                <a:lnTo>
                  <a:pt x="2" y="0"/>
                </a:lnTo>
                <a:lnTo>
                  <a:pt x="0" y="2976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2240" y="2538360"/>
            <a:ext cx="2584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marL="281160" indent="-2811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forming business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rough integrated technology solutions. Absolutely, Positively!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(Emphasis on Value, Execution &amp; Comfort facto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440" y="3365640"/>
            <a:ext cx="118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xecuted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Integ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5400" y="3395520"/>
            <a:ext cx="1138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71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And Such Business transformation Through Technology is the Center of Infosys’ Go-to-Market Position Today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1D7-80A3-4870-8BD5-B9A4DC4986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437184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 – Manufacturing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2 – Telco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3 – Retail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4 – Retail</a:t>
            </a:r>
            <a:br>
              <a:rPr sz="2800"/>
            </a:b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 – Insurance</a:t>
            </a:r>
            <a:br>
              <a:rPr sz="2800"/>
            </a:b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80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ase Study # 1: Developing a Roadmap for Transformation of Supply Chain by Leveraging e-Business Technologie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47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pean subsidiary of a leading global manufacturer of food-grain and agricultural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duce supply chai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he costs “hidden” in the extended supply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business with technology to improve effectiveness of supply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 against “best-of-breed” in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chieve maximum impact from limited e-Busines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Quick Wins with short pay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latest technologies for communication and e-Business to achieve greater integration with vendors, customers and logistics &amp; transport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5400" indent="-213480">
              <a:spcBef>
                <a:spcPts val="400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integration among internal systems to support and streamline supply chain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51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internal consensus regarding 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789-9E37-49AB-826B-8E2C100138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571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fine &amp; prioritize initiatives to streamline the supply chain processes and create an implementation roadmap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0560" y="4759200"/>
            <a:ext cx="1917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-Is’ state for key supply chai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and description of identified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marking of supply chain e-maturity against industry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9240" y="5283360"/>
            <a:ext cx="276876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M “pain points” and value creation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SCM trends &amp; B2B focus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d initiatives and Quick W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I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27680" y="4863960"/>
            <a:ext cx="19051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ase analysis &amp; payback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d implementation roadmap including time, cost and resource bud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4840" y="4676760"/>
            <a:ext cx="2819520" cy="533520"/>
          </a:xfrm>
          <a:prstGeom prst="rect">
            <a:avLst/>
          </a:prstGeom>
          <a:solidFill>
            <a:srgbClr val="bb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evel IT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74840" y="2886120"/>
            <a:ext cx="2819520" cy="533520"/>
          </a:xfrm>
          <a:prstGeom prst="rect">
            <a:avLst/>
          </a:prstGeom>
          <a:solidFill>
            <a:srgbClr val="bb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Quick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1040" y="3495600"/>
            <a:ext cx="136512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‘As Is’ Supply Chain and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8320" y="3305160"/>
            <a:ext cx="1460520" cy="1447920"/>
          </a:xfrm>
          <a:prstGeom prst="irregularSeal1">
            <a:avLst/>
          </a:prstGeom>
          <a:solidFill>
            <a:srgbClr val="333399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Business road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8720" y="3495600"/>
            <a:ext cx="136512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ss SCM Pain/ Opportunity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3495600"/>
            <a:ext cx="1295280" cy="10670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y and Prioritize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2120" y="380052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08640" y="380052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7360" y="234936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19920" y="2333520"/>
            <a:ext cx="16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1160" y="2335320"/>
            <a:ext cx="14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5400000">
            <a:off x="1558080" y="149472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 rot="5400000">
            <a:off x="4520160" y="149472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5400000">
            <a:off x="7667640" y="160884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240" y="201456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9B0-08FB-4091-A514-46F9390274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2984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mplement prioritized initiatives and build supporting architecture in phase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38560" y="3759120"/>
            <a:ext cx="0" cy="603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38560" y="4784760"/>
            <a:ext cx="0" cy="542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040200"/>
            <a:ext cx="1204920" cy="4982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Production Schedu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3040200"/>
            <a:ext cx="115416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2B with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5200" y="3040200"/>
            <a:ext cx="118404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Finished Goods Mov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91400" y="3040200"/>
            <a:ext cx="1204920" cy="5000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2B with Transpo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65400" y="3035160"/>
            <a:ext cx="1206360" cy="501840"/>
          </a:xfrm>
          <a:prstGeom prst="rect">
            <a:avLst/>
          </a:prstGeom>
          <a:solidFill>
            <a:srgbClr val="bbff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nterprise Application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4060800"/>
            <a:ext cx="0" cy="180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64320" y="4784760"/>
            <a:ext cx="542880" cy="301680"/>
          </a:xfrm>
          <a:prstGeom prst="ellipse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2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5160" y="5870520"/>
            <a:ext cx="782640" cy="301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03840" y="525636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der to 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2440" y="3639960"/>
            <a:ext cx="746280" cy="4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37160" y="35701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9480" y="3589200"/>
            <a:ext cx="6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75000" y="4313160"/>
            <a:ext cx="746280" cy="4208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 Pl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6320" y="3790800"/>
            <a:ext cx="0" cy="541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8360" y="3770280"/>
            <a:ext cx="0" cy="542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97280" y="4734000"/>
            <a:ext cx="0" cy="482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53040" y="5278320"/>
            <a:ext cx="90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nsport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4400" y="4000680"/>
            <a:ext cx="0" cy="18698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2080" y="3639960"/>
            <a:ext cx="745920" cy="4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4784760"/>
            <a:ext cx="542880" cy="301680"/>
          </a:xfrm>
          <a:prstGeom prst="ellipse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2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72480" y="5840280"/>
            <a:ext cx="844200" cy="301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51680" y="526716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rder to 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65400" y="3639960"/>
            <a:ext cx="1206360" cy="1748160"/>
            <a:chOff x="1265400" y="3639960"/>
            <a:chExt cx="1206360" cy="1748160"/>
          </a:xfrm>
        </p:grpSpPr>
        <p:sp>
          <p:nvSpPr>
            <p:cNvPr id="205" name=""/>
            <p:cNvSpPr/>
            <p:nvPr/>
          </p:nvSpPr>
          <p:spPr>
            <a:xfrm>
              <a:off x="1265400" y="3639960"/>
              <a:ext cx="1206360" cy="1748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7680" y="3760560"/>
              <a:ext cx="422280" cy="300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6600" y="4168440"/>
              <a:ext cx="723600" cy="200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75480" y="4433400"/>
              <a:ext cx="421920" cy="301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9480" y="4423320"/>
              <a:ext cx="422280" cy="300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567080" y="4303080"/>
              <a:ext cx="3240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47800" y="454392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28880" y="4543920"/>
              <a:ext cx="12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15040" y="4061880"/>
              <a:ext cx="327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1956600" y="4061880"/>
              <a:ext cx="3240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076480" y="4303080"/>
              <a:ext cx="327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87680" y="4845600"/>
              <a:ext cx="404280" cy="26604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A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38560" y="5931000"/>
            <a:ext cx="0" cy="60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6520" y="4362480"/>
            <a:ext cx="784080" cy="60336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rritory Forec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&amp;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6280" y="5327640"/>
            <a:ext cx="844560" cy="60336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ion Scheduling 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6640" y="6022800"/>
            <a:ext cx="663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ion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8640" y="4000680"/>
            <a:ext cx="65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6280" y="3639960"/>
            <a:ext cx="844560" cy="300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e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73720" y="6303960"/>
            <a:ext cx="241560" cy="120600"/>
          </a:xfrm>
          <a:prstGeom prst="rect">
            <a:avLst/>
          </a:prstGeom>
          <a:solidFill>
            <a:srgbClr val="00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6440" y="62341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plications ident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01920" y="1973160"/>
            <a:ext cx="2789280" cy="58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upply Chain Within the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supply chain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in supply chain excel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59320" y="1973160"/>
            <a:ext cx="2745000" cy="493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upply Chain With Business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 foundations of future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040" y="2152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F5D-B32B-4869-BECB-AB699331F5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1180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Resulting in Over $ 2.5 M of annual benefits for $ 3.4 M of one-time investments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08680" y="2208240"/>
            <a:ext cx="2604960" cy="841320"/>
            <a:chOff x="5908680" y="2208240"/>
            <a:chExt cx="2604960" cy="8413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5908680" y="2239920"/>
              <a:ext cx="26049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407640" y="24447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1800" y="263664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4920" y="220824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iscount fac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6280" y="2138400"/>
            <a:ext cx="4408560" cy="25128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733320" y="3008160"/>
            <a:ext cx="4118760" cy="2263320"/>
            <a:chOff x="733320" y="3008160"/>
            <a:chExt cx="4118760" cy="2263320"/>
          </a:xfrm>
        </p:grpSpPr>
        <p:sp>
          <p:nvSpPr>
            <p:cNvPr id="236" name=""/>
            <p:cNvSpPr/>
            <p:nvPr/>
          </p:nvSpPr>
          <p:spPr>
            <a:xfrm>
              <a:off x="733320" y="4934160"/>
              <a:ext cx="23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back in 15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082240" y="4266720"/>
              <a:ext cx="631440" cy="7459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88440" y="3810240"/>
              <a:ext cx="8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0080" y="300816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vin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896080" y="2892600"/>
            <a:ext cx="2905200" cy="219996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nual benefits of over $2.5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600" y="180324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3560" y="5319720"/>
            <a:ext cx="8209080" cy="985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lient Testimonial – CIO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“We has a long history of working with large traditional consulting firms. However, the way Infosys worked collaboratively with our people and crafted a unique solution on business and technology aspects appealed to the Leadership Team.The benefits delivered by Infosys were very tangible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720-01EF-4F64-8E96-C803003502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ase Study # 2 : A large Telco spent $300-400M</a:t>
            </a:r>
            <a:r>
              <a:rPr b="0" lang="en-US" sz="1800" spc="-1" strike="noStrike" baseline="30000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more annually due to poor IT effectiveness compared to best-in-class organizations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067200" cy="429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 Level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the data available and stakeholder interviews, Telco was assessed between Levels 1 and 2 on the CMM Maturity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co IT effectiveness was conservatively equated  to “Average in Class” on the Capers-Jones productivity benchmarks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349"/>
              </a:spcBef>
              <a:buClr>
                <a:srgbClr val="000099"/>
              </a:buClr>
              <a:buSzPct val="7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ers-Jones Productivity benchmarks for the “Best in Class” were used to arrive at the extra spend ( based on current IT Delivery &amp; Maintenance Budge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2440" y="6210360"/>
            <a:ext cx="6248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oes not include Operations, Infrastructure, Internal IT staff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Current IT Delivery &amp; Maintenance Budget excluding spend on Redundant applications $891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40240" y="1838160"/>
            <a:ext cx="5217840" cy="3635640"/>
            <a:chOff x="3540240" y="1838160"/>
            <a:chExt cx="5217840" cy="3635640"/>
          </a:xfrm>
        </p:grpSpPr>
        <p:sp>
          <p:nvSpPr>
            <p:cNvPr id="247" name=""/>
            <p:cNvSpPr/>
            <p:nvPr/>
          </p:nvSpPr>
          <p:spPr>
            <a:xfrm>
              <a:off x="3540240" y="1838160"/>
              <a:ext cx="5217840" cy="3635640"/>
            </a:xfrm>
            <a:prstGeom prst="rect">
              <a:avLst/>
            </a:pr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9400" y="5125320"/>
              <a:ext cx="3146040" cy="297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69960" y="5162400"/>
              <a:ext cx="11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0760" y="2098800"/>
              <a:ext cx="4188960" cy="250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60760" y="2098800"/>
              <a:ext cx="4188960" cy="250272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087880" y="3643920"/>
              <a:ext cx="844200" cy="957240"/>
              <a:chOff x="5087880" y="3643920"/>
              <a:chExt cx="844200" cy="957240"/>
            </a:xfrm>
          </p:grpSpPr>
          <p:sp>
            <p:nvSpPr>
              <p:cNvPr id="253" name=""/>
              <p:cNvSpPr/>
              <p:nvPr/>
            </p:nvSpPr>
            <p:spPr>
              <a:xfrm>
                <a:off x="5087880" y="3643920"/>
                <a:ext cx="844200" cy="1188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87880" y="3655800"/>
                <a:ext cx="844200" cy="1152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87880" y="3667680"/>
                <a:ext cx="844200" cy="1296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87880" y="3680640"/>
                <a:ext cx="844200" cy="11880"/>
              </a:xfrm>
              <a:prstGeom prst="rect">
                <a:avLst/>
              </a:prstGeom>
              <a:solidFill>
                <a:srgbClr val="9898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87880" y="3692880"/>
                <a:ext cx="844200" cy="12960"/>
              </a:xfrm>
              <a:prstGeom prst="rect">
                <a:avLst/>
              </a:prstGeom>
              <a:solidFill>
                <a:srgbClr val="9898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87880" y="3705840"/>
                <a:ext cx="844200" cy="1188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87880" y="3718080"/>
                <a:ext cx="84420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87880" y="3729960"/>
                <a:ext cx="844200" cy="13320"/>
              </a:xfrm>
              <a:prstGeom prst="rect">
                <a:avLst/>
              </a:prstGeom>
              <a:solidFill>
                <a:srgbClr val="9797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87880" y="3743280"/>
                <a:ext cx="844200" cy="11520"/>
              </a:xfrm>
              <a:prstGeom prst="rect">
                <a:avLst/>
              </a:prstGeom>
              <a:solidFill>
                <a:srgbClr val="9696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87880" y="3755160"/>
                <a:ext cx="844200" cy="13320"/>
              </a:xfrm>
              <a:prstGeom prst="rect">
                <a:avLst/>
              </a:prstGeom>
              <a:solidFill>
                <a:srgbClr val="969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87880" y="3768480"/>
                <a:ext cx="844200" cy="11520"/>
              </a:xfrm>
              <a:prstGeom prst="rect">
                <a:avLst/>
              </a:prstGeom>
              <a:solidFill>
                <a:srgbClr val="959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087880" y="3780360"/>
                <a:ext cx="844200" cy="11520"/>
              </a:xfrm>
              <a:prstGeom prst="rect">
                <a:avLst/>
              </a:prstGeom>
              <a:solidFill>
                <a:srgbClr val="9595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87880" y="3791880"/>
                <a:ext cx="844200" cy="13320"/>
              </a:xfrm>
              <a:prstGeom prst="rect">
                <a:avLst/>
              </a:prstGeom>
              <a:solidFill>
                <a:srgbClr val="9494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87880" y="3805560"/>
                <a:ext cx="844200" cy="11520"/>
              </a:xfrm>
              <a:prstGeom prst="rect">
                <a:avLst/>
              </a:prstGeom>
              <a:solidFill>
                <a:srgbClr val="949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87880" y="3817080"/>
                <a:ext cx="844200" cy="13320"/>
              </a:xfrm>
              <a:prstGeom prst="rect">
                <a:avLst/>
              </a:prstGeom>
              <a:solidFill>
                <a:srgbClr val="9393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87880" y="3830760"/>
                <a:ext cx="844200" cy="1152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87880" y="3842280"/>
                <a:ext cx="844200" cy="11520"/>
              </a:xfrm>
              <a:prstGeom prst="rect">
                <a:avLst/>
              </a:prstGeom>
              <a:solidFill>
                <a:srgbClr val="929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87880" y="3854160"/>
                <a:ext cx="844200" cy="13320"/>
              </a:xfrm>
              <a:prstGeom prst="rect">
                <a:avLst/>
              </a:prstGeom>
              <a:solidFill>
                <a:srgbClr val="919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87880" y="3867480"/>
                <a:ext cx="844200" cy="11520"/>
              </a:xfrm>
              <a:prstGeom prst="rect">
                <a:avLst/>
              </a:prstGeom>
              <a:solidFill>
                <a:srgbClr val="909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87880" y="3879360"/>
                <a:ext cx="844200" cy="13320"/>
              </a:xfrm>
              <a:prstGeom prst="rect">
                <a:avLst/>
              </a:prstGeom>
              <a:solidFill>
                <a:srgbClr val="909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87880" y="3892680"/>
                <a:ext cx="844200" cy="11520"/>
              </a:xfrm>
              <a:prstGeom prst="rect">
                <a:avLst/>
              </a:prstGeom>
              <a:solidFill>
                <a:srgbClr val="8f8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87880" y="3904560"/>
                <a:ext cx="844200" cy="11880"/>
              </a:xfrm>
              <a:prstGeom prst="rect">
                <a:avLst/>
              </a:prstGeom>
              <a:solidFill>
                <a:srgbClr val="8e8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87880" y="3916800"/>
                <a:ext cx="844200" cy="1296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87880" y="3929760"/>
                <a:ext cx="844200" cy="11880"/>
              </a:xfrm>
              <a:prstGeom prst="rect">
                <a:avLst/>
              </a:prstGeom>
              <a:solidFill>
                <a:srgbClr val="8c8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87880" y="3942000"/>
                <a:ext cx="844200" cy="12960"/>
              </a:xfrm>
              <a:prstGeom prst="rect">
                <a:avLst/>
              </a:prstGeom>
              <a:solidFill>
                <a:srgbClr val="8b8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87880" y="3954960"/>
                <a:ext cx="844200" cy="11880"/>
              </a:xfrm>
              <a:prstGeom prst="rect">
                <a:avLst/>
              </a:prstGeom>
              <a:solidFill>
                <a:srgbClr val="8a8a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87880" y="3967200"/>
                <a:ext cx="844200" cy="11520"/>
              </a:xfrm>
              <a:prstGeom prst="rect">
                <a:avLst/>
              </a:prstGeom>
              <a:solidFill>
                <a:srgbClr val="888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87880" y="3978720"/>
                <a:ext cx="844200" cy="13320"/>
              </a:xfrm>
              <a:prstGeom prst="rect">
                <a:avLst/>
              </a:prstGeom>
              <a:solidFill>
                <a:srgbClr val="87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87880" y="3992400"/>
                <a:ext cx="844200" cy="11520"/>
              </a:xfrm>
              <a:prstGeom prst="rect">
                <a:avLst/>
              </a:prstGeom>
              <a:solidFill>
                <a:srgbClr val="868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87880" y="4003920"/>
                <a:ext cx="844200" cy="13320"/>
              </a:xfrm>
              <a:prstGeom prst="rect">
                <a:avLst/>
              </a:prstGeom>
              <a:solidFill>
                <a:srgbClr val="848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87880" y="4017600"/>
                <a:ext cx="844200" cy="11520"/>
              </a:xfrm>
              <a:prstGeom prst="rect">
                <a:avLst/>
              </a:prstGeom>
              <a:solidFill>
                <a:srgbClr val="838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87880" y="4029120"/>
                <a:ext cx="844200" cy="11520"/>
              </a:xfrm>
              <a:prstGeom prst="rect">
                <a:avLst/>
              </a:prstGeom>
              <a:solidFill>
                <a:srgbClr val="828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87880" y="4041000"/>
                <a:ext cx="844200" cy="13320"/>
              </a:xfrm>
              <a:prstGeom prst="rect">
                <a:avLst/>
              </a:prstGeom>
              <a:solidFill>
                <a:srgbClr val="808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087880" y="4054320"/>
                <a:ext cx="844200" cy="11520"/>
              </a:xfrm>
              <a:prstGeom prst="rect">
                <a:avLst/>
              </a:prstGeom>
              <a:solidFill>
                <a:srgbClr val="7f7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87880" y="4066200"/>
                <a:ext cx="844200" cy="13320"/>
              </a:xfrm>
              <a:prstGeom prst="rect">
                <a:avLst/>
              </a:prstGeom>
              <a:solidFill>
                <a:srgbClr val="7d7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87880" y="4079520"/>
                <a:ext cx="844200" cy="11520"/>
              </a:xfrm>
              <a:prstGeom prst="rect">
                <a:avLst/>
              </a:prstGeom>
              <a:solidFill>
                <a:srgbClr val="7b7b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87880" y="4091400"/>
                <a:ext cx="844200" cy="11520"/>
              </a:xfrm>
              <a:prstGeom prst="rect">
                <a:avLst/>
              </a:prstGeom>
              <a:solidFill>
                <a:srgbClr val="7a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87880" y="4103280"/>
                <a:ext cx="844200" cy="13320"/>
              </a:xfrm>
              <a:prstGeom prst="rect">
                <a:avLst/>
              </a:prstGeom>
              <a:solidFill>
                <a:srgbClr val="797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87880" y="4116600"/>
                <a:ext cx="844200" cy="115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87880" y="4128480"/>
                <a:ext cx="844200" cy="11880"/>
              </a:xfrm>
              <a:prstGeom prst="rect">
                <a:avLst/>
              </a:prstGeom>
              <a:solidFill>
                <a:srgbClr val="757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87880" y="4140360"/>
                <a:ext cx="844200" cy="12960"/>
              </a:xfrm>
              <a:prstGeom prst="rect">
                <a:avLst/>
              </a:prstGeom>
              <a:solidFill>
                <a:srgbClr val="737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87880" y="4153680"/>
                <a:ext cx="844200" cy="11520"/>
              </a:xfrm>
              <a:prstGeom prst="rect">
                <a:avLst/>
              </a:prstGeom>
              <a:solidFill>
                <a:srgbClr val="7272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087880" y="4165560"/>
                <a:ext cx="844200" cy="13320"/>
              </a:xfrm>
              <a:prstGeom prst="rect">
                <a:avLst/>
              </a:prstGeom>
              <a:solidFill>
                <a:srgbClr val="7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87880" y="4178880"/>
                <a:ext cx="844200" cy="11520"/>
              </a:xfrm>
              <a:prstGeom prst="rect">
                <a:avLst/>
              </a:prstGeom>
              <a:solidFill>
                <a:srgbClr val="6e6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87880" y="4190760"/>
                <a:ext cx="844200" cy="11880"/>
              </a:xfrm>
              <a:prstGeom prst="rect">
                <a:avLst/>
              </a:prstGeom>
              <a:solidFill>
                <a:srgbClr val="6d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87880" y="4202640"/>
                <a:ext cx="844200" cy="12960"/>
              </a:xfrm>
              <a:prstGeom prst="rect">
                <a:avLst/>
              </a:prstGeom>
              <a:solidFill>
                <a:srgbClr val="6b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87880" y="4215960"/>
                <a:ext cx="844200" cy="11880"/>
              </a:xfrm>
              <a:prstGeom prst="rect">
                <a:avLst/>
              </a:prstGeom>
              <a:solidFill>
                <a:srgbClr val="696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87880" y="4227840"/>
                <a:ext cx="844200" cy="12960"/>
              </a:xfrm>
              <a:prstGeom prst="rect">
                <a:avLst/>
              </a:prstGeom>
              <a:solidFill>
                <a:srgbClr val="676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7880" y="4241160"/>
                <a:ext cx="844200" cy="11880"/>
              </a:xfrm>
              <a:prstGeom prst="rect">
                <a:avLst/>
              </a:prstGeom>
              <a:solidFill>
                <a:srgbClr val="6565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87880" y="4253040"/>
                <a:ext cx="844200" cy="11520"/>
              </a:xfrm>
              <a:prstGeom prst="rect">
                <a:avLst/>
              </a:prstGeom>
              <a:solidFill>
                <a:srgbClr val="646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87880" y="4264920"/>
                <a:ext cx="844200" cy="13320"/>
              </a:xfrm>
              <a:prstGeom prst="rect">
                <a:avLst/>
              </a:prstGeom>
              <a:solidFill>
                <a:srgbClr val="62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87880" y="4278240"/>
                <a:ext cx="844200" cy="11520"/>
              </a:xfrm>
              <a:prstGeom prst="rect">
                <a:avLst/>
              </a:prstGeom>
              <a:solidFill>
                <a:srgbClr val="60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087880" y="4290120"/>
                <a:ext cx="844200" cy="13320"/>
              </a:xfrm>
              <a:prstGeom prst="rect">
                <a:avLst/>
              </a:prstGeom>
              <a:solidFill>
                <a:srgbClr val="5f5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087880" y="4303440"/>
                <a:ext cx="844200" cy="11520"/>
              </a:xfrm>
              <a:prstGeom prst="rect">
                <a:avLst/>
              </a:prstGeom>
              <a:solidFill>
                <a:srgbClr val="5d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087880" y="4315320"/>
                <a:ext cx="844200" cy="11520"/>
              </a:xfrm>
              <a:prstGeom prst="rect">
                <a:avLst/>
              </a:prstGeom>
              <a:solidFill>
                <a:srgbClr val="5c5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87880" y="4327200"/>
                <a:ext cx="844200" cy="13320"/>
              </a:xfrm>
              <a:prstGeom prst="rect">
                <a:avLst/>
              </a:prstGeom>
              <a:solidFill>
                <a:srgbClr val="5a5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87880" y="4340520"/>
                <a:ext cx="844200" cy="11520"/>
              </a:xfrm>
              <a:prstGeom prst="rect">
                <a:avLst/>
              </a:prstGeom>
              <a:solidFill>
                <a:srgbClr val="595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87880" y="4352400"/>
                <a:ext cx="844200" cy="13320"/>
              </a:xfrm>
              <a:prstGeom prst="rect">
                <a:avLst/>
              </a:prstGeom>
              <a:solidFill>
                <a:srgbClr val="575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87880" y="4365720"/>
                <a:ext cx="844200" cy="11520"/>
              </a:xfrm>
              <a:prstGeom prst="rect">
                <a:avLst/>
              </a:prstGeom>
              <a:solidFill>
                <a:srgbClr val="565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87880" y="4377600"/>
                <a:ext cx="844200" cy="11520"/>
              </a:xfrm>
              <a:prstGeom prst="rect">
                <a:avLst/>
              </a:prstGeom>
              <a:solidFill>
                <a:srgbClr val="5555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87880" y="4389120"/>
                <a:ext cx="844200" cy="13320"/>
              </a:xfrm>
              <a:prstGeom prst="rect">
                <a:avLst/>
              </a:prstGeom>
              <a:solidFill>
                <a:srgbClr val="535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087880" y="4402800"/>
                <a:ext cx="844200" cy="11520"/>
              </a:xfrm>
              <a:prstGeom prst="rect">
                <a:avLst/>
              </a:prstGeom>
              <a:solidFill>
                <a:srgbClr val="525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87880" y="4414320"/>
                <a:ext cx="844200" cy="13320"/>
              </a:xfrm>
              <a:prstGeom prst="rect">
                <a:avLst/>
              </a:prstGeom>
              <a:solidFill>
                <a:srgbClr val="515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87880" y="4428000"/>
                <a:ext cx="844200" cy="11520"/>
              </a:xfrm>
              <a:prstGeom prst="rect">
                <a:avLst/>
              </a:prstGeom>
              <a:solidFill>
                <a:srgbClr val="5050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87880" y="4439520"/>
                <a:ext cx="844200" cy="11880"/>
              </a:xfrm>
              <a:prstGeom prst="rect">
                <a:avLst/>
              </a:prstGeom>
              <a:solidFill>
                <a:srgbClr val="4f4f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87880" y="4451760"/>
                <a:ext cx="844200" cy="12960"/>
              </a:xfrm>
              <a:prstGeom prst="rect">
                <a:avLst/>
              </a:prstGeom>
              <a:solidFill>
                <a:srgbClr val="4e4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87880" y="4464720"/>
                <a:ext cx="844200" cy="11880"/>
              </a:xfrm>
              <a:prstGeom prst="rect">
                <a:avLst/>
              </a:prstGeom>
              <a:solidFill>
                <a:srgbClr val="4d4d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87880" y="4476960"/>
                <a:ext cx="844200" cy="12960"/>
              </a:xfrm>
              <a:prstGeom prst="rect">
                <a:avLst/>
              </a:prstGeom>
              <a:solidFill>
                <a:srgbClr val="4c4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87880" y="4490280"/>
                <a:ext cx="844200" cy="11520"/>
              </a:xfrm>
              <a:prstGeom prst="rect">
                <a:avLst/>
              </a:prstGeom>
              <a:solidFill>
                <a:srgbClr val="4b4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87880" y="4501800"/>
                <a:ext cx="844200" cy="11880"/>
              </a:xfrm>
              <a:prstGeom prst="rect">
                <a:avLst/>
              </a:prstGeom>
              <a:solidFill>
                <a:srgbClr val="4a4a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87880" y="4514040"/>
                <a:ext cx="844200" cy="12960"/>
              </a:xfrm>
              <a:prstGeom prst="rect">
                <a:avLst/>
              </a:prstGeom>
              <a:solidFill>
                <a:srgbClr val="4a4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87880" y="4527000"/>
                <a:ext cx="844200" cy="11880"/>
              </a:xfrm>
              <a:prstGeom prst="rect">
                <a:avLst/>
              </a:prstGeom>
              <a:solidFill>
                <a:srgbClr val="49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87880" y="4539240"/>
                <a:ext cx="844200" cy="12960"/>
              </a:xfrm>
              <a:prstGeom prst="rect">
                <a:avLst/>
              </a:prstGeom>
              <a:solidFill>
                <a:srgbClr val="484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87880" y="4552200"/>
                <a:ext cx="844200" cy="11880"/>
              </a:xfrm>
              <a:prstGeom prst="rect">
                <a:avLst/>
              </a:prstGeom>
              <a:solidFill>
                <a:srgbClr val="484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87880" y="4564440"/>
                <a:ext cx="844200" cy="11520"/>
              </a:xfrm>
              <a:prstGeom prst="rect">
                <a:avLst/>
              </a:prstGeom>
              <a:solidFill>
                <a:srgbClr val="484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87880" y="4576320"/>
                <a:ext cx="844200" cy="133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87880" y="4589640"/>
                <a:ext cx="844200" cy="115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087880" y="3643920"/>
              <a:ext cx="844200" cy="95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188120" y="4116960"/>
              <a:ext cx="833040" cy="484200"/>
              <a:chOff x="7188120" y="4116960"/>
              <a:chExt cx="833040" cy="484200"/>
            </a:xfrm>
          </p:grpSpPr>
          <p:sp>
            <p:nvSpPr>
              <p:cNvPr id="332" name=""/>
              <p:cNvSpPr/>
              <p:nvPr/>
            </p:nvSpPr>
            <p:spPr>
              <a:xfrm>
                <a:off x="7188120" y="4116960"/>
                <a:ext cx="833040" cy="1152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88120" y="4128480"/>
                <a:ext cx="833040" cy="11880"/>
              </a:xfrm>
              <a:prstGeom prst="rect">
                <a:avLst/>
              </a:prstGeom>
              <a:solidFill>
                <a:srgbClr val="989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88120" y="4140720"/>
                <a:ext cx="833040" cy="12960"/>
              </a:xfrm>
              <a:prstGeom prst="rect">
                <a:avLst/>
              </a:prstGeom>
              <a:solidFill>
                <a:srgbClr val="9797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88120" y="4153680"/>
                <a:ext cx="83304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88120" y="4165560"/>
                <a:ext cx="833040" cy="13320"/>
              </a:xfrm>
              <a:prstGeom prst="rect">
                <a:avLst/>
              </a:prstGeom>
              <a:solidFill>
                <a:srgbClr val="969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88120" y="4178880"/>
                <a:ext cx="833040" cy="11520"/>
              </a:xfrm>
              <a:prstGeom prst="rect">
                <a:avLst/>
              </a:prstGeom>
              <a:solidFill>
                <a:srgbClr val="959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88120" y="4190760"/>
                <a:ext cx="833040" cy="11880"/>
              </a:xfrm>
              <a:prstGeom prst="rect">
                <a:avLst/>
              </a:prstGeom>
              <a:solidFill>
                <a:srgbClr val="9494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88120" y="4202640"/>
                <a:ext cx="833040" cy="12960"/>
              </a:xfrm>
              <a:prstGeom prst="rect">
                <a:avLst/>
              </a:prstGeom>
              <a:solidFill>
                <a:srgbClr val="939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188120" y="4215960"/>
                <a:ext cx="833040" cy="11880"/>
              </a:xfrm>
              <a:prstGeom prst="rect">
                <a:avLst/>
              </a:prstGeom>
              <a:solidFill>
                <a:srgbClr val="929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88120" y="4227840"/>
                <a:ext cx="833040" cy="12960"/>
              </a:xfrm>
              <a:prstGeom prst="rect">
                <a:avLst/>
              </a:prstGeom>
              <a:solidFill>
                <a:srgbClr val="909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88120" y="4241160"/>
                <a:ext cx="833040" cy="11880"/>
              </a:xfrm>
              <a:prstGeom prst="rect">
                <a:avLst/>
              </a:prstGeom>
              <a:solidFill>
                <a:srgbClr val="8f8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88120" y="4253040"/>
                <a:ext cx="833040" cy="11520"/>
              </a:xfrm>
              <a:prstGeom prst="rect">
                <a:avLst/>
              </a:prstGeom>
              <a:solidFill>
                <a:srgbClr val="8d8d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88120" y="4264920"/>
                <a:ext cx="833040" cy="13320"/>
              </a:xfrm>
              <a:prstGeom prst="rect">
                <a:avLst/>
              </a:prstGeom>
              <a:solidFill>
                <a:srgbClr val="8a8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88120" y="4278600"/>
                <a:ext cx="833040" cy="11520"/>
              </a:xfrm>
              <a:prstGeom prst="rect">
                <a:avLst/>
              </a:prstGeom>
              <a:solidFill>
                <a:srgbClr val="888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88120" y="4290120"/>
                <a:ext cx="833040" cy="13320"/>
              </a:xfrm>
              <a:prstGeom prst="rect">
                <a:avLst/>
              </a:prstGeom>
              <a:solidFill>
                <a:srgbClr val="868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88120" y="4303800"/>
                <a:ext cx="833040" cy="11520"/>
              </a:xfrm>
              <a:prstGeom prst="rect">
                <a:avLst/>
              </a:prstGeom>
              <a:solidFill>
                <a:srgbClr val="838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88120" y="4315320"/>
                <a:ext cx="833040" cy="11520"/>
              </a:xfrm>
              <a:prstGeom prst="rect">
                <a:avLst/>
              </a:prstGeom>
              <a:solidFill>
                <a:srgbClr val="808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88120" y="4327200"/>
                <a:ext cx="833040" cy="13320"/>
              </a:xfrm>
              <a:prstGeom prst="rect">
                <a:avLst/>
              </a:prstGeom>
              <a:solidFill>
                <a:srgbClr val="7d7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88120" y="4340520"/>
                <a:ext cx="833040" cy="11520"/>
              </a:xfrm>
              <a:prstGeom prst="rect">
                <a:avLst/>
              </a:prstGeom>
              <a:solidFill>
                <a:srgbClr val="7a7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88120" y="4352400"/>
                <a:ext cx="833040" cy="133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88120" y="4365720"/>
                <a:ext cx="833040" cy="11520"/>
              </a:xfrm>
              <a:prstGeom prst="rect">
                <a:avLst/>
              </a:prstGeom>
              <a:solidFill>
                <a:srgbClr val="737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88120" y="4377600"/>
                <a:ext cx="833040" cy="11520"/>
              </a:xfrm>
              <a:prstGeom prst="rect">
                <a:avLst/>
              </a:prstGeom>
              <a:solidFill>
                <a:srgbClr val="707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88120" y="4389480"/>
                <a:ext cx="833040" cy="13320"/>
              </a:xfrm>
              <a:prstGeom prst="rect">
                <a:avLst/>
              </a:prstGeom>
              <a:solidFill>
                <a:srgbClr val="6d6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88120" y="4402800"/>
                <a:ext cx="833040" cy="11520"/>
              </a:xfrm>
              <a:prstGeom prst="rect">
                <a:avLst/>
              </a:prstGeom>
              <a:solidFill>
                <a:srgbClr val="696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88120" y="4414680"/>
                <a:ext cx="833040" cy="13320"/>
              </a:xfrm>
              <a:prstGeom prst="rect">
                <a:avLst/>
              </a:prstGeom>
              <a:solidFill>
                <a:srgbClr val="666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88120" y="4428000"/>
                <a:ext cx="833040" cy="11520"/>
              </a:xfrm>
              <a:prstGeom prst="rect">
                <a:avLst/>
              </a:prstGeom>
              <a:solidFill>
                <a:srgbClr val="62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88120" y="4439880"/>
                <a:ext cx="833040" cy="11880"/>
              </a:xfrm>
              <a:prstGeom prst="rect">
                <a:avLst/>
              </a:prstGeom>
              <a:solidFill>
                <a:srgbClr val="5f5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88120" y="4451760"/>
                <a:ext cx="833040" cy="12960"/>
              </a:xfrm>
              <a:prstGeom prst="rect">
                <a:avLst/>
              </a:prstGeom>
              <a:solidFill>
                <a:srgbClr val="5c5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120" y="4465080"/>
                <a:ext cx="833040" cy="11880"/>
              </a:xfrm>
              <a:prstGeom prst="rect">
                <a:avLst/>
              </a:prstGeom>
              <a:solidFill>
                <a:srgbClr val="595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88120" y="4476960"/>
                <a:ext cx="833040" cy="12960"/>
              </a:xfrm>
              <a:prstGeom prst="rect">
                <a:avLst/>
              </a:prstGeom>
              <a:solidFill>
                <a:srgbClr val="5656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88120" y="4490280"/>
                <a:ext cx="833040" cy="11520"/>
              </a:xfrm>
              <a:prstGeom prst="rect">
                <a:avLst/>
              </a:prstGeom>
              <a:solidFill>
                <a:srgbClr val="545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88120" y="4501800"/>
                <a:ext cx="833040" cy="11880"/>
              </a:xfrm>
              <a:prstGeom prst="rect">
                <a:avLst/>
              </a:prstGeom>
              <a:solidFill>
                <a:srgbClr val="515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88120" y="4514040"/>
                <a:ext cx="833040" cy="12960"/>
              </a:xfrm>
              <a:prstGeom prst="rect">
                <a:avLst/>
              </a:prstGeom>
              <a:solidFill>
                <a:srgbClr val="4f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88120" y="4527000"/>
                <a:ext cx="833040" cy="11880"/>
              </a:xfrm>
              <a:prstGeom prst="rect">
                <a:avLst/>
              </a:prstGeom>
              <a:solidFill>
                <a:srgbClr val="4d4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88120" y="4539240"/>
                <a:ext cx="833040" cy="12960"/>
              </a:xfrm>
              <a:prstGeom prst="rect">
                <a:avLst/>
              </a:prstGeom>
              <a:solidFill>
                <a:srgbClr val="4c4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88120" y="4552200"/>
                <a:ext cx="833040" cy="11880"/>
              </a:xfrm>
              <a:prstGeom prst="rect">
                <a:avLst/>
              </a:prstGeom>
              <a:solidFill>
                <a:srgbClr val="4a4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88120" y="4564440"/>
                <a:ext cx="833040" cy="11520"/>
              </a:xfrm>
              <a:prstGeom prst="rect">
                <a:avLst/>
              </a:prstGeom>
              <a:solidFill>
                <a:srgbClr val="494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88120" y="4576320"/>
                <a:ext cx="833040" cy="13320"/>
              </a:xfrm>
              <a:prstGeom prst="rect">
                <a:avLst/>
              </a:prstGeom>
              <a:solidFill>
                <a:srgbClr val="484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188120" y="4589640"/>
                <a:ext cx="833040" cy="1152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188120" y="4116960"/>
              <a:ext cx="833040" cy="48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32440" y="3643920"/>
              <a:ext cx="125532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087880" y="2274120"/>
              <a:ext cx="844200" cy="1369440"/>
              <a:chOff x="5087880" y="2274120"/>
              <a:chExt cx="844200" cy="1369440"/>
            </a:xfrm>
          </p:grpSpPr>
          <p:sp>
            <p:nvSpPr>
              <p:cNvPr id="374" name=""/>
              <p:cNvSpPr/>
              <p:nvPr/>
            </p:nvSpPr>
            <p:spPr>
              <a:xfrm>
                <a:off x="5087880" y="2274120"/>
                <a:ext cx="84420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087880" y="2285640"/>
                <a:ext cx="844200" cy="2520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87880" y="2310840"/>
                <a:ext cx="84420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87880" y="2322720"/>
                <a:ext cx="844200" cy="133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87880" y="2336040"/>
                <a:ext cx="844200" cy="2520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87880" y="2361240"/>
                <a:ext cx="84420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87880" y="2373120"/>
                <a:ext cx="84420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87880" y="2385000"/>
                <a:ext cx="844200" cy="25200"/>
              </a:xfrm>
              <a:prstGeom prst="rect">
                <a:avLst/>
              </a:prstGeom>
              <a:solidFill>
                <a:srgbClr val="97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87880" y="2410200"/>
                <a:ext cx="844200" cy="1332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87880" y="2423520"/>
                <a:ext cx="844200" cy="1152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87880" y="2435400"/>
                <a:ext cx="844200" cy="2520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87880" y="2460600"/>
                <a:ext cx="844200" cy="1188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87880" y="2472480"/>
                <a:ext cx="844200" cy="1296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087880" y="2485800"/>
                <a:ext cx="844200" cy="23760"/>
              </a:xfrm>
              <a:prstGeom prst="rect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87880" y="2509560"/>
                <a:ext cx="844200" cy="13320"/>
              </a:xfrm>
              <a:prstGeom prst="rect">
                <a:avLst/>
              </a:prstGeom>
              <a:solidFill>
                <a:srgbClr val="94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87880" y="2523240"/>
                <a:ext cx="844200" cy="1152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087880" y="2534760"/>
                <a:ext cx="844200" cy="2520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87880" y="2559960"/>
                <a:ext cx="844200" cy="1152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087880" y="2571840"/>
                <a:ext cx="844200" cy="13320"/>
              </a:xfrm>
              <a:prstGeom prst="rect">
                <a:avLst/>
              </a:prstGeom>
              <a:solidFill>
                <a:srgbClr val="91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87880" y="2585160"/>
                <a:ext cx="844200" cy="25200"/>
              </a:xfrm>
              <a:prstGeom prst="rect">
                <a:avLst/>
              </a:prstGeom>
              <a:solidFill>
                <a:srgbClr val="91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87880" y="2610360"/>
                <a:ext cx="844200" cy="11520"/>
              </a:xfrm>
              <a:prstGeom prst="rect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87880" y="2622240"/>
                <a:ext cx="844200" cy="11520"/>
              </a:xfrm>
              <a:prstGeom prst="rect">
                <a:avLst/>
              </a:prstGeom>
              <a:solidFill>
                <a:srgbClr val="8f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87880" y="2634120"/>
                <a:ext cx="844200" cy="13320"/>
              </a:xfrm>
              <a:prstGeom prst="rect">
                <a:avLst/>
              </a:prstGeom>
              <a:solidFill>
                <a:srgbClr val="8e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87880" y="2647440"/>
                <a:ext cx="844200" cy="25200"/>
              </a:xfrm>
              <a:prstGeom prst="rect">
                <a:avLst/>
              </a:prstGeom>
              <a:solidFill>
                <a:srgbClr val="8d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87880" y="2672640"/>
                <a:ext cx="844200" cy="11520"/>
              </a:xfrm>
              <a:prstGeom prst="rect">
                <a:avLst/>
              </a:prstGeom>
              <a:solidFill>
                <a:srgbClr val="8d2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87880" y="2684520"/>
                <a:ext cx="844200" cy="11520"/>
              </a:xfrm>
              <a:prstGeom prst="rect">
                <a:avLst/>
              </a:prstGeom>
              <a:solidFill>
                <a:srgbClr val="8c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87880" y="2696400"/>
                <a:ext cx="844200" cy="25200"/>
              </a:xfrm>
              <a:prstGeom prst="rect">
                <a:avLst/>
              </a:prstGeom>
              <a:solidFill>
                <a:srgbClr val="8b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87880" y="2721600"/>
                <a:ext cx="844200" cy="13320"/>
              </a:xfrm>
              <a:prstGeom prst="rect">
                <a:avLst/>
              </a:prstGeom>
              <a:solidFill>
                <a:srgbClr val="8a2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87880" y="2734920"/>
                <a:ext cx="844200" cy="11520"/>
              </a:xfrm>
              <a:prstGeom prst="rect">
                <a:avLst/>
              </a:prstGeom>
              <a:solidFill>
                <a:srgbClr val="89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7880" y="2746800"/>
                <a:ext cx="844200" cy="2520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87880" y="2772000"/>
                <a:ext cx="844200" cy="11880"/>
              </a:xfrm>
              <a:prstGeom prst="rect">
                <a:avLst/>
              </a:prstGeom>
              <a:solidFill>
                <a:srgbClr val="86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87880" y="2783880"/>
                <a:ext cx="844200" cy="12960"/>
              </a:xfrm>
              <a:prstGeom prst="rect">
                <a:avLst/>
              </a:prstGeom>
              <a:solidFill>
                <a:srgbClr val="85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087880" y="2797200"/>
                <a:ext cx="844200" cy="23760"/>
              </a:xfrm>
              <a:prstGeom prst="rect">
                <a:avLst/>
              </a:prstGeom>
              <a:solidFill>
                <a:srgbClr val="84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087880" y="2820960"/>
                <a:ext cx="844200" cy="13320"/>
              </a:xfrm>
              <a:prstGeom prst="rect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87880" y="2834280"/>
                <a:ext cx="844200" cy="11520"/>
              </a:xfrm>
              <a:prstGeom prst="rect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87880" y="2846160"/>
                <a:ext cx="844200" cy="25200"/>
              </a:xfrm>
              <a:prstGeom prst="rect">
                <a:avLst/>
              </a:prstGeom>
              <a:solidFill>
                <a:srgbClr val="8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087880" y="2871360"/>
                <a:ext cx="844200" cy="11520"/>
              </a:xfrm>
              <a:prstGeom prst="rect">
                <a:avLst/>
              </a:prstGeom>
              <a:solidFill>
                <a:srgbClr val="7e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7880" y="2883240"/>
                <a:ext cx="844200" cy="13320"/>
              </a:xfrm>
              <a:prstGeom prst="rect">
                <a:avLst/>
              </a:prstGeom>
              <a:solidFill>
                <a:srgbClr val="7d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87880" y="2896560"/>
                <a:ext cx="844200" cy="25200"/>
              </a:xfrm>
              <a:prstGeom prst="rect">
                <a:avLst/>
              </a:prstGeom>
              <a:solidFill>
                <a:srgbClr val="7b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87880" y="2921760"/>
                <a:ext cx="844200" cy="11520"/>
              </a:xfrm>
              <a:prstGeom prst="rect">
                <a:avLst/>
              </a:prstGeom>
              <a:solidFill>
                <a:srgbClr val="7a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87880" y="2933640"/>
                <a:ext cx="844200" cy="11520"/>
              </a:xfrm>
              <a:prstGeom prst="rect">
                <a:avLst/>
              </a:prstGeom>
              <a:solidFill>
                <a:srgbClr val="79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87880" y="2945520"/>
                <a:ext cx="844200" cy="2520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87880" y="2970720"/>
                <a:ext cx="844200" cy="13320"/>
              </a:xfrm>
              <a:prstGeom prst="rect">
                <a:avLst/>
              </a:prstGeom>
              <a:solidFill>
                <a:srgbClr val="752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87880" y="2984040"/>
                <a:ext cx="844200" cy="11520"/>
              </a:xfrm>
              <a:prstGeom prst="rect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87880" y="2995920"/>
                <a:ext cx="844200" cy="25200"/>
              </a:xfrm>
              <a:prstGeom prst="rect">
                <a:avLst/>
              </a:prstGeom>
              <a:solidFill>
                <a:srgbClr val="722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087880" y="3021120"/>
                <a:ext cx="844200" cy="11520"/>
              </a:xfrm>
              <a:prstGeom prst="rect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87880" y="3033000"/>
                <a:ext cx="844200" cy="13320"/>
              </a:xfrm>
              <a:prstGeom prst="rect">
                <a:avLst/>
              </a:prstGeom>
              <a:solidFill>
                <a:srgbClr val="6f2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87880" y="3046320"/>
                <a:ext cx="844200" cy="23760"/>
              </a:xfrm>
              <a:prstGeom prst="rect">
                <a:avLst/>
              </a:prstGeom>
              <a:solidFill>
                <a:srgbClr val="6d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087880" y="3070080"/>
                <a:ext cx="844200" cy="12960"/>
              </a:xfrm>
              <a:prstGeom prst="rect">
                <a:avLst/>
              </a:prstGeom>
              <a:solidFill>
                <a:srgbClr val="6c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87880" y="3083400"/>
                <a:ext cx="844200" cy="11880"/>
              </a:xfrm>
              <a:prstGeom prst="rect">
                <a:avLst/>
              </a:prstGeom>
              <a:solidFill>
                <a:srgbClr val="6a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87880" y="3095280"/>
                <a:ext cx="844200" cy="25200"/>
              </a:xfrm>
              <a:prstGeom prst="rect">
                <a:avLst/>
              </a:prstGeom>
              <a:solidFill>
                <a:srgbClr val="68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87880" y="3120480"/>
                <a:ext cx="844200" cy="11520"/>
              </a:xfrm>
              <a:prstGeom prst="rect">
                <a:avLst/>
              </a:prstGeom>
              <a:solidFill>
                <a:srgbClr val="67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087880" y="3132360"/>
                <a:ext cx="844200" cy="13320"/>
              </a:xfrm>
              <a:prstGeom prst="rect">
                <a:avLst/>
              </a:prstGeom>
              <a:solidFill>
                <a:srgbClr val="652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87880" y="3145680"/>
                <a:ext cx="844200" cy="25200"/>
              </a:xfrm>
              <a:prstGeom prst="rect">
                <a:avLst/>
              </a:prstGeom>
              <a:solidFill>
                <a:srgbClr val="632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87880" y="3170880"/>
                <a:ext cx="844200" cy="11520"/>
              </a:xfrm>
              <a:prstGeom prst="rect">
                <a:avLst/>
              </a:prstGeom>
              <a:solidFill>
                <a:srgbClr val="622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87880" y="3182760"/>
                <a:ext cx="844200" cy="11520"/>
              </a:xfrm>
              <a:prstGeom prst="rect">
                <a:avLst/>
              </a:prstGeom>
              <a:solidFill>
                <a:srgbClr val="601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87880" y="3194640"/>
                <a:ext cx="844200" cy="25200"/>
              </a:xfrm>
              <a:prstGeom prst="rect">
                <a:avLst/>
              </a:prstGeom>
              <a:solidFill>
                <a:srgbClr val="5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087880" y="3219840"/>
                <a:ext cx="844200" cy="11520"/>
              </a:xfrm>
              <a:prstGeom prst="rect">
                <a:avLst/>
              </a:prstGeom>
              <a:solidFill>
                <a:srgbClr val="5d1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87880" y="3231360"/>
                <a:ext cx="844200" cy="13320"/>
              </a:xfrm>
              <a:prstGeom prst="rect">
                <a:avLst/>
              </a:prstGeom>
              <a:solidFill>
                <a:srgbClr val="5c1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87880" y="3245040"/>
                <a:ext cx="844200" cy="25200"/>
              </a:xfrm>
              <a:prstGeom prst="rect">
                <a:avLst/>
              </a:prstGeom>
              <a:solidFill>
                <a:srgbClr val="5b1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087880" y="3270240"/>
                <a:ext cx="844200" cy="11520"/>
              </a:xfrm>
              <a:prstGeom prst="rect">
                <a:avLst/>
              </a:prstGeom>
              <a:solidFill>
                <a:srgbClr val="591d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87880" y="3282120"/>
                <a:ext cx="844200" cy="11880"/>
              </a:xfrm>
              <a:prstGeom prst="rect">
                <a:avLst/>
              </a:prstGeom>
              <a:solidFill>
                <a:srgbClr val="581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87880" y="3294000"/>
                <a:ext cx="844200" cy="12960"/>
              </a:xfrm>
              <a:prstGeom prst="rect">
                <a:avLst/>
              </a:prstGeom>
              <a:solidFill>
                <a:srgbClr val="57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87880" y="3307320"/>
                <a:ext cx="844200" cy="25200"/>
              </a:xfrm>
              <a:prstGeom prst="rect">
                <a:avLst/>
              </a:prstGeom>
              <a:solidFill>
                <a:srgbClr val="55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87880" y="3332520"/>
                <a:ext cx="844200" cy="11520"/>
              </a:xfrm>
              <a:prstGeom prst="rect">
                <a:avLst/>
              </a:prstGeom>
              <a:solidFill>
                <a:srgbClr val="541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87880" y="3344040"/>
                <a:ext cx="844200" cy="1188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87880" y="3356280"/>
                <a:ext cx="844200" cy="25200"/>
              </a:xfrm>
              <a:prstGeom prst="rect">
                <a:avLst/>
              </a:prstGeom>
              <a:solidFill>
                <a:srgbClr val="521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87880" y="3381480"/>
                <a:ext cx="844200" cy="12960"/>
              </a:xfrm>
              <a:prstGeom prst="rect">
                <a:avLst/>
              </a:prstGeom>
              <a:solidFill>
                <a:srgbClr val="51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87880" y="3394440"/>
                <a:ext cx="844200" cy="11880"/>
              </a:xfrm>
              <a:prstGeom prst="rect">
                <a:avLst/>
              </a:prstGeom>
              <a:solidFill>
                <a:srgbClr val="50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87880" y="3406680"/>
                <a:ext cx="844200" cy="25200"/>
              </a:xfrm>
              <a:prstGeom prst="rect">
                <a:avLst/>
              </a:prstGeom>
              <a:solidFill>
                <a:srgbClr val="4f1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87880" y="3431880"/>
                <a:ext cx="844200" cy="11520"/>
              </a:xfrm>
              <a:prstGeom prst="rect">
                <a:avLst/>
              </a:prstGeom>
              <a:solidFill>
                <a:srgbClr val="4e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87880" y="3443760"/>
                <a:ext cx="844200" cy="133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087880" y="3457080"/>
                <a:ext cx="844200" cy="23400"/>
              </a:xfrm>
              <a:prstGeom prst="rect">
                <a:avLst/>
              </a:prstGeom>
              <a:solidFill>
                <a:srgbClr val="4c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87880" y="3480840"/>
                <a:ext cx="844200" cy="13320"/>
              </a:xfrm>
              <a:prstGeom prst="rect">
                <a:avLst/>
              </a:prstGeom>
              <a:solidFill>
                <a:srgbClr val="4c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87880" y="3494160"/>
                <a:ext cx="844200" cy="11520"/>
              </a:xfrm>
              <a:prstGeom prst="rect">
                <a:avLst/>
              </a:prstGeom>
              <a:solidFill>
                <a:srgbClr val="4b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087880" y="3506040"/>
                <a:ext cx="844200" cy="2520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087880" y="3531240"/>
                <a:ext cx="844200" cy="1152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87880" y="3542760"/>
                <a:ext cx="844200" cy="133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87880" y="3556440"/>
                <a:ext cx="844200" cy="25200"/>
              </a:xfrm>
              <a:prstGeom prst="rect">
                <a:avLst/>
              </a:prstGeom>
              <a:solidFill>
                <a:srgbClr val="48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87880" y="3581640"/>
                <a:ext cx="844200" cy="11520"/>
              </a:xfrm>
              <a:prstGeom prst="rect">
                <a:avLst/>
              </a:prstGeom>
              <a:solidFill>
                <a:srgbClr val="48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87880" y="3593160"/>
                <a:ext cx="844200" cy="1188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87880" y="3605400"/>
                <a:ext cx="844200" cy="2520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87880" y="3630600"/>
                <a:ext cx="844200" cy="1296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087880" y="2274120"/>
              <a:ext cx="844200" cy="136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7188120" y="3207960"/>
              <a:ext cx="833040" cy="908280"/>
              <a:chOff x="7188120" y="3207960"/>
              <a:chExt cx="833040" cy="908280"/>
            </a:xfrm>
          </p:grpSpPr>
          <p:sp>
            <p:nvSpPr>
              <p:cNvPr id="459" name=""/>
              <p:cNvSpPr/>
              <p:nvPr/>
            </p:nvSpPr>
            <p:spPr>
              <a:xfrm>
                <a:off x="7188120" y="320796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88120" y="321948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88120" y="3231360"/>
                <a:ext cx="833040" cy="133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88120" y="3244680"/>
                <a:ext cx="833040" cy="11520"/>
              </a:xfrm>
              <a:prstGeom prst="rect">
                <a:avLst/>
              </a:prstGeom>
              <a:solidFill>
                <a:srgbClr val="98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88120" y="3256560"/>
                <a:ext cx="833040" cy="133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88120" y="3269880"/>
                <a:ext cx="83304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88120" y="3281760"/>
                <a:ext cx="833040" cy="11880"/>
              </a:xfrm>
              <a:prstGeom prst="rect">
                <a:avLst/>
              </a:prstGeom>
              <a:solidFill>
                <a:srgbClr val="97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88120" y="3294000"/>
                <a:ext cx="833040" cy="1296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88120" y="3306960"/>
                <a:ext cx="833040" cy="1188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88120" y="3319200"/>
                <a:ext cx="833040" cy="12960"/>
              </a:xfrm>
              <a:prstGeom prst="rect">
                <a:avLst/>
              </a:prstGeom>
              <a:solidFill>
                <a:srgbClr val="96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88120" y="3332160"/>
                <a:ext cx="833040" cy="1152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88120" y="3344040"/>
                <a:ext cx="833040" cy="11880"/>
              </a:xfrm>
              <a:prstGeom prst="rect">
                <a:avLst/>
              </a:prstGeom>
              <a:solidFill>
                <a:srgbClr val="95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88120" y="3355920"/>
                <a:ext cx="833040" cy="12960"/>
              </a:xfrm>
              <a:prstGeom prst="rect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88120" y="3369240"/>
                <a:ext cx="833040" cy="1188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188120" y="3381120"/>
                <a:ext cx="833040" cy="12960"/>
              </a:xfrm>
              <a:prstGeom prst="rect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88120" y="3394440"/>
                <a:ext cx="833040" cy="1188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88120" y="3406320"/>
                <a:ext cx="833040" cy="11520"/>
              </a:xfrm>
              <a:prstGeom prst="rect">
                <a:avLst/>
              </a:prstGeom>
              <a:solidFill>
                <a:srgbClr val="91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88120" y="3418200"/>
                <a:ext cx="833040" cy="13320"/>
              </a:xfrm>
              <a:prstGeom prst="rect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88120" y="3431520"/>
                <a:ext cx="833040" cy="11520"/>
              </a:xfrm>
              <a:prstGeom prst="rect">
                <a:avLst/>
              </a:prstGeom>
              <a:solidFill>
                <a:srgbClr val="902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88120" y="3443400"/>
                <a:ext cx="833040" cy="13320"/>
              </a:xfrm>
              <a:prstGeom prst="rect">
                <a:avLst/>
              </a:prstGeom>
              <a:solidFill>
                <a:srgbClr val="8f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88120" y="3456720"/>
                <a:ext cx="833040" cy="11520"/>
              </a:xfrm>
              <a:prstGeom prst="rect">
                <a:avLst/>
              </a:prstGeom>
              <a:solidFill>
                <a:srgbClr val="8e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88120" y="3468600"/>
                <a:ext cx="833040" cy="11520"/>
              </a:xfrm>
              <a:prstGeom prst="rect">
                <a:avLst/>
              </a:prstGeom>
              <a:solidFill>
                <a:srgbClr val="8d2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88120" y="3480480"/>
                <a:ext cx="833040" cy="13320"/>
              </a:xfrm>
              <a:prstGeom prst="rect">
                <a:avLst/>
              </a:prstGeom>
              <a:solidFill>
                <a:srgbClr val="8c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88120" y="3493800"/>
                <a:ext cx="833040" cy="11520"/>
              </a:xfrm>
              <a:prstGeom prst="rect">
                <a:avLst/>
              </a:prstGeom>
              <a:solidFill>
                <a:srgbClr val="8a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88120" y="3505680"/>
                <a:ext cx="833040" cy="13320"/>
              </a:xfrm>
              <a:prstGeom prst="rect">
                <a:avLst/>
              </a:prstGeom>
              <a:solidFill>
                <a:srgbClr val="89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88120" y="3519000"/>
                <a:ext cx="833040" cy="11520"/>
              </a:xfrm>
              <a:prstGeom prst="rect">
                <a:avLst/>
              </a:prstGeom>
              <a:solidFill>
                <a:srgbClr val="88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88120" y="3530880"/>
                <a:ext cx="833040" cy="11520"/>
              </a:xfrm>
              <a:prstGeom prst="rect">
                <a:avLst/>
              </a:prstGeom>
              <a:solidFill>
                <a:srgbClr val="872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88120" y="3542760"/>
                <a:ext cx="833040" cy="13320"/>
              </a:xfrm>
              <a:prstGeom prst="rect">
                <a:avLst/>
              </a:prstGeom>
              <a:solidFill>
                <a:srgbClr val="85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88120" y="3556080"/>
                <a:ext cx="833040" cy="11520"/>
              </a:xfrm>
              <a:prstGeom prst="rect">
                <a:avLst/>
              </a:prstGeom>
              <a:solidFill>
                <a:srgbClr val="84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88120" y="3567960"/>
                <a:ext cx="833040" cy="13320"/>
              </a:xfrm>
              <a:prstGeom prst="rect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88120" y="3581280"/>
                <a:ext cx="833040" cy="11520"/>
              </a:xfrm>
              <a:prstGeom prst="rect">
                <a:avLst/>
              </a:prstGeom>
              <a:solidFill>
                <a:srgbClr val="81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88120" y="3593160"/>
                <a:ext cx="833040" cy="11880"/>
              </a:xfrm>
              <a:prstGeom prst="rect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88120" y="3605040"/>
                <a:ext cx="833040" cy="12960"/>
              </a:xfrm>
              <a:prstGeom prst="rect">
                <a:avLst/>
              </a:prstGeom>
              <a:solidFill>
                <a:srgbClr val="7e2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88120" y="3618360"/>
                <a:ext cx="833040" cy="11880"/>
              </a:xfrm>
              <a:prstGeom prst="rect">
                <a:avLst/>
              </a:prstGeom>
              <a:solidFill>
                <a:srgbClr val="7c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88120" y="3630240"/>
                <a:ext cx="833040" cy="12960"/>
              </a:xfrm>
              <a:prstGeom prst="rect">
                <a:avLst/>
              </a:prstGeom>
              <a:solidFill>
                <a:srgbClr val="7a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88120" y="3643560"/>
                <a:ext cx="833040" cy="11880"/>
              </a:xfrm>
              <a:prstGeom prst="rect">
                <a:avLst/>
              </a:prstGeom>
              <a:solidFill>
                <a:srgbClr val="79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88120" y="3655440"/>
                <a:ext cx="833040" cy="1152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88120" y="3667320"/>
                <a:ext cx="833040" cy="12960"/>
              </a:xfrm>
              <a:prstGeom prst="rect">
                <a:avLst/>
              </a:prstGeom>
              <a:solidFill>
                <a:srgbClr val="752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8120" y="3680280"/>
                <a:ext cx="833040" cy="11880"/>
              </a:xfrm>
              <a:prstGeom prst="rect">
                <a:avLst/>
              </a:prstGeom>
              <a:solidFill>
                <a:srgbClr val="73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88120" y="3692520"/>
                <a:ext cx="833040" cy="12960"/>
              </a:xfrm>
              <a:prstGeom prst="rect">
                <a:avLst/>
              </a:prstGeom>
              <a:solidFill>
                <a:srgbClr val="71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88120" y="3705480"/>
                <a:ext cx="833040" cy="11880"/>
              </a:xfrm>
              <a:prstGeom prst="rect">
                <a:avLst/>
              </a:prstGeom>
              <a:solidFill>
                <a:srgbClr val="6f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88120" y="3717720"/>
                <a:ext cx="833040" cy="11520"/>
              </a:xfrm>
              <a:prstGeom prst="rect">
                <a:avLst/>
              </a:prstGeom>
              <a:solidFill>
                <a:srgbClr val="6e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88120" y="3729600"/>
                <a:ext cx="833040" cy="13320"/>
              </a:xfrm>
              <a:prstGeom prst="rect">
                <a:avLst/>
              </a:prstGeom>
              <a:solidFill>
                <a:srgbClr val="6c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88120" y="3742920"/>
                <a:ext cx="833040" cy="11520"/>
              </a:xfrm>
              <a:prstGeom prst="rect">
                <a:avLst/>
              </a:prstGeom>
              <a:solidFill>
                <a:srgbClr val="6a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88120" y="3754800"/>
                <a:ext cx="833040" cy="13320"/>
              </a:xfrm>
              <a:prstGeom prst="rect">
                <a:avLst/>
              </a:prstGeom>
              <a:solidFill>
                <a:srgbClr val="68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88120" y="3768120"/>
                <a:ext cx="833040" cy="11520"/>
              </a:xfrm>
              <a:prstGeom prst="rect">
                <a:avLst/>
              </a:prstGeom>
              <a:solidFill>
                <a:srgbClr val="662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188120" y="3780000"/>
                <a:ext cx="833040" cy="11520"/>
              </a:xfrm>
              <a:prstGeom prst="rect">
                <a:avLst/>
              </a:prstGeom>
              <a:solidFill>
                <a:srgbClr val="642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188120" y="3791880"/>
                <a:ext cx="833040" cy="13320"/>
              </a:xfrm>
              <a:prstGeom prst="rect">
                <a:avLst/>
              </a:prstGeom>
              <a:solidFill>
                <a:srgbClr val="632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188120" y="3805200"/>
                <a:ext cx="833040" cy="11520"/>
              </a:xfrm>
              <a:prstGeom prst="rect">
                <a:avLst/>
              </a:prstGeom>
              <a:solidFill>
                <a:srgbClr val="61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88120" y="3817080"/>
                <a:ext cx="833040" cy="13320"/>
              </a:xfrm>
              <a:prstGeom prst="rect">
                <a:avLst/>
              </a:prstGeom>
              <a:solidFill>
                <a:srgbClr val="5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88120" y="3830400"/>
                <a:ext cx="833040" cy="11520"/>
              </a:xfrm>
              <a:prstGeom prst="rect">
                <a:avLst/>
              </a:prstGeom>
              <a:solidFill>
                <a:srgbClr val="5d1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88120" y="3842280"/>
                <a:ext cx="833040" cy="11520"/>
              </a:xfrm>
              <a:prstGeom prst="rect">
                <a:avLst/>
              </a:prstGeom>
              <a:solidFill>
                <a:srgbClr val="5c1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88120" y="3853800"/>
                <a:ext cx="833040" cy="13320"/>
              </a:xfrm>
              <a:prstGeom prst="rect">
                <a:avLst/>
              </a:prstGeom>
              <a:solidFill>
                <a:srgbClr val="5a1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88120" y="3867480"/>
                <a:ext cx="833040" cy="11520"/>
              </a:xfrm>
              <a:prstGeom prst="rect">
                <a:avLst/>
              </a:prstGeom>
              <a:solidFill>
                <a:srgbClr val="591d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88120" y="3879000"/>
                <a:ext cx="833040" cy="13320"/>
              </a:xfrm>
              <a:prstGeom prst="rect">
                <a:avLst/>
              </a:prstGeom>
              <a:solidFill>
                <a:srgbClr val="571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88120" y="3892680"/>
                <a:ext cx="833040" cy="11520"/>
              </a:xfrm>
              <a:prstGeom prst="rect">
                <a:avLst/>
              </a:prstGeom>
              <a:solidFill>
                <a:srgbClr val="561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88120" y="3904200"/>
                <a:ext cx="833040" cy="11880"/>
              </a:xfrm>
              <a:prstGeom prst="rect">
                <a:avLst/>
              </a:prstGeom>
              <a:solidFill>
                <a:srgbClr val="541b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88120" y="3916440"/>
                <a:ext cx="833040" cy="1296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88120" y="3929400"/>
                <a:ext cx="833040" cy="11880"/>
              </a:xfrm>
              <a:prstGeom prst="rect">
                <a:avLst/>
              </a:prstGeom>
              <a:solidFill>
                <a:srgbClr val="521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88120" y="3941640"/>
                <a:ext cx="833040" cy="12960"/>
              </a:xfrm>
              <a:prstGeom prst="rect">
                <a:avLst/>
              </a:prstGeom>
              <a:solidFill>
                <a:srgbClr val="511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188120" y="3954600"/>
                <a:ext cx="833040" cy="11880"/>
              </a:xfrm>
              <a:prstGeom prst="rect">
                <a:avLst/>
              </a:prstGeom>
              <a:solidFill>
                <a:srgbClr val="4f1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88120" y="3966840"/>
                <a:ext cx="833040" cy="11520"/>
              </a:xfrm>
              <a:prstGeom prst="rect">
                <a:avLst/>
              </a:prstGeom>
              <a:solidFill>
                <a:srgbClr val="4e1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88120" y="3978720"/>
                <a:ext cx="833040" cy="133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88120" y="3992040"/>
                <a:ext cx="833040" cy="11520"/>
              </a:xfrm>
              <a:prstGeom prst="rect">
                <a:avLst/>
              </a:prstGeom>
              <a:solidFill>
                <a:srgbClr val="4d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88120" y="4003920"/>
                <a:ext cx="833040" cy="13320"/>
              </a:xfrm>
              <a:prstGeom prst="rect">
                <a:avLst/>
              </a:prstGeom>
              <a:solidFill>
                <a:srgbClr val="4c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88120" y="4017240"/>
                <a:ext cx="833040" cy="11520"/>
              </a:xfrm>
              <a:prstGeom prst="rect">
                <a:avLst/>
              </a:prstGeom>
              <a:solidFill>
                <a:srgbClr val="4b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88120" y="4029120"/>
                <a:ext cx="833040" cy="11520"/>
              </a:xfrm>
              <a:prstGeom prst="rect">
                <a:avLst/>
              </a:prstGeom>
              <a:solidFill>
                <a:srgbClr val="4a1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88120" y="4040640"/>
                <a:ext cx="833040" cy="133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88120" y="4054320"/>
                <a:ext cx="833040" cy="11520"/>
              </a:xfrm>
              <a:prstGeom prst="rect">
                <a:avLst/>
              </a:prstGeom>
              <a:solidFill>
                <a:srgbClr val="49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188120" y="4065840"/>
                <a:ext cx="833040" cy="13320"/>
              </a:xfrm>
              <a:prstGeom prst="rect">
                <a:avLst/>
              </a:prstGeom>
              <a:solidFill>
                <a:srgbClr val="481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88120" y="4079520"/>
                <a:ext cx="833040" cy="11520"/>
              </a:xfrm>
              <a:prstGeom prst="rect">
                <a:avLst/>
              </a:prstGeom>
              <a:solidFill>
                <a:srgbClr val="48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88120" y="4091400"/>
                <a:ext cx="833040" cy="1152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188120" y="4102920"/>
                <a:ext cx="833040" cy="1332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7188120" y="3207960"/>
              <a:ext cx="833040" cy="90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32440" y="2274120"/>
              <a:ext cx="1255320" cy="9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89120" y="2098800"/>
              <a:ext cx="1440" cy="250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44840" y="460188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44840" y="43527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4840" y="41036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4840" y="385452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44840" y="360540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4840" y="335628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44840" y="309564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4840" y="284616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4840" y="2597040"/>
              <a:ext cx="43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234792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4840" y="20988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60760" y="4601880"/>
              <a:ext cx="4188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389120" y="4601880"/>
              <a:ext cx="144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561000" y="4601880"/>
              <a:ext cx="108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8650080" y="4601880"/>
              <a:ext cx="1080" cy="50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760" y="4502160"/>
              <a:ext cx="26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76200" y="425340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76200" y="400248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6200" y="375516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76200" y="350604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76200" y="3256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76200" y="2995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76200" y="274860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76200" y="249804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6200" y="2248920"/>
              <a:ext cx="45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9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55960" y="1999800"/>
              <a:ext cx="6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1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81200" y="473976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el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8120" y="4739760"/>
              <a:ext cx="44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3265920" y="3164040"/>
              <a:ext cx="10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illion A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068800" y="5238000"/>
              <a:ext cx="75600" cy="86760"/>
              <a:chOff x="5068800" y="5238000"/>
              <a:chExt cx="75600" cy="86760"/>
            </a:xfrm>
          </p:grpSpPr>
          <p:sp>
            <p:nvSpPr>
              <p:cNvPr id="565" name=""/>
              <p:cNvSpPr/>
              <p:nvPr/>
            </p:nvSpPr>
            <p:spPr>
              <a:xfrm>
                <a:off x="5068800" y="5238000"/>
                <a:ext cx="75600" cy="11520"/>
              </a:xfrm>
              <a:prstGeom prst="rect">
                <a:avLst/>
              </a:prstGeom>
              <a:solidFill>
                <a:srgbClr val="979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68800" y="5249520"/>
                <a:ext cx="75600" cy="13320"/>
              </a:xfrm>
              <a:prstGeom prst="rect">
                <a:avLst/>
              </a:prstGeom>
              <a:solidFill>
                <a:srgbClr val="929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68800" y="5262840"/>
                <a:ext cx="75600" cy="11520"/>
              </a:xfrm>
              <a:prstGeom prst="rect">
                <a:avLst/>
              </a:prstGeom>
              <a:solidFill>
                <a:srgbClr val="878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68800" y="5274720"/>
                <a:ext cx="75600" cy="13320"/>
              </a:xfrm>
              <a:prstGeom prst="rect">
                <a:avLst/>
              </a:prstGeom>
              <a:solidFill>
                <a:srgbClr val="777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068800" y="5288040"/>
                <a:ext cx="75600" cy="11520"/>
              </a:xfrm>
              <a:prstGeom prst="rect">
                <a:avLst/>
              </a:prstGeom>
              <a:solidFill>
                <a:srgbClr val="646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68800" y="5299920"/>
                <a:ext cx="75600" cy="11880"/>
              </a:xfrm>
              <a:prstGeom prst="rect">
                <a:avLst/>
              </a:prstGeom>
              <a:solidFill>
                <a:srgbClr val="535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68800" y="5311800"/>
                <a:ext cx="75600" cy="12960"/>
              </a:xfrm>
              <a:prstGeom prst="rect">
                <a:avLst/>
              </a:prstGeom>
              <a:solidFill>
                <a:srgbClr val="474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054400" y="5224320"/>
              <a:ext cx="85320" cy="9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581520" y="5224320"/>
              <a:ext cx="75960" cy="86760"/>
              <a:chOff x="6581520" y="5224320"/>
              <a:chExt cx="75960" cy="86760"/>
            </a:xfrm>
          </p:grpSpPr>
          <p:sp>
            <p:nvSpPr>
              <p:cNvPr id="574" name=""/>
              <p:cNvSpPr/>
              <p:nvPr/>
            </p:nvSpPr>
            <p:spPr>
              <a:xfrm>
                <a:off x="6581520" y="5224320"/>
                <a:ext cx="75960" cy="11520"/>
              </a:xfrm>
              <a:prstGeom prst="rect">
                <a:avLst/>
              </a:prstGeom>
              <a:solidFill>
                <a:srgbClr val="97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581520" y="5235840"/>
                <a:ext cx="75960" cy="13320"/>
              </a:xfrm>
              <a:prstGeom prst="rect">
                <a:avLst/>
              </a:prstGeom>
              <a:solidFill>
                <a:srgbClr val="923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81520" y="5249160"/>
                <a:ext cx="75960" cy="11520"/>
              </a:xfrm>
              <a:prstGeom prst="rect">
                <a:avLst/>
              </a:prstGeom>
              <a:solidFill>
                <a:srgbClr val="87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81520" y="5261040"/>
                <a:ext cx="75960" cy="13320"/>
              </a:xfrm>
              <a:prstGeom prst="rect">
                <a:avLst/>
              </a:prstGeom>
              <a:solidFill>
                <a:srgbClr val="77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581520" y="5274360"/>
                <a:ext cx="75960" cy="11520"/>
              </a:xfrm>
              <a:prstGeom prst="rect">
                <a:avLst/>
              </a:prstGeom>
              <a:solidFill>
                <a:srgbClr val="642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581520" y="5286240"/>
                <a:ext cx="75960" cy="11880"/>
              </a:xfrm>
              <a:prstGeom prst="rect">
                <a:avLst/>
              </a:prstGeom>
              <a:solidFill>
                <a:srgbClr val="531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81520" y="5298120"/>
                <a:ext cx="75960" cy="12960"/>
              </a:xfrm>
              <a:prstGeom prst="rect">
                <a:avLst/>
              </a:prstGeom>
              <a:solidFill>
                <a:srgbClr val="471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6581520" y="5224320"/>
              <a:ext cx="87120" cy="9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96720" y="5162400"/>
              <a:ext cx="108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0240" y="1838160"/>
              <a:ext cx="5217840" cy="3635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567240" y="5549760"/>
            <a:ext cx="5203800" cy="54000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estimates of expected overspend are based on IT Effectiveness and not on any unit cost differenti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0AF-A635-462C-8B96-11023D19C7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06:20:23Z</dcterms:created>
  <dc:creator>Balaji</dc:creator>
  <dc:description/>
  <dc:language>en-US</dc:language>
  <cp:lastModifiedBy>abhay_pawar</cp:lastModifiedBy>
  <cp:lastPrinted>2001-09-12T17:18:20Z</cp:lastPrinted>
  <dcterms:modified xsi:type="dcterms:W3CDTF">2002-08-26T18:51:48Z</dcterms:modified>
  <cp:revision>1495</cp:revision>
  <dc:subject/>
  <dc:title>Business Tranformation through Technology</dc:title>
</cp:coreProperties>
</file>