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.jpeg" ContentType="image/jpeg"/>
  <Override PartName="/ppt/media/image4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1A46-25D7-4024-84DF-5489A009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7FC7-4D91-4476-A0F5-8AB58EB1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427F-151F-4330-9562-ACFA2781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184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413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3619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5184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413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6DEA-E085-41A8-84A3-1B56D121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361960" y="3886200"/>
            <a:ext cx="6476760" cy="67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955D-9EC4-468F-B127-7CFB4794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5184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413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619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5184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413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1F73-45E8-4F4F-BE11-9381EC3A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13BF-E41F-4C53-A343-FB265B17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4208-4419-46D4-A624-B8446385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1960" y="3886200"/>
            <a:ext cx="6476760" cy="67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5E4E-26E4-4932-A7E5-CD51A05B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C721-D254-4B69-8631-0DDE08F6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F9E6-A605-4329-BE73-7AE6D686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8AF9-CF97-43EB-8493-78747E0A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22248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22248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22248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082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6840" y="66132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02 Infosys Technologie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 </a:t>
            </a:r>
            <a:fld id="{9D3459B7-8FD5-4607-8E3D-145363D9DC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438280" y="104760"/>
            <a:ext cx="22100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t M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gust 27,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803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594324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2 Infosys Technologie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1523880"/>
            <a:ext cx="22096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t M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gust 27,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50532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up to the promi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1" marL="3459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4360" algn="ctr"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0320" algn="ctr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6280" algn="ctr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76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76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8.png"/><Relationship Id="rId34" Type="http://schemas.openxmlformats.org/officeDocument/2006/relationships/image" Target="../media/image8.png"/><Relationship Id="rId35" Type="http://schemas.openxmlformats.org/officeDocument/2006/relationships/image" Target="../media/image8.png"/><Relationship Id="rId36" Type="http://schemas.openxmlformats.org/officeDocument/2006/relationships/image" Target="../media/image8.png"/><Relationship Id="rId37" Type="http://schemas.openxmlformats.org/officeDocument/2006/relationships/image" Target="../media/image8.png"/><Relationship Id="rId38" Type="http://schemas.openxmlformats.org/officeDocument/2006/relationships/image" Target="../media/image8.png"/><Relationship Id="rId3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hyperlink" Target="http://www.caltex.com.sg/index.htm" TargetMode="External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package" Target="../embeddings/oleObject3.xlsx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hallenges in the Asian marke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MS PGothic"/>
              </a:rPr>
              <a:t>V. Sriram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267080" y="1828800"/>
          <a:ext cx="4345200" cy="316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828800"/>
                    <a:ext cx="434520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762120" y="1981080"/>
          <a:ext cx="4000320" cy="3337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981080"/>
                    <a:ext cx="4000320" cy="33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609480" y="1760400"/>
            <a:ext cx="4496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Japan IT Services Market Size and Foreca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40" y="5410080"/>
            <a:ext cx="8136000" cy="1017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0033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orld’s Second largest economy, Japan accounted for 12% of the worldwide IT services market in 2001. CAGR will be 4.1% through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0033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apanese IT services market was forecast at $64.8 billion in 2001, growing to $83 billion in 200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0033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88 Companies in Fortune 500 (July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Japan – Salient Feature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4073400"/>
            <a:ext cx="320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Gartner Dataquest July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Infosys in Japan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Initiatives / Achie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Marketing Office setu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Japan in 199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8.6% of Infy APAC revenue from Japan(FY 02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Fortune 500 clients started since the inception of the branch in-spite of a sluggish econo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es, Marketing,HR &amp; Support teams include Japanese nation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panese - English technical hires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Dedicated translation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22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guage Proficiency, 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w Deci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se pressure on pr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ly cost and quality conscious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ring of locals and other Japanese - English enabled Technic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rt cycle projects with evolving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gressive schedules in almost every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990720"/>
            <a:ext cx="8915400" cy="51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Australia – Salient Feature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81480" y="4419720"/>
            <a:ext cx="3200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5229360"/>
            <a:ext cx="8207280" cy="1181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0033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ustralia will remain the largest IT Services country in Asia Pacific after Japan, It will grow up to 16.7 b US $ by 2005 (Gartner Dataquest July 2002); Australia accounted for 11.8% of the Asia Pacific IT services market in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0033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structuring of industries such as utilities and telecommunications is generating demand for consulting leading to integration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0033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6 Companies in Fortune 500 (July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211640" y="1700280"/>
          <a:ext cx="4483080" cy="344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700280"/>
                    <a:ext cx="448308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68360" y="1700280"/>
          <a:ext cx="4295880" cy="3411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700280"/>
                    <a:ext cx="4295880" cy="34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1316160" y="3922560"/>
            <a:ext cx="2614320" cy="1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Gartner Dataquest June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Infosys in Australia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Initiatives / 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rketing Office setu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y getting established in Austral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% of Infy APAC revenue from Australia (FY 0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hiring of Australian nationals for Sales and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end posi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 of “consulting”/ “trouble shooting work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sys as a “Thought Leader” in Austral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like Telstra/ Vodafone/ Suncorp Metway/Swiss 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credibility of Global Delivery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Infosys Brand Equ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2280" y="914400"/>
            <a:ext cx="8686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rmAutofit/>
          </a:bodyPr>
          <a:p>
            <a:pPr marL="230040" indent="-2300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1979640" y="4395960"/>
          <a:ext cx="5030640" cy="213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4395960"/>
                    <a:ext cx="503064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30644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ingapore and Hong Kong IT Services Market size Forecast (in US $)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68360" y="443700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0abc"/>
                </a:solidFill>
                <a:latin typeface="Arial"/>
              </a:rPr>
              <a:t>Hong K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979640" y="2209680"/>
          <a:ext cx="5030640" cy="2133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2209680"/>
                    <a:ext cx="50306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2340000" y="234936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0abc"/>
                </a:solidFill>
                <a:latin typeface="Arial"/>
              </a:rPr>
              <a:t>Singa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1981080"/>
            <a:ext cx="25700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Gartner Dataquest June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Infosys in ASEAN Region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facturing, Financial and Telecommunications markets are strong and their expansion in IT is a main business driver for Software support serv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vt’s push into ebusiness and developing SMB segment is driving the IT services market in Singapore and Hong K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mented market; Cultural linguistic d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Initiatives / Achie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Marketing Office setu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ong Kong in 1999 and in Singapore i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strategic partnerships for large Asian 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ing to tap into the influencing positions of Head Quar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brand of Indian 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aper alternative (but unproven) location like Ch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How do we cope with these challenges 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452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local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 in linguistic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ise solution / delivery process to meet loc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iances specific to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business development activities (Services/Vertic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MS PGothic"/>
              </a:rPr>
              <a:t>Agenda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MS PGothic"/>
              </a:rPr>
              <a:t>	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T Services Market in Asia Pa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fosys in Asia Pacific today – A Snaps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Key Characteristics of the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fosys in Japan, Australia, Singapore and HongK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A Snapshot of IT Services Market - Asia Pacific Vs. Worldwide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932360" y="2205000"/>
          <a:ext cx="3335400" cy="166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05000"/>
                    <a:ext cx="333540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932360" y="4406760"/>
          <a:ext cx="3311640" cy="1689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4406760"/>
                    <a:ext cx="331164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300720" y="8920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Gartner Dataquest July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619280" y="2133720"/>
          <a:ext cx="2951280" cy="18144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2133720"/>
                    <a:ext cx="2951280" cy="18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763640" y="4179960"/>
          <a:ext cx="2879640" cy="19620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63640" y="4179960"/>
                    <a:ext cx="2879640" cy="19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30644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Asia Pacific IT Services Market size forecast by Country (in Billion US $)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00200" y="2144880"/>
          <a:ext cx="6408720" cy="401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44880"/>
                    <a:ext cx="6408720" cy="40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990720" y="5029200"/>
            <a:ext cx="496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93.1 b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4378320"/>
            <a:ext cx="496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96.4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3781440"/>
            <a:ext cx="496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105.3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3186000"/>
            <a:ext cx="496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116.4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2589120"/>
            <a:ext cx="496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129.4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973080"/>
            <a:ext cx="3200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Gartner Dataquest July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3200400" y="2743200"/>
            <a:ext cx="5791320" cy="3656520"/>
            <a:chOff x="3200400" y="2743200"/>
            <a:chExt cx="5791320" cy="3656520"/>
          </a:xfrm>
        </p:grpSpPr>
        <p:sp>
          <p:nvSpPr>
            <p:cNvPr id="110" name=""/>
            <p:cNvSpPr/>
            <p:nvPr/>
          </p:nvSpPr>
          <p:spPr>
            <a:xfrm>
              <a:off x="3657600" y="2895480"/>
              <a:ext cx="525780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200400" y="2743200"/>
              <a:ext cx="5257080" cy="3656520"/>
              <a:chOff x="3200400" y="2743200"/>
              <a:chExt cx="5257080" cy="3656520"/>
            </a:xfrm>
          </p:grpSpPr>
          <p:sp>
            <p:nvSpPr>
              <p:cNvPr id="112" name=""/>
              <p:cNvSpPr/>
              <p:nvPr/>
            </p:nvSpPr>
            <p:spPr>
              <a:xfrm>
                <a:off x="3790080" y="2828520"/>
                <a:ext cx="3307680" cy="2098800"/>
              </a:xfrm>
              <a:custGeom>
                <a:avLst/>
                <a:gdLst/>
                <a:ahLst/>
                <a:rect l="l" t="t" r="r" b="b"/>
                <a:pathLst>
                  <a:path w="1825" h="1005">
                    <a:moveTo>
                      <a:pt x="1700" y="410"/>
                    </a:moveTo>
                    <a:lnTo>
                      <a:pt x="1684" y="438"/>
                    </a:lnTo>
                    <a:lnTo>
                      <a:pt x="1725" y="466"/>
                    </a:lnTo>
                    <a:lnTo>
                      <a:pt x="1740" y="494"/>
                    </a:lnTo>
                    <a:lnTo>
                      <a:pt x="1704" y="510"/>
                    </a:lnTo>
                    <a:lnTo>
                      <a:pt x="1694" y="481"/>
                    </a:lnTo>
                    <a:lnTo>
                      <a:pt x="1660" y="453"/>
                    </a:lnTo>
                    <a:lnTo>
                      <a:pt x="1650" y="424"/>
                    </a:lnTo>
                    <a:lnTo>
                      <a:pt x="1629" y="438"/>
                    </a:lnTo>
                    <a:lnTo>
                      <a:pt x="1607" y="450"/>
                    </a:lnTo>
                    <a:lnTo>
                      <a:pt x="1604" y="474"/>
                    </a:lnTo>
                    <a:lnTo>
                      <a:pt x="1627" y="499"/>
                    </a:lnTo>
                    <a:lnTo>
                      <a:pt x="1612" y="519"/>
                    </a:lnTo>
                    <a:lnTo>
                      <a:pt x="1607" y="553"/>
                    </a:lnTo>
                    <a:lnTo>
                      <a:pt x="1636" y="575"/>
                    </a:lnTo>
                    <a:lnTo>
                      <a:pt x="1667" y="581"/>
                    </a:lnTo>
                    <a:lnTo>
                      <a:pt x="1700" y="605"/>
                    </a:lnTo>
                    <a:lnTo>
                      <a:pt x="1729" y="636"/>
                    </a:lnTo>
                    <a:lnTo>
                      <a:pt x="1730" y="682"/>
                    </a:lnTo>
                    <a:lnTo>
                      <a:pt x="1720" y="704"/>
                    </a:lnTo>
                    <a:lnTo>
                      <a:pt x="1690" y="723"/>
                    </a:lnTo>
                    <a:lnTo>
                      <a:pt x="1654" y="732"/>
                    </a:lnTo>
                    <a:lnTo>
                      <a:pt x="1631" y="746"/>
                    </a:lnTo>
                    <a:lnTo>
                      <a:pt x="1617" y="739"/>
                    </a:lnTo>
                    <a:lnTo>
                      <a:pt x="1606" y="746"/>
                    </a:lnTo>
                    <a:lnTo>
                      <a:pt x="1602" y="781"/>
                    </a:lnTo>
                    <a:lnTo>
                      <a:pt x="1611" y="801"/>
                    </a:lnTo>
                    <a:lnTo>
                      <a:pt x="1647" y="824"/>
                    </a:lnTo>
                    <a:lnTo>
                      <a:pt x="1662" y="848"/>
                    </a:lnTo>
                    <a:lnTo>
                      <a:pt x="1674" y="862"/>
                    </a:lnTo>
                    <a:lnTo>
                      <a:pt x="1670" y="887"/>
                    </a:lnTo>
                    <a:lnTo>
                      <a:pt x="1647" y="907"/>
                    </a:lnTo>
                    <a:lnTo>
                      <a:pt x="1622" y="907"/>
                    </a:lnTo>
                    <a:lnTo>
                      <a:pt x="1582" y="877"/>
                    </a:lnTo>
                    <a:lnTo>
                      <a:pt x="1554" y="866"/>
                    </a:lnTo>
                    <a:lnTo>
                      <a:pt x="1542" y="860"/>
                    </a:lnTo>
                    <a:lnTo>
                      <a:pt x="1531" y="876"/>
                    </a:lnTo>
                    <a:lnTo>
                      <a:pt x="1534" y="897"/>
                    </a:lnTo>
                    <a:lnTo>
                      <a:pt x="1544" y="915"/>
                    </a:lnTo>
                    <a:lnTo>
                      <a:pt x="1551" y="941"/>
                    </a:lnTo>
                    <a:lnTo>
                      <a:pt x="1576" y="950"/>
                    </a:lnTo>
                    <a:lnTo>
                      <a:pt x="1567" y="964"/>
                    </a:lnTo>
                    <a:lnTo>
                      <a:pt x="1569" y="985"/>
                    </a:lnTo>
                    <a:lnTo>
                      <a:pt x="1577" y="1005"/>
                    </a:lnTo>
                    <a:lnTo>
                      <a:pt x="1561" y="1003"/>
                    </a:lnTo>
                    <a:lnTo>
                      <a:pt x="1542" y="980"/>
                    </a:lnTo>
                    <a:lnTo>
                      <a:pt x="1544" y="955"/>
                    </a:lnTo>
                    <a:lnTo>
                      <a:pt x="1537" y="947"/>
                    </a:lnTo>
                    <a:lnTo>
                      <a:pt x="1531" y="919"/>
                    </a:lnTo>
                    <a:lnTo>
                      <a:pt x="1522" y="912"/>
                    </a:lnTo>
                    <a:lnTo>
                      <a:pt x="1519" y="873"/>
                    </a:lnTo>
                    <a:lnTo>
                      <a:pt x="1508" y="848"/>
                    </a:lnTo>
                    <a:lnTo>
                      <a:pt x="1488" y="826"/>
                    </a:lnTo>
                    <a:lnTo>
                      <a:pt x="1451" y="813"/>
                    </a:lnTo>
                    <a:lnTo>
                      <a:pt x="1424" y="793"/>
                    </a:lnTo>
                    <a:lnTo>
                      <a:pt x="1413" y="778"/>
                    </a:lnTo>
                    <a:lnTo>
                      <a:pt x="1395" y="760"/>
                    </a:lnTo>
                    <a:lnTo>
                      <a:pt x="1366" y="721"/>
                    </a:lnTo>
                    <a:lnTo>
                      <a:pt x="1341" y="725"/>
                    </a:lnTo>
                    <a:lnTo>
                      <a:pt x="1293" y="709"/>
                    </a:lnTo>
                    <a:lnTo>
                      <a:pt x="1090" y="746"/>
                    </a:lnTo>
                    <a:lnTo>
                      <a:pt x="1079" y="734"/>
                    </a:lnTo>
                    <a:lnTo>
                      <a:pt x="1070" y="751"/>
                    </a:lnTo>
                    <a:lnTo>
                      <a:pt x="1027" y="712"/>
                    </a:lnTo>
                    <a:lnTo>
                      <a:pt x="969" y="682"/>
                    </a:lnTo>
                    <a:lnTo>
                      <a:pt x="932" y="689"/>
                    </a:lnTo>
                    <a:lnTo>
                      <a:pt x="879" y="686"/>
                    </a:lnTo>
                    <a:lnTo>
                      <a:pt x="854" y="664"/>
                    </a:lnTo>
                    <a:lnTo>
                      <a:pt x="826" y="667"/>
                    </a:lnTo>
                    <a:lnTo>
                      <a:pt x="786" y="658"/>
                    </a:lnTo>
                    <a:lnTo>
                      <a:pt x="703" y="584"/>
                    </a:lnTo>
                    <a:lnTo>
                      <a:pt x="708" y="614"/>
                    </a:lnTo>
                    <a:lnTo>
                      <a:pt x="733" y="656"/>
                    </a:lnTo>
                    <a:lnTo>
                      <a:pt x="761" y="686"/>
                    </a:lnTo>
                    <a:lnTo>
                      <a:pt x="791" y="701"/>
                    </a:lnTo>
                    <a:lnTo>
                      <a:pt x="824" y="689"/>
                    </a:lnTo>
                    <a:lnTo>
                      <a:pt x="851" y="689"/>
                    </a:lnTo>
                    <a:lnTo>
                      <a:pt x="886" y="715"/>
                    </a:lnTo>
                    <a:lnTo>
                      <a:pt x="906" y="735"/>
                    </a:lnTo>
                    <a:lnTo>
                      <a:pt x="903" y="748"/>
                    </a:lnTo>
                    <a:lnTo>
                      <a:pt x="843" y="806"/>
                    </a:lnTo>
                    <a:lnTo>
                      <a:pt x="803" y="827"/>
                    </a:lnTo>
                    <a:lnTo>
                      <a:pt x="720" y="857"/>
                    </a:lnTo>
                    <a:lnTo>
                      <a:pt x="695" y="866"/>
                    </a:lnTo>
                    <a:lnTo>
                      <a:pt x="680" y="857"/>
                    </a:lnTo>
                    <a:lnTo>
                      <a:pt x="675" y="845"/>
                    </a:lnTo>
                    <a:lnTo>
                      <a:pt x="673" y="827"/>
                    </a:lnTo>
                    <a:lnTo>
                      <a:pt x="667" y="810"/>
                    </a:lnTo>
                    <a:lnTo>
                      <a:pt x="655" y="796"/>
                    </a:lnTo>
                    <a:lnTo>
                      <a:pt x="645" y="784"/>
                    </a:lnTo>
                    <a:lnTo>
                      <a:pt x="630" y="767"/>
                    </a:lnTo>
                    <a:lnTo>
                      <a:pt x="622" y="756"/>
                    </a:lnTo>
                    <a:lnTo>
                      <a:pt x="615" y="742"/>
                    </a:lnTo>
                    <a:lnTo>
                      <a:pt x="603" y="729"/>
                    </a:lnTo>
                    <a:lnTo>
                      <a:pt x="585" y="698"/>
                    </a:lnTo>
                    <a:lnTo>
                      <a:pt x="575" y="686"/>
                    </a:lnTo>
                    <a:lnTo>
                      <a:pt x="562" y="668"/>
                    </a:lnTo>
                    <a:lnTo>
                      <a:pt x="540" y="645"/>
                    </a:lnTo>
                    <a:lnTo>
                      <a:pt x="529" y="631"/>
                    </a:lnTo>
                    <a:lnTo>
                      <a:pt x="519" y="622"/>
                    </a:lnTo>
                    <a:lnTo>
                      <a:pt x="507" y="601"/>
                    </a:lnTo>
                    <a:lnTo>
                      <a:pt x="542" y="583"/>
                    </a:lnTo>
                    <a:lnTo>
                      <a:pt x="557" y="542"/>
                    </a:lnTo>
                    <a:lnTo>
                      <a:pt x="524" y="531"/>
                    </a:lnTo>
                    <a:lnTo>
                      <a:pt x="477" y="538"/>
                    </a:lnTo>
                    <a:lnTo>
                      <a:pt x="467" y="533"/>
                    </a:lnTo>
                    <a:lnTo>
                      <a:pt x="462" y="533"/>
                    </a:lnTo>
                    <a:lnTo>
                      <a:pt x="455" y="533"/>
                    </a:lnTo>
                    <a:lnTo>
                      <a:pt x="450" y="533"/>
                    </a:lnTo>
                    <a:lnTo>
                      <a:pt x="449" y="525"/>
                    </a:lnTo>
                    <a:lnTo>
                      <a:pt x="445" y="519"/>
                    </a:lnTo>
                    <a:lnTo>
                      <a:pt x="445" y="506"/>
                    </a:lnTo>
                    <a:lnTo>
                      <a:pt x="437" y="500"/>
                    </a:lnTo>
                    <a:lnTo>
                      <a:pt x="435" y="492"/>
                    </a:lnTo>
                    <a:lnTo>
                      <a:pt x="430" y="491"/>
                    </a:lnTo>
                    <a:lnTo>
                      <a:pt x="426" y="485"/>
                    </a:lnTo>
                    <a:lnTo>
                      <a:pt x="424" y="478"/>
                    </a:lnTo>
                    <a:lnTo>
                      <a:pt x="421" y="472"/>
                    </a:lnTo>
                    <a:lnTo>
                      <a:pt x="417" y="466"/>
                    </a:lnTo>
                    <a:lnTo>
                      <a:pt x="407" y="466"/>
                    </a:lnTo>
                    <a:lnTo>
                      <a:pt x="401" y="466"/>
                    </a:lnTo>
                    <a:lnTo>
                      <a:pt x="397" y="466"/>
                    </a:lnTo>
                    <a:lnTo>
                      <a:pt x="396" y="477"/>
                    </a:lnTo>
                    <a:lnTo>
                      <a:pt x="396" y="485"/>
                    </a:lnTo>
                    <a:lnTo>
                      <a:pt x="396" y="494"/>
                    </a:lnTo>
                    <a:lnTo>
                      <a:pt x="396" y="503"/>
                    </a:lnTo>
                    <a:lnTo>
                      <a:pt x="396" y="510"/>
                    </a:lnTo>
                    <a:lnTo>
                      <a:pt x="387" y="513"/>
                    </a:lnTo>
                    <a:lnTo>
                      <a:pt x="381" y="519"/>
                    </a:lnTo>
                    <a:lnTo>
                      <a:pt x="371" y="510"/>
                    </a:lnTo>
                    <a:lnTo>
                      <a:pt x="364" y="497"/>
                    </a:lnTo>
                    <a:lnTo>
                      <a:pt x="366" y="483"/>
                    </a:lnTo>
                    <a:lnTo>
                      <a:pt x="356" y="461"/>
                    </a:lnTo>
                    <a:lnTo>
                      <a:pt x="351" y="449"/>
                    </a:lnTo>
                    <a:lnTo>
                      <a:pt x="339" y="441"/>
                    </a:lnTo>
                    <a:lnTo>
                      <a:pt x="326" y="433"/>
                    </a:lnTo>
                    <a:lnTo>
                      <a:pt x="319" y="422"/>
                    </a:lnTo>
                    <a:lnTo>
                      <a:pt x="314" y="414"/>
                    </a:lnTo>
                    <a:lnTo>
                      <a:pt x="303" y="413"/>
                    </a:lnTo>
                    <a:lnTo>
                      <a:pt x="299" y="408"/>
                    </a:lnTo>
                    <a:lnTo>
                      <a:pt x="291" y="408"/>
                    </a:lnTo>
                    <a:lnTo>
                      <a:pt x="284" y="416"/>
                    </a:lnTo>
                    <a:lnTo>
                      <a:pt x="278" y="422"/>
                    </a:lnTo>
                    <a:lnTo>
                      <a:pt x="293" y="430"/>
                    </a:lnTo>
                    <a:lnTo>
                      <a:pt x="301" y="441"/>
                    </a:lnTo>
                    <a:lnTo>
                      <a:pt x="316" y="455"/>
                    </a:lnTo>
                    <a:lnTo>
                      <a:pt x="322" y="461"/>
                    </a:lnTo>
                    <a:lnTo>
                      <a:pt x="334" y="466"/>
                    </a:lnTo>
                    <a:lnTo>
                      <a:pt x="342" y="478"/>
                    </a:lnTo>
                    <a:lnTo>
                      <a:pt x="332" y="489"/>
                    </a:lnTo>
                    <a:lnTo>
                      <a:pt x="331" y="485"/>
                    </a:lnTo>
                    <a:lnTo>
                      <a:pt x="331" y="478"/>
                    </a:lnTo>
                    <a:lnTo>
                      <a:pt x="326" y="492"/>
                    </a:lnTo>
                    <a:lnTo>
                      <a:pt x="324" y="505"/>
                    </a:lnTo>
                    <a:lnTo>
                      <a:pt x="314" y="508"/>
                    </a:lnTo>
                    <a:lnTo>
                      <a:pt x="317" y="492"/>
                    </a:lnTo>
                    <a:lnTo>
                      <a:pt x="316" y="485"/>
                    </a:lnTo>
                    <a:lnTo>
                      <a:pt x="304" y="480"/>
                    </a:lnTo>
                    <a:lnTo>
                      <a:pt x="299" y="477"/>
                    </a:lnTo>
                    <a:lnTo>
                      <a:pt x="294" y="471"/>
                    </a:lnTo>
                    <a:lnTo>
                      <a:pt x="284" y="464"/>
                    </a:lnTo>
                    <a:lnTo>
                      <a:pt x="278" y="460"/>
                    </a:lnTo>
                    <a:lnTo>
                      <a:pt x="271" y="450"/>
                    </a:lnTo>
                    <a:lnTo>
                      <a:pt x="263" y="446"/>
                    </a:lnTo>
                    <a:lnTo>
                      <a:pt x="258" y="436"/>
                    </a:lnTo>
                    <a:lnTo>
                      <a:pt x="256" y="428"/>
                    </a:lnTo>
                    <a:lnTo>
                      <a:pt x="249" y="425"/>
                    </a:lnTo>
                    <a:lnTo>
                      <a:pt x="243" y="421"/>
                    </a:lnTo>
                    <a:lnTo>
                      <a:pt x="229" y="421"/>
                    </a:lnTo>
                    <a:lnTo>
                      <a:pt x="218" y="422"/>
                    </a:lnTo>
                    <a:lnTo>
                      <a:pt x="204" y="421"/>
                    </a:lnTo>
                    <a:lnTo>
                      <a:pt x="181" y="422"/>
                    </a:lnTo>
                    <a:lnTo>
                      <a:pt x="165" y="424"/>
                    </a:lnTo>
                    <a:lnTo>
                      <a:pt x="160" y="427"/>
                    </a:lnTo>
                    <a:lnTo>
                      <a:pt x="158" y="436"/>
                    </a:lnTo>
                    <a:lnTo>
                      <a:pt x="158" y="447"/>
                    </a:lnTo>
                    <a:lnTo>
                      <a:pt x="148" y="458"/>
                    </a:lnTo>
                    <a:lnTo>
                      <a:pt x="141" y="463"/>
                    </a:lnTo>
                    <a:lnTo>
                      <a:pt x="138" y="466"/>
                    </a:lnTo>
                    <a:lnTo>
                      <a:pt x="133" y="477"/>
                    </a:lnTo>
                    <a:lnTo>
                      <a:pt x="130" y="483"/>
                    </a:lnTo>
                    <a:lnTo>
                      <a:pt x="135" y="488"/>
                    </a:lnTo>
                    <a:lnTo>
                      <a:pt x="135" y="497"/>
                    </a:lnTo>
                    <a:lnTo>
                      <a:pt x="133" y="502"/>
                    </a:lnTo>
                    <a:lnTo>
                      <a:pt x="130" y="508"/>
                    </a:lnTo>
                    <a:lnTo>
                      <a:pt x="121" y="519"/>
                    </a:lnTo>
                    <a:lnTo>
                      <a:pt x="116" y="514"/>
                    </a:lnTo>
                    <a:lnTo>
                      <a:pt x="111" y="517"/>
                    </a:lnTo>
                    <a:lnTo>
                      <a:pt x="105" y="522"/>
                    </a:lnTo>
                    <a:lnTo>
                      <a:pt x="95" y="524"/>
                    </a:lnTo>
                    <a:lnTo>
                      <a:pt x="85" y="531"/>
                    </a:lnTo>
                    <a:lnTo>
                      <a:pt x="75" y="533"/>
                    </a:lnTo>
                    <a:lnTo>
                      <a:pt x="65" y="533"/>
                    </a:lnTo>
                    <a:lnTo>
                      <a:pt x="55" y="533"/>
                    </a:lnTo>
                    <a:lnTo>
                      <a:pt x="33" y="538"/>
                    </a:lnTo>
                    <a:lnTo>
                      <a:pt x="23" y="538"/>
                    </a:lnTo>
                    <a:lnTo>
                      <a:pt x="18" y="527"/>
                    </a:lnTo>
                    <a:lnTo>
                      <a:pt x="10" y="513"/>
                    </a:lnTo>
                    <a:lnTo>
                      <a:pt x="7" y="500"/>
                    </a:lnTo>
                    <a:lnTo>
                      <a:pt x="5" y="488"/>
                    </a:lnTo>
                    <a:lnTo>
                      <a:pt x="5" y="472"/>
                    </a:lnTo>
                    <a:lnTo>
                      <a:pt x="0" y="450"/>
                    </a:lnTo>
                    <a:lnTo>
                      <a:pt x="20" y="436"/>
                    </a:lnTo>
                    <a:lnTo>
                      <a:pt x="30" y="425"/>
                    </a:lnTo>
                    <a:lnTo>
                      <a:pt x="52" y="425"/>
                    </a:lnTo>
                    <a:lnTo>
                      <a:pt x="75" y="428"/>
                    </a:lnTo>
                    <a:lnTo>
                      <a:pt x="91" y="422"/>
                    </a:lnTo>
                    <a:lnTo>
                      <a:pt x="110" y="421"/>
                    </a:lnTo>
                    <a:lnTo>
                      <a:pt x="111" y="402"/>
                    </a:lnTo>
                    <a:lnTo>
                      <a:pt x="121" y="390"/>
                    </a:lnTo>
                    <a:lnTo>
                      <a:pt x="96" y="376"/>
                    </a:lnTo>
                    <a:lnTo>
                      <a:pt x="93" y="365"/>
                    </a:lnTo>
                    <a:lnTo>
                      <a:pt x="95" y="349"/>
                    </a:lnTo>
                    <a:lnTo>
                      <a:pt x="113" y="349"/>
                    </a:lnTo>
                    <a:lnTo>
                      <a:pt x="125" y="347"/>
                    </a:lnTo>
                    <a:lnTo>
                      <a:pt x="126" y="349"/>
                    </a:lnTo>
                    <a:lnTo>
                      <a:pt x="140" y="340"/>
                    </a:lnTo>
                    <a:lnTo>
                      <a:pt x="153" y="335"/>
                    </a:lnTo>
                    <a:lnTo>
                      <a:pt x="158" y="335"/>
                    </a:lnTo>
                    <a:lnTo>
                      <a:pt x="166" y="326"/>
                    </a:lnTo>
                    <a:lnTo>
                      <a:pt x="176" y="323"/>
                    </a:lnTo>
                    <a:lnTo>
                      <a:pt x="186" y="305"/>
                    </a:lnTo>
                    <a:lnTo>
                      <a:pt x="193" y="310"/>
                    </a:lnTo>
                    <a:lnTo>
                      <a:pt x="206" y="299"/>
                    </a:lnTo>
                    <a:lnTo>
                      <a:pt x="208" y="299"/>
                    </a:lnTo>
                    <a:lnTo>
                      <a:pt x="224" y="287"/>
                    </a:lnTo>
                    <a:lnTo>
                      <a:pt x="234" y="285"/>
                    </a:lnTo>
                    <a:lnTo>
                      <a:pt x="248" y="285"/>
                    </a:lnTo>
                    <a:lnTo>
                      <a:pt x="256" y="285"/>
                    </a:lnTo>
                    <a:lnTo>
                      <a:pt x="249" y="270"/>
                    </a:lnTo>
                    <a:lnTo>
                      <a:pt x="246" y="257"/>
                    </a:lnTo>
                    <a:lnTo>
                      <a:pt x="243" y="231"/>
                    </a:lnTo>
                    <a:lnTo>
                      <a:pt x="263" y="229"/>
                    </a:lnTo>
                    <a:lnTo>
                      <a:pt x="273" y="224"/>
                    </a:lnTo>
                    <a:lnTo>
                      <a:pt x="268" y="235"/>
                    </a:lnTo>
                    <a:lnTo>
                      <a:pt x="276" y="243"/>
                    </a:lnTo>
                    <a:lnTo>
                      <a:pt x="284" y="252"/>
                    </a:lnTo>
                    <a:lnTo>
                      <a:pt x="289" y="259"/>
                    </a:lnTo>
                    <a:lnTo>
                      <a:pt x="312" y="257"/>
                    </a:lnTo>
                    <a:lnTo>
                      <a:pt x="332" y="234"/>
                    </a:lnTo>
                    <a:lnTo>
                      <a:pt x="347" y="223"/>
                    </a:lnTo>
                    <a:lnTo>
                      <a:pt x="356" y="215"/>
                    </a:lnTo>
                    <a:lnTo>
                      <a:pt x="366" y="206"/>
                    </a:lnTo>
                    <a:lnTo>
                      <a:pt x="376" y="193"/>
                    </a:lnTo>
                    <a:lnTo>
                      <a:pt x="384" y="198"/>
                    </a:lnTo>
                    <a:lnTo>
                      <a:pt x="384" y="190"/>
                    </a:lnTo>
                    <a:lnTo>
                      <a:pt x="389" y="185"/>
                    </a:lnTo>
                    <a:lnTo>
                      <a:pt x="404" y="189"/>
                    </a:lnTo>
                    <a:lnTo>
                      <a:pt x="429" y="209"/>
                    </a:lnTo>
                    <a:lnTo>
                      <a:pt x="424" y="153"/>
                    </a:lnTo>
                    <a:lnTo>
                      <a:pt x="402" y="178"/>
                    </a:lnTo>
                    <a:lnTo>
                      <a:pt x="386" y="176"/>
                    </a:lnTo>
                    <a:lnTo>
                      <a:pt x="381" y="160"/>
                    </a:lnTo>
                    <a:lnTo>
                      <a:pt x="381" y="153"/>
                    </a:lnTo>
                    <a:lnTo>
                      <a:pt x="376" y="148"/>
                    </a:lnTo>
                    <a:lnTo>
                      <a:pt x="389" y="136"/>
                    </a:lnTo>
                    <a:lnTo>
                      <a:pt x="397" y="126"/>
                    </a:lnTo>
                    <a:lnTo>
                      <a:pt x="406" y="123"/>
                    </a:lnTo>
                    <a:lnTo>
                      <a:pt x="412" y="122"/>
                    </a:lnTo>
                    <a:lnTo>
                      <a:pt x="417" y="114"/>
                    </a:lnTo>
                    <a:lnTo>
                      <a:pt x="424" y="112"/>
                    </a:lnTo>
                    <a:lnTo>
                      <a:pt x="432" y="112"/>
                    </a:lnTo>
                    <a:lnTo>
                      <a:pt x="417" y="98"/>
                    </a:lnTo>
                    <a:lnTo>
                      <a:pt x="402" y="101"/>
                    </a:lnTo>
                    <a:lnTo>
                      <a:pt x="392" y="101"/>
                    </a:lnTo>
                    <a:lnTo>
                      <a:pt x="384" y="97"/>
                    </a:lnTo>
                    <a:lnTo>
                      <a:pt x="384" y="106"/>
                    </a:lnTo>
                    <a:lnTo>
                      <a:pt x="376" y="115"/>
                    </a:lnTo>
                    <a:lnTo>
                      <a:pt x="364" y="131"/>
                    </a:lnTo>
                    <a:lnTo>
                      <a:pt x="352" y="137"/>
                    </a:lnTo>
                    <a:lnTo>
                      <a:pt x="344" y="137"/>
                    </a:lnTo>
                    <a:lnTo>
                      <a:pt x="341" y="148"/>
                    </a:lnTo>
                    <a:lnTo>
                      <a:pt x="341" y="153"/>
                    </a:lnTo>
                    <a:lnTo>
                      <a:pt x="334" y="157"/>
                    </a:lnTo>
                    <a:lnTo>
                      <a:pt x="342" y="176"/>
                    </a:lnTo>
                    <a:lnTo>
                      <a:pt x="347" y="185"/>
                    </a:lnTo>
                    <a:lnTo>
                      <a:pt x="337" y="199"/>
                    </a:lnTo>
                    <a:lnTo>
                      <a:pt x="326" y="209"/>
                    </a:lnTo>
                    <a:lnTo>
                      <a:pt x="322" y="223"/>
                    </a:lnTo>
                    <a:lnTo>
                      <a:pt x="316" y="234"/>
                    </a:lnTo>
                    <a:lnTo>
                      <a:pt x="309" y="234"/>
                    </a:lnTo>
                    <a:lnTo>
                      <a:pt x="299" y="235"/>
                    </a:lnTo>
                    <a:lnTo>
                      <a:pt x="289" y="240"/>
                    </a:lnTo>
                    <a:lnTo>
                      <a:pt x="286" y="238"/>
                    </a:lnTo>
                    <a:lnTo>
                      <a:pt x="286" y="231"/>
                    </a:lnTo>
                    <a:lnTo>
                      <a:pt x="284" y="218"/>
                    </a:lnTo>
                    <a:lnTo>
                      <a:pt x="276" y="218"/>
                    </a:lnTo>
                    <a:lnTo>
                      <a:pt x="271" y="210"/>
                    </a:lnTo>
                    <a:lnTo>
                      <a:pt x="273" y="199"/>
                    </a:lnTo>
                    <a:lnTo>
                      <a:pt x="274" y="193"/>
                    </a:lnTo>
                    <a:lnTo>
                      <a:pt x="273" y="190"/>
                    </a:lnTo>
                    <a:lnTo>
                      <a:pt x="266" y="193"/>
                    </a:lnTo>
                    <a:lnTo>
                      <a:pt x="263" y="193"/>
                    </a:lnTo>
                    <a:lnTo>
                      <a:pt x="258" y="192"/>
                    </a:lnTo>
                    <a:lnTo>
                      <a:pt x="254" y="190"/>
                    </a:lnTo>
                    <a:lnTo>
                      <a:pt x="246" y="196"/>
                    </a:lnTo>
                    <a:lnTo>
                      <a:pt x="238" y="204"/>
                    </a:lnTo>
                    <a:lnTo>
                      <a:pt x="229" y="212"/>
                    </a:lnTo>
                    <a:lnTo>
                      <a:pt x="211" y="210"/>
                    </a:lnTo>
                    <a:lnTo>
                      <a:pt x="199" y="209"/>
                    </a:lnTo>
                    <a:lnTo>
                      <a:pt x="191" y="201"/>
                    </a:lnTo>
                    <a:lnTo>
                      <a:pt x="191" y="196"/>
                    </a:lnTo>
                    <a:lnTo>
                      <a:pt x="196" y="190"/>
                    </a:lnTo>
                    <a:lnTo>
                      <a:pt x="203" y="185"/>
                    </a:lnTo>
                    <a:lnTo>
                      <a:pt x="208" y="179"/>
                    </a:lnTo>
                    <a:lnTo>
                      <a:pt x="196" y="182"/>
                    </a:lnTo>
                    <a:lnTo>
                      <a:pt x="191" y="175"/>
                    </a:lnTo>
                    <a:lnTo>
                      <a:pt x="191" y="170"/>
                    </a:lnTo>
                    <a:lnTo>
                      <a:pt x="208" y="168"/>
                    </a:lnTo>
                    <a:lnTo>
                      <a:pt x="223" y="167"/>
                    </a:lnTo>
                    <a:lnTo>
                      <a:pt x="213" y="162"/>
                    </a:lnTo>
                    <a:lnTo>
                      <a:pt x="198" y="164"/>
                    </a:lnTo>
                    <a:lnTo>
                      <a:pt x="198" y="154"/>
                    </a:lnTo>
                    <a:lnTo>
                      <a:pt x="204" y="148"/>
                    </a:lnTo>
                    <a:lnTo>
                      <a:pt x="219" y="142"/>
                    </a:lnTo>
                    <a:lnTo>
                      <a:pt x="224" y="136"/>
                    </a:lnTo>
                    <a:lnTo>
                      <a:pt x="229" y="132"/>
                    </a:lnTo>
                    <a:lnTo>
                      <a:pt x="241" y="131"/>
                    </a:lnTo>
                    <a:lnTo>
                      <a:pt x="251" y="132"/>
                    </a:lnTo>
                    <a:lnTo>
                      <a:pt x="256" y="136"/>
                    </a:lnTo>
                    <a:lnTo>
                      <a:pt x="264" y="131"/>
                    </a:lnTo>
                    <a:lnTo>
                      <a:pt x="256" y="129"/>
                    </a:lnTo>
                    <a:lnTo>
                      <a:pt x="256" y="117"/>
                    </a:lnTo>
                    <a:lnTo>
                      <a:pt x="278" y="103"/>
                    </a:lnTo>
                    <a:lnTo>
                      <a:pt x="289" y="93"/>
                    </a:lnTo>
                    <a:lnTo>
                      <a:pt x="296" y="92"/>
                    </a:lnTo>
                    <a:lnTo>
                      <a:pt x="294" y="87"/>
                    </a:lnTo>
                    <a:lnTo>
                      <a:pt x="304" y="76"/>
                    </a:lnTo>
                    <a:lnTo>
                      <a:pt x="316" y="62"/>
                    </a:lnTo>
                    <a:lnTo>
                      <a:pt x="329" y="56"/>
                    </a:lnTo>
                    <a:lnTo>
                      <a:pt x="319" y="50"/>
                    </a:lnTo>
                    <a:lnTo>
                      <a:pt x="346" y="36"/>
                    </a:lnTo>
                    <a:lnTo>
                      <a:pt x="357" y="37"/>
                    </a:lnTo>
                    <a:lnTo>
                      <a:pt x="356" y="30"/>
                    </a:lnTo>
                    <a:lnTo>
                      <a:pt x="379" y="28"/>
                    </a:lnTo>
                    <a:lnTo>
                      <a:pt x="422" y="3"/>
                    </a:lnTo>
                    <a:lnTo>
                      <a:pt x="429" y="0"/>
                    </a:lnTo>
                    <a:lnTo>
                      <a:pt x="421" y="19"/>
                    </a:lnTo>
                    <a:lnTo>
                      <a:pt x="430" y="9"/>
                    </a:lnTo>
                    <a:lnTo>
                      <a:pt x="442" y="6"/>
                    </a:lnTo>
                    <a:lnTo>
                      <a:pt x="440" y="14"/>
                    </a:lnTo>
                    <a:lnTo>
                      <a:pt x="474" y="5"/>
                    </a:lnTo>
                    <a:lnTo>
                      <a:pt x="490" y="12"/>
                    </a:lnTo>
                    <a:lnTo>
                      <a:pt x="467" y="20"/>
                    </a:lnTo>
                    <a:lnTo>
                      <a:pt x="475" y="30"/>
                    </a:lnTo>
                    <a:lnTo>
                      <a:pt x="509" y="28"/>
                    </a:lnTo>
                    <a:lnTo>
                      <a:pt x="557" y="42"/>
                    </a:lnTo>
                    <a:lnTo>
                      <a:pt x="553" y="58"/>
                    </a:lnTo>
                    <a:lnTo>
                      <a:pt x="534" y="72"/>
                    </a:lnTo>
                    <a:lnTo>
                      <a:pt x="504" y="79"/>
                    </a:lnTo>
                    <a:lnTo>
                      <a:pt x="499" y="97"/>
                    </a:lnTo>
                    <a:lnTo>
                      <a:pt x="500" y="112"/>
                    </a:lnTo>
                    <a:lnTo>
                      <a:pt x="509" y="115"/>
                    </a:lnTo>
                    <a:lnTo>
                      <a:pt x="510" y="123"/>
                    </a:lnTo>
                    <a:lnTo>
                      <a:pt x="514" y="126"/>
                    </a:lnTo>
                    <a:lnTo>
                      <a:pt x="520" y="129"/>
                    </a:lnTo>
                    <a:lnTo>
                      <a:pt x="522" y="139"/>
                    </a:lnTo>
                    <a:lnTo>
                      <a:pt x="532" y="150"/>
                    </a:lnTo>
                    <a:lnTo>
                      <a:pt x="532" y="154"/>
                    </a:lnTo>
                    <a:lnTo>
                      <a:pt x="542" y="154"/>
                    </a:lnTo>
                    <a:lnTo>
                      <a:pt x="545" y="157"/>
                    </a:lnTo>
                    <a:lnTo>
                      <a:pt x="553" y="160"/>
                    </a:lnTo>
                    <a:lnTo>
                      <a:pt x="558" y="156"/>
                    </a:lnTo>
                    <a:lnTo>
                      <a:pt x="563" y="148"/>
                    </a:lnTo>
                    <a:lnTo>
                      <a:pt x="567" y="143"/>
                    </a:lnTo>
                    <a:lnTo>
                      <a:pt x="575" y="146"/>
                    </a:lnTo>
                    <a:lnTo>
                      <a:pt x="585" y="136"/>
                    </a:lnTo>
                    <a:lnTo>
                      <a:pt x="585" y="128"/>
                    </a:lnTo>
                    <a:lnTo>
                      <a:pt x="588" y="122"/>
                    </a:lnTo>
                    <a:lnTo>
                      <a:pt x="590" y="117"/>
                    </a:lnTo>
                    <a:lnTo>
                      <a:pt x="610" y="112"/>
                    </a:lnTo>
                    <a:lnTo>
                      <a:pt x="627" y="108"/>
                    </a:lnTo>
                    <a:lnTo>
                      <a:pt x="648" y="101"/>
                    </a:lnTo>
                    <a:lnTo>
                      <a:pt x="673" y="106"/>
                    </a:lnTo>
                    <a:lnTo>
                      <a:pt x="698" y="106"/>
                    </a:lnTo>
                    <a:lnTo>
                      <a:pt x="740" y="106"/>
                    </a:lnTo>
                    <a:lnTo>
                      <a:pt x="746" y="67"/>
                    </a:lnTo>
                    <a:lnTo>
                      <a:pt x="770" y="69"/>
                    </a:lnTo>
                    <a:lnTo>
                      <a:pt x="786" y="98"/>
                    </a:lnTo>
                    <a:lnTo>
                      <a:pt x="790" y="73"/>
                    </a:lnTo>
                    <a:lnTo>
                      <a:pt x="866" y="5"/>
                    </a:lnTo>
                    <a:lnTo>
                      <a:pt x="896" y="5"/>
                    </a:lnTo>
                    <a:lnTo>
                      <a:pt x="922" y="19"/>
                    </a:lnTo>
                    <a:lnTo>
                      <a:pt x="957" y="17"/>
                    </a:lnTo>
                    <a:lnTo>
                      <a:pt x="1004" y="42"/>
                    </a:lnTo>
                    <a:lnTo>
                      <a:pt x="1057" y="56"/>
                    </a:lnTo>
                    <a:lnTo>
                      <a:pt x="1095" y="53"/>
                    </a:lnTo>
                    <a:lnTo>
                      <a:pt x="1145" y="69"/>
                    </a:lnTo>
                    <a:lnTo>
                      <a:pt x="1187" y="69"/>
                    </a:lnTo>
                    <a:lnTo>
                      <a:pt x="1207" y="58"/>
                    </a:lnTo>
                    <a:lnTo>
                      <a:pt x="1253" y="58"/>
                    </a:lnTo>
                    <a:lnTo>
                      <a:pt x="1278" y="70"/>
                    </a:lnTo>
                    <a:lnTo>
                      <a:pt x="1341" y="70"/>
                    </a:lnTo>
                    <a:lnTo>
                      <a:pt x="1395" y="92"/>
                    </a:lnTo>
                    <a:lnTo>
                      <a:pt x="1493" y="89"/>
                    </a:lnTo>
                    <a:lnTo>
                      <a:pt x="1647" y="98"/>
                    </a:lnTo>
                    <a:lnTo>
                      <a:pt x="1722" y="128"/>
                    </a:lnTo>
                    <a:lnTo>
                      <a:pt x="1785" y="146"/>
                    </a:lnTo>
                    <a:lnTo>
                      <a:pt x="1825" y="162"/>
                    </a:lnTo>
                    <a:lnTo>
                      <a:pt x="1813" y="167"/>
                    </a:lnTo>
                    <a:lnTo>
                      <a:pt x="1785" y="154"/>
                    </a:lnTo>
                    <a:lnTo>
                      <a:pt x="1720" y="150"/>
                    </a:lnTo>
                    <a:lnTo>
                      <a:pt x="1739" y="162"/>
                    </a:lnTo>
                    <a:lnTo>
                      <a:pt x="1767" y="168"/>
                    </a:lnTo>
                    <a:lnTo>
                      <a:pt x="1759" y="189"/>
                    </a:lnTo>
                    <a:lnTo>
                      <a:pt x="1729" y="201"/>
                    </a:lnTo>
                    <a:lnTo>
                      <a:pt x="1719" y="221"/>
                    </a:lnTo>
                    <a:lnTo>
                      <a:pt x="1759" y="240"/>
                    </a:lnTo>
                    <a:lnTo>
                      <a:pt x="1787" y="265"/>
                    </a:lnTo>
                    <a:lnTo>
                      <a:pt x="1802" y="301"/>
                    </a:lnTo>
                    <a:lnTo>
                      <a:pt x="1783" y="304"/>
                    </a:lnTo>
                    <a:lnTo>
                      <a:pt x="1744" y="293"/>
                    </a:lnTo>
                    <a:lnTo>
                      <a:pt x="1702" y="266"/>
                    </a:lnTo>
                    <a:lnTo>
                      <a:pt x="1685" y="252"/>
                    </a:lnTo>
                    <a:lnTo>
                      <a:pt x="1675" y="234"/>
                    </a:lnTo>
                    <a:lnTo>
                      <a:pt x="1665" y="206"/>
                    </a:lnTo>
                    <a:lnTo>
                      <a:pt x="1649" y="196"/>
                    </a:lnTo>
                    <a:lnTo>
                      <a:pt x="1634" y="195"/>
                    </a:lnTo>
                    <a:lnTo>
                      <a:pt x="1621" y="198"/>
                    </a:lnTo>
                    <a:lnTo>
                      <a:pt x="1636" y="220"/>
                    </a:lnTo>
                    <a:lnTo>
                      <a:pt x="1596" y="223"/>
                    </a:lnTo>
                    <a:lnTo>
                      <a:pt x="1577" y="212"/>
                    </a:lnTo>
                    <a:lnTo>
                      <a:pt x="1542" y="218"/>
                    </a:lnTo>
                    <a:lnTo>
                      <a:pt x="1516" y="235"/>
                    </a:lnTo>
                    <a:lnTo>
                      <a:pt x="1516" y="245"/>
                    </a:lnTo>
                    <a:lnTo>
                      <a:pt x="1526" y="260"/>
                    </a:lnTo>
                    <a:lnTo>
                      <a:pt x="1567" y="265"/>
                    </a:lnTo>
                    <a:lnTo>
                      <a:pt x="1601" y="284"/>
                    </a:lnTo>
                    <a:lnTo>
                      <a:pt x="1657" y="335"/>
                    </a:lnTo>
                    <a:lnTo>
                      <a:pt x="1680" y="369"/>
                    </a:lnTo>
                    <a:lnTo>
                      <a:pt x="1705" y="410"/>
                    </a:lnTo>
                    <a:lnTo>
                      <a:pt x="1700" y="41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110120" y="3873600"/>
                <a:ext cx="43560" cy="478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1"/>
                    </a:moveTo>
                    <a:lnTo>
                      <a:pt x="15" y="14"/>
                    </a:lnTo>
                    <a:lnTo>
                      <a:pt x="10" y="15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15" y="1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025160" y="3787920"/>
                <a:ext cx="38880" cy="7236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0"/>
                    </a:moveTo>
                    <a:lnTo>
                      <a:pt x="0" y="4"/>
                    </a:lnTo>
                    <a:lnTo>
                      <a:pt x="2" y="22"/>
                    </a:lnTo>
                    <a:lnTo>
                      <a:pt x="11" y="20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"/>
              <p:cNvGrpSpPr/>
              <p:nvPr/>
            </p:nvGrpSpPr>
            <p:grpSpPr>
              <a:xfrm>
                <a:off x="7638120" y="6008040"/>
                <a:ext cx="760680" cy="391680"/>
                <a:chOff x="7638120" y="6008040"/>
                <a:chExt cx="760680" cy="3916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8279280" y="6008040"/>
                  <a:ext cx="119520" cy="239400"/>
                </a:xfrm>
                <a:custGeom>
                  <a:avLst/>
                  <a:gdLst/>
                  <a:ahLst/>
                  <a:rect l="l" t="t" r="r" b="b"/>
                  <a:pathLst>
                    <a:path w="40" h="74">
                      <a:moveTo>
                        <a:pt x="13" y="1"/>
                      </a:moveTo>
                      <a:lnTo>
                        <a:pt x="17" y="0"/>
                      </a:lnTo>
                      <a:lnTo>
                        <a:pt x="24" y="8"/>
                      </a:lnTo>
                      <a:lnTo>
                        <a:pt x="23" y="31"/>
                      </a:lnTo>
                      <a:lnTo>
                        <a:pt x="28" y="31"/>
                      </a:lnTo>
                      <a:lnTo>
                        <a:pt x="29" y="34"/>
                      </a:lnTo>
                      <a:lnTo>
                        <a:pt x="31" y="39"/>
                      </a:lnTo>
                      <a:lnTo>
                        <a:pt x="32" y="42"/>
                      </a:lnTo>
                      <a:lnTo>
                        <a:pt x="36" y="41"/>
                      </a:lnTo>
                      <a:lnTo>
                        <a:pt x="39" y="36"/>
                      </a:lnTo>
                      <a:lnTo>
                        <a:pt x="40" y="39"/>
                      </a:lnTo>
                      <a:lnTo>
                        <a:pt x="38" y="43"/>
                      </a:lnTo>
                      <a:lnTo>
                        <a:pt x="36" y="46"/>
                      </a:lnTo>
                      <a:lnTo>
                        <a:pt x="35" y="52"/>
                      </a:lnTo>
                      <a:lnTo>
                        <a:pt x="30" y="55"/>
                      </a:lnTo>
                      <a:lnTo>
                        <a:pt x="27" y="56"/>
                      </a:lnTo>
                      <a:lnTo>
                        <a:pt x="23" y="59"/>
                      </a:lnTo>
                      <a:lnTo>
                        <a:pt x="22" y="62"/>
                      </a:lnTo>
                      <a:lnTo>
                        <a:pt x="23" y="65"/>
                      </a:lnTo>
                      <a:lnTo>
                        <a:pt x="24" y="70"/>
                      </a:lnTo>
                      <a:lnTo>
                        <a:pt x="19" y="72"/>
                      </a:lnTo>
                      <a:lnTo>
                        <a:pt x="16" y="73"/>
                      </a:lnTo>
                      <a:lnTo>
                        <a:pt x="13" y="74"/>
                      </a:lnTo>
                      <a:lnTo>
                        <a:pt x="11" y="73"/>
                      </a:lnTo>
                      <a:lnTo>
                        <a:pt x="6" y="72"/>
                      </a:lnTo>
                      <a:lnTo>
                        <a:pt x="4" y="70"/>
                      </a:lnTo>
                      <a:lnTo>
                        <a:pt x="6" y="66"/>
                      </a:lnTo>
                      <a:lnTo>
                        <a:pt x="10" y="65"/>
                      </a:lnTo>
                      <a:lnTo>
                        <a:pt x="13" y="60"/>
                      </a:lnTo>
                      <a:lnTo>
                        <a:pt x="13" y="58"/>
                      </a:lnTo>
                      <a:lnTo>
                        <a:pt x="10" y="56"/>
                      </a:lnTo>
                      <a:lnTo>
                        <a:pt x="6" y="53"/>
                      </a:lnTo>
                      <a:lnTo>
                        <a:pt x="3" y="53"/>
                      </a:lnTo>
                      <a:lnTo>
                        <a:pt x="1" y="52"/>
                      </a:lnTo>
                      <a:lnTo>
                        <a:pt x="0" y="49"/>
                      </a:lnTo>
                      <a:lnTo>
                        <a:pt x="1" y="47"/>
                      </a:lnTo>
                      <a:lnTo>
                        <a:pt x="3" y="47"/>
                      </a:lnTo>
                      <a:lnTo>
                        <a:pt x="6" y="46"/>
                      </a:lnTo>
                      <a:lnTo>
                        <a:pt x="10" y="43"/>
                      </a:lnTo>
                      <a:lnTo>
                        <a:pt x="12" y="42"/>
                      </a:lnTo>
                      <a:lnTo>
                        <a:pt x="14" y="31"/>
                      </a:lnTo>
                      <a:lnTo>
                        <a:pt x="12" y="28"/>
                      </a:lnTo>
                      <a:lnTo>
                        <a:pt x="9" y="26"/>
                      </a:lnTo>
                      <a:lnTo>
                        <a:pt x="8" y="20"/>
                      </a:lnTo>
                      <a:lnTo>
                        <a:pt x="9" y="14"/>
                      </a:lnTo>
                      <a:lnTo>
                        <a:pt x="10" y="10"/>
                      </a:lnTo>
                      <a:lnTo>
                        <a:pt x="13" y="1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047800" y="6194520"/>
                  <a:ext cx="222480" cy="205200"/>
                </a:xfrm>
                <a:custGeom>
                  <a:avLst/>
                  <a:gdLst/>
                  <a:ahLst/>
                  <a:rect l="l" t="t" r="r" b="b"/>
                  <a:pathLst>
                    <a:path w="74" h="63">
                      <a:moveTo>
                        <a:pt x="52" y="0"/>
                      </a:moveTo>
                      <a:lnTo>
                        <a:pt x="61" y="0"/>
                      </a:lnTo>
                      <a:lnTo>
                        <a:pt x="74" y="18"/>
                      </a:lnTo>
                      <a:lnTo>
                        <a:pt x="60" y="32"/>
                      </a:lnTo>
                      <a:lnTo>
                        <a:pt x="60" y="38"/>
                      </a:lnTo>
                      <a:lnTo>
                        <a:pt x="57" y="40"/>
                      </a:lnTo>
                      <a:lnTo>
                        <a:pt x="49" y="40"/>
                      </a:lnTo>
                      <a:lnTo>
                        <a:pt x="39" y="48"/>
                      </a:lnTo>
                      <a:lnTo>
                        <a:pt x="30" y="56"/>
                      </a:lnTo>
                      <a:lnTo>
                        <a:pt x="24" y="63"/>
                      </a:lnTo>
                      <a:lnTo>
                        <a:pt x="24" y="57"/>
                      </a:lnTo>
                      <a:lnTo>
                        <a:pt x="13" y="58"/>
                      </a:lnTo>
                      <a:lnTo>
                        <a:pt x="8" y="58"/>
                      </a:lnTo>
                      <a:lnTo>
                        <a:pt x="0" y="58"/>
                      </a:lnTo>
                      <a:lnTo>
                        <a:pt x="11" y="48"/>
                      </a:lnTo>
                      <a:lnTo>
                        <a:pt x="15" y="43"/>
                      </a:lnTo>
                      <a:lnTo>
                        <a:pt x="19" y="43"/>
                      </a:lnTo>
                      <a:lnTo>
                        <a:pt x="27" y="35"/>
                      </a:lnTo>
                      <a:lnTo>
                        <a:pt x="30" y="35"/>
                      </a:lnTo>
                      <a:lnTo>
                        <a:pt x="30" y="34"/>
                      </a:lnTo>
                      <a:lnTo>
                        <a:pt x="34" y="31"/>
                      </a:lnTo>
                      <a:lnTo>
                        <a:pt x="39" y="31"/>
                      </a:lnTo>
                      <a:lnTo>
                        <a:pt x="37" y="22"/>
                      </a:lnTo>
                      <a:lnTo>
                        <a:pt x="38" y="22"/>
                      </a:lnTo>
                      <a:lnTo>
                        <a:pt x="43" y="17"/>
                      </a:lnTo>
                      <a:lnTo>
                        <a:pt x="45" y="21"/>
                      </a:lnTo>
                      <a:lnTo>
                        <a:pt x="53" y="14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638120" y="6208560"/>
                  <a:ext cx="84960" cy="109080"/>
                </a:xfrm>
                <a:custGeom>
                  <a:avLst/>
                  <a:gdLst/>
                  <a:ahLst/>
                  <a:rect l="l" t="t" r="r" b="b"/>
                  <a:pathLst>
                    <a:path w="28" h="3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3" y="4"/>
                      </a:lnTo>
                      <a:lnTo>
                        <a:pt x="28" y="4"/>
                      </a:lnTo>
                      <a:lnTo>
                        <a:pt x="26" y="11"/>
                      </a:lnTo>
                      <a:lnTo>
                        <a:pt x="28" y="17"/>
                      </a:lnTo>
                      <a:lnTo>
                        <a:pt x="23" y="17"/>
                      </a:lnTo>
                      <a:lnTo>
                        <a:pt x="22" y="18"/>
                      </a:lnTo>
                      <a:lnTo>
                        <a:pt x="19" y="19"/>
                      </a:lnTo>
                      <a:lnTo>
                        <a:pt x="22" y="34"/>
                      </a:lnTo>
                      <a:lnTo>
                        <a:pt x="13" y="33"/>
                      </a:lnTo>
                      <a:lnTo>
                        <a:pt x="5" y="28"/>
                      </a:lnTo>
                      <a:lnTo>
                        <a:pt x="5" y="18"/>
                      </a:lnTo>
                      <a:lnTo>
                        <a:pt x="5" y="14"/>
                      </a:lnTo>
                      <a:lnTo>
                        <a:pt x="0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" name=""/>
              <p:cNvSpPr/>
              <p:nvPr/>
            </p:nvSpPr>
            <p:spPr>
              <a:xfrm>
                <a:off x="7791840" y="5083200"/>
                <a:ext cx="138240" cy="11412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8" y="13"/>
                    </a:moveTo>
                    <a:lnTo>
                      <a:pt x="0" y="28"/>
                    </a:lnTo>
                    <a:lnTo>
                      <a:pt x="3" y="34"/>
                    </a:lnTo>
                    <a:lnTo>
                      <a:pt x="16" y="35"/>
                    </a:lnTo>
                    <a:lnTo>
                      <a:pt x="27" y="35"/>
                    </a:lnTo>
                    <a:lnTo>
                      <a:pt x="31" y="29"/>
                    </a:lnTo>
                    <a:lnTo>
                      <a:pt x="34" y="23"/>
                    </a:lnTo>
                    <a:lnTo>
                      <a:pt x="46" y="23"/>
                    </a:lnTo>
                    <a:lnTo>
                      <a:pt x="44" y="14"/>
                    </a:lnTo>
                    <a:lnTo>
                      <a:pt x="44" y="5"/>
                    </a:lnTo>
                    <a:lnTo>
                      <a:pt x="32" y="0"/>
                    </a:lnTo>
                    <a:lnTo>
                      <a:pt x="30" y="10"/>
                    </a:lnTo>
                    <a:lnTo>
                      <a:pt x="38" y="16"/>
                    </a:lnTo>
                    <a:lnTo>
                      <a:pt x="26" y="16"/>
                    </a:lnTo>
                    <a:lnTo>
                      <a:pt x="22" y="20"/>
                    </a:lnTo>
                    <a:lnTo>
                      <a:pt x="8" y="13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1260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41560" y="3638880"/>
                <a:ext cx="355320" cy="841320"/>
                <a:chOff x="6541560" y="3638880"/>
                <a:chExt cx="355320" cy="84132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6541560" y="4395960"/>
                  <a:ext cx="84600" cy="8424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0" y="20"/>
                      </a:moveTo>
                      <a:lnTo>
                        <a:pt x="5" y="25"/>
                      </a:lnTo>
                      <a:lnTo>
                        <a:pt x="11" y="24"/>
                      </a:lnTo>
                      <a:lnTo>
                        <a:pt x="20" y="26"/>
                      </a:lnTo>
                      <a:lnTo>
                        <a:pt x="27" y="26"/>
                      </a:lnTo>
                      <a:lnTo>
                        <a:pt x="28" y="17"/>
                      </a:lnTo>
                      <a:lnTo>
                        <a:pt x="26" y="11"/>
                      </a:lnTo>
                      <a:lnTo>
                        <a:pt x="21" y="4"/>
                      </a:lnTo>
                      <a:lnTo>
                        <a:pt x="16" y="4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8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1260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769440" y="4245480"/>
                  <a:ext cx="79920" cy="106920"/>
                </a:xfrm>
                <a:custGeom>
                  <a:avLst/>
                  <a:gdLst/>
                  <a:ahLst/>
                  <a:rect l="l" t="t" r="r" b="b"/>
                  <a:pathLst>
                    <a:path w="27" h="33">
                      <a:moveTo>
                        <a:pt x="6" y="0"/>
                      </a:moveTo>
                      <a:lnTo>
                        <a:pt x="18" y="1"/>
                      </a:lnTo>
                      <a:lnTo>
                        <a:pt x="22" y="10"/>
                      </a:lnTo>
                      <a:lnTo>
                        <a:pt x="27" y="15"/>
                      </a:lnTo>
                      <a:lnTo>
                        <a:pt x="23" y="19"/>
                      </a:lnTo>
                      <a:lnTo>
                        <a:pt x="27" y="24"/>
                      </a:lnTo>
                      <a:lnTo>
                        <a:pt x="25" y="30"/>
                      </a:lnTo>
                      <a:lnTo>
                        <a:pt x="21" y="33"/>
                      </a:lnTo>
                      <a:lnTo>
                        <a:pt x="13" y="32"/>
                      </a:lnTo>
                      <a:lnTo>
                        <a:pt x="8" y="32"/>
                      </a:lnTo>
                      <a:lnTo>
                        <a:pt x="5" y="28"/>
                      </a:lnTo>
                      <a:lnTo>
                        <a:pt x="2" y="23"/>
                      </a:lnTo>
                      <a:lnTo>
                        <a:pt x="2" y="18"/>
                      </a:lnTo>
                      <a:lnTo>
                        <a:pt x="0" y="1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1260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753960" y="3638880"/>
                  <a:ext cx="142920" cy="100080"/>
                </a:xfrm>
                <a:custGeom>
                  <a:avLst/>
                  <a:gdLst/>
                  <a:ahLst/>
                  <a:rect l="l" t="t" r="r" b="b"/>
                  <a:pathLst>
                    <a:path w="48" h="31">
                      <a:moveTo>
                        <a:pt x="7" y="0"/>
                      </a:moveTo>
                      <a:lnTo>
                        <a:pt x="13" y="5"/>
                      </a:lnTo>
                      <a:lnTo>
                        <a:pt x="19" y="4"/>
                      </a:lnTo>
                      <a:lnTo>
                        <a:pt x="28" y="5"/>
                      </a:lnTo>
                      <a:lnTo>
                        <a:pt x="36" y="5"/>
                      </a:lnTo>
                      <a:lnTo>
                        <a:pt x="40" y="8"/>
                      </a:lnTo>
                      <a:lnTo>
                        <a:pt x="45" y="15"/>
                      </a:lnTo>
                      <a:lnTo>
                        <a:pt x="48" y="18"/>
                      </a:lnTo>
                      <a:lnTo>
                        <a:pt x="37" y="20"/>
                      </a:lnTo>
                      <a:lnTo>
                        <a:pt x="34" y="22"/>
                      </a:lnTo>
                      <a:lnTo>
                        <a:pt x="37" y="26"/>
                      </a:lnTo>
                      <a:lnTo>
                        <a:pt x="37" y="30"/>
                      </a:lnTo>
                      <a:lnTo>
                        <a:pt x="26" y="26"/>
                      </a:lnTo>
                      <a:lnTo>
                        <a:pt x="17" y="23"/>
                      </a:lnTo>
                      <a:lnTo>
                        <a:pt x="13" y="24"/>
                      </a:lnTo>
                      <a:lnTo>
                        <a:pt x="13" y="30"/>
                      </a:lnTo>
                      <a:lnTo>
                        <a:pt x="7" y="31"/>
                      </a:lnTo>
                      <a:lnTo>
                        <a:pt x="4" y="26"/>
                      </a:lnTo>
                      <a:lnTo>
                        <a:pt x="3" y="20"/>
                      </a:lnTo>
                      <a:lnTo>
                        <a:pt x="0" y="19"/>
                      </a:lnTo>
                      <a:lnTo>
                        <a:pt x="3" y="13"/>
                      </a:lnTo>
                      <a:lnTo>
                        <a:pt x="8" y="1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1260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"/>
              <p:cNvSpPr/>
              <p:nvPr/>
            </p:nvSpPr>
            <p:spPr>
              <a:xfrm>
                <a:off x="6876720" y="5346360"/>
                <a:ext cx="1017000" cy="810360"/>
              </a:xfrm>
              <a:custGeom>
                <a:avLst/>
                <a:gdLst/>
                <a:ahLst/>
                <a:rect l="l" t="t" r="r" b="b"/>
                <a:pathLst>
                  <a:path w="337" h="250">
                    <a:moveTo>
                      <a:pt x="242" y="0"/>
                    </a:moveTo>
                    <a:lnTo>
                      <a:pt x="260" y="0"/>
                    </a:lnTo>
                    <a:lnTo>
                      <a:pt x="260" y="20"/>
                    </a:lnTo>
                    <a:lnTo>
                      <a:pt x="267" y="26"/>
                    </a:lnTo>
                    <a:lnTo>
                      <a:pt x="269" y="29"/>
                    </a:lnTo>
                    <a:lnTo>
                      <a:pt x="273" y="29"/>
                    </a:lnTo>
                    <a:lnTo>
                      <a:pt x="275" y="33"/>
                    </a:lnTo>
                    <a:lnTo>
                      <a:pt x="277" y="53"/>
                    </a:lnTo>
                    <a:lnTo>
                      <a:pt x="287" y="66"/>
                    </a:lnTo>
                    <a:lnTo>
                      <a:pt x="302" y="85"/>
                    </a:lnTo>
                    <a:lnTo>
                      <a:pt x="302" y="88"/>
                    </a:lnTo>
                    <a:lnTo>
                      <a:pt x="318" y="104"/>
                    </a:lnTo>
                    <a:lnTo>
                      <a:pt x="318" y="107"/>
                    </a:lnTo>
                    <a:lnTo>
                      <a:pt x="334" y="120"/>
                    </a:lnTo>
                    <a:lnTo>
                      <a:pt x="337" y="143"/>
                    </a:lnTo>
                    <a:lnTo>
                      <a:pt x="334" y="164"/>
                    </a:lnTo>
                    <a:lnTo>
                      <a:pt x="329" y="174"/>
                    </a:lnTo>
                    <a:lnTo>
                      <a:pt x="323" y="179"/>
                    </a:lnTo>
                    <a:lnTo>
                      <a:pt x="321" y="189"/>
                    </a:lnTo>
                    <a:lnTo>
                      <a:pt x="315" y="198"/>
                    </a:lnTo>
                    <a:lnTo>
                      <a:pt x="310" y="202"/>
                    </a:lnTo>
                    <a:lnTo>
                      <a:pt x="311" y="205"/>
                    </a:lnTo>
                    <a:lnTo>
                      <a:pt x="305" y="211"/>
                    </a:lnTo>
                    <a:lnTo>
                      <a:pt x="302" y="224"/>
                    </a:lnTo>
                    <a:lnTo>
                      <a:pt x="301" y="231"/>
                    </a:lnTo>
                    <a:lnTo>
                      <a:pt x="295" y="234"/>
                    </a:lnTo>
                    <a:lnTo>
                      <a:pt x="294" y="237"/>
                    </a:lnTo>
                    <a:lnTo>
                      <a:pt x="290" y="243"/>
                    </a:lnTo>
                    <a:lnTo>
                      <a:pt x="283" y="244"/>
                    </a:lnTo>
                    <a:lnTo>
                      <a:pt x="278" y="246"/>
                    </a:lnTo>
                    <a:lnTo>
                      <a:pt x="271" y="250"/>
                    </a:lnTo>
                    <a:lnTo>
                      <a:pt x="262" y="242"/>
                    </a:lnTo>
                    <a:lnTo>
                      <a:pt x="252" y="243"/>
                    </a:lnTo>
                    <a:lnTo>
                      <a:pt x="249" y="243"/>
                    </a:lnTo>
                    <a:lnTo>
                      <a:pt x="235" y="245"/>
                    </a:lnTo>
                    <a:lnTo>
                      <a:pt x="226" y="237"/>
                    </a:lnTo>
                    <a:lnTo>
                      <a:pt x="220" y="229"/>
                    </a:lnTo>
                    <a:lnTo>
                      <a:pt x="216" y="230"/>
                    </a:lnTo>
                    <a:lnTo>
                      <a:pt x="212" y="223"/>
                    </a:lnTo>
                    <a:lnTo>
                      <a:pt x="210" y="217"/>
                    </a:lnTo>
                    <a:lnTo>
                      <a:pt x="208" y="215"/>
                    </a:lnTo>
                    <a:lnTo>
                      <a:pt x="208" y="205"/>
                    </a:lnTo>
                    <a:lnTo>
                      <a:pt x="209" y="199"/>
                    </a:lnTo>
                    <a:lnTo>
                      <a:pt x="207" y="195"/>
                    </a:lnTo>
                    <a:lnTo>
                      <a:pt x="199" y="197"/>
                    </a:lnTo>
                    <a:lnTo>
                      <a:pt x="195" y="198"/>
                    </a:lnTo>
                    <a:lnTo>
                      <a:pt x="188" y="198"/>
                    </a:lnTo>
                    <a:lnTo>
                      <a:pt x="185" y="198"/>
                    </a:lnTo>
                    <a:lnTo>
                      <a:pt x="182" y="198"/>
                    </a:lnTo>
                    <a:lnTo>
                      <a:pt x="177" y="192"/>
                    </a:lnTo>
                    <a:lnTo>
                      <a:pt x="172" y="184"/>
                    </a:lnTo>
                    <a:lnTo>
                      <a:pt x="171" y="185"/>
                    </a:lnTo>
                    <a:lnTo>
                      <a:pt x="162" y="185"/>
                    </a:lnTo>
                    <a:lnTo>
                      <a:pt x="161" y="182"/>
                    </a:lnTo>
                    <a:lnTo>
                      <a:pt x="156" y="185"/>
                    </a:lnTo>
                    <a:lnTo>
                      <a:pt x="151" y="184"/>
                    </a:lnTo>
                    <a:lnTo>
                      <a:pt x="143" y="184"/>
                    </a:lnTo>
                    <a:lnTo>
                      <a:pt x="138" y="182"/>
                    </a:lnTo>
                    <a:lnTo>
                      <a:pt x="136" y="185"/>
                    </a:lnTo>
                    <a:lnTo>
                      <a:pt x="128" y="186"/>
                    </a:lnTo>
                    <a:lnTo>
                      <a:pt x="126" y="184"/>
                    </a:lnTo>
                    <a:lnTo>
                      <a:pt x="121" y="189"/>
                    </a:lnTo>
                    <a:lnTo>
                      <a:pt x="115" y="194"/>
                    </a:lnTo>
                    <a:lnTo>
                      <a:pt x="111" y="194"/>
                    </a:lnTo>
                    <a:lnTo>
                      <a:pt x="105" y="200"/>
                    </a:lnTo>
                    <a:lnTo>
                      <a:pt x="96" y="200"/>
                    </a:lnTo>
                    <a:lnTo>
                      <a:pt x="89" y="202"/>
                    </a:lnTo>
                    <a:lnTo>
                      <a:pt x="81" y="205"/>
                    </a:lnTo>
                    <a:lnTo>
                      <a:pt x="77" y="209"/>
                    </a:lnTo>
                    <a:lnTo>
                      <a:pt x="74" y="208"/>
                    </a:lnTo>
                    <a:lnTo>
                      <a:pt x="71" y="212"/>
                    </a:lnTo>
                    <a:lnTo>
                      <a:pt x="67" y="213"/>
                    </a:lnTo>
                    <a:lnTo>
                      <a:pt x="62" y="218"/>
                    </a:lnTo>
                    <a:lnTo>
                      <a:pt x="46" y="218"/>
                    </a:lnTo>
                    <a:lnTo>
                      <a:pt x="39" y="211"/>
                    </a:lnTo>
                    <a:lnTo>
                      <a:pt x="38" y="208"/>
                    </a:lnTo>
                    <a:lnTo>
                      <a:pt x="36" y="211"/>
                    </a:lnTo>
                    <a:lnTo>
                      <a:pt x="33" y="206"/>
                    </a:lnTo>
                    <a:lnTo>
                      <a:pt x="34" y="193"/>
                    </a:lnTo>
                    <a:lnTo>
                      <a:pt x="36" y="185"/>
                    </a:lnTo>
                    <a:lnTo>
                      <a:pt x="33" y="179"/>
                    </a:lnTo>
                    <a:lnTo>
                      <a:pt x="30" y="173"/>
                    </a:lnTo>
                    <a:lnTo>
                      <a:pt x="29" y="166"/>
                    </a:lnTo>
                    <a:lnTo>
                      <a:pt x="24" y="163"/>
                    </a:lnTo>
                    <a:lnTo>
                      <a:pt x="23" y="162"/>
                    </a:lnTo>
                    <a:lnTo>
                      <a:pt x="22" y="159"/>
                    </a:lnTo>
                    <a:lnTo>
                      <a:pt x="15" y="150"/>
                    </a:lnTo>
                    <a:lnTo>
                      <a:pt x="6" y="128"/>
                    </a:lnTo>
                    <a:lnTo>
                      <a:pt x="3" y="113"/>
                    </a:lnTo>
                    <a:lnTo>
                      <a:pt x="3" y="104"/>
                    </a:lnTo>
                    <a:lnTo>
                      <a:pt x="0" y="101"/>
                    </a:lnTo>
                    <a:lnTo>
                      <a:pt x="1" y="93"/>
                    </a:lnTo>
                    <a:lnTo>
                      <a:pt x="4" y="89"/>
                    </a:lnTo>
                    <a:lnTo>
                      <a:pt x="15" y="78"/>
                    </a:lnTo>
                    <a:lnTo>
                      <a:pt x="26" y="79"/>
                    </a:lnTo>
                    <a:lnTo>
                      <a:pt x="28" y="81"/>
                    </a:lnTo>
                    <a:lnTo>
                      <a:pt x="42" y="81"/>
                    </a:lnTo>
                    <a:lnTo>
                      <a:pt x="43" y="78"/>
                    </a:lnTo>
                    <a:lnTo>
                      <a:pt x="46" y="79"/>
                    </a:lnTo>
                    <a:lnTo>
                      <a:pt x="50" y="76"/>
                    </a:lnTo>
                    <a:lnTo>
                      <a:pt x="53" y="77"/>
                    </a:lnTo>
                    <a:lnTo>
                      <a:pt x="56" y="75"/>
                    </a:lnTo>
                    <a:lnTo>
                      <a:pt x="55" y="72"/>
                    </a:lnTo>
                    <a:lnTo>
                      <a:pt x="58" y="65"/>
                    </a:lnTo>
                    <a:lnTo>
                      <a:pt x="62" y="62"/>
                    </a:lnTo>
                    <a:lnTo>
                      <a:pt x="60" y="60"/>
                    </a:lnTo>
                    <a:lnTo>
                      <a:pt x="62" y="58"/>
                    </a:lnTo>
                    <a:lnTo>
                      <a:pt x="60" y="55"/>
                    </a:lnTo>
                    <a:lnTo>
                      <a:pt x="66" y="50"/>
                    </a:lnTo>
                    <a:lnTo>
                      <a:pt x="75" y="49"/>
                    </a:lnTo>
                    <a:lnTo>
                      <a:pt x="84" y="37"/>
                    </a:lnTo>
                    <a:lnTo>
                      <a:pt x="95" y="27"/>
                    </a:lnTo>
                    <a:lnTo>
                      <a:pt x="100" y="26"/>
                    </a:lnTo>
                    <a:lnTo>
                      <a:pt x="103" y="23"/>
                    </a:lnTo>
                    <a:lnTo>
                      <a:pt x="108" y="23"/>
                    </a:lnTo>
                    <a:lnTo>
                      <a:pt x="117" y="32"/>
                    </a:lnTo>
                    <a:lnTo>
                      <a:pt x="120" y="33"/>
                    </a:lnTo>
                    <a:lnTo>
                      <a:pt x="123" y="29"/>
                    </a:lnTo>
                    <a:lnTo>
                      <a:pt x="129" y="23"/>
                    </a:lnTo>
                    <a:lnTo>
                      <a:pt x="133" y="22"/>
                    </a:lnTo>
                    <a:lnTo>
                      <a:pt x="137" y="14"/>
                    </a:lnTo>
                    <a:lnTo>
                      <a:pt x="141" y="13"/>
                    </a:lnTo>
                    <a:lnTo>
                      <a:pt x="146" y="10"/>
                    </a:lnTo>
                    <a:lnTo>
                      <a:pt x="151" y="7"/>
                    </a:lnTo>
                    <a:lnTo>
                      <a:pt x="156" y="7"/>
                    </a:lnTo>
                    <a:lnTo>
                      <a:pt x="160" y="3"/>
                    </a:lnTo>
                    <a:lnTo>
                      <a:pt x="166" y="3"/>
                    </a:lnTo>
                    <a:lnTo>
                      <a:pt x="173" y="3"/>
                    </a:lnTo>
                    <a:lnTo>
                      <a:pt x="182" y="5"/>
                    </a:lnTo>
                    <a:lnTo>
                      <a:pt x="188" y="9"/>
                    </a:lnTo>
                    <a:lnTo>
                      <a:pt x="189" y="12"/>
                    </a:lnTo>
                    <a:lnTo>
                      <a:pt x="190" y="14"/>
                    </a:lnTo>
                    <a:lnTo>
                      <a:pt x="191" y="19"/>
                    </a:lnTo>
                    <a:lnTo>
                      <a:pt x="190" y="21"/>
                    </a:lnTo>
                    <a:lnTo>
                      <a:pt x="190" y="26"/>
                    </a:lnTo>
                    <a:lnTo>
                      <a:pt x="189" y="29"/>
                    </a:lnTo>
                    <a:lnTo>
                      <a:pt x="204" y="40"/>
                    </a:lnTo>
                    <a:lnTo>
                      <a:pt x="209" y="46"/>
                    </a:lnTo>
                    <a:lnTo>
                      <a:pt x="215" y="48"/>
                    </a:lnTo>
                    <a:lnTo>
                      <a:pt x="221" y="51"/>
                    </a:lnTo>
                    <a:lnTo>
                      <a:pt x="225" y="52"/>
                    </a:lnTo>
                    <a:lnTo>
                      <a:pt x="231" y="49"/>
                    </a:lnTo>
                    <a:lnTo>
                      <a:pt x="236" y="40"/>
                    </a:lnTo>
                    <a:lnTo>
                      <a:pt x="238" y="33"/>
                    </a:lnTo>
                    <a:lnTo>
                      <a:pt x="240" y="19"/>
                    </a:lnTo>
                    <a:lnTo>
                      <a:pt x="242" y="13"/>
                    </a:lnTo>
                    <a:lnTo>
                      <a:pt x="242" y="0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1260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638760" y="5173200"/>
                <a:ext cx="561240" cy="109800"/>
              </a:xfrm>
              <a:custGeom>
                <a:avLst/>
                <a:gdLst/>
                <a:ahLst/>
                <a:rect l="l" t="t" r="r" b="b"/>
                <a:pathLst>
                  <a:path w="186" h="34">
                    <a:moveTo>
                      <a:pt x="0" y="0"/>
                    </a:moveTo>
                    <a:lnTo>
                      <a:pt x="14" y="5"/>
                    </a:lnTo>
                    <a:lnTo>
                      <a:pt x="26" y="5"/>
                    </a:lnTo>
                    <a:lnTo>
                      <a:pt x="37" y="5"/>
                    </a:lnTo>
                    <a:lnTo>
                      <a:pt x="45" y="5"/>
                    </a:lnTo>
                    <a:lnTo>
                      <a:pt x="51" y="6"/>
                    </a:lnTo>
                    <a:lnTo>
                      <a:pt x="59" y="9"/>
                    </a:lnTo>
                    <a:lnTo>
                      <a:pt x="63" y="16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2" y="18"/>
                    </a:lnTo>
                    <a:lnTo>
                      <a:pt x="91" y="22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2" y="19"/>
                    </a:lnTo>
                    <a:lnTo>
                      <a:pt x="105" y="16"/>
                    </a:lnTo>
                    <a:lnTo>
                      <a:pt x="117" y="18"/>
                    </a:lnTo>
                    <a:lnTo>
                      <a:pt x="127" y="18"/>
                    </a:lnTo>
                    <a:lnTo>
                      <a:pt x="136" y="18"/>
                    </a:lnTo>
                    <a:lnTo>
                      <a:pt x="143" y="21"/>
                    </a:lnTo>
                    <a:lnTo>
                      <a:pt x="147" y="23"/>
                    </a:lnTo>
                    <a:lnTo>
                      <a:pt x="154" y="22"/>
                    </a:lnTo>
                    <a:lnTo>
                      <a:pt x="159" y="20"/>
                    </a:lnTo>
                    <a:lnTo>
                      <a:pt x="162" y="18"/>
                    </a:lnTo>
                    <a:lnTo>
                      <a:pt x="170" y="18"/>
                    </a:lnTo>
                    <a:lnTo>
                      <a:pt x="175" y="16"/>
                    </a:lnTo>
                    <a:lnTo>
                      <a:pt x="182" y="14"/>
                    </a:lnTo>
                    <a:lnTo>
                      <a:pt x="186" y="14"/>
                    </a:lnTo>
                    <a:lnTo>
                      <a:pt x="185" y="21"/>
                    </a:lnTo>
                    <a:lnTo>
                      <a:pt x="183" y="24"/>
                    </a:lnTo>
                    <a:lnTo>
                      <a:pt x="179" y="27"/>
                    </a:lnTo>
                    <a:lnTo>
                      <a:pt x="175" y="27"/>
                    </a:lnTo>
                    <a:lnTo>
                      <a:pt x="174" y="27"/>
                    </a:lnTo>
                    <a:lnTo>
                      <a:pt x="169" y="28"/>
                    </a:lnTo>
                    <a:lnTo>
                      <a:pt x="165" y="32"/>
                    </a:lnTo>
                    <a:lnTo>
                      <a:pt x="161" y="31"/>
                    </a:lnTo>
                    <a:lnTo>
                      <a:pt x="157" y="29"/>
                    </a:lnTo>
                    <a:lnTo>
                      <a:pt x="153" y="31"/>
                    </a:lnTo>
                    <a:lnTo>
                      <a:pt x="149" y="32"/>
                    </a:lnTo>
                    <a:lnTo>
                      <a:pt x="146" y="32"/>
                    </a:lnTo>
                    <a:lnTo>
                      <a:pt x="143" y="34"/>
                    </a:lnTo>
                    <a:lnTo>
                      <a:pt x="135" y="34"/>
                    </a:lnTo>
                    <a:lnTo>
                      <a:pt x="132" y="31"/>
                    </a:lnTo>
                    <a:lnTo>
                      <a:pt x="128" y="27"/>
                    </a:lnTo>
                    <a:lnTo>
                      <a:pt x="123" y="31"/>
                    </a:lnTo>
                    <a:lnTo>
                      <a:pt x="120" y="34"/>
                    </a:lnTo>
                    <a:lnTo>
                      <a:pt x="116" y="34"/>
                    </a:lnTo>
                    <a:lnTo>
                      <a:pt x="109" y="27"/>
                    </a:lnTo>
                    <a:lnTo>
                      <a:pt x="107" y="28"/>
                    </a:lnTo>
                    <a:lnTo>
                      <a:pt x="103" y="28"/>
                    </a:lnTo>
                    <a:lnTo>
                      <a:pt x="100" y="32"/>
                    </a:lnTo>
                    <a:lnTo>
                      <a:pt x="94" y="31"/>
                    </a:lnTo>
                    <a:lnTo>
                      <a:pt x="88" y="31"/>
                    </a:lnTo>
                    <a:lnTo>
                      <a:pt x="85" y="29"/>
                    </a:lnTo>
                    <a:lnTo>
                      <a:pt x="81" y="27"/>
                    </a:lnTo>
                    <a:lnTo>
                      <a:pt x="75" y="28"/>
                    </a:lnTo>
                    <a:lnTo>
                      <a:pt x="69" y="32"/>
                    </a:lnTo>
                    <a:lnTo>
                      <a:pt x="65" y="31"/>
                    </a:lnTo>
                    <a:lnTo>
                      <a:pt x="59" y="29"/>
                    </a:lnTo>
                    <a:lnTo>
                      <a:pt x="52" y="26"/>
                    </a:lnTo>
                    <a:lnTo>
                      <a:pt x="46" y="26"/>
                    </a:lnTo>
                    <a:lnTo>
                      <a:pt x="34" y="23"/>
                    </a:lnTo>
                    <a:lnTo>
                      <a:pt x="26" y="21"/>
                    </a:lnTo>
                    <a:lnTo>
                      <a:pt x="21" y="20"/>
                    </a:lnTo>
                    <a:lnTo>
                      <a:pt x="13" y="19"/>
                    </a:lnTo>
                    <a:lnTo>
                      <a:pt x="8" y="15"/>
                    </a:lnTo>
                    <a:lnTo>
                      <a:pt x="3" y="14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1260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46560" y="4953960"/>
                <a:ext cx="253080" cy="210600"/>
              </a:xfrm>
              <a:custGeom>
                <a:avLst/>
                <a:gdLst/>
                <a:ahLst/>
                <a:rect l="l" t="t" r="r" b="b"/>
                <a:pathLst>
                  <a:path w="84" h="65">
                    <a:moveTo>
                      <a:pt x="21" y="0"/>
                    </a:moveTo>
                    <a:lnTo>
                      <a:pt x="41" y="1"/>
                    </a:lnTo>
                    <a:lnTo>
                      <a:pt x="60" y="1"/>
                    </a:lnTo>
                    <a:lnTo>
                      <a:pt x="70" y="0"/>
                    </a:lnTo>
                    <a:lnTo>
                      <a:pt x="84" y="6"/>
                    </a:lnTo>
                    <a:lnTo>
                      <a:pt x="75" y="8"/>
                    </a:lnTo>
                    <a:lnTo>
                      <a:pt x="70" y="11"/>
                    </a:lnTo>
                    <a:lnTo>
                      <a:pt x="67" y="13"/>
                    </a:lnTo>
                    <a:lnTo>
                      <a:pt x="65" y="15"/>
                    </a:lnTo>
                    <a:lnTo>
                      <a:pt x="65" y="17"/>
                    </a:lnTo>
                    <a:lnTo>
                      <a:pt x="65" y="20"/>
                    </a:lnTo>
                    <a:lnTo>
                      <a:pt x="59" y="22"/>
                    </a:lnTo>
                    <a:lnTo>
                      <a:pt x="54" y="22"/>
                    </a:lnTo>
                    <a:lnTo>
                      <a:pt x="52" y="23"/>
                    </a:lnTo>
                    <a:lnTo>
                      <a:pt x="47" y="23"/>
                    </a:lnTo>
                    <a:lnTo>
                      <a:pt x="45" y="20"/>
                    </a:lnTo>
                    <a:lnTo>
                      <a:pt x="41" y="16"/>
                    </a:lnTo>
                    <a:lnTo>
                      <a:pt x="37" y="13"/>
                    </a:lnTo>
                    <a:lnTo>
                      <a:pt x="29" y="13"/>
                    </a:lnTo>
                    <a:lnTo>
                      <a:pt x="27" y="13"/>
                    </a:lnTo>
                    <a:lnTo>
                      <a:pt x="25" y="18"/>
                    </a:lnTo>
                    <a:lnTo>
                      <a:pt x="26" y="23"/>
                    </a:lnTo>
                    <a:lnTo>
                      <a:pt x="26" y="26"/>
                    </a:lnTo>
                    <a:lnTo>
                      <a:pt x="27" y="29"/>
                    </a:lnTo>
                    <a:lnTo>
                      <a:pt x="31" y="28"/>
                    </a:lnTo>
                    <a:lnTo>
                      <a:pt x="37" y="25"/>
                    </a:lnTo>
                    <a:lnTo>
                      <a:pt x="41" y="25"/>
                    </a:lnTo>
                    <a:lnTo>
                      <a:pt x="44" y="27"/>
                    </a:lnTo>
                    <a:lnTo>
                      <a:pt x="44" y="29"/>
                    </a:lnTo>
                    <a:lnTo>
                      <a:pt x="42" y="33"/>
                    </a:lnTo>
                    <a:lnTo>
                      <a:pt x="41" y="35"/>
                    </a:lnTo>
                    <a:lnTo>
                      <a:pt x="41" y="37"/>
                    </a:lnTo>
                    <a:lnTo>
                      <a:pt x="40" y="40"/>
                    </a:lnTo>
                    <a:lnTo>
                      <a:pt x="42" y="43"/>
                    </a:lnTo>
                    <a:lnTo>
                      <a:pt x="46" y="47"/>
                    </a:lnTo>
                    <a:lnTo>
                      <a:pt x="47" y="46"/>
                    </a:lnTo>
                    <a:lnTo>
                      <a:pt x="47" y="50"/>
                    </a:lnTo>
                    <a:lnTo>
                      <a:pt x="45" y="53"/>
                    </a:lnTo>
                    <a:lnTo>
                      <a:pt x="43" y="56"/>
                    </a:lnTo>
                    <a:lnTo>
                      <a:pt x="42" y="61"/>
                    </a:lnTo>
                    <a:lnTo>
                      <a:pt x="38" y="63"/>
                    </a:lnTo>
                    <a:lnTo>
                      <a:pt x="35" y="63"/>
                    </a:lnTo>
                    <a:lnTo>
                      <a:pt x="32" y="63"/>
                    </a:lnTo>
                    <a:lnTo>
                      <a:pt x="32" y="59"/>
                    </a:lnTo>
                    <a:lnTo>
                      <a:pt x="31" y="52"/>
                    </a:lnTo>
                    <a:lnTo>
                      <a:pt x="28" y="50"/>
                    </a:lnTo>
                    <a:lnTo>
                      <a:pt x="27" y="47"/>
                    </a:lnTo>
                    <a:lnTo>
                      <a:pt x="28" y="41"/>
                    </a:lnTo>
                    <a:lnTo>
                      <a:pt x="25" y="39"/>
                    </a:lnTo>
                    <a:lnTo>
                      <a:pt x="18" y="41"/>
                    </a:lnTo>
                    <a:lnTo>
                      <a:pt x="15" y="39"/>
                    </a:lnTo>
                    <a:lnTo>
                      <a:pt x="12" y="42"/>
                    </a:lnTo>
                    <a:lnTo>
                      <a:pt x="15" y="44"/>
                    </a:lnTo>
                    <a:lnTo>
                      <a:pt x="20" y="46"/>
                    </a:lnTo>
                    <a:lnTo>
                      <a:pt x="21" y="48"/>
                    </a:lnTo>
                    <a:lnTo>
                      <a:pt x="24" y="52"/>
                    </a:lnTo>
                    <a:lnTo>
                      <a:pt x="24" y="55"/>
                    </a:lnTo>
                    <a:lnTo>
                      <a:pt x="21" y="60"/>
                    </a:lnTo>
                    <a:lnTo>
                      <a:pt x="17" y="64"/>
                    </a:lnTo>
                    <a:lnTo>
                      <a:pt x="15" y="65"/>
                    </a:lnTo>
                    <a:lnTo>
                      <a:pt x="15" y="62"/>
                    </a:lnTo>
                    <a:lnTo>
                      <a:pt x="15" y="59"/>
                    </a:lnTo>
                    <a:lnTo>
                      <a:pt x="16" y="55"/>
                    </a:lnTo>
                    <a:lnTo>
                      <a:pt x="11" y="52"/>
                    </a:lnTo>
                    <a:lnTo>
                      <a:pt x="6" y="49"/>
                    </a:lnTo>
                    <a:lnTo>
                      <a:pt x="5" y="46"/>
                    </a:lnTo>
                    <a:lnTo>
                      <a:pt x="0" y="44"/>
                    </a:lnTo>
                    <a:lnTo>
                      <a:pt x="1" y="39"/>
                    </a:lnTo>
                    <a:lnTo>
                      <a:pt x="5" y="36"/>
                    </a:lnTo>
                    <a:lnTo>
                      <a:pt x="8" y="31"/>
                    </a:lnTo>
                    <a:lnTo>
                      <a:pt x="11" y="26"/>
                    </a:lnTo>
                    <a:lnTo>
                      <a:pt x="12" y="21"/>
                    </a:lnTo>
                    <a:lnTo>
                      <a:pt x="11" y="16"/>
                    </a:lnTo>
                    <a:lnTo>
                      <a:pt x="13" y="14"/>
                    </a:lnTo>
                    <a:lnTo>
                      <a:pt x="15" y="12"/>
                    </a:lnTo>
                    <a:lnTo>
                      <a:pt x="12" y="8"/>
                    </a:lnTo>
                    <a:lnTo>
                      <a:pt x="21" y="0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1260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79800" y="4860000"/>
                <a:ext cx="281520" cy="293400"/>
              </a:xfrm>
              <a:custGeom>
                <a:avLst/>
                <a:gdLst/>
                <a:ahLst/>
                <a:rect l="l" t="t" r="r" b="b"/>
                <a:pathLst>
                  <a:path w="93" h="90">
                    <a:moveTo>
                      <a:pt x="0" y="30"/>
                    </a:moveTo>
                    <a:lnTo>
                      <a:pt x="19" y="16"/>
                    </a:lnTo>
                    <a:lnTo>
                      <a:pt x="29" y="10"/>
                    </a:lnTo>
                    <a:lnTo>
                      <a:pt x="34" y="5"/>
                    </a:lnTo>
                    <a:lnTo>
                      <a:pt x="49" y="0"/>
                    </a:lnTo>
                    <a:lnTo>
                      <a:pt x="57" y="11"/>
                    </a:lnTo>
                    <a:lnTo>
                      <a:pt x="65" y="6"/>
                    </a:lnTo>
                    <a:lnTo>
                      <a:pt x="68" y="3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0" y="4"/>
                    </a:lnTo>
                    <a:lnTo>
                      <a:pt x="80" y="7"/>
                    </a:lnTo>
                    <a:lnTo>
                      <a:pt x="76" y="12"/>
                    </a:lnTo>
                    <a:lnTo>
                      <a:pt x="76" y="15"/>
                    </a:lnTo>
                    <a:lnTo>
                      <a:pt x="87" y="28"/>
                    </a:lnTo>
                    <a:lnTo>
                      <a:pt x="89" y="36"/>
                    </a:lnTo>
                    <a:lnTo>
                      <a:pt x="92" y="36"/>
                    </a:lnTo>
                    <a:lnTo>
                      <a:pt x="93" y="40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9" y="45"/>
                    </a:lnTo>
                    <a:lnTo>
                      <a:pt x="80" y="53"/>
                    </a:lnTo>
                    <a:lnTo>
                      <a:pt x="72" y="58"/>
                    </a:lnTo>
                    <a:lnTo>
                      <a:pt x="72" y="71"/>
                    </a:lnTo>
                    <a:lnTo>
                      <a:pt x="72" y="80"/>
                    </a:lnTo>
                    <a:lnTo>
                      <a:pt x="68" y="84"/>
                    </a:lnTo>
                    <a:lnTo>
                      <a:pt x="65" y="90"/>
                    </a:lnTo>
                    <a:lnTo>
                      <a:pt x="61" y="89"/>
                    </a:lnTo>
                    <a:lnTo>
                      <a:pt x="55" y="86"/>
                    </a:lnTo>
                    <a:lnTo>
                      <a:pt x="50" y="83"/>
                    </a:lnTo>
                    <a:lnTo>
                      <a:pt x="46" y="78"/>
                    </a:lnTo>
                    <a:lnTo>
                      <a:pt x="32" y="79"/>
                    </a:lnTo>
                    <a:lnTo>
                      <a:pt x="20" y="76"/>
                    </a:lnTo>
                    <a:lnTo>
                      <a:pt x="12" y="68"/>
                    </a:lnTo>
                    <a:lnTo>
                      <a:pt x="7" y="62"/>
                    </a:lnTo>
                    <a:lnTo>
                      <a:pt x="3" y="57"/>
                    </a:lnTo>
                    <a:lnTo>
                      <a:pt x="3" y="47"/>
                    </a:lnTo>
                    <a:lnTo>
                      <a:pt x="0" y="30"/>
                    </a:lnTo>
                    <a:close/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1260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76680" y="5026320"/>
                <a:ext cx="535680" cy="273600"/>
              </a:xfrm>
              <a:custGeom>
                <a:avLst/>
                <a:gdLst/>
                <a:ahLst/>
                <a:rect l="l" t="t" r="r" b="b"/>
                <a:pathLst>
                  <a:path w="178" h="84">
                    <a:moveTo>
                      <a:pt x="0" y="0"/>
                    </a:moveTo>
                    <a:lnTo>
                      <a:pt x="16" y="1"/>
                    </a:lnTo>
                    <a:lnTo>
                      <a:pt x="29" y="2"/>
                    </a:lnTo>
                    <a:lnTo>
                      <a:pt x="35" y="14"/>
                    </a:lnTo>
                    <a:lnTo>
                      <a:pt x="36" y="18"/>
                    </a:lnTo>
                    <a:lnTo>
                      <a:pt x="38" y="20"/>
                    </a:lnTo>
                    <a:lnTo>
                      <a:pt x="42" y="17"/>
                    </a:lnTo>
                    <a:lnTo>
                      <a:pt x="49" y="17"/>
                    </a:lnTo>
                    <a:lnTo>
                      <a:pt x="53" y="20"/>
                    </a:lnTo>
                    <a:lnTo>
                      <a:pt x="55" y="19"/>
                    </a:lnTo>
                    <a:lnTo>
                      <a:pt x="61" y="14"/>
                    </a:lnTo>
                    <a:lnTo>
                      <a:pt x="62" y="14"/>
                    </a:lnTo>
                    <a:lnTo>
                      <a:pt x="67" y="11"/>
                    </a:lnTo>
                    <a:lnTo>
                      <a:pt x="72" y="11"/>
                    </a:lnTo>
                    <a:lnTo>
                      <a:pt x="88" y="17"/>
                    </a:lnTo>
                    <a:lnTo>
                      <a:pt x="95" y="17"/>
                    </a:lnTo>
                    <a:lnTo>
                      <a:pt x="102" y="22"/>
                    </a:lnTo>
                    <a:lnTo>
                      <a:pt x="109" y="24"/>
                    </a:lnTo>
                    <a:lnTo>
                      <a:pt x="115" y="28"/>
                    </a:lnTo>
                    <a:lnTo>
                      <a:pt x="120" y="29"/>
                    </a:lnTo>
                    <a:lnTo>
                      <a:pt x="133" y="33"/>
                    </a:lnTo>
                    <a:lnTo>
                      <a:pt x="139" y="40"/>
                    </a:lnTo>
                    <a:lnTo>
                      <a:pt x="142" y="44"/>
                    </a:lnTo>
                    <a:lnTo>
                      <a:pt x="141" y="46"/>
                    </a:lnTo>
                    <a:lnTo>
                      <a:pt x="146" y="50"/>
                    </a:lnTo>
                    <a:lnTo>
                      <a:pt x="150" y="51"/>
                    </a:lnTo>
                    <a:lnTo>
                      <a:pt x="152" y="52"/>
                    </a:lnTo>
                    <a:lnTo>
                      <a:pt x="157" y="53"/>
                    </a:lnTo>
                    <a:lnTo>
                      <a:pt x="165" y="59"/>
                    </a:lnTo>
                    <a:lnTo>
                      <a:pt x="165" y="63"/>
                    </a:lnTo>
                    <a:lnTo>
                      <a:pt x="170" y="67"/>
                    </a:lnTo>
                    <a:lnTo>
                      <a:pt x="171" y="69"/>
                    </a:lnTo>
                    <a:lnTo>
                      <a:pt x="178" y="77"/>
                    </a:lnTo>
                    <a:lnTo>
                      <a:pt x="172" y="84"/>
                    </a:lnTo>
                    <a:lnTo>
                      <a:pt x="170" y="84"/>
                    </a:lnTo>
                    <a:lnTo>
                      <a:pt x="164" y="84"/>
                    </a:lnTo>
                    <a:lnTo>
                      <a:pt x="162" y="81"/>
                    </a:lnTo>
                    <a:lnTo>
                      <a:pt x="159" y="81"/>
                    </a:lnTo>
                    <a:lnTo>
                      <a:pt x="156" y="82"/>
                    </a:lnTo>
                    <a:lnTo>
                      <a:pt x="141" y="66"/>
                    </a:lnTo>
                    <a:lnTo>
                      <a:pt x="132" y="67"/>
                    </a:lnTo>
                    <a:lnTo>
                      <a:pt x="123" y="66"/>
                    </a:lnTo>
                    <a:lnTo>
                      <a:pt x="120" y="68"/>
                    </a:lnTo>
                    <a:lnTo>
                      <a:pt x="117" y="71"/>
                    </a:lnTo>
                    <a:lnTo>
                      <a:pt x="116" y="69"/>
                    </a:lnTo>
                    <a:lnTo>
                      <a:pt x="112" y="74"/>
                    </a:lnTo>
                    <a:lnTo>
                      <a:pt x="106" y="81"/>
                    </a:lnTo>
                    <a:lnTo>
                      <a:pt x="101" y="78"/>
                    </a:lnTo>
                    <a:lnTo>
                      <a:pt x="95" y="76"/>
                    </a:lnTo>
                    <a:lnTo>
                      <a:pt x="91" y="76"/>
                    </a:lnTo>
                    <a:lnTo>
                      <a:pt x="85" y="74"/>
                    </a:lnTo>
                    <a:lnTo>
                      <a:pt x="82" y="76"/>
                    </a:lnTo>
                    <a:lnTo>
                      <a:pt x="78" y="66"/>
                    </a:lnTo>
                    <a:lnTo>
                      <a:pt x="71" y="57"/>
                    </a:lnTo>
                    <a:lnTo>
                      <a:pt x="64" y="46"/>
                    </a:lnTo>
                    <a:lnTo>
                      <a:pt x="58" y="40"/>
                    </a:lnTo>
                    <a:lnTo>
                      <a:pt x="53" y="34"/>
                    </a:lnTo>
                    <a:lnTo>
                      <a:pt x="42" y="34"/>
                    </a:lnTo>
                    <a:lnTo>
                      <a:pt x="32" y="37"/>
                    </a:lnTo>
                    <a:lnTo>
                      <a:pt x="27" y="33"/>
                    </a:lnTo>
                    <a:lnTo>
                      <a:pt x="17" y="30"/>
                    </a:lnTo>
                    <a:lnTo>
                      <a:pt x="12" y="27"/>
                    </a:lnTo>
                    <a:lnTo>
                      <a:pt x="12" y="15"/>
                    </a:lnTo>
                    <a:lnTo>
                      <a:pt x="13" y="9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1260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282360" y="4831200"/>
                <a:ext cx="322920" cy="359640"/>
              </a:xfrm>
              <a:custGeom>
                <a:avLst/>
                <a:gdLst/>
                <a:ahLst/>
                <a:rect l="l" t="t" r="r" b="b"/>
                <a:pathLst>
                  <a:path w="108" h="111">
                    <a:moveTo>
                      <a:pt x="0" y="3"/>
                    </a:moveTo>
                    <a:lnTo>
                      <a:pt x="11" y="0"/>
                    </a:lnTo>
                    <a:lnTo>
                      <a:pt x="24" y="5"/>
                    </a:lnTo>
                    <a:lnTo>
                      <a:pt x="26" y="10"/>
                    </a:lnTo>
                    <a:lnTo>
                      <a:pt x="26" y="12"/>
                    </a:lnTo>
                    <a:lnTo>
                      <a:pt x="29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3" y="20"/>
                    </a:lnTo>
                    <a:lnTo>
                      <a:pt x="46" y="32"/>
                    </a:lnTo>
                    <a:lnTo>
                      <a:pt x="48" y="32"/>
                    </a:lnTo>
                    <a:lnTo>
                      <a:pt x="50" y="35"/>
                    </a:lnTo>
                    <a:lnTo>
                      <a:pt x="52" y="38"/>
                    </a:lnTo>
                    <a:lnTo>
                      <a:pt x="54" y="38"/>
                    </a:lnTo>
                    <a:lnTo>
                      <a:pt x="63" y="42"/>
                    </a:lnTo>
                    <a:lnTo>
                      <a:pt x="80" y="44"/>
                    </a:lnTo>
                    <a:lnTo>
                      <a:pt x="81" y="58"/>
                    </a:lnTo>
                    <a:lnTo>
                      <a:pt x="85" y="60"/>
                    </a:lnTo>
                    <a:lnTo>
                      <a:pt x="84" y="65"/>
                    </a:lnTo>
                    <a:lnTo>
                      <a:pt x="94" y="72"/>
                    </a:lnTo>
                    <a:lnTo>
                      <a:pt x="103" y="75"/>
                    </a:lnTo>
                    <a:lnTo>
                      <a:pt x="103" y="98"/>
                    </a:lnTo>
                    <a:lnTo>
                      <a:pt x="108" y="107"/>
                    </a:lnTo>
                    <a:lnTo>
                      <a:pt x="105" y="110"/>
                    </a:lnTo>
                    <a:lnTo>
                      <a:pt x="99" y="111"/>
                    </a:lnTo>
                    <a:lnTo>
                      <a:pt x="98" y="103"/>
                    </a:lnTo>
                    <a:lnTo>
                      <a:pt x="88" y="111"/>
                    </a:lnTo>
                    <a:lnTo>
                      <a:pt x="81" y="99"/>
                    </a:lnTo>
                    <a:lnTo>
                      <a:pt x="77" y="91"/>
                    </a:lnTo>
                    <a:lnTo>
                      <a:pt x="65" y="80"/>
                    </a:lnTo>
                    <a:lnTo>
                      <a:pt x="62" y="80"/>
                    </a:lnTo>
                    <a:lnTo>
                      <a:pt x="51" y="74"/>
                    </a:lnTo>
                    <a:lnTo>
                      <a:pt x="49" y="68"/>
                    </a:lnTo>
                    <a:lnTo>
                      <a:pt x="49" y="64"/>
                    </a:lnTo>
                    <a:lnTo>
                      <a:pt x="40" y="48"/>
                    </a:lnTo>
                    <a:lnTo>
                      <a:pt x="36" y="38"/>
                    </a:lnTo>
                    <a:lnTo>
                      <a:pt x="25" y="29"/>
                    </a:lnTo>
                    <a:lnTo>
                      <a:pt x="10" y="15"/>
                    </a:lnTo>
                    <a:lnTo>
                      <a:pt x="0" y="3"/>
                    </a:lnTo>
                    <a:close/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1260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859440" y="4440960"/>
                <a:ext cx="317160" cy="398880"/>
              </a:xfrm>
              <a:custGeom>
                <a:avLst/>
                <a:gdLst/>
                <a:ahLst/>
                <a:rect l="l" t="t" r="r" b="b"/>
                <a:pathLst>
                  <a:path w="104" h="123">
                    <a:moveTo>
                      <a:pt x="7" y="0"/>
                    </a:moveTo>
                    <a:lnTo>
                      <a:pt x="16" y="0"/>
                    </a:lnTo>
                    <a:lnTo>
                      <a:pt x="26" y="13"/>
                    </a:lnTo>
                    <a:lnTo>
                      <a:pt x="24" y="25"/>
                    </a:lnTo>
                    <a:lnTo>
                      <a:pt x="30" y="29"/>
                    </a:lnTo>
                    <a:lnTo>
                      <a:pt x="33" y="37"/>
                    </a:lnTo>
                    <a:lnTo>
                      <a:pt x="40" y="41"/>
                    </a:lnTo>
                    <a:lnTo>
                      <a:pt x="48" y="42"/>
                    </a:lnTo>
                    <a:lnTo>
                      <a:pt x="60" y="48"/>
                    </a:lnTo>
                    <a:lnTo>
                      <a:pt x="68" y="56"/>
                    </a:lnTo>
                    <a:lnTo>
                      <a:pt x="70" y="56"/>
                    </a:lnTo>
                    <a:lnTo>
                      <a:pt x="80" y="62"/>
                    </a:lnTo>
                    <a:lnTo>
                      <a:pt x="80" y="77"/>
                    </a:lnTo>
                    <a:lnTo>
                      <a:pt x="83" y="84"/>
                    </a:lnTo>
                    <a:lnTo>
                      <a:pt x="86" y="88"/>
                    </a:lnTo>
                    <a:lnTo>
                      <a:pt x="90" y="92"/>
                    </a:lnTo>
                    <a:lnTo>
                      <a:pt x="94" y="97"/>
                    </a:lnTo>
                    <a:lnTo>
                      <a:pt x="96" y="103"/>
                    </a:lnTo>
                    <a:lnTo>
                      <a:pt x="104" y="108"/>
                    </a:lnTo>
                    <a:lnTo>
                      <a:pt x="103" y="114"/>
                    </a:lnTo>
                    <a:lnTo>
                      <a:pt x="95" y="115"/>
                    </a:lnTo>
                    <a:lnTo>
                      <a:pt x="92" y="110"/>
                    </a:lnTo>
                    <a:lnTo>
                      <a:pt x="86" y="110"/>
                    </a:lnTo>
                    <a:lnTo>
                      <a:pt x="86" y="123"/>
                    </a:lnTo>
                    <a:lnTo>
                      <a:pt x="81" y="123"/>
                    </a:lnTo>
                    <a:lnTo>
                      <a:pt x="75" y="117"/>
                    </a:lnTo>
                    <a:lnTo>
                      <a:pt x="71" y="114"/>
                    </a:lnTo>
                    <a:lnTo>
                      <a:pt x="71" y="107"/>
                    </a:lnTo>
                    <a:lnTo>
                      <a:pt x="62" y="107"/>
                    </a:lnTo>
                    <a:lnTo>
                      <a:pt x="59" y="114"/>
                    </a:lnTo>
                    <a:lnTo>
                      <a:pt x="56" y="107"/>
                    </a:lnTo>
                    <a:lnTo>
                      <a:pt x="55" y="100"/>
                    </a:lnTo>
                    <a:lnTo>
                      <a:pt x="66" y="97"/>
                    </a:lnTo>
                    <a:lnTo>
                      <a:pt x="72" y="99"/>
                    </a:lnTo>
                    <a:lnTo>
                      <a:pt x="73" y="87"/>
                    </a:lnTo>
                    <a:lnTo>
                      <a:pt x="67" y="83"/>
                    </a:lnTo>
                    <a:lnTo>
                      <a:pt x="63" y="73"/>
                    </a:lnTo>
                    <a:lnTo>
                      <a:pt x="60" y="61"/>
                    </a:lnTo>
                    <a:lnTo>
                      <a:pt x="49" y="57"/>
                    </a:lnTo>
                    <a:lnTo>
                      <a:pt x="44" y="51"/>
                    </a:lnTo>
                    <a:lnTo>
                      <a:pt x="35" y="48"/>
                    </a:lnTo>
                    <a:lnTo>
                      <a:pt x="40" y="60"/>
                    </a:lnTo>
                    <a:lnTo>
                      <a:pt x="30" y="65"/>
                    </a:lnTo>
                    <a:lnTo>
                      <a:pt x="24" y="52"/>
                    </a:lnTo>
                    <a:lnTo>
                      <a:pt x="19" y="49"/>
                    </a:lnTo>
                    <a:lnTo>
                      <a:pt x="19" y="42"/>
                    </a:lnTo>
                    <a:lnTo>
                      <a:pt x="12" y="34"/>
                    </a:lnTo>
                    <a:lnTo>
                      <a:pt x="4" y="29"/>
                    </a:lnTo>
                    <a:lnTo>
                      <a:pt x="0" y="24"/>
                    </a:lnTo>
                    <a:lnTo>
                      <a:pt x="2" y="20"/>
                    </a:lnTo>
                    <a:lnTo>
                      <a:pt x="8" y="22"/>
                    </a:lnTo>
                    <a:lnTo>
                      <a:pt x="10" y="17"/>
                    </a:lnTo>
                    <a:lnTo>
                      <a:pt x="8" y="10"/>
                    </a:lnTo>
                    <a:lnTo>
                      <a:pt x="7" y="0"/>
                    </a:lnTo>
                    <a:close/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1260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787440" y="3759840"/>
                <a:ext cx="232920" cy="341640"/>
              </a:xfrm>
              <a:custGeom>
                <a:avLst/>
                <a:gdLst/>
                <a:ahLst/>
                <a:rect l="l" t="t" r="r" b="b"/>
                <a:pathLst>
                  <a:path w="77" h="105">
                    <a:moveTo>
                      <a:pt x="16" y="0"/>
                    </a:moveTo>
                    <a:lnTo>
                      <a:pt x="31" y="7"/>
                    </a:lnTo>
                    <a:lnTo>
                      <a:pt x="40" y="15"/>
                    </a:lnTo>
                    <a:lnTo>
                      <a:pt x="46" y="24"/>
                    </a:lnTo>
                    <a:lnTo>
                      <a:pt x="51" y="24"/>
                    </a:lnTo>
                    <a:lnTo>
                      <a:pt x="50" y="30"/>
                    </a:lnTo>
                    <a:lnTo>
                      <a:pt x="56" y="34"/>
                    </a:lnTo>
                    <a:lnTo>
                      <a:pt x="60" y="40"/>
                    </a:lnTo>
                    <a:lnTo>
                      <a:pt x="70" y="52"/>
                    </a:lnTo>
                    <a:lnTo>
                      <a:pt x="77" y="66"/>
                    </a:lnTo>
                    <a:lnTo>
                      <a:pt x="64" y="65"/>
                    </a:lnTo>
                    <a:lnTo>
                      <a:pt x="54" y="63"/>
                    </a:lnTo>
                    <a:lnTo>
                      <a:pt x="61" y="73"/>
                    </a:lnTo>
                    <a:lnTo>
                      <a:pt x="61" y="79"/>
                    </a:lnTo>
                    <a:lnTo>
                      <a:pt x="61" y="85"/>
                    </a:lnTo>
                    <a:lnTo>
                      <a:pt x="57" y="82"/>
                    </a:lnTo>
                    <a:lnTo>
                      <a:pt x="52" y="77"/>
                    </a:lnTo>
                    <a:lnTo>
                      <a:pt x="43" y="71"/>
                    </a:lnTo>
                    <a:lnTo>
                      <a:pt x="38" y="68"/>
                    </a:lnTo>
                    <a:lnTo>
                      <a:pt x="30" y="71"/>
                    </a:lnTo>
                    <a:lnTo>
                      <a:pt x="25" y="73"/>
                    </a:lnTo>
                    <a:lnTo>
                      <a:pt x="28" y="78"/>
                    </a:lnTo>
                    <a:lnTo>
                      <a:pt x="36" y="82"/>
                    </a:lnTo>
                    <a:lnTo>
                      <a:pt x="44" y="86"/>
                    </a:lnTo>
                    <a:lnTo>
                      <a:pt x="47" y="93"/>
                    </a:lnTo>
                    <a:lnTo>
                      <a:pt x="46" y="102"/>
                    </a:lnTo>
                    <a:lnTo>
                      <a:pt x="46" y="105"/>
                    </a:lnTo>
                    <a:lnTo>
                      <a:pt x="43" y="105"/>
                    </a:lnTo>
                    <a:lnTo>
                      <a:pt x="38" y="102"/>
                    </a:lnTo>
                    <a:lnTo>
                      <a:pt x="36" y="101"/>
                    </a:lnTo>
                    <a:lnTo>
                      <a:pt x="33" y="99"/>
                    </a:lnTo>
                    <a:lnTo>
                      <a:pt x="30" y="104"/>
                    </a:lnTo>
                    <a:lnTo>
                      <a:pt x="25" y="105"/>
                    </a:lnTo>
                    <a:lnTo>
                      <a:pt x="21" y="101"/>
                    </a:lnTo>
                    <a:lnTo>
                      <a:pt x="21" y="92"/>
                    </a:lnTo>
                    <a:lnTo>
                      <a:pt x="20" y="87"/>
                    </a:lnTo>
                    <a:lnTo>
                      <a:pt x="15" y="84"/>
                    </a:lnTo>
                    <a:lnTo>
                      <a:pt x="10" y="89"/>
                    </a:lnTo>
                    <a:lnTo>
                      <a:pt x="2" y="89"/>
                    </a:lnTo>
                    <a:lnTo>
                      <a:pt x="0" y="85"/>
                    </a:lnTo>
                    <a:lnTo>
                      <a:pt x="2" y="75"/>
                    </a:lnTo>
                    <a:lnTo>
                      <a:pt x="8" y="69"/>
                    </a:lnTo>
                    <a:lnTo>
                      <a:pt x="7" y="53"/>
                    </a:lnTo>
                    <a:lnTo>
                      <a:pt x="7" y="49"/>
                    </a:lnTo>
                    <a:lnTo>
                      <a:pt x="13" y="48"/>
                    </a:lnTo>
                    <a:lnTo>
                      <a:pt x="18" y="52"/>
                    </a:lnTo>
                    <a:lnTo>
                      <a:pt x="27" y="54"/>
                    </a:lnTo>
                    <a:lnTo>
                      <a:pt x="27" y="47"/>
                    </a:lnTo>
                    <a:lnTo>
                      <a:pt x="23" y="43"/>
                    </a:lnTo>
                    <a:lnTo>
                      <a:pt x="21" y="40"/>
                    </a:lnTo>
                    <a:lnTo>
                      <a:pt x="24" y="40"/>
                    </a:lnTo>
                    <a:lnTo>
                      <a:pt x="26" y="40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3" y="37"/>
                    </a:lnTo>
                    <a:lnTo>
                      <a:pt x="32" y="34"/>
                    </a:lnTo>
                    <a:lnTo>
                      <a:pt x="29" y="27"/>
                    </a:lnTo>
                    <a:lnTo>
                      <a:pt x="23" y="20"/>
                    </a:lnTo>
                    <a:lnTo>
                      <a:pt x="15" y="16"/>
                    </a:lnTo>
                    <a:lnTo>
                      <a:pt x="12" y="10"/>
                    </a:lnTo>
                    <a:lnTo>
                      <a:pt x="16" y="0"/>
                    </a:lnTo>
                    <a:close/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w="1260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526080" y="3352320"/>
                <a:ext cx="250920" cy="275760"/>
              </a:xfrm>
              <a:custGeom>
                <a:avLst/>
                <a:gdLst/>
                <a:ahLst/>
                <a:rect l="l" t="t" r="r" b="b"/>
                <a:pathLst>
                  <a:path w="84" h="85">
                    <a:moveTo>
                      <a:pt x="0" y="0"/>
                    </a:moveTo>
                    <a:lnTo>
                      <a:pt x="8" y="0"/>
                    </a:lnTo>
                    <a:lnTo>
                      <a:pt x="11" y="6"/>
                    </a:lnTo>
                    <a:lnTo>
                      <a:pt x="22" y="15"/>
                    </a:lnTo>
                    <a:lnTo>
                      <a:pt x="27" y="25"/>
                    </a:lnTo>
                    <a:lnTo>
                      <a:pt x="35" y="26"/>
                    </a:lnTo>
                    <a:lnTo>
                      <a:pt x="41" y="28"/>
                    </a:lnTo>
                    <a:lnTo>
                      <a:pt x="46" y="32"/>
                    </a:lnTo>
                    <a:lnTo>
                      <a:pt x="52" y="32"/>
                    </a:lnTo>
                    <a:lnTo>
                      <a:pt x="59" y="38"/>
                    </a:lnTo>
                    <a:lnTo>
                      <a:pt x="65" y="43"/>
                    </a:lnTo>
                    <a:lnTo>
                      <a:pt x="72" y="46"/>
                    </a:lnTo>
                    <a:lnTo>
                      <a:pt x="71" y="49"/>
                    </a:lnTo>
                    <a:lnTo>
                      <a:pt x="67" y="51"/>
                    </a:lnTo>
                    <a:lnTo>
                      <a:pt x="63" y="51"/>
                    </a:lnTo>
                    <a:lnTo>
                      <a:pt x="61" y="54"/>
                    </a:lnTo>
                    <a:lnTo>
                      <a:pt x="69" y="60"/>
                    </a:lnTo>
                    <a:lnTo>
                      <a:pt x="75" y="66"/>
                    </a:lnTo>
                    <a:lnTo>
                      <a:pt x="84" y="72"/>
                    </a:lnTo>
                    <a:lnTo>
                      <a:pt x="78" y="79"/>
                    </a:lnTo>
                    <a:lnTo>
                      <a:pt x="73" y="81"/>
                    </a:lnTo>
                    <a:lnTo>
                      <a:pt x="74" y="85"/>
                    </a:lnTo>
                    <a:lnTo>
                      <a:pt x="65" y="85"/>
                    </a:lnTo>
                    <a:lnTo>
                      <a:pt x="62" y="82"/>
                    </a:lnTo>
                    <a:lnTo>
                      <a:pt x="55" y="74"/>
                    </a:lnTo>
                    <a:lnTo>
                      <a:pt x="50" y="67"/>
                    </a:lnTo>
                    <a:lnTo>
                      <a:pt x="42" y="55"/>
                    </a:lnTo>
                    <a:lnTo>
                      <a:pt x="33" y="46"/>
                    </a:lnTo>
                    <a:lnTo>
                      <a:pt x="23" y="33"/>
                    </a:lnTo>
                    <a:lnTo>
                      <a:pt x="17" y="29"/>
                    </a:lnTo>
                    <a:lnTo>
                      <a:pt x="12" y="26"/>
                    </a:lnTo>
                    <a:lnTo>
                      <a:pt x="10" y="19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1260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00400" y="3924360"/>
                <a:ext cx="1844640" cy="2101320"/>
              </a:xfrm>
              <a:custGeom>
                <a:avLst/>
                <a:gdLst/>
                <a:ahLst/>
                <a:rect l="l" t="t" r="r" b="b"/>
                <a:pathLst>
                  <a:path w="613" h="646">
                    <a:moveTo>
                      <a:pt x="459" y="77"/>
                    </a:moveTo>
                    <a:lnTo>
                      <a:pt x="469" y="104"/>
                    </a:lnTo>
                    <a:lnTo>
                      <a:pt x="488" y="145"/>
                    </a:lnTo>
                    <a:lnTo>
                      <a:pt x="526" y="211"/>
                    </a:lnTo>
                    <a:lnTo>
                      <a:pt x="540" y="220"/>
                    </a:lnTo>
                    <a:lnTo>
                      <a:pt x="549" y="239"/>
                    </a:lnTo>
                    <a:lnTo>
                      <a:pt x="579" y="238"/>
                    </a:lnTo>
                    <a:lnTo>
                      <a:pt x="599" y="232"/>
                    </a:lnTo>
                    <a:lnTo>
                      <a:pt x="613" y="232"/>
                    </a:lnTo>
                    <a:lnTo>
                      <a:pt x="612" y="258"/>
                    </a:lnTo>
                    <a:lnTo>
                      <a:pt x="607" y="272"/>
                    </a:lnTo>
                    <a:lnTo>
                      <a:pt x="552" y="330"/>
                    </a:lnTo>
                    <a:lnTo>
                      <a:pt x="502" y="390"/>
                    </a:lnTo>
                    <a:lnTo>
                      <a:pt x="503" y="413"/>
                    </a:lnTo>
                    <a:lnTo>
                      <a:pt x="517" y="430"/>
                    </a:lnTo>
                    <a:lnTo>
                      <a:pt x="510" y="443"/>
                    </a:lnTo>
                    <a:lnTo>
                      <a:pt x="514" y="461"/>
                    </a:lnTo>
                    <a:lnTo>
                      <a:pt x="510" y="474"/>
                    </a:lnTo>
                    <a:lnTo>
                      <a:pt x="498" y="485"/>
                    </a:lnTo>
                    <a:lnTo>
                      <a:pt x="488" y="485"/>
                    </a:lnTo>
                    <a:lnTo>
                      <a:pt x="471" y="504"/>
                    </a:lnTo>
                    <a:lnTo>
                      <a:pt x="456" y="526"/>
                    </a:lnTo>
                    <a:lnTo>
                      <a:pt x="459" y="550"/>
                    </a:lnTo>
                    <a:lnTo>
                      <a:pt x="444" y="561"/>
                    </a:lnTo>
                    <a:lnTo>
                      <a:pt x="430" y="586"/>
                    </a:lnTo>
                    <a:lnTo>
                      <a:pt x="413" y="609"/>
                    </a:lnTo>
                    <a:lnTo>
                      <a:pt x="404" y="618"/>
                    </a:lnTo>
                    <a:lnTo>
                      <a:pt x="396" y="620"/>
                    </a:lnTo>
                    <a:lnTo>
                      <a:pt x="382" y="635"/>
                    </a:lnTo>
                    <a:lnTo>
                      <a:pt x="359" y="644"/>
                    </a:lnTo>
                    <a:lnTo>
                      <a:pt x="330" y="646"/>
                    </a:lnTo>
                    <a:lnTo>
                      <a:pt x="314" y="636"/>
                    </a:lnTo>
                    <a:lnTo>
                      <a:pt x="312" y="626"/>
                    </a:lnTo>
                    <a:lnTo>
                      <a:pt x="309" y="613"/>
                    </a:lnTo>
                    <a:lnTo>
                      <a:pt x="298" y="606"/>
                    </a:lnTo>
                    <a:lnTo>
                      <a:pt x="289" y="581"/>
                    </a:lnTo>
                    <a:lnTo>
                      <a:pt x="286" y="569"/>
                    </a:lnTo>
                    <a:lnTo>
                      <a:pt x="285" y="554"/>
                    </a:lnTo>
                    <a:lnTo>
                      <a:pt x="280" y="543"/>
                    </a:lnTo>
                    <a:lnTo>
                      <a:pt x="279" y="536"/>
                    </a:lnTo>
                    <a:lnTo>
                      <a:pt x="270" y="525"/>
                    </a:lnTo>
                    <a:lnTo>
                      <a:pt x="260" y="516"/>
                    </a:lnTo>
                    <a:lnTo>
                      <a:pt x="253" y="501"/>
                    </a:lnTo>
                    <a:lnTo>
                      <a:pt x="248" y="490"/>
                    </a:lnTo>
                    <a:lnTo>
                      <a:pt x="250" y="472"/>
                    </a:lnTo>
                    <a:lnTo>
                      <a:pt x="265" y="445"/>
                    </a:lnTo>
                    <a:lnTo>
                      <a:pt x="268" y="416"/>
                    </a:lnTo>
                    <a:lnTo>
                      <a:pt x="257" y="383"/>
                    </a:lnTo>
                    <a:lnTo>
                      <a:pt x="241" y="370"/>
                    </a:lnTo>
                    <a:lnTo>
                      <a:pt x="230" y="352"/>
                    </a:lnTo>
                    <a:lnTo>
                      <a:pt x="234" y="324"/>
                    </a:lnTo>
                    <a:lnTo>
                      <a:pt x="226" y="303"/>
                    </a:lnTo>
                    <a:lnTo>
                      <a:pt x="207" y="301"/>
                    </a:lnTo>
                    <a:lnTo>
                      <a:pt x="187" y="285"/>
                    </a:lnTo>
                    <a:lnTo>
                      <a:pt x="162" y="276"/>
                    </a:lnTo>
                    <a:lnTo>
                      <a:pt x="134" y="290"/>
                    </a:lnTo>
                    <a:lnTo>
                      <a:pt x="66" y="286"/>
                    </a:lnTo>
                    <a:lnTo>
                      <a:pt x="29" y="251"/>
                    </a:lnTo>
                    <a:lnTo>
                      <a:pt x="0" y="203"/>
                    </a:lnTo>
                    <a:lnTo>
                      <a:pt x="5" y="187"/>
                    </a:lnTo>
                    <a:lnTo>
                      <a:pt x="18" y="175"/>
                    </a:lnTo>
                    <a:lnTo>
                      <a:pt x="24" y="142"/>
                    </a:lnTo>
                    <a:lnTo>
                      <a:pt x="33" y="118"/>
                    </a:lnTo>
                    <a:lnTo>
                      <a:pt x="59" y="93"/>
                    </a:lnTo>
                    <a:lnTo>
                      <a:pt x="86" y="82"/>
                    </a:lnTo>
                    <a:lnTo>
                      <a:pt x="111" y="56"/>
                    </a:lnTo>
                    <a:lnTo>
                      <a:pt x="117" y="45"/>
                    </a:lnTo>
                    <a:lnTo>
                      <a:pt x="152" y="17"/>
                    </a:lnTo>
                    <a:lnTo>
                      <a:pt x="173" y="28"/>
                    </a:lnTo>
                    <a:lnTo>
                      <a:pt x="188" y="27"/>
                    </a:lnTo>
                    <a:lnTo>
                      <a:pt x="206" y="12"/>
                    </a:lnTo>
                    <a:lnTo>
                      <a:pt x="227" y="10"/>
                    </a:lnTo>
                    <a:lnTo>
                      <a:pt x="241" y="14"/>
                    </a:lnTo>
                    <a:lnTo>
                      <a:pt x="254" y="2"/>
                    </a:lnTo>
                    <a:lnTo>
                      <a:pt x="271" y="0"/>
                    </a:lnTo>
                    <a:lnTo>
                      <a:pt x="275" y="22"/>
                    </a:lnTo>
                    <a:lnTo>
                      <a:pt x="286" y="38"/>
                    </a:lnTo>
                    <a:lnTo>
                      <a:pt x="317" y="54"/>
                    </a:lnTo>
                    <a:lnTo>
                      <a:pt x="343" y="57"/>
                    </a:lnTo>
                    <a:lnTo>
                      <a:pt x="346" y="39"/>
                    </a:lnTo>
                    <a:lnTo>
                      <a:pt x="366" y="39"/>
                    </a:lnTo>
                    <a:lnTo>
                      <a:pt x="390" y="50"/>
                    </a:lnTo>
                    <a:lnTo>
                      <a:pt x="416" y="56"/>
                    </a:lnTo>
                    <a:lnTo>
                      <a:pt x="439" y="49"/>
                    </a:lnTo>
                    <a:lnTo>
                      <a:pt x="459" y="77"/>
                    </a:lnTo>
                    <a:close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1260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3326400" y="2784600"/>
                <a:ext cx="813960" cy="721800"/>
                <a:chOff x="3326400" y="2784600"/>
                <a:chExt cx="813960" cy="721800"/>
              </a:xfrm>
            </p:grpSpPr>
            <p:grpSp>
              <p:nvGrpSpPr>
                <p:cNvPr id="135" name=""/>
                <p:cNvGrpSpPr/>
                <p:nvPr/>
              </p:nvGrpSpPr>
              <p:grpSpPr>
                <a:xfrm>
                  <a:off x="3656160" y="3237480"/>
                  <a:ext cx="246960" cy="268920"/>
                  <a:chOff x="3656160" y="3237480"/>
                  <a:chExt cx="246960" cy="26892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3656160" y="3337920"/>
                    <a:ext cx="1159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6">
                        <a:moveTo>
                          <a:pt x="9" y="14"/>
                        </a:moveTo>
                        <a:lnTo>
                          <a:pt x="12" y="9"/>
                        </a:lnTo>
                        <a:lnTo>
                          <a:pt x="19" y="9"/>
                        </a:lnTo>
                        <a:lnTo>
                          <a:pt x="29" y="0"/>
                        </a:lnTo>
                        <a:lnTo>
                          <a:pt x="32" y="6"/>
                        </a:lnTo>
                        <a:lnTo>
                          <a:pt x="37" y="6"/>
                        </a:lnTo>
                        <a:lnTo>
                          <a:pt x="39" y="9"/>
                        </a:lnTo>
                        <a:lnTo>
                          <a:pt x="36" y="14"/>
                        </a:lnTo>
                        <a:lnTo>
                          <a:pt x="32" y="16"/>
                        </a:lnTo>
                        <a:lnTo>
                          <a:pt x="32" y="20"/>
                        </a:lnTo>
                        <a:lnTo>
                          <a:pt x="31" y="22"/>
                        </a:lnTo>
                        <a:lnTo>
                          <a:pt x="30" y="25"/>
                        </a:lnTo>
                        <a:lnTo>
                          <a:pt x="32" y="29"/>
                        </a:lnTo>
                        <a:lnTo>
                          <a:pt x="29" y="33"/>
                        </a:lnTo>
                        <a:lnTo>
                          <a:pt x="26" y="35"/>
                        </a:lnTo>
                        <a:lnTo>
                          <a:pt x="23" y="35"/>
                        </a:lnTo>
                        <a:lnTo>
                          <a:pt x="22" y="36"/>
                        </a:lnTo>
                        <a:lnTo>
                          <a:pt x="21" y="39"/>
                        </a:lnTo>
                        <a:lnTo>
                          <a:pt x="16" y="40"/>
                        </a:lnTo>
                        <a:lnTo>
                          <a:pt x="15" y="39"/>
                        </a:lnTo>
                        <a:lnTo>
                          <a:pt x="11" y="42"/>
                        </a:lnTo>
                        <a:lnTo>
                          <a:pt x="10" y="43"/>
                        </a:lnTo>
                        <a:lnTo>
                          <a:pt x="5" y="46"/>
                        </a:lnTo>
                        <a:lnTo>
                          <a:pt x="3" y="46"/>
                        </a:lnTo>
                        <a:lnTo>
                          <a:pt x="2" y="44"/>
                        </a:lnTo>
                        <a:lnTo>
                          <a:pt x="1" y="39"/>
                        </a:lnTo>
                        <a:lnTo>
                          <a:pt x="0" y="38"/>
                        </a:lnTo>
                        <a:lnTo>
                          <a:pt x="0" y="34"/>
                        </a:lnTo>
                        <a:lnTo>
                          <a:pt x="3" y="32"/>
                        </a:lnTo>
                        <a:lnTo>
                          <a:pt x="6" y="30"/>
                        </a:lnTo>
                        <a:lnTo>
                          <a:pt x="8" y="26"/>
                        </a:lnTo>
                        <a:lnTo>
                          <a:pt x="11" y="26"/>
                        </a:lnTo>
                        <a:lnTo>
                          <a:pt x="13" y="27"/>
                        </a:lnTo>
                        <a:lnTo>
                          <a:pt x="16" y="26"/>
                        </a:lnTo>
                        <a:lnTo>
                          <a:pt x="13" y="25"/>
                        </a:lnTo>
                        <a:lnTo>
                          <a:pt x="9" y="14"/>
                        </a:lnTo>
                        <a:close/>
                      </a:path>
                    </a:pathLst>
                  </a:custGeom>
                  <a:blipFill rotWithShape="0">
                    <a:blip r:embed="rId21"/>
                    <a:srcRect/>
                    <a:tile tx="0" ty="0" sx="100000" sy="100000" algn="ctr"/>
                  </a:blipFill>
                  <a:ln w="1260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3763440" y="3237480"/>
                    <a:ext cx="139680" cy="268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83">
                        <a:moveTo>
                          <a:pt x="15" y="12"/>
                        </a:moveTo>
                        <a:lnTo>
                          <a:pt x="18" y="9"/>
                        </a:lnTo>
                        <a:lnTo>
                          <a:pt x="27" y="10"/>
                        </a:lnTo>
                        <a:lnTo>
                          <a:pt x="29" y="8"/>
                        </a:lnTo>
                        <a:lnTo>
                          <a:pt x="31" y="5"/>
                        </a:lnTo>
                        <a:lnTo>
                          <a:pt x="33" y="5"/>
                        </a:lnTo>
                        <a:lnTo>
                          <a:pt x="35" y="4"/>
                        </a:lnTo>
                        <a:lnTo>
                          <a:pt x="38" y="2"/>
                        </a:lnTo>
                        <a:lnTo>
                          <a:pt x="42" y="0"/>
                        </a:lnTo>
                        <a:lnTo>
                          <a:pt x="47" y="1"/>
                        </a:lnTo>
                        <a:lnTo>
                          <a:pt x="46" y="5"/>
                        </a:lnTo>
                        <a:lnTo>
                          <a:pt x="44" y="8"/>
                        </a:lnTo>
                        <a:lnTo>
                          <a:pt x="42" y="9"/>
                        </a:lnTo>
                        <a:lnTo>
                          <a:pt x="40" y="10"/>
                        </a:lnTo>
                        <a:lnTo>
                          <a:pt x="34" y="12"/>
                        </a:lnTo>
                        <a:lnTo>
                          <a:pt x="34" y="16"/>
                        </a:lnTo>
                        <a:lnTo>
                          <a:pt x="35" y="18"/>
                        </a:lnTo>
                        <a:lnTo>
                          <a:pt x="41" y="16"/>
                        </a:lnTo>
                        <a:lnTo>
                          <a:pt x="46" y="14"/>
                        </a:lnTo>
                        <a:lnTo>
                          <a:pt x="47" y="16"/>
                        </a:lnTo>
                        <a:lnTo>
                          <a:pt x="47" y="22"/>
                        </a:lnTo>
                        <a:lnTo>
                          <a:pt x="43" y="23"/>
                        </a:lnTo>
                        <a:lnTo>
                          <a:pt x="39" y="23"/>
                        </a:lnTo>
                        <a:lnTo>
                          <a:pt x="36" y="26"/>
                        </a:lnTo>
                        <a:lnTo>
                          <a:pt x="35" y="28"/>
                        </a:lnTo>
                        <a:lnTo>
                          <a:pt x="35" y="31"/>
                        </a:lnTo>
                        <a:lnTo>
                          <a:pt x="38" y="35"/>
                        </a:lnTo>
                        <a:lnTo>
                          <a:pt x="41" y="38"/>
                        </a:lnTo>
                        <a:lnTo>
                          <a:pt x="43" y="41"/>
                        </a:lnTo>
                        <a:lnTo>
                          <a:pt x="44" y="45"/>
                        </a:lnTo>
                        <a:lnTo>
                          <a:pt x="45" y="49"/>
                        </a:lnTo>
                        <a:lnTo>
                          <a:pt x="47" y="54"/>
                        </a:lnTo>
                        <a:lnTo>
                          <a:pt x="47" y="61"/>
                        </a:lnTo>
                        <a:lnTo>
                          <a:pt x="45" y="65"/>
                        </a:lnTo>
                        <a:lnTo>
                          <a:pt x="41" y="68"/>
                        </a:lnTo>
                        <a:lnTo>
                          <a:pt x="40" y="70"/>
                        </a:lnTo>
                        <a:lnTo>
                          <a:pt x="42" y="74"/>
                        </a:lnTo>
                        <a:lnTo>
                          <a:pt x="44" y="78"/>
                        </a:lnTo>
                        <a:lnTo>
                          <a:pt x="38" y="78"/>
                        </a:lnTo>
                        <a:lnTo>
                          <a:pt x="33" y="78"/>
                        </a:lnTo>
                        <a:lnTo>
                          <a:pt x="31" y="77"/>
                        </a:lnTo>
                        <a:lnTo>
                          <a:pt x="27" y="77"/>
                        </a:lnTo>
                        <a:lnTo>
                          <a:pt x="22" y="78"/>
                        </a:lnTo>
                        <a:lnTo>
                          <a:pt x="18" y="80"/>
                        </a:lnTo>
                        <a:lnTo>
                          <a:pt x="15" y="80"/>
                        </a:lnTo>
                        <a:lnTo>
                          <a:pt x="13" y="81"/>
                        </a:lnTo>
                        <a:lnTo>
                          <a:pt x="8" y="83"/>
                        </a:lnTo>
                        <a:lnTo>
                          <a:pt x="7" y="82"/>
                        </a:lnTo>
                        <a:lnTo>
                          <a:pt x="5" y="80"/>
                        </a:lnTo>
                        <a:lnTo>
                          <a:pt x="2" y="79"/>
                        </a:lnTo>
                        <a:lnTo>
                          <a:pt x="0" y="78"/>
                        </a:lnTo>
                        <a:lnTo>
                          <a:pt x="0" y="74"/>
                        </a:lnTo>
                        <a:lnTo>
                          <a:pt x="2" y="69"/>
                        </a:lnTo>
                        <a:lnTo>
                          <a:pt x="5" y="69"/>
                        </a:lnTo>
                        <a:lnTo>
                          <a:pt x="8" y="68"/>
                        </a:lnTo>
                        <a:lnTo>
                          <a:pt x="12" y="68"/>
                        </a:lnTo>
                        <a:lnTo>
                          <a:pt x="12" y="67"/>
                        </a:lnTo>
                        <a:lnTo>
                          <a:pt x="8" y="65"/>
                        </a:lnTo>
                        <a:lnTo>
                          <a:pt x="8" y="62"/>
                        </a:lnTo>
                        <a:lnTo>
                          <a:pt x="8" y="60"/>
                        </a:lnTo>
                        <a:lnTo>
                          <a:pt x="12" y="58"/>
                        </a:lnTo>
                        <a:lnTo>
                          <a:pt x="14" y="57"/>
                        </a:lnTo>
                        <a:lnTo>
                          <a:pt x="16" y="56"/>
                        </a:lnTo>
                        <a:lnTo>
                          <a:pt x="19" y="56"/>
                        </a:lnTo>
                        <a:lnTo>
                          <a:pt x="21" y="55"/>
                        </a:lnTo>
                        <a:lnTo>
                          <a:pt x="22" y="47"/>
                        </a:lnTo>
                        <a:lnTo>
                          <a:pt x="25" y="41"/>
                        </a:lnTo>
                        <a:lnTo>
                          <a:pt x="25" y="38"/>
                        </a:lnTo>
                        <a:lnTo>
                          <a:pt x="18" y="37"/>
                        </a:lnTo>
                        <a:lnTo>
                          <a:pt x="20" y="32"/>
                        </a:lnTo>
                        <a:lnTo>
                          <a:pt x="15" y="29"/>
                        </a:lnTo>
                        <a:lnTo>
                          <a:pt x="10" y="30"/>
                        </a:lnTo>
                        <a:lnTo>
                          <a:pt x="16" y="23"/>
                        </a:lnTo>
                        <a:lnTo>
                          <a:pt x="15" y="12"/>
                        </a:lnTo>
                        <a:close/>
                      </a:path>
                    </a:pathLst>
                  </a:custGeom>
                  <a:blipFill rotWithShape="0">
                    <a:blip r:embed="rId22"/>
                    <a:srcRect/>
                    <a:tile tx="0" ty="0" sx="100000" sy="100000" algn="ctr"/>
                  </a:blipFill>
                  <a:ln w="12600">
                    <a:solidFill>
                      <a:srgbClr val="99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"/>
                <p:cNvSpPr/>
                <p:nvPr/>
              </p:nvSpPr>
              <p:spPr>
                <a:xfrm>
                  <a:off x="3326400" y="2784600"/>
                  <a:ext cx="813960" cy="454680"/>
                </a:xfrm>
                <a:custGeom>
                  <a:avLst/>
                  <a:gdLst/>
                  <a:ahLst/>
                  <a:rect l="l" t="t" r="r" b="b"/>
                  <a:pathLst>
                    <a:path w="272" h="140">
                      <a:moveTo>
                        <a:pt x="0" y="140"/>
                      </a:moveTo>
                      <a:lnTo>
                        <a:pt x="17" y="137"/>
                      </a:lnTo>
                      <a:lnTo>
                        <a:pt x="23" y="131"/>
                      </a:lnTo>
                      <a:lnTo>
                        <a:pt x="27" y="127"/>
                      </a:lnTo>
                      <a:lnTo>
                        <a:pt x="29" y="124"/>
                      </a:lnTo>
                      <a:lnTo>
                        <a:pt x="33" y="124"/>
                      </a:lnTo>
                      <a:lnTo>
                        <a:pt x="37" y="121"/>
                      </a:lnTo>
                      <a:lnTo>
                        <a:pt x="42" y="121"/>
                      </a:lnTo>
                      <a:lnTo>
                        <a:pt x="45" y="121"/>
                      </a:lnTo>
                      <a:lnTo>
                        <a:pt x="49" y="121"/>
                      </a:lnTo>
                      <a:lnTo>
                        <a:pt x="51" y="121"/>
                      </a:lnTo>
                      <a:lnTo>
                        <a:pt x="55" y="117"/>
                      </a:lnTo>
                      <a:lnTo>
                        <a:pt x="57" y="114"/>
                      </a:lnTo>
                      <a:lnTo>
                        <a:pt x="62" y="111"/>
                      </a:lnTo>
                      <a:lnTo>
                        <a:pt x="66" y="110"/>
                      </a:lnTo>
                      <a:lnTo>
                        <a:pt x="69" y="108"/>
                      </a:lnTo>
                      <a:lnTo>
                        <a:pt x="73" y="107"/>
                      </a:lnTo>
                      <a:lnTo>
                        <a:pt x="76" y="105"/>
                      </a:lnTo>
                      <a:lnTo>
                        <a:pt x="80" y="103"/>
                      </a:lnTo>
                      <a:lnTo>
                        <a:pt x="84" y="101"/>
                      </a:lnTo>
                      <a:lnTo>
                        <a:pt x="89" y="98"/>
                      </a:lnTo>
                      <a:lnTo>
                        <a:pt x="94" y="99"/>
                      </a:lnTo>
                      <a:lnTo>
                        <a:pt x="104" y="101"/>
                      </a:lnTo>
                      <a:lnTo>
                        <a:pt x="112" y="101"/>
                      </a:lnTo>
                      <a:lnTo>
                        <a:pt x="121" y="98"/>
                      </a:lnTo>
                      <a:lnTo>
                        <a:pt x="125" y="97"/>
                      </a:lnTo>
                      <a:lnTo>
                        <a:pt x="128" y="91"/>
                      </a:lnTo>
                      <a:lnTo>
                        <a:pt x="132" y="87"/>
                      </a:lnTo>
                      <a:lnTo>
                        <a:pt x="139" y="82"/>
                      </a:lnTo>
                      <a:lnTo>
                        <a:pt x="141" y="79"/>
                      </a:lnTo>
                      <a:lnTo>
                        <a:pt x="141" y="75"/>
                      </a:lnTo>
                      <a:lnTo>
                        <a:pt x="147" y="72"/>
                      </a:lnTo>
                      <a:lnTo>
                        <a:pt x="150" y="69"/>
                      </a:lnTo>
                      <a:lnTo>
                        <a:pt x="152" y="66"/>
                      </a:lnTo>
                      <a:lnTo>
                        <a:pt x="154" y="65"/>
                      </a:lnTo>
                      <a:lnTo>
                        <a:pt x="164" y="59"/>
                      </a:lnTo>
                      <a:lnTo>
                        <a:pt x="164" y="65"/>
                      </a:lnTo>
                      <a:lnTo>
                        <a:pt x="162" y="68"/>
                      </a:lnTo>
                      <a:lnTo>
                        <a:pt x="164" y="71"/>
                      </a:lnTo>
                      <a:lnTo>
                        <a:pt x="171" y="72"/>
                      </a:lnTo>
                      <a:lnTo>
                        <a:pt x="175" y="72"/>
                      </a:lnTo>
                      <a:lnTo>
                        <a:pt x="179" y="69"/>
                      </a:lnTo>
                      <a:lnTo>
                        <a:pt x="182" y="65"/>
                      </a:lnTo>
                      <a:lnTo>
                        <a:pt x="182" y="62"/>
                      </a:lnTo>
                      <a:lnTo>
                        <a:pt x="185" y="59"/>
                      </a:lnTo>
                      <a:lnTo>
                        <a:pt x="185" y="56"/>
                      </a:lnTo>
                      <a:lnTo>
                        <a:pt x="188" y="52"/>
                      </a:lnTo>
                      <a:lnTo>
                        <a:pt x="190" y="50"/>
                      </a:lnTo>
                      <a:lnTo>
                        <a:pt x="195" y="50"/>
                      </a:lnTo>
                      <a:lnTo>
                        <a:pt x="205" y="50"/>
                      </a:lnTo>
                      <a:lnTo>
                        <a:pt x="213" y="46"/>
                      </a:lnTo>
                      <a:lnTo>
                        <a:pt x="220" y="40"/>
                      </a:lnTo>
                      <a:lnTo>
                        <a:pt x="228" y="38"/>
                      </a:lnTo>
                      <a:lnTo>
                        <a:pt x="235" y="33"/>
                      </a:lnTo>
                      <a:lnTo>
                        <a:pt x="240" y="25"/>
                      </a:lnTo>
                      <a:lnTo>
                        <a:pt x="251" y="16"/>
                      </a:lnTo>
                      <a:lnTo>
                        <a:pt x="258" y="12"/>
                      </a:lnTo>
                      <a:lnTo>
                        <a:pt x="265" y="8"/>
                      </a:lnTo>
                      <a:lnTo>
                        <a:pt x="272" y="3"/>
                      </a:lnTo>
                      <a:lnTo>
                        <a:pt x="260" y="0"/>
                      </a:lnTo>
                      <a:lnTo>
                        <a:pt x="248" y="0"/>
                      </a:lnTo>
                      <a:lnTo>
                        <a:pt x="236" y="5"/>
                      </a:lnTo>
                      <a:lnTo>
                        <a:pt x="230" y="8"/>
                      </a:lnTo>
                      <a:lnTo>
                        <a:pt x="220" y="10"/>
                      </a:lnTo>
                      <a:lnTo>
                        <a:pt x="209" y="11"/>
                      </a:lnTo>
                      <a:lnTo>
                        <a:pt x="203" y="13"/>
                      </a:lnTo>
                      <a:lnTo>
                        <a:pt x="190" y="18"/>
                      </a:lnTo>
                      <a:lnTo>
                        <a:pt x="182" y="21"/>
                      </a:lnTo>
                      <a:lnTo>
                        <a:pt x="174" y="24"/>
                      </a:lnTo>
                      <a:lnTo>
                        <a:pt x="164" y="26"/>
                      </a:lnTo>
                      <a:lnTo>
                        <a:pt x="154" y="29"/>
                      </a:lnTo>
                      <a:lnTo>
                        <a:pt x="145" y="33"/>
                      </a:lnTo>
                      <a:lnTo>
                        <a:pt x="138" y="38"/>
                      </a:lnTo>
                      <a:lnTo>
                        <a:pt x="132" y="43"/>
                      </a:lnTo>
                      <a:lnTo>
                        <a:pt x="126" y="47"/>
                      </a:lnTo>
                      <a:lnTo>
                        <a:pt x="121" y="50"/>
                      </a:lnTo>
                      <a:lnTo>
                        <a:pt x="110" y="56"/>
                      </a:lnTo>
                      <a:lnTo>
                        <a:pt x="97" y="62"/>
                      </a:lnTo>
                      <a:lnTo>
                        <a:pt x="84" y="69"/>
                      </a:lnTo>
                      <a:lnTo>
                        <a:pt x="75" y="78"/>
                      </a:lnTo>
                      <a:lnTo>
                        <a:pt x="65" y="85"/>
                      </a:lnTo>
                      <a:lnTo>
                        <a:pt x="56" y="89"/>
                      </a:lnTo>
                      <a:lnTo>
                        <a:pt x="47" y="98"/>
                      </a:lnTo>
                      <a:lnTo>
                        <a:pt x="41" y="104"/>
                      </a:lnTo>
                      <a:lnTo>
                        <a:pt x="33" y="110"/>
                      </a:lnTo>
                      <a:lnTo>
                        <a:pt x="25" y="114"/>
                      </a:lnTo>
                      <a:lnTo>
                        <a:pt x="17" y="118"/>
                      </a:lnTo>
                      <a:lnTo>
                        <a:pt x="0" y="140"/>
                      </a:lnTo>
                      <a:close/>
                    </a:path>
                  </a:pathLst>
                </a:custGeom>
                <a:blipFill rotWithShape="0">
                  <a:blip r:embed="rId23"/>
                  <a:srcRect/>
                  <a:tile tx="0" ty="0" sx="100000" sy="100000" algn="ctr"/>
                </a:blipFill>
                <a:ln w="1260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>
                <a:off x="4775760" y="5361840"/>
                <a:ext cx="238680" cy="442080"/>
              </a:xfrm>
              <a:custGeom>
                <a:avLst/>
                <a:gdLst/>
                <a:ahLst/>
                <a:rect l="l" t="t" r="r" b="b"/>
                <a:pathLst>
                  <a:path w="80" h="136">
                    <a:moveTo>
                      <a:pt x="15" y="43"/>
                    </a:moveTo>
                    <a:lnTo>
                      <a:pt x="13" y="70"/>
                    </a:lnTo>
                    <a:lnTo>
                      <a:pt x="6" y="87"/>
                    </a:lnTo>
                    <a:lnTo>
                      <a:pt x="0" y="103"/>
                    </a:lnTo>
                    <a:lnTo>
                      <a:pt x="0" y="115"/>
                    </a:lnTo>
                    <a:lnTo>
                      <a:pt x="2" y="125"/>
                    </a:lnTo>
                    <a:lnTo>
                      <a:pt x="9" y="134"/>
                    </a:lnTo>
                    <a:lnTo>
                      <a:pt x="15" y="135"/>
                    </a:lnTo>
                    <a:lnTo>
                      <a:pt x="20" y="135"/>
                    </a:lnTo>
                    <a:lnTo>
                      <a:pt x="26" y="136"/>
                    </a:lnTo>
                    <a:lnTo>
                      <a:pt x="29" y="129"/>
                    </a:lnTo>
                    <a:lnTo>
                      <a:pt x="32" y="111"/>
                    </a:lnTo>
                    <a:lnTo>
                      <a:pt x="41" y="99"/>
                    </a:lnTo>
                    <a:lnTo>
                      <a:pt x="43" y="81"/>
                    </a:lnTo>
                    <a:lnTo>
                      <a:pt x="47" y="74"/>
                    </a:lnTo>
                    <a:lnTo>
                      <a:pt x="51" y="69"/>
                    </a:lnTo>
                    <a:lnTo>
                      <a:pt x="54" y="56"/>
                    </a:lnTo>
                    <a:lnTo>
                      <a:pt x="60" y="48"/>
                    </a:lnTo>
                    <a:lnTo>
                      <a:pt x="64" y="42"/>
                    </a:lnTo>
                    <a:lnTo>
                      <a:pt x="68" y="37"/>
                    </a:lnTo>
                    <a:lnTo>
                      <a:pt x="68" y="34"/>
                    </a:lnTo>
                    <a:lnTo>
                      <a:pt x="77" y="27"/>
                    </a:lnTo>
                    <a:lnTo>
                      <a:pt x="78" y="15"/>
                    </a:lnTo>
                    <a:lnTo>
                      <a:pt x="80" y="8"/>
                    </a:lnTo>
                    <a:lnTo>
                      <a:pt x="72" y="5"/>
                    </a:lnTo>
                    <a:lnTo>
                      <a:pt x="67" y="0"/>
                    </a:lnTo>
                    <a:lnTo>
                      <a:pt x="60" y="5"/>
                    </a:lnTo>
                    <a:lnTo>
                      <a:pt x="54" y="17"/>
                    </a:lnTo>
                    <a:lnTo>
                      <a:pt x="47" y="26"/>
                    </a:lnTo>
                    <a:lnTo>
                      <a:pt x="41" y="33"/>
                    </a:lnTo>
                    <a:lnTo>
                      <a:pt x="38" y="33"/>
                    </a:lnTo>
                    <a:lnTo>
                      <a:pt x="32" y="37"/>
                    </a:lnTo>
                    <a:lnTo>
                      <a:pt x="29" y="41"/>
                    </a:lnTo>
                    <a:lnTo>
                      <a:pt x="15" y="43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1260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5942160" y="3976920"/>
                <a:ext cx="565560" cy="738360"/>
                <a:chOff x="5942160" y="3976920"/>
                <a:chExt cx="565560" cy="7383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047640" y="3976920"/>
                  <a:ext cx="148320" cy="184680"/>
                </a:xfrm>
                <a:custGeom>
                  <a:avLst/>
                  <a:gdLst/>
                  <a:ahLst/>
                  <a:rect l="l" t="t" r="r" b="b"/>
                  <a:pathLst>
                    <a:path w="777" h="834">
                      <a:moveTo>
                        <a:pt x="769" y="834"/>
                      </a:moveTo>
                      <a:lnTo>
                        <a:pt x="769" y="833"/>
                      </a:lnTo>
                      <a:lnTo>
                        <a:pt x="773" y="829"/>
                      </a:lnTo>
                      <a:lnTo>
                        <a:pt x="777" y="827"/>
                      </a:lnTo>
                      <a:lnTo>
                        <a:pt x="777" y="823"/>
                      </a:lnTo>
                      <a:lnTo>
                        <a:pt x="777" y="821"/>
                      </a:lnTo>
                      <a:lnTo>
                        <a:pt x="773" y="817"/>
                      </a:lnTo>
                      <a:lnTo>
                        <a:pt x="767" y="813"/>
                      </a:lnTo>
                      <a:lnTo>
                        <a:pt x="760" y="810"/>
                      </a:lnTo>
                      <a:lnTo>
                        <a:pt x="752" y="806"/>
                      </a:lnTo>
                      <a:lnTo>
                        <a:pt x="744" y="804"/>
                      </a:lnTo>
                      <a:lnTo>
                        <a:pt x="740" y="804"/>
                      </a:lnTo>
                      <a:lnTo>
                        <a:pt x="737" y="802"/>
                      </a:lnTo>
                      <a:lnTo>
                        <a:pt x="733" y="800"/>
                      </a:lnTo>
                      <a:lnTo>
                        <a:pt x="727" y="798"/>
                      </a:lnTo>
                      <a:lnTo>
                        <a:pt x="721" y="794"/>
                      </a:lnTo>
                      <a:lnTo>
                        <a:pt x="715" y="792"/>
                      </a:lnTo>
                      <a:lnTo>
                        <a:pt x="712" y="790"/>
                      </a:lnTo>
                      <a:lnTo>
                        <a:pt x="706" y="788"/>
                      </a:lnTo>
                      <a:lnTo>
                        <a:pt x="702" y="788"/>
                      </a:lnTo>
                      <a:lnTo>
                        <a:pt x="702" y="787"/>
                      </a:lnTo>
                      <a:lnTo>
                        <a:pt x="704" y="785"/>
                      </a:lnTo>
                      <a:lnTo>
                        <a:pt x="704" y="781"/>
                      </a:lnTo>
                      <a:lnTo>
                        <a:pt x="704" y="779"/>
                      </a:lnTo>
                      <a:lnTo>
                        <a:pt x="706" y="777"/>
                      </a:lnTo>
                      <a:lnTo>
                        <a:pt x="706" y="775"/>
                      </a:lnTo>
                      <a:lnTo>
                        <a:pt x="706" y="773"/>
                      </a:lnTo>
                      <a:lnTo>
                        <a:pt x="706" y="771"/>
                      </a:lnTo>
                      <a:lnTo>
                        <a:pt x="704" y="767"/>
                      </a:lnTo>
                      <a:lnTo>
                        <a:pt x="700" y="765"/>
                      </a:lnTo>
                      <a:lnTo>
                        <a:pt x="694" y="762"/>
                      </a:lnTo>
                      <a:lnTo>
                        <a:pt x="689" y="758"/>
                      </a:lnTo>
                      <a:lnTo>
                        <a:pt x="685" y="756"/>
                      </a:lnTo>
                      <a:lnTo>
                        <a:pt x="679" y="752"/>
                      </a:lnTo>
                      <a:lnTo>
                        <a:pt x="673" y="750"/>
                      </a:lnTo>
                      <a:lnTo>
                        <a:pt x="669" y="746"/>
                      </a:lnTo>
                      <a:lnTo>
                        <a:pt x="666" y="746"/>
                      </a:lnTo>
                      <a:lnTo>
                        <a:pt x="662" y="744"/>
                      </a:lnTo>
                      <a:lnTo>
                        <a:pt x="656" y="744"/>
                      </a:lnTo>
                      <a:lnTo>
                        <a:pt x="650" y="744"/>
                      </a:lnTo>
                      <a:lnTo>
                        <a:pt x="646" y="744"/>
                      </a:lnTo>
                      <a:lnTo>
                        <a:pt x="641" y="744"/>
                      </a:lnTo>
                      <a:lnTo>
                        <a:pt x="637" y="744"/>
                      </a:lnTo>
                      <a:lnTo>
                        <a:pt x="633" y="742"/>
                      </a:lnTo>
                      <a:lnTo>
                        <a:pt x="629" y="740"/>
                      </a:lnTo>
                      <a:lnTo>
                        <a:pt x="627" y="739"/>
                      </a:lnTo>
                      <a:lnTo>
                        <a:pt x="623" y="737"/>
                      </a:lnTo>
                      <a:lnTo>
                        <a:pt x="621" y="733"/>
                      </a:lnTo>
                      <a:lnTo>
                        <a:pt x="618" y="731"/>
                      </a:lnTo>
                      <a:lnTo>
                        <a:pt x="616" y="727"/>
                      </a:lnTo>
                      <a:lnTo>
                        <a:pt x="614" y="725"/>
                      </a:lnTo>
                      <a:lnTo>
                        <a:pt x="612" y="721"/>
                      </a:lnTo>
                      <a:lnTo>
                        <a:pt x="608" y="719"/>
                      </a:lnTo>
                      <a:lnTo>
                        <a:pt x="606" y="716"/>
                      </a:lnTo>
                      <a:lnTo>
                        <a:pt x="602" y="712"/>
                      </a:lnTo>
                      <a:lnTo>
                        <a:pt x="598" y="708"/>
                      </a:lnTo>
                      <a:lnTo>
                        <a:pt x="596" y="702"/>
                      </a:lnTo>
                      <a:lnTo>
                        <a:pt x="593" y="698"/>
                      </a:lnTo>
                      <a:lnTo>
                        <a:pt x="591" y="694"/>
                      </a:lnTo>
                      <a:lnTo>
                        <a:pt x="591" y="693"/>
                      </a:lnTo>
                      <a:lnTo>
                        <a:pt x="587" y="693"/>
                      </a:lnTo>
                      <a:lnTo>
                        <a:pt x="585" y="693"/>
                      </a:lnTo>
                      <a:lnTo>
                        <a:pt x="581" y="693"/>
                      </a:lnTo>
                      <a:lnTo>
                        <a:pt x="577" y="694"/>
                      </a:lnTo>
                      <a:lnTo>
                        <a:pt x="573" y="694"/>
                      </a:lnTo>
                      <a:lnTo>
                        <a:pt x="572" y="696"/>
                      </a:lnTo>
                      <a:lnTo>
                        <a:pt x="570" y="700"/>
                      </a:lnTo>
                      <a:lnTo>
                        <a:pt x="568" y="704"/>
                      </a:lnTo>
                      <a:lnTo>
                        <a:pt x="566" y="702"/>
                      </a:lnTo>
                      <a:lnTo>
                        <a:pt x="564" y="702"/>
                      </a:lnTo>
                      <a:lnTo>
                        <a:pt x="562" y="702"/>
                      </a:lnTo>
                      <a:lnTo>
                        <a:pt x="560" y="702"/>
                      </a:lnTo>
                      <a:lnTo>
                        <a:pt x="560" y="700"/>
                      </a:lnTo>
                      <a:lnTo>
                        <a:pt x="558" y="700"/>
                      </a:lnTo>
                      <a:lnTo>
                        <a:pt x="556" y="698"/>
                      </a:lnTo>
                      <a:lnTo>
                        <a:pt x="556" y="698"/>
                      </a:lnTo>
                      <a:lnTo>
                        <a:pt x="556" y="694"/>
                      </a:lnTo>
                      <a:lnTo>
                        <a:pt x="554" y="691"/>
                      </a:lnTo>
                      <a:lnTo>
                        <a:pt x="554" y="687"/>
                      </a:lnTo>
                      <a:lnTo>
                        <a:pt x="554" y="683"/>
                      </a:lnTo>
                      <a:lnTo>
                        <a:pt x="554" y="679"/>
                      </a:lnTo>
                      <a:lnTo>
                        <a:pt x="554" y="675"/>
                      </a:lnTo>
                      <a:lnTo>
                        <a:pt x="556" y="671"/>
                      </a:lnTo>
                      <a:lnTo>
                        <a:pt x="560" y="668"/>
                      </a:lnTo>
                      <a:lnTo>
                        <a:pt x="558" y="627"/>
                      </a:lnTo>
                      <a:lnTo>
                        <a:pt x="556" y="627"/>
                      </a:lnTo>
                      <a:lnTo>
                        <a:pt x="556" y="627"/>
                      </a:lnTo>
                      <a:lnTo>
                        <a:pt x="556" y="625"/>
                      </a:lnTo>
                      <a:lnTo>
                        <a:pt x="556" y="625"/>
                      </a:lnTo>
                      <a:lnTo>
                        <a:pt x="554" y="623"/>
                      </a:lnTo>
                      <a:lnTo>
                        <a:pt x="554" y="623"/>
                      </a:lnTo>
                      <a:lnTo>
                        <a:pt x="554" y="622"/>
                      </a:lnTo>
                      <a:lnTo>
                        <a:pt x="554" y="622"/>
                      </a:lnTo>
                      <a:lnTo>
                        <a:pt x="554" y="620"/>
                      </a:lnTo>
                      <a:lnTo>
                        <a:pt x="552" y="618"/>
                      </a:lnTo>
                      <a:lnTo>
                        <a:pt x="552" y="616"/>
                      </a:lnTo>
                      <a:lnTo>
                        <a:pt x="550" y="614"/>
                      </a:lnTo>
                      <a:lnTo>
                        <a:pt x="550" y="612"/>
                      </a:lnTo>
                      <a:lnTo>
                        <a:pt x="548" y="610"/>
                      </a:lnTo>
                      <a:lnTo>
                        <a:pt x="548" y="608"/>
                      </a:lnTo>
                      <a:lnTo>
                        <a:pt x="548" y="606"/>
                      </a:lnTo>
                      <a:lnTo>
                        <a:pt x="547" y="606"/>
                      </a:lnTo>
                      <a:lnTo>
                        <a:pt x="547" y="606"/>
                      </a:lnTo>
                      <a:lnTo>
                        <a:pt x="547" y="604"/>
                      </a:lnTo>
                      <a:lnTo>
                        <a:pt x="545" y="604"/>
                      </a:lnTo>
                      <a:lnTo>
                        <a:pt x="545" y="602"/>
                      </a:lnTo>
                      <a:lnTo>
                        <a:pt x="545" y="602"/>
                      </a:lnTo>
                      <a:lnTo>
                        <a:pt x="543" y="600"/>
                      </a:lnTo>
                      <a:lnTo>
                        <a:pt x="543" y="600"/>
                      </a:lnTo>
                      <a:lnTo>
                        <a:pt x="543" y="600"/>
                      </a:lnTo>
                      <a:lnTo>
                        <a:pt x="543" y="600"/>
                      </a:lnTo>
                      <a:lnTo>
                        <a:pt x="543" y="600"/>
                      </a:lnTo>
                      <a:lnTo>
                        <a:pt x="543" y="600"/>
                      </a:lnTo>
                      <a:lnTo>
                        <a:pt x="541" y="600"/>
                      </a:lnTo>
                      <a:lnTo>
                        <a:pt x="541" y="599"/>
                      </a:lnTo>
                      <a:lnTo>
                        <a:pt x="541" y="599"/>
                      </a:lnTo>
                      <a:lnTo>
                        <a:pt x="541" y="599"/>
                      </a:lnTo>
                      <a:lnTo>
                        <a:pt x="541" y="599"/>
                      </a:lnTo>
                      <a:lnTo>
                        <a:pt x="541" y="599"/>
                      </a:lnTo>
                      <a:lnTo>
                        <a:pt x="539" y="597"/>
                      </a:lnTo>
                      <a:lnTo>
                        <a:pt x="539" y="597"/>
                      </a:lnTo>
                      <a:lnTo>
                        <a:pt x="537" y="595"/>
                      </a:lnTo>
                      <a:lnTo>
                        <a:pt x="537" y="595"/>
                      </a:lnTo>
                      <a:lnTo>
                        <a:pt x="535" y="595"/>
                      </a:lnTo>
                      <a:lnTo>
                        <a:pt x="535" y="595"/>
                      </a:lnTo>
                      <a:lnTo>
                        <a:pt x="535" y="591"/>
                      </a:lnTo>
                      <a:lnTo>
                        <a:pt x="533" y="591"/>
                      </a:lnTo>
                      <a:lnTo>
                        <a:pt x="533" y="591"/>
                      </a:lnTo>
                      <a:lnTo>
                        <a:pt x="533" y="589"/>
                      </a:lnTo>
                      <a:lnTo>
                        <a:pt x="531" y="589"/>
                      </a:lnTo>
                      <a:lnTo>
                        <a:pt x="531" y="589"/>
                      </a:lnTo>
                      <a:lnTo>
                        <a:pt x="531" y="585"/>
                      </a:lnTo>
                      <a:lnTo>
                        <a:pt x="531" y="583"/>
                      </a:lnTo>
                      <a:lnTo>
                        <a:pt x="531" y="581"/>
                      </a:lnTo>
                      <a:lnTo>
                        <a:pt x="529" y="577"/>
                      </a:lnTo>
                      <a:lnTo>
                        <a:pt x="529" y="575"/>
                      </a:lnTo>
                      <a:lnTo>
                        <a:pt x="529" y="574"/>
                      </a:lnTo>
                      <a:lnTo>
                        <a:pt x="529" y="572"/>
                      </a:lnTo>
                      <a:lnTo>
                        <a:pt x="529" y="570"/>
                      </a:lnTo>
                      <a:lnTo>
                        <a:pt x="527" y="570"/>
                      </a:lnTo>
                      <a:lnTo>
                        <a:pt x="527" y="570"/>
                      </a:lnTo>
                      <a:lnTo>
                        <a:pt x="525" y="568"/>
                      </a:lnTo>
                      <a:lnTo>
                        <a:pt x="524" y="568"/>
                      </a:lnTo>
                      <a:lnTo>
                        <a:pt x="522" y="566"/>
                      </a:lnTo>
                      <a:lnTo>
                        <a:pt x="522" y="566"/>
                      </a:lnTo>
                      <a:lnTo>
                        <a:pt x="520" y="566"/>
                      </a:lnTo>
                      <a:lnTo>
                        <a:pt x="520" y="562"/>
                      </a:lnTo>
                      <a:lnTo>
                        <a:pt x="520" y="560"/>
                      </a:lnTo>
                      <a:lnTo>
                        <a:pt x="518" y="556"/>
                      </a:lnTo>
                      <a:lnTo>
                        <a:pt x="518" y="552"/>
                      </a:lnTo>
                      <a:lnTo>
                        <a:pt x="516" y="551"/>
                      </a:lnTo>
                      <a:lnTo>
                        <a:pt x="516" y="547"/>
                      </a:lnTo>
                      <a:lnTo>
                        <a:pt x="516" y="543"/>
                      </a:lnTo>
                      <a:lnTo>
                        <a:pt x="516" y="539"/>
                      </a:lnTo>
                      <a:lnTo>
                        <a:pt x="520" y="541"/>
                      </a:lnTo>
                      <a:lnTo>
                        <a:pt x="522" y="543"/>
                      </a:lnTo>
                      <a:lnTo>
                        <a:pt x="525" y="545"/>
                      </a:lnTo>
                      <a:lnTo>
                        <a:pt x="529" y="549"/>
                      </a:lnTo>
                      <a:lnTo>
                        <a:pt x="535" y="551"/>
                      </a:lnTo>
                      <a:lnTo>
                        <a:pt x="539" y="552"/>
                      </a:lnTo>
                      <a:lnTo>
                        <a:pt x="545" y="552"/>
                      </a:lnTo>
                      <a:lnTo>
                        <a:pt x="550" y="551"/>
                      </a:lnTo>
                      <a:lnTo>
                        <a:pt x="550" y="551"/>
                      </a:lnTo>
                      <a:lnTo>
                        <a:pt x="550" y="551"/>
                      </a:lnTo>
                      <a:lnTo>
                        <a:pt x="552" y="549"/>
                      </a:lnTo>
                      <a:lnTo>
                        <a:pt x="552" y="549"/>
                      </a:lnTo>
                      <a:lnTo>
                        <a:pt x="554" y="547"/>
                      </a:lnTo>
                      <a:lnTo>
                        <a:pt x="554" y="547"/>
                      </a:lnTo>
                      <a:lnTo>
                        <a:pt x="556" y="547"/>
                      </a:lnTo>
                      <a:lnTo>
                        <a:pt x="556" y="547"/>
                      </a:lnTo>
                      <a:lnTo>
                        <a:pt x="556" y="547"/>
                      </a:lnTo>
                      <a:lnTo>
                        <a:pt x="556" y="547"/>
                      </a:lnTo>
                      <a:lnTo>
                        <a:pt x="554" y="549"/>
                      </a:lnTo>
                      <a:lnTo>
                        <a:pt x="554" y="549"/>
                      </a:lnTo>
                      <a:lnTo>
                        <a:pt x="554" y="549"/>
                      </a:lnTo>
                      <a:lnTo>
                        <a:pt x="554" y="549"/>
                      </a:lnTo>
                      <a:lnTo>
                        <a:pt x="554" y="549"/>
                      </a:lnTo>
                      <a:lnTo>
                        <a:pt x="554" y="551"/>
                      </a:lnTo>
                      <a:lnTo>
                        <a:pt x="554" y="551"/>
                      </a:lnTo>
                      <a:lnTo>
                        <a:pt x="554" y="552"/>
                      </a:lnTo>
                      <a:lnTo>
                        <a:pt x="556" y="554"/>
                      </a:lnTo>
                      <a:lnTo>
                        <a:pt x="556" y="554"/>
                      </a:lnTo>
                      <a:lnTo>
                        <a:pt x="558" y="556"/>
                      </a:lnTo>
                      <a:lnTo>
                        <a:pt x="558" y="556"/>
                      </a:lnTo>
                      <a:lnTo>
                        <a:pt x="558" y="558"/>
                      </a:lnTo>
                      <a:lnTo>
                        <a:pt x="560" y="560"/>
                      </a:lnTo>
                      <a:lnTo>
                        <a:pt x="560" y="560"/>
                      </a:lnTo>
                      <a:lnTo>
                        <a:pt x="560" y="560"/>
                      </a:lnTo>
                      <a:lnTo>
                        <a:pt x="560" y="560"/>
                      </a:lnTo>
                      <a:lnTo>
                        <a:pt x="560" y="560"/>
                      </a:lnTo>
                      <a:lnTo>
                        <a:pt x="560" y="560"/>
                      </a:lnTo>
                      <a:lnTo>
                        <a:pt x="560" y="560"/>
                      </a:lnTo>
                      <a:lnTo>
                        <a:pt x="560" y="560"/>
                      </a:lnTo>
                      <a:lnTo>
                        <a:pt x="562" y="562"/>
                      </a:lnTo>
                      <a:lnTo>
                        <a:pt x="562" y="564"/>
                      </a:lnTo>
                      <a:lnTo>
                        <a:pt x="562" y="566"/>
                      </a:lnTo>
                      <a:lnTo>
                        <a:pt x="562" y="568"/>
                      </a:lnTo>
                      <a:lnTo>
                        <a:pt x="562" y="570"/>
                      </a:lnTo>
                      <a:lnTo>
                        <a:pt x="564" y="572"/>
                      </a:lnTo>
                      <a:lnTo>
                        <a:pt x="564" y="574"/>
                      </a:lnTo>
                      <a:lnTo>
                        <a:pt x="564" y="575"/>
                      </a:lnTo>
                      <a:lnTo>
                        <a:pt x="564" y="577"/>
                      </a:lnTo>
                      <a:lnTo>
                        <a:pt x="564" y="577"/>
                      </a:lnTo>
                      <a:lnTo>
                        <a:pt x="568" y="579"/>
                      </a:lnTo>
                      <a:lnTo>
                        <a:pt x="572" y="579"/>
                      </a:lnTo>
                      <a:lnTo>
                        <a:pt x="573" y="581"/>
                      </a:lnTo>
                      <a:lnTo>
                        <a:pt x="577" y="583"/>
                      </a:lnTo>
                      <a:lnTo>
                        <a:pt x="581" y="585"/>
                      </a:lnTo>
                      <a:lnTo>
                        <a:pt x="585" y="587"/>
                      </a:lnTo>
                      <a:lnTo>
                        <a:pt x="587" y="587"/>
                      </a:lnTo>
                      <a:lnTo>
                        <a:pt x="593" y="585"/>
                      </a:lnTo>
                      <a:lnTo>
                        <a:pt x="593" y="583"/>
                      </a:lnTo>
                      <a:lnTo>
                        <a:pt x="593" y="581"/>
                      </a:lnTo>
                      <a:lnTo>
                        <a:pt x="593" y="577"/>
                      </a:lnTo>
                      <a:lnTo>
                        <a:pt x="595" y="575"/>
                      </a:lnTo>
                      <a:lnTo>
                        <a:pt x="595" y="572"/>
                      </a:lnTo>
                      <a:lnTo>
                        <a:pt x="596" y="570"/>
                      </a:lnTo>
                      <a:lnTo>
                        <a:pt x="596" y="568"/>
                      </a:lnTo>
                      <a:lnTo>
                        <a:pt x="596" y="564"/>
                      </a:lnTo>
                      <a:lnTo>
                        <a:pt x="598" y="564"/>
                      </a:lnTo>
                      <a:lnTo>
                        <a:pt x="631" y="562"/>
                      </a:lnTo>
                      <a:lnTo>
                        <a:pt x="631" y="560"/>
                      </a:lnTo>
                      <a:lnTo>
                        <a:pt x="633" y="558"/>
                      </a:lnTo>
                      <a:lnTo>
                        <a:pt x="635" y="556"/>
                      </a:lnTo>
                      <a:lnTo>
                        <a:pt x="637" y="554"/>
                      </a:lnTo>
                      <a:lnTo>
                        <a:pt x="639" y="552"/>
                      </a:lnTo>
                      <a:lnTo>
                        <a:pt x="643" y="551"/>
                      </a:lnTo>
                      <a:lnTo>
                        <a:pt x="644" y="549"/>
                      </a:lnTo>
                      <a:lnTo>
                        <a:pt x="644" y="549"/>
                      </a:lnTo>
                      <a:lnTo>
                        <a:pt x="644" y="547"/>
                      </a:lnTo>
                      <a:lnTo>
                        <a:pt x="644" y="543"/>
                      </a:lnTo>
                      <a:lnTo>
                        <a:pt x="643" y="541"/>
                      </a:lnTo>
                      <a:lnTo>
                        <a:pt x="643" y="539"/>
                      </a:lnTo>
                      <a:lnTo>
                        <a:pt x="641" y="537"/>
                      </a:lnTo>
                      <a:lnTo>
                        <a:pt x="639" y="535"/>
                      </a:lnTo>
                      <a:lnTo>
                        <a:pt x="637" y="533"/>
                      </a:lnTo>
                      <a:lnTo>
                        <a:pt x="635" y="531"/>
                      </a:lnTo>
                      <a:lnTo>
                        <a:pt x="635" y="528"/>
                      </a:lnTo>
                      <a:lnTo>
                        <a:pt x="633" y="528"/>
                      </a:lnTo>
                      <a:lnTo>
                        <a:pt x="633" y="526"/>
                      </a:lnTo>
                      <a:lnTo>
                        <a:pt x="631" y="522"/>
                      </a:lnTo>
                      <a:lnTo>
                        <a:pt x="631" y="518"/>
                      </a:lnTo>
                      <a:lnTo>
                        <a:pt x="629" y="514"/>
                      </a:lnTo>
                      <a:lnTo>
                        <a:pt x="627" y="510"/>
                      </a:lnTo>
                      <a:lnTo>
                        <a:pt x="625" y="508"/>
                      </a:lnTo>
                      <a:lnTo>
                        <a:pt x="621" y="506"/>
                      </a:lnTo>
                      <a:lnTo>
                        <a:pt x="621" y="506"/>
                      </a:lnTo>
                      <a:lnTo>
                        <a:pt x="621" y="505"/>
                      </a:lnTo>
                      <a:lnTo>
                        <a:pt x="621" y="503"/>
                      </a:lnTo>
                      <a:lnTo>
                        <a:pt x="623" y="499"/>
                      </a:lnTo>
                      <a:lnTo>
                        <a:pt x="623" y="497"/>
                      </a:lnTo>
                      <a:lnTo>
                        <a:pt x="623" y="495"/>
                      </a:lnTo>
                      <a:lnTo>
                        <a:pt x="623" y="495"/>
                      </a:lnTo>
                      <a:lnTo>
                        <a:pt x="625" y="493"/>
                      </a:lnTo>
                      <a:lnTo>
                        <a:pt x="625" y="491"/>
                      </a:lnTo>
                      <a:lnTo>
                        <a:pt x="625" y="489"/>
                      </a:lnTo>
                      <a:lnTo>
                        <a:pt x="623" y="487"/>
                      </a:lnTo>
                      <a:lnTo>
                        <a:pt x="623" y="485"/>
                      </a:lnTo>
                      <a:lnTo>
                        <a:pt x="623" y="483"/>
                      </a:lnTo>
                      <a:lnTo>
                        <a:pt x="623" y="481"/>
                      </a:lnTo>
                      <a:lnTo>
                        <a:pt x="623" y="480"/>
                      </a:lnTo>
                      <a:lnTo>
                        <a:pt x="623" y="480"/>
                      </a:lnTo>
                      <a:lnTo>
                        <a:pt x="618" y="478"/>
                      </a:lnTo>
                      <a:lnTo>
                        <a:pt x="614" y="478"/>
                      </a:lnTo>
                      <a:lnTo>
                        <a:pt x="608" y="476"/>
                      </a:lnTo>
                      <a:lnTo>
                        <a:pt x="602" y="476"/>
                      </a:lnTo>
                      <a:lnTo>
                        <a:pt x="596" y="474"/>
                      </a:lnTo>
                      <a:lnTo>
                        <a:pt x="593" y="472"/>
                      </a:lnTo>
                      <a:lnTo>
                        <a:pt x="587" y="472"/>
                      </a:lnTo>
                      <a:lnTo>
                        <a:pt x="583" y="472"/>
                      </a:lnTo>
                      <a:lnTo>
                        <a:pt x="583" y="449"/>
                      </a:lnTo>
                      <a:lnTo>
                        <a:pt x="583" y="449"/>
                      </a:lnTo>
                      <a:lnTo>
                        <a:pt x="583" y="447"/>
                      </a:lnTo>
                      <a:lnTo>
                        <a:pt x="585" y="447"/>
                      </a:lnTo>
                      <a:lnTo>
                        <a:pt x="585" y="447"/>
                      </a:lnTo>
                      <a:lnTo>
                        <a:pt x="587" y="447"/>
                      </a:lnTo>
                      <a:lnTo>
                        <a:pt x="587" y="445"/>
                      </a:lnTo>
                      <a:lnTo>
                        <a:pt x="587" y="445"/>
                      </a:lnTo>
                      <a:lnTo>
                        <a:pt x="589" y="445"/>
                      </a:lnTo>
                      <a:lnTo>
                        <a:pt x="589" y="445"/>
                      </a:lnTo>
                      <a:lnTo>
                        <a:pt x="589" y="443"/>
                      </a:lnTo>
                      <a:lnTo>
                        <a:pt x="591" y="443"/>
                      </a:lnTo>
                      <a:lnTo>
                        <a:pt x="591" y="441"/>
                      </a:lnTo>
                      <a:lnTo>
                        <a:pt x="593" y="441"/>
                      </a:lnTo>
                      <a:lnTo>
                        <a:pt x="593" y="441"/>
                      </a:lnTo>
                      <a:lnTo>
                        <a:pt x="593" y="439"/>
                      </a:lnTo>
                      <a:lnTo>
                        <a:pt x="595" y="439"/>
                      </a:lnTo>
                      <a:lnTo>
                        <a:pt x="595" y="434"/>
                      </a:lnTo>
                      <a:lnTo>
                        <a:pt x="593" y="434"/>
                      </a:lnTo>
                      <a:lnTo>
                        <a:pt x="593" y="430"/>
                      </a:lnTo>
                      <a:lnTo>
                        <a:pt x="591" y="428"/>
                      </a:lnTo>
                      <a:lnTo>
                        <a:pt x="591" y="422"/>
                      </a:lnTo>
                      <a:lnTo>
                        <a:pt x="589" y="418"/>
                      </a:lnTo>
                      <a:lnTo>
                        <a:pt x="589" y="412"/>
                      </a:lnTo>
                      <a:lnTo>
                        <a:pt x="587" y="409"/>
                      </a:lnTo>
                      <a:lnTo>
                        <a:pt x="585" y="405"/>
                      </a:lnTo>
                      <a:lnTo>
                        <a:pt x="583" y="405"/>
                      </a:lnTo>
                      <a:lnTo>
                        <a:pt x="583" y="403"/>
                      </a:lnTo>
                      <a:lnTo>
                        <a:pt x="583" y="403"/>
                      </a:lnTo>
                      <a:lnTo>
                        <a:pt x="583" y="401"/>
                      </a:lnTo>
                      <a:lnTo>
                        <a:pt x="583" y="399"/>
                      </a:lnTo>
                      <a:lnTo>
                        <a:pt x="581" y="399"/>
                      </a:lnTo>
                      <a:lnTo>
                        <a:pt x="581" y="397"/>
                      </a:lnTo>
                      <a:lnTo>
                        <a:pt x="581" y="395"/>
                      </a:lnTo>
                      <a:lnTo>
                        <a:pt x="581" y="395"/>
                      </a:lnTo>
                      <a:lnTo>
                        <a:pt x="581" y="395"/>
                      </a:lnTo>
                      <a:lnTo>
                        <a:pt x="581" y="393"/>
                      </a:lnTo>
                      <a:lnTo>
                        <a:pt x="581" y="393"/>
                      </a:lnTo>
                      <a:lnTo>
                        <a:pt x="583" y="393"/>
                      </a:lnTo>
                      <a:lnTo>
                        <a:pt x="583" y="393"/>
                      </a:lnTo>
                      <a:lnTo>
                        <a:pt x="583" y="393"/>
                      </a:lnTo>
                      <a:lnTo>
                        <a:pt x="583" y="393"/>
                      </a:lnTo>
                      <a:lnTo>
                        <a:pt x="583" y="393"/>
                      </a:lnTo>
                      <a:lnTo>
                        <a:pt x="583" y="391"/>
                      </a:lnTo>
                      <a:lnTo>
                        <a:pt x="589" y="389"/>
                      </a:lnTo>
                      <a:lnTo>
                        <a:pt x="595" y="389"/>
                      </a:lnTo>
                      <a:lnTo>
                        <a:pt x="600" y="389"/>
                      </a:lnTo>
                      <a:lnTo>
                        <a:pt x="608" y="389"/>
                      </a:lnTo>
                      <a:lnTo>
                        <a:pt x="616" y="391"/>
                      </a:lnTo>
                      <a:lnTo>
                        <a:pt x="623" y="391"/>
                      </a:lnTo>
                      <a:lnTo>
                        <a:pt x="629" y="389"/>
                      </a:lnTo>
                      <a:lnTo>
                        <a:pt x="635" y="389"/>
                      </a:lnTo>
                      <a:lnTo>
                        <a:pt x="637" y="386"/>
                      </a:lnTo>
                      <a:lnTo>
                        <a:pt x="637" y="382"/>
                      </a:lnTo>
                      <a:lnTo>
                        <a:pt x="639" y="378"/>
                      </a:lnTo>
                      <a:lnTo>
                        <a:pt x="639" y="374"/>
                      </a:lnTo>
                      <a:lnTo>
                        <a:pt x="641" y="370"/>
                      </a:lnTo>
                      <a:lnTo>
                        <a:pt x="641" y="364"/>
                      </a:lnTo>
                      <a:lnTo>
                        <a:pt x="643" y="361"/>
                      </a:lnTo>
                      <a:lnTo>
                        <a:pt x="644" y="357"/>
                      </a:lnTo>
                      <a:lnTo>
                        <a:pt x="644" y="357"/>
                      </a:lnTo>
                      <a:lnTo>
                        <a:pt x="644" y="355"/>
                      </a:lnTo>
                      <a:lnTo>
                        <a:pt x="644" y="353"/>
                      </a:lnTo>
                      <a:lnTo>
                        <a:pt x="646" y="351"/>
                      </a:lnTo>
                      <a:lnTo>
                        <a:pt x="646" y="349"/>
                      </a:lnTo>
                      <a:lnTo>
                        <a:pt x="648" y="347"/>
                      </a:lnTo>
                      <a:lnTo>
                        <a:pt x="650" y="345"/>
                      </a:lnTo>
                      <a:lnTo>
                        <a:pt x="650" y="345"/>
                      </a:lnTo>
                      <a:lnTo>
                        <a:pt x="652" y="343"/>
                      </a:lnTo>
                      <a:lnTo>
                        <a:pt x="654" y="343"/>
                      </a:lnTo>
                      <a:lnTo>
                        <a:pt x="656" y="343"/>
                      </a:lnTo>
                      <a:lnTo>
                        <a:pt x="658" y="343"/>
                      </a:lnTo>
                      <a:lnTo>
                        <a:pt x="660" y="341"/>
                      </a:lnTo>
                      <a:lnTo>
                        <a:pt x="662" y="341"/>
                      </a:lnTo>
                      <a:lnTo>
                        <a:pt x="664" y="340"/>
                      </a:lnTo>
                      <a:lnTo>
                        <a:pt x="666" y="338"/>
                      </a:lnTo>
                      <a:lnTo>
                        <a:pt x="666" y="336"/>
                      </a:lnTo>
                      <a:lnTo>
                        <a:pt x="666" y="336"/>
                      </a:lnTo>
                      <a:lnTo>
                        <a:pt x="666" y="334"/>
                      </a:lnTo>
                      <a:lnTo>
                        <a:pt x="667" y="332"/>
                      </a:lnTo>
                      <a:lnTo>
                        <a:pt x="667" y="330"/>
                      </a:lnTo>
                      <a:lnTo>
                        <a:pt x="669" y="328"/>
                      </a:lnTo>
                      <a:lnTo>
                        <a:pt x="669" y="328"/>
                      </a:lnTo>
                      <a:lnTo>
                        <a:pt x="669" y="326"/>
                      </a:lnTo>
                      <a:lnTo>
                        <a:pt x="671" y="326"/>
                      </a:lnTo>
                      <a:lnTo>
                        <a:pt x="673" y="328"/>
                      </a:lnTo>
                      <a:lnTo>
                        <a:pt x="673" y="328"/>
                      </a:lnTo>
                      <a:lnTo>
                        <a:pt x="675" y="328"/>
                      </a:lnTo>
                      <a:lnTo>
                        <a:pt x="677" y="328"/>
                      </a:lnTo>
                      <a:lnTo>
                        <a:pt x="679" y="330"/>
                      </a:lnTo>
                      <a:lnTo>
                        <a:pt x="681" y="330"/>
                      </a:lnTo>
                      <a:lnTo>
                        <a:pt x="681" y="332"/>
                      </a:lnTo>
                      <a:lnTo>
                        <a:pt x="681" y="332"/>
                      </a:lnTo>
                      <a:lnTo>
                        <a:pt x="681" y="332"/>
                      </a:lnTo>
                      <a:lnTo>
                        <a:pt x="683" y="330"/>
                      </a:lnTo>
                      <a:lnTo>
                        <a:pt x="683" y="330"/>
                      </a:lnTo>
                      <a:lnTo>
                        <a:pt x="683" y="330"/>
                      </a:lnTo>
                      <a:lnTo>
                        <a:pt x="683" y="330"/>
                      </a:lnTo>
                      <a:lnTo>
                        <a:pt x="685" y="330"/>
                      </a:lnTo>
                      <a:lnTo>
                        <a:pt x="685" y="330"/>
                      </a:lnTo>
                      <a:lnTo>
                        <a:pt x="685" y="330"/>
                      </a:lnTo>
                      <a:lnTo>
                        <a:pt x="687" y="330"/>
                      </a:lnTo>
                      <a:lnTo>
                        <a:pt x="689" y="328"/>
                      </a:lnTo>
                      <a:lnTo>
                        <a:pt x="689" y="326"/>
                      </a:lnTo>
                      <a:lnTo>
                        <a:pt x="692" y="326"/>
                      </a:lnTo>
                      <a:lnTo>
                        <a:pt x="694" y="324"/>
                      </a:lnTo>
                      <a:lnTo>
                        <a:pt x="696" y="322"/>
                      </a:lnTo>
                      <a:lnTo>
                        <a:pt x="698" y="322"/>
                      </a:lnTo>
                      <a:lnTo>
                        <a:pt x="700" y="322"/>
                      </a:lnTo>
                      <a:lnTo>
                        <a:pt x="700" y="320"/>
                      </a:lnTo>
                      <a:lnTo>
                        <a:pt x="702" y="315"/>
                      </a:lnTo>
                      <a:lnTo>
                        <a:pt x="702" y="307"/>
                      </a:lnTo>
                      <a:lnTo>
                        <a:pt x="702" y="299"/>
                      </a:lnTo>
                      <a:lnTo>
                        <a:pt x="702" y="292"/>
                      </a:lnTo>
                      <a:lnTo>
                        <a:pt x="704" y="284"/>
                      </a:lnTo>
                      <a:lnTo>
                        <a:pt x="704" y="276"/>
                      </a:lnTo>
                      <a:lnTo>
                        <a:pt x="706" y="270"/>
                      </a:lnTo>
                      <a:lnTo>
                        <a:pt x="708" y="265"/>
                      </a:lnTo>
                      <a:lnTo>
                        <a:pt x="710" y="261"/>
                      </a:lnTo>
                      <a:lnTo>
                        <a:pt x="712" y="255"/>
                      </a:lnTo>
                      <a:lnTo>
                        <a:pt x="714" y="249"/>
                      </a:lnTo>
                      <a:lnTo>
                        <a:pt x="715" y="246"/>
                      </a:lnTo>
                      <a:lnTo>
                        <a:pt x="715" y="240"/>
                      </a:lnTo>
                      <a:lnTo>
                        <a:pt x="715" y="234"/>
                      </a:lnTo>
                      <a:lnTo>
                        <a:pt x="715" y="228"/>
                      </a:lnTo>
                      <a:lnTo>
                        <a:pt x="714" y="223"/>
                      </a:lnTo>
                      <a:lnTo>
                        <a:pt x="714" y="221"/>
                      </a:lnTo>
                      <a:lnTo>
                        <a:pt x="714" y="221"/>
                      </a:lnTo>
                      <a:lnTo>
                        <a:pt x="714" y="219"/>
                      </a:lnTo>
                      <a:lnTo>
                        <a:pt x="712" y="219"/>
                      </a:lnTo>
                      <a:lnTo>
                        <a:pt x="712" y="217"/>
                      </a:lnTo>
                      <a:lnTo>
                        <a:pt x="712" y="217"/>
                      </a:lnTo>
                      <a:lnTo>
                        <a:pt x="712" y="215"/>
                      </a:lnTo>
                      <a:lnTo>
                        <a:pt x="712" y="215"/>
                      </a:lnTo>
                      <a:lnTo>
                        <a:pt x="712" y="213"/>
                      </a:lnTo>
                      <a:lnTo>
                        <a:pt x="710" y="213"/>
                      </a:lnTo>
                      <a:lnTo>
                        <a:pt x="710" y="213"/>
                      </a:lnTo>
                      <a:lnTo>
                        <a:pt x="710" y="213"/>
                      </a:lnTo>
                      <a:lnTo>
                        <a:pt x="710" y="213"/>
                      </a:lnTo>
                      <a:lnTo>
                        <a:pt x="710" y="213"/>
                      </a:lnTo>
                      <a:lnTo>
                        <a:pt x="708" y="211"/>
                      </a:lnTo>
                      <a:lnTo>
                        <a:pt x="708" y="211"/>
                      </a:lnTo>
                      <a:lnTo>
                        <a:pt x="708" y="211"/>
                      </a:lnTo>
                      <a:lnTo>
                        <a:pt x="708" y="211"/>
                      </a:lnTo>
                      <a:lnTo>
                        <a:pt x="708" y="211"/>
                      </a:lnTo>
                      <a:lnTo>
                        <a:pt x="708" y="211"/>
                      </a:lnTo>
                      <a:lnTo>
                        <a:pt x="708" y="209"/>
                      </a:lnTo>
                      <a:lnTo>
                        <a:pt x="708" y="209"/>
                      </a:lnTo>
                      <a:lnTo>
                        <a:pt x="708" y="209"/>
                      </a:lnTo>
                      <a:lnTo>
                        <a:pt x="706" y="209"/>
                      </a:lnTo>
                      <a:lnTo>
                        <a:pt x="706" y="209"/>
                      </a:lnTo>
                      <a:lnTo>
                        <a:pt x="706" y="207"/>
                      </a:lnTo>
                      <a:lnTo>
                        <a:pt x="706" y="207"/>
                      </a:lnTo>
                      <a:lnTo>
                        <a:pt x="704" y="207"/>
                      </a:lnTo>
                      <a:lnTo>
                        <a:pt x="704" y="207"/>
                      </a:lnTo>
                      <a:lnTo>
                        <a:pt x="704" y="205"/>
                      </a:lnTo>
                      <a:lnTo>
                        <a:pt x="704" y="205"/>
                      </a:lnTo>
                      <a:lnTo>
                        <a:pt x="704" y="205"/>
                      </a:lnTo>
                      <a:lnTo>
                        <a:pt x="702" y="205"/>
                      </a:lnTo>
                      <a:lnTo>
                        <a:pt x="702" y="205"/>
                      </a:lnTo>
                      <a:lnTo>
                        <a:pt x="700" y="203"/>
                      </a:lnTo>
                      <a:lnTo>
                        <a:pt x="700" y="203"/>
                      </a:lnTo>
                      <a:lnTo>
                        <a:pt x="700" y="203"/>
                      </a:lnTo>
                      <a:lnTo>
                        <a:pt x="700" y="201"/>
                      </a:lnTo>
                      <a:lnTo>
                        <a:pt x="698" y="201"/>
                      </a:lnTo>
                      <a:lnTo>
                        <a:pt x="698" y="201"/>
                      </a:lnTo>
                      <a:lnTo>
                        <a:pt x="698" y="201"/>
                      </a:lnTo>
                      <a:lnTo>
                        <a:pt x="692" y="198"/>
                      </a:lnTo>
                      <a:lnTo>
                        <a:pt x="687" y="196"/>
                      </a:lnTo>
                      <a:lnTo>
                        <a:pt x="683" y="194"/>
                      </a:lnTo>
                      <a:lnTo>
                        <a:pt x="677" y="192"/>
                      </a:lnTo>
                      <a:lnTo>
                        <a:pt x="673" y="192"/>
                      </a:lnTo>
                      <a:lnTo>
                        <a:pt x="667" y="190"/>
                      </a:lnTo>
                      <a:lnTo>
                        <a:pt x="662" y="190"/>
                      </a:lnTo>
                      <a:lnTo>
                        <a:pt x="656" y="188"/>
                      </a:lnTo>
                      <a:lnTo>
                        <a:pt x="654" y="186"/>
                      </a:lnTo>
                      <a:lnTo>
                        <a:pt x="652" y="186"/>
                      </a:lnTo>
                      <a:lnTo>
                        <a:pt x="650" y="184"/>
                      </a:lnTo>
                      <a:lnTo>
                        <a:pt x="648" y="182"/>
                      </a:lnTo>
                      <a:lnTo>
                        <a:pt x="646" y="182"/>
                      </a:lnTo>
                      <a:lnTo>
                        <a:pt x="646" y="180"/>
                      </a:lnTo>
                      <a:lnTo>
                        <a:pt x="644" y="180"/>
                      </a:lnTo>
                      <a:lnTo>
                        <a:pt x="643" y="178"/>
                      </a:lnTo>
                      <a:lnTo>
                        <a:pt x="643" y="178"/>
                      </a:lnTo>
                      <a:lnTo>
                        <a:pt x="643" y="176"/>
                      </a:lnTo>
                      <a:lnTo>
                        <a:pt x="641" y="175"/>
                      </a:lnTo>
                      <a:lnTo>
                        <a:pt x="641" y="175"/>
                      </a:lnTo>
                      <a:lnTo>
                        <a:pt x="639" y="173"/>
                      </a:lnTo>
                      <a:lnTo>
                        <a:pt x="639" y="171"/>
                      </a:lnTo>
                      <a:lnTo>
                        <a:pt x="639" y="171"/>
                      </a:lnTo>
                      <a:lnTo>
                        <a:pt x="639" y="169"/>
                      </a:lnTo>
                      <a:lnTo>
                        <a:pt x="633" y="169"/>
                      </a:lnTo>
                      <a:lnTo>
                        <a:pt x="629" y="167"/>
                      </a:lnTo>
                      <a:lnTo>
                        <a:pt x="623" y="169"/>
                      </a:lnTo>
                      <a:lnTo>
                        <a:pt x="619" y="169"/>
                      </a:lnTo>
                      <a:lnTo>
                        <a:pt x="616" y="171"/>
                      </a:lnTo>
                      <a:lnTo>
                        <a:pt x="612" y="173"/>
                      </a:lnTo>
                      <a:lnTo>
                        <a:pt x="608" y="176"/>
                      </a:lnTo>
                      <a:lnTo>
                        <a:pt x="606" y="182"/>
                      </a:lnTo>
                      <a:lnTo>
                        <a:pt x="602" y="182"/>
                      </a:lnTo>
                      <a:lnTo>
                        <a:pt x="596" y="182"/>
                      </a:lnTo>
                      <a:lnTo>
                        <a:pt x="591" y="182"/>
                      </a:lnTo>
                      <a:lnTo>
                        <a:pt x="587" y="180"/>
                      </a:lnTo>
                      <a:lnTo>
                        <a:pt x="581" y="180"/>
                      </a:lnTo>
                      <a:lnTo>
                        <a:pt x="575" y="180"/>
                      </a:lnTo>
                      <a:lnTo>
                        <a:pt x="572" y="178"/>
                      </a:lnTo>
                      <a:lnTo>
                        <a:pt x="566" y="178"/>
                      </a:lnTo>
                      <a:lnTo>
                        <a:pt x="558" y="180"/>
                      </a:lnTo>
                      <a:lnTo>
                        <a:pt x="550" y="182"/>
                      </a:lnTo>
                      <a:lnTo>
                        <a:pt x="545" y="184"/>
                      </a:lnTo>
                      <a:lnTo>
                        <a:pt x="539" y="188"/>
                      </a:lnTo>
                      <a:lnTo>
                        <a:pt x="533" y="194"/>
                      </a:lnTo>
                      <a:lnTo>
                        <a:pt x="529" y="200"/>
                      </a:lnTo>
                      <a:lnTo>
                        <a:pt x="524" y="203"/>
                      </a:lnTo>
                      <a:lnTo>
                        <a:pt x="518" y="209"/>
                      </a:lnTo>
                      <a:lnTo>
                        <a:pt x="502" y="209"/>
                      </a:lnTo>
                      <a:lnTo>
                        <a:pt x="502" y="219"/>
                      </a:lnTo>
                      <a:lnTo>
                        <a:pt x="502" y="219"/>
                      </a:lnTo>
                      <a:lnTo>
                        <a:pt x="502" y="219"/>
                      </a:lnTo>
                      <a:lnTo>
                        <a:pt x="502" y="219"/>
                      </a:lnTo>
                      <a:lnTo>
                        <a:pt x="501" y="219"/>
                      </a:lnTo>
                      <a:lnTo>
                        <a:pt x="501" y="219"/>
                      </a:lnTo>
                      <a:lnTo>
                        <a:pt x="501" y="221"/>
                      </a:lnTo>
                      <a:lnTo>
                        <a:pt x="501" y="221"/>
                      </a:lnTo>
                      <a:lnTo>
                        <a:pt x="501" y="221"/>
                      </a:lnTo>
                      <a:lnTo>
                        <a:pt x="495" y="221"/>
                      </a:lnTo>
                      <a:lnTo>
                        <a:pt x="487" y="223"/>
                      </a:lnTo>
                      <a:lnTo>
                        <a:pt x="479" y="223"/>
                      </a:lnTo>
                      <a:lnTo>
                        <a:pt x="470" y="223"/>
                      </a:lnTo>
                      <a:lnTo>
                        <a:pt x="460" y="223"/>
                      </a:lnTo>
                      <a:lnTo>
                        <a:pt x="451" y="223"/>
                      </a:lnTo>
                      <a:lnTo>
                        <a:pt x="445" y="221"/>
                      </a:lnTo>
                      <a:lnTo>
                        <a:pt x="439" y="217"/>
                      </a:lnTo>
                      <a:lnTo>
                        <a:pt x="439" y="213"/>
                      </a:lnTo>
                      <a:lnTo>
                        <a:pt x="441" y="211"/>
                      </a:lnTo>
                      <a:lnTo>
                        <a:pt x="443" y="207"/>
                      </a:lnTo>
                      <a:lnTo>
                        <a:pt x="445" y="203"/>
                      </a:lnTo>
                      <a:lnTo>
                        <a:pt x="445" y="201"/>
                      </a:lnTo>
                      <a:lnTo>
                        <a:pt x="447" y="198"/>
                      </a:lnTo>
                      <a:lnTo>
                        <a:pt x="449" y="196"/>
                      </a:lnTo>
                      <a:lnTo>
                        <a:pt x="449" y="192"/>
                      </a:lnTo>
                      <a:lnTo>
                        <a:pt x="447" y="192"/>
                      </a:lnTo>
                      <a:lnTo>
                        <a:pt x="447" y="192"/>
                      </a:lnTo>
                      <a:lnTo>
                        <a:pt x="445" y="190"/>
                      </a:lnTo>
                      <a:lnTo>
                        <a:pt x="443" y="190"/>
                      </a:lnTo>
                      <a:lnTo>
                        <a:pt x="443" y="190"/>
                      </a:lnTo>
                      <a:lnTo>
                        <a:pt x="441" y="188"/>
                      </a:lnTo>
                      <a:lnTo>
                        <a:pt x="441" y="188"/>
                      </a:lnTo>
                      <a:lnTo>
                        <a:pt x="441" y="188"/>
                      </a:lnTo>
                      <a:lnTo>
                        <a:pt x="435" y="186"/>
                      </a:lnTo>
                      <a:lnTo>
                        <a:pt x="431" y="186"/>
                      </a:lnTo>
                      <a:lnTo>
                        <a:pt x="426" y="184"/>
                      </a:lnTo>
                      <a:lnTo>
                        <a:pt x="422" y="182"/>
                      </a:lnTo>
                      <a:lnTo>
                        <a:pt x="416" y="182"/>
                      </a:lnTo>
                      <a:lnTo>
                        <a:pt x="412" y="180"/>
                      </a:lnTo>
                      <a:lnTo>
                        <a:pt x="406" y="180"/>
                      </a:lnTo>
                      <a:lnTo>
                        <a:pt x="403" y="178"/>
                      </a:lnTo>
                      <a:lnTo>
                        <a:pt x="401" y="176"/>
                      </a:lnTo>
                      <a:lnTo>
                        <a:pt x="399" y="171"/>
                      </a:lnTo>
                      <a:lnTo>
                        <a:pt x="397" y="167"/>
                      </a:lnTo>
                      <a:lnTo>
                        <a:pt x="393" y="161"/>
                      </a:lnTo>
                      <a:lnTo>
                        <a:pt x="391" y="157"/>
                      </a:lnTo>
                      <a:lnTo>
                        <a:pt x="389" y="152"/>
                      </a:lnTo>
                      <a:lnTo>
                        <a:pt x="389" y="148"/>
                      </a:lnTo>
                      <a:lnTo>
                        <a:pt x="387" y="144"/>
                      </a:lnTo>
                      <a:lnTo>
                        <a:pt x="387" y="144"/>
                      </a:lnTo>
                      <a:lnTo>
                        <a:pt x="385" y="142"/>
                      </a:lnTo>
                      <a:lnTo>
                        <a:pt x="383" y="140"/>
                      </a:lnTo>
                      <a:lnTo>
                        <a:pt x="382" y="138"/>
                      </a:lnTo>
                      <a:lnTo>
                        <a:pt x="380" y="138"/>
                      </a:lnTo>
                      <a:lnTo>
                        <a:pt x="378" y="136"/>
                      </a:lnTo>
                      <a:lnTo>
                        <a:pt x="378" y="134"/>
                      </a:lnTo>
                      <a:lnTo>
                        <a:pt x="376" y="132"/>
                      </a:lnTo>
                      <a:lnTo>
                        <a:pt x="374" y="132"/>
                      </a:lnTo>
                      <a:lnTo>
                        <a:pt x="370" y="130"/>
                      </a:lnTo>
                      <a:lnTo>
                        <a:pt x="364" y="127"/>
                      </a:lnTo>
                      <a:lnTo>
                        <a:pt x="360" y="125"/>
                      </a:lnTo>
                      <a:lnTo>
                        <a:pt x="355" y="121"/>
                      </a:lnTo>
                      <a:lnTo>
                        <a:pt x="351" y="117"/>
                      </a:lnTo>
                      <a:lnTo>
                        <a:pt x="347" y="115"/>
                      </a:lnTo>
                      <a:lnTo>
                        <a:pt x="347" y="113"/>
                      </a:lnTo>
                      <a:lnTo>
                        <a:pt x="343" y="111"/>
                      </a:lnTo>
                      <a:lnTo>
                        <a:pt x="337" y="109"/>
                      </a:lnTo>
                      <a:lnTo>
                        <a:pt x="334" y="106"/>
                      </a:lnTo>
                      <a:lnTo>
                        <a:pt x="328" y="102"/>
                      </a:lnTo>
                      <a:lnTo>
                        <a:pt x="322" y="98"/>
                      </a:lnTo>
                      <a:lnTo>
                        <a:pt x="318" y="94"/>
                      </a:lnTo>
                      <a:lnTo>
                        <a:pt x="312" y="90"/>
                      </a:lnTo>
                      <a:lnTo>
                        <a:pt x="311" y="88"/>
                      </a:lnTo>
                      <a:lnTo>
                        <a:pt x="309" y="81"/>
                      </a:lnTo>
                      <a:lnTo>
                        <a:pt x="305" y="73"/>
                      </a:lnTo>
                      <a:lnTo>
                        <a:pt x="299" y="65"/>
                      </a:lnTo>
                      <a:lnTo>
                        <a:pt x="293" y="59"/>
                      </a:lnTo>
                      <a:lnTo>
                        <a:pt x="287" y="52"/>
                      </a:lnTo>
                      <a:lnTo>
                        <a:pt x="282" y="46"/>
                      </a:lnTo>
                      <a:lnTo>
                        <a:pt x="278" y="38"/>
                      </a:lnTo>
                      <a:lnTo>
                        <a:pt x="276" y="31"/>
                      </a:lnTo>
                      <a:lnTo>
                        <a:pt x="274" y="29"/>
                      </a:lnTo>
                      <a:lnTo>
                        <a:pt x="272" y="27"/>
                      </a:lnTo>
                      <a:lnTo>
                        <a:pt x="270" y="25"/>
                      </a:lnTo>
                      <a:lnTo>
                        <a:pt x="268" y="25"/>
                      </a:lnTo>
                      <a:lnTo>
                        <a:pt x="266" y="23"/>
                      </a:lnTo>
                      <a:lnTo>
                        <a:pt x="263" y="23"/>
                      </a:lnTo>
                      <a:lnTo>
                        <a:pt x="261" y="23"/>
                      </a:lnTo>
                      <a:lnTo>
                        <a:pt x="257" y="23"/>
                      </a:lnTo>
                      <a:lnTo>
                        <a:pt x="257" y="31"/>
                      </a:lnTo>
                      <a:lnTo>
                        <a:pt x="253" y="33"/>
                      </a:lnTo>
                      <a:lnTo>
                        <a:pt x="249" y="33"/>
                      </a:lnTo>
                      <a:lnTo>
                        <a:pt x="245" y="33"/>
                      </a:lnTo>
                      <a:lnTo>
                        <a:pt x="241" y="33"/>
                      </a:lnTo>
                      <a:lnTo>
                        <a:pt x="238" y="33"/>
                      </a:lnTo>
                      <a:lnTo>
                        <a:pt x="234" y="33"/>
                      </a:lnTo>
                      <a:lnTo>
                        <a:pt x="230" y="31"/>
                      </a:lnTo>
                      <a:lnTo>
                        <a:pt x="228" y="31"/>
                      </a:lnTo>
                      <a:lnTo>
                        <a:pt x="226" y="27"/>
                      </a:lnTo>
                      <a:lnTo>
                        <a:pt x="224" y="25"/>
                      </a:lnTo>
                      <a:lnTo>
                        <a:pt x="218" y="23"/>
                      </a:lnTo>
                      <a:lnTo>
                        <a:pt x="213" y="21"/>
                      </a:lnTo>
                      <a:lnTo>
                        <a:pt x="207" y="21"/>
                      </a:lnTo>
                      <a:lnTo>
                        <a:pt x="201" y="21"/>
                      </a:lnTo>
                      <a:lnTo>
                        <a:pt x="195" y="21"/>
                      </a:lnTo>
                      <a:lnTo>
                        <a:pt x="193" y="21"/>
                      </a:lnTo>
                      <a:lnTo>
                        <a:pt x="192" y="19"/>
                      </a:lnTo>
                      <a:lnTo>
                        <a:pt x="192" y="19"/>
                      </a:lnTo>
                      <a:lnTo>
                        <a:pt x="192" y="17"/>
                      </a:lnTo>
                      <a:lnTo>
                        <a:pt x="192" y="15"/>
                      </a:lnTo>
                      <a:lnTo>
                        <a:pt x="192" y="15"/>
                      </a:lnTo>
                      <a:lnTo>
                        <a:pt x="190" y="13"/>
                      </a:lnTo>
                      <a:lnTo>
                        <a:pt x="190" y="12"/>
                      </a:lnTo>
                      <a:lnTo>
                        <a:pt x="190" y="10"/>
                      </a:lnTo>
                      <a:lnTo>
                        <a:pt x="192" y="10"/>
                      </a:lnTo>
                      <a:lnTo>
                        <a:pt x="193" y="8"/>
                      </a:lnTo>
                      <a:lnTo>
                        <a:pt x="195" y="6"/>
                      </a:lnTo>
                      <a:lnTo>
                        <a:pt x="197" y="4"/>
                      </a:lnTo>
                      <a:lnTo>
                        <a:pt x="199" y="2"/>
                      </a:lnTo>
                      <a:lnTo>
                        <a:pt x="201" y="2"/>
                      </a:lnTo>
                      <a:lnTo>
                        <a:pt x="203" y="0"/>
                      </a:lnTo>
                      <a:lnTo>
                        <a:pt x="205" y="0"/>
                      </a:lnTo>
                      <a:lnTo>
                        <a:pt x="205" y="0"/>
                      </a:lnTo>
                      <a:lnTo>
                        <a:pt x="203" y="2"/>
                      </a:lnTo>
                      <a:lnTo>
                        <a:pt x="201" y="2"/>
                      </a:lnTo>
                      <a:lnTo>
                        <a:pt x="201" y="2"/>
                      </a:lnTo>
                      <a:lnTo>
                        <a:pt x="199" y="4"/>
                      </a:lnTo>
                      <a:lnTo>
                        <a:pt x="199" y="4"/>
                      </a:lnTo>
                      <a:lnTo>
                        <a:pt x="197" y="4"/>
                      </a:lnTo>
                      <a:lnTo>
                        <a:pt x="197" y="4"/>
                      </a:lnTo>
                      <a:lnTo>
                        <a:pt x="197" y="6"/>
                      </a:lnTo>
                      <a:lnTo>
                        <a:pt x="197" y="10"/>
                      </a:lnTo>
                      <a:lnTo>
                        <a:pt x="197" y="12"/>
                      </a:lnTo>
                      <a:lnTo>
                        <a:pt x="195" y="15"/>
                      </a:lnTo>
                      <a:lnTo>
                        <a:pt x="195" y="19"/>
                      </a:lnTo>
                      <a:lnTo>
                        <a:pt x="195" y="23"/>
                      </a:lnTo>
                      <a:lnTo>
                        <a:pt x="193" y="25"/>
                      </a:lnTo>
                      <a:lnTo>
                        <a:pt x="193" y="27"/>
                      </a:lnTo>
                      <a:lnTo>
                        <a:pt x="193" y="27"/>
                      </a:lnTo>
                      <a:lnTo>
                        <a:pt x="193" y="27"/>
                      </a:lnTo>
                      <a:lnTo>
                        <a:pt x="192" y="27"/>
                      </a:lnTo>
                      <a:lnTo>
                        <a:pt x="192" y="27"/>
                      </a:lnTo>
                      <a:lnTo>
                        <a:pt x="192" y="29"/>
                      </a:lnTo>
                      <a:lnTo>
                        <a:pt x="192" y="29"/>
                      </a:lnTo>
                      <a:lnTo>
                        <a:pt x="192" y="29"/>
                      </a:lnTo>
                      <a:lnTo>
                        <a:pt x="192" y="29"/>
                      </a:lnTo>
                      <a:lnTo>
                        <a:pt x="188" y="29"/>
                      </a:lnTo>
                      <a:lnTo>
                        <a:pt x="186" y="29"/>
                      </a:lnTo>
                      <a:lnTo>
                        <a:pt x="182" y="31"/>
                      </a:lnTo>
                      <a:lnTo>
                        <a:pt x="178" y="31"/>
                      </a:lnTo>
                      <a:lnTo>
                        <a:pt x="176" y="31"/>
                      </a:lnTo>
                      <a:lnTo>
                        <a:pt x="172" y="31"/>
                      </a:lnTo>
                      <a:lnTo>
                        <a:pt x="168" y="31"/>
                      </a:lnTo>
                      <a:lnTo>
                        <a:pt x="167" y="31"/>
                      </a:lnTo>
                      <a:lnTo>
                        <a:pt x="165" y="33"/>
                      </a:lnTo>
                      <a:lnTo>
                        <a:pt x="165" y="33"/>
                      </a:lnTo>
                      <a:lnTo>
                        <a:pt x="165" y="33"/>
                      </a:lnTo>
                      <a:lnTo>
                        <a:pt x="163" y="35"/>
                      </a:lnTo>
                      <a:lnTo>
                        <a:pt x="163" y="35"/>
                      </a:lnTo>
                      <a:lnTo>
                        <a:pt x="161" y="35"/>
                      </a:lnTo>
                      <a:lnTo>
                        <a:pt x="161" y="35"/>
                      </a:lnTo>
                      <a:lnTo>
                        <a:pt x="161" y="35"/>
                      </a:lnTo>
                      <a:lnTo>
                        <a:pt x="161" y="36"/>
                      </a:lnTo>
                      <a:lnTo>
                        <a:pt x="161" y="36"/>
                      </a:lnTo>
                      <a:lnTo>
                        <a:pt x="159" y="36"/>
                      </a:lnTo>
                      <a:lnTo>
                        <a:pt x="159" y="36"/>
                      </a:lnTo>
                      <a:lnTo>
                        <a:pt x="159" y="36"/>
                      </a:lnTo>
                      <a:lnTo>
                        <a:pt x="159" y="36"/>
                      </a:lnTo>
                      <a:lnTo>
                        <a:pt x="159" y="38"/>
                      </a:lnTo>
                      <a:lnTo>
                        <a:pt x="159" y="38"/>
                      </a:lnTo>
                      <a:lnTo>
                        <a:pt x="134" y="36"/>
                      </a:lnTo>
                      <a:lnTo>
                        <a:pt x="97" y="29"/>
                      </a:lnTo>
                      <a:lnTo>
                        <a:pt x="71" y="21"/>
                      </a:lnTo>
                      <a:lnTo>
                        <a:pt x="74" y="23"/>
                      </a:lnTo>
                      <a:lnTo>
                        <a:pt x="80" y="25"/>
                      </a:lnTo>
                      <a:lnTo>
                        <a:pt x="86" y="27"/>
                      </a:lnTo>
                      <a:lnTo>
                        <a:pt x="94" y="29"/>
                      </a:lnTo>
                      <a:lnTo>
                        <a:pt x="99" y="31"/>
                      </a:lnTo>
                      <a:lnTo>
                        <a:pt x="105" y="33"/>
                      </a:lnTo>
                      <a:lnTo>
                        <a:pt x="109" y="35"/>
                      </a:lnTo>
                      <a:lnTo>
                        <a:pt x="115" y="36"/>
                      </a:lnTo>
                      <a:lnTo>
                        <a:pt x="115" y="38"/>
                      </a:lnTo>
                      <a:lnTo>
                        <a:pt x="115" y="40"/>
                      </a:lnTo>
                      <a:lnTo>
                        <a:pt x="117" y="40"/>
                      </a:lnTo>
                      <a:lnTo>
                        <a:pt x="117" y="42"/>
                      </a:lnTo>
                      <a:lnTo>
                        <a:pt x="117" y="44"/>
                      </a:lnTo>
                      <a:lnTo>
                        <a:pt x="117" y="46"/>
                      </a:lnTo>
                      <a:lnTo>
                        <a:pt x="117" y="48"/>
                      </a:lnTo>
                      <a:lnTo>
                        <a:pt x="117" y="50"/>
                      </a:lnTo>
                      <a:lnTo>
                        <a:pt x="109" y="52"/>
                      </a:lnTo>
                      <a:lnTo>
                        <a:pt x="103" y="52"/>
                      </a:lnTo>
                      <a:lnTo>
                        <a:pt x="97" y="54"/>
                      </a:lnTo>
                      <a:lnTo>
                        <a:pt x="92" y="54"/>
                      </a:lnTo>
                      <a:lnTo>
                        <a:pt x="86" y="54"/>
                      </a:lnTo>
                      <a:lnTo>
                        <a:pt x="80" y="54"/>
                      </a:lnTo>
                      <a:lnTo>
                        <a:pt x="73" y="54"/>
                      </a:lnTo>
                      <a:lnTo>
                        <a:pt x="65" y="54"/>
                      </a:lnTo>
                      <a:lnTo>
                        <a:pt x="63" y="56"/>
                      </a:lnTo>
                      <a:lnTo>
                        <a:pt x="61" y="58"/>
                      </a:lnTo>
                      <a:lnTo>
                        <a:pt x="57" y="59"/>
                      </a:lnTo>
                      <a:lnTo>
                        <a:pt x="53" y="61"/>
                      </a:lnTo>
                      <a:lnTo>
                        <a:pt x="48" y="63"/>
                      </a:lnTo>
                      <a:lnTo>
                        <a:pt x="46" y="67"/>
                      </a:lnTo>
                      <a:lnTo>
                        <a:pt x="42" y="69"/>
                      </a:lnTo>
                      <a:lnTo>
                        <a:pt x="40" y="75"/>
                      </a:lnTo>
                      <a:lnTo>
                        <a:pt x="34" y="77"/>
                      </a:lnTo>
                      <a:lnTo>
                        <a:pt x="30" y="79"/>
                      </a:lnTo>
                      <a:lnTo>
                        <a:pt x="28" y="82"/>
                      </a:lnTo>
                      <a:lnTo>
                        <a:pt x="25" y="84"/>
                      </a:lnTo>
                      <a:lnTo>
                        <a:pt x="21" y="88"/>
                      </a:lnTo>
                      <a:lnTo>
                        <a:pt x="15" y="90"/>
                      </a:lnTo>
                      <a:lnTo>
                        <a:pt x="11" y="92"/>
                      </a:lnTo>
                      <a:lnTo>
                        <a:pt x="5" y="92"/>
                      </a:lnTo>
                      <a:lnTo>
                        <a:pt x="3" y="94"/>
                      </a:lnTo>
                      <a:lnTo>
                        <a:pt x="3" y="100"/>
                      </a:lnTo>
                      <a:lnTo>
                        <a:pt x="2" y="107"/>
                      </a:lnTo>
                      <a:lnTo>
                        <a:pt x="0" y="113"/>
                      </a:lnTo>
                      <a:lnTo>
                        <a:pt x="0" y="121"/>
                      </a:lnTo>
                      <a:lnTo>
                        <a:pt x="0" y="129"/>
                      </a:lnTo>
                      <a:lnTo>
                        <a:pt x="0" y="134"/>
                      </a:lnTo>
                      <a:lnTo>
                        <a:pt x="2" y="140"/>
                      </a:lnTo>
                      <a:lnTo>
                        <a:pt x="5" y="146"/>
                      </a:lnTo>
                      <a:lnTo>
                        <a:pt x="9" y="148"/>
                      </a:lnTo>
                      <a:lnTo>
                        <a:pt x="13" y="150"/>
                      </a:lnTo>
                      <a:lnTo>
                        <a:pt x="19" y="150"/>
                      </a:lnTo>
                      <a:lnTo>
                        <a:pt x="23" y="150"/>
                      </a:lnTo>
                      <a:lnTo>
                        <a:pt x="28" y="150"/>
                      </a:lnTo>
                      <a:lnTo>
                        <a:pt x="34" y="150"/>
                      </a:lnTo>
                      <a:lnTo>
                        <a:pt x="38" y="150"/>
                      </a:lnTo>
                      <a:lnTo>
                        <a:pt x="44" y="150"/>
                      </a:lnTo>
                      <a:lnTo>
                        <a:pt x="46" y="152"/>
                      </a:lnTo>
                      <a:lnTo>
                        <a:pt x="48" y="155"/>
                      </a:lnTo>
                      <a:lnTo>
                        <a:pt x="50" y="159"/>
                      </a:lnTo>
                      <a:lnTo>
                        <a:pt x="51" y="163"/>
                      </a:lnTo>
                      <a:lnTo>
                        <a:pt x="53" y="169"/>
                      </a:lnTo>
                      <a:lnTo>
                        <a:pt x="55" y="173"/>
                      </a:lnTo>
                      <a:lnTo>
                        <a:pt x="57" y="176"/>
                      </a:lnTo>
                      <a:lnTo>
                        <a:pt x="61" y="178"/>
                      </a:lnTo>
                      <a:lnTo>
                        <a:pt x="65" y="180"/>
                      </a:lnTo>
                      <a:lnTo>
                        <a:pt x="69" y="182"/>
                      </a:lnTo>
                      <a:lnTo>
                        <a:pt x="73" y="184"/>
                      </a:lnTo>
                      <a:lnTo>
                        <a:pt x="78" y="184"/>
                      </a:lnTo>
                      <a:lnTo>
                        <a:pt x="82" y="184"/>
                      </a:lnTo>
                      <a:lnTo>
                        <a:pt x="88" y="186"/>
                      </a:lnTo>
                      <a:lnTo>
                        <a:pt x="92" y="186"/>
                      </a:lnTo>
                      <a:lnTo>
                        <a:pt x="96" y="186"/>
                      </a:lnTo>
                      <a:lnTo>
                        <a:pt x="96" y="211"/>
                      </a:lnTo>
                      <a:lnTo>
                        <a:pt x="96" y="213"/>
                      </a:lnTo>
                      <a:lnTo>
                        <a:pt x="96" y="213"/>
                      </a:lnTo>
                      <a:lnTo>
                        <a:pt x="96" y="213"/>
                      </a:lnTo>
                      <a:lnTo>
                        <a:pt x="96" y="215"/>
                      </a:lnTo>
                      <a:lnTo>
                        <a:pt x="97" y="215"/>
                      </a:lnTo>
                      <a:lnTo>
                        <a:pt x="97" y="217"/>
                      </a:lnTo>
                      <a:lnTo>
                        <a:pt x="97" y="217"/>
                      </a:lnTo>
                      <a:lnTo>
                        <a:pt x="97" y="217"/>
                      </a:lnTo>
                      <a:lnTo>
                        <a:pt x="99" y="217"/>
                      </a:lnTo>
                      <a:lnTo>
                        <a:pt x="103" y="219"/>
                      </a:lnTo>
                      <a:lnTo>
                        <a:pt x="105" y="219"/>
                      </a:lnTo>
                      <a:lnTo>
                        <a:pt x="107" y="221"/>
                      </a:lnTo>
                      <a:lnTo>
                        <a:pt x="109" y="221"/>
                      </a:lnTo>
                      <a:lnTo>
                        <a:pt x="111" y="223"/>
                      </a:lnTo>
                      <a:lnTo>
                        <a:pt x="113" y="223"/>
                      </a:lnTo>
                      <a:lnTo>
                        <a:pt x="115" y="223"/>
                      </a:lnTo>
                      <a:lnTo>
                        <a:pt x="115" y="224"/>
                      </a:lnTo>
                      <a:lnTo>
                        <a:pt x="115" y="226"/>
                      </a:lnTo>
                      <a:lnTo>
                        <a:pt x="117" y="228"/>
                      </a:lnTo>
                      <a:lnTo>
                        <a:pt x="119" y="228"/>
                      </a:lnTo>
                      <a:lnTo>
                        <a:pt x="119" y="230"/>
                      </a:lnTo>
                      <a:lnTo>
                        <a:pt x="121" y="232"/>
                      </a:lnTo>
                      <a:lnTo>
                        <a:pt x="122" y="232"/>
                      </a:lnTo>
                      <a:lnTo>
                        <a:pt x="124" y="232"/>
                      </a:lnTo>
                      <a:lnTo>
                        <a:pt x="132" y="242"/>
                      </a:lnTo>
                      <a:lnTo>
                        <a:pt x="132" y="249"/>
                      </a:lnTo>
                      <a:lnTo>
                        <a:pt x="130" y="255"/>
                      </a:lnTo>
                      <a:lnTo>
                        <a:pt x="126" y="263"/>
                      </a:lnTo>
                      <a:lnTo>
                        <a:pt x="122" y="269"/>
                      </a:lnTo>
                      <a:lnTo>
                        <a:pt x="117" y="272"/>
                      </a:lnTo>
                      <a:lnTo>
                        <a:pt x="111" y="276"/>
                      </a:lnTo>
                      <a:lnTo>
                        <a:pt x="103" y="278"/>
                      </a:lnTo>
                      <a:lnTo>
                        <a:pt x="96" y="280"/>
                      </a:lnTo>
                      <a:lnTo>
                        <a:pt x="96" y="280"/>
                      </a:lnTo>
                      <a:lnTo>
                        <a:pt x="96" y="280"/>
                      </a:lnTo>
                      <a:lnTo>
                        <a:pt x="96" y="280"/>
                      </a:lnTo>
                      <a:lnTo>
                        <a:pt x="96" y="280"/>
                      </a:lnTo>
                      <a:lnTo>
                        <a:pt x="96" y="280"/>
                      </a:lnTo>
                      <a:lnTo>
                        <a:pt x="94" y="280"/>
                      </a:lnTo>
                      <a:lnTo>
                        <a:pt x="94" y="280"/>
                      </a:lnTo>
                      <a:lnTo>
                        <a:pt x="94" y="280"/>
                      </a:lnTo>
                      <a:lnTo>
                        <a:pt x="94" y="282"/>
                      </a:lnTo>
                      <a:lnTo>
                        <a:pt x="92" y="282"/>
                      </a:lnTo>
                      <a:lnTo>
                        <a:pt x="92" y="284"/>
                      </a:lnTo>
                      <a:lnTo>
                        <a:pt x="90" y="286"/>
                      </a:lnTo>
                      <a:lnTo>
                        <a:pt x="90" y="286"/>
                      </a:lnTo>
                      <a:lnTo>
                        <a:pt x="88" y="288"/>
                      </a:lnTo>
                      <a:lnTo>
                        <a:pt x="88" y="288"/>
                      </a:lnTo>
                      <a:lnTo>
                        <a:pt x="88" y="290"/>
                      </a:lnTo>
                      <a:lnTo>
                        <a:pt x="88" y="290"/>
                      </a:lnTo>
                      <a:lnTo>
                        <a:pt x="86" y="290"/>
                      </a:lnTo>
                      <a:lnTo>
                        <a:pt x="86" y="292"/>
                      </a:lnTo>
                      <a:lnTo>
                        <a:pt x="84" y="292"/>
                      </a:lnTo>
                      <a:lnTo>
                        <a:pt x="84" y="293"/>
                      </a:lnTo>
                      <a:lnTo>
                        <a:pt x="82" y="293"/>
                      </a:lnTo>
                      <a:lnTo>
                        <a:pt x="82" y="293"/>
                      </a:lnTo>
                      <a:lnTo>
                        <a:pt x="82" y="293"/>
                      </a:lnTo>
                      <a:lnTo>
                        <a:pt x="80" y="295"/>
                      </a:lnTo>
                      <a:lnTo>
                        <a:pt x="78" y="297"/>
                      </a:lnTo>
                      <a:lnTo>
                        <a:pt x="76" y="299"/>
                      </a:lnTo>
                      <a:lnTo>
                        <a:pt x="73" y="301"/>
                      </a:lnTo>
                      <a:lnTo>
                        <a:pt x="71" y="303"/>
                      </a:lnTo>
                      <a:lnTo>
                        <a:pt x="69" y="305"/>
                      </a:lnTo>
                      <a:lnTo>
                        <a:pt x="67" y="305"/>
                      </a:lnTo>
                      <a:lnTo>
                        <a:pt x="65" y="307"/>
                      </a:lnTo>
                      <a:lnTo>
                        <a:pt x="63" y="313"/>
                      </a:lnTo>
                      <a:lnTo>
                        <a:pt x="61" y="317"/>
                      </a:lnTo>
                      <a:lnTo>
                        <a:pt x="59" y="322"/>
                      </a:lnTo>
                      <a:lnTo>
                        <a:pt x="59" y="328"/>
                      </a:lnTo>
                      <a:lnTo>
                        <a:pt x="59" y="334"/>
                      </a:lnTo>
                      <a:lnTo>
                        <a:pt x="61" y="340"/>
                      </a:lnTo>
                      <a:lnTo>
                        <a:pt x="61" y="345"/>
                      </a:lnTo>
                      <a:lnTo>
                        <a:pt x="61" y="351"/>
                      </a:lnTo>
                      <a:lnTo>
                        <a:pt x="65" y="351"/>
                      </a:lnTo>
                      <a:lnTo>
                        <a:pt x="65" y="351"/>
                      </a:lnTo>
                      <a:lnTo>
                        <a:pt x="67" y="353"/>
                      </a:lnTo>
                      <a:lnTo>
                        <a:pt x="67" y="355"/>
                      </a:lnTo>
                      <a:lnTo>
                        <a:pt x="69" y="357"/>
                      </a:lnTo>
                      <a:lnTo>
                        <a:pt x="69" y="361"/>
                      </a:lnTo>
                      <a:lnTo>
                        <a:pt x="71" y="363"/>
                      </a:lnTo>
                      <a:lnTo>
                        <a:pt x="71" y="364"/>
                      </a:lnTo>
                      <a:lnTo>
                        <a:pt x="71" y="364"/>
                      </a:lnTo>
                      <a:lnTo>
                        <a:pt x="73" y="370"/>
                      </a:lnTo>
                      <a:lnTo>
                        <a:pt x="73" y="376"/>
                      </a:lnTo>
                      <a:lnTo>
                        <a:pt x="74" y="384"/>
                      </a:lnTo>
                      <a:lnTo>
                        <a:pt x="74" y="389"/>
                      </a:lnTo>
                      <a:lnTo>
                        <a:pt x="74" y="397"/>
                      </a:lnTo>
                      <a:lnTo>
                        <a:pt x="74" y="403"/>
                      </a:lnTo>
                      <a:lnTo>
                        <a:pt x="74" y="409"/>
                      </a:lnTo>
                      <a:lnTo>
                        <a:pt x="76" y="414"/>
                      </a:lnTo>
                      <a:lnTo>
                        <a:pt x="76" y="416"/>
                      </a:lnTo>
                      <a:lnTo>
                        <a:pt x="76" y="418"/>
                      </a:lnTo>
                      <a:lnTo>
                        <a:pt x="76" y="420"/>
                      </a:lnTo>
                      <a:lnTo>
                        <a:pt x="74" y="422"/>
                      </a:lnTo>
                      <a:lnTo>
                        <a:pt x="74" y="424"/>
                      </a:lnTo>
                      <a:lnTo>
                        <a:pt x="74" y="426"/>
                      </a:lnTo>
                      <a:lnTo>
                        <a:pt x="73" y="428"/>
                      </a:lnTo>
                      <a:lnTo>
                        <a:pt x="71" y="430"/>
                      </a:lnTo>
                      <a:lnTo>
                        <a:pt x="71" y="457"/>
                      </a:lnTo>
                      <a:lnTo>
                        <a:pt x="71" y="457"/>
                      </a:lnTo>
                      <a:lnTo>
                        <a:pt x="73" y="460"/>
                      </a:lnTo>
                      <a:lnTo>
                        <a:pt x="73" y="464"/>
                      </a:lnTo>
                      <a:lnTo>
                        <a:pt x="74" y="468"/>
                      </a:lnTo>
                      <a:lnTo>
                        <a:pt x="76" y="472"/>
                      </a:lnTo>
                      <a:lnTo>
                        <a:pt x="78" y="476"/>
                      </a:lnTo>
                      <a:lnTo>
                        <a:pt x="80" y="480"/>
                      </a:lnTo>
                      <a:lnTo>
                        <a:pt x="80" y="481"/>
                      </a:lnTo>
                      <a:lnTo>
                        <a:pt x="80" y="481"/>
                      </a:lnTo>
                      <a:lnTo>
                        <a:pt x="82" y="481"/>
                      </a:lnTo>
                      <a:lnTo>
                        <a:pt x="82" y="481"/>
                      </a:lnTo>
                      <a:lnTo>
                        <a:pt x="82" y="481"/>
                      </a:lnTo>
                      <a:lnTo>
                        <a:pt x="84" y="481"/>
                      </a:lnTo>
                      <a:lnTo>
                        <a:pt x="84" y="481"/>
                      </a:lnTo>
                      <a:lnTo>
                        <a:pt x="84" y="481"/>
                      </a:lnTo>
                      <a:lnTo>
                        <a:pt x="84" y="481"/>
                      </a:lnTo>
                      <a:lnTo>
                        <a:pt x="84" y="481"/>
                      </a:lnTo>
                      <a:lnTo>
                        <a:pt x="86" y="483"/>
                      </a:lnTo>
                      <a:lnTo>
                        <a:pt x="92" y="483"/>
                      </a:lnTo>
                      <a:lnTo>
                        <a:pt x="96" y="485"/>
                      </a:lnTo>
                      <a:lnTo>
                        <a:pt x="101" y="487"/>
                      </a:lnTo>
                      <a:lnTo>
                        <a:pt x="105" y="489"/>
                      </a:lnTo>
                      <a:lnTo>
                        <a:pt x="111" y="493"/>
                      </a:lnTo>
                      <a:lnTo>
                        <a:pt x="117" y="495"/>
                      </a:lnTo>
                      <a:lnTo>
                        <a:pt x="121" y="497"/>
                      </a:lnTo>
                      <a:lnTo>
                        <a:pt x="126" y="497"/>
                      </a:lnTo>
                      <a:lnTo>
                        <a:pt x="126" y="497"/>
                      </a:lnTo>
                      <a:lnTo>
                        <a:pt x="126" y="497"/>
                      </a:lnTo>
                      <a:lnTo>
                        <a:pt x="126" y="499"/>
                      </a:lnTo>
                      <a:lnTo>
                        <a:pt x="128" y="499"/>
                      </a:lnTo>
                      <a:lnTo>
                        <a:pt x="128" y="499"/>
                      </a:lnTo>
                      <a:lnTo>
                        <a:pt x="128" y="499"/>
                      </a:lnTo>
                      <a:lnTo>
                        <a:pt x="128" y="501"/>
                      </a:lnTo>
                      <a:lnTo>
                        <a:pt x="128" y="501"/>
                      </a:lnTo>
                      <a:lnTo>
                        <a:pt x="130" y="501"/>
                      </a:lnTo>
                      <a:lnTo>
                        <a:pt x="130" y="501"/>
                      </a:lnTo>
                      <a:lnTo>
                        <a:pt x="130" y="501"/>
                      </a:lnTo>
                      <a:lnTo>
                        <a:pt x="132" y="503"/>
                      </a:lnTo>
                      <a:lnTo>
                        <a:pt x="132" y="503"/>
                      </a:lnTo>
                      <a:lnTo>
                        <a:pt x="132" y="505"/>
                      </a:lnTo>
                      <a:lnTo>
                        <a:pt x="132" y="505"/>
                      </a:lnTo>
                      <a:lnTo>
                        <a:pt x="134" y="505"/>
                      </a:lnTo>
                      <a:lnTo>
                        <a:pt x="138" y="505"/>
                      </a:lnTo>
                      <a:lnTo>
                        <a:pt x="144" y="505"/>
                      </a:lnTo>
                      <a:lnTo>
                        <a:pt x="147" y="505"/>
                      </a:lnTo>
                      <a:lnTo>
                        <a:pt x="153" y="505"/>
                      </a:lnTo>
                      <a:lnTo>
                        <a:pt x="157" y="505"/>
                      </a:lnTo>
                      <a:lnTo>
                        <a:pt x="163" y="506"/>
                      </a:lnTo>
                      <a:lnTo>
                        <a:pt x="167" y="508"/>
                      </a:lnTo>
                      <a:lnTo>
                        <a:pt x="170" y="512"/>
                      </a:lnTo>
                      <a:lnTo>
                        <a:pt x="170" y="533"/>
                      </a:lnTo>
                      <a:lnTo>
                        <a:pt x="170" y="533"/>
                      </a:lnTo>
                      <a:lnTo>
                        <a:pt x="170" y="535"/>
                      </a:lnTo>
                      <a:lnTo>
                        <a:pt x="172" y="535"/>
                      </a:lnTo>
                      <a:lnTo>
                        <a:pt x="172" y="537"/>
                      </a:lnTo>
                      <a:lnTo>
                        <a:pt x="174" y="539"/>
                      </a:lnTo>
                      <a:lnTo>
                        <a:pt x="174" y="541"/>
                      </a:lnTo>
                      <a:lnTo>
                        <a:pt x="174" y="543"/>
                      </a:lnTo>
                      <a:lnTo>
                        <a:pt x="174" y="543"/>
                      </a:lnTo>
                      <a:lnTo>
                        <a:pt x="176" y="543"/>
                      </a:lnTo>
                      <a:lnTo>
                        <a:pt x="176" y="543"/>
                      </a:lnTo>
                      <a:lnTo>
                        <a:pt x="178" y="545"/>
                      </a:lnTo>
                      <a:lnTo>
                        <a:pt x="180" y="545"/>
                      </a:lnTo>
                      <a:lnTo>
                        <a:pt x="182" y="545"/>
                      </a:lnTo>
                      <a:lnTo>
                        <a:pt x="182" y="547"/>
                      </a:lnTo>
                      <a:lnTo>
                        <a:pt x="184" y="547"/>
                      </a:lnTo>
                      <a:lnTo>
                        <a:pt x="184" y="547"/>
                      </a:lnTo>
                      <a:lnTo>
                        <a:pt x="188" y="549"/>
                      </a:lnTo>
                      <a:lnTo>
                        <a:pt x="192" y="549"/>
                      </a:lnTo>
                      <a:lnTo>
                        <a:pt x="197" y="549"/>
                      </a:lnTo>
                      <a:lnTo>
                        <a:pt x="201" y="549"/>
                      </a:lnTo>
                      <a:lnTo>
                        <a:pt x="205" y="549"/>
                      </a:lnTo>
                      <a:lnTo>
                        <a:pt x="209" y="549"/>
                      </a:lnTo>
                      <a:lnTo>
                        <a:pt x="213" y="551"/>
                      </a:lnTo>
                      <a:lnTo>
                        <a:pt x="216" y="551"/>
                      </a:lnTo>
                      <a:lnTo>
                        <a:pt x="218" y="551"/>
                      </a:lnTo>
                      <a:lnTo>
                        <a:pt x="218" y="554"/>
                      </a:lnTo>
                      <a:lnTo>
                        <a:pt x="220" y="556"/>
                      </a:lnTo>
                      <a:lnTo>
                        <a:pt x="222" y="558"/>
                      </a:lnTo>
                      <a:lnTo>
                        <a:pt x="226" y="560"/>
                      </a:lnTo>
                      <a:lnTo>
                        <a:pt x="228" y="562"/>
                      </a:lnTo>
                      <a:lnTo>
                        <a:pt x="232" y="564"/>
                      </a:lnTo>
                      <a:lnTo>
                        <a:pt x="232" y="566"/>
                      </a:lnTo>
                      <a:lnTo>
                        <a:pt x="232" y="570"/>
                      </a:lnTo>
                      <a:lnTo>
                        <a:pt x="230" y="577"/>
                      </a:lnTo>
                      <a:lnTo>
                        <a:pt x="226" y="583"/>
                      </a:lnTo>
                      <a:lnTo>
                        <a:pt x="220" y="587"/>
                      </a:lnTo>
                      <a:lnTo>
                        <a:pt x="215" y="591"/>
                      </a:lnTo>
                      <a:lnTo>
                        <a:pt x="203" y="599"/>
                      </a:lnTo>
                      <a:lnTo>
                        <a:pt x="190" y="602"/>
                      </a:lnTo>
                      <a:lnTo>
                        <a:pt x="176" y="608"/>
                      </a:lnTo>
                      <a:lnTo>
                        <a:pt x="163" y="614"/>
                      </a:lnTo>
                      <a:lnTo>
                        <a:pt x="157" y="618"/>
                      </a:lnTo>
                      <a:lnTo>
                        <a:pt x="153" y="622"/>
                      </a:lnTo>
                      <a:lnTo>
                        <a:pt x="149" y="625"/>
                      </a:lnTo>
                      <a:lnTo>
                        <a:pt x="145" y="633"/>
                      </a:lnTo>
                      <a:lnTo>
                        <a:pt x="145" y="635"/>
                      </a:lnTo>
                      <a:lnTo>
                        <a:pt x="145" y="637"/>
                      </a:lnTo>
                      <a:lnTo>
                        <a:pt x="145" y="639"/>
                      </a:lnTo>
                      <a:lnTo>
                        <a:pt x="145" y="643"/>
                      </a:lnTo>
                      <a:lnTo>
                        <a:pt x="145" y="645"/>
                      </a:lnTo>
                      <a:lnTo>
                        <a:pt x="147" y="646"/>
                      </a:lnTo>
                      <a:lnTo>
                        <a:pt x="147" y="650"/>
                      </a:lnTo>
                      <a:lnTo>
                        <a:pt x="147" y="650"/>
                      </a:lnTo>
                      <a:lnTo>
                        <a:pt x="151" y="656"/>
                      </a:lnTo>
                      <a:lnTo>
                        <a:pt x="151" y="660"/>
                      </a:lnTo>
                      <a:lnTo>
                        <a:pt x="151" y="666"/>
                      </a:lnTo>
                      <a:lnTo>
                        <a:pt x="149" y="669"/>
                      </a:lnTo>
                      <a:lnTo>
                        <a:pt x="147" y="673"/>
                      </a:lnTo>
                      <a:lnTo>
                        <a:pt x="147" y="679"/>
                      </a:lnTo>
                      <a:lnTo>
                        <a:pt x="145" y="683"/>
                      </a:lnTo>
                      <a:lnTo>
                        <a:pt x="145" y="689"/>
                      </a:lnTo>
                      <a:lnTo>
                        <a:pt x="145" y="694"/>
                      </a:lnTo>
                      <a:lnTo>
                        <a:pt x="147" y="694"/>
                      </a:lnTo>
                      <a:lnTo>
                        <a:pt x="147" y="696"/>
                      </a:lnTo>
                      <a:lnTo>
                        <a:pt x="147" y="696"/>
                      </a:lnTo>
                      <a:lnTo>
                        <a:pt x="147" y="698"/>
                      </a:lnTo>
                      <a:lnTo>
                        <a:pt x="147" y="698"/>
                      </a:lnTo>
                      <a:lnTo>
                        <a:pt x="147" y="698"/>
                      </a:lnTo>
                      <a:lnTo>
                        <a:pt x="147" y="700"/>
                      </a:lnTo>
                      <a:lnTo>
                        <a:pt x="149" y="700"/>
                      </a:lnTo>
                      <a:lnTo>
                        <a:pt x="151" y="700"/>
                      </a:lnTo>
                      <a:lnTo>
                        <a:pt x="149" y="700"/>
                      </a:lnTo>
                      <a:lnTo>
                        <a:pt x="149" y="702"/>
                      </a:lnTo>
                      <a:lnTo>
                        <a:pt x="149" y="702"/>
                      </a:lnTo>
                      <a:lnTo>
                        <a:pt x="149" y="704"/>
                      </a:lnTo>
                      <a:lnTo>
                        <a:pt x="149" y="706"/>
                      </a:lnTo>
                      <a:lnTo>
                        <a:pt x="149" y="706"/>
                      </a:lnTo>
                      <a:lnTo>
                        <a:pt x="147" y="708"/>
                      </a:lnTo>
                      <a:lnTo>
                        <a:pt x="147" y="708"/>
                      </a:lnTo>
                      <a:lnTo>
                        <a:pt x="142" y="714"/>
                      </a:lnTo>
                      <a:lnTo>
                        <a:pt x="142" y="716"/>
                      </a:lnTo>
                      <a:lnTo>
                        <a:pt x="140" y="716"/>
                      </a:lnTo>
                      <a:lnTo>
                        <a:pt x="138" y="717"/>
                      </a:lnTo>
                      <a:lnTo>
                        <a:pt x="136" y="717"/>
                      </a:lnTo>
                      <a:lnTo>
                        <a:pt x="134" y="719"/>
                      </a:lnTo>
                      <a:lnTo>
                        <a:pt x="132" y="719"/>
                      </a:lnTo>
                      <a:lnTo>
                        <a:pt x="130" y="721"/>
                      </a:lnTo>
                      <a:lnTo>
                        <a:pt x="128" y="723"/>
                      </a:lnTo>
                      <a:lnTo>
                        <a:pt x="128" y="725"/>
                      </a:lnTo>
                      <a:lnTo>
                        <a:pt x="126" y="725"/>
                      </a:lnTo>
                      <a:lnTo>
                        <a:pt x="126" y="725"/>
                      </a:lnTo>
                      <a:lnTo>
                        <a:pt x="124" y="725"/>
                      </a:lnTo>
                      <a:lnTo>
                        <a:pt x="124" y="725"/>
                      </a:lnTo>
                      <a:lnTo>
                        <a:pt x="122" y="727"/>
                      </a:lnTo>
                      <a:lnTo>
                        <a:pt x="122" y="727"/>
                      </a:lnTo>
                      <a:lnTo>
                        <a:pt x="121" y="729"/>
                      </a:lnTo>
                      <a:lnTo>
                        <a:pt x="121" y="729"/>
                      </a:lnTo>
                      <a:lnTo>
                        <a:pt x="119" y="731"/>
                      </a:lnTo>
                      <a:lnTo>
                        <a:pt x="115" y="733"/>
                      </a:lnTo>
                      <a:lnTo>
                        <a:pt x="113" y="735"/>
                      </a:lnTo>
                      <a:lnTo>
                        <a:pt x="109" y="737"/>
                      </a:lnTo>
                      <a:lnTo>
                        <a:pt x="107" y="740"/>
                      </a:lnTo>
                      <a:lnTo>
                        <a:pt x="105" y="744"/>
                      </a:lnTo>
                      <a:lnTo>
                        <a:pt x="103" y="748"/>
                      </a:lnTo>
                      <a:lnTo>
                        <a:pt x="103" y="752"/>
                      </a:lnTo>
                      <a:lnTo>
                        <a:pt x="101" y="754"/>
                      </a:lnTo>
                      <a:lnTo>
                        <a:pt x="97" y="754"/>
                      </a:lnTo>
                      <a:lnTo>
                        <a:pt x="96" y="756"/>
                      </a:lnTo>
                      <a:lnTo>
                        <a:pt x="94" y="758"/>
                      </a:lnTo>
                      <a:lnTo>
                        <a:pt x="92" y="760"/>
                      </a:lnTo>
                      <a:lnTo>
                        <a:pt x="90" y="762"/>
                      </a:lnTo>
                      <a:lnTo>
                        <a:pt x="88" y="763"/>
                      </a:lnTo>
                      <a:lnTo>
                        <a:pt x="86" y="765"/>
                      </a:lnTo>
                      <a:lnTo>
                        <a:pt x="84" y="767"/>
                      </a:lnTo>
                      <a:lnTo>
                        <a:pt x="80" y="790"/>
                      </a:lnTo>
                      <a:lnTo>
                        <a:pt x="80" y="792"/>
                      </a:lnTo>
                      <a:lnTo>
                        <a:pt x="80" y="796"/>
                      </a:lnTo>
                      <a:lnTo>
                        <a:pt x="78" y="798"/>
                      </a:lnTo>
                      <a:lnTo>
                        <a:pt x="78" y="800"/>
                      </a:lnTo>
                      <a:lnTo>
                        <a:pt x="76" y="804"/>
                      </a:lnTo>
                      <a:lnTo>
                        <a:pt x="76" y="806"/>
                      </a:lnTo>
                      <a:lnTo>
                        <a:pt x="76" y="808"/>
                      </a:lnTo>
                      <a:lnTo>
                        <a:pt x="76" y="808"/>
                      </a:lnTo>
                      <a:lnTo>
                        <a:pt x="74" y="808"/>
                      </a:lnTo>
                      <a:lnTo>
                        <a:pt x="73" y="810"/>
                      </a:lnTo>
                      <a:lnTo>
                        <a:pt x="71" y="810"/>
                      </a:lnTo>
                      <a:lnTo>
                        <a:pt x="69" y="811"/>
                      </a:lnTo>
                      <a:lnTo>
                        <a:pt x="67" y="811"/>
                      </a:lnTo>
                      <a:lnTo>
                        <a:pt x="65" y="813"/>
                      </a:lnTo>
                      <a:lnTo>
                        <a:pt x="65" y="813"/>
                      </a:lnTo>
                      <a:lnTo>
                        <a:pt x="65" y="815"/>
                      </a:lnTo>
                      <a:lnTo>
                        <a:pt x="57" y="815"/>
                      </a:lnTo>
                      <a:lnTo>
                        <a:pt x="51" y="815"/>
                      </a:lnTo>
                      <a:lnTo>
                        <a:pt x="44" y="817"/>
                      </a:lnTo>
                      <a:lnTo>
                        <a:pt x="38" y="819"/>
                      </a:lnTo>
                      <a:lnTo>
                        <a:pt x="32" y="823"/>
                      </a:lnTo>
                      <a:lnTo>
                        <a:pt x="26" y="825"/>
                      </a:lnTo>
                      <a:lnTo>
                        <a:pt x="23" y="829"/>
                      </a:lnTo>
                      <a:lnTo>
                        <a:pt x="17" y="834"/>
                      </a:lnTo>
                      <a:lnTo>
                        <a:pt x="769" y="834"/>
                      </a:lnTo>
                      <a:close/>
                    </a:path>
                  </a:pathLst>
                </a:custGeom>
                <a:blipFill rotWithShape="0">
                  <a:blip r:embed="rId25"/>
                  <a:srcRect/>
                  <a:tile tx="0" ty="0" sx="100000" sy="100000" algn="ctr"/>
                </a:blip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942160" y="4161600"/>
                  <a:ext cx="565560" cy="184320"/>
                </a:xfrm>
                <a:custGeom>
                  <a:avLst/>
                  <a:gdLst/>
                  <a:ahLst/>
                  <a:rect l="l" t="t" r="r" b="b"/>
                  <a:pathLst>
                    <a:path w="2965" h="833">
                      <a:moveTo>
                        <a:pt x="2046" y="472"/>
                      </a:moveTo>
                      <a:lnTo>
                        <a:pt x="2044" y="472"/>
                      </a:lnTo>
                      <a:lnTo>
                        <a:pt x="2044" y="470"/>
                      </a:lnTo>
                      <a:lnTo>
                        <a:pt x="2044" y="469"/>
                      </a:lnTo>
                      <a:lnTo>
                        <a:pt x="2042" y="467"/>
                      </a:lnTo>
                      <a:lnTo>
                        <a:pt x="2042" y="465"/>
                      </a:lnTo>
                      <a:lnTo>
                        <a:pt x="2042" y="463"/>
                      </a:lnTo>
                      <a:lnTo>
                        <a:pt x="2042" y="461"/>
                      </a:lnTo>
                      <a:lnTo>
                        <a:pt x="2044" y="459"/>
                      </a:lnTo>
                      <a:lnTo>
                        <a:pt x="2044" y="457"/>
                      </a:lnTo>
                      <a:lnTo>
                        <a:pt x="2044" y="457"/>
                      </a:lnTo>
                      <a:lnTo>
                        <a:pt x="2044" y="457"/>
                      </a:lnTo>
                      <a:lnTo>
                        <a:pt x="2046" y="455"/>
                      </a:lnTo>
                      <a:lnTo>
                        <a:pt x="2046" y="455"/>
                      </a:lnTo>
                      <a:lnTo>
                        <a:pt x="2048" y="453"/>
                      </a:lnTo>
                      <a:lnTo>
                        <a:pt x="2048" y="453"/>
                      </a:lnTo>
                      <a:lnTo>
                        <a:pt x="2050" y="451"/>
                      </a:lnTo>
                      <a:lnTo>
                        <a:pt x="2050" y="451"/>
                      </a:lnTo>
                      <a:lnTo>
                        <a:pt x="2050" y="449"/>
                      </a:lnTo>
                      <a:lnTo>
                        <a:pt x="2050" y="447"/>
                      </a:lnTo>
                      <a:lnTo>
                        <a:pt x="2052" y="446"/>
                      </a:lnTo>
                      <a:lnTo>
                        <a:pt x="2052" y="444"/>
                      </a:lnTo>
                      <a:lnTo>
                        <a:pt x="2052" y="442"/>
                      </a:lnTo>
                      <a:lnTo>
                        <a:pt x="2053" y="440"/>
                      </a:lnTo>
                      <a:lnTo>
                        <a:pt x="2053" y="438"/>
                      </a:lnTo>
                      <a:lnTo>
                        <a:pt x="2055" y="438"/>
                      </a:lnTo>
                      <a:lnTo>
                        <a:pt x="2057" y="436"/>
                      </a:lnTo>
                      <a:lnTo>
                        <a:pt x="2059" y="436"/>
                      </a:lnTo>
                      <a:lnTo>
                        <a:pt x="2061" y="434"/>
                      </a:lnTo>
                      <a:lnTo>
                        <a:pt x="2063" y="434"/>
                      </a:lnTo>
                      <a:lnTo>
                        <a:pt x="2065" y="432"/>
                      </a:lnTo>
                      <a:lnTo>
                        <a:pt x="2067" y="430"/>
                      </a:lnTo>
                      <a:lnTo>
                        <a:pt x="2067" y="428"/>
                      </a:lnTo>
                      <a:lnTo>
                        <a:pt x="2069" y="428"/>
                      </a:lnTo>
                      <a:lnTo>
                        <a:pt x="2069" y="424"/>
                      </a:lnTo>
                      <a:lnTo>
                        <a:pt x="2067" y="424"/>
                      </a:lnTo>
                      <a:lnTo>
                        <a:pt x="2065" y="422"/>
                      </a:lnTo>
                      <a:lnTo>
                        <a:pt x="2063" y="422"/>
                      </a:lnTo>
                      <a:lnTo>
                        <a:pt x="2061" y="421"/>
                      </a:lnTo>
                      <a:lnTo>
                        <a:pt x="2059" y="419"/>
                      </a:lnTo>
                      <a:lnTo>
                        <a:pt x="2059" y="419"/>
                      </a:lnTo>
                      <a:lnTo>
                        <a:pt x="2057" y="417"/>
                      </a:lnTo>
                      <a:lnTo>
                        <a:pt x="2055" y="415"/>
                      </a:lnTo>
                      <a:lnTo>
                        <a:pt x="2055" y="415"/>
                      </a:lnTo>
                      <a:lnTo>
                        <a:pt x="2055" y="413"/>
                      </a:lnTo>
                      <a:lnTo>
                        <a:pt x="2055" y="413"/>
                      </a:lnTo>
                      <a:lnTo>
                        <a:pt x="2055" y="411"/>
                      </a:lnTo>
                      <a:lnTo>
                        <a:pt x="2055" y="411"/>
                      </a:lnTo>
                      <a:lnTo>
                        <a:pt x="2055" y="409"/>
                      </a:lnTo>
                      <a:lnTo>
                        <a:pt x="2057" y="409"/>
                      </a:lnTo>
                      <a:lnTo>
                        <a:pt x="2057" y="407"/>
                      </a:lnTo>
                      <a:lnTo>
                        <a:pt x="2059" y="405"/>
                      </a:lnTo>
                      <a:lnTo>
                        <a:pt x="2063" y="405"/>
                      </a:lnTo>
                      <a:lnTo>
                        <a:pt x="2069" y="411"/>
                      </a:lnTo>
                      <a:lnTo>
                        <a:pt x="2073" y="417"/>
                      </a:lnTo>
                      <a:lnTo>
                        <a:pt x="2076" y="422"/>
                      </a:lnTo>
                      <a:lnTo>
                        <a:pt x="2080" y="428"/>
                      </a:lnTo>
                      <a:lnTo>
                        <a:pt x="2084" y="434"/>
                      </a:lnTo>
                      <a:lnTo>
                        <a:pt x="2086" y="440"/>
                      </a:lnTo>
                      <a:lnTo>
                        <a:pt x="2090" y="446"/>
                      </a:lnTo>
                      <a:lnTo>
                        <a:pt x="2092" y="451"/>
                      </a:lnTo>
                      <a:lnTo>
                        <a:pt x="2096" y="451"/>
                      </a:lnTo>
                      <a:lnTo>
                        <a:pt x="2099" y="451"/>
                      </a:lnTo>
                      <a:lnTo>
                        <a:pt x="2101" y="449"/>
                      </a:lnTo>
                      <a:lnTo>
                        <a:pt x="2105" y="449"/>
                      </a:lnTo>
                      <a:lnTo>
                        <a:pt x="2107" y="447"/>
                      </a:lnTo>
                      <a:lnTo>
                        <a:pt x="2111" y="447"/>
                      </a:lnTo>
                      <a:lnTo>
                        <a:pt x="2115" y="446"/>
                      </a:lnTo>
                      <a:lnTo>
                        <a:pt x="2117" y="446"/>
                      </a:lnTo>
                      <a:lnTo>
                        <a:pt x="2117" y="444"/>
                      </a:lnTo>
                      <a:lnTo>
                        <a:pt x="2119" y="440"/>
                      </a:lnTo>
                      <a:lnTo>
                        <a:pt x="2119" y="436"/>
                      </a:lnTo>
                      <a:lnTo>
                        <a:pt x="2119" y="432"/>
                      </a:lnTo>
                      <a:lnTo>
                        <a:pt x="2121" y="428"/>
                      </a:lnTo>
                      <a:lnTo>
                        <a:pt x="2123" y="424"/>
                      </a:lnTo>
                      <a:lnTo>
                        <a:pt x="2124" y="422"/>
                      </a:lnTo>
                      <a:lnTo>
                        <a:pt x="2124" y="421"/>
                      </a:lnTo>
                      <a:lnTo>
                        <a:pt x="2126" y="422"/>
                      </a:lnTo>
                      <a:lnTo>
                        <a:pt x="2126" y="422"/>
                      </a:lnTo>
                      <a:lnTo>
                        <a:pt x="2128" y="422"/>
                      </a:lnTo>
                      <a:lnTo>
                        <a:pt x="2128" y="424"/>
                      </a:lnTo>
                      <a:lnTo>
                        <a:pt x="2130" y="424"/>
                      </a:lnTo>
                      <a:lnTo>
                        <a:pt x="2130" y="426"/>
                      </a:lnTo>
                      <a:lnTo>
                        <a:pt x="2132" y="426"/>
                      </a:lnTo>
                      <a:lnTo>
                        <a:pt x="2132" y="428"/>
                      </a:lnTo>
                      <a:lnTo>
                        <a:pt x="2134" y="428"/>
                      </a:lnTo>
                      <a:lnTo>
                        <a:pt x="2136" y="428"/>
                      </a:lnTo>
                      <a:lnTo>
                        <a:pt x="2136" y="430"/>
                      </a:lnTo>
                      <a:lnTo>
                        <a:pt x="2138" y="432"/>
                      </a:lnTo>
                      <a:lnTo>
                        <a:pt x="2140" y="432"/>
                      </a:lnTo>
                      <a:lnTo>
                        <a:pt x="2142" y="434"/>
                      </a:lnTo>
                      <a:lnTo>
                        <a:pt x="2142" y="436"/>
                      </a:lnTo>
                      <a:lnTo>
                        <a:pt x="2142" y="438"/>
                      </a:lnTo>
                      <a:lnTo>
                        <a:pt x="2144" y="438"/>
                      </a:lnTo>
                      <a:lnTo>
                        <a:pt x="2144" y="440"/>
                      </a:lnTo>
                      <a:lnTo>
                        <a:pt x="2146" y="442"/>
                      </a:lnTo>
                      <a:lnTo>
                        <a:pt x="2146" y="446"/>
                      </a:lnTo>
                      <a:lnTo>
                        <a:pt x="2146" y="447"/>
                      </a:lnTo>
                      <a:lnTo>
                        <a:pt x="2146" y="451"/>
                      </a:lnTo>
                      <a:lnTo>
                        <a:pt x="2147" y="453"/>
                      </a:lnTo>
                      <a:lnTo>
                        <a:pt x="2147" y="455"/>
                      </a:lnTo>
                      <a:lnTo>
                        <a:pt x="2147" y="455"/>
                      </a:lnTo>
                      <a:lnTo>
                        <a:pt x="2147" y="457"/>
                      </a:lnTo>
                      <a:lnTo>
                        <a:pt x="2149" y="457"/>
                      </a:lnTo>
                      <a:lnTo>
                        <a:pt x="2149" y="457"/>
                      </a:lnTo>
                      <a:lnTo>
                        <a:pt x="2151" y="459"/>
                      </a:lnTo>
                      <a:lnTo>
                        <a:pt x="2151" y="459"/>
                      </a:lnTo>
                      <a:lnTo>
                        <a:pt x="2153" y="461"/>
                      </a:lnTo>
                      <a:lnTo>
                        <a:pt x="2153" y="461"/>
                      </a:lnTo>
                      <a:lnTo>
                        <a:pt x="2153" y="463"/>
                      </a:lnTo>
                      <a:lnTo>
                        <a:pt x="2153" y="465"/>
                      </a:lnTo>
                      <a:lnTo>
                        <a:pt x="2153" y="465"/>
                      </a:lnTo>
                      <a:lnTo>
                        <a:pt x="2153" y="467"/>
                      </a:lnTo>
                      <a:lnTo>
                        <a:pt x="2153" y="467"/>
                      </a:lnTo>
                      <a:lnTo>
                        <a:pt x="2153" y="469"/>
                      </a:lnTo>
                      <a:lnTo>
                        <a:pt x="2153" y="470"/>
                      </a:lnTo>
                      <a:lnTo>
                        <a:pt x="2153" y="470"/>
                      </a:lnTo>
                      <a:lnTo>
                        <a:pt x="2155" y="472"/>
                      </a:lnTo>
                      <a:lnTo>
                        <a:pt x="2159" y="474"/>
                      </a:lnTo>
                      <a:lnTo>
                        <a:pt x="2163" y="476"/>
                      </a:lnTo>
                      <a:lnTo>
                        <a:pt x="2167" y="476"/>
                      </a:lnTo>
                      <a:lnTo>
                        <a:pt x="2170" y="478"/>
                      </a:lnTo>
                      <a:lnTo>
                        <a:pt x="2176" y="478"/>
                      </a:lnTo>
                      <a:lnTo>
                        <a:pt x="2178" y="478"/>
                      </a:lnTo>
                      <a:lnTo>
                        <a:pt x="2182" y="478"/>
                      </a:lnTo>
                      <a:lnTo>
                        <a:pt x="2180" y="478"/>
                      </a:lnTo>
                      <a:lnTo>
                        <a:pt x="2176" y="478"/>
                      </a:lnTo>
                      <a:lnTo>
                        <a:pt x="2174" y="476"/>
                      </a:lnTo>
                      <a:lnTo>
                        <a:pt x="2172" y="476"/>
                      </a:lnTo>
                      <a:lnTo>
                        <a:pt x="2170" y="476"/>
                      </a:lnTo>
                      <a:lnTo>
                        <a:pt x="2169" y="474"/>
                      </a:lnTo>
                      <a:lnTo>
                        <a:pt x="2167" y="474"/>
                      </a:lnTo>
                      <a:lnTo>
                        <a:pt x="2163" y="474"/>
                      </a:lnTo>
                      <a:lnTo>
                        <a:pt x="2167" y="474"/>
                      </a:lnTo>
                      <a:lnTo>
                        <a:pt x="2170" y="474"/>
                      </a:lnTo>
                      <a:lnTo>
                        <a:pt x="2174" y="474"/>
                      </a:lnTo>
                      <a:lnTo>
                        <a:pt x="2178" y="474"/>
                      </a:lnTo>
                      <a:lnTo>
                        <a:pt x="2182" y="474"/>
                      </a:lnTo>
                      <a:lnTo>
                        <a:pt x="2184" y="474"/>
                      </a:lnTo>
                      <a:lnTo>
                        <a:pt x="2188" y="474"/>
                      </a:lnTo>
                      <a:lnTo>
                        <a:pt x="2190" y="472"/>
                      </a:lnTo>
                      <a:lnTo>
                        <a:pt x="2192" y="470"/>
                      </a:lnTo>
                      <a:lnTo>
                        <a:pt x="2192" y="467"/>
                      </a:lnTo>
                      <a:lnTo>
                        <a:pt x="2192" y="465"/>
                      </a:lnTo>
                      <a:lnTo>
                        <a:pt x="2192" y="461"/>
                      </a:lnTo>
                      <a:lnTo>
                        <a:pt x="2194" y="457"/>
                      </a:lnTo>
                      <a:lnTo>
                        <a:pt x="2194" y="455"/>
                      </a:lnTo>
                      <a:lnTo>
                        <a:pt x="2194" y="451"/>
                      </a:lnTo>
                      <a:lnTo>
                        <a:pt x="2194" y="449"/>
                      </a:lnTo>
                      <a:lnTo>
                        <a:pt x="2195" y="449"/>
                      </a:lnTo>
                      <a:lnTo>
                        <a:pt x="2197" y="449"/>
                      </a:lnTo>
                      <a:lnTo>
                        <a:pt x="2199" y="449"/>
                      </a:lnTo>
                      <a:lnTo>
                        <a:pt x="2201" y="451"/>
                      </a:lnTo>
                      <a:lnTo>
                        <a:pt x="2203" y="451"/>
                      </a:lnTo>
                      <a:lnTo>
                        <a:pt x="2205" y="451"/>
                      </a:lnTo>
                      <a:lnTo>
                        <a:pt x="2207" y="451"/>
                      </a:lnTo>
                      <a:lnTo>
                        <a:pt x="2209" y="451"/>
                      </a:lnTo>
                      <a:lnTo>
                        <a:pt x="2209" y="453"/>
                      </a:lnTo>
                      <a:lnTo>
                        <a:pt x="2209" y="453"/>
                      </a:lnTo>
                      <a:lnTo>
                        <a:pt x="2211" y="455"/>
                      </a:lnTo>
                      <a:lnTo>
                        <a:pt x="2211" y="457"/>
                      </a:lnTo>
                      <a:lnTo>
                        <a:pt x="2213" y="457"/>
                      </a:lnTo>
                      <a:lnTo>
                        <a:pt x="2215" y="459"/>
                      </a:lnTo>
                      <a:lnTo>
                        <a:pt x="2215" y="461"/>
                      </a:lnTo>
                      <a:lnTo>
                        <a:pt x="2215" y="461"/>
                      </a:lnTo>
                      <a:lnTo>
                        <a:pt x="2215" y="463"/>
                      </a:lnTo>
                      <a:lnTo>
                        <a:pt x="2217" y="465"/>
                      </a:lnTo>
                      <a:lnTo>
                        <a:pt x="2217" y="467"/>
                      </a:lnTo>
                      <a:lnTo>
                        <a:pt x="2217" y="470"/>
                      </a:lnTo>
                      <a:lnTo>
                        <a:pt x="2217" y="472"/>
                      </a:lnTo>
                      <a:lnTo>
                        <a:pt x="2218" y="474"/>
                      </a:lnTo>
                      <a:lnTo>
                        <a:pt x="2218" y="476"/>
                      </a:lnTo>
                      <a:lnTo>
                        <a:pt x="2220" y="480"/>
                      </a:lnTo>
                      <a:lnTo>
                        <a:pt x="2220" y="484"/>
                      </a:lnTo>
                      <a:lnTo>
                        <a:pt x="2220" y="488"/>
                      </a:lnTo>
                      <a:lnTo>
                        <a:pt x="2218" y="492"/>
                      </a:lnTo>
                      <a:lnTo>
                        <a:pt x="2218" y="493"/>
                      </a:lnTo>
                      <a:lnTo>
                        <a:pt x="2220" y="497"/>
                      </a:lnTo>
                      <a:lnTo>
                        <a:pt x="2220" y="499"/>
                      </a:lnTo>
                      <a:lnTo>
                        <a:pt x="2222" y="503"/>
                      </a:lnTo>
                      <a:lnTo>
                        <a:pt x="2224" y="509"/>
                      </a:lnTo>
                      <a:lnTo>
                        <a:pt x="2224" y="509"/>
                      </a:lnTo>
                      <a:lnTo>
                        <a:pt x="2222" y="511"/>
                      </a:lnTo>
                      <a:lnTo>
                        <a:pt x="2222" y="513"/>
                      </a:lnTo>
                      <a:lnTo>
                        <a:pt x="2220" y="513"/>
                      </a:lnTo>
                      <a:lnTo>
                        <a:pt x="2218" y="515"/>
                      </a:lnTo>
                      <a:lnTo>
                        <a:pt x="2218" y="516"/>
                      </a:lnTo>
                      <a:lnTo>
                        <a:pt x="2217" y="516"/>
                      </a:lnTo>
                      <a:lnTo>
                        <a:pt x="2217" y="518"/>
                      </a:lnTo>
                      <a:lnTo>
                        <a:pt x="2217" y="520"/>
                      </a:lnTo>
                      <a:lnTo>
                        <a:pt x="2215" y="522"/>
                      </a:lnTo>
                      <a:lnTo>
                        <a:pt x="2215" y="526"/>
                      </a:lnTo>
                      <a:lnTo>
                        <a:pt x="2213" y="528"/>
                      </a:lnTo>
                      <a:lnTo>
                        <a:pt x="2213" y="532"/>
                      </a:lnTo>
                      <a:lnTo>
                        <a:pt x="2211" y="534"/>
                      </a:lnTo>
                      <a:lnTo>
                        <a:pt x="2211" y="536"/>
                      </a:lnTo>
                      <a:lnTo>
                        <a:pt x="2211" y="538"/>
                      </a:lnTo>
                      <a:lnTo>
                        <a:pt x="2215" y="540"/>
                      </a:lnTo>
                      <a:lnTo>
                        <a:pt x="2217" y="541"/>
                      </a:lnTo>
                      <a:lnTo>
                        <a:pt x="2218" y="543"/>
                      </a:lnTo>
                      <a:lnTo>
                        <a:pt x="2220" y="545"/>
                      </a:lnTo>
                      <a:lnTo>
                        <a:pt x="2222" y="547"/>
                      </a:lnTo>
                      <a:lnTo>
                        <a:pt x="2222" y="549"/>
                      </a:lnTo>
                      <a:lnTo>
                        <a:pt x="2222" y="553"/>
                      </a:lnTo>
                      <a:lnTo>
                        <a:pt x="2224" y="557"/>
                      </a:lnTo>
                      <a:lnTo>
                        <a:pt x="2228" y="555"/>
                      </a:lnTo>
                      <a:lnTo>
                        <a:pt x="2232" y="555"/>
                      </a:lnTo>
                      <a:lnTo>
                        <a:pt x="2236" y="557"/>
                      </a:lnTo>
                      <a:lnTo>
                        <a:pt x="2240" y="557"/>
                      </a:lnTo>
                      <a:lnTo>
                        <a:pt x="2245" y="559"/>
                      </a:lnTo>
                      <a:lnTo>
                        <a:pt x="2249" y="561"/>
                      </a:lnTo>
                      <a:lnTo>
                        <a:pt x="2253" y="563"/>
                      </a:lnTo>
                      <a:lnTo>
                        <a:pt x="2257" y="563"/>
                      </a:lnTo>
                      <a:lnTo>
                        <a:pt x="2259" y="563"/>
                      </a:lnTo>
                      <a:lnTo>
                        <a:pt x="2259" y="566"/>
                      </a:lnTo>
                      <a:lnTo>
                        <a:pt x="2265" y="566"/>
                      </a:lnTo>
                      <a:lnTo>
                        <a:pt x="2272" y="566"/>
                      </a:lnTo>
                      <a:lnTo>
                        <a:pt x="2278" y="566"/>
                      </a:lnTo>
                      <a:lnTo>
                        <a:pt x="2286" y="566"/>
                      </a:lnTo>
                      <a:lnTo>
                        <a:pt x="2293" y="566"/>
                      </a:lnTo>
                      <a:lnTo>
                        <a:pt x="2301" y="566"/>
                      </a:lnTo>
                      <a:lnTo>
                        <a:pt x="2307" y="566"/>
                      </a:lnTo>
                      <a:lnTo>
                        <a:pt x="2314" y="568"/>
                      </a:lnTo>
                      <a:lnTo>
                        <a:pt x="2316" y="568"/>
                      </a:lnTo>
                      <a:lnTo>
                        <a:pt x="2318" y="568"/>
                      </a:lnTo>
                      <a:lnTo>
                        <a:pt x="2322" y="568"/>
                      </a:lnTo>
                      <a:lnTo>
                        <a:pt x="2328" y="566"/>
                      </a:lnTo>
                      <a:lnTo>
                        <a:pt x="2332" y="566"/>
                      </a:lnTo>
                      <a:lnTo>
                        <a:pt x="2336" y="564"/>
                      </a:lnTo>
                      <a:lnTo>
                        <a:pt x="2337" y="564"/>
                      </a:lnTo>
                      <a:lnTo>
                        <a:pt x="2337" y="563"/>
                      </a:lnTo>
                      <a:lnTo>
                        <a:pt x="2341" y="563"/>
                      </a:lnTo>
                      <a:lnTo>
                        <a:pt x="2347" y="563"/>
                      </a:lnTo>
                      <a:lnTo>
                        <a:pt x="2351" y="561"/>
                      </a:lnTo>
                      <a:lnTo>
                        <a:pt x="2355" y="561"/>
                      </a:lnTo>
                      <a:lnTo>
                        <a:pt x="2360" y="561"/>
                      </a:lnTo>
                      <a:lnTo>
                        <a:pt x="2364" y="561"/>
                      </a:lnTo>
                      <a:lnTo>
                        <a:pt x="2368" y="561"/>
                      </a:lnTo>
                      <a:lnTo>
                        <a:pt x="2374" y="561"/>
                      </a:lnTo>
                      <a:lnTo>
                        <a:pt x="2374" y="563"/>
                      </a:lnTo>
                      <a:lnTo>
                        <a:pt x="2376" y="563"/>
                      </a:lnTo>
                      <a:lnTo>
                        <a:pt x="2376" y="563"/>
                      </a:lnTo>
                      <a:lnTo>
                        <a:pt x="2376" y="563"/>
                      </a:lnTo>
                      <a:lnTo>
                        <a:pt x="2376" y="563"/>
                      </a:lnTo>
                      <a:lnTo>
                        <a:pt x="2376" y="563"/>
                      </a:lnTo>
                      <a:lnTo>
                        <a:pt x="2376" y="563"/>
                      </a:lnTo>
                      <a:lnTo>
                        <a:pt x="2376" y="563"/>
                      </a:lnTo>
                      <a:lnTo>
                        <a:pt x="2376" y="563"/>
                      </a:lnTo>
                      <a:lnTo>
                        <a:pt x="2376" y="564"/>
                      </a:lnTo>
                      <a:lnTo>
                        <a:pt x="2376" y="564"/>
                      </a:lnTo>
                      <a:lnTo>
                        <a:pt x="2378" y="564"/>
                      </a:lnTo>
                      <a:lnTo>
                        <a:pt x="2378" y="564"/>
                      </a:lnTo>
                      <a:lnTo>
                        <a:pt x="2378" y="564"/>
                      </a:lnTo>
                      <a:lnTo>
                        <a:pt x="2378" y="566"/>
                      </a:lnTo>
                      <a:lnTo>
                        <a:pt x="2378" y="566"/>
                      </a:lnTo>
                      <a:lnTo>
                        <a:pt x="2378" y="566"/>
                      </a:lnTo>
                      <a:lnTo>
                        <a:pt x="2378" y="566"/>
                      </a:lnTo>
                      <a:lnTo>
                        <a:pt x="2380" y="566"/>
                      </a:lnTo>
                      <a:lnTo>
                        <a:pt x="2380" y="566"/>
                      </a:lnTo>
                      <a:lnTo>
                        <a:pt x="2380" y="566"/>
                      </a:lnTo>
                      <a:lnTo>
                        <a:pt x="2380" y="566"/>
                      </a:lnTo>
                      <a:lnTo>
                        <a:pt x="2382" y="568"/>
                      </a:lnTo>
                      <a:lnTo>
                        <a:pt x="2382" y="568"/>
                      </a:lnTo>
                      <a:lnTo>
                        <a:pt x="2382" y="568"/>
                      </a:lnTo>
                      <a:lnTo>
                        <a:pt x="2385" y="568"/>
                      </a:lnTo>
                      <a:lnTo>
                        <a:pt x="2391" y="568"/>
                      </a:lnTo>
                      <a:lnTo>
                        <a:pt x="2397" y="568"/>
                      </a:lnTo>
                      <a:lnTo>
                        <a:pt x="2401" y="568"/>
                      </a:lnTo>
                      <a:lnTo>
                        <a:pt x="2407" y="568"/>
                      </a:lnTo>
                      <a:lnTo>
                        <a:pt x="2412" y="566"/>
                      </a:lnTo>
                      <a:lnTo>
                        <a:pt x="2416" y="564"/>
                      </a:lnTo>
                      <a:lnTo>
                        <a:pt x="2420" y="563"/>
                      </a:lnTo>
                      <a:lnTo>
                        <a:pt x="2426" y="563"/>
                      </a:lnTo>
                      <a:lnTo>
                        <a:pt x="2430" y="563"/>
                      </a:lnTo>
                      <a:lnTo>
                        <a:pt x="2435" y="561"/>
                      </a:lnTo>
                      <a:lnTo>
                        <a:pt x="2439" y="559"/>
                      </a:lnTo>
                      <a:lnTo>
                        <a:pt x="2443" y="559"/>
                      </a:lnTo>
                      <a:lnTo>
                        <a:pt x="2449" y="557"/>
                      </a:lnTo>
                      <a:lnTo>
                        <a:pt x="2453" y="555"/>
                      </a:lnTo>
                      <a:lnTo>
                        <a:pt x="2458" y="555"/>
                      </a:lnTo>
                      <a:lnTo>
                        <a:pt x="2458" y="555"/>
                      </a:lnTo>
                      <a:lnTo>
                        <a:pt x="2458" y="557"/>
                      </a:lnTo>
                      <a:lnTo>
                        <a:pt x="2458" y="557"/>
                      </a:lnTo>
                      <a:lnTo>
                        <a:pt x="2460" y="557"/>
                      </a:lnTo>
                      <a:lnTo>
                        <a:pt x="2460" y="557"/>
                      </a:lnTo>
                      <a:lnTo>
                        <a:pt x="2460" y="557"/>
                      </a:lnTo>
                      <a:lnTo>
                        <a:pt x="2462" y="557"/>
                      </a:lnTo>
                      <a:lnTo>
                        <a:pt x="2462" y="557"/>
                      </a:lnTo>
                      <a:lnTo>
                        <a:pt x="2462" y="559"/>
                      </a:lnTo>
                      <a:lnTo>
                        <a:pt x="2462" y="559"/>
                      </a:lnTo>
                      <a:lnTo>
                        <a:pt x="2462" y="559"/>
                      </a:lnTo>
                      <a:lnTo>
                        <a:pt x="2462" y="559"/>
                      </a:lnTo>
                      <a:lnTo>
                        <a:pt x="2462" y="559"/>
                      </a:lnTo>
                      <a:lnTo>
                        <a:pt x="2464" y="559"/>
                      </a:lnTo>
                      <a:lnTo>
                        <a:pt x="2464" y="559"/>
                      </a:lnTo>
                      <a:lnTo>
                        <a:pt x="2464" y="561"/>
                      </a:lnTo>
                      <a:lnTo>
                        <a:pt x="2464" y="561"/>
                      </a:lnTo>
                      <a:lnTo>
                        <a:pt x="2466" y="561"/>
                      </a:lnTo>
                      <a:lnTo>
                        <a:pt x="2466" y="561"/>
                      </a:lnTo>
                      <a:lnTo>
                        <a:pt x="2468" y="561"/>
                      </a:lnTo>
                      <a:lnTo>
                        <a:pt x="2468" y="563"/>
                      </a:lnTo>
                      <a:lnTo>
                        <a:pt x="2470" y="563"/>
                      </a:lnTo>
                      <a:lnTo>
                        <a:pt x="2470" y="563"/>
                      </a:lnTo>
                      <a:lnTo>
                        <a:pt x="2472" y="563"/>
                      </a:lnTo>
                      <a:lnTo>
                        <a:pt x="2472" y="564"/>
                      </a:lnTo>
                      <a:lnTo>
                        <a:pt x="2472" y="566"/>
                      </a:lnTo>
                      <a:lnTo>
                        <a:pt x="2474" y="568"/>
                      </a:lnTo>
                      <a:lnTo>
                        <a:pt x="2476" y="568"/>
                      </a:lnTo>
                      <a:lnTo>
                        <a:pt x="2476" y="570"/>
                      </a:lnTo>
                      <a:lnTo>
                        <a:pt x="2478" y="572"/>
                      </a:lnTo>
                      <a:lnTo>
                        <a:pt x="2479" y="572"/>
                      </a:lnTo>
                      <a:lnTo>
                        <a:pt x="2481" y="572"/>
                      </a:lnTo>
                      <a:lnTo>
                        <a:pt x="2481" y="574"/>
                      </a:lnTo>
                      <a:lnTo>
                        <a:pt x="2481" y="574"/>
                      </a:lnTo>
                      <a:lnTo>
                        <a:pt x="2479" y="576"/>
                      </a:lnTo>
                      <a:lnTo>
                        <a:pt x="2479" y="576"/>
                      </a:lnTo>
                      <a:lnTo>
                        <a:pt x="2479" y="578"/>
                      </a:lnTo>
                      <a:lnTo>
                        <a:pt x="2479" y="580"/>
                      </a:lnTo>
                      <a:lnTo>
                        <a:pt x="2479" y="580"/>
                      </a:lnTo>
                      <a:lnTo>
                        <a:pt x="2479" y="582"/>
                      </a:lnTo>
                      <a:lnTo>
                        <a:pt x="2476" y="582"/>
                      </a:lnTo>
                      <a:lnTo>
                        <a:pt x="2472" y="584"/>
                      </a:lnTo>
                      <a:lnTo>
                        <a:pt x="2468" y="586"/>
                      </a:lnTo>
                      <a:lnTo>
                        <a:pt x="2466" y="589"/>
                      </a:lnTo>
                      <a:lnTo>
                        <a:pt x="2464" y="593"/>
                      </a:lnTo>
                      <a:lnTo>
                        <a:pt x="2462" y="597"/>
                      </a:lnTo>
                      <a:lnTo>
                        <a:pt x="2460" y="601"/>
                      </a:lnTo>
                      <a:lnTo>
                        <a:pt x="2458" y="603"/>
                      </a:lnTo>
                      <a:lnTo>
                        <a:pt x="2458" y="603"/>
                      </a:lnTo>
                      <a:lnTo>
                        <a:pt x="2456" y="603"/>
                      </a:lnTo>
                      <a:lnTo>
                        <a:pt x="2456" y="607"/>
                      </a:lnTo>
                      <a:lnTo>
                        <a:pt x="2458" y="609"/>
                      </a:lnTo>
                      <a:lnTo>
                        <a:pt x="2458" y="610"/>
                      </a:lnTo>
                      <a:lnTo>
                        <a:pt x="2458" y="612"/>
                      </a:lnTo>
                      <a:lnTo>
                        <a:pt x="2460" y="616"/>
                      </a:lnTo>
                      <a:lnTo>
                        <a:pt x="2460" y="618"/>
                      </a:lnTo>
                      <a:lnTo>
                        <a:pt x="2460" y="620"/>
                      </a:lnTo>
                      <a:lnTo>
                        <a:pt x="2460" y="622"/>
                      </a:lnTo>
                      <a:lnTo>
                        <a:pt x="2460" y="622"/>
                      </a:lnTo>
                      <a:lnTo>
                        <a:pt x="2460" y="624"/>
                      </a:lnTo>
                      <a:lnTo>
                        <a:pt x="2460" y="626"/>
                      </a:lnTo>
                      <a:lnTo>
                        <a:pt x="2460" y="628"/>
                      </a:lnTo>
                      <a:lnTo>
                        <a:pt x="2462" y="630"/>
                      </a:lnTo>
                      <a:lnTo>
                        <a:pt x="2462" y="632"/>
                      </a:lnTo>
                      <a:lnTo>
                        <a:pt x="2462" y="633"/>
                      </a:lnTo>
                      <a:lnTo>
                        <a:pt x="2460" y="633"/>
                      </a:lnTo>
                      <a:lnTo>
                        <a:pt x="2458" y="635"/>
                      </a:lnTo>
                      <a:lnTo>
                        <a:pt x="2456" y="635"/>
                      </a:lnTo>
                      <a:lnTo>
                        <a:pt x="2455" y="637"/>
                      </a:lnTo>
                      <a:lnTo>
                        <a:pt x="2453" y="639"/>
                      </a:lnTo>
                      <a:lnTo>
                        <a:pt x="2451" y="641"/>
                      </a:lnTo>
                      <a:lnTo>
                        <a:pt x="2447" y="645"/>
                      </a:lnTo>
                      <a:lnTo>
                        <a:pt x="2443" y="647"/>
                      </a:lnTo>
                      <a:lnTo>
                        <a:pt x="2439" y="651"/>
                      </a:lnTo>
                      <a:lnTo>
                        <a:pt x="2437" y="653"/>
                      </a:lnTo>
                      <a:lnTo>
                        <a:pt x="2437" y="655"/>
                      </a:lnTo>
                      <a:lnTo>
                        <a:pt x="2435" y="658"/>
                      </a:lnTo>
                      <a:lnTo>
                        <a:pt x="2435" y="660"/>
                      </a:lnTo>
                      <a:lnTo>
                        <a:pt x="2435" y="662"/>
                      </a:lnTo>
                      <a:lnTo>
                        <a:pt x="2435" y="664"/>
                      </a:lnTo>
                      <a:lnTo>
                        <a:pt x="2435" y="666"/>
                      </a:lnTo>
                      <a:lnTo>
                        <a:pt x="2437" y="666"/>
                      </a:lnTo>
                      <a:lnTo>
                        <a:pt x="2437" y="668"/>
                      </a:lnTo>
                      <a:lnTo>
                        <a:pt x="2437" y="672"/>
                      </a:lnTo>
                      <a:lnTo>
                        <a:pt x="2437" y="672"/>
                      </a:lnTo>
                      <a:lnTo>
                        <a:pt x="2435" y="672"/>
                      </a:lnTo>
                      <a:lnTo>
                        <a:pt x="2435" y="672"/>
                      </a:lnTo>
                      <a:lnTo>
                        <a:pt x="2433" y="670"/>
                      </a:lnTo>
                      <a:lnTo>
                        <a:pt x="2433" y="670"/>
                      </a:lnTo>
                      <a:lnTo>
                        <a:pt x="2431" y="670"/>
                      </a:lnTo>
                      <a:lnTo>
                        <a:pt x="2430" y="670"/>
                      </a:lnTo>
                      <a:lnTo>
                        <a:pt x="2430" y="670"/>
                      </a:lnTo>
                      <a:lnTo>
                        <a:pt x="2428" y="668"/>
                      </a:lnTo>
                      <a:lnTo>
                        <a:pt x="2422" y="668"/>
                      </a:lnTo>
                      <a:lnTo>
                        <a:pt x="2416" y="668"/>
                      </a:lnTo>
                      <a:lnTo>
                        <a:pt x="2410" y="668"/>
                      </a:lnTo>
                      <a:lnTo>
                        <a:pt x="2405" y="668"/>
                      </a:lnTo>
                      <a:lnTo>
                        <a:pt x="2401" y="670"/>
                      </a:lnTo>
                      <a:lnTo>
                        <a:pt x="2397" y="672"/>
                      </a:lnTo>
                      <a:lnTo>
                        <a:pt x="2395" y="674"/>
                      </a:lnTo>
                      <a:lnTo>
                        <a:pt x="2389" y="674"/>
                      </a:lnTo>
                      <a:lnTo>
                        <a:pt x="2384" y="676"/>
                      </a:lnTo>
                      <a:lnTo>
                        <a:pt x="2378" y="680"/>
                      </a:lnTo>
                      <a:lnTo>
                        <a:pt x="2374" y="683"/>
                      </a:lnTo>
                      <a:lnTo>
                        <a:pt x="2370" y="689"/>
                      </a:lnTo>
                      <a:lnTo>
                        <a:pt x="2368" y="695"/>
                      </a:lnTo>
                      <a:lnTo>
                        <a:pt x="2366" y="701"/>
                      </a:lnTo>
                      <a:lnTo>
                        <a:pt x="2364" y="706"/>
                      </a:lnTo>
                      <a:lnTo>
                        <a:pt x="2362" y="712"/>
                      </a:lnTo>
                      <a:lnTo>
                        <a:pt x="2362" y="720"/>
                      </a:lnTo>
                      <a:lnTo>
                        <a:pt x="2362" y="726"/>
                      </a:lnTo>
                      <a:lnTo>
                        <a:pt x="2362" y="729"/>
                      </a:lnTo>
                      <a:lnTo>
                        <a:pt x="2364" y="735"/>
                      </a:lnTo>
                      <a:lnTo>
                        <a:pt x="2366" y="741"/>
                      </a:lnTo>
                      <a:lnTo>
                        <a:pt x="2366" y="747"/>
                      </a:lnTo>
                      <a:lnTo>
                        <a:pt x="2368" y="754"/>
                      </a:lnTo>
                      <a:lnTo>
                        <a:pt x="2370" y="758"/>
                      </a:lnTo>
                      <a:lnTo>
                        <a:pt x="2374" y="762"/>
                      </a:lnTo>
                      <a:lnTo>
                        <a:pt x="2376" y="768"/>
                      </a:lnTo>
                      <a:lnTo>
                        <a:pt x="2376" y="774"/>
                      </a:lnTo>
                      <a:lnTo>
                        <a:pt x="2378" y="779"/>
                      </a:lnTo>
                      <a:lnTo>
                        <a:pt x="2378" y="783"/>
                      </a:lnTo>
                      <a:lnTo>
                        <a:pt x="2380" y="789"/>
                      </a:lnTo>
                      <a:lnTo>
                        <a:pt x="2380" y="795"/>
                      </a:lnTo>
                      <a:lnTo>
                        <a:pt x="2382" y="793"/>
                      </a:lnTo>
                      <a:lnTo>
                        <a:pt x="2384" y="791"/>
                      </a:lnTo>
                      <a:lnTo>
                        <a:pt x="2385" y="789"/>
                      </a:lnTo>
                      <a:lnTo>
                        <a:pt x="2385" y="787"/>
                      </a:lnTo>
                      <a:lnTo>
                        <a:pt x="2387" y="785"/>
                      </a:lnTo>
                      <a:lnTo>
                        <a:pt x="2389" y="783"/>
                      </a:lnTo>
                      <a:lnTo>
                        <a:pt x="2391" y="781"/>
                      </a:lnTo>
                      <a:lnTo>
                        <a:pt x="2393" y="781"/>
                      </a:lnTo>
                      <a:lnTo>
                        <a:pt x="2393" y="783"/>
                      </a:lnTo>
                      <a:lnTo>
                        <a:pt x="2395" y="783"/>
                      </a:lnTo>
                      <a:lnTo>
                        <a:pt x="2397" y="785"/>
                      </a:lnTo>
                      <a:lnTo>
                        <a:pt x="2399" y="787"/>
                      </a:lnTo>
                      <a:lnTo>
                        <a:pt x="2399" y="789"/>
                      </a:lnTo>
                      <a:lnTo>
                        <a:pt x="2399" y="791"/>
                      </a:lnTo>
                      <a:lnTo>
                        <a:pt x="2401" y="793"/>
                      </a:lnTo>
                      <a:lnTo>
                        <a:pt x="2401" y="797"/>
                      </a:lnTo>
                      <a:lnTo>
                        <a:pt x="2403" y="797"/>
                      </a:lnTo>
                      <a:lnTo>
                        <a:pt x="2405" y="797"/>
                      </a:lnTo>
                      <a:lnTo>
                        <a:pt x="2408" y="798"/>
                      </a:lnTo>
                      <a:lnTo>
                        <a:pt x="2410" y="798"/>
                      </a:lnTo>
                      <a:lnTo>
                        <a:pt x="2412" y="800"/>
                      </a:lnTo>
                      <a:lnTo>
                        <a:pt x="2416" y="800"/>
                      </a:lnTo>
                      <a:lnTo>
                        <a:pt x="2418" y="800"/>
                      </a:lnTo>
                      <a:lnTo>
                        <a:pt x="2422" y="800"/>
                      </a:lnTo>
                      <a:lnTo>
                        <a:pt x="2422" y="795"/>
                      </a:lnTo>
                      <a:lnTo>
                        <a:pt x="2422" y="795"/>
                      </a:lnTo>
                      <a:lnTo>
                        <a:pt x="2420" y="795"/>
                      </a:lnTo>
                      <a:lnTo>
                        <a:pt x="2420" y="793"/>
                      </a:lnTo>
                      <a:lnTo>
                        <a:pt x="2420" y="793"/>
                      </a:lnTo>
                      <a:lnTo>
                        <a:pt x="2420" y="793"/>
                      </a:lnTo>
                      <a:lnTo>
                        <a:pt x="2420" y="791"/>
                      </a:lnTo>
                      <a:lnTo>
                        <a:pt x="2420" y="791"/>
                      </a:lnTo>
                      <a:lnTo>
                        <a:pt x="2420" y="791"/>
                      </a:lnTo>
                      <a:lnTo>
                        <a:pt x="2420" y="787"/>
                      </a:lnTo>
                      <a:lnTo>
                        <a:pt x="2420" y="781"/>
                      </a:lnTo>
                      <a:lnTo>
                        <a:pt x="2422" y="775"/>
                      </a:lnTo>
                      <a:lnTo>
                        <a:pt x="2422" y="768"/>
                      </a:lnTo>
                      <a:lnTo>
                        <a:pt x="2424" y="762"/>
                      </a:lnTo>
                      <a:lnTo>
                        <a:pt x="2426" y="756"/>
                      </a:lnTo>
                      <a:lnTo>
                        <a:pt x="2428" y="751"/>
                      </a:lnTo>
                      <a:lnTo>
                        <a:pt x="2430" y="747"/>
                      </a:lnTo>
                      <a:lnTo>
                        <a:pt x="2431" y="745"/>
                      </a:lnTo>
                      <a:lnTo>
                        <a:pt x="2431" y="745"/>
                      </a:lnTo>
                      <a:lnTo>
                        <a:pt x="2433" y="743"/>
                      </a:lnTo>
                      <a:lnTo>
                        <a:pt x="2433" y="743"/>
                      </a:lnTo>
                      <a:lnTo>
                        <a:pt x="2435" y="741"/>
                      </a:lnTo>
                      <a:lnTo>
                        <a:pt x="2437" y="741"/>
                      </a:lnTo>
                      <a:lnTo>
                        <a:pt x="2437" y="739"/>
                      </a:lnTo>
                      <a:lnTo>
                        <a:pt x="2437" y="737"/>
                      </a:lnTo>
                      <a:lnTo>
                        <a:pt x="2435" y="737"/>
                      </a:lnTo>
                      <a:lnTo>
                        <a:pt x="2435" y="735"/>
                      </a:lnTo>
                      <a:lnTo>
                        <a:pt x="2435" y="733"/>
                      </a:lnTo>
                      <a:lnTo>
                        <a:pt x="2435" y="731"/>
                      </a:lnTo>
                      <a:lnTo>
                        <a:pt x="2435" y="729"/>
                      </a:lnTo>
                      <a:lnTo>
                        <a:pt x="2437" y="727"/>
                      </a:lnTo>
                      <a:lnTo>
                        <a:pt x="2437" y="726"/>
                      </a:lnTo>
                      <a:lnTo>
                        <a:pt x="2439" y="724"/>
                      </a:lnTo>
                      <a:lnTo>
                        <a:pt x="2439" y="724"/>
                      </a:lnTo>
                      <a:lnTo>
                        <a:pt x="2439" y="714"/>
                      </a:lnTo>
                      <a:lnTo>
                        <a:pt x="2441" y="714"/>
                      </a:lnTo>
                      <a:lnTo>
                        <a:pt x="2441" y="714"/>
                      </a:lnTo>
                      <a:lnTo>
                        <a:pt x="2441" y="712"/>
                      </a:lnTo>
                      <a:lnTo>
                        <a:pt x="2443" y="712"/>
                      </a:lnTo>
                      <a:lnTo>
                        <a:pt x="2443" y="712"/>
                      </a:lnTo>
                      <a:lnTo>
                        <a:pt x="2443" y="710"/>
                      </a:lnTo>
                      <a:lnTo>
                        <a:pt x="2445" y="710"/>
                      </a:lnTo>
                      <a:lnTo>
                        <a:pt x="2445" y="710"/>
                      </a:lnTo>
                      <a:lnTo>
                        <a:pt x="2445" y="710"/>
                      </a:lnTo>
                      <a:lnTo>
                        <a:pt x="2447" y="710"/>
                      </a:lnTo>
                      <a:lnTo>
                        <a:pt x="2447" y="712"/>
                      </a:lnTo>
                      <a:lnTo>
                        <a:pt x="2447" y="712"/>
                      </a:lnTo>
                      <a:lnTo>
                        <a:pt x="2449" y="712"/>
                      </a:lnTo>
                      <a:lnTo>
                        <a:pt x="2449" y="714"/>
                      </a:lnTo>
                      <a:lnTo>
                        <a:pt x="2449" y="714"/>
                      </a:lnTo>
                      <a:lnTo>
                        <a:pt x="2451" y="714"/>
                      </a:lnTo>
                      <a:lnTo>
                        <a:pt x="2455" y="714"/>
                      </a:lnTo>
                      <a:lnTo>
                        <a:pt x="2460" y="714"/>
                      </a:lnTo>
                      <a:lnTo>
                        <a:pt x="2464" y="716"/>
                      </a:lnTo>
                      <a:lnTo>
                        <a:pt x="2470" y="716"/>
                      </a:lnTo>
                      <a:lnTo>
                        <a:pt x="2474" y="718"/>
                      </a:lnTo>
                      <a:lnTo>
                        <a:pt x="2479" y="718"/>
                      </a:lnTo>
                      <a:lnTo>
                        <a:pt x="2483" y="718"/>
                      </a:lnTo>
                      <a:lnTo>
                        <a:pt x="2489" y="718"/>
                      </a:lnTo>
                      <a:lnTo>
                        <a:pt x="2489" y="720"/>
                      </a:lnTo>
                      <a:lnTo>
                        <a:pt x="2487" y="720"/>
                      </a:lnTo>
                      <a:lnTo>
                        <a:pt x="2487" y="722"/>
                      </a:lnTo>
                      <a:lnTo>
                        <a:pt x="2487" y="722"/>
                      </a:lnTo>
                      <a:lnTo>
                        <a:pt x="2487" y="724"/>
                      </a:lnTo>
                      <a:lnTo>
                        <a:pt x="2487" y="724"/>
                      </a:lnTo>
                      <a:lnTo>
                        <a:pt x="2487" y="726"/>
                      </a:lnTo>
                      <a:lnTo>
                        <a:pt x="2487" y="726"/>
                      </a:lnTo>
                      <a:lnTo>
                        <a:pt x="2485" y="733"/>
                      </a:lnTo>
                      <a:lnTo>
                        <a:pt x="2483" y="739"/>
                      </a:lnTo>
                      <a:lnTo>
                        <a:pt x="2481" y="743"/>
                      </a:lnTo>
                      <a:lnTo>
                        <a:pt x="2481" y="747"/>
                      </a:lnTo>
                      <a:lnTo>
                        <a:pt x="2483" y="751"/>
                      </a:lnTo>
                      <a:lnTo>
                        <a:pt x="2483" y="754"/>
                      </a:lnTo>
                      <a:lnTo>
                        <a:pt x="2485" y="760"/>
                      </a:lnTo>
                      <a:lnTo>
                        <a:pt x="2487" y="766"/>
                      </a:lnTo>
                      <a:lnTo>
                        <a:pt x="2487" y="768"/>
                      </a:lnTo>
                      <a:lnTo>
                        <a:pt x="2487" y="768"/>
                      </a:lnTo>
                      <a:lnTo>
                        <a:pt x="2487" y="770"/>
                      </a:lnTo>
                      <a:lnTo>
                        <a:pt x="2487" y="770"/>
                      </a:lnTo>
                      <a:lnTo>
                        <a:pt x="2487" y="772"/>
                      </a:lnTo>
                      <a:lnTo>
                        <a:pt x="2487" y="774"/>
                      </a:lnTo>
                      <a:lnTo>
                        <a:pt x="2489" y="774"/>
                      </a:lnTo>
                      <a:lnTo>
                        <a:pt x="2489" y="775"/>
                      </a:lnTo>
                      <a:lnTo>
                        <a:pt x="2489" y="777"/>
                      </a:lnTo>
                      <a:lnTo>
                        <a:pt x="2489" y="779"/>
                      </a:lnTo>
                      <a:lnTo>
                        <a:pt x="2491" y="781"/>
                      </a:lnTo>
                      <a:lnTo>
                        <a:pt x="2493" y="781"/>
                      </a:lnTo>
                      <a:lnTo>
                        <a:pt x="2495" y="783"/>
                      </a:lnTo>
                      <a:lnTo>
                        <a:pt x="2495" y="785"/>
                      </a:lnTo>
                      <a:lnTo>
                        <a:pt x="2497" y="787"/>
                      </a:lnTo>
                      <a:lnTo>
                        <a:pt x="2497" y="789"/>
                      </a:lnTo>
                      <a:lnTo>
                        <a:pt x="2499" y="793"/>
                      </a:lnTo>
                      <a:lnTo>
                        <a:pt x="2501" y="798"/>
                      </a:lnTo>
                      <a:lnTo>
                        <a:pt x="2502" y="804"/>
                      </a:lnTo>
                      <a:lnTo>
                        <a:pt x="2502" y="810"/>
                      </a:lnTo>
                      <a:lnTo>
                        <a:pt x="2504" y="816"/>
                      </a:lnTo>
                      <a:lnTo>
                        <a:pt x="2504" y="821"/>
                      </a:lnTo>
                      <a:lnTo>
                        <a:pt x="2504" y="827"/>
                      </a:lnTo>
                      <a:lnTo>
                        <a:pt x="2506" y="833"/>
                      </a:lnTo>
                      <a:lnTo>
                        <a:pt x="2570" y="833"/>
                      </a:lnTo>
                      <a:lnTo>
                        <a:pt x="2572" y="827"/>
                      </a:lnTo>
                      <a:lnTo>
                        <a:pt x="2572" y="821"/>
                      </a:lnTo>
                      <a:lnTo>
                        <a:pt x="2575" y="816"/>
                      </a:lnTo>
                      <a:lnTo>
                        <a:pt x="2577" y="810"/>
                      </a:lnTo>
                      <a:lnTo>
                        <a:pt x="2581" y="804"/>
                      </a:lnTo>
                      <a:lnTo>
                        <a:pt x="2585" y="800"/>
                      </a:lnTo>
                      <a:lnTo>
                        <a:pt x="2589" y="797"/>
                      </a:lnTo>
                      <a:lnTo>
                        <a:pt x="2593" y="793"/>
                      </a:lnTo>
                      <a:lnTo>
                        <a:pt x="2593" y="789"/>
                      </a:lnTo>
                      <a:lnTo>
                        <a:pt x="2593" y="785"/>
                      </a:lnTo>
                      <a:lnTo>
                        <a:pt x="2591" y="779"/>
                      </a:lnTo>
                      <a:lnTo>
                        <a:pt x="2591" y="774"/>
                      </a:lnTo>
                      <a:lnTo>
                        <a:pt x="2591" y="768"/>
                      </a:lnTo>
                      <a:lnTo>
                        <a:pt x="2591" y="764"/>
                      </a:lnTo>
                      <a:lnTo>
                        <a:pt x="2591" y="758"/>
                      </a:lnTo>
                      <a:lnTo>
                        <a:pt x="2591" y="754"/>
                      </a:lnTo>
                      <a:lnTo>
                        <a:pt x="2593" y="751"/>
                      </a:lnTo>
                      <a:lnTo>
                        <a:pt x="2593" y="745"/>
                      </a:lnTo>
                      <a:lnTo>
                        <a:pt x="2595" y="739"/>
                      </a:lnTo>
                      <a:lnTo>
                        <a:pt x="2595" y="733"/>
                      </a:lnTo>
                      <a:lnTo>
                        <a:pt x="2597" y="727"/>
                      </a:lnTo>
                      <a:lnTo>
                        <a:pt x="2597" y="722"/>
                      </a:lnTo>
                      <a:lnTo>
                        <a:pt x="2595" y="716"/>
                      </a:lnTo>
                      <a:lnTo>
                        <a:pt x="2595" y="710"/>
                      </a:lnTo>
                      <a:lnTo>
                        <a:pt x="2593" y="706"/>
                      </a:lnTo>
                      <a:lnTo>
                        <a:pt x="2589" y="703"/>
                      </a:lnTo>
                      <a:lnTo>
                        <a:pt x="2587" y="699"/>
                      </a:lnTo>
                      <a:lnTo>
                        <a:pt x="2583" y="697"/>
                      </a:lnTo>
                      <a:lnTo>
                        <a:pt x="2581" y="693"/>
                      </a:lnTo>
                      <a:lnTo>
                        <a:pt x="2581" y="689"/>
                      </a:lnTo>
                      <a:lnTo>
                        <a:pt x="2579" y="685"/>
                      </a:lnTo>
                      <a:lnTo>
                        <a:pt x="2581" y="678"/>
                      </a:lnTo>
                      <a:lnTo>
                        <a:pt x="2581" y="678"/>
                      </a:lnTo>
                      <a:lnTo>
                        <a:pt x="2581" y="678"/>
                      </a:lnTo>
                      <a:lnTo>
                        <a:pt x="2581" y="678"/>
                      </a:lnTo>
                      <a:lnTo>
                        <a:pt x="2583" y="678"/>
                      </a:lnTo>
                      <a:lnTo>
                        <a:pt x="2583" y="678"/>
                      </a:lnTo>
                      <a:lnTo>
                        <a:pt x="2583" y="678"/>
                      </a:lnTo>
                      <a:lnTo>
                        <a:pt x="2583" y="678"/>
                      </a:lnTo>
                      <a:lnTo>
                        <a:pt x="2583" y="678"/>
                      </a:lnTo>
                      <a:lnTo>
                        <a:pt x="2587" y="678"/>
                      </a:lnTo>
                      <a:lnTo>
                        <a:pt x="2591" y="680"/>
                      </a:lnTo>
                      <a:lnTo>
                        <a:pt x="2595" y="681"/>
                      </a:lnTo>
                      <a:lnTo>
                        <a:pt x="2597" y="683"/>
                      </a:lnTo>
                      <a:lnTo>
                        <a:pt x="2600" y="685"/>
                      </a:lnTo>
                      <a:lnTo>
                        <a:pt x="2602" y="687"/>
                      </a:lnTo>
                      <a:lnTo>
                        <a:pt x="2604" y="689"/>
                      </a:lnTo>
                      <a:lnTo>
                        <a:pt x="2608" y="689"/>
                      </a:lnTo>
                      <a:lnTo>
                        <a:pt x="2608" y="689"/>
                      </a:lnTo>
                      <a:lnTo>
                        <a:pt x="2608" y="687"/>
                      </a:lnTo>
                      <a:lnTo>
                        <a:pt x="2608" y="687"/>
                      </a:lnTo>
                      <a:lnTo>
                        <a:pt x="2608" y="687"/>
                      </a:lnTo>
                      <a:lnTo>
                        <a:pt x="2608" y="687"/>
                      </a:lnTo>
                      <a:lnTo>
                        <a:pt x="2608" y="687"/>
                      </a:lnTo>
                      <a:lnTo>
                        <a:pt x="2608" y="685"/>
                      </a:lnTo>
                      <a:lnTo>
                        <a:pt x="2608" y="685"/>
                      </a:lnTo>
                      <a:lnTo>
                        <a:pt x="2608" y="685"/>
                      </a:lnTo>
                      <a:lnTo>
                        <a:pt x="2608" y="685"/>
                      </a:lnTo>
                      <a:lnTo>
                        <a:pt x="2610" y="685"/>
                      </a:lnTo>
                      <a:lnTo>
                        <a:pt x="2610" y="685"/>
                      </a:lnTo>
                      <a:lnTo>
                        <a:pt x="2610" y="683"/>
                      </a:lnTo>
                      <a:lnTo>
                        <a:pt x="2610" y="683"/>
                      </a:lnTo>
                      <a:lnTo>
                        <a:pt x="2612" y="683"/>
                      </a:lnTo>
                      <a:lnTo>
                        <a:pt x="2612" y="683"/>
                      </a:lnTo>
                      <a:lnTo>
                        <a:pt x="2612" y="683"/>
                      </a:lnTo>
                      <a:lnTo>
                        <a:pt x="2612" y="683"/>
                      </a:lnTo>
                      <a:lnTo>
                        <a:pt x="2616" y="683"/>
                      </a:lnTo>
                      <a:lnTo>
                        <a:pt x="2621" y="689"/>
                      </a:lnTo>
                      <a:lnTo>
                        <a:pt x="2625" y="689"/>
                      </a:lnTo>
                      <a:lnTo>
                        <a:pt x="2627" y="689"/>
                      </a:lnTo>
                      <a:lnTo>
                        <a:pt x="2631" y="689"/>
                      </a:lnTo>
                      <a:lnTo>
                        <a:pt x="2633" y="691"/>
                      </a:lnTo>
                      <a:lnTo>
                        <a:pt x="2637" y="693"/>
                      </a:lnTo>
                      <a:lnTo>
                        <a:pt x="2639" y="693"/>
                      </a:lnTo>
                      <a:lnTo>
                        <a:pt x="2643" y="693"/>
                      </a:lnTo>
                      <a:lnTo>
                        <a:pt x="2646" y="693"/>
                      </a:lnTo>
                      <a:lnTo>
                        <a:pt x="2648" y="695"/>
                      </a:lnTo>
                      <a:lnTo>
                        <a:pt x="2650" y="697"/>
                      </a:lnTo>
                      <a:lnTo>
                        <a:pt x="2654" y="697"/>
                      </a:lnTo>
                      <a:lnTo>
                        <a:pt x="2658" y="699"/>
                      </a:lnTo>
                      <a:lnTo>
                        <a:pt x="2662" y="699"/>
                      </a:lnTo>
                      <a:lnTo>
                        <a:pt x="2664" y="701"/>
                      </a:lnTo>
                      <a:lnTo>
                        <a:pt x="2668" y="701"/>
                      </a:lnTo>
                      <a:lnTo>
                        <a:pt x="2669" y="701"/>
                      </a:lnTo>
                      <a:lnTo>
                        <a:pt x="2669" y="699"/>
                      </a:lnTo>
                      <a:lnTo>
                        <a:pt x="2669" y="697"/>
                      </a:lnTo>
                      <a:lnTo>
                        <a:pt x="2671" y="695"/>
                      </a:lnTo>
                      <a:lnTo>
                        <a:pt x="2671" y="695"/>
                      </a:lnTo>
                      <a:lnTo>
                        <a:pt x="2673" y="693"/>
                      </a:lnTo>
                      <a:lnTo>
                        <a:pt x="2675" y="691"/>
                      </a:lnTo>
                      <a:lnTo>
                        <a:pt x="2675" y="689"/>
                      </a:lnTo>
                      <a:lnTo>
                        <a:pt x="2677" y="689"/>
                      </a:lnTo>
                      <a:lnTo>
                        <a:pt x="2679" y="681"/>
                      </a:lnTo>
                      <a:lnTo>
                        <a:pt x="2681" y="672"/>
                      </a:lnTo>
                      <a:lnTo>
                        <a:pt x="2683" y="664"/>
                      </a:lnTo>
                      <a:lnTo>
                        <a:pt x="2685" y="655"/>
                      </a:lnTo>
                      <a:lnTo>
                        <a:pt x="2685" y="647"/>
                      </a:lnTo>
                      <a:lnTo>
                        <a:pt x="2687" y="639"/>
                      </a:lnTo>
                      <a:lnTo>
                        <a:pt x="2689" y="630"/>
                      </a:lnTo>
                      <a:lnTo>
                        <a:pt x="2692" y="622"/>
                      </a:lnTo>
                      <a:lnTo>
                        <a:pt x="2694" y="620"/>
                      </a:lnTo>
                      <a:lnTo>
                        <a:pt x="2696" y="618"/>
                      </a:lnTo>
                      <a:lnTo>
                        <a:pt x="2698" y="614"/>
                      </a:lnTo>
                      <a:lnTo>
                        <a:pt x="2700" y="610"/>
                      </a:lnTo>
                      <a:lnTo>
                        <a:pt x="2702" y="607"/>
                      </a:lnTo>
                      <a:lnTo>
                        <a:pt x="2706" y="605"/>
                      </a:lnTo>
                      <a:lnTo>
                        <a:pt x="2708" y="603"/>
                      </a:lnTo>
                      <a:lnTo>
                        <a:pt x="2712" y="601"/>
                      </a:lnTo>
                      <a:lnTo>
                        <a:pt x="2712" y="599"/>
                      </a:lnTo>
                      <a:lnTo>
                        <a:pt x="2712" y="595"/>
                      </a:lnTo>
                      <a:lnTo>
                        <a:pt x="2714" y="589"/>
                      </a:lnTo>
                      <a:lnTo>
                        <a:pt x="2714" y="586"/>
                      </a:lnTo>
                      <a:lnTo>
                        <a:pt x="2716" y="580"/>
                      </a:lnTo>
                      <a:lnTo>
                        <a:pt x="2717" y="576"/>
                      </a:lnTo>
                      <a:lnTo>
                        <a:pt x="2717" y="574"/>
                      </a:lnTo>
                      <a:lnTo>
                        <a:pt x="2721" y="574"/>
                      </a:lnTo>
                      <a:lnTo>
                        <a:pt x="2721" y="570"/>
                      </a:lnTo>
                      <a:lnTo>
                        <a:pt x="2721" y="564"/>
                      </a:lnTo>
                      <a:lnTo>
                        <a:pt x="2719" y="561"/>
                      </a:lnTo>
                      <a:lnTo>
                        <a:pt x="2717" y="557"/>
                      </a:lnTo>
                      <a:lnTo>
                        <a:pt x="2716" y="551"/>
                      </a:lnTo>
                      <a:lnTo>
                        <a:pt x="2712" y="547"/>
                      </a:lnTo>
                      <a:lnTo>
                        <a:pt x="2708" y="545"/>
                      </a:lnTo>
                      <a:lnTo>
                        <a:pt x="2704" y="543"/>
                      </a:lnTo>
                      <a:lnTo>
                        <a:pt x="2704" y="540"/>
                      </a:lnTo>
                      <a:lnTo>
                        <a:pt x="2706" y="536"/>
                      </a:lnTo>
                      <a:lnTo>
                        <a:pt x="2706" y="532"/>
                      </a:lnTo>
                      <a:lnTo>
                        <a:pt x="2706" y="528"/>
                      </a:lnTo>
                      <a:lnTo>
                        <a:pt x="2708" y="524"/>
                      </a:lnTo>
                      <a:lnTo>
                        <a:pt x="2708" y="522"/>
                      </a:lnTo>
                      <a:lnTo>
                        <a:pt x="2710" y="518"/>
                      </a:lnTo>
                      <a:lnTo>
                        <a:pt x="2710" y="515"/>
                      </a:lnTo>
                      <a:lnTo>
                        <a:pt x="2710" y="515"/>
                      </a:lnTo>
                      <a:lnTo>
                        <a:pt x="2712" y="515"/>
                      </a:lnTo>
                      <a:lnTo>
                        <a:pt x="2714" y="513"/>
                      </a:lnTo>
                      <a:lnTo>
                        <a:pt x="2714" y="511"/>
                      </a:lnTo>
                      <a:lnTo>
                        <a:pt x="2716" y="511"/>
                      </a:lnTo>
                      <a:lnTo>
                        <a:pt x="2717" y="509"/>
                      </a:lnTo>
                      <a:lnTo>
                        <a:pt x="2719" y="509"/>
                      </a:lnTo>
                      <a:lnTo>
                        <a:pt x="2721" y="509"/>
                      </a:lnTo>
                      <a:lnTo>
                        <a:pt x="2721" y="507"/>
                      </a:lnTo>
                      <a:lnTo>
                        <a:pt x="2721" y="507"/>
                      </a:lnTo>
                      <a:lnTo>
                        <a:pt x="2721" y="507"/>
                      </a:lnTo>
                      <a:lnTo>
                        <a:pt x="2721" y="507"/>
                      </a:lnTo>
                      <a:lnTo>
                        <a:pt x="2721" y="505"/>
                      </a:lnTo>
                      <a:lnTo>
                        <a:pt x="2721" y="505"/>
                      </a:lnTo>
                      <a:lnTo>
                        <a:pt x="2721" y="505"/>
                      </a:lnTo>
                      <a:lnTo>
                        <a:pt x="2723" y="505"/>
                      </a:lnTo>
                      <a:lnTo>
                        <a:pt x="2723" y="501"/>
                      </a:lnTo>
                      <a:lnTo>
                        <a:pt x="2725" y="497"/>
                      </a:lnTo>
                      <a:lnTo>
                        <a:pt x="2725" y="495"/>
                      </a:lnTo>
                      <a:lnTo>
                        <a:pt x="2729" y="493"/>
                      </a:lnTo>
                      <a:lnTo>
                        <a:pt x="2731" y="490"/>
                      </a:lnTo>
                      <a:lnTo>
                        <a:pt x="2733" y="488"/>
                      </a:lnTo>
                      <a:lnTo>
                        <a:pt x="2737" y="488"/>
                      </a:lnTo>
                      <a:lnTo>
                        <a:pt x="2739" y="486"/>
                      </a:lnTo>
                      <a:lnTo>
                        <a:pt x="2739" y="484"/>
                      </a:lnTo>
                      <a:lnTo>
                        <a:pt x="2739" y="482"/>
                      </a:lnTo>
                      <a:lnTo>
                        <a:pt x="2739" y="480"/>
                      </a:lnTo>
                      <a:lnTo>
                        <a:pt x="2739" y="478"/>
                      </a:lnTo>
                      <a:lnTo>
                        <a:pt x="2739" y="478"/>
                      </a:lnTo>
                      <a:lnTo>
                        <a:pt x="2739" y="476"/>
                      </a:lnTo>
                      <a:lnTo>
                        <a:pt x="2740" y="474"/>
                      </a:lnTo>
                      <a:lnTo>
                        <a:pt x="2740" y="472"/>
                      </a:lnTo>
                      <a:lnTo>
                        <a:pt x="2739" y="472"/>
                      </a:lnTo>
                      <a:lnTo>
                        <a:pt x="2739" y="470"/>
                      </a:lnTo>
                      <a:lnTo>
                        <a:pt x="2739" y="470"/>
                      </a:lnTo>
                      <a:lnTo>
                        <a:pt x="2739" y="469"/>
                      </a:lnTo>
                      <a:lnTo>
                        <a:pt x="2739" y="467"/>
                      </a:lnTo>
                      <a:lnTo>
                        <a:pt x="2739" y="467"/>
                      </a:lnTo>
                      <a:lnTo>
                        <a:pt x="2739" y="465"/>
                      </a:lnTo>
                      <a:lnTo>
                        <a:pt x="2739" y="465"/>
                      </a:lnTo>
                      <a:lnTo>
                        <a:pt x="2740" y="465"/>
                      </a:lnTo>
                      <a:lnTo>
                        <a:pt x="2740" y="461"/>
                      </a:lnTo>
                      <a:lnTo>
                        <a:pt x="2740" y="461"/>
                      </a:lnTo>
                      <a:lnTo>
                        <a:pt x="2740" y="461"/>
                      </a:lnTo>
                      <a:lnTo>
                        <a:pt x="2742" y="459"/>
                      </a:lnTo>
                      <a:lnTo>
                        <a:pt x="2742" y="459"/>
                      </a:lnTo>
                      <a:lnTo>
                        <a:pt x="2744" y="457"/>
                      </a:lnTo>
                      <a:lnTo>
                        <a:pt x="2744" y="455"/>
                      </a:lnTo>
                      <a:lnTo>
                        <a:pt x="2744" y="455"/>
                      </a:lnTo>
                      <a:lnTo>
                        <a:pt x="2744" y="453"/>
                      </a:lnTo>
                      <a:lnTo>
                        <a:pt x="2746" y="453"/>
                      </a:lnTo>
                      <a:lnTo>
                        <a:pt x="2746" y="453"/>
                      </a:lnTo>
                      <a:lnTo>
                        <a:pt x="2746" y="451"/>
                      </a:lnTo>
                      <a:lnTo>
                        <a:pt x="2748" y="451"/>
                      </a:lnTo>
                      <a:lnTo>
                        <a:pt x="2748" y="451"/>
                      </a:lnTo>
                      <a:lnTo>
                        <a:pt x="2748" y="449"/>
                      </a:lnTo>
                      <a:lnTo>
                        <a:pt x="2748" y="449"/>
                      </a:lnTo>
                      <a:lnTo>
                        <a:pt x="2748" y="447"/>
                      </a:lnTo>
                      <a:lnTo>
                        <a:pt x="2750" y="447"/>
                      </a:lnTo>
                      <a:lnTo>
                        <a:pt x="2750" y="444"/>
                      </a:lnTo>
                      <a:lnTo>
                        <a:pt x="2752" y="440"/>
                      </a:lnTo>
                      <a:lnTo>
                        <a:pt x="2752" y="436"/>
                      </a:lnTo>
                      <a:lnTo>
                        <a:pt x="2752" y="432"/>
                      </a:lnTo>
                      <a:lnTo>
                        <a:pt x="2750" y="426"/>
                      </a:lnTo>
                      <a:lnTo>
                        <a:pt x="2748" y="422"/>
                      </a:lnTo>
                      <a:lnTo>
                        <a:pt x="2746" y="421"/>
                      </a:lnTo>
                      <a:lnTo>
                        <a:pt x="2742" y="419"/>
                      </a:lnTo>
                      <a:lnTo>
                        <a:pt x="2742" y="415"/>
                      </a:lnTo>
                      <a:lnTo>
                        <a:pt x="2742" y="411"/>
                      </a:lnTo>
                      <a:lnTo>
                        <a:pt x="2742" y="407"/>
                      </a:lnTo>
                      <a:lnTo>
                        <a:pt x="2742" y="403"/>
                      </a:lnTo>
                      <a:lnTo>
                        <a:pt x="2740" y="399"/>
                      </a:lnTo>
                      <a:lnTo>
                        <a:pt x="2740" y="398"/>
                      </a:lnTo>
                      <a:lnTo>
                        <a:pt x="2740" y="394"/>
                      </a:lnTo>
                      <a:lnTo>
                        <a:pt x="2740" y="390"/>
                      </a:lnTo>
                      <a:lnTo>
                        <a:pt x="2740" y="390"/>
                      </a:lnTo>
                      <a:lnTo>
                        <a:pt x="2742" y="388"/>
                      </a:lnTo>
                      <a:lnTo>
                        <a:pt x="2742" y="386"/>
                      </a:lnTo>
                      <a:lnTo>
                        <a:pt x="2744" y="384"/>
                      </a:lnTo>
                      <a:lnTo>
                        <a:pt x="2744" y="382"/>
                      </a:lnTo>
                      <a:lnTo>
                        <a:pt x="2746" y="380"/>
                      </a:lnTo>
                      <a:lnTo>
                        <a:pt x="2746" y="378"/>
                      </a:lnTo>
                      <a:lnTo>
                        <a:pt x="2748" y="376"/>
                      </a:lnTo>
                      <a:lnTo>
                        <a:pt x="2748" y="375"/>
                      </a:lnTo>
                      <a:lnTo>
                        <a:pt x="2748" y="373"/>
                      </a:lnTo>
                      <a:lnTo>
                        <a:pt x="2748" y="371"/>
                      </a:lnTo>
                      <a:lnTo>
                        <a:pt x="2748" y="369"/>
                      </a:lnTo>
                      <a:lnTo>
                        <a:pt x="2748" y="367"/>
                      </a:lnTo>
                      <a:lnTo>
                        <a:pt x="2748" y="363"/>
                      </a:lnTo>
                      <a:lnTo>
                        <a:pt x="2748" y="361"/>
                      </a:lnTo>
                      <a:lnTo>
                        <a:pt x="2748" y="361"/>
                      </a:lnTo>
                      <a:lnTo>
                        <a:pt x="2750" y="361"/>
                      </a:lnTo>
                      <a:lnTo>
                        <a:pt x="2754" y="361"/>
                      </a:lnTo>
                      <a:lnTo>
                        <a:pt x="2758" y="361"/>
                      </a:lnTo>
                      <a:lnTo>
                        <a:pt x="2763" y="363"/>
                      </a:lnTo>
                      <a:lnTo>
                        <a:pt x="2767" y="363"/>
                      </a:lnTo>
                      <a:lnTo>
                        <a:pt x="2771" y="363"/>
                      </a:lnTo>
                      <a:lnTo>
                        <a:pt x="2775" y="363"/>
                      </a:lnTo>
                      <a:lnTo>
                        <a:pt x="2777" y="361"/>
                      </a:lnTo>
                      <a:lnTo>
                        <a:pt x="2777" y="361"/>
                      </a:lnTo>
                      <a:lnTo>
                        <a:pt x="2781" y="359"/>
                      </a:lnTo>
                      <a:lnTo>
                        <a:pt x="2783" y="355"/>
                      </a:lnTo>
                      <a:lnTo>
                        <a:pt x="2787" y="353"/>
                      </a:lnTo>
                      <a:lnTo>
                        <a:pt x="2788" y="352"/>
                      </a:lnTo>
                      <a:lnTo>
                        <a:pt x="2792" y="348"/>
                      </a:lnTo>
                      <a:lnTo>
                        <a:pt x="2796" y="346"/>
                      </a:lnTo>
                      <a:lnTo>
                        <a:pt x="2800" y="344"/>
                      </a:lnTo>
                      <a:lnTo>
                        <a:pt x="2802" y="344"/>
                      </a:lnTo>
                      <a:lnTo>
                        <a:pt x="2802" y="342"/>
                      </a:lnTo>
                      <a:lnTo>
                        <a:pt x="2804" y="342"/>
                      </a:lnTo>
                      <a:lnTo>
                        <a:pt x="2806" y="340"/>
                      </a:lnTo>
                      <a:lnTo>
                        <a:pt x="2808" y="338"/>
                      </a:lnTo>
                      <a:lnTo>
                        <a:pt x="2810" y="336"/>
                      </a:lnTo>
                      <a:lnTo>
                        <a:pt x="2811" y="336"/>
                      </a:lnTo>
                      <a:lnTo>
                        <a:pt x="2813" y="334"/>
                      </a:lnTo>
                      <a:lnTo>
                        <a:pt x="2813" y="332"/>
                      </a:lnTo>
                      <a:lnTo>
                        <a:pt x="2815" y="325"/>
                      </a:lnTo>
                      <a:lnTo>
                        <a:pt x="2817" y="319"/>
                      </a:lnTo>
                      <a:lnTo>
                        <a:pt x="2823" y="313"/>
                      </a:lnTo>
                      <a:lnTo>
                        <a:pt x="2829" y="309"/>
                      </a:lnTo>
                      <a:lnTo>
                        <a:pt x="2835" y="304"/>
                      </a:lnTo>
                      <a:lnTo>
                        <a:pt x="2838" y="300"/>
                      </a:lnTo>
                      <a:lnTo>
                        <a:pt x="2844" y="296"/>
                      </a:lnTo>
                      <a:lnTo>
                        <a:pt x="2848" y="290"/>
                      </a:lnTo>
                      <a:lnTo>
                        <a:pt x="2848" y="288"/>
                      </a:lnTo>
                      <a:lnTo>
                        <a:pt x="2850" y="288"/>
                      </a:lnTo>
                      <a:lnTo>
                        <a:pt x="2852" y="286"/>
                      </a:lnTo>
                      <a:lnTo>
                        <a:pt x="2852" y="286"/>
                      </a:lnTo>
                      <a:lnTo>
                        <a:pt x="2854" y="284"/>
                      </a:lnTo>
                      <a:lnTo>
                        <a:pt x="2856" y="284"/>
                      </a:lnTo>
                      <a:lnTo>
                        <a:pt x="2856" y="282"/>
                      </a:lnTo>
                      <a:lnTo>
                        <a:pt x="2858" y="282"/>
                      </a:lnTo>
                      <a:lnTo>
                        <a:pt x="2861" y="282"/>
                      </a:lnTo>
                      <a:lnTo>
                        <a:pt x="2867" y="282"/>
                      </a:lnTo>
                      <a:lnTo>
                        <a:pt x="2873" y="281"/>
                      </a:lnTo>
                      <a:lnTo>
                        <a:pt x="2881" y="281"/>
                      </a:lnTo>
                      <a:lnTo>
                        <a:pt x="2886" y="281"/>
                      </a:lnTo>
                      <a:lnTo>
                        <a:pt x="2890" y="281"/>
                      </a:lnTo>
                      <a:lnTo>
                        <a:pt x="2896" y="281"/>
                      </a:lnTo>
                      <a:lnTo>
                        <a:pt x="2902" y="282"/>
                      </a:lnTo>
                      <a:lnTo>
                        <a:pt x="2902" y="282"/>
                      </a:lnTo>
                      <a:lnTo>
                        <a:pt x="2904" y="284"/>
                      </a:lnTo>
                      <a:lnTo>
                        <a:pt x="2906" y="284"/>
                      </a:lnTo>
                      <a:lnTo>
                        <a:pt x="2907" y="286"/>
                      </a:lnTo>
                      <a:lnTo>
                        <a:pt x="2909" y="288"/>
                      </a:lnTo>
                      <a:lnTo>
                        <a:pt x="2911" y="288"/>
                      </a:lnTo>
                      <a:lnTo>
                        <a:pt x="2913" y="288"/>
                      </a:lnTo>
                      <a:lnTo>
                        <a:pt x="2915" y="290"/>
                      </a:lnTo>
                      <a:lnTo>
                        <a:pt x="2915" y="292"/>
                      </a:lnTo>
                      <a:lnTo>
                        <a:pt x="2915" y="294"/>
                      </a:lnTo>
                      <a:lnTo>
                        <a:pt x="2917" y="296"/>
                      </a:lnTo>
                      <a:lnTo>
                        <a:pt x="2919" y="298"/>
                      </a:lnTo>
                      <a:lnTo>
                        <a:pt x="2921" y="300"/>
                      </a:lnTo>
                      <a:lnTo>
                        <a:pt x="2925" y="302"/>
                      </a:lnTo>
                      <a:lnTo>
                        <a:pt x="2927" y="304"/>
                      </a:lnTo>
                      <a:lnTo>
                        <a:pt x="2929" y="305"/>
                      </a:lnTo>
                      <a:lnTo>
                        <a:pt x="2930" y="305"/>
                      </a:lnTo>
                      <a:lnTo>
                        <a:pt x="2932" y="305"/>
                      </a:lnTo>
                      <a:lnTo>
                        <a:pt x="2934" y="304"/>
                      </a:lnTo>
                      <a:lnTo>
                        <a:pt x="2936" y="304"/>
                      </a:lnTo>
                      <a:lnTo>
                        <a:pt x="2938" y="304"/>
                      </a:lnTo>
                      <a:lnTo>
                        <a:pt x="2942" y="302"/>
                      </a:lnTo>
                      <a:lnTo>
                        <a:pt x="2944" y="302"/>
                      </a:lnTo>
                      <a:lnTo>
                        <a:pt x="2946" y="302"/>
                      </a:lnTo>
                      <a:lnTo>
                        <a:pt x="2946" y="300"/>
                      </a:lnTo>
                      <a:lnTo>
                        <a:pt x="2946" y="298"/>
                      </a:lnTo>
                      <a:lnTo>
                        <a:pt x="2944" y="296"/>
                      </a:lnTo>
                      <a:lnTo>
                        <a:pt x="2944" y="294"/>
                      </a:lnTo>
                      <a:lnTo>
                        <a:pt x="2944" y="292"/>
                      </a:lnTo>
                      <a:lnTo>
                        <a:pt x="2944" y="290"/>
                      </a:lnTo>
                      <a:lnTo>
                        <a:pt x="2942" y="288"/>
                      </a:lnTo>
                      <a:lnTo>
                        <a:pt x="2942" y="286"/>
                      </a:lnTo>
                      <a:lnTo>
                        <a:pt x="2942" y="286"/>
                      </a:lnTo>
                      <a:lnTo>
                        <a:pt x="2942" y="286"/>
                      </a:lnTo>
                      <a:lnTo>
                        <a:pt x="2942" y="286"/>
                      </a:lnTo>
                      <a:lnTo>
                        <a:pt x="2940" y="284"/>
                      </a:lnTo>
                      <a:lnTo>
                        <a:pt x="2940" y="284"/>
                      </a:lnTo>
                      <a:lnTo>
                        <a:pt x="2940" y="284"/>
                      </a:lnTo>
                      <a:lnTo>
                        <a:pt x="2940" y="284"/>
                      </a:lnTo>
                      <a:lnTo>
                        <a:pt x="2940" y="284"/>
                      </a:lnTo>
                      <a:lnTo>
                        <a:pt x="2938" y="282"/>
                      </a:lnTo>
                      <a:lnTo>
                        <a:pt x="2936" y="282"/>
                      </a:lnTo>
                      <a:lnTo>
                        <a:pt x="2934" y="281"/>
                      </a:lnTo>
                      <a:lnTo>
                        <a:pt x="2932" y="279"/>
                      </a:lnTo>
                      <a:lnTo>
                        <a:pt x="2930" y="277"/>
                      </a:lnTo>
                      <a:lnTo>
                        <a:pt x="2929" y="275"/>
                      </a:lnTo>
                      <a:lnTo>
                        <a:pt x="2927" y="275"/>
                      </a:lnTo>
                      <a:lnTo>
                        <a:pt x="2925" y="273"/>
                      </a:lnTo>
                      <a:lnTo>
                        <a:pt x="2925" y="267"/>
                      </a:lnTo>
                      <a:lnTo>
                        <a:pt x="2925" y="267"/>
                      </a:lnTo>
                      <a:lnTo>
                        <a:pt x="2923" y="265"/>
                      </a:lnTo>
                      <a:lnTo>
                        <a:pt x="2923" y="265"/>
                      </a:lnTo>
                      <a:lnTo>
                        <a:pt x="2923" y="265"/>
                      </a:lnTo>
                      <a:lnTo>
                        <a:pt x="2921" y="265"/>
                      </a:lnTo>
                      <a:lnTo>
                        <a:pt x="2921" y="265"/>
                      </a:lnTo>
                      <a:lnTo>
                        <a:pt x="2921" y="265"/>
                      </a:lnTo>
                      <a:lnTo>
                        <a:pt x="2921" y="265"/>
                      </a:lnTo>
                      <a:lnTo>
                        <a:pt x="2919" y="263"/>
                      </a:lnTo>
                      <a:lnTo>
                        <a:pt x="2919" y="261"/>
                      </a:lnTo>
                      <a:lnTo>
                        <a:pt x="2919" y="259"/>
                      </a:lnTo>
                      <a:lnTo>
                        <a:pt x="2919" y="258"/>
                      </a:lnTo>
                      <a:lnTo>
                        <a:pt x="2919" y="256"/>
                      </a:lnTo>
                      <a:lnTo>
                        <a:pt x="2919" y="254"/>
                      </a:lnTo>
                      <a:lnTo>
                        <a:pt x="2919" y="252"/>
                      </a:lnTo>
                      <a:lnTo>
                        <a:pt x="2919" y="250"/>
                      </a:lnTo>
                      <a:lnTo>
                        <a:pt x="2921" y="248"/>
                      </a:lnTo>
                      <a:lnTo>
                        <a:pt x="2923" y="244"/>
                      </a:lnTo>
                      <a:lnTo>
                        <a:pt x="2925" y="242"/>
                      </a:lnTo>
                      <a:lnTo>
                        <a:pt x="2927" y="240"/>
                      </a:lnTo>
                      <a:lnTo>
                        <a:pt x="2930" y="238"/>
                      </a:lnTo>
                      <a:lnTo>
                        <a:pt x="2932" y="236"/>
                      </a:lnTo>
                      <a:lnTo>
                        <a:pt x="2934" y="234"/>
                      </a:lnTo>
                      <a:lnTo>
                        <a:pt x="2936" y="233"/>
                      </a:lnTo>
                      <a:lnTo>
                        <a:pt x="2938" y="229"/>
                      </a:lnTo>
                      <a:lnTo>
                        <a:pt x="2938" y="227"/>
                      </a:lnTo>
                      <a:lnTo>
                        <a:pt x="2940" y="225"/>
                      </a:lnTo>
                      <a:lnTo>
                        <a:pt x="2942" y="225"/>
                      </a:lnTo>
                      <a:lnTo>
                        <a:pt x="2944" y="223"/>
                      </a:lnTo>
                      <a:lnTo>
                        <a:pt x="2946" y="221"/>
                      </a:lnTo>
                      <a:lnTo>
                        <a:pt x="2948" y="221"/>
                      </a:lnTo>
                      <a:lnTo>
                        <a:pt x="2950" y="219"/>
                      </a:lnTo>
                      <a:lnTo>
                        <a:pt x="2952" y="219"/>
                      </a:lnTo>
                      <a:lnTo>
                        <a:pt x="2953" y="219"/>
                      </a:lnTo>
                      <a:lnTo>
                        <a:pt x="2955" y="219"/>
                      </a:lnTo>
                      <a:lnTo>
                        <a:pt x="2957" y="217"/>
                      </a:lnTo>
                      <a:lnTo>
                        <a:pt x="2959" y="217"/>
                      </a:lnTo>
                      <a:lnTo>
                        <a:pt x="2961" y="215"/>
                      </a:lnTo>
                      <a:lnTo>
                        <a:pt x="2963" y="215"/>
                      </a:lnTo>
                      <a:lnTo>
                        <a:pt x="2965" y="215"/>
                      </a:lnTo>
                      <a:lnTo>
                        <a:pt x="2965" y="208"/>
                      </a:lnTo>
                      <a:lnTo>
                        <a:pt x="2961" y="202"/>
                      </a:lnTo>
                      <a:lnTo>
                        <a:pt x="2959" y="194"/>
                      </a:lnTo>
                      <a:lnTo>
                        <a:pt x="2955" y="188"/>
                      </a:lnTo>
                      <a:lnTo>
                        <a:pt x="2950" y="183"/>
                      </a:lnTo>
                      <a:lnTo>
                        <a:pt x="2946" y="177"/>
                      </a:lnTo>
                      <a:lnTo>
                        <a:pt x="2940" y="171"/>
                      </a:lnTo>
                      <a:lnTo>
                        <a:pt x="2936" y="167"/>
                      </a:lnTo>
                      <a:lnTo>
                        <a:pt x="2930" y="167"/>
                      </a:lnTo>
                      <a:lnTo>
                        <a:pt x="2927" y="167"/>
                      </a:lnTo>
                      <a:lnTo>
                        <a:pt x="2921" y="165"/>
                      </a:lnTo>
                      <a:lnTo>
                        <a:pt x="2915" y="165"/>
                      </a:lnTo>
                      <a:lnTo>
                        <a:pt x="2909" y="165"/>
                      </a:lnTo>
                      <a:lnTo>
                        <a:pt x="2904" y="164"/>
                      </a:lnTo>
                      <a:lnTo>
                        <a:pt x="2898" y="164"/>
                      </a:lnTo>
                      <a:lnTo>
                        <a:pt x="2892" y="164"/>
                      </a:lnTo>
                      <a:lnTo>
                        <a:pt x="2892" y="164"/>
                      </a:lnTo>
                      <a:lnTo>
                        <a:pt x="2892" y="165"/>
                      </a:lnTo>
                      <a:lnTo>
                        <a:pt x="2892" y="165"/>
                      </a:lnTo>
                      <a:lnTo>
                        <a:pt x="2890" y="165"/>
                      </a:lnTo>
                      <a:lnTo>
                        <a:pt x="2888" y="164"/>
                      </a:lnTo>
                      <a:lnTo>
                        <a:pt x="2886" y="164"/>
                      </a:lnTo>
                      <a:lnTo>
                        <a:pt x="2884" y="164"/>
                      </a:lnTo>
                      <a:lnTo>
                        <a:pt x="2884" y="162"/>
                      </a:lnTo>
                      <a:lnTo>
                        <a:pt x="2882" y="162"/>
                      </a:lnTo>
                      <a:lnTo>
                        <a:pt x="2882" y="162"/>
                      </a:lnTo>
                      <a:lnTo>
                        <a:pt x="2877" y="162"/>
                      </a:lnTo>
                      <a:lnTo>
                        <a:pt x="2875" y="162"/>
                      </a:lnTo>
                      <a:lnTo>
                        <a:pt x="2871" y="164"/>
                      </a:lnTo>
                      <a:lnTo>
                        <a:pt x="2869" y="165"/>
                      </a:lnTo>
                      <a:lnTo>
                        <a:pt x="2865" y="165"/>
                      </a:lnTo>
                      <a:lnTo>
                        <a:pt x="2863" y="167"/>
                      </a:lnTo>
                      <a:lnTo>
                        <a:pt x="2861" y="169"/>
                      </a:lnTo>
                      <a:lnTo>
                        <a:pt x="2858" y="169"/>
                      </a:lnTo>
                      <a:lnTo>
                        <a:pt x="2858" y="165"/>
                      </a:lnTo>
                      <a:lnTo>
                        <a:pt x="2858" y="160"/>
                      </a:lnTo>
                      <a:lnTo>
                        <a:pt x="2858" y="154"/>
                      </a:lnTo>
                      <a:lnTo>
                        <a:pt x="2858" y="148"/>
                      </a:lnTo>
                      <a:lnTo>
                        <a:pt x="2859" y="140"/>
                      </a:lnTo>
                      <a:lnTo>
                        <a:pt x="2861" y="135"/>
                      </a:lnTo>
                      <a:lnTo>
                        <a:pt x="2863" y="133"/>
                      </a:lnTo>
                      <a:lnTo>
                        <a:pt x="2867" y="131"/>
                      </a:lnTo>
                      <a:lnTo>
                        <a:pt x="2869" y="129"/>
                      </a:lnTo>
                      <a:lnTo>
                        <a:pt x="2869" y="127"/>
                      </a:lnTo>
                      <a:lnTo>
                        <a:pt x="2871" y="125"/>
                      </a:lnTo>
                      <a:lnTo>
                        <a:pt x="2871" y="123"/>
                      </a:lnTo>
                      <a:lnTo>
                        <a:pt x="2873" y="119"/>
                      </a:lnTo>
                      <a:lnTo>
                        <a:pt x="2873" y="117"/>
                      </a:lnTo>
                      <a:lnTo>
                        <a:pt x="2873" y="116"/>
                      </a:lnTo>
                      <a:lnTo>
                        <a:pt x="2873" y="114"/>
                      </a:lnTo>
                      <a:lnTo>
                        <a:pt x="2873" y="114"/>
                      </a:lnTo>
                      <a:lnTo>
                        <a:pt x="2873" y="112"/>
                      </a:lnTo>
                      <a:lnTo>
                        <a:pt x="2873" y="112"/>
                      </a:lnTo>
                      <a:lnTo>
                        <a:pt x="2873" y="112"/>
                      </a:lnTo>
                      <a:lnTo>
                        <a:pt x="2871" y="110"/>
                      </a:lnTo>
                      <a:lnTo>
                        <a:pt x="2871" y="110"/>
                      </a:lnTo>
                      <a:lnTo>
                        <a:pt x="2871" y="108"/>
                      </a:lnTo>
                      <a:lnTo>
                        <a:pt x="2871" y="108"/>
                      </a:lnTo>
                      <a:lnTo>
                        <a:pt x="2871" y="108"/>
                      </a:lnTo>
                      <a:lnTo>
                        <a:pt x="2871" y="108"/>
                      </a:lnTo>
                      <a:lnTo>
                        <a:pt x="2869" y="106"/>
                      </a:lnTo>
                      <a:lnTo>
                        <a:pt x="2869" y="106"/>
                      </a:lnTo>
                      <a:lnTo>
                        <a:pt x="2867" y="106"/>
                      </a:lnTo>
                      <a:lnTo>
                        <a:pt x="2867" y="104"/>
                      </a:lnTo>
                      <a:lnTo>
                        <a:pt x="2867" y="104"/>
                      </a:lnTo>
                      <a:lnTo>
                        <a:pt x="2865" y="104"/>
                      </a:lnTo>
                      <a:lnTo>
                        <a:pt x="2865" y="100"/>
                      </a:lnTo>
                      <a:lnTo>
                        <a:pt x="2865" y="98"/>
                      </a:lnTo>
                      <a:lnTo>
                        <a:pt x="2865" y="96"/>
                      </a:lnTo>
                      <a:lnTo>
                        <a:pt x="2865" y="94"/>
                      </a:lnTo>
                      <a:lnTo>
                        <a:pt x="2865" y="94"/>
                      </a:lnTo>
                      <a:lnTo>
                        <a:pt x="2863" y="93"/>
                      </a:lnTo>
                      <a:lnTo>
                        <a:pt x="2863" y="91"/>
                      </a:lnTo>
                      <a:lnTo>
                        <a:pt x="2861" y="89"/>
                      </a:lnTo>
                      <a:lnTo>
                        <a:pt x="2859" y="89"/>
                      </a:lnTo>
                      <a:lnTo>
                        <a:pt x="2856" y="91"/>
                      </a:lnTo>
                      <a:lnTo>
                        <a:pt x="2854" y="91"/>
                      </a:lnTo>
                      <a:lnTo>
                        <a:pt x="2852" y="93"/>
                      </a:lnTo>
                      <a:lnTo>
                        <a:pt x="2852" y="94"/>
                      </a:lnTo>
                      <a:lnTo>
                        <a:pt x="2850" y="98"/>
                      </a:lnTo>
                      <a:lnTo>
                        <a:pt x="2848" y="100"/>
                      </a:lnTo>
                      <a:lnTo>
                        <a:pt x="2848" y="102"/>
                      </a:lnTo>
                      <a:lnTo>
                        <a:pt x="2831" y="102"/>
                      </a:lnTo>
                      <a:lnTo>
                        <a:pt x="2831" y="100"/>
                      </a:lnTo>
                      <a:lnTo>
                        <a:pt x="2831" y="98"/>
                      </a:lnTo>
                      <a:lnTo>
                        <a:pt x="2831" y="96"/>
                      </a:lnTo>
                      <a:lnTo>
                        <a:pt x="2831" y="94"/>
                      </a:lnTo>
                      <a:lnTo>
                        <a:pt x="2833" y="94"/>
                      </a:lnTo>
                      <a:lnTo>
                        <a:pt x="2833" y="93"/>
                      </a:lnTo>
                      <a:lnTo>
                        <a:pt x="2833" y="91"/>
                      </a:lnTo>
                      <a:lnTo>
                        <a:pt x="2835" y="91"/>
                      </a:lnTo>
                      <a:lnTo>
                        <a:pt x="2835" y="91"/>
                      </a:lnTo>
                      <a:lnTo>
                        <a:pt x="2836" y="87"/>
                      </a:lnTo>
                      <a:lnTo>
                        <a:pt x="2838" y="85"/>
                      </a:lnTo>
                      <a:lnTo>
                        <a:pt x="2842" y="83"/>
                      </a:lnTo>
                      <a:lnTo>
                        <a:pt x="2844" y="79"/>
                      </a:lnTo>
                      <a:lnTo>
                        <a:pt x="2844" y="77"/>
                      </a:lnTo>
                      <a:lnTo>
                        <a:pt x="2846" y="73"/>
                      </a:lnTo>
                      <a:lnTo>
                        <a:pt x="2848" y="71"/>
                      </a:lnTo>
                      <a:lnTo>
                        <a:pt x="2848" y="68"/>
                      </a:lnTo>
                      <a:lnTo>
                        <a:pt x="2846" y="66"/>
                      </a:lnTo>
                      <a:lnTo>
                        <a:pt x="2846" y="66"/>
                      </a:lnTo>
                      <a:lnTo>
                        <a:pt x="2844" y="64"/>
                      </a:lnTo>
                      <a:lnTo>
                        <a:pt x="2842" y="64"/>
                      </a:lnTo>
                      <a:lnTo>
                        <a:pt x="2840" y="64"/>
                      </a:lnTo>
                      <a:lnTo>
                        <a:pt x="2838" y="62"/>
                      </a:lnTo>
                      <a:lnTo>
                        <a:pt x="2836" y="62"/>
                      </a:lnTo>
                      <a:lnTo>
                        <a:pt x="2835" y="62"/>
                      </a:lnTo>
                      <a:lnTo>
                        <a:pt x="2835" y="62"/>
                      </a:lnTo>
                      <a:lnTo>
                        <a:pt x="2833" y="60"/>
                      </a:lnTo>
                      <a:lnTo>
                        <a:pt x="2833" y="60"/>
                      </a:lnTo>
                      <a:lnTo>
                        <a:pt x="2831" y="60"/>
                      </a:lnTo>
                      <a:lnTo>
                        <a:pt x="2831" y="58"/>
                      </a:lnTo>
                      <a:lnTo>
                        <a:pt x="2829" y="58"/>
                      </a:lnTo>
                      <a:lnTo>
                        <a:pt x="2829" y="58"/>
                      </a:lnTo>
                      <a:lnTo>
                        <a:pt x="2827" y="58"/>
                      </a:lnTo>
                      <a:lnTo>
                        <a:pt x="2827" y="56"/>
                      </a:lnTo>
                      <a:lnTo>
                        <a:pt x="2827" y="54"/>
                      </a:lnTo>
                      <a:lnTo>
                        <a:pt x="2827" y="54"/>
                      </a:lnTo>
                      <a:lnTo>
                        <a:pt x="2825" y="52"/>
                      </a:lnTo>
                      <a:lnTo>
                        <a:pt x="2825" y="52"/>
                      </a:lnTo>
                      <a:lnTo>
                        <a:pt x="2825" y="50"/>
                      </a:lnTo>
                      <a:lnTo>
                        <a:pt x="2823" y="48"/>
                      </a:lnTo>
                      <a:lnTo>
                        <a:pt x="2823" y="48"/>
                      </a:lnTo>
                      <a:lnTo>
                        <a:pt x="2823" y="46"/>
                      </a:lnTo>
                      <a:lnTo>
                        <a:pt x="2821" y="46"/>
                      </a:lnTo>
                      <a:lnTo>
                        <a:pt x="2821" y="46"/>
                      </a:lnTo>
                      <a:lnTo>
                        <a:pt x="2819" y="45"/>
                      </a:lnTo>
                      <a:lnTo>
                        <a:pt x="2817" y="45"/>
                      </a:lnTo>
                      <a:lnTo>
                        <a:pt x="2815" y="45"/>
                      </a:lnTo>
                      <a:lnTo>
                        <a:pt x="2813" y="45"/>
                      </a:lnTo>
                      <a:lnTo>
                        <a:pt x="2810" y="46"/>
                      </a:lnTo>
                      <a:lnTo>
                        <a:pt x="2808" y="46"/>
                      </a:lnTo>
                      <a:lnTo>
                        <a:pt x="2804" y="48"/>
                      </a:lnTo>
                      <a:lnTo>
                        <a:pt x="2802" y="50"/>
                      </a:lnTo>
                      <a:lnTo>
                        <a:pt x="2802" y="50"/>
                      </a:lnTo>
                      <a:lnTo>
                        <a:pt x="2800" y="50"/>
                      </a:lnTo>
                      <a:lnTo>
                        <a:pt x="2798" y="52"/>
                      </a:lnTo>
                      <a:lnTo>
                        <a:pt x="2796" y="52"/>
                      </a:lnTo>
                      <a:lnTo>
                        <a:pt x="2794" y="54"/>
                      </a:lnTo>
                      <a:lnTo>
                        <a:pt x="2792" y="54"/>
                      </a:lnTo>
                      <a:lnTo>
                        <a:pt x="2790" y="56"/>
                      </a:lnTo>
                      <a:lnTo>
                        <a:pt x="2788" y="58"/>
                      </a:lnTo>
                      <a:lnTo>
                        <a:pt x="2788" y="58"/>
                      </a:lnTo>
                      <a:lnTo>
                        <a:pt x="2787" y="60"/>
                      </a:lnTo>
                      <a:lnTo>
                        <a:pt x="2783" y="64"/>
                      </a:lnTo>
                      <a:lnTo>
                        <a:pt x="2779" y="70"/>
                      </a:lnTo>
                      <a:lnTo>
                        <a:pt x="2775" y="75"/>
                      </a:lnTo>
                      <a:lnTo>
                        <a:pt x="2771" y="79"/>
                      </a:lnTo>
                      <a:lnTo>
                        <a:pt x="2767" y="85"/>
                      </a:lnTo>
                      <a:lnTo>
                        <a:pt x="2763" y="89"/>
                      </a:lnTo>
                      <a:lnTo>
                        <a:pt x="2762" y="93"/>
                      </a:lnTo>
                      <a:lnTo>
                        <a:pt x="2758" y="96"/>
                      </a:lnTo>
                      <a:lnTo>
                        <a:pt x="2754" y="100"/>
                      </a:lnTo>
                      <a:lnTo>
                        <a:pt x="2750" y="100"/>
                      </a:lnTo>
                      <a:lnTo>
                        <a:pt x="2746" y="100"/>
                      </a:lnTo>
                      <a:lnTo>
                        <a:pt x="2742" y="98"/>
                      </a:lnTo>
                      <a:lnTo>
                        <a:pt x="2737" y="96"/>
                      </a:lnTo>
                      <a:lnTo>
                        <a:pt x="2731" y="94"/>
                      </a:lnTo>
                      <a:lnTo>
                        <a:pt x="2725" y="94"/>
                      </a:lnTo>
                      <a:lnTo>
                        <a:pt x="2725" y="94"/>
                      </a:lnTo>
                      <a:lnTo>
                        <a:pt x="2725" y="93"/>
                      </a:lnTo>
                      <a:lnTo>
                        <a:pt x="2725" y="91"/>
                      </a:lnTo>
                      <a:lnTo>
                        <a:pt x="2725" y="91"/>
                      </a:lnTo>
                      <a:lnTo>
                        <a:pt x="2725" y="89"/>
                      </a:lnTo>
                      <a:lnTo>
                        <a:pt x="2723" y="89"/>
                      </a:lnTo>
                      <a:lnTo>
                        <a:pt x="2723" y="87"/>
                      </a:lnTo>
                      <a:lnTo>
                        <a:pt x="2723" y="87"/>
                      </a:lnTo>
                      <a:lnTo>
                        <a:pt x="2719" y="83"/>
                      </a:lnTo>
                      <a:lnTo>
                        <a:pt x="2716" y="81"/>
                      </a:lnTo>
                      <a:lnTo>
                        <a:pt x="2712" y="79"/>
                      </a:lnTo>
                      <a:lnTo>
                        <a:pt x="2708" y="77"/>
                      </a:lnTo>
                      <a:lnTo>
                        <a:pt x="2704" y="75"/>
                      </a:lnTo>
                      <a:lnTo>
                        <a:pt x="2698" y="75"/>
                      </a:lnTo>
                      <a:lnTo>
                        <a:pt x="2694" y="73"/>
                      </a:lnTo>
                      <a:lnTo>
                        <a:pt x="2689" y="73"/>
                      </a:lnTo>
                      <a:lnTo>
                        <a:pt x="2687" y="73"/>
                      </a:lnTo>
                      <a:lnTo>
                        <a:pt x="2687" y="73"/>
                      </a:lnTo>
                      <a:lnTo>
                        <a:pt x="2685" y="73"/>
                      </a:lnTo>
                      <a:lnTo>
                        <a:pt x="2683" y="73"/>
                      </a:lnTo>
                      <a:lnTo>
                        <a:pt x="2681" y="73"/>
                      </a:lnTo>
                      <a:lnTo>
                        <a:pt x="2681" y="73"/>
                      </a:lnTo>
                      <a:lnTo>
                        <a:pt x="2679" y="73"/>
                      </a:lnTo>
                      <a:lnTo>
                        <a:pt x="2677" y="73"/>
                      </a:lnTo>
                      <a:lnTo>
                        <a:pt x="2675" y="75"/>
                      </a:lnTo>
                      <a:lnTo>
                        <a:pt x="2675" y="79"/>
                      </a:lnTo>
                      <a:lnTo>
                        <a:pt x="2673" y="81"/>
                      </a:lnTo>
                      <a:lnTo>
                        <a:pt x="2673" y="83"/>
                      </a:lnTo>
                      <a:lnTo>
                        <a:pt x="2671" y="87"/>
                      </a:lnTo>
                      <a:lnTo>
                        <a:pt x="2669" y="89"/>
                      </a:lnTo>
                      <a:lnTo>
                        <a:pt x="2668" y="91"/>
                      </a:lnTo>
                      <a:lnTo>
                        <a:pt x="2666" y="93"/>
                      </a:lnTo>
                      <a:lnTo>
                        <a:pt x="2658" y="98"/>
                      </a:lnTo>
                      <a:lnTo>
                        <a:pt x="2648" y="102"/>
                      </a:lnTo>
                      <a:lnTo>
                        <a:pt x="2641" y="108"/>
                      </a:lnTo>
                      <a:lnTo>
                        <a:pt x="2633" y="114"/>
                      </a:lnTo>
                      <a:lnTo>
                        <a:pt x="2625" y="119"/>
                      </a:lnTo>
                      <a:lnTo>
                        <a:pt x="2620" y="127"/>
                      </a:lnTo>
                      <a:lnTo>
                        <a:pt x="2618" y="137"/>
                      </a:lnTo>
                      <a:lnTo>
                        <a:pt x="2616" y="148"/>
                      </a:lnTo>
                      <a:lnTo>
                        <a:pt x="2589" y="148"/>
                      </a:lnTo>
                      <a:lnTo>
                        <a:pt x="2589" y="148"/>
                      </a:lnTo>
                      <a:lnTo>
                        <a:pt x="2585" y="150"/>
                      </a:lnTo>
                      <a:lnTo>
                        <a:pt x="2581" y="152"/>
                      </a:lnTo>
                      <a:lnTo>
                        <a:pt x="2577" y="152"/>
                      </a:lnTo>
                      <a:lnTo>
                        <a:pt x="2574" y="154"/>
                      </a:lnTo>
                      <a:lnTo>
                        <a:pt x="2570" y="154"/>
                      </a:lnTo>
                      <a:lnTo>
                        <a:pt x="2566" y="154"/>
                      </a:lnTo>
                      <a:lnTo>
                        <a:pt x="2564" y="154"/>
                      </a:lnTo>
                      <a:lnTo>
                        <a:pt x="2535" y="175"/>
                      </a:lnTo>
                      <a:lnTo>
                        <a:pt x="2535" y="175"/>
                      </a:lnTo>
                      <a:lnTo>
                        <a:pt x="2535" y="177"/>
                      </a:lnTo>
                      <a:lnTo>
                        <a:pt x="2535" y="177"/>
                      </a:lnTo>
                      <a:lnTo>
                        <a:pt x="2535" y="177"/>
                      </a:lnTo>
                      <a:lnTo>
                        <a:pt x="2535" y="177"/>
                      </a:lnTo>
                      <a:lnTo>
                        <a:pt x="2535" y="177"/>
                      </a:lnTo>
                      <a:lnTo>
                        <a:pt x="2535" y="177"/>
                      </a:lnTo>
                      <a:lnTo>
                        <a:pt x="2535" y="177"/>
                      </a:lnTo>
                      <a:lnTo>
                        <a:pt x="2535" y="181"/>
                      </a:lnTo>
                      <a:lnTo>
                        <a:pt x="2533" y="183"/>
                      </a:lnTo>
                      <a:lnTo>
                        <a:pt x="2533" y="185"/>
                      </a:lnTo>
                      <a:lnTo>
                        <a:pt x="2533" y="188"/>
                      </a:lnTo>
                      <a:lnTo>
                        <a:pt x="2531" y="190"/>
                      </a:lnTo>
                      <a:lnTo>
                        <a:pt x="2531" y="194"/>
                      </a:lnTo>
                      <a:lnTo>
                        <a:pt x="2531" y="196"/>
                      </a:lnTo>
                      <a:lnTo>
                        <a:pt x="2531" y="200"/>
                      </a:lnTo>
                      <a:lnTo>
                        <a:pt x="2529" y="200"/>
                      </a:lnTo>
                      <a:lnTo>
                        <a:pt x="2529" y="200"/>
                      </a:lnTo>
                      <a:lnTo>
                        <a:pt x="2529" y="200"/>
                      </a:lnTo>
                      <a:lnTo>
                        <a:pt x="2529" y="200"/>
                      </a:lnTo>
                      <a:lnTo>
                        <a:pt x="2527" y="200"/>
                      </a:lnTo>
                      <a:lnTo>
                        <a:pt x="2527" y="200"/>
                      </a:lnTo>
                      <a:lnTo>
                        <a:pt x="2527" y="200"/>
                      </a:lnTo>
                      <a:lnTo>
                        <a:pt x="2527" y="202"/>
                      </a:lnTo>
                      <a:lnTo>
                        <a:pt x="2527" y="206"/>
                      </a:lnTo>
                      <a:lnTo>
                        <a:pt x="2518" y="208"/>
                      </a:lnTo>
                      <a:lnTo>
                        <a:pt x="2510" y="210"/>
                      </a:lnTo>
                      <a:lnTo>
                        <a:pt x="2502" y="211"/>
                      </a:lnTo>
                      <a:lnTo>
                        <a:pt x="2493" y="215"/>
                      </a:lnTo>
                      <a:lnTo>
                        <a:pt x="2485" y="221"/>
                      </a:lnTo>
                      <a:lnTo>
                        <a:pt x="2479" y="229"/>
                      </a:lnTo>
                      <a:lnTo>
                        <a:pt x="2476" y="236"/>
                      </a:lnTo>
                      <a:lnTo>
                        <a:pt x="2474" y="246"/>
                      </a:lnTo>
                      <a:lnTo>
                        <a:pt x="2472" y="246"/>
                      </a:lnTo>
                      <a:lnTo>
                        <a:pt x="2472" y="248"/>
                      </a:lnTo>
                      <a:lnTo>
                        <a:pt x="2464" y="248"/>
                      </a:lnTo>
                      <a:lnTo>
                        <a:pt x="2456" y="248"/>
                      </a:lnTo>
                      <a:lnTo>
                        <a:pt x="2451" y="250"/>
                      </a:lnTo>
                      <a:lnTo>
                        <a:pt x="2443" y="250"/>
                      </a:lnTo>
                      <a:lnTo>
                        <a:pt x="2437" y="250"/>
                      </a:lnTo>
                      <a:lnTo>
                        <a:pt x="2431" y="252"/>
                      </a:lnTo>
                      <a:lnTo>
                        <a:pt x="2426" y="254"/>
                      </a:lnTo>
                      <a:lnTo>
                        <a:pt x="2418" y="258"/>
                      </a:lnTo>
                      <a:lnTo>
                        <a:pt x="2418" y="259"/>
                      </a:lnTo>
                      <a:lnTo>
                        <a:pt x="2412" y="259"/>
                      </a:lnTo>
                      <a:lnTo>
                        <a:pt x="2408" y="259"/>
                      </a:lnTo>
                      <a:lnTo>
                        <a:pt x="2403" y="259"/>
                      </a:lnTo>
                      <a:lnTo>
                        <a:pt x="2397" y="259"/>
                      </a:lnTo>
                      <a:lnTo>
                        <a:pt x="2393" y="259"/>
                      </a:lnTo>
                      <a:lnTo>
                        <a:pt x="2387" y="259"/>
                      </a:lnTo>
                      <a:lnTo>
                        <a:pt x="2384" y="261"/>
                      </a:lnTo>
                      <a:lnTo>
                        <a:pt x="2380" y="265"/>
                      </a:lnTo>
                      <a:lnTo>
                        <a:pt x="2380" y="269"/>
                      </a:lnTo>
                      <a:lnTo>
                        <a:pt x="2380" y="273"/>
                      </a:lnTo>
                      <a:lnTo>
                        <a:pt x="2382" y="275"/>
                      </a:lnTo>
                      <a:lnTo>
                        <a:pt x="2382" y="279"/>
                      </a:lnTo>
                      <a:lnTo>
                        <a:pt x="2384" y="281"/>
                      </a:lnTo>
                      <a:lnTo>
                        <a:pt x="2385" y="282"/>
                      </a:lnTo>
                      <a:lnTo>
                        <a:pt x="2387" y="286"/>
                      </a:lnTo>
                      <a:lnTo>
                        <a:pt x="2389" y="290"/>
                      </a:lnTo>
                      <a:lnTo>
                        <a:pt x="2389" y="290"/>
                      </a:lnTo>
                      <a:lnTo>
                        <a:pt x="2391" y="290"/>
                      </a:lnTo>
                      <a:lnTo>
                        <a:pt x="2395" y="290"/>
                      </a:lnTo>
                      <a:lnTo>
                        <a:pt x="2399" y="292"/>
                      </a:lnTo>
                      <a:lnTo>
                        <a:pt x="2407" y="294"/>
                      </a:lnTo>
                      <a:lnTo>
                        <a:pt x="2412" y="296"/>
                      </a:lnTo>
                      <a:lnTo>
                        <a:pt x="2420" y="298"/>
                      </a:lnTo>
                      <a:lnTo>
                        <a:pt x="2426" y="300"/>
                      </a:lnTo>
                      <a:lnTo>
                        <a:pt x="2430" y="304"/>
                      </a:lnTo>
                      <a:lnTo>
                        <a:pt x="2431" y="305"/>
                      </a:lnTo>
                      <a:lnTo>
                        <a:pt x="2433" y="307"/>
                      </a:lnTo>
                      <a:lnTo>
                        <a:pt x="2433" y="319"/>
                      </a:lnTo>
                      <a:lnTo>
                        <a:pt x="2433" y="328"/>
                      </a:lnTo>
                      <a:lnTo>
                        <a:pt x="2431" y="338"/>
                      </a:lnTo>
                      <a:lnTo>
                        <a:pt x="2430" y="348"/>
                      </a:lnTo>
                      <a:lnTo>
                        <a:pt x="2426" y="353"/>
                      </a:lnTo>
                      <a:lnTo>
                        <a:pt x="2420" y="359"/>
                      </a:lnTo>
                      <a:lnTo>
                        <a:pt x="2412" y="363"/>
                      </a:lnTo>
                      <a:lnTo>
                        <a:pt x="2401" y="365"/>
                      </a:lnTo>
                      <a:lnTo>
                        <a:pt x="2401" y="365"/>
                      </a:lnTo>
                      <a:lnTo>
                        <a:pt x="2399" y="365"/>
                      </a:lnTo>
                      <a:lnTo>
                        <a:pt x="2399" y="367"/>
                      </a:lnTo>
                      <a:lnTo>
                        <a:pt x="2399" y="367"/>
                      </a:lnTo>
                      <a:lnTo>
                        <a:pt x="2399" y="367"/>
                      </a:lnTo>
                      <a:lnTo>
                        <a:pt x="2397" y="367"/>
                      </a:lnTo>
                      <a:lnTo>
                        <a:pt x="2397" y="367"/>
                      </a:lnTo>
                      <a:lnTo>
                        <a:pt x="2397" y="369"/>
                      </a:lnTo>
                      <a:lnTo>
                        <a:pt x="2395" y="369"/>
                      </a:lnTo>
                      <a:lnTo>
                        <a:pt x="2389" y="371"/>
                      </a:lnTo>
                      <a:lnTo>
                        <a:pt x="2387" y="373"/>
                      </a:lnTo>
                      <a:lnTo>
                        <a:pt x="2384" y="375"/>
                      </a:lnTo>
                      <a:lnTo>
                        <a:pt x="2382" y="376"/>
                      </a:lnTo>
                      <a:lnTo>
                        <a:pt x="2378" y="376"/>
                      </a:lnTo>
                      <a:lnTo>
                        <a:pt x="2374" y="378"/>
                      </a:lnTo>
                      <a:lnTo>
                        <a:pt x="2370" y="378"/>
                      </a:lnTo>
                      <a:lnTo>
                        <a:pt x="2364" y="378"/>
                      </a:lnTo>
                      <a:lnTo>
                        <a:pt x="2364" y="376"/>
                      </a:lnTo>
                      <a:lnTo>
                        <a:pt x="2357" y="375"/>
                      </a:lnTo>
                      <a:lnTo>
                        <a:pt x="2347" y="373"/>
                      </a:lnTo>
                      <a:lnTo>
                        <a:pt x="2337" y="373"/>
                      </a:lnTo>
                      <a:lnTo>
                        <a:pt x="2328" y="375"/>
                      </a:lnTo>
                      <a:lnTo>
                        <a:pt x="2318" y="378"/>
                      </a:lnTo>
                      <a:lnTo>
                        <a:pt x="2309" y="380"/>
                      </a:lnTo>
                      <a:lnTo>
                        <a:pt x="2299" y="384"/>
                      </a:lnTo>
                      <a:lnTo>
                        <a:pt x="2291" y="388"/>
                      </a:lnTo>
                      <a:lnTo>
                        <a:pt x="2291" y="388"/>
                      </a:lnTo>
                      <a:lnTo>
                        <a:pt x="2286" y="384"/>
                      </a:lnTo>
                      <a:lnTo>
                        <a:pt x="2280" y="382"/>
                      </a:lnTo>
                      <a:lnTo>
                        <a:pt x="2276" y="378"/>
                      </a:lnTo>
                      <a:lnTo>
                        <a:pt x="2272" y="376"/>
                      </a:lnTo>
                      <a:lnTo>
                        <a:pt x="2268" y="375"/>
                      </a:lnTo>
                      <a:lnTo>
                        <a:pt x="2265" y="375"/>
                      </a:lnTo>
                      <a:lnTo>
                        <a:pt x="2259" y="376"/>
                      </a:lnTo>
                      <a:lnTo>
                        <a:pt x="2253" y="378"/>
                      </a:lnTo>
                      <a:lnTo>
                        <a:pt x="2251" y="378"/>
                      </a:lnTo>
                      <a:lnTo>
                        <a:pt x="2251" y="380"/>
                      </a:lnTo>
                      <a:lnTo>
                        <a:pt x="2249" y="380"/>
                      </a:lnTo>
                      <a:lnTo>
                        <a:pt x="2247" y="380"/>
                      </a:lnTo>
                      <a:lnTo>
                        <a:pt x="2247" y="380"/>
                      </a:lnTo>
                      <a:lnTo>
                        <a:pt x="2245" y="382"/>
                      </a:lnTo>
                      <a:lnTo>
                        <a:pt x="2245" y="382"/>
                      </a:lnTo>
                      <a:lnTo>
                        <a:pt x="2243" y="382"/>
                      </a:lnTo>
                      <a:lnTo>
                        <a:pt x="2242" y="384"/>
                      </a:lnTo>
                      <a:lnTo>
                        <a:pt x="2240" y="388"/>
                      </a:lnTo>
                      <a:lnTo>
                        <a:pt x="2234" y="390"/>
                      </a:lnTo>
                      <a:lnTo>
                        <a:pt x="2228" y="394"/>
                      </a:lnTo>
                      <a:lnTo>
                        <a:pt x="2222" y="398"/>
                      </a:lnTo>
                      <a:lnTo>
                        <a:pt x="2217" y="399"/>
                      </a:lnTo>
                      <a:lnTo>
                        <a:pt x="2213" y="401"/>
                      </a:lnTo>
                      <a:lnTo>
                        <a:pt x="2209" y="403"/>
                      </a:lnTo>
                      <a:lnTo>
                        <a:pt x="2207" y="403"/>
                      </a:lnTo>
                      <a:lnTo>
                        <a:pt x="2201" y="401"/>
                      </a:lnTo>
                      <a:lnTo>
                        <a:pt x="2194" y="398"/>
                      </a:lnTo>
                      <a:lnTo>
                        <a:pt x="2186" y="396"/>
                      </a:lnTo>
                      <a:lnTo>
                        <a:pt x="2180" y="392"/>
                      </a:lnTo>
                      <a:lnTo>
                        <a:pt x="2174" y="390"/>
                      </a:lnTo>
                      <a:lnTo>
                        <a:pt x="2170" y="386"/>
                      </a:lnTo>
                      <a:lnTo>
                        <a:pt x="2169" y="386"/>
                      </a:lnTo>
                      <a:lnTo>
                        <a:pt x="2163" y="382"/>
                      </a:lnTo>
                      <a:lnTo>
                        <a:pt x="2159" y="382"/>
                      </a:lnTo>
                      <a:lnTo>
                        <a:pt x="2153" y="380"/>
                      </a:lnTo>
                      <a:lnTo>
                        <a:pt x="2149" y="380"/>
                      </a:lnTo>
                      <a:lnTo>
                        <a:pt x="2144" y="382"/>
                      </a:lnTo>
                      <a:lnTo>
                        <a:pt x="2140" y="382"/>
                      </a:lnTo>
                      <a:lnTo>
                        <a:pt x="2136" y="382"/>
                      </a:lnTo>
                      <a:lnTo>
                        <a:pt x="2130" y="384"/>
                      </a:lnTo>
                      <a:lnTo>
                        <a:pt x="2130" y="384"/>
                      </a:lnTo>
                      <a:lnTo>
                        <a:pt x="2130" y="384"/>
                      </a:lnTo>
                      <a:lnTo>
                        <a:pt x="2128" y="384"/>
                      </a:lnTo>
                      <a:lnTo>
                        <a:pt x="2128" y="384"/>
                      </a:lnTo>
                      <a:lnTo>
                        <a:pt x="2128" y="384"/>
                      </a:lnTo>
                      <a:lnTo>
                        <a:pt x="2128" y="384"/>
                      </a:lnTo>
                      <a:lnTo>
                        <a:pt x="2126" y="382"/>
                      </a:lnTo>
                      <a:lnTo>
                        <a:pt x="2126" y="382"/>
                      </a:lnTo>
                      <a:lnTo>
                        <a:pt x="2126" y="382"/>
                      </a:lnTo>
                      <a:lnTo>
                        <a:pt x="2124" y="378"/>
                      </a:lnTo>
                      <a:lnTo>
                        <a:pt x="2121" y="375"/>
                      </a:lnTo>
                      <a:lnTo>
                        <a:pt x="2119" y="371"/>
                      </a:lnTo>
                      <a:lnTo>
                        <a:pt x="2117" y="367"/>
                      </a:lnTo>
                      <a:lnTo>
                        <a:pt x="2113" y="363"/>
                      </a:lnTo>
                      <a:lnTo>
                        <a:pt x="2111" y="359"/>
                      </a:lnTo>
                      <a:lnTo>
                        <a:pt x="2107" y="355"/>
                      </a:lnTo>
                      <a:lnTo>
                        <a:pt x="2103" y="352"/>
                      </a:lnTo>
                      <a:lnTo>
                        <a:pt x="2103" y="352"/>
                      </a:lnTo>
                      <a:lnTo>
                        <a:pt x="2105" y="350"/>
                      </a:lnTo>
                      <a:lnTo>
                        <a:pt x="2105" y="350"/>
                      </a:lnTo>
                      <a:lnTo>
                        <a:pt x="2105" y="350"/>
                      </a:lnTo>
                      <a:lnTo>
                        <a:pt x="2105" y="350"/>
                      </a:lnTo>
                      <a:lnTo>
                        <a:pt x="2105" y="350"/>
                      </a:lnTo>
                      <a:lnTo>
                        <a:pt x="2105" y="348"/>
                      </a:lnTo>
                      <a:lnTo>
                        <a:pt x="2105" y="348"/>
                      </a:lnTo>
                      <a:lnTo>
                        <a:pt x="2107" y="348"/>
                      </a:lnTo>
                      <a:lnTo>
                        <a:pt x="2109" y="346"/>
                      </a:lnTo>
                      <a:lnTo>
                        <a:pt x="2109" y="344"/>
                      </a:lnTo>
                      <a:lnTo>
                        <a:pt x="2109" y="342"/>
                      </a:lnTo>
                      <a:lnTo>
                        <a:pt x="2111" y="340"/>
                      </a:lnTo>
                      <a:lnTo>
                        <a:pt x="2111" y="338"/>
                      </a:lnTo>
                      <a:lnTo>
                        <a:pt x="2113" y="336"/>
                      </a:lnTo>
                      <a:lnTo>
                        <a:pt x="2113" y="336"/>
                      </a:lnTo>
                      <a:lnTo>
                        <a:pt x="2115" y="334"/>
                      </a:lnTo>
                      <a:lnTo>
                        <a:pt x="2115" y="334"/>
                      </a:lnTo>
                      <a:lnTo>
                        <a:pt x="2115" y="332"/>
                      </a:lnTo>
                      <a:lnTo>
                        <a:pt x="2117" y="330"/>
                      </a:lnTo>
                      <a:lnTo>
                        <a:pt x="2117" y="330"/>
                      </a:lnTo>
                      <a:lnTo>
                        <a:pt x="2117" y="328"/>
                      </a:lnTo>
                      <a:lnTo>
                        <a:pt x="2117" y="327"/>
                      </a:lnTo>
                      <a:lnTo>
                        <a:pt x="2117" y="325"/>
                      </a:lnTo>
                      <a:lnTo>
                        <a:pt x="2117" y="325"/>
                      </a:lnTo>
                      <a:lnTo>
                        <a:pt x="2115" y="323"/>
                      </a:lnTo>
                      <a:lnTo>
                        <a:pt x="2113" y="323"/>
                      </a:lnTo>
                      <a:lnTo>
                        <a:pt x="2111" y="321"/>
                      </a:lnTo>
                      <a:lnTo>
                        <a:pt x="2109" y="319"/>
                      </a:lnTo>
                      <a:lnTo>
                        <a:pt x="2107" y="317"/>
                      </a:lnTo>
                      <a:lnTo>
                        <a:pt x="2107" y="317"/>
                      </a:lnTo>
                      <a:lnTo>
                        <a:pt x="2105" y="315"/>
                      </a:lnTo>
                      <a:lnTo>
                        <a:pt x="2105" y="315"/>
                      </a:lnTo>
                      <a:lnTo>
                        <a:pt x="2103" y="315"/>
                      </a:lnTo>
                      <a:lnTo>
                        <a:pt x="2103" y="315"/>
                      </a:lnTo>
                      <a:lnTo>
                        <a:pt x="2101" y="313"/>
                      </a:lnTo>
                      <a:lnTo>
                        <a:pt x="2101" y="313"/>
                      </a:lnTo>
                      <a:lnTo>
                        <a:pt x="2099" y="313"/>
                      </a:lnTo>
                      <a:lnTo>
                        <a:pt x="2099" y="311"/>
                      </a:lnTo>
                      <a:lnTo>
                        <a:pt x="2098" y="311"/>
                      </a:lnTo>
                      <a:lnTo>
                        <a:pt x="2098" y="296"/>
                      </a:lnTo>
                      <a:lnTo>
                        <a:pt x="2098" y="290"/>
                      </a:lnTo>
                      <a:lnTo>
                        <a:pt x="2098" y="286"/>
                      </a:lnTo>
                      <a:lnTo>
                        <a:pt x="2099" y="281"/>
                      </a:lnTo>
                      <a:lnTo>
                        <a:pt x="2101" y="277"/>
                      </a:lnTo>
                      <a:lnTo>
                        <a:pt x="2103" y="271"/>
                      </a:lnTo>
                      <a:lnTo>
                        <a:pt x="2105" y="267"/>
                      </a:lnTo>
                      <a:lnTo>
                        <a:pt x="2105" y="261"/>
                      </a:lnTo>
                      <a:lnTo>
                        <a:pt x="2105" y="256"/>
                      </a:lnTo>
                      <a:lnTo>
                        <a:pt x="2105" y="254"/>
                      </a:lnTo>
                      <a:lnTo>
                        <a:pt x="2103" y="252"/>
                      </a:lnTo>
                      <a:lnTo>
                        <a:pt x="2103" y="250"/>
                      </a:lnTo>
                      <a:lnTo>
                        <a:pt x="2101" y="246"/>
                      </a:lnTo>
                      <a:lnTo>
                        <a:pt x="2099" y="244"/>
                      </a:lnTo>
                      <a:lnTo>
                        <a:pt x="2098" y="242"/>
                      </a:lnTo>
                      <a:lnTo>
                        <a:pt x="2098" y="238"/>
                      </a:lnTo>
                      <a:lnTo>
                        <a:pt x="2096" y="236"/>
                      </a:lnTo>
                      <a:lnTo>
                        <a:pt x="2090" y="236"/>
                      </a:lnTo>
                      <a:lnTo>
                        <a:pt x="2084" y="236"/>
                      </a:lnTo>
                      <a:lnTo>
                        <a:pt x="2078" y="238"/>
                      </a:lnTo>
                      <a:lnTo>
                        <a:pt x="2073" y="238"/>
                      </a:lnTo>
                      <a:lnTo>
                        <a:pt x="2067" y="238"/>
                      </a:lnTo>
                      <a:lnTo>
                        <a:pt x="2061" y="238"/>
                      </a:lnTo>
                      <a:lnTo>
                        <a:pt x="2055" y="240"/>
                      </a:lnTo>
                      <a:lnTo>
                        <a:pt x="2052" y="240"/>
                      </a:lnTo>
                      <a:lnTo>
                        <a:pt x="2050" y="240"/>
                      </a:lnTo>
                      <a:lnTo>
                        <a:pt x="2048" y="242"/>
                      </a:lnTo>
                      <a:lnTo>
                        <a:pt x="2046" y="244"/>
                      </a:lnTo>
                      <a:lnTo>
                        <a:pt x="2046" y="246"/>
                      </a:lnTo>
                      <a:lnTo>
                        <a:pt x="2044" y="248"/>
                      </a:lnTo>
                      <a:lnTo>
                        <a:pt x="2042" y="248"/>
                      </a:lnTo>
                      <a:lnTo>
                        <a:pt x="2040" y="250"/>
                      </a:lnTo>
                      <a:lnTo>
                        <a:pt x="2038" y="250"/>
                      </a:lnTo>
                      <a:lnTo>
                        <a:pt x="2038" y="252"/>
                      </a:lnTo>
                      <a:lnTo>
                        <a:pt x="2034" y="256"/>
                      </a:lnTo>
                      <a:lnTo>
                        <a:pt x="2032" y="259"/>
                      </a:lnTo>
                      <a:lnTo>
                        <a:pt x="2032" y="265"/>
                      </a:lnTo>
                      <a:lnTo>
                        <a:pt x="2034" y="273"/>
                      </a:lnTo>
                      <a:lnTo>
                        <a:pt x="2034" y="279"/>
                      </a:lnTo>
                      <a:lnTo>
                        <a:pt x="2034" y="284"/>
                      </a:lnTo>
                      <a:lnTo>
                        <a:pt x="2034" y="290"/>
                      </a:lnTo>
                      <a:lnTo>
                        <a:pt x="2030" y="296"/>
                      </a:lnTo>
                      <a:lnTo>
                        <a:pt x="2030" y="298"/>
                      </a:lnTo>
                      <a:lnTo>
                        <a:pt x="2030" y="300"/>
                      </a:lnTo>
                      <a:lnTo>
                        <a:pt x="2030" y="302"/>
                      </a:lnTo>
                      <a:lnTo>
                        <a:pt x="2028" y="304"/>
                      </a:lnTo>
                      <a:lnTo>
                        <a:pt x="2028" y="305"/>
                      </a:lnTo>
                      <a:lnTo>
                        <a:pt x="2028" y="309"/>
                      </a:lnTo>
                      <a:lnTo>
                        <a:pt x="2028" y="311"/>
                      </a:lnTo>
                      <a:lnTo>
                        <a:pt x="2028" y="313"/>
                      </a:lnTo>
                      <a:lnTo>
                        <a:pt x="2027" y="313"/>
                      </a:lnTo>
                      <a:lnTo>
                        <a:pt x="2025" y="317"/>
                      </a:lnTo>
                      <a:lnTo>
                        <a:pt x="2023" y="323"/>
                      </a:lnTo>
                      <a:lnTo>
                        <a:pt x="2023" y="330"/>
                      </a:lnTo>
                      <a:lnTo>
                        <a:pt x="2021" y="338"/>
                      </a:lnTo>
                      <a:lnTo>
                        <a:pt x="2021" y="346"/>
                      </a:lnTo>
                      <a:lnTo>
                        <a:pt x="2019" y="353"/>
                      </a:lnTo>
                      <a:lnTo>
                        <a:pt x="2019" y="359"/>
                      </a:lnTo>
                      <a:lnTo>
                        <a:pt x="2019" y="365"/>
                      </a:lnTo>
                      <a:lnTo>
                        <a:pt x="2021" y="367"/>
                      </a:lnTo>
                      <a:lnTo>
                        <a:pt x="2025" y="371"/>
                      </a:lnTo>
                      <a:lnTo>
                        <a:pt x="2028" y="375"/>
                      </a:lnTo>
                      <a:lnTo>
                        <a:pt x="2034" y="380"/>
                      </a:lnTo>
                      <a:lnTo>
                        <a:pt x="2036" y="388"/>
                      </a:lnTo>
                      <a:lnTo>
                        <a:pt x="2038" y="392"/>
                      </a:lnTo>
                      <a:lnTo>
                        <a:pt x="2040" y="396"/>
                      </a:lnTo>
                      <a:lnTo>
                        <a:pt x="2038" y="398"/>
                      </a:lnTo>
                      <a:lnTo>
                        <a:pt x="2038" y="415"/>
                      </a:lnTo>
                      <a:lnTo>
                        <a:pt x="2036" y="415"/>
                      </a:lnTo>
                      <a:lnTo>
                        <a:pt x="2036" y="417"/>
                      </a:lnTo>
                      <a:lnTo>
                        <a:pt x="2036" y="417"/>
                      </a:lnTo>
                      <a:lnTo>
                        <a:pt x="2034" y="417"/>
                      </a:lnTo>
                      <a:lnTo>
                        <a:pt x="2034" y="417"/>
                      </a:lnTo>
                      <a:lnTo>
                        <a:pt x="2032" y="417"/>
                      </a:lnTo>
                      <a:lnTo>
                        <a:pt x="2032" y="417"/>
                      </a:lnTo>
                      <a:lnTo>
                        <a:pt x="2032" y="419"/>
                      </a:lnTo>
                      <a:lnTo>
                        <a:pt x="2030" y="419"/>
                      </a:lnTo>
                      <a:lnTo>
                        <a:pt x="2028" y="419"/>
                      </a:lnTo>
                      <a:lnTo>
                        <a:pt x="2027" y="421"/>
                      </a:lnTo>
                      <a:lnTo>
                        <a:pt x="2027" y="421"/>
                      </a:lnTo>
                      <a:lnTo>
                        <a:pt x="2025" y="422"/>
                      </a:lnTo>
                      <a:lnTo>
                        <a:pt x="2023" y="422"/>
                      </a:lnTo>
                      <a:lnTo>
                        <a:pt x="2023" y="424"/>
                      </a:lnTo>
                      <a:lnTo>
                        <a:pt x="2021" y="426"/>
                      </a:lnTo>
                      <a:lnTo>
                        <a:pt x="2019" y="426"/>
                      </a:lnTo>
                      <a:lnTo>
                        <a:pt x="2017" y="426"/>
                      </a:lnTo>
                      <a:lnTo>
                        <a:pt x="2015" y="426"/>
                      </a:lnTo>
                      <a:lnTo>
                        <a:pt x="2011" y="426"/>
                      </a:lnTo>
                      <a:lnTo>
                        <a:pt x="2009" y="426"/>
                      </a:lnTo>
                      <a:lnTo>
                        <a:pt x="2007" y="428"/>
                      </a:lnTo>
                      <a:lnTo>
                        <a:pt x="2004" y="428"/>
                      </a:lnTo>
                      <a:lnTo>
                        <a:pt x="2002" y="428"/>
                      </a:lnTo>
                      <a:lnTo>
                        <a:pt x="2002" y="432"/>
                      </a:lnTo>
                      <a:lnTo>
                        <a:pt x="1996" y="432"/>
                      </a:lnTo>
                      <a:lnTo>
                        <a:pt x="1988" y="432"/>
                      </a:lnTo>
                      <a:lnTo>
                        <a:pt x="1981" y="434"/>
                      </a:lnTo>
                      <a:lnTo>
                        <a:pt x="1971" y="434"/>
                      </a:lnTo>
                      <a:lnTo>
                        <a:pt x="1963" y="434"/>
                      </a:lnTo>
                      <a:lnTo>
                        <a:pt x="1954" y="432"/>
                      </a:lnTo>
                      <a:lnTo>
                        <a:pt x="1948" y="432"/>
                      </a:lnTo>
                      <a:lnTo>
                        <a:pt x="1942" y="430"/>
                      </a:lnTo>
                      <a:lnTo>
                        <a:pt x="1942" y="419"/>
                      </a:lnTo>
                      <a:lnTo>
                        <a:pt x="1940" y="417"/>
                      </a:lnTo>
                      <a:lnTo>
                        <a:pt x="1936" y="417"/>
                      </a:lnTo>
                      <a:lnTo>
                        <a:pt x="1933" y="417"/>
                      </a:lnTo>
                      <a:lnTo>
                        <a:pt x="1929" y="417"/>
                      </a:lnTo>
                      <a:lnTo>
                        <a:pt x="1927" y="417"/>
                      </a:lnTo>
                      <a:lnTo>
                        <a:pt x="1923" y="417"/>
                      </a:lnTo>
                      <a:lnTo>
                        <a:pt x="1919" y="415"/>
                      </a:lnTo>
                      <a:lnTo>
                        <a:pt x="1915" y="415"/>
                      </a:lnTo>
                      <a:lnTo>
                        <a:pt x="1915" y="417"/>
                      </a:lnTo>
                      <a:lnTo>
                        <a:pt x="1915" y="417"/>
                      </a:lnTo>
                      <a:lnTo>
                        <a:pt x="1915" y="417"/>
                      </a:lnTo>
                      <a:lnTo>
                        <a:pt x="1915" y="419"/>
                      </a:lnTo>
                      <a:lnTo>
                        <a:pt x="1915" y="419"/>
                      </a:lnTo>
                      <a:lnTo>
                        <a:pt x="1915" y="419"/>
                      </a:lnTo>
                      <a:lnTo>
                        <a:pt x="1915" y="419"/>
                      </a:lnTo>
                      <a:lnTo>
                        <a:pt x="1915" y="421"/>
                      </a:lnTo>
                      <a:lnTo>
                        <a:pt x="1902" y="421"/>
                      </a:lnTo>
                      <a:lnTo>
                        <a:pt x="1900" y="422"/>
                      </a:lnTo>
                      <a:lnTo>
                        <a:pt x="1896" y="422"/>
                      </a:lnTo>
                      <a:lnTo>
                        <a:pt x="1892" y="422"/>
                      </a:lnTo>
                      <a:lnTo>
                        <a:pt x="1888" y="421"/>
                      </a:lnTo>
                      <a:lnTo>
                        <a:pt x="1883" y="421"/>
                      </a:lnTo>
                      <a:lnTo>
                        <a:pt x="1879" y="419"/>
                      </a:lnTo>
                      <a:lnTo>
                        <a:pt x="1875" y="417"/>
                      </a:lnTo>
                      <a:lnTo>
                        <a:pt x="1871" y="415"/>
                      </a:lnTo>
                      <a:lnTo>
                        <a:pt x="1867" y="413"/>
                      </a:lnTo>
                      <a:lnTo>
                        <a:pt x="1862" y="411"/>
                      </a:lnTo>
                      <a:lnTo>
                        <a:pt x="1854" y="411"/>
                      </a:lnTo>
                      <a:lnTo>
                        <a:pt x="1848" y="409"/>
                      </a:lnTo>
                      <a:lnTo>
                        <a:pt x="1840" y="407"/>
                      </a:lnTo>
                      <a:lnTo>
                        <a:pt x="1833" y="405"/>
                      </a:lnTo>
                      <a:lnTo>
                        <a:pt x="1825" y="405"/>
                      </a:lnTo>
                      <a:lnTo>
                        <a:pt x="1819" y="405"/>
                      </a:lnTo>
                      <a:lnTo>
                        <a:pt x="1814" y="407"/>
                      </a:lnTo>
                      <a:lnTo>
                        <a:pt x="1814" y="409"/>
                      </a:lnTo>
                      <a:lnTo>
                        <a:pt x="1814" y="409"/>
                      </a:lnTo>
                      <a:lnTo>
                        <a:pt x="1810" y="409"/>
                      </a:lnTo>
                      <a:lnTo>
                        <a:pt x="1804" y="409"/>
                      </a:lnTo>
                      <a:lnTo>
                        <a:pt x="1798" y="409"/>
                      </a:lnTo>
                      <a:lnTo>
                        <a:pt x="1792" y="407"/>
                      </a:lnTo>
                      <a:lnTo>
                        <a:pt x="1789" y="405"/>
                      </a:lnTo>
                      <a:lnTo>
                        <a:pt x="1783" y="401"/>
                      </a:lnTo>
                      <a:lnTo>
                        <a:pt x="1781" y="398"/>
                      </a:lnTo>
                      <a:lnTo>
                        <a:pt x="1779" y="394"/>
                      </a:lnTo>
                      <a:lnTo>
                        <a:pt x="1779" y="394"/>
                      </a:lnTo>
                      <a:lnTo>
                        <a:pt x="1777" y="392"/>
                      </a:lnTo>
                      <a:lnTo>
                        <a:pt x="1777" y="392"/>
                      </a:lnTo>
                      <a:lnTo>
                        <a:pt x="1775" y="392"/>
                      </a:lnTo>
                      <a:lnTo>
                        <a:pt x="1775" y="390"/>
                      </a:lnTo>
                      <a:lnTo>
                        <a:pt x="1773" y="390"/>
                      </a:lnTo>
                      <a:lnTo>
                        <a:pt x="1773" y="390"/>
                      </a:lnTo>
                      <a:lnTo>
                        <a:pt x="1773" y="388"/>
                      </a:lnTo>
                      <a:lnTo>
                        <a:pt x="1767" y="388"/>
                      </a:lnTo>
                      <a:lnTo>
                        <a:pt x="1762" y="390"/>
                      </a:lnTo>
                      <a:lnTo>
                        <a:pt x="1756" y="390"/>
                      </a:lnTo>
                      <a:lnTo>
                        <a:pt x="1750" y="390"/>
                      </a:lnTo>
                      <a:lnTo>
                        <a:pt x="1744" y="388"/>
                      </a:lnTo>
                      <a:lnTo>
                        <a:pt x="1739" y="388"/>
                      </a:lnTo>
                      <a:lnTo>
                        <a:pt x="1735" y="386"/>
                      </a:lnTo>
                      <a:lnTo>
                        <a:pt x="1731" y="382"/>
                      </a:lnTo>
                      <a:lnTo>
                        <a:pt x="1729" y="382"/>
                      </a:lnTo>
                      <a:lnTo>
                        <a:pt x="1725" y="382"/>
                      </a:lnTo>
                      <a:lnTo>
                        <a:pt x="1721" y="382"/>
                      </a:lnTo>
                      <a:lnTo>
                        <a:pt x="1716" y="380"/>
                      </a:lnTo>
                      <a:lnTo>
                        <a:pt x="1712" y="380"/>
                      </a:lnTo>
                      <a:lnTo>
                        <a:pt x="1708" y="380"/>
                      </a:lnTo>
                      <a:lnTo>
                        <a:pt x="1704" y="378"/>
                      </a:lnTo>
                      <a:lnTo>
                        <a:pt x="1702" y="376"/>
                      </a:lnTo>
                      <a:lnTo>
                        <a:pt x="1702" y="375"/>
                      </a:lnTo>
                      <a:lnTo>
                        <a:pt x="1702" y="375"/>
                      </a:lnTo>
                      <a:lnTo>
                        <a:pt x="1700" y="373"/>
                      </a:lnTo>
                      <a:lnTo>
                        <a:pt x="1698" y="369"/>
                      </a:lnTo>
                      <a:lnTo>
                        <a:pt x="1696" y="367"/>
                      </a:lnTo>
                      <a:lnTo>
                        <a:pt x="1695" y="363"/>
                      </a:lnTo>
                      <a:lnTo>
                        <a:pt x="1691" y="359"/>
                      </a:lnTo>
                      <a:lnTo>
                        <a:pt x="1689" y="357"/>
                      </a:lnTo>
                      <a:lnTo>
                        <a:pt x="1687" y="353"/>
                      </a:lnTo>
                      <a:lnTo>
                        <a:pt x="1685" y="353"/>
                      </a:lnTo>
                      <a:lnTo>
                        <a:pt x="1685" y="352"/>
                      </a:lnTo>
                      <a:lnTo>
                        <a:pt x="1685" y="350"/>
                      </a:lnTo>
                      <a:lnTo>
                        <a:pt x="1683" y="348"/>
                      </a:lnTo>
                      <a:lnTo>
                        <a:pt x="1683" y="344"/>
                      </a:lnTo>
                      <a:lnTo>
                        <a:pt x="1681" y="342"/>
                      </a:lnTo>
                      <a:lnTo>
                        <a:pt x="1679" y="340"/>
                      </a:lnTo>
                      <a:lnTo>
                        <a:pt x="1679" y="338"/>
                      </a:lnTo>
                      <a:lnTo>
                        <a:pt x="1677" y="336"/>
                      </a:lnTo>
                      <a:lnTo>
                        <a:pt x="1673" y="336"/>
                      </a:lnTo>
                      <a:lnTo>
                        <a:pt x="1670" y="334"/>
                      </a:lnTo>
                      <a:lnTo>
                        <a:pt x="1664" y="332"/>
                      </a:lnTo>
                      <a:lnTo>
                        <a:pt x="1660" y="330"/>
                      </a:lnTo>
                      <a:lnTo>
                        <a:pt x="1654" y="327"/>
                      </a:lnTo>
                      <a:lnTo>
                        <a:pt x="1650" y="325"/>
                      </a:lnTo>
                      <a:lnTo>
                        <a:pt x="1645" y="325"/>
                      </a:lnTo>
                      <a:lnTo>
                        <a:pt x="1639" y="323"/>
                      </a:lnTo>
                      <a:lnTo>
                        <a:pt x="1639" y="323"/>
                      </a:lnTo>
                      <a:lnTo>
                        <a:pt x="1639" y="323"/>
                      </a:lnTo>
                      <a:lnTo>
                        <a:pt x="1639" y="323"/>
                      </a:lnTo>
                      <a:lnTo>
                        <a:pt x="1637" y="321"/>
                      </a:lnTo>
                      <a:lnTo>
                        <a:pt x="1637" y="321"/>
                      </a:lnTo>
                      <a:lnTo>
                        <a:pt x="1637" y="321"/>
                      </a:lnTo>
                      <a:lnTo>
                        <a:pt x="1637" y="321"/>
                      </a:lnTo>
                      <a:lnTo>
                        <a:pt x="1635" y="321"/>
                      </a:lnTo>
                      <a:lnTo>
                        <a:pt x="1635" y="317"/>
                      </a:lnTo>
                      <a:lnTo>
                        <a:pt x="1633" y="315"/>
                      </a:lnTo>
                      <a:lnTo>
                        <a:pt x="1631" y="313"/>
                      </a:lnTo>
                      <a:lnTo>
                        <a:pt x="1629" y="313"/>
                      </a:lnTo>
                      <a:lnTo>
                        <a:pt x="1625" y="313"/>
                      </a:lnTo>
                      <a:lnTo>
                        <a:pt x="1624" y="313"/>
                      </a:lnTo>
                      <a:lnTo>
                        <a:pt x="1620" y="313"/>
                      </a:lnTo>
                      <a:lnTo>
                        <a:pt x="1618" y="313"/>
                      </a:lnTo>
                      <a:lnTo>
                        <a:pt x="1618" y="313"/>
                      </a:lnTo>
                      <a:lnTo>
                        <a:pt x="1618" y="313"/>
                      </a:lnTo>
                      <a:lnTo>
                        <a:pt x="1618" y="315"/>
                      </a:lnTo>
                      <a:lnTo>
                        <a:pt x="1616" y="315"/>
                      </a:lnTo>
                      <a:lnTo>
                        <a:pt x="1616" y="315"/>
                      </a:lnTo>
                      <a:lnTo>
                        <a:pt x="1614" y="315"/>
                      </a:lnTo>
                      <a:lnTo>
                        <a:pt x="1614" y="315"/>
                      </a:lnTo>
                      <a:lnTo>
                        <a:pt x="1614" y="315"/>
                      </a:lnTo>
                      <a:lnTo>
                        <a:pt x="1612" y="317"/>
                      </a:lnTo>
                      <a:lnTo>
                        <a:pt x="1610" y="317"/>
                      </a:lnTo>
                      <a:lnTo>
                        <a:pt x="1608" y="317"/>
                      </a:lnTo>
                      <a:lnTo>
                        <a:pt x="1606" y="317"/>
                      </a:lnTo>
                      <a:lnTo>
                        <a:pt x="1604" y="319"/>
                      </a:lnTo>
                      <a:lnTo>
                        <a:pt x="1602" y="319"/>
                      </a:lnTo>
                      <a:lnTo>
                        <a:pt x="1601" y="321"/>
                      </a:lnTo>
                      <a:lnTo>
                        <a:pt x="1599" y="321"/>
                      </a:lnTo>
                      <a:lnTo>
                        <a:pt x="1599" y="323"/>
                      </a:lnTo>
                      <a:lnTo>
                        <a:pt x="1595" y="323"/>
                      </a:lnTo>
                      <a:lnTo>
                        <a:pt x="1591" y="323"/>
                      </a:lnTo>
                      <a:lnTo>
                        <a:pt x="1587" y="323"/>
                      </a:lnTo>
                      <a:lnTo>
                        <a:pt x="1581" y="321"/>
                      </a:lnTo>
                      <a:lnTo>
                        <a:pt x="1577" y="321"/>
                      </a:lnTo>
                      <a:lnTo>
                        <a:pt x="1574" y="321"/>
                      </a:lnTo>
                      <a:lnTo>
                        <a:pt x="1570" y="321"/>
                      </a:lnTo>
                      <a:lnTo>
                        <a:pt x="1566" y="323"/>
                      </a:lnTo>
                      <a:lnTo>
                        <a:pt x="1566" y="321"/>
                      </a:lnTo>
                      <a:lnTo>
                        <a:pt x="1564" y="319"/>
                      </a:lnTo>
                      <a:lnTo>
                        <a:pt x="1562" y="319"/>
                      </a:lnTo>
                      <a:lnTo>
                        <a:pt x="1560" y="319"/>
                      </a:lnTo>
                      <a:lnTo>
                        <a:pt x="1556" y="319"/>
                      </a:lnTo>
                      <a:lnTo>
                        <a:pt x="1554" y="319"/>
                      </a:lnTo>
                      <a:lnTo>
                        <a:pt x="1553" y="319"/>
                      </a:lnTo>
                      <a:lnTo>
                        <a:pt x="1551" y="319"/>
                      </a:lnTo>
                      <a:lnTo>
                        <a:pt x="1551" y="321"/>
                      </a:lnTo>
                      <a:lnTo>
                        <a:pt x="1551" y="321"/>
                      </a:lnTo>
                      <a:lnTo>
                        <a:pt x="1551" y="323"/>
                      </a:lnTo>
                      <a:lnTo>
                        <a:pt x="1549" y="323"/>
                      </a:lnTo>
                      <a:lnTo>
                        <a:pt x="1549" y="325"/>
                      </a:lnTo>
                      <a:lnTo>
                        <a:pt x="1547" y="325"/>
                      </a:lnTo>
                      <a:lnTo>
                        <a:pt x="1547" y="325"/>
                      </a:lnTo>
                      <a:lnTo>
                        <a:pt x="1547" y="325"/>
                      </a:lnTo>
                      <a:lnTo>
                        <a:pt x="1543" y="325"/>
                      </a:lnTo>
                      <a:lnTo>
                        <a:pt x="1539" y="325"/>
                      </a:lnTo>
                      <a:lnTo>
                        <a:pt x="1533" y="325"/>
                      </a:lnTo>
                      <a:lnTo>
                        <a:pt x="1526" y="323"/>
                      </a:lnTo>
                      <a:lnTo>
                        <a:pt x="1522" y="321"/>
                      </a:lnTo>
                      <a:lnTo>
                        <a:pt x="1516" y="319"/>
                      </a:lnTo>
                      <a:lnTo>
                        <a:pt x="1512" y="315"/>
                      </a:lnTo>
                      <a:lnTo>
                        <a:pt x="1512" y="311"/>
                      </a:lnTo>
                      <a:lnTo>
                        <a:pt x="1510" y="311"/>
                      </a:lnTo>
                      <a:lnTo>
                        <a:pt x="1506" y="307"/>
                      </a:lnTo>
                      <a:lnTo>
                        <a:pt x="1501" y="302"/>
                      </a:lnTo>
                      <a:lnTo>
                        <a:pt x="1495" y="298"/>
                      </a:lnTo>
                      <a:lnTo>
                        <a:pt x="1489" y="296"/>
                      </a:lnTo>
                      <a:lnTo>
                        <a:pt x="1483" y="292"/>
                      </a:lnTo>
                      <a:lnTo>
                        <a:pt x="1476" y="290"/>
                      </a:lnTo>
                      <a:lnTo>
                        <a:pt x="1470" y="288"/>
                      </a:lnTo>
                      <a:lnTo>
                        <a:pt x="1462" y="288"/>
                      </a:lnTo>
                      <a:lnTo>
                        <a:pt x="1462" y="288"/>
                      </a:lnTo>
                      <a:lnTo>
                        <a:pt x="1460" y="286"/>
                      </a:lnTo>
                      <a:lnTo>
                        <a:pt x="1459" y="286"/>
                      </a:lnTo>
                      <a:lnTo>
                        <a:pt x="1459" y="284"/>
                      </a:lnTo>
                      <a:lnTo>
                        <a:pt x="1457" y="284"/>
                      </a:lnTo>
                      <a:lnTo>
                        <a:pt x="1455" y="282"/>
                      </a:lnTo>
                      <a:lnTo>
                        <a:pt x="1455" y="281"/>
                      </a:lnTo>
                      <a:lnTo>
                        <a:pt x="1455" y="281"/>
                      </a:lnTo>
                      <a:lnTo>
                        <a:pt x="1451" y="279"/>
                      </a:lnTo>
                      <a:lnTo>
                        <a:pt x="1445" y="275"/>
                      </a:lnTo>
                      <a:lnTo>
                        <a:pt x="1439" y="273"/>
                      </a:lnTo>
                      <a:lnTo>
                        <a:pt x="1434" y="271"/>
                      </a:lnTo>
                      <a:lnTo>
                        <a:pt x="1428" y="267"/>
                      </a:lnTo>
                      <a:lnTo>
                        <a:pt x="1422" y="265"/>
                      </a:lnTo>
                      <a:lnTo>
                        <a:pt x="1416" y="263"/>
                      </a:lnTo>
                      <a:lnTo>
                        <a:pt x="1412" y="261"/>
                      </a:lnTo>
                      <a:lnTo>
                        <a:pt x="1409" y="261"/>
                      </a:lnTo>
                      <a:lnTo>
                        <a:pt x="1405" y="261"/>
                      </a:lnTo>
                      <a:lnTo>
                        <a:pt x="1401" y="261"/>
                      </a:lnTo>
                      <a:lnTo>
                        <a:pt x="1399" y="261"/>
                      </a:lnTo>
                      <a:lnTo>
                        <a:pt x="1395" y="263"/>
                      </a:lnTo>
                      <a:lnTo>
                        <a:pt x="1391" y="263"/>
                      </a:lnTo>
                      <a:lnTo>
                        <a:pt x="1389" y="263"/>
                      </a:lnTo>
                      <a:lnTo>
                        <a:pt x="1386" y="261"/>
                      </a:lnTo>
                      <a:lnTo>
                        <a:pt x="1382" y="261"/>
                      </a:lnTo>
                      <a:lnTo>
                        <a:pt x="1378" y="258"/>
                      </a:lnTo>
                      <a:lnTo>
                        <a:pt x="1372" y="254"/>
                      </a:lnTo>
                      <a:lnTo>
                        <a:pt x="1366" y="248"/>
                      </a:lnTo>
                      <a:lnTo>
                        <a:pt x="1363" y="244"/>
                      </a:lnTo>
                      <a:lnTo>
                        <a:pt x="1357" y="238"/>
                      </a:lnTo>
                      <a:lnTo>
                        <a:pt x="1353" y="233"/>
                      </a:lnTo>
                      <a:lnTo>
                        <a:pt x="1349" y="229"/>
                      </a:lnTo>
                      <a:lnTo>
                        <a:pt x="1349" y="229"/>
                      </a:lnTo>
                      <a:lnTo>
                        <a:pt x="1349" y="229"/>
                      </a:lnTo>
                      <a:lnTo>
                        <a:pt x="1349" y="227"/>
                      </a:lnTo>
                      <a:lnTo>
                        <a:pt x="1347" y="225"/>
                      </a:lnTo>
                      <a:lnTo>
                        <a:pt x="1347" y="223"/>
                      </a:lnTo>
                      <a:lnTo>
                        <a:pt x="1347" y="221"/>
                      </a:lnTo>
                      <a:lnTo>
                        <a:pt x="1347" y="221"/>
                      </a:lnTo>
                      <a:lnTo>
                        <a:pt x="1347" y="219"/>
                      </a:lnTo>
                      <a:lnTo>
                        <a:pt x="1345" y="215"/>
                      </a:lnTo>
                      <a:lnTo>
                        <a:pt x="1341" y="213"/>
                      </a:lnTo>
                      <a:lnTo>
                        <a:pt x="1338" y="211"/>
                      </a:lnTo>
                      <a:lnTo>
                        <a:pt x="1332" y="211"/>
                      </a:lnTo>
                      <a:lnTo>
                        <a:pt x="1328" y="211"/>
                      </a:lnTo>
                      <a:lnTo>
                        <a:pt x="1322" y="210"/>
                      </a:lnTo>
                      <a:lnTo>
                        <a:pt x="1318" y="210"/>
                      </a:lnTo>
                      <a:lnTo>
                        <a:pt x="1315" y="210"/>
                      </a:lnTo>
                      <a:lnTo>
                        <a:pt x="1315" y="210"/>
                      </a:lnTo>
                      <a:lnTo>
                        <a:pt x="1315" y="210"/>
                      </a:lnTo>
                      <a:lnTo>
                        <a:pt x="1315" y="210"/>
                      </a:lnTo>
                      <a:lnTo>
                        <a:pt x="1315" y="208"/>
                      </a:lnTo>
                      <a:lnTo>
                        <a:pt x="1315" y="208"/>
                      </a:lnTo>
                      <a:lnTo>
                        <a:pt x="1315" y="208"/>
                      </a:lnTo>
                      <a:lnTo>
                        <a:pt x="1315" y="206"/>
                      </a:lnTo>
                      <a:lnTo>
                        <a:pt x="1315" y="206"/>
                      </a:lnTo>
                      <a:lnTo>
                        <a:pt x="1313" y="206"/>
                      </a:lnTo>
                      <a:lnTo>
                        <a:pt x="1311" y="202"/>
                      </a:lnTo>
                      <a:lnTo>
                        <a:pt x="1309" y="200"/>
                      </a:lnTo>
                      <a:lnTo>
                        <a:pt x="1307" y="196"/>
                      </a:lnTo>
                      <a:lnTo>
                        <a:pt x="1305" y="190"/>
                      </a:lnTo>
                      <a:lnTo>
                        <a:pt x="1303" y="187"/>
                      </a:lnTo>
                      <a:lnTo>
                        <a:pt x="1301" y="185"/>
                      </a:lnTo>
                      <a:lnTo>
                        <a:pt x="1299" y="183"/>
                      </a:lnTo>
                      <a:lnTo>
                        <a:pt x="1299" y="179"/>
                      </a:lnTo>
                      <a:lnTo>
                        <a:pt x="1293" y="177"/>
                      </a:lnTo>
                      <a:lnTo>
                        <a:pt x="1286" y="175"/>
                      </a:lnTo>
                      <a:lnTo>
                        <a:pt x="1278" y="173"/>
                      </a:lnTo>
                      <a:lnTo>
                        <a:pt x="1270" y="173"/>
                      </a:lnTo>
                      <a:lnTo>
                        <a:pt x="1263" y="171"/>
                      </a:lnTo>
                      <a:lnTo>
                        <a:pt x="1257" y="171"/>
                      </a:lnTo>
                      <a:lnTo>
                        <a:pt x="1253" y="171"/>
                      </a:lnTo>
                      <a:lnTo>
                        <a:pt x="1253" y="169"/>
                      </a:lnTo>
                      <a:lnTo>
                        <a:pt x="1251" y="167"/>
                      </a:lnTo>
                      <a:lnTo>
                        <a:pt x="1249" y="164"/>
                      </a:lnTo>
                      <a:lnTo>
                        <a:pt x="1245" y="162"/>
                      </a:lnTo>
                      <a:lnTo>
                        <a:pt x="1242" y="158"/>
                      </a:lnTo>
                      <a:lnTo>
                        <a:pt x="1238" y="156"/>
                      </a:lnTo>
                      <a:lnTo>
                        <a:pt x="1236" y="152"/>
                      </a:lnTo>
                      <a:lnTo>
                        <a:pt x="1234" y="152"/>
                      </a:lnTo>
                      <a:lnTo>
                        <a:pt x="1234" y="148"/>
                      </a:lnTo>
                      <a:lnTo>
                        <a:pt x="1236" y="142"/>
                      </a:lnTo>
                      <a:lnTo>
                        <a:pt x="1236" y="137"/>
                      </a:lnTo>
                      <a:lnTo>
                        <a:pt x="1236" y="129"/>
                      </a:lnTo>
                      <a:lnTo>
                        <a:pt x="1238" y="123"/>
                      </a:lnTo>
                      <a:lnTo>
                        <a:pt x="1242" y="119"/>
                      </a:lnTo>
                      <a:lnTo>
                        <a:pt x="1245" y="116"/>
                      </a:lnTo>
                      <a:lnTo>
                        <a:pt x="1249" y="114"/>
                      </a:lnTo>
                      <a:lnTo>
                        <a:pt x="1249" y="114"/>
                      </a:lnTo>
                      <a:lnTo>
                        <a:pt x="1249" y="112"/>
                      </a:lnTo>
                      <a:lnTo>
                        <a:pt x="1251" y="112"/>
                      </a:lnTo>
                      <a:lnTo>
                        <a:pt x="1251" y="110"/>
                      </a:lnTo>
                      <a:lnTo>
                        <a:pt x="1251" y="108"/>
                      </a:lnTo>
                      <a:lnTo>
                        <a:pt x="1253" y="108"/>
                      </a:lnTo>
                      <a:lnTo>
                        <a:pt x="1253" y="106"/>
                      </a:lnTo>
                      <a:lnTo>
                        <a:pt x="1253" y="106"/>
                      </a:lnTo>
                      <a:lnTo>
                        <a:pt x="1253" y="106"/>
                      </a:lnTo>
                      <a:lnTo>
                        <a:pt x="1257" y="98"/>
                      </a:lnTo>
                      <a:lnTo>
                        <a:pt x="1259" y="93"/>
                      </a:lnTo>
                      <a:lnTo>
                        <a:pt x="1259" y="85"/>
                      </a:lnTo>
                      <a:lnTo>
                        <a:pt x="1259" y="79"/>
                      </a:lnTo>
                      <a:lnTo>
                        <a:pt x="1259" y="71"/>
                      </a:lnTo>
                      <a:lnTo>
                        <a:pt x="1261" y="64"/>
                      </a:lnTo>
                      <a:lnTo>
                        <a:pt x="1263" y="58"/>
                      </a:lnTo>
                      <a:lnTo>
                        <a:pt x="1267" y="52"/>
                      </a:lnTo>
                      <a:lnTo>
                        <a:pt x="1267" y="48"/>
                      </a:lnTo>
                      <a:lnTo>
                        <a:pt x="1269" y="46"/>
                      </a:lnTo>
                      <a:lnTo>
                        <a:pt x="1270" y="45"/>
                      </a:lnTo>
                      <a:lnTo>
                        <a:pt x="1272" y="43"/>
                      </a:lnTo>
                      <a:lnTo>
                        <a:pt x="1274" y="41"/>
                      </a:lnTo>
                      <a:lnTo>
                        <a:pt x="1276" y="39"/>
                      </a:lnTo>
                      <a:lnTo>
                        <a:pt x="1276" y="37"/>
                      </a:lnTo>
                      <a:lnTo>
                        <a:pt x="1278" y="37"/>
                      </a:lnTo>
                      <a:lnTo>
                        <a:pt x="1280" y="35"/>
                      </a:lnTo>
                      <a:lnTo>
                        <a:pt x="1282" y="33"/>
                      </a:lnTo>
                      <a:lnTo>
                        <a:pt x="1286" y="31"/>
                      </a:lnTo>
                      <a:lnTo>
                        <a:pt x="1290" y="29"/>
                      </a:lnTo>
                      <a:lnTo>
                        <a:pt x="1295" y="27"/>
                      </a:lnTo>
                      <a:lnTo>
                        <a:pt x="1299" y="25"/>
                      </a:lnTo>
                      <a:lnTo>
                        <a:pt x="1303" y="22"/>
                      </a:lnTo>
                      <a:lnTo>
                        <a:pt x="1307" y="20"/>
                      </a:lnTo>
                      <a:lnTo>
                        <a:pt x="1309" y="16"/>
                      </a:lnTo>
                      <a:lnTo>
                        <a:pt x="1309" y="14"/>
                      </a:lnTo>
                      <a:lnTo>
                        <a:pt x="1311" y="12"/>
                      </a:lnTo>
                      <a:lnTo>
                        <a:pt x="1313" y="10"/>
                      </a:lnTo>
                      <a:lnTo>
                        <a:pt x="1316" y="6"/>
                      </a:lnTo>
                      <a:lnTo>
                        <a:pt x="1318" y="4"/>
                      </a:lnTo>
                      <a:lnTo>
                        <a:pt x="1320" y="2"/>
                      </a:lnTo>
                      <a:lnTo>
                        <a:pt x="1322" y="0"/>
                      </a:lnTo>
                      <a:lnTo>
                        <a:pt x="1324" y="0"/>
                      </a:lnTo>
                      <a:lnTo>
                        <a:pt x="1324" y="0"/>
                      </a:lnTo>
                      <a:lnTo>
                        <a:pt x="572" y="0"/>
                      </a:lnTo>
                      <a:lnTo>
                        <a:pt x="568" y="4"/>
                      </a:lnTo>
                      <a:lnTo>
                        <a:pt x="566" y="8"/>
                      </a:lnTo>
                      <a:lnTo>
                        <a:pt x="562" y="12"/>
                      </a:lnTo>
                      <a:lnTo>
                        <a:pt x="560" y="18"/>
                      </a:lnTo>
                      <a:lnTo>
                        <a:pt x="558" y="22"/>
                      </a:lnTo>
                      <a:lnTo>
                        <a:pt x="557" y="27"/>
                      </a:lnTo>
                      <a:lnTo>
                        <a:pt x="557" y="33"/>
                      </a:lnTo>
                      <a:lnTo>
                        <a:pt x="557" y="39"/>
                      </a:lnTo>
                      <a:lnTo>
                        <a:pt x="555" y="41"/>
                      </a:lnTo>
                      <a:lnTo>
                        <a:pt x="555" y="41"/>
                      </a:lnTo>
                      <a:lnTo>
                        <a:pt x="553" y="43"/>
                      </a:lnTo>
                      <a:lnTo>
                        <a:pt x="551" y="45"/>
                      </a:lnTo>
                      <a:lnTo>
                        <a:pt x="549" y="46"/>
                      </a:lnTo>
                      <a:lnTo>
                        <a:pt x="547" y="48"/>
                      </a:lnTo>
                      <a:lnTo>
                        <a:pt x="547" y="50"/>
                      </a:lnTo>
                      <a:lnTo>
                        <a:pt x="545" y="50"/>
                      </a:lnTo>
                      <a:lnTo>
                        <a:pt x="545" y="52"/>
                      </a:lnTo>
                      <a:lnTo>
                        <a:pt x="545" y="52"/>
                      </a:lnTo>
                      <a:lnTo>
                        <a:pt x="543" y="54"/>
                      </a:lnTo>
                      <a:lnTo>
                        <a:pt x="543" y="56"/>
                      </a:lnTo>
                      <a:lnTo>
                        <a:pt x="541" y="58"/>
                      </a:lnTo>
                      <a:lnTo>
                        <a:pt x="541" y="58"/>
                      </a:lnTo>
                      <a:lnTo>
                        <a:pt x="539" y="60"/>
                      </a:lnTo>
                      <a:lnTo>
                        <a:pt x="539" y="60"/>
                      </a:lnTo>
                      <a:lnTo>
                        <a:pt x="537" y="62"/>
                      </a:lnTo>
                      <a:lnTo>
                        <a:pt x="534" y="66"/>
                      </a:lnTo>
                      <a:lnTo>
                        <a:pt x="530" y="71"/>
                      </a:lnTo>
                      <a:lnTo>
                        <a:pt x="524" y="77"/>
                      </a:lnTo>
                      <a:lnTo>
                        <a:pt x="516" y="83"/>
                      </a:lnTo>
                      <a:lnTo>
                        <a:pt x="512" y="87"/>
                      </a:lnTo>
                      <a:lnTo>
                        <a:pt x="507" y="91"/>
                      </a:lnTo>
                      <a:lnTo>
                        <a:pt x="505" y="91"/>
                      </a:lnTo>
                      <a:lnTo>
                        <a:pt x="503" y="94"/>
                      </a:lnTo>
                      <a:lnTo>
                        <a:pt x="499" y="96"/>
                      </a:lnTo>
                      <a:lnTo>
                        <a:pt x="495" y="100"/>
                      </a:lnTo>
                      <a:lnTo>
                        <a:pt x="491" y="104"/>
                      </a:lnTo>
                      <a:lnTo>
                        <a:pt x="486" y="106"/>
                      </a:lnTo>
                      <a:lnTo>
                        <a:pt x="480" y="110"/>
                      </a:lnTo>
                      <a:lnTo>
                        <a:pt x="476" y="112"/>
                      </a:lnTo>
                      <a:lnTo>
                        <a:pt x="472" y="114"/>
                      </a:lnTo>
                      <a:lnTo>
                        <a:pt x="466" y="116"/>
                      </a:lnTo>
                      <a:lnTo>
                        <a:pt x="466" y="116"/>
                      </a:lnTo>
                      <a:lnTo>
                        <a:pt x="466" y="117"/>
                      </a:lnTo>
                      <a:lnTo>
                        <a:pt x="466" y="117"/>
                      </a:lnTo>
                      <a:lnTo>
                        <a:pt x="466" y="117"/>
                      </a:lnTo>
                      <a:lnTo>
                        <a:pt x="464" y="119"/>
                      </a:lnTo>
                      <a:lnTo>
                        <a:pt x="464" y="119"/>
                      </a:lnTo>
                      <a:lnTo>
                        <a:pt x="463" y="121"/>
                      </a:lnTo>
                      <a:lnTo>
                        <a:pt x="463" y="121"/>
                      </a:lnTo>
                      <a:lnTo>
                        <a:pt x="459" y="123"/>
                      </a:lnTo>
                      <a:lnTo>
                        <a:pt x="457" y="125"/>
                      </a:lnTo>
                      <a:lnTo>
                        <a:pt x="457" y="127"/>
                      </a:lnTo>
                      <a:lnTo>
                        <a:pt x="457" y="129"/>
                      </a:lnTo>
                      <a:lnTo>
                        <a:pt x="457" y="133"/>
                      </a:lnTo>
                      <a:lnTo>
                        <a:pt x="457" y="135"/>
                      </a:lnTo>
                      <a:lnTo>
                        <a:pt x="457" y="137"/>
                      </a:lnTo>
                      <a:lnTo>
                        <a:pt x="455" y="139"/>
                      </a:lnTo>
                      <a:lnTo>
                        <a:pt x="455" y="140"/>
                      </a:lnTo>
                      <a:lnTo>
                        <a:pt x="453" y="140"/>
                      </a:lnTo>
                      <a:lnTo>
                        <a:pt x="453" y="142"/>
                      </a:lnTo>
                      <a:lnTo>
                        <a:pt x="453" y="142"/>
                      </a:lnTo>
                      <a:lnTo>
                        <a:pt x="451" y="144"/>
                      </a:lnTo>
                      <a:lnTo>
                        <a:pt x="451" y="146"/>
                      </a:lnTo>
                      <a:lnTo>
                        <a:pt x="451" y="146"/>
                      </a:lnTo>
                      <a:lnTo>
                        <a:pt x="451" y="148"/>
                      </a:lnTo>
                      <a:lnTo>
                        <a:pt x="451" y="148"/>
                      </a:lnTo>
                      <a:lnTo>
                        <a:pt x="451" y="150"/>
                      </a:lnTo>
                      <a:lnTo>
                        <a:pt x="447" y="152"/>
                      </a:lnTo>
                      <a:lnTo>
                        <a:pt x="447" y="152"/>
                      </a:lnTo>
                      <a:lnTo>
                        <a:pt x="445" y="154"/>
                      </a:lnTo>
                      <a:lnTo>
                        <a:pt x="443" y="154"/>
                      </a:lnTo>
                      <a:lnTo>
                        <a:pt x="443" y="156"/>
                      </a:lnTo>
                      <a:lnTo>
                        <a:pt x="441" y="158"/>
                      </a:lnTo>
                      <a:lnTo>
                        <a:pt x="439" y="160"/>
                      </a:lnTo>
                      <a:lnTo>
                        <a:pt x="439" y="160"/>
                      </a:lnTo>
                      <a:lnTo>
                        <a:pt x="439" y="162"/>
                      </a:lnTo>
                      <a:lnTo>
                        <a:pt x="436" y="162"/>
                      </a:lnTo>
                      <a:lnTo>
                        <a:pt x="430" y="164"/>
                      </a:lnTo>
                      <a:lnTo>
                        <a:pt x="424" y="167"/>
                      </a:lnTo>
                      <a:lnTo>
                        <a:pt x="418" y="171"/>
                      </a:lnTo>
                      <a:lnTo>
                        <a:pt x="415" y="175"/>
                      </a:lnTo>
                      <a:lnTo>
                        <a:pt x="409" y="181"/>
                      </a:lnTo>
                      <a:lnTo>
                        <a:pt x="405" y="185"/>
                      </a:lnTo>
                      <a:lnTo>
                        <a:pt x="403" y="188"/>
                      </a:lnTo>
                      <a:lnTo>
                        <a:pt x="401" y="188"/>
                      </a:lnTo>
                      <a:lnTo>
                        <a:pt x="399" y="190"/>
                      </a:lnTo>
                      <a:lnTo>
                        <a:pt x="397" y="192"/>
                      </a:lnTo>
                      <a:lnTo>
                        <a:pt x="395" y="196"/>
                      </a:lnTo>
                      <a:lnTo>
                        <a:pt x="393" y="198"/>
                      </a:lnTo>
                      <a:lnTo>
                        <a:pt x="391" y="200"/>
                      </a:lnTo>
                      <a:lnTo>
                        <a:pt x="390" y="202"/>
                      </a:lnTo>
                      <a:lnTo>
                        <a:pt x="390" y="204"/>
                      </a:lnTo>
                      <a:lnTo>
                        <a:pt x="326" y="202"/>
                      </a:lnTo>
                      <a:lnTo>
                        <a:pt x="326" y="202"/>
                      </a:lnTo>
                      <a:lnTo>
                        <a:pt x="326" y="204"/>
                      </a:lnTo>
                      <a:lnTo>
                        <a:pt x="326" y="204"/>
                      </a:lnTo>
                      <a:lnTo>
                        <a:pt x="324" y="206"/>
                      </a:lnTo>
                      <a:lnTo>
                        <a:pt x="324" y="206"/>
                      </a:lnTo>
                      <a:lnTo>
                        <a:pt x="324" y="208"/>
                      </a:lnTo>
                      <a:lnTo>
                        <a:pt x="324" y="208"/>
                      </a:lnTo>
                      <a:lnTo>
                        <a:pt x="324" y="208"/>
                      </a:lnTo>
                      <a:lnTo>
                        <a:pt x="297" y="208"/>
                      </a:lnTo>
                      <a:lnTo>
                        <a:pt x="296" y="206"/>
                      </a:lnTo>
                      <a:lnTo>
                        <a:pt x="294" y="202"/>
                      </a:lnTo>
                      <a:lnTo>
                        <a:pt x="294" y="200"/>
                      </a:lnTo>
                      <a:lnTo>
                        <a:pt x="292" y="196"/>
                      </a:lnTo>
                      <a:lnTo>
                        <a:pt x="290" y="192"/>
                      </a:lnTo>
                      <a:lnTo>
                        <a:pt x="290" y="190"/>
                      </a:lnTo>
                      <a:lnTo>
                        <a:pt x="288" y="187"/>
                      </a:lnTo>
                      <a:lnTo>
                        <a:pt x="288" y="185"/>
                      </a:lnTo>
                      <a:lnTo>
                        <a:pt x="284" y="183"/>
                      </a:lnTo>
                      <a:lnTo>
                        <a:pt x="278" y="181"/>
                      </a:lnTo>
                      <a:lnTo>
                        <a:pt x="271" y="179"/>
                      </a:lnTo>
                      <a:lnTo>
                        <a:pt x="261" y="179"/>
                      </a:lnTo>
                      <a:lnTo>
                        <a:pt x="253" y="179"/>
                      </a:lnTo>
                      <a:lnTo>
                        <a:pt x="248" y="179"/>
                      </a:lnTo>
                      <a:lnTo>
                        <a:pt x="242" y="183"/>
                      </a:lnTo>
                      <a:lnTo>
                        <a:pt x="240" y="188"/>
                      </a:lnTo>
                      <a:lnTo>
                        <a:pt x="240" y="188"/>
                      </a:lnTo>
                      <a:lnTo>
                        <a:pt x="236" y="192"/>
                      </a:lnTo>
                      <a:lnTo>
                        <a:pt x="234" y="196"/>
                      </a:lnTo>
                      <a:lnTo>
                        <a:pt x="230" y="202"/>
                      </a:lnTo>
                      <a:lnTo>
                        <a:pt x="228" y="206"/>
                      </a:lnTo>
                      <a:lnTo>
                        <a:pt x="225" y="210"/>
                      </a:lnTo>
                      <a:lnTo>
                        <a:pt x="223" y="213"/>
                      </a:lnTo>
                      <a:lnTo>
                        <a:pt x="223" y="215"/>
                      </a:lnTo>
                      <a:lnTo>
                        <a:pt x="221" y="215"/>
                      </a:lnTo>
                      <a:lnTo>
                        <a:pt x="219" y="217"/>
                      </a:lnTo>
                      <a:lnTo>
                        <a:pt x="217" y="219"/>
                      </a:lnTo>
                      <a:lnTo>
                        <a:pt x="215" y="221"/>
                      </a:lnTo>
                      <a:lnTo>
                        <a:pt x="211" y="223"/>
                      </a:lnTo>
                      <a:lnTo>
                        <a:pt x="209" y="225"/>
                      </a:lnTo>
                      <a:lnTo>
                        <a:pt x="207" y="227"/>
                      </a:lnTo>
                      <a:lnTo>
                        <a:pt x="207" y="227"/>
                      </a:lnTo>
                      <a:lnTo>
                        <a:pt x="207" y="229"/>
                      </a:lnTo>
                      <a:lnTo>
                        <a:pt x="205" y="229"/>
                      </a:lnTo>
                      <a:lnTo>
                        <a:pt x="203" y="231"/>
                      </a:lnTo>
                      <a:lnTo>
                        <a:pt x="202" y="233"/>
                      </a:lnTo>
                      <a:lnTo>
                        <a:pt x="200" y="234"/>
                      </a:lnTo>
                      <a:lnTo>
                        <a:pt x="196" y="236"/>
                      </a:lnTo>
                      <a:lnTo>
                        <a:pt x="194" y="238"/>
                      </a:lnTo>
                      <a:lnTo>
                        <a:pt x="192" y="240"/>
                      </a:lnTo>
                      <a:lnTo>
                        <a:pt x="190" y="240"/>
                      </a:lnTo>
                      <a:lnTo>
                        <a:pt x="188" y="242"/>
                      </a:lnTo>
                      <a:lnTo>
                        <a:pt x="188" y="244"/>
                      </a:lnTo>
                      <a:lnTo>
                        <a:pt x="188" y="246"/>
                      </a:lnTo>
                      <a:lnTo>
                        <a:pt x="186" y="248"/>
                      </a:lnTo>
                      <a:lnTo>
                        <a:pt x="184" y="250"/>
                      </a:lnTo>
                      <a:lnTo>
                        <a:pt x="184" y="252"/>
                      </a:lnTo>
                      <a:lnTo>
                        <a:pt x="182" y="252"/>
                      </a:lnTo>
                      <a:lnTo>
                        <a:pt x="182" y="254"/>
                      </a:lnTo>
                      <a:lnTo>
                        <a:pt x="182" y="256"/>
                      </a:lnTo>
                      <a:lnTo>
                        <a:pt x="180" y="256"/>
                      </a:lnTo>
                      <a:lnTo>
                        <a:pt x="178" y="258"/>
                      </a:lnTo>
                      <a:lnTo>
                        <a:pt x="178" y="259"/>
                      </a:lnTo>
                      <a:lnTo>
                        <a:pt x="177" y="261"/>
                      </a:lnTo>
                      <a:lnTo>
                        <a:pt x="175" y="263"/>
                      </a:lnTo>
                      <a:lnTo>
                        <a:pt x="173" y="267"/>
                      </a:lnTo>
                      <a:lnTo>
                        <a:pt x="171" y="269"/>
                      </a:lnTo>
                      <a:lnTo>
                        <a:pt x="171" y="269"/>
                      </a:lnTo>
                      <a:lnTo>
                        <a:pt x="169" y="269"/>
                      </a:lnTo>
                      <a:lnTo>
                        <a:pt x="167" y="271"/>
                      </a:lnTo>
                      <a:lnTo>
                        <a:pt x="167" y="273"/>
                      </a:lnTo>
                      <a:lnTo>
                        <a:pt x="165" y="275"/>
                      </a:lnTo>
                      <a:lnTo>
                        <a:pt x="165" y="275"/>
                      </a:lnTo>
                      <a:lnTo>
                        <a:pt x="165" y="277"/>
                      </a:lnTo>
                      <a:lnTo>
                        <a:pt x="163" y="279"/>
                      </a:lnTo>
                      <a:lnTo>
                        <a:pt x="161" y="279"/>
                      </a:lnTo>
                      <a:lnTo>
                        <a:pt x="161" y="290"/>
                      </a:lnTo>
                      <a:lnTo>
                        <a:pt x="159" y="290"/>
                      </a:lnTo>
                      <a:lnTo>
                        <a:pt x="159" y="292"/>
                      </a:lnTo>
                      <a:lnTo>
                        <a:pt x="159" y="296"/>
                      </a:lnTo>
                      <a:lnTo>
                        <a:pt x="159" y="298"/>
                      </a:lnTo>
                      <a:lnTo>
                        <a:pt x="159" y="302"/>
                      </a:lnTo>
                      <a:lnTo>
                        <a:pt x="159" y="304"/>
                      </a:lnTo>
                      <a:lnTo>
                        <a:pt x="161" y="307"/>
                      </a:lnTo>
                      <a:lnTo>
                        <a:pt x="161" y="309"/>
                      </a:lnTo>
                      <a:lnTo>
                        <a:pt x="161" y="313"/>
                      </a:lnTo>
                      <a:lnTo>
                        <a:pt x="165" y="313"/>
                      </a:lnTo>
                      <a:lnTo>
                        <a:pt x="171" y="315"/>
                      </a:lnTo>
                      <a:lnTo>
                        <a:pt x="175" y="317"/>
                      </a:lnTo>
                      <a:lnTo>
                        <a:pt x="182" y="319"/>
                      </a:lnTo>
                      <a:lnTo>
                        <a:pt x="188" y="321"/>
                      </a:lnTo>
                      <a:lnTo>
                        <a:pt x="194" y="325"/>
                      </a:lnTo>
                      <a:lnTo>
                        <a:pt x="200" y="325"/>
                      </a:lnTo>
                      <a:lnTo>
                        <a:pt x="207" y="327"/>
                      </a:lnTo>
                      <a:lnTo>
                        <a:pt x="207" y="327"/>
                      </a:lnTo>
                      <a:lnTo>
                        <a:pt x="209" y="328"/>
                      </a:lnTo>
                      <a:lnTo>
                        <a:pt x="209" y="328"/>
                      </a:lnTo>
                      <a:lnTo>
                        <a:pt x="211" y="328"/>
                      </a:lnTo>
                      <a:lnTo>
                        <a:pt x="211" y="330"/>
                      </a:lnTo>
                      <a:lnTo>
                        <a:pt x="213" y="330"/>
                      </a:lnTo>
                      <a:lnTo>
                        <a:pt x="213" y="332"/>
                      </a:lnTo>
                      <a:lnTo>
                        <a:pt x="213" y="332"/>
                      </a:lnTo>
                      <a:lnTo>
                        <a:pt x="215" y="332"/>
                      </a:lnTo>
                      <a:lnTo>
                        <a:pt x="215" y="334"/>
                      </a:lnTo>
                      <a:lnTo>
                        <a:pt x="215" y="334"/>
                      </a:lnTo>
                      <a:lnTo>
                        <a:pt x="217" y="334"/>
                      </a:lnTo>
                      <a:lnTo>
                        <a:pt x="217" y="336"/>
                      </a:lnTo>
                      <a:lnTo>
                        <a:pt x="219" y="336"/>
                      </a:lnTo>
                      <a:lnTo>
                        <a:pt x="219" y="336"/>
                      </a:lnTo>
                      <a:lnTo>
                        <a:pt x="221" y="338"/>
                      </a:lnTo>
                      <a:lnTo>
                        <a:pt x="219" y="346"/>
                      </a:lnTo>
                      <a:lnTo>
                        <a:pt x="219" y="355"/>
                      </a:lnTo>
                      <a:lnTo>
                        <a:pt x="217" y="369"/>
                      </a:lnTo>
                      <a:lnTo>
                        <a:pt x="215" y="380"/>
                      </a:lnTo>
                      <a:lnTo>
                        <a:pt x="213" y="392"/>
                      </a:lnTo>
                      <a:lnTo>
                        <a:pt x="213" y="403"/>
                      </a:lnTo>
                      <a:lnTo>
                        <a:pt x="213" y="415"/>
                      </a:lnTo>
                      <a:lnTo>
                        <a:pt x="215" y="422"/>
                      </a:lnTo>
                      <a:lnTo>
                        <a:pt x="217" y="424"/>
                      </a:lnTo>
                      <a:lnTo>
                        <a:pt x="217" y="424"/>
                      </a:lnTo>
                      <a:lnTo>
                        <a:pt x="219" y="426"/>
                      </a:lnTo>
                      <a:lnTo>
                        <a:pt x="221" y="428"/>
                      </a:lnTo>
                      <a:lnTo>
                        <a:pt x="223" y="430"/>
                      </a:lnTo>
                      <a:lnTo>
                        <a:pt x="223" y="432"/>
                      </a:lnTo>
                      <a:lnTo>
                        <a:pt x="225" y="434"/>
                      </a:lnTo>
                      <a:lnTo>
                        <a:pt x="225" y="434"/>
                      </a:lnTo>
                      <a:lnTo>
                        <a:pt x="228" y="434"/>
                      </a:lnTo>
                      <a:lnTo>
                        <a:pt x="230" y="436"/>
                      </a:lnTo>
                      <a:lnTo>
                        <a:pt x="234" y="436"/>
                      </a:lnTo>
                      <a:lnTo>
                        <a:pt x="238" y="438"/>
                      </a:lnTo>
                      <a:lnTo>
                        <a:pt x="244" y="440"/>
                      </a:lnTo>
                      <a:lnTo>
                        <a:pt x="248" y="440"/>
                      </a:lnTo>
                      <a:lnTo>
                        <a:pt x="249" y="442"/>
                      </a:lnTo>
                      <a:lnTo>
                        <a:pt x="253" y="444"/>
                      </a:lnTo>
                      <a:lnTo>
                        <a:pt x="215" y="442"/>
                      </a:lnTo>
                      <a:lnTo>
                        <a:pt x="219" y="446"/>
                      </a:lnTo>
                      <a:lnTo>
                        <a:pt x="221" y="449"/>
                      </a:lnTo>
                      <a:lnTo>
                        <a:pt x="226" y="451"/>
                      </a:lnTo>
                      <a:lnTo>
                        <a:pt x="228" y="451"/>
                      </a:lnTo>
                      <a:lnTo>
                        <a:pt x="232" y="451"/>
                      </a:lnTo>
                      <a:lnTo>
                        <a:pt x="240" y="447"/>
                      </a:lnTo>
                      <a:lnTo>
                        <a:pt x="244" y="447"/>
                      </a:lnTo>
                      <a:lnTo>
                        <a:pt x="251" y="446"/>
                      </a:lnTo>
                      <a:lnTo>
                        <a:pt x="255" y="451"/>
                      </a:lnTo>
                      <a:lnTo>
                        <a:pt x="255" y="451"/>
                      </a:lnTo>
                      <a:lnTo>
                        <a:pt x="255" y="461"/>
                      </a:lnTo>
                      <a:lnTo>
                        <a:pt x="253" y="463"/>
                      </a:lnTo>
                      <a:lnTo>
                        <a:pt x="253" y="472"/>
                      </a:lnTo>
                      <a:lnTo>
                        <a:pt x="253" y="478"/>
                      </a:lnTo>
                      <a:lnTo>
                        <a:pt x="255" y="490"/>
                      </a:lnTo>
                      <a:lnTo>
                        <a:pt x="259" y="492"/>
                      </a:lnTo>
                      <a:lnTo>
                        <a:pt x="263" y="501"/>
                      </a:lnTo>
                      <a:lnTo>
                        <a:pt x="265" y="505"/>
                      </a:lnTo>
                      <a:lnTo>
                        <a:pt x="273" y="507"/>
                      </a:lnTo>
                      <a:lnTo>
                        <a:pt x="274" y="528"/>
                      </a:lnTo>
                      <a:lnTo>
                        <a:pt x="284" y="536"/>
                      </a:lnTo>
                      <a:lnTo>
                        <a:pt x="286" y="543"/>
                      </a:lnTo>
                      <a:lnTo>
                        <a:pt x="290" y="545"/>
                      </a:lnTo>
                      <a:lnTo>
                        <a:pt x="292" y="551"/>
                      </a:lnTo>
                      <a:lnTo>
                        <a:pt x="292" y="557"/>
                      </a:lnTo>
                      <a:lnTo>
                        <a:pt x="290" y="561"/>
                      </a:lnTo>
                      <a:lnTo>
                        <a:pt x="284" y="561"/>
                      </a:lnTo>
                      <a:lnTo>
                        <a:pt x="282" y="564"/>
                      </a:lnTo>
                      <a:lnTo>
                        <a:pt x="282" y="570"/>
                      </a:lnTo>
                      <a:lnTo>
                        <a:pt x="282" y="582"/>
                      </a:lnTo>
                      <a:lnTo>
                        <a:pt x="282" y="586"/>
                      </a:lnTo>
                      <a:lnTo>
                        <a:pt x="282" y="586"/>
                      </a:lnTo>
                      <a:lnTo>
                        <a:pt x="280" y="589"/>
                      </a:lnTo>
                      <a:lnTo>
                        <a:pt x="282" y="591"/>
                      </a:lnTo>
                      <a:lnTo>
                        <a:pt x="292" y="591"/>
                      </a:lnTo>
                      <a:lnTo>
                        <a:pt x="294" y="597"/>
                      </a:lnTo>
                      <a:lnTo>
                        <a:pt x="292" y="599"/>
                      </a:lnTo>
                      <a:lnTo>
                        <a:pt x="280" y="599"/>
                      </a:lnTo>
                      <a:lnTo>
                        <a:pt x="274" y="599"/>
                      </a:lnTo>
                      <a:lnTo>
                        <a:pt x="269" y="603"/>
                      </a:lnTo>
                      <a:lnTo>
                        <a:pt x="267" y="609"/>
                      </a:lnTo>
                      <a:lnTo>
                        <a:pt x="261" y="610"/>
                      </a:lnTo>
                      <a:lnTo>
                        <a:pt x="253" y="609"/>
                      </a:lnTo>
                      <a:lnTo>
                        <a:pt x="240" y="612"/>
                      </a:lnTo>
                      <a:lnTo>
                        <a:pt x="240" y="610"/>
                      </a:lnTo>
                      <a:lnTo>
                        <a:pt x="238" y="609"/>
                      </a:lnTo>
                      <a:lnTo>
                        <a:pt x="238" y="605"/>
                      </a:lnTo>
                      <a:lnTo>
                        <a:pt x="238" y="605"/>
                      </a:lnTo>
                      <a:lnTo>
                        <a:pt x="238" y="601"/>
                      </a:lnTo>
                      <a:lnTo>
                        <a:pt x="238" y="599"/>
                      </a:lnTo>
                      <a:lnTo>
                        <a:pt x="240" y="595"/>
                      </a:lnTo>
                      <a:lnTo>
                        <a:pt x="240" y="595"/>
                      </a:lnTo>
                      <a:lnTo>
                        <a:pt x="238" y="595"/>
                      </a:lnTo>
                      <a:lnTo>
                        <a:pt x="238" y="591"/>
                      </a:lnTo>
                      <a:lnTo>
                        <a:pt x="232" y="589"/>
                      </a:lnTo>
                      <a:lnTo>
                        <a:pt x="228" y="589"/>
                      </a:lnTo>
                      <a:lnTo>
                        <a:pt x="225" y="591"/>
                      </a:lnTo>
                      <a:lnTo>
                        <a:pt x="217" y="595"/>
                      </a:lnTo>
                      <a:lnTo>
                        <a:pt x="217" y="595"/>
                      </a:lnTo>
                      <a:lnTo>
                        <a:pt x="213" y="595"/>
                      </a:lnTo>
                      <a:lnTo>
                        <a:pt x="209" y="597"/>
                      </a:lnTo>
                      <a:lnTo>
                        <a:pt x="198" y="599"/>
                      </a:lnTo>
                      <a:lnTo>
                        <a:pt x="194" y="599"/>
                      </a:lnTo>
                      <a:lnTo>
                        <a:pt x="188" y="614"/>
                      </a:lnTo>
                      <a:lnTo>
                        <a:pt x="182" y="616"/>
                      </a:lnTo>
                      <a:lnTo>
                        <a:pt x="178" y="616"/>
                      </a:lnTo>
                      <a:lnTo>
                        <a:pt x="171" y="614"/>
                      </a:lnTo>
                      <a:lnTo>
                        <a:pt x="161" y="614"/>
                      </a:lnTo>
                      <a:lnTo>
                        <a:pt x="152" y="605"/>
                      </a:lnTo>
                      <a:lnTo>
                        <a:pt x="152" y="605"/>
                      </a:lnTo>
                      <a:lnTo>
                        <a:pt x="146" y="599"/>
                      </a:lnTo>
                      <a:lnTo>
                        <a:pt x="142" y="599"/>
                      </a:lnTo>
                      <a:lnTo>
                        <a:pt x="140" y="601"/>
                      </a:lnTo>
                      <a:lnTo>
                        <a:pt x="136" y="605"/>
                      </a:lnTo>
                      <a:lnTo>
                        <a:pt x="129" y="599"/>
                      </a:lnTo>
                      <a:lnTo>
                        <a:pt x="132" y="595"/>
                      </a:lnTo>
                      <a:lnTo>
                        <a:pt x="127" y="595"/>
                      </a:lnTo>
                      <a:lnTo>
                        <a:pt x="121" y="593"/>
                      </a:lnTo>
                      <a:lnTo>
                        <a:pt x="115" y="593"/>
                      </a:lnTo>
                      <a:lnTo>
                        <a:pt x="113" y="593"/>
                      </a:lnTo>
                      <a:lnTo>
                        <a:pt x="109" y="593"/>
                      </a:lnTo>
                      <a:lnTo>
                        <a:pt x="104" y="591"/>
                      </a:lnTo>
                      <a:lnTo>
                        <a:pt x="102" y="591"/>
                      </a:lnTo>
                      <a:lnTo>
                        <a:pt x="98" y="593"/>
                      </a:lnTo>
                      <a:lnTo>
                        <a:pt x="96" y="593"/>
                      </a:lnTo>
                      <a:lnTo>
                        <a:pt x="94" y="586"/>
                      </a:lnTo>
                      <a:lnTo>
                        <a:pt x="92" y="584"/>
                      </a:lnTo>
                      <a:lnTo>
                        <a:pt x="92" y="584"/>
                      </a:lnTo>
                      <a:lnTo>
                        <a:pt x="88" y="584"/>
                      </a:lnTo>
                      <a:lnTo>
                        <a:pt x="84" y="586"/>
                      </a:lnTo>
                      <a:lnTo>
                        <a:pt x="84" y="591"/>
                      </a:lnTo>
                      <a:lnTo>
                        <a:pt x="54" y="584"/>
                      </a:lnTo>
                      <a:lnTo>
                        <a:pt x="44" y="620"/>
                      </a:lnTo>
                      <a:lnTo>
                        <a:pt x="40" y="622"/>
                      </a:lnTo>
                      <a:lnTo>
                        <a:pt x="35" y="620"/>
                      </a:lnTo>
                      <a:lnTo>
                        <a:pt x="31" y="618"/>
                      </a:lnTo>
                      <a:lnTo>
                        <a:pt x="29" y="624"/>
                      </a:lnTo>
                      <a:lnTo>
                        <a:pt x="25" y="620"/>
                      </a:lnTo>
                      <a:lnTo>
                        <a:pt x="15" y="620"/>
                      </a:lnTo>
                      <a:lnTo>
                        <a:pt x="0" y="626"/>
                      </a:lnTo>
                      <a:lnTo>
                        <a:pt x="13" y="645"/>
                      </a:lnTo>
                      <a:lnTo>
                        <a:pt x="12" y="647"/>
                      </a:lnTo>
                      <a:lnTo>
                        <a:pt x="25" y="651"/>
                      </a:lnTo>
                      <a:lnTo>
                        <a:pt x="29" y="666"/>
                      </a:lnTo>
                      <a:lnTo>
                        <a:pt x="36" y="683"/>
                      </a:lnTo>
                      <a:lnTo>
                        <a:pt x="44" y="703"/>
                      </a:lnTo>
                      <a:lnTo>
                        <a:pt x="54" y="720"/>
                      </a:lnTo>
                      <a:lnTo>
                        <a:pt x="81" y="729"/>
                      </a:lnTo>
                      <a:lnTo>
                        <a:pt x="104" y="741"/>
                      </a:lnTo>
                      <a:lnTo>
                        <a:pt x="113" y="756"/>
                      </a:lnTo>
                      <a:lnTo>
                        <a:pt x="125" y="760"/>
                      </a:lnTo>
                      <a:lnTo>
                        <a:pt x="140" y="760"/>
                      </a:lnTo>
                      <a:lnTo>
                        <a:pt x="165" y="760"/>
                      </a:lnTo>
                      <a:lnTo>
                        <a:pt x="192" y="754"/>
                      </a:lnTo>
                      <a:lnTo>
                        <a:pt x="196" y="754"/>
                      </a:lnTo>
                      <a:lnTo>
                        <a:pt x="200" y="751"/>
                      </a:lnTo>
                      <a:lnTo>
                        <a:pt x="211" y="747"/>
                      </a:lnTo>
                      <a:lnTo>
                        <a:pt x="223" y="733"/>
                      </a:lnTo>
                      <a:lnTo>
                        <a:pt x="228" y="731"/>
                      </a:lnTo>
                      <a:lnTo>
                        <a:pt x="234" y="743"/>
                      </a:lnTo>
                      <a:lnTo>
                        <a:pt x="217" y="756"/>
                      </a:lnTo>
                      <a:lnTo>
                        <a:pt x="203" y="768"/>
                      </a:lnTo>
                      <a:lnTo>
                        <a:pt x="200" y="781"/>
                      </a:lnTo>
                      <a:lnTo>
                        <a:pt x="173" y="774"/>
                      </a:lnTo>
                      <a:lnTo>
                        <a:pt x="169" y="797"/>
                      </a:lnTo>
                      <a:lnTo>
                        <a:pt x="144" y="797"/>
                      </a:lnTo>
                      <a:lnTo>
                        <a:pt x="127" y="797"/>
                      </a:lnTo>
                      <a:lnTo>
                        <a:pt x="119" y="814"/>
                      </a:lnTo>
                      <a:lnTo>
                        <a:pt x="107" y="812"/>
                      </a:lnTo>
                      <a:lnTo>
                        <a:pt x="92" y="798"/>
                      </a:lnTo>
                      <a:lnTo>
                        <a:pt x="86" y="781"/>
                      </a:lnTo>
                      <a:lnTo>
                        <a:pt x="75" y="800"/>
                      </a:lnTo>
                      <a:lnTo>
                        <a:pt x="83" y="833"/>
                      </a:lnTo>
                      <a:lnTo>
                        <a:pt x="405" y="833"/>
                      </a:lnTo>
                      <a:lnTo>
                        <a:pt x="407" y="823"/>
                      </a:lnTo>
                      <a:lnTo>
                        <a:pt x="413" y="833"/>
                      </a:lnTo>
                      <a:lnTo>
                        <a:pt x="2128" y="833"/>
                      </a:lnTo>
                      <a:lnTo>
                        <a:pt x="2128" y="821"/>
                      </a:lnTo>
                      <a:lnTo>
                        <a:pt x="2130" y="818"/>
                      </a:lnTo>
                      <a:lnTo>
                        <a:pt x="2130" y="802"/>
                      </a:lnTo>
                      <a:lnTo>
                        <a:pt x="2128" y="798"/>
                      </a:lnTo>
                      <a:lnTo>
                        <a:pt x="2121" y="795"/>
                      </a:lnTo>
                      <a:lnTo>
                        <a:pt x="2123" y="775"/>
                      </a:lnTo>
                      <a:lnTo>
                        <a:pt x="2117" y="774"/>
                      </a:lnTo>
                      <a:lnTo>
                        <a:pt x="2113" y="772"/>
                      </a:lnTo>
                      <a:lnTo>
                        <a:pt x="2109" y="770"/>
                      </a:lnTo>
                      <a:lnTo>
                        <a:pt x="2105" y="766"/>
                      </a:lnTo>
                      <a:lnTo>
                        <a:pt x="2101" y="762"/>
                      </a:lnTo>
                      <a:lnTo>
                        <a:pt x="2098" y="758"/>
                      </a:lnTo>
                      <a:lnTo>
                        <a:pt x="2096" y="754"/>
                      </a:lnTo>
                      <a:lnTo>
                        <a:pt x="2092" y="749"/>
                      </a:lnTo>
                      <a:lnTo>
                        <a:pt x="2092" y="745"/>
                      </a:lnTo>
                      <a:lnTo>
                        <a:pt x="2094" y="739"/>
                      </a:lnTo>
                      <a:lnTo>
                        <a:pt x="2096" y="735"/>
                      </a:lnTo>
                      <a:lnTo>
                        <a:pt x="2098" y="731"/>
                      </a:lnTo>
                      <a:lnTo>
                        <a:pt x="2099" y="729"/>
                      </a:lnTo>
                      <a:lnTo>
                        <a:pt x="2103" y="727"/>
                      </a:lnTo>
                      <a:lnTo>
                        <a:pt x="2107" y="726"/>
                      </a:lnTo>
                      <a:lnTo>
                        <a:pt x="2111" y="724"/>
                      </a:lnTo>
                      <a:lnTo>
                        <a:pt x="2117" y="703"/>
                      </a:lnTo>
                      <a:lnTo>
                        <a:pt x="2109" y="681"/>
                      </a:lnTo>
                      <a:lnTo>
                        <a:pt x="2086" y="672"/>
                      </a:lnTo>
                      <a:lnTo>
                        <a:pt x="2055" y="653"/>
                      </a:lnTo>
                      <a:lnTo>
                        <a:pt x="2042" y="632"/>
                      </a:lnTo>
                      <a:lnTo>
                        <a:pt x="2052" y="609"/>
                      </a:lnTo>
                      <a:lnTo>
                        <a:pt x="2073" y="603"/>
                      </a:lnTo>
                      <a:lnTo>
                        <a:pt x="2073" y="576"/>
                      </a:lnTo>
                      <a:lnTo>
                        <a:pt x="2080" y="570"/>
                      </a:lnTo>
                      <a:lnTo>
                        <a:pt x="2124" y="568"/>
                      </a:lnTo>
                      <a:lnTo>
                        <a:pt x="2130" y="561"/>
                      </a:lnTo>
                      <a:lnTo>
                        <a:pt x="2109" y="536"/>
                      </a:lnTo>
                      <a:lnTo>
                        <a:pt x="2094" y="538"/>
                      </a:lnTo>
                      <a:lnTo>
                        <a:pt x="2055" y="505"/>
                      </a:lnTo>
                      <a:lnTo>
                        <a:pt x="2044" y="501"/>
                      </a:lnTo>
                      <a:lnTo>
                        <a:pt x="2040" y="484"/>
                      </a:lnTo>
                      <a:lnTo>
                        <a:pt x="2044" y="476"/>
                      </a:lnTo>
                      <a:lnTo>
                        <a:pt x="2044" y="476"/>
                      </a:lnTo>
                      <a:lnTo>
                        <a:pt x="2044" y="476"/>
                      </a:lnTo>
                      <a:lnTo>
                        <a:pt x="2046" y="476"/>
                      </a:lnTo>
                      <a:lnTo>
                        <a:pt x="2046" y="476"/>
                      </a:lnTo>
                      <a:lnTo>
                        <a:pt x="2046" y="476"/>
                      </a:lnTo>
                      <a:lnTo>
                        <a:pt x="2046" y="476"/>
                      </a:lnTo>
                      <a:lnTo>
                        <a:pt x="2046" y="476"/>
                      </a:lnTo>
                      <a:lnTo>
                        <a:pt x="2046" y="476"/>
                      </a:lnTo>
                      <a:lnTo>
                        <a:pt x="2046" y="476"/>
                      </a:lnTo>
                      <a:lnTo>
                        <a:pt x="2046" y="476"/>
                      </a:lnTo>
                      <a:lnTo>
                        <a:pt x="2046" y="476"/>
                      </a:lnTo>
                      <a:lnTo>
                        <a:pt x="2046" y="476"/>
                      </a:lnTo>
                      <a:lnTo>
                        <a:pt x="2046" y="476"/>
                      </a:lnTo>
                      <a:lnTo>
                        <a:pt x="2046" y="476"/>
                      </a:lnTo>
                      <a:lnTo>
                        <a:pt x="2046" y="476"/>
                      </a:lnTo>
                      <a:lnTo>
                        <a:pt x="2046" y="476"/>
                      </a:lnTo>
                      <a:lnTo>
                        <a:pt x="2046" y="472"/>
                      </a:lnTo>
                      <a:close/>
                    </a:path>
                  </a:pathLst>
                </a:custGeom>
                <a:blipFill rotWithShape="0">
                  <a:blip r:embed="rId26"/>
                  <a:srcRect/>
                  <a:tile tx="0" ty="0" sx="100000" sy="100000" algn="ctr"/>
                </a:blip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957640" y="4346280"/>
                  <a:ext cx="477000" cy="369000"/>
                </a:xfrm>
                <a:custGeom>
                  <a:avLst/>
                  <a:gdLst/>
                  <a:ahLst/>
                  <a:rect l="l" t="t" r="r" b="b"/>
                  <a:pathLst>
                    <a:path w="2500" h="1667">
                      <a:moveTo>
                        <a:pt x="2423" y="0"/>
                      </a:moveTo>
                      <a:lnTo>
                        <a:pt x="2423" y="4"/>
                      </a:lnTo>
                      <a:lnTo>
                        <a:pt x="2423" y="10"/>
                      </a:lnTo>
                      <a:lnTo>
                        <a:pt x="2423" y="13"/>
                      </a:lnTo>
                      <a:lnTo>
                        <a:pt x="2423" y="17"/>
                      </a:lnTo>
                      <a:lnTo>
                        <a:pt x="2425" y="23"/>
                      </a:lnTo>
                      <a:lnTo>
                        <a:pt x="2425" y="27"/>
                      </a:lnTo>
                      <a:lnTo>
                        <a:pt x="2425" y="31"/>
                      </a:lnTo>
                      <a:lnTo>
                        <a:pt x="2427" y="35"/>
                      </a:lnTo>
                      <a:lnTo>
                        <a:pt x="2427" y="36"/>
                      </a:lnTo>
                      <a:lnTo>
                        <a:pt x="2427" y="38"/>
                      </a:lnTo>
                      <a:lnTo>
                        <a:pt x="2429" y="42"/>
                      </a:lnTo>
                      <a:lnTo>
                        <a:pt x="2429" y="44"/>
                      </a:lnTo>
                      <a:lnTo>
                        <a:pt x="2431" y="46"/>
                      </a:lnTo>
                      <a:lnTo>
                        <a:pt x="2431" y="48"/>
                      </a:lnTo>
                      <a:lnTo>
                        <a:pt x="2433" y="50"/>
                      </a:lnTo>
                      <a:lnTo>
                        <a:pt x="2433" y="52"/>
                      </a:lnTo>
                      <a:lnTo>
                        <a:pt x="2433" y="54"/>
                      </a:lnTo>
                      <a:lnTo>
                        <a:pt x="2435" y="58"/>
                      </a:lnTo>
                      <a:lnTo>
                        <a:pt x="2435" y="59"/>
                      </a:lnTo>
                      <a:lnTo>
                        <a:pt x="2435" y="63"/>
                      </a:lnTo>
                      <a:lnTo>
                        <a:pt x="2435" y="65"/>
                      </a:lnTo>
                      <a:lnTo>
                        <a:pt x="2435" y="69"/>
                      </a:lnTo>
                      <a:lnTo>
                        <a:pt x="2435" y="71"/>
                      </a:lnTo>
                      <a:lnTo>
                        <a:pt x="2435" y="73"/>
                      </a:lnTo>
                      <a:lnTo>
                        <a:pt x="2435" y="73"/>
                      </a:lnTo>
                      <a:lnTo>
                        <a:pt x="2435" y="73"/>
                      </a:lnTo>
                      <a:lnTo>
                        <a:pt x="2437" y="75"/>
                      </a:lnTo>
                      <a:lnTo>
                        <a:pt x="2437" y="75"/>
                      </a:lnTo>
                      <a:lnTo>
                        <a:pt x="2439" y="75"/>
                      </a:lnTo>
                      <a:lnTo>
                        <a:pt x="2439" y="75"/>
                      </a:lnTo>
                      <a:lnTo>
                        <a:pt x="2441" y="77"/>
                      </a:lnTo>
                      <a:lnTo>
                        <a:pt x="2441" y="77"/>
                      </a:lnTo>
                      <a:lnTo>
                        <a:pt x="2443" y="75"/>
                      </a:lnTo>
                      <a:lnTo>
                        <a:pt x="2444" y="73"/>
                      </a:lnTo>
                      <a:lnTo>
                        <a:pt x="2444" y="69"/>
                      </a:lnTo>
                      <a:lnTo>
                        <a:pt x="2446" y="67"/>
                      </a:lnTo>
                      <a:lnTo>
                        <a:pt x="2446" y="65"/>
                      </a:lnTo>
                      <a:lnTo>
                        <a:pt x="2448" y="63"/>
                      </a:lnTo>
                      <a:lnTo>
                        <a:pt x="2448" y="59"/>
                      </a:lnTo>
                      <a:lnTo>
                        <a:pt x="2448" y="58"/>
                      </a:lnTo>
                      <a:lnTo>
                        <a:pt x="2450" y="58"/>
                      </a:lnTo>
                      <a:lnTo>
                        <a:pt x="2450" y="59"/>
                      </a:lnTo>
                      <a:lnTo>
                        <a:pt x="2452" y="59"/>
                      </a:lnTo>
                      <a:lnTo>
                        <a:pt x="2452" y="61"/>
                      </a:lnTo>
                      <a:lnTo>
                        <a:pt x="2452" y="63"/>
                      </a:lnTo>
                      <a:lnTo>
                        <a:pt x="2454" y="63"/>
                      </a:lnTo>
                      <a:lnTo>
                        <a:pt x="2454" y="65"/>
                      </a:lnTo>
                      <a:lnTo>
                        <a:pt x="2454" y="65"/>
                      </a:lnTo>
                      <a:lnTo>
                        <a:pt x="2454" y="65"/>
                      </a:lnTo>
                      <a:lnTo>
                        <a:pt x="2456" y="67"/>
                      </a:lnTo>
                      <a:lnTo>
                        <a:pt x="2456" y="67"/>
                      </a:lnTo>
                      <a:lnTo>
                        <a:pt x="2458" y="67"/>
                      </a:lnTo>
                      <a:lnTo>
                        <a:pt x="2460" y="67"/>
                      </a:lnTo>
                      <a:lnTo>
                        <a:pt x="2460" y="69"/>
                      </a:lnTo>
                      <a:lnTo>
                        <a:pt x="2462" y="69"/>
                      </a:lnTo>
                      <a:lnTo>
                        <a:pt x="2462" y="69"/>
                      </a:lnTo>
                      <a:lnTo>
                        <a:pt x="2464" y="71"/>
                      </a:lnTo>
                      <a:lnTo>
                        <a:pt x="2464" y="71"/>
                      </a:lnTo>
                      <a:lnTo>
                        <a:pt x="2464" y="73"/>
                      </a:lnTo>
                      <a:lnTo>
                        <a:pt x="2464" y="73"/>
                      </a:lnTo>
                      <a:lnTo>
                        <a:pt x="2464" y="75"/>
                      </a:lnTo>
                      <a:lnTo>
                        <a:pt x="2464" y="75"/>
                      </a:lnTo>
                      <a:lnTo>
                        <a:pt x="2466" y="77"/>
                      </a:lnTo>
                      <a:lnTo>
                        <a:pt x="2466" y="77"/>
                      </a:lnTo>
                      <a:lnTo>
                        <a:pt x="2466" y="79"/>
                      </a:lnTo>
                      <a:lnTo>
                        <a:pt x="2467" y="79"/>
                      </a:lnTo>
                      <a:lnTo>
                        <a:pt x="2469" y="81"/>
                      </a:lnTo>
                      <a:lnTo>
                        <a:pt x="2473" y="81"/>
                      </a:lnTo>
                      <a:lnTo>
                        <a:pt x="2475" y="82"/>
                      </a:lnTo>
                      <a:lnTo>
                        <a:pt x="2477" y="82"/>
                      </a:lnTo>
                      <a:lnTo>
                        <a:pt x="2479" y="82"/>
                      </a:lnTo>
                      <a:lnTo>
                        <a:pt x="2481" y="82"/>
                      </a:lnTo>
                      <a:lnTo>
                        <a:pt x="2481" y="82"/>
                      </a:lnTo>
                      <a:lnTo>
                        <a:pt x="2481" y="81"/>
                      </a:lnTo>
                      <a:lnTo>
                        <a:pt x="2481" y="81"/>
                      </a:lnTo>
                      <a:lnTo>
                        <a:pt x="2481" y="81"/>
                      </a:lnTo>
                      <a:lnTo>
                        <a:pt x="2479" y="79"/>
                      </a:lnTo>
                      <a:lnTo>
                        <a:pt x="2479" y="79"/>
                      </a:lnTo>
                      <a:lnTo>
                        <a:pt x="2479" y="77"/>
                      </a:lnTo>
                      <a:lnTo>
                        <a:pt x="2477" y="77"/>
                      </a:lnTo>
                      <a:lnTo>
                        <a:pt x="2477" y="77"/>
                      </a:lnTo>
                      <a:lnTo>
                        <a:pt x="2479" y="75"/>
                      </a:lnTo>
                      <a:lnTo>
                        <a:pt x="2479" y="73"/>
                      </a:lnTo>
                      <a:lnTo>
                        <a:pt x="2481" y="71"/>
                      </a:lnTo>
                      <a:lnTo>
                        <a:pt x="2481" y="69"/>
                      </a:lnTo>
                      <a:lnTo>
                        <a:pt x="2483" y="67"/>
                      </a:lnTo>
                      <a:lnTo>
                        <a:pt x="2483" y="65"/>
                      </a:lnTo>
                      <a:lnTo>
                        <a:pt x="2485" y="63"/>
                      </a:lnTo>
                      <a:lnTo>
                        <a:pt x="2485" y="59"/>
                      </a:lnTo>
                      <a:lnTo>
                        <a:pt x="2485" y="59"/>
                      </a:lnTo>
                      <a:lnTo>
                        <a:pt x="2483" y="59"/>
                      </a:lnTo>
                      <a:lnTo>
                        <a:pt x="2483" y="56"/>
                      </a:lnTo>
                      <a:lnTo>
                        <a:pt x="2485" y="54"/>
                      </a:lnTo>
                      <a:lnTo>
                        <a:pt x="2485" y="50"/>
                      </a:lnTo>
                      <a:lnTo>
                        <a:pt x="2487" y="48"/>
                      </a:lnTo>
                      <a:lnTo>
                        <a:pt x="2491" y="46"/>
                      </a:lnTo>
                      <a:lnTo>
                        <a:pt x="2492" y="44"/>
                      </a:lnTo>
                      <a:lnTo>
                        <a:pt x="2496" y="42"/>
                      </a:lnTo>
                      <a:lnTo>
                        <a:pt x="2500" y="40"/>
                      </a:lnTo>
                      <a:lnTo>
                        <a:pt x="2500" y="38"/>
                      </a:lnTo>
                      <a:lnTo>
                        <a:pt x="2498" y="35"/>
                      </a:lnTo>
                      <a:lnTo>
                        <a:pt x="2496" y="31"/>
                      </a:lnTo>
                      <a:lnTo>
                        <a:pt x="2494" y="25"/>
                      </a:lnTo>
                      <a:lnTo>
                        <a:pt x="2492" y="21"/>
                      </a:lnTo>
                      <a:lnTo>
                        <a:pt x="2489" y="19"/>
                      </a:lnTo>
                      <a:lnTo>
                        <a:pt x="2487" y="15"/>
                      </a:lnTo>
                      <a:lnTo>
                        <a:pt x="2485" y="15"/>
                      </a:lnTo>
                      <a:lnTo>
                        <a:pt x="2485" y="13"/>
                      </a:lnTo>
                      <a:lnTo>
                        <a:pt x="2485" y="12"/>
                      </a:lnTo>
                      <a:lnTo>
                        <a:pt x="2485" y="10"/>
                      </a:lnTo>
                      <a:lnTo>
                        <a:pt x="2485" y="8"/>
                      </a:lnTo>
                      <a:lnTo>
                        <a:pt x="2487" y="6"/>
                      </a:lnTo>
                      <a:lnTo>
                        <a:pt x="2487" y="4"/>
                      </a:lnTo>
                      <a:lnTo>
                        <a:pt x="2487" y="2"/>
                      </a:lnTo>
                      <a:lnTo>
                        <a:pt x="2487" y="0"/>
                      </a:lnTo>
                      <a:lnTo>
                        <a:pt x="2423" y="0"/>
                      </a:lnTo>
                      <a:close/>
                      <a:moveTo>
                        <a:pt x="0" y="0"/>
                      </a:moveTo>
                      <a:lnTo>
                        <a:pt x="1" y="8"/>
                      </a:lnTo>
                      <a:lnTo>
                        <a:pt x="23" y="33"/>
                      </a:lnTo>
                      <a:lnTo>
                        <a:pt x="30" y="38"/>
                      </a:lnTo>
                      <a:lnTo>
                        <a:pt x="36" y="46"/>
                      </a:lnTo>
                      <a:lnTo>
                        <a:pt x="76" y="92"/>
                      </a:lnTo>
                      <a:lnTo>
                        <a:pt x="97" y="119"/>
                      </a:lnTo>
                      <a:lnTo>
                        <a:pt x="115" y="138"/>
                      </a:lnTo>
                      <a:lnTo>
                        <a:pt x="128" y="152"/>
                      </a:lnTo>
                      <a:lnTo>
                        <a:pt x="136" y="159"/>
                      </a:lnTo>
                      <a:lnTo>
                        <a:pt x="145" y="163"/>
                      </a:lnTo>
                      <a:lnTo>
                        <a:pt x="170" y="163"/>
                      </a:lnTo>
                      <a:lnTo>
                        <a:pt x="195" y="169"/>
                      </a:lnTo>
                      <a:lnTo>
                        <a:pt x="216" y="165"/>
                      </a:lnTo>
                      <a:lnTo>
                        <a:pt x="228" y="161"/>
                      </a:lnTo>
                      <a:lnTo>
                        <a:pt x="232" y="157"/>
                      </a:lnTo>
                      <a:lnTo>
                        <a:pt x="247" y="150"/>
                      </a:lnTo>
                      <a:lnTo>
                        <a:pt x="259" y="150"/>
                      </a:lnTo>
                      <a:lnTo>
                        <a:pt x="276" y="140"/>
                      </a:lnTo>
                      <a:lnTo>
                        <a:pt x="293" y="132"/>
                      </a:lnTo>
                      <a:lnTo>
                        <a:pt x="305" y="115"/>
                      </a:lnTo>
                      <a:lnTo>
                        <a:pt x="314" y="96"/>
                      </a:lnTo>
                      <a:lnTo>
                        <a:pt x="318" y="58"/>
                      </a:lnTo>
                      <a:lnTo>
                        <a:pt x="310" y="42"/>
                      </a:lnTo>
                      <a:lnTo>
                        <a:pt x="316" y="31"/>
                      </a:lnTo>
                      <a:lnTo>
                        <a:pt x="320" y="19"/>
                      </a:lnTo>
                      <a:lnTo>
                        <a:pt x="322" y="0"/>
                      </a:lnTo>
                      <a:lnTo>
                        <a:pt x="0" y="0"/>
                      </a:lnTo>
                      <a:close/>
                      <a:moveTo>
                        <a:pt x="330" y="0"/>
                      </a:moveTo>
                      <a:lnTo>
                        <a:pt x="330" y="0"/>
                      </a:lnTo>
                      <a:lnTo>
                        <a:pt x="335" y="2"/>
                      </a:lnTo>
                      <a:lnTo>
                        <a:pt x="376" y="6"/>
                      </a:lnTo>
                      <a:lnTo>
                        <a:pt x="389" y="6"/>
                      </a:lnTo>
                      <a:lnTo>
                        <a:pt x="389" y="10"/>
                      </a:lnTo>
                      <a:lnTo>
                        <a:pt x="385" y="15"/>
                      </a:lnTo>
                      <a:lnTo>
                        <a:pt x="380" y="21"/>
                      </a:lnTo>
                      <a:lnTo>
                        <a:pt x="358" y="19"/>
                      </a:lnTo>
                      <a:lnTo>
                        <a:pt x="356" y="29"/>
                      </a:lnTo>
                      <a:lnTo>
                        <a:pt x="353" y="38"/>
                      </a:lnTo>
                      <a:lnTo>
                        <a:pt x="349" y="38"/>
                      </a:lnTo>
                      <a:lnTo>
                        <a:pt x="351" y="38"/>
                      </a:lnTo>
                      <a:lnTo>
                        <a:pt x="351" y="40"/>
                      </a:lnTo>
                      <a:lnTo>
                        <a:pt x="351" y="42"/>
                      </a:lnTo>
                      <a:lnTo>
                        <a:pt x="353" y="42"/>
                      </a:lnTo>
                      <a:lnTo>
                        <a:pt x="360" y="48"/>
                      </a:lnTo>
                      <a:lnTo>
                        <a:pt x="358" y="63"/>
                      </a:lnTo>
                      <a:lnTo>
                        <a:pt x="362" y="71"/>
                      </a:lnTo>
                      <a:lnTo>
                        <a:pt x="374" y="77"/>
                      </a:lnTo>
                      <a:lnTo>
                        <a:pt x="368" y="90"/>
                      </a:lnTo>
                      <a:lnTo>
                        <a:pt x="360" y="102"/>
                      </a:lnTo>
                      <a:lnTo>
                        <a:pt x="351" y="111"/>
                      </a:lnTo>
                      <a:lnTo>
                        <a:pt x="347" y="121"/>
                      </a:lnTo>
                      <a:lnTo>
                        <a:pt x="351" y="136"/>
                      </a:lnTo>
                      <a:lnTo>
                        <a:pt x="356" y="150"/>
                      </a:lnTo>
                      <a:lnTo>
                        <a:pt x="362" y="176"/>
                      </a:lnTo>
                      <a:lnTo>
                        <a:pt x="364" y="203"/>
                      </a:lnTo>
                      <a:lnTo>
                        <a:pt x="362" y="221"/>
                      </a:lnTo>
                      <a:lnTo>
                        <a:pt x="356" y="249"/>
                      </a:lnTo>
                      <a:lnTo>
                        <a:pt x="351" y="259"/>
                      </a:lnTo>
                      <a:lnTo>
                        <a:pt x="343" y="282"/>
                      </a:lnTo>
                      <a:lnTo>
                        <a:pt x="341" y="303"/>
                      </a:lnTo>
                      <a:lnTo>
                        <a:pt x="343" y="311"/>
                      </a:lnTo>
                      <a:lnTo>
                        <a:pt x="349" y="322"/>
                      </a:lnTo>
                      <a:lnTo>
                        <a:pt x="349" y="336"/>
                      </a:lnTo>
                      <a:lnTo>
                        <a:pt x="353" y="345"/>
                      </a:lnTo>
                      <a:lnTo>
                        <a:pt x="353" y="361"/>
                      </a:lnTo>
                      <a:lnTo>
                        <a:pt x="351" y="378"/>
                      </a:lnTo>
                      <a:lnTo>
                        <a:pt x="356" y="370"/>
                      </a:lnTo>
                      <a:lnTo>
                        <a:pt x="364" y="366"/>
                      </a:lnTo>
                      <a:lnTo>
                        <a:pt x="366" y="372"/>
                      </a:lnTo>
                      <a:lnTo>
                        <a:pt x="366" y="386"/>
                      </a:lnTo>
                      <a:lnTo>
                        <a:pt x="341" y="403"/>
                      </a:lnTo>
                      <a:lnTo>
                        <a:pt x="347" y="426"/>
                      </a:lnTo>
                      <a:lnTo>
                        <a:pt x="353" y="447"/>
                      </a:lnTo>
                      <a:lnTo>
                        <a:pt x="362" y="455"/>
                      </a:lnTo>
                      <a:lnTo>
                        <a:pt x="356" y="480"/>
                      </a:lnTo>
                      <a:lnTo>
                        <a:pt x="360" y="499"/>
                      </a:lnTo>
                      <a:lnTo>
                        <a:pt x="370" y="522"/>
                      </a:lnTo>
                      <a:lnTo>
                        <a:pt x="370" y="583"/>
                      </a:lnTo>
                      <a:lnTo>
                        <a:pt x="381" y="599"/>
                      </a:lnTo>
                      <a:lnTo>
                        <a:pt x="380" y="669"/>
                      </a:lnTo>
                      <a:lnTo>
                        <a:pt x="374" y="677"/>
                      </a:lnTo>
                      <a:lnTo>
                        <a:pt x="376" y="693"/>
                      </a:lnTo>
                      <a:lnTo>
                        <a:pt x="385" y="714"/>
                      </a:lnTo>
                      <a:lnTo>
                        <a:pt x="393" y="721"/>
                      </a:lnTo>
                      <a:lnTo>
                        <a:pt x="395" y="731"/>
                      </a:lnTo>
                      <a:lnTo>
                        <a:pt x="397" y="740"/>
                      </a:lnTo>
                      <a:lnTo>
                        <a:pt x="403" y="750"/>
                      </a:lnTo>
                      <a:lnTo>
                        <a:pt x="412" y="762"/>
                      </a:lnTo>
                      <a:lnTo>
                        <a:pt x="416" y="769"/>
                      </a:lnTo>
                      <a:lnTo>
                        <a:pt x="418" y="785"/>
                      </a:lnTo>
                      <a:lnTo>
                        <a:pt x="422" y="794"/>
                      </a:lnTo>
                      <a:lnTo>
                        <a:pt x="426" y="796"/>
                      </a:lnTo>
                      <a:lnTo>
                        <a:pt x="426" y="806"/>
                      </a:lnTo>
                      <a:lnTo>
                        <a:pt x="435" y="810"/>
                      </a:lnTo>
                      <a:lnTo>
                        <a:pt x="435" y="811"/>
                      </a:lnTo>
                      <a:lnTo>
                        <a:pt x="437" y="811"/>
                      </a:lnTo>
                      <a:lnTo>
                        <a:pt x="426" y="827"/>
                      </a:lnTo>
                      <a:lnTo>
                        <a:pt x="431" y="840"/>
                      </a:lnTo>
                      <a:lnTo>
                        <a:pt x="431" y="854"/>
                      </a:lnTo>
                      <a:lnTo>
                        <a:pt x="437" y="869"/>
                      </a:lnTo>
                      <a:lnTo>
                        <a:pt x="462" y="882"/>
                      </a:lnTo>
                      <a:lnTo>
                        <a:pt x="466" y="905"/>
                      </a:lnTo>
                      <a:lnTo>
                        <a:pt x="483" y="948"/>
                      </a:lnTo>
                      <a:lnTo>
                        <a:pt x="487" y="976"/>
                      </a:lnTo>
                      <a:lnTo>
                        <a:pt x="500" y="998"/>
                      </a:lnTo>
                      <a:lnTo>
                        <a:pt x="510" y="1026"/>
                      </a:lnTo>
                      <a:lnTo>
                        <a:pt x="508" y="1053"/>
                      </a:lnTo>
                      <a:lnTo>
                        <a:pt x="512" y="1099"/>
                      </a:lnTo>
                      <a:lnTo>
                        <a:pt x="525" y="1153"/>
                      </a:lnTo>
                      <a:lnTo>
                        <a:pt x="533" y="1168"/>
                      </a:lnTo>
                      <a:lnTo>
                        <a:pt x="533" y="1180"/>
                      </a:lnTo>
                      <a:lnTo>
                        <a:pt x="533" y="1182"/>
                      </a:lnTo>
                      <a:lnTo>
                        <a:pt x="548" y="1209"/>
                      </a:lnTo>
                      <a:lnTo>
                        <a:pt x="568" y="1228"/>
                      </a:lnTo>
                      <a:lnTo>
                        <a:pt x="594" y="1262"/>
                      </a:lnTo>
                      <a:lnTo>
                        <a:pt x="600" y="1274"/>
                      </a:lnTo>
                      <a:lnTo>
                        <a:pt x="612" y="1312"/>
                      </a:lnTo>
                      <a:lnTo>
                        <a:pt x="631" y="1358"/>
                      </a:lnTo>
                      <a:lnTo>
                        <a:pt x="639" y="1420"/>
                      </a:lnTo>
                      <a:lnTo>
                        <a:pt x="664" y="1443"/>
                      </a:lnTo>
                      <a:lnTo>
                        <a:pt x="667" y="1502"/>
                      </a:lnTo>
                      <a:lnTo>
                        <a:pt x="652" y="1454"/>
                      </a:lnTo>
                      <a:lnTo>
                        <a:pt x="652" y="1469"/>
                      </a:lnTo>
                      <a:lnTo>
                        <a:pt x="656" y="1487"/>
                      </a:lnTo>
                      <a:lnTo>
                        <a:pt x="660" y="1506"/>
                      </a:lnTo>
                      <a:lnTo>
                        <a:pt x="664" y="1523"/>
                      </a:lnTo>
                      <a:lnTo>
                        <a:pt x="671" y="1544"/>
                      </a:lnTo>
                      <a:lnTo>
                        <a:pt x="681" y="1563"/>
                      </a:lnTo>
                      <a:lnTo>
                        <a:pt x="692" y="1585"/>
                      </a:lnTo>
                      <a:lnTo>
                        <a:pt x="708" y="1604"/>
                      </a:lnTo>
                      <a:lnTo>
                        <a:pt x="744" y="1644"/>
                      </a:lnTo>
                      <a:lnTo>
                        <a:pt x="769" y="1667"/>
                      </a:lnTo>
                      <a:lnTo>
                        <a:pt x="809" y="1661"/>
                      </a:lnTo>
                      <a:lnTo>
                        <a:pt x="815" y="1654"/>
                      </a:lnTo>
                      <a:lnTo>
                        <a:pt x="823" y="1650"/>
                      </a:lnTo>
                      <a:lnTo>
                        <a:pt x="830" y="1648"/>
                      </a:lnTo>
                      <a:lnTo>
                        <a:pt x="836" y="1646"/>
                      </a:lnTo>
                      <a:lnTo>
                        <a:pt x="844" y="1646"/>
                      </a:lnTo>
                      <a:lnTo>
                        <a:pt x="852" y="1644"/>
                      </a:lnTo>
                      <a:lnTo>
                        <a:pt x="859" y="1642"/>
                      </a:lnTo>
                      <a:lnTo>
                        <a:pt x="867" y="1634"/>
                      </a:lnTo>
                      <a:lnTo>
                        <a:pt x="857" y="1608"/>
                      </a:lnTo>
                      <a:lnTo>
                        <a:pt x="865" y="1594"/>
                      </a:lnTo>
                      <a:lnTo>
                        <a:pt x="867" y="1577"/>
                      </a:lnTo>
                      <a:lnTo>
                        <a:pt x="873" y="1571"/>
                      </a:lnTo>
                      <a:lnTo>
                        <a:pt x="878" y="1567"/>
                      </a:lnTo>
                      <a:lnTo>
                        <a:pt x="884" y="1563"/>
                      </a:lnTo>
                      <a:lnTo>
                        <a:pt x="892" y="1560"/>
                      </a:lnTo>
                      <a:lnTo>
                        <a:pt x="901" y="1556"/>
                      </a:lnTo>
                      <a:lnTo>
                        <a:pt x="909" y="1552"/>
                      </a:lnTo>
                      <a:lnTo>
                        <a:pt x="921" y="1548"/>
                      </a:lnTo>
                      <a:lnTo>
                        <a:pt x="930" y="1546"/>
                      </a:lnTo>
                      <a:lnTo>
                        <a:pt x="940" y="1546"/>
                      </a:lnTo>
                      <a:lnTo>
                        <a:pt x="944" y="1546"/>
                      </a:lnTo>
                      <a:lnTo>
                        <a:pt x="948" y="1548"/>
                      </a:lnTo>
                      <a:lnTo>
                        <a:pt x="949" y="1550"/>
                      </a:lnTo>
                      <a:lnTo>
                        <a:pt x="951" y="1550"/>
                      </a:lnTo>
                      <a:lnTo>
                        <a:pt x="959" y="1552"/>
                      </a:lnTo>
                      <a:lnTo>
                        <a:pt x="969" y="1552"/>
                      </a:lnTo>
                      <a:lnTo>
                        <a:pt x="986" y="1550"/>
                      </a:lnTo>
                      <a:lnTo>
                        <a:pt x="959" y="1527"/>
                      </a:lnTo>
                      <a:lnTo>
                        <a:pt x="959" y="1521"/>
                      </a:lnTo>
                      <a:lnTo>
                        <a:pt x="957" y="1508"/>
                      </a:lnTo>
                      <a:lnTo>
                        <a:pt x="961" y="1489"/>
                      </a:lnTo>
                      <a:lnTo>
                        <a:pt x="990" y="1460"/>
                      </a:lnTo>
                      <a:lnTo>
                        <a:pt x="994" y="1446"/>
                      </a:lnTo>
                      <a:lnTo>
                        <a:pt x="1005" y="1425"/>
                      </a:lnTo>
                      <a:lnTo>
                        <a:pt x="1024" y="1421"/>
                      </a:lnTo>
                      <a:lnTo>
                        <a:pt x="1030" y="1421"/>
                      </a:lnTo>
                      <a:lnTo>
                        <a:pt x="1038" y="1429"/>
                      </a:lnTo>
                      <a:lnTo>
                        <a:pt x="1044" y="1429"/>
                      </a:lnTo>
                      <a:lnTo>
                        <a:pt x="1049" y="1429"/>
                      </a:lnTo>
                      <a:lnTo>
                        <a:pt x="1053" y="1427"/>
                      </a:lnTo>
                      <a:lnTo>
                        <a:pt x="1059" y="1427"/>
                      </a:lnTo>
                      <a:lnTo>
                        <a:pt x="1061" y="1425"/>
                      </a:lnTo>
                      <a:lnTo>
                        <a:pt x="1065" y="1423"/>
                      </a:lnTo>
                      <a:lnTo>
                        <a:pt x="1067" y="1421"/>
                      </a:lnTo>
                      <a:lnTo>
                        <a:pt x="1067" y="1420"/>
                      </a:lnTo>
                      <a:lnTo>
                        <a:pt x="1067" y="1385"/>
                      </a:lnTo>
                      <a:lnTo>
                        <a:pt x="1067" y="1364"/>
                      </a:lnTo>
                      <a:lnTo>
                        <a:pt x="1065" y="1326"/>
                      </a:lnTo>
                      <a:lnTo>
                        <a:pt x="1067" y="1293"/>
                      </a:lnTo>
                      <a:lnTo>
                        <a:pt x="1067" y="1268"/>
                      </a:lnTo>
                      <a:lnTo>
                        <a:pt x="1074" y="1243"/>
                      </a:lnTo>
                      <a:lnTo>
                        <a:pt x="1095" y="1195"/>
                      </a:lnTo>
                      <a:lnTo>
                        <a:pt x="1109" y="1166"/>
                      </a:lnTo>
                      <a:lnTo>
                        <a:pt x="1120" y="1120"/>
                      </a:lnTo>
                      <a:lnTo>
                        <a:pt x="1124" y="1111"/>
                      </a:lnTo>
                      <a:lnTo>
                        <a:pt x="1126" y="1095"/>
                      </a:lnTo>
                      <a:lnTo>
                        <a:pt x="1134" y="1072"/>
                      </a:lnTo>
                      <a:lnTo>
                        <a:pt x="1136" y="1055"/>
                      </a:lnTo>
                      <a:lnTo>
                        <a:pt x="1124" y="1044"/>
                      </a:lnTo>
                      <a:lnTo>
                        <a:pt x="1120" y="1034"/>
                      </a:lnTo>
                      <a:lnTo>
                        <a:pt x="1116" y="1028"/>
                      </a:lnTo>
                      <a:lnTo>
                        <a:pt x="1120" y="1021"/>
                      </a:lnTo>
                      <a:lnTo>
                        <a:pt x="1128" y="1028"/>
                      </a:lnTo>
                      <a:lnTo>
                        <a:pt x="1120" y="1001"/>
                      </a:lnTo>
                      <a:lnTo>
                        <a:pt x="1118" y="986"/>
                      </a:lnTo>
                      <a:lnTo>
                        <a:pt x="1105" y="976"/>
                      </a:lnTo>
                      <a:lnTo>
                        <a:pt x="1116" y="957"/>
                      </a:lnTo>
                      <a:lnTo>
                        <a:pt x="1120" y="946"/>
                      </a:lnTo>
                      <a:lnTo>
                        <a:pt x="1120" y="927"/>
                      </a:lnTo>
                      <a:lnTo>
                        <a:pt x="1120" y="923"/>
                      </a:lnTo>
                      <a:lnTo>
                        <a:pt x="1118" y="923"/>
                      </a:lnTo>
                      <a:lnTo>
                        <a:pt x="1116" y="915"/>
                      </a:lnTo>
                      <a:lnTo>
                        <a:pt x="1115" y="911"/>
                      </a:lnTo>
                      <a:lnTo>
                        <a:pt x="1111" y="886"/>
                      </a:lnTo>
                      <a:lnTo>
                        <a:pt x="1111" y="857"/>
                      </a:lnTo>
                      <a:lnTo>
                        <a:pt x="1111" y="840"/>
                      </a:lnTo>
                      <a:lnTo>
                        <a:pt x="1128" y="823"/>
                      </a:lnTo>
                      <a:lnTo>
                        <a:pt x="1143" y="798"/>
                      </a:lnTo>
                      <a:lnTo>
                        <a:pt x="1162" y="787"/>
                      </a:lnTo>
                      <a:lnTo>
                        <a:pt x="1178" y="787"/>
                      </a:lnTo>
                      <a:lnTo>
                        <a:pt x="1197" y="798"/>
                      </a:lnTo>
                      <a:lnTo>
                        <a:pt x="1214" y="794"/>
                      </a:lnTo>
                      <a:lnTo>
                        <a:pt x="1241" y="769"/>
                      </a:lnTo>
                      <a:lnTo>
                        <a:pt x="1245" y="742"/>
                      </a:lnTo>
                      <a:lnTo>
                        <a:pt x="1249" y="739"/>
                      </a:lnTo>
                      <a:lnTo>
                        <a:pt x="1272" y="735"/>
                      </a:lnTo>
                      <a:lnTo>
                        <a:pt x="1322" y="733"/>
                      </a:lnTo>
                      <a:lnTo>
                        <a:pt x="1328" y="729"/>
                      </a:lnTo>
                      <a:lnTo>
                        <a:pt x="1351" y="710"/>
                      </a:lnTo>
                      <a:lnTo>
                        <a:pt x="1364" y="694"/>
                      </a:lnTo>
                      <a:lnTo>
                        <a:pt x="1366" y="675"/>
                      </a:lnTo>
                      <a:lnTo>
                        <a:pt x="1354" y="669"/>
                      </a:lnTo>
                      <a:lnTo>
                        <a:pt x="1383" y="635"/>
                      </a:lnTo>
                      <a:lnTo>
                        <a:pt x="1406" y="637"/>
                      </a:lnTo>
                      <a:lnTo>
                        <a:pt x="1414" y="629"/>
                      </a:lnTo>
                      <a:lnTo>
                        <a:pt x="1422" y="623"/>
                      </a:lnTo>
                      <a:lnTo>
                        <a:pt x="1429" y="616"/>
                      </a:lnTo>
                      <a:lnTo>
                        <a:pt x="1435" y="610"/>
                      </a:lnTo>
                      <a:lnTo>
                        <a:pt x="1443" y="606"/>
                      </a:lnTo>
                      <a:lnTo>
                        <a:pt x="1450" y="600"/>
                      </a:lnTo>
                      <a:lnTo>
                        <a:pt x="1458" y="597"/>
                      </a:lnTo>
                      <a:lnTo>
                        <a:pt x="1468" y="595"/>
                      </a:lnTo>
                      <a:lnTo>
                        <a:pt x="1493" y="564"/>
                      </a:lnTo>
                      <a:lnTo>
                        <a:pt x="1550" y="516"/>
                      </a:lnTo>
                      <a:lnTo>
                        <a:pt x="1562" y="503"/>
                      </a:lnTo>
                      <a:lnTo>
                        <a:pt x="1571" y="493"/>
                      </a:lnTo>
                      <a:lnTo>
                        <a:pt x="1579" y="485"/>
                      </a:lnTo>
                      <a:lnTo>
                        <a:pt x="1585" y="478"/>
                      </a:lnTo>
                      <a:lnTo>
                        <a:pt x="1592" y="472"/>
                      </a:lnTo>
                      <a:lnTo>
                        <a:pt x="1598" y="466"/>
                      </a:lnTo>
                      <a:lnTo>
                        <a:pt x="1606" y="458"/>
                      </a:lnTo>
                      <a:lnTo>
                        <a:pt x="1615" y="449"/>
                      </a:lnTo>
                      <a:lnTo>
                        <a:pt x="1623" y="430"/>
                      </a:lnTo>
                      <a:lnTo>
                        <a:pt x="1646" y="403"/>
                      </a:lnTo>
                      <a:lnTo>
                        <a:pt x="1661" y="376"/>
                      </a:lnTo>
                      <a:lnTo>
                        <a:pt x="1696" y="351"/>
                      </a:lnTo>
                      <a:lnTo>
                        <a:pt x="1713" y="364"/>
                      </a:lnTo>
                      <a:lnTo>
                        <a:pt x="1725" y="349"/>
                      </a:lnTo>
                      <a:lnTo>
                        <a:pt x="1780" y="343"/>
                      </a:lnTo>
                      <a:lnTo>
                        <a:pt x="1788" y="341"/>
                      </a:lnTo>
                      <a:lnTo>
                        <a:pt x="1794" y="338"/>
                      </a:lnTo>
                      <a:lnTo>
                        <a:pt x="1798" y="334"/>
                      </a:lnTo>
                      <a:lnTo>
                        <a:pt x="1803" y="328"/>
                      </a:lnTo>
                      <a:lnTo>
                        <a:pt x="1807" y="324"/>
                      </a:lnTo>
                      <a:lnTo>
                        <a:pt x="1809" y="318"/>
                      </a:lnTo>
                      <a:lnTo>
                        <a:pt x="1813" y="311"/>
                      </a:lnTo>
                      <a:lnTo>
                        <a:pt x="1813" y="305"/>
                      </a:lnTo>
                      <a:lnTo>
                        <a:pt x="1842" y="292"/>
                      </a:lnTo>
                      <a:lnTo>
                        <a:pt x="1844" y="265"/>
                      </a:lnTo>
                      <a:lnTo>
                        <a:pt x="1848" y="263"/>
                      </a:lnTo>
                      <a:lnTo>
                        <a:pt x="1850" y="261"/>
                      </a:lnTo>
                      <a:lnTo>
                        <a:pt x="1853" y="259"/>
                      </a:lnTo>
                      <a:lnTo>
                        <a:pt x="1857" y="259"/>
                      </a:lnTo>
                      <a:lnTo>
                        <a:pt x="1861" y="257"/>
                      </a:lnTo>
                      <a:lnTo>
                        <a:pt x="1865" y="255"/>
                      </a:lnTo>
                      <a:lnTo>
                        <a:pt x="1867" y="253"/>
                      </a:lnTo>
                      <a:lnTo>
                        <a:pt x="1867" y="249"/>
                      </a:lnTo>
                      <a:lnTo>
                        <a:pt x="1867" y="244"/>
                      </a:lnTo>
                      <a:lnTo>
                        <a:pt x="1867" y="238"/>
                      </a:lnTo>
                      <a:lnTo>
                        <a:pt x="1865" y="234"/>
                      </a:lnTo>
                      <a:lnTo>
                        <a:pt x="1863" y="228"/>
                      </a:lnTo>
                      <a:lnTo>
                        <a:pt x="1861" y="223"/>
                      </a:lnTo>
                      <a:lnTo>
                        <a:pt x="1857" y="219"/>
                      </a:lnTo>
                      <a:lnTo>
                        <a:pt x="1851" y="213"/>
                      </a:lnTo>
                      <a:lnTo>
                        <a:pt x="1848" y="207"/>
                      </a:lnTo>
                      <a:lnTo>
                        <a:pt x="1850" y="184"/>
                      </a:lnTo>
                      <a:lnTo>
                        <a:pt x="1873" y="155"/>
                      </a:lnTo>
                      <a:lnTo>
                        <a:pt x="1888" y="148"/>
                      </a:lnTo>
                      <a:lnTo>
                        <a:pt x="1921" y="138"/>
                      </a:lnTo>
                      <a:lnTo>
                        <a:pt x="1953" y="121"/>
                      </a:lnTo>
                      <a:lnTo>
                        <a:pt x="1980" y="96"/>
                      </a:lnTo>
                      <a:lnTo>
                        <a:pt x="1986" y="84"/>
                      </a:lnTo>
                      <a:lnTo>
                        <a:pt x="1995" y="71"/>
                      </a:lnTo>
                      <a:lnTo>
                        <a:pt x="2001" y="73"/>
                      </a:lnTo>
                      <a:lnTo>
                        <a:pt x="2001" y="79"/>
                      </a:lnTo>
                      <a:lnTo>
                        <a:pt x="2003" y="88"/>
                      </a:lnTo>
                      <a:lnTo>
                        <a:pt x="2015" y="96"/>
                      </a:lnTo>
                      <a:lnTo>
                        <a:pt x="2032" y="82"/>
                      </a:lnTo>
                      <a:lnTo>
                        <a:pt x="2045" y="94"/>
                      </a:lnTo>
                      <a:lnTo>
                        <a:pt x="2053" y="100"/>
                      </a:lnTo>
                      <a:lnTo>
                        <a:pt x="2068" y="100"/>
                      </a:lnTo>
                      <a:lnTo>
                        <a:pt x="2068" y="86"/>
                      </a:lnTo>
                      <a:lnTo>
                        <a:pt x="2057" y="77"/>
                      </a:lnTo>
                      <a:lnTo>
                        <a:pt x="2059" y="58"/>
                      </a:lnTo>
                      <a:lnTo>
                        <a:pt x="2053" y="36"/>
                      </a:lnTo>
                      <a:lnTo>
                        <a:pt x="2057" y="25"/>
                      </a:lnTo>
                      <a:lnTo>
                        <a:pt x="2053" y="25"/>
                      </a:lnTo>
                      <a:lnTo>
                        <a:pt x="2045" y="10"/>
                      </a:lnTo>
                      <a:lnTo>
                        <a:pt x="2045" y="0"/>
                      </a:lnTo>
                      <a:lnTo>
                        <a:pt x="330" y="0"/>
                      </a:lnTo>
                      <a:close/>
                    </a:path>
                  </a:pathLst>
                </a:custGeom>
                <a:blipFill rotWithShape="0">
                  <a:blip r:embed="rId27"/>
                  <a:srcRect/>
                  <a:tile tx="0" ty="0" sx="100000" sy="100000" algn="ctr"/>
                </a:blip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007760" y="3910680"/>
                <a:ext cx="1449720" cy="2261160"/>
                <a:chOff x="7007760" y="3910680"/>
                <a:chExt cx="1449720" cy="22611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8246880" y="6099120"/>
                  <a:ext cx="75960" cy="72720"/>
                </a:xfrm>
                <a:prstGeom prst="ellipse">
                  <a:avLst/>
                </a:prstGeom>
                <a:blipFill rotWithShape="0">
                  <a:blip r:embed="rId28"/>
                  <a:srcRect/>
                  <a:tile tx="0" ty="0" sx="100000" sy="100000" algn="ctr"/>
                </a:blipFill>
                <a:ln w="3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8381880" y="6000840"/>
                  <a:ext cx="75600" cy="72720"/>
                </a:xfrm>
                <a:prstGeom prst="ellipse">
                  <a:avLst/>
                </a:prstGeom>
                <a:blipFill rotWithShape="0">
                  <a:blip r:embed="rId29"/>
                  <a:srcRect/>
                  <a:tile tx="0" ty="0" sx="100000" sy="100000" algn="ctr"/>
                </a:blipFill>
                <a:ln w="3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007760" y="4798080"/>
                  <a:ext cx="75960" cy="72720"/>
                </a:xfrm>
                <a:prstGeom prst="ellipse">
                  <a:avLst/>
                </a:prstGeom>
                <a:blipFill rotWithShape="0">
                  <a:blip r:embed="rId30"/>
                  <a:srcRect/>
                  <a:tile tx="0" ty="0" sx="100000" sy="100000" algn="ctr"/>
                </a:blipFill>
                <a:ln w="3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72240" y="3910680"/>
                  <a:ext cx="75600" cy="72720"/>
                </a:xfrm>
                <a:prstGeom prst="ellipse">
                  <a:avLst/>
                </a:prstGeom>
                <a:blipFill rotWithShape="0">
                  <a:blip r:embed="rId31"/>
                  <a:srcRect/>
                  <a:tile tx="0" ty="0" sx="100000" sy="100000" algn="ctr"/>
                </a:blipFill>
                <a:ln w="3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4463280" y="3185640"/>
                <a:ext cx="409680" cy="435240"/>
                <a:chOff x="4463280" y="3185640"/>
                <a:chExt cx="409680" cy="4352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573080" y="3476880"/>
                  <a:ext cx="75600" cy="73080"/>
                </a:xfrm>
                <a:prstGeom prst="ellipse">
                  <a:avLst/>
                </a:prstGeom>
                <a:blipFill rotWithShape="0">
                  <a:blip r:embed="rId32"/>
                  <a:srcRect/>
                  <a:tile tx="0" ty="0" sx="100000" sy="100000" algn="ctr"/>
                </a:blipFill>
                <a:ln w="3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691880" y="3483360"/>
                  <a:ext cx="75240" cy="72720"/>
                </a:xfrm>
                <a:prstGeom prst="ellipse">
                  <a:avLst/>
                </a:prstGeom>
                <a:blipFill rotWithShape="0">
                  <a:blip r:embed="rId33"/>
                  <a:srcRect/>
                  <a:tile tx="0" ty="0" sx="100000" sy="100000" algn="ctr"/>
                </a:blipFill>
                <a:ln w="3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797720" y="3185640"/>
                  <a:ext cx="75240" cy="72720"/>
                </a:xfrm>
                <a:prstGeom prst="ellipse">
                  <a:avLst/>
                </a:prstGeom>
                <a:blipFill rotWithShape="0">
                  <a:blip r:embed="rId34"/>
                  <a:srcRect/>
                  <a:tile tx="0" ty="0" sx="100000" sy="100000" algn="ctr"/>
                </a:blipFill>
                <a:ln w="3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620600" y="3354120"/>
                  <a:ext cx="75600" cy="72720"/>
                </a:xfrm>
                <a:prstGeom prst="ellipse">
                  <a:avLst/>
                </a:prstGeom>
                <a:blipFill rotWithShape="0">
                  <a:blip r:embed="rId35"/>
                  <a:srcRect/>
                  <a:tile tx="0" ty="0" sx="100000" sy="100000" algn="ctr"/>
                </a:blipFill>
                <a:ln w="3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476240" y="3547800"/>
                  <a:ext cx="75240" cy="73080"/>
                </a:xfrm>
                <a:prstGeom prst="ellipse">
                  <a:avLst/>
                </a:prstGeom>
                <a:blipFill rotWithShape="0">
                  <a:blip r:embed="rId36"/>
                  <a:srcRect/>
                  <a:tile tx="0" ty="0" sx="100000" sy="100000" algn="ctr"/>
                </a:blipFill>
                <a:ln w="3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463280" y="3412800"/>
                  <a:ext cx="75600" cy="72720"/>
                </a:xfrm>
                <a:prstGeom prst="ellipse">
                  <a:avLst/>
                </a:prstGeom>
                <a:blipFill rotWithShape="0">
                  <a:blip r:embed="rId37"/>
                  <a:srcRect/>
                  <a:tile tx="0" ty="0" sx="100000" sy="100000" algn="ctr"/>
                </a:blipFill>
                <a:ln w="3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3871800" y="2743200"/>
                <a:ext cx="555840" cy="593640"/>
              </a:xfrm>
              <a:custGeom>
                <a:avLst/>
                <a:gdLst/>
                <a:ahLst/>
                <a:rect l="l" t="t" r="r" b="b"/>
                <a:pathLst>
                  <a:path w="186" h="182">
                    <a:moveTo>
                      <a:pt x="186" y="0"/>
                    </a:moveTo>
                    <a:lnTo>
                      <a:pt x="103" y="69"/>
                    </a:lnTo>
                    <a:lnTo>
                      <a:pt x="45" y="130"/>
                    </a:lnTo>
                    <a:lnTo>
                      <a:pt x="0" y="182"/>
                    </a:lnTo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1260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7086600" y="3530520"/>
              <a:ext cx="1905120" cy="1006560"/>
            </a:xfrm>
            <a:prstGeom prst="rect">
              <a:avLst/>
            </a:prstGeom>
            <a:solidFill>
              <a:srgbClr val="ddf3f3">
                <a:alpha val="50000"/>
              </a:srgbClr>
            </a:solidFill>
            <a:ln w="9360">
              <a:solidFill>
                <a:srgbClr val="d1d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43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Japan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: Toky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43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Australia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: Melbour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43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Syd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43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Hong Ko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43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Singap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5524560" y="898560"/>
            <a:ext cx="344520" cy="430200"/>
          </a:xfrm>
          <a:custGeom>
            <a:avLst/>
            <a:gdLst/>
            <a:ahLst/>
            <a:rect l="l" t="t" r="r" b="b"/>
            <a:pathLst>
              <a:path w="186" h="182">
                <a:moveTo>
                  <a:pt x="186" y="0"/>
                </a:moveTo>
                <a:lnTo>
                  <a:pt x="103" y="69"/>
                </a:lnTo>
                <a:lnTo>
                  <a:pt x="45" y="130"/>
                </a:lnTo>
                <a:lnTo>
                  <a:pt x="0" y="182"/>
                </a:lnTo>
              </a:path>
            </a:pathLst>
          </a:custGeom>
          <a:noFill/>
          <a:ln w="1260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Infosys 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MS PGothic"/>
              </a:rPr>
              <a:t>in Asia Pacific Today - Snapsho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1700280"/>
            <a:ext cx="6629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rmAutofit/>
          </a:bodyPr>
          <a:p>
            <a:pPr marL="230040" indent="-230040">
              <a:spcBef>
                <a:spcPts val="400"/>
              </a:spcBef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otal Revenues / Head Count / Off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34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~7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 of company reven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34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fic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 (excluding offices in Ind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34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roximate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9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mployees working for APAC Cl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2001"/>
              </a:spcBef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34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From Japa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- Japan and Ko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34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From Hong Kong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- Hong Kong, Taiwan and Ch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34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From Singapore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- ASEAN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34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From Australi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- Australia and New Zea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2001"/>
              </a:spcBef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MS PGothic"/>
              </a:rPr>
              <a:t>Year of start for off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34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Japan 19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34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Australia 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34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Hong Kong 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34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Singapore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30644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Arial"/>
              </a:rPr>
              <a:t>Infosys APAC has grown rapidly in the past 2 years through new account acquisition….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11280" y="2552760"/>
          <a:ext cx="4037040" cy="358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552760"/>
                    <a:ext cx="4037040" cy="35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952880" y="2492280"/>
          <a:ext cx="3665520" cy="3726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2492280"/>
                    <a:ext cx="3665520" cy="37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5638680" y="3124080"/>
            <a:ext cx="2286000" cy="45720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cc"/>
                </a:solidFill>
                <a:latin typeface="Arial"/>
              </a:rPr>
              <a:t>28 client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cc"/>
                </a:solidFill>
                <a:latin typeface="Arial"/>
              </a:rPr>
              <a:t>FY 2001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Infosys APAC Revenue Split for 2001-2002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2666880" cy="752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867280" y="3573360"/>
            <a:ext cx="2819520" cy="490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877080" y="2781360"/>
            <a:ext cx="1771560" cy="4795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5257800" y="2743200"/>
            <a:ext cx="1295280" cy="53352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5076720" y="4191120"/>
            <a:ext cx="2161800" cy="406080"/>
            <a:chOff x="5076720" y="4191120"/>
            <a:chExt cx="2161800" cy="406080"/>
          </a:xfrm>
        </p:grpSpPr>
        <p:sp>
          <p:nvSpPr>
            <p:cNvPr id="173" name=""/>
            <p:cNvSpPr/>
            <p:nvPr/>
          </p:nvSpPr>
          <p:spPr>
            <a:xfrm>
              <a:off x="6407640" y="4205520"/>
              <a:ext cx="218880" cy="273960"/>
            </a:xfrm>
            <a:custGeom>
              <a:avLst/>
              <a:gdLst/>
              <a:ahLst/>
              <a:rect l="l" t="t" r="r" b="b"/>
              <a:pathLst>
                <a:path w="93" h="149">
                  <a:moveTo>
                    <a:pt x="5" y="35"/>
                  </a:moveTo>
                  <a:lnTo>
                    <a:pt x="8" y="35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8" y="35"/>
                  </a:lnTo>
                  <a:lnTo>
                    <a:pt x="21" y="35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3" y="32"/>
                  </a:lnTo>
                  <a:lnTo>
                    <a:pt x="23" y="29"/>
                  </a:lnTo>
                  <a:lnTo>
                    <a:pt x="23" y="27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5" y="17"/>
                  </a:lnTo>
                  <a:lnTo>
                    <a:pt x="25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8" y="2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6" y="0"/>
                  </a:lnTo>
                  <a:lnTo>
                    <a:pt x="76" y="1"/>
                  </a:lnTo>
                  <a:lnTo>
                    <a:pt x="76" y="2"/>
                  </a:lnTo>
                  <a:lnTo>
                    <a:pt x="75" y="5"/>
                  </a:lnTo>
                  <a:lnTo>
                    <a:pt x="75" y="7"/>
                  </a:lnTo>
                  <a:lnTo>
                    <a:pt x="74" y="10"/>
                  </a:lnTo>
                  <a:lnTo>
                    <a:pt x="74" y="14"/>
                  </a:lnTo>
                  <a:lnTo>
                    <a:pt x="74" y="17"/>
                  </a:lnTo>
                  <a:lnTo>
                    <a:pt x="73" y="21"/>
                  </a:lnTo>
                  <a:lnTo>
                    <a:pt x="71" y="23"/>
                  </a:lnTo>
                  <a:lnTo>
                    <a:pt x="70" y="27"/>
                  </a:lnTo>
                  <a:lnTo>
                    <a:pt x="70" y="29"/>
                  </a:lnTo>
                  <a:lnTo>
                    <a:pt x="69" y="32"/>
                  </a:lnTo>
                  <a:lnTo>
                    <a:pt x="69" y="34"/>
                  </a:lnTo>
                  <a:lnTo>
                    <a:pt x="69" y="35"/>
                  </a:lnTo>
                  <a:lnTo>
                    <a:pt x="70" y="35"/>
                  </a:lnTo>
                  <a:lnTo>
                    <a:pt x="71" y="35"/>
                  </a:lnTo>
                  <a:lnTo>
                    <a:pt x="74" y="35"/>
                  </a:lnTo>
                  <a:lnTo>
                    <a:pt x="75" y="35"/>
                  </a:lnTo>
                  <a:lnTo>
                    <a:pt x="77" y="35"/>
                  </a:lnTo>
                  <a:lnTo>
                    <a:pt x="78" y="35"/>
                  </a:lnTo>
                  <a:lnTo>
                    <a:pt x="81" y="35"/>
                  </a:lnTo>
                  <a:lnTo>
                    <a:pt x="82" y="35"/>
                  </a:lnTo>
                  <a:lnTo>
                    <a:pt x="84" y="35"/>
                  </a:lnTo>
                  <a:lnTo>
                    <a:pt x="87" y="35"/>
                  </a:lnTo>
                  <a:lnTo>
                    <a:pt x="88" y="35"/>
                  </a:lnTo>
                  <a:lnTo>
                    <a:pt x="90" y="35"/>
                  </a:lnTo>
                  <a:lnTo>
                    <a:pt x="91" y="35"/>
                  </a:lnTo>
                  <a:lnTo>
                    <a:pt x="92" y="35"/>
                  </a:lnTo>
                  <a:lnTo>
                    <a:pt x="91" y="35"/>
                  </a:lnTo>
                  <a:lnTo>
                    <a:pt x="91" y="36"/>
                  </a:lnTo>
                  <a:lnTo>
                    <a:pt x="91" y="38"/>
                  </a:lnTo>
                  <a:lnTo>
                    <a:pt x="91" y="39"/>
                  </a:lnTo>
                  <a:lnTo>
                    <a:pt x="91" y="42"/>
                  </a:lnTo>
                  <a:lnTo>
                    <a:pt x="90" y="44"/>
                  </a:lnTo>
                  <a:lnTo>
                    <a:pt x="90" y="47"/>
                  </a:lnTo>
                  <a:lnTo>
                    <a:pt x="89" y="50"/>
                  </a:lnTo>
                  <a:lnTo>
                    <a:pt x="88" y="52"/>
                  </a:lnTo>
                  <a:lnTo>
                    <a:pt x="88" y="56"/>
                  </a:lnTo>
                  <a:lnTo>
                    <a:pt x="87" y="58"/>
                  </a:lnTo>
                  <a:lnTo>
                    <a:pt x="87" y="60"/>
                  </a:lnTo>
                  <a:lnTo>
                    <a:pt x="87" y="62"/>
                  </a:lnTo>
                  <a:lnTo>
                    <a:pt x="87" y="64"/>
                  </a:lnTo>
                  <a:lnTo>
                    <a:pt x="87" y="65"/>
                  </a:lnTo>
                  <a:lnTo>
                    <a:pt x="86" y="65"/>
                  </a:lnTo>
                  <a:lnTo>
                    <a:pt x="84" y="65"/>
                  </a:lnTo>
                  <a:lnTo>
                    <a:pt x="83" y="65"/>
                  </a:lnTo>
                  <a:lnTo>
                    <a:pt x="82" y="65"/>
                  </a:lnTo>
                  <a:lnTo>
                    <a:pt x="81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4" y="65"/>
                  </a:lnTo>
                  <a:lnTo>
                    <a:pt x="70" y="65"/>
                  </a:lnTo>
                  <a:lnTo>
                    <a:pt x="69" y="65"/>
                  </a:lnTo>
                  <a:lnTo>
                    <a:pt x="67" y="65"/>
                  </a:lnTo>
                  <a:lnTo>
                    <a:pt x="66" y="65"/>
                  </a:lnTo>
                  <a:lnTo>
                    <a:pt x="65" y="65"/>
                  </a:lnTo>
                  <a:lnTo>
                    <a:pt x="64" y="65"/>
                  </a:lnTo>
                  <a:lnTo>
                    <a:pt x="64" y="66"/>
                  </a:lnTo>
                  <a:lnTo>
                    <a:pt x="64" y="69"/>
                  </a:lnTo>
                  <a:lnTo>
                    <a:pt x="63" y="71"/>
                  </a:lnTo>
                  <a:lnTo>
                    <a:pt x="62" y="73"/>
                  </a:lnTo>
                  <a:lnTo>
                    <a:pt x="62" y="77"/>
                  </a:lnTo>
                  <a:lnTo>
                    <a:pt x="61" y="80"/>
                  </a:lnTo>
                  <a:lnTo>
                    <a:pt x="61" y="84"/>
                  </a:lnTo>
                  <a:lnTo>
                    <a:pt x="60" y="86"/>
                  </a:lnTo>
                  <a:lnTo>
                    <a:pt x="58" y="90"/>
                  </a:lnTo>
                  <a:lnTo>
                    <a:pt x="58" y="93"/>
                  </a:lnTo>
                  <a:lnTo>
                    <a:pt x="57" y="95"/>
                  </a:lnTo>
                  <a:lnTo>
                    <a:pt x="56" y="98"/>
                  </a:lnTo>
                  <a:lnTo>
                    <a:pt x="56" y="101"/>
                  </a:lnTo>
                  <a:lnTo>
                    <a:pt x="56" y="102"/>
                  </a:lnTo>
                  <a:lnTo>
                    <a:pt x="56" y="103"/>
                  </a:lnTo>
                  <a:lnTo>
                    <a:pt x="56" y="105"/>
                  </a:lnTo>
                  <a:lnTo>
                    <a:pt x="56" y="106"/>
                  </a:lnTo>
                  <a:lnTo>
                    <a:pt x="56" y="107"/>
                  </a:lnTo>
                  <a:lnTo>
                    <a:pt x="56" y="108"/>
                  </a:lnTo>
                  <a:lnTo>
                    <a:pt x="56" y="109"/>
                  </a:lnTo>
                  <a:lnTo>
                    <a:pt x="56" y="110"/>
                  </a:lnTo>
                  <a:lnTo>
                    <a:pt x="56" y="111"/>
                  </a:lnTo>
                  <a:lnTo>
                    <a:pt x="57" y="112"/>
                  </a:lnTo>
                  <a:lnTo>
                    <a:pt x="58" y="113"/>
                  </a:lnTo>
                  <a:lnTo>
                    <a:pt x="60" y="113"/>
                  </a:lnTo>
                  <a:lnTo>
                    <a:pt x="61" y="114"/>
                  </a:lnTo>
                  <a:lnTo>
                    <a:pt x="62" y="114"/>
                  </a:lnTo>
                  <a:lnTo>
                    <a:pt x="63" y="114"/>
                  </a:lnTo>
                  <a:lnTo>
                    <a:pt x="64" y="114"/>
                  </a:lnTo>
                  <a:lnTo>
                    <a:pt x="65" y="114"/>
                  </a:lnTo>
                  <a:lnTo>
                    <a:pt x="66" y="114"/>
                  </a:lnTo>
                  <a:lnTo>
                    <a:pt x="67" y="114"/>
                  </a:lnTo>
                  <a:lnTo>
                    <a:pt x="68" y="114"/>
                  </a:lnTo>
                  <a:lnTo>
                    <a:pt x="69" y="114"/>
                  </a:lnTo>
                  <a:lnTo>
                    <a:pt x="70" y="114"/>
                  </a:lnTo>
                  <a:lnTo>
                    <a:pt x="73" y="114"/>
                  </a:lnTo>
                  <a:lnTo>
                    <a:pt x="74" y="114"/>
                  </a:lnTo>
                  <a:lnTo>
                    <a:pt x="75" y="114"/>
                  </a:lnTo>
                  <a:lnTo>
                    <a:pt x="77" y="114"/>
                  </a:lnTo>
                  <a:lnTo>
                    <a:pt x="76" y="114"/>
                  </a:lnTo>
                  <a:lnTo>
                    <a:pt x="76" y="115"/>
                  </a:lnTo>
                  <a:lnTo>
                    <a:pt x="76" y="117"/>
                  </a:lnTo>
                  <a:lnTo>
                    <a:pt x="76" y="119"/>
                  </a:lnTo>
                  <a:lnTo>
                    <a:pt x="75" y="122"/>
                  </a:lnTo>
                  <a:lnTo>
                    <a:pt x="75" y="124"/>
                  </a:lnTo>
                  <a:lnTo>
                    <a:pt x="74" y="127"/>
                  </a:lnTo>
                  <a:lnTo>
                    <a:pt x="74" y="130"/>
                  </a:lnTo>
                  <a:lnTo>
                    <a:pt x="74" y="133"/>
                  </a:lnTo>
                  <a:lnTo>
                    <a:pt x="73" y="136"/>
                  </a:lnTo>
                  <a:lnTo>
                    <a:pt x="73" y="138"/>
                  </a:lnTo>
                  <a:lnTo>
                    <a:pt x="71" y="140"/>
                  </a:lnTo>
                  <a:lnTo>
                    <a:pt x="71" y="143"/>
                  </a:lnTo>
                  <a:lnTo>
                    <a:pt x="71" y="145"/>
                  </a:lnTo>
                  <a:lnTo>
                    <a:pt x="71" y="147"/>
                  </a:lnTo>
                  <a:lnTo>
                    <a:pt x="68" y="147"/>
                  </a:lnTo>
                  <a:lnTo>
                    <a:pt x="65" y="147"/>
                  </a:lnTo>
                  <a:lnTo>
                    <a:pt x="64" y="147"/>
                  </a:lnTo>
                  <a:lnTo>
                    <a:pt x="61" y="147"/>
                  </a:lnTo>
                  <a:lnTo>
                    <a:pt x="60" y="147"/>
                  </a:lnTo>
                  <a:lnTo>
                    <a:pt x="56" y="147"/>
                  </a:lnTo>
                  <a:lnTo>
                    <a:pt x="55" y="147"/>
                  </a:lnTo>
                  <a:lnTo>
                    <a:pt x="53" y="147"/>
                  </a:lnTo>
                  <a:lnTo>
                    <a:pt x="52" y="147"/>
                  </a:lnTo>
                  <a:lnTo>
                    <a:pt x="51" y="147"/>
                  </a:lnTo>
                  <a:lnTo>
                    <a:pt x="50" y="147"/>
                  </a:lnTo>
                  <a:lnTo>
                    <a:pt x="48" y="147"/>
                  </a:lnTo>
                  <a:lnTo>
                    <a:pt x="47" y="147"/>
                  </a:lnTo>
                  <a:lnTo>
                    <a:pt x="45" y="147"/>
                  </a:lnTo>
                  <a:lnTo>
                    <a:pt x="44" y="147"/>
                  </a:lnTo>
                  <a:lnTo>
                    <a:pt x="44" y="148"/>
                  </a:lnTo>
                  <a:lnTo>
                    <a:pt x="41" y="147"/>
                  </a:lnTo>
                  <a:lnTo>
                    <a:pt x="38" y="147"/>
                  </a:lnTo>
                  <a:lnTo>
                    <a:pt x="37" y="147"/>
                  </a:lnTo>
                  <a:lnTo>
                    <a:pt x="34" y="147"/>
                  </a:lnTo>
                  <a:lnTo>
                    <a:pt x="31" y="147"/>
                  </a:lnTo>
                  <a:lnTo>
                    <a:pt x="29" y="147"/>
                  </a:lnTo>
                  <a:lnTo>
                    <a:pt x="28" y="147"/>
                  </a:lnTo>
                  <a:lnTo>
                    <a:pt x="25" y="147"/>
                  </a:lnTo>
                  <a:lnTo>
                    <a:pt x="24" y="147"/>
                  </a:lnTo>
                  <a:lnTo>
                    <a:pt x="23" y="145"/>
                  </a:lnTo>
                  <a:lnTo>
                    <a:pt x="21" y="145"/>
                  </a:lnTo>
                  <a:lnTo>
                    <a:pt x="19" y="145"/>
                  </a:lnTo>
                  <a:lnTo>
                    <a:pt x="18" y="145"/>
                  </a:lnTo>
                  <a:lnTo>
                    <a:pt x="16" y="144"/>
                  </a:lnTo>
                  <a:lnTo>
                    <a:pt x="16" y="143"/>
                  </a:lnTo>
                  <a:lnTo>
                    <a:pt x="15" y="143"/>
                  </a:lnTo>
                  <a:lnTo>
                    <a:pt x="14" y="143"/>
                  </a:lnTo>
                  <a:lnTo>
                    <a:pt x="12" y="141"/>
                  </a:lnTo>
                  <a:lnTo>
                    <a:pt x="12" y="140"/>
                  </a:lnTo>
                  <a:lnTo>
                    <a:pt x="10" y="140"/>
                  </a:lnTo>
                  <a:lnTo>
                    <a:pt x="10" y="138"/>
                  </a:lnTo>
                  <a:lnTo>
                    <a:pt x="8" y="137"/>
                  </a:lnTo>
                  <a:lnTo>
                    <a:pt x="8" y="136"/>
                  </a:lnTo>
                  <a:lnTo>
                    <a:pt x="6" y="136"/>
                  </a:lnTo>
                  <a:lnTo>
                    <a:pt x="6" y="134"/>
                  </a:lnTo>
                  <a:lnTo>
                    <a:pt x="5" y="133"/>
                  </a:lnTo>
                  <a:lnTo>
                    <a:pt x="5" y="132"/>
                  </a:lnTo>
                  <a:lnTo>
                    <a:pt x="5" y="131"/>
                  </a:lnTo>
                  <a:lnTo>
                    <a:pt x="5" y="129"/>
                  </a:lnTo>
                  <a:lnTo>
                    <a:pt x="5" y="127"/>
                  </a:lnTo>
                  <a:lnTo>
                    <a:pt x="5" y="126"/>
                  </a:lnTo>
                  <a:lnTo>
                    <a:pt x="5" y="125"/>
                  </a:lnTo>
                  <a:lnTo>
                    <a:pt x="5" y="124"/>
                  </a:lnTo>
                  <a:lnTo>
                    <a:pt x="5" y="123"/>
                  </a:lnTo>
                  <a:lnTo>
                    <a:pt x="5" y="122"/>
                  </a:lnTo>
                  <a:lnTo>
                    <a:pt x="6" y="120"/>
                  </a:lnTo>
                  <a:lnTo>
                    <a:pt x="6" y="119"/>
                  </a:lnTo>
                  <a:lnTo>
                    <a:pt x="6" y="118"/>
                  </a:lnTo>
                  <a:lnTo>
                    <a:pt x="6" y="117"/>
                  </a:lnTo>
                  <a:lnTo>
                    <a:pt x="8" y="115"/>
                  </a:lnTo>
                  <a:lnTo>
                    <a:pt x="8" y="114"/>
                  </a:lnTo>
                  <a:lnTo>
                    <a:pt x="8" y="112"/>
                  </a:lnTo>
                  <a:lnTo>
                    <a:pt x="8" y="110"/>
                  </a:lnTo>
                  <a:lnTo>
                    <a:pt x="8" y="109"/>
                  </a:lnTo>
                  <a:lnTo>
                    <a:pt x="8" y="108"/>
                  </a:lnTo>
                  <a:lnTo>
                    <a:pt x="8" y="106"/>
                  </a:lnTo>
                  <a:lnTo>
                    <a:pt x="8" y="105"/>
                  </a:lnTo>
                  <a:lnTo>
                    <a:pt x="10" y="101"/>
                  </a:lnTo>
                  <a:lnTo>
                    <a:pt x="10" y="98"/>
                  </a:lnTo>
                  <a:lnTo>
                    <a:pt x="11" y="95"/>
                  </a:lnTo>
                  <a:lnTo>
                    <a:pt x="12" y="90"/>
                  </a:lnTo>
                  <a:lnTo>
                    <a:pt x="12" y="86"/>
                  </a:lnTo>
                  <a:lnTo>
                    <a:pt x="12" y="82"/>
                  </a:lnTo>
                  <a:lnTo>
                    <a:pt x="14" y="78"/>
                  </a:lnTo>
                  <a:lnTo>
                    <a:pt x="14" y="75"/>
                  </a:lnTo>
                  <a:lnTo>
                    <a:pt x="15" y="72"/>
                  </a:lnTo>
                  <a:lnTo>
                    <a:pt x="16" y="69"/>
                  </a:lnTo>
                  <a:lnTo>
                    <a:pt x="16" y="67"/>
                  </a:lnTo>
                  <a:lnTo>
                    <a:pt x="16" y="65"/>
                  </a:lnTo>
                  <a:lnTo>
                    <a:pt x="15" y="65"/>
                  </a:lnTo>
                  <a:lnTo>
                    <a:pt x="14" y="65"/>
                  </a:lnTo>
                  <a:lnTo>
                    <a:pt x="12" y="65"/>
                  </a:lnTo>
                  <a:lnTo>
                    <a:pt x="11" y="65"/>
                  </a:lnTo>
                  <a:lnTo>
                    <a:pt x="10" y="65"/>
                  </a:lnTo>
                  <a:lnTo>
                    <a:pt x="8" y="65"/>
                  </a:lnTo>
                  <a:lnTo>
                    <a:pt x="6" y="65"/>
                  </a:lnTo>
                  <a:lnTo>
                    <a:pt x="5" y="65"/>
                  </a:lnTo>
                  <a:lnTo>
                    <a:pt x="3" y="65"/>
                  </a:lnTo>
                  <a:lnTo>
                    <a:pt x="2" y="65"/>
                  </a:lnTo>
                  <a:lnTo>
                    <a:pt x="1" y="65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1" y="58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2" y="50"/>
                  </a:lnTo>
                  <a:lnTo>
                    <a:pt x="2" y="47"/>
                  </a:lnTo>
                  <a:lnTo>
                    <a:pt x="3" y="44"/>
                  </a:lnTo>
                  <a:lnTo>
                    <a:pt x="3" y="42"/>
                  </a:lnTo>
                  <a:lnTo>
                    <a:pt x="3" y="39"/>
                  </a:lnTo>
                  <a:lnTo>
                    <a:pt x="3" y="38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5" y="35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61280" y="4194720"/>
              <a:ext cx="129600" cy="11016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41" y="46"/>
                  </a:moveTo>
                  <a:lnTo>
                    <a:pt x="0" y="46"/>
                  </a:lnTo>
                  <a:lnTo>
                    <a:pt x="0" y="47"/>
                  </a:lnTo>
                  <a:lnTo>
                    <a:pt x="6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54" y="1"/>
                  </a:lnTo>
                  <a:lnTo>
                    <a:pt x="44" y="59"/>
                  </a:lnTo>
                  <a:lnTo>
                    <a:pt x="41" y="46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40200" y="4413600"/>
              <a:ext cx="115200" cy="6408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48" y="1"/>
                  </a:moveTo>
                  <a:lnTo>
                    <a:pt x="44" y="27"/>
                  </a:lnTo>
                  <a:lnTo>
                    <a:pt x="44" y="28"/>
                  </a:lnTo>
                  <a:lnTo>
                    <a:pt x="43" y="28"/>
                  </a:lnTo>
                  <a:lnTo>
                    <a:pt x="43" y="30"/>
                  </a:lnTo>
                  <a:lnTo>
                    <a:pt x="43" y="31"/>
                  </a:lnTo>
                  <a:lnTo>
                    <a:pt x="42" y="31"/>
                  </a:lnTo>
                  <a:lnTo>
                    <a:pt x="41" y="32"/>
                  </a:lnTo>
                  <a:lnTo>
                    <a:pt x="39" y="32"/>
                  </a:lnTo>
                  <a:lnTo>
                    <a:pt x="39" y="33"/>
                  </a:lnTo>
                  <a:lnTo>
                    <a:pt x="38" y="33"/>
                  </a:lnTo>
                  <a:lnTo>
                    <a:pt x="37" y="33"/>
                  </a:lnTo>
                  <a:lnTo>
                    <a:pt x="37" y="34"/>
                  </a:lnTo>
                  <a:lnTo>
                    <a:pt x="36" y="34"/>
                  </a:lnTo>
                  <a:lnTo>
                    <a:pt x="35" y="34"/>
                  </a:lnTo>
                  <a:lnTo>
                    <a:pt x="34" y="34"/>
                  </a:lnTo>
                  <a:lnTo>
                    <a:pt x="33" y="34"/>
                  </a:lnTo>
                  <a:lnTo>
                    <a:pt x="35" y="34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6" y="0"/>
                  </a:lnTo>
                  <a:lnTo>
                    <a:pt x="48" y="1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30840" y="4266360"/>
              <a:ext cx="249840" cy="210960"/>
            </a:xfrm>
            <a:custGeom>
              <a:avLst/>
              <a:gdLst/>
              <a:ahLst/>
              <a:rect l="l" t="t" r="r" b="b"/>
              <a:pathLst>
                <a:path w="106" h="115">
                  <a:moveTo>
                    <a:pt x="19" y="3"/>
                  </a:moveTo>
                  <a:lnTo>
                    <a:pt x="22" y="3"/>
                  </a:lnTo>
                  <a:lnTo>
                    <a:pt x="23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3"/>
                  </a:lnTo>
                  <a:lnTo>
                    <a:pt x="36" y="3"/>
                  </a:lnTo>
                  <a:lnTo>
                    <a:pt x="40" y="3"/>
                  </a:lnTo>
                  <a:lnTo>
                    <a:pt x="44" y="3"/>
                  </a:lnTo>
                  <a:lnTo>
                    <a:pt x="49" y="3"/>
                  </a:lnTo>
                  <a:lnTo>
                    <a:pt x="51" y="3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0" y="3"/>
                  </a:lnTo>
                  <a:lnTo>
                    <a:pt x="61" y="3"/>
                  </a:lnTo>
                  <a:lnTo>
                    <a:pt x="63" y="3"/>
                  </a:lnTo>
                  <a:lnTo>
                    <a:pt x="61" y="3"/>
                  </a:lnTo>
                  <a:lnTo>
                    <a:pt x="61" y="4"/>
                  </a:lnTo>
                  <a:lnTo>
                    <a:pt x="61" y="5"/>
                  </a:lnTo>
                  <a:lnTo>
                    <a:pt x="61" y="7"/>
                  </a:lnTo>
                  <a:lnTo>
                    <a:pt x="61" y="8"/>
                  </a:lnTo>
                  <a:lnTo>
                    <a:pt x="61" y="10"/>
                  </a:lnTo>
                  <a:lnTo>
                    <a:pt x="60" y="12"/>
                  </a:lnTo>
                  <a:lnTo>
                    <a:pt x="60" y="15"/>
                  </a:lnTo>
                  <a:lnTo>
                    <a:pt x="60" y="16"/>
                  </a:lnTo>
                  <a:lnTo>
                    <a:pt x="58" y="19"/>
                  </a:lnTo>
                  <a:lnTo>
                    <a:pt x="58" y="20"/>
                  </a:lnTo>
                  <a:lnTo>
                    <a:pt x="58" y="22"/>
                  </a:lnTo>
                  <a:lnTo>
                    <a:pt x="58" y="24"/>
                  </a:lnTo>
                  <a:lnTo>
                    <a:pt x="58" y="25"/>
                  </a:lnTo>
                  <a:lnTo>
                    <a:pt x="58" y="26"/>
                  </a:lnTo>
                  <a:lnTo>
                    <a:pt x="61" y="23"/>
                  </a:lnTo>
                  <a:lnTo>
                    <a:pt x="63" y="20"/>
                  </a:lnTo>
                  <a:lnTo>
                    <a:pt x="64" y="16"/>
                  </a:lnTo>
                  <a:lnTo>
                    <a:pt x="67" y="14"/>
                  </a:lnTo>
                  <a:lnTo>
                    <a:pt x="68" y="11"/>
                  </a:lnTo>
                  <a:lnTo>
                    <a:pt x="71" y="10"/>
                  </a:lnTo>
                  <a:lnTo>
                    <a:pt x="74" y="7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1" y="3"/>
                  </a:lnTo>
                  <a:lnTo>
                    <a:pt x="84" y="3"/>
                  </a:lnTo>
                  <a:lnTo>
                    <a:pt x="87" y="2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1" y="1"/>
                  </a:lnTo>
                  <a:lnTo>
                    <a:pt x="102" y="1"/>
                  </a:lnTo>
                  <a:lnTo>
                    <a:pt x="103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4" y="1"/>
                  </a:lnTo>
                  <a:lnTo>
                    <a:pt x="104" y="3"/>
                  </a:lnTo>
                  <a:lnTo>
                    <a:pt x="104" y="4"/>
                  </a:lnTo>
                  <a:lnTo>
                    <a:pt x="104" y="7"/>
                  </a:lnTo>
                  <a:lnTo>
                    <a:pt x="103" y="11"/>
                  </a:lnTo>
                  <a:lnTo>
                    <a:pt x="102" y="15"/>
                  </a:lnTo>
                  <a:lnTo>
                    <a:pt x="101" y="18"/>
                  </a:lnTo>
                  <a:lnTo>
                    <a:pt x="101" y="23"/>
                  </a:lnTo>
                  <a:lnTo>
                    <a:pt x="100" y="27"/>
                  </a:lnTo>
                  <a:lnTo>
                    <a:pt x="100" y="30"/>
                  </a:lnTo>
                  <a:lnTo>
                    <a:pt x="99" y="34"/>
                  </a:lnTo>
                  <a:lnTo>
                    <a:pt x="97" y="37"/>
                  </a:lnTo>
                  <a:lnTo>
                    <a:pt x="96" y="40"/>
                  </a:lnTo>
                  <a:lnTo>
                    <a:pt x="96" y="42"/>
                  </a:lnTo>
                  <a:lnTo>
                    <a:pt x="96" y="44"/>
                  </a:lnTo>
                  <a:lnTo>
                    <a:pt x="96" y="45"/>
                  </a:lnTo>
                  <a:lnTo>
                    <a:pt x="95" y="45"/>
                  </a:lnTo>
                  <a:lnTo>
                    <a:pt x="94" y="45"/>
                  </a:lnTo>
                  <a:lnTo>
                    <a:pt x="93" y="45"/>
                  </a:lnTo>
                  <a:lnTo>
                    <a:pt x="92" y="45"/>
                  </a:lnTo>
                  <a:lnTo>
                    <a:pt x="91" y="45"/>
                  </a:lnTo>
                  <a:lnTo>
                    <a:pt x="90" y="45"/>
                  </a:lnTo>
                  <a:lnTo>
                    <a:pt x="89" y="45"/>
                  </a:lnTo>
                  <a:lnTo>
                    <a:pt x="88" y="45"/>
                  </a:lnTo>
                  <a:lnTo>
                    <a:pt x="87" y="45"/>
                  </a:lnTo>
                  <a:lnTo>
                    <a:pt x="84" y="45"/>
                  </a:lnTo>
                  <a:lnTo>
                    <a:pt x="82" y="45"/>
                  </a:lnTo>
                  <a:lnTo>
                    <a:pt x="80" y="45"/>
                  </a:lnTo>
                  <a:lnTo>
                    <a:pt x="78" y="45"/>
                  </a:lnTo>
                  <a:lnTo>
                    <a:pt x="77" y="45"/>
                  </a:lnTo>
                  <a:lnTo>
                    <a:pt x="76" y="45"/>
                  </a:lnTo>
                  <a:lnTo>
                    <a:pt x="74" y="46"/>
                  </a:lnTo>
                  <a:lnTo>
                    <a:pt x="73" y="47"/>
                  </a:lnTo>
                  <a:lnTo>
                    <a:pt x="71" y="47"/>
                  </a:lnTo>
                  <a:lnTo>
                    <a:pt x="69" y="48"/>
                  </a:lnTo>
                  <a:lnTo>
                    <a:pt x="69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5" y="51"/>
                  </a:lnTo>
                  <a:lnTo>
                    <a:pt x="65" y="53"/>
                  </a:lnTo>
                  <a:lnTo>
                    <a:pt x="63" y="53"/>
                  </a:lnTo>
                  <a:lnTo>
                    <a:pt x="63" y="54"/>
                  </a:lnTo>
                  <a:lnTo>
                    <a:pt x="61" y="56"/>
                  </a:lnTo>
                  <a:lnTo>
                    <a:pt x="61" y="57"/>
                  </a:lnTo>
                  <a:lnTo>
                    <a:pt x="60" y="58"/>
                  </a:lnTo>
                  <a:lnTo>
                    <a:pt x="58" y="61"/>
                  </a:lnTo>
                  <a:lnTo>
                    <a:pt x="58" y="62"/>
                  </a:lnTo>
                  <a:lnTo>
                    <a:pt x="57" y="65"/>
                  </a:lnTo>
                  <a:lnTo>
                    <a:pt x="57" y="66"/>
                  </a:lnTo>
                  <a:lnTo>
                    <a:pt x="56" y="69"/>
                  </a:lnTo>
                  <a:lnTo>
                    <a:pt x="55" y="71"/>
                  </a:lnTo>
                  <a:lnTo>
                    <a:pt x="54" y="74"/>
                  </a:lnTo>
                  <a:lnTo>
                    <a:pt x="54" y="75"/>
                  </a:lnTo>
                  <a:lnTo>
                    <a:pt x="54" y="78"/>
                  </a:lnTo>
                  <a:lnTo>
                    <a:pt x="53" y="80"/>
                  </a:lnTo>
                  <a:lnTo>
                    <a:pt x="53" y="82"/>
                  </a:lnTo>
                  <a:lnTo>
                    <a:pt x="51" y="82"/>
                  </a:lnTo>
                  <a:lnTo>
                    <a:pt x="51" y="83"/>
                  </a:lnTo>
                  <a:lnTo>
                    <a:pt x="50" y="85"/>
                  </a:lnTo>
                  <a:lnTo>
                    <a:pt x="49" y="87"/>
                  </a:lnTo>
                  <a:lnTo>
                    <a:pt x="45" y="90"/>
                  </a:lnTo>
                  <a:lnTo>
                    <a:pt x="44" y="92"/>
                  </a:lnTo>
                  <a:lnTo>
                    <a:pt x="41" y="94"/>
                  </a:lnTo>
                  <a:lnTo>
                    <a:pt x="38" y="98"/>
                  </a:lnTo>
                  <a:lnTo>
                    <a:pt x="36" y="101"/>
                  </a:lnTo>
                  <a:lnTo>
                    <a:pt x="34" y="103"/>
                  </a:lnTo>
                  <a:lnTo>
                    <a:pt x="31" y="106"/>
                  </a:lnTo>
                  <a:lnTo>
                    <a:pt x="29" y="108"/>
                  </a:lnTo>
                  <a:lnTo>
                    <a:pt x="27" y="111"/>
                  </a:lnTo>
                  <a:lnTo>
                    <a:pt x="27" y="112"/>
                  </a:lnTo>
                  <a:lnTo>
                    <a:pt x="26" y="113"/>
                  </a:lnTo>
                  <a:lnTo>
                    <a:pt x="26" y="114"/>
                  </a:lnTo>
                  <a:lnTo>
                    <a:pt x="25" y="114"/>
                  </a:lnTo>
                  <a:lnTo>
                    <a:pt x="24" y="114"/>
                  </a:lnTo>
                  <a:lnTo>
                    <a:pt x="23" y="114"/>
                  </a:lnTo>
                  <a:lnTo>
                    <a:pt x="22" y="114"/>
                  </a:lnTo>
                  <a:lnTo>
                    <a:pt x="19" y="114"/>
                  </a:lnTo>
                  <a:lnTo>
                    <a:pt x="17" y="114"/>
                  </a:lnTo>
                  <a:lnTo>
                    <a:pt x="14" y="114"/>
                  </a:lnTo>
                  <a:lnTo>
                    <a:pt x="13" y="114"/>
                  </a:lnTo>
                  <a:lnTo>
                    <a:pt x="10" y="114"/>
                  </a:lnTo>
                  <a:lnTo>
                    <a:pt x="8" y="114"/>
                  </a:lnTo>
                  <a:lnTo>
                    <a:pt x="5" y="114"/>
                  </a:lnTo>
                  <a:lnTo>
                    <a:pt x="3" y="114"/>
                  </a:lnTo>
                  <a:lnTo>
                    <a:pt x="1" y="114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09"/>
                  </a:lnTo>
                  <a:lnTo>
                    <a:pt x="1" y="103"/>
                  </a:lnTo>
                  <a:lnTo>
                    <a:pt x="2" y="96"/>
                  </a:lnTo>
                  <a:lnTo>
                    <a:pt x="4" y="88"/>
                  </a:lnTo>
                  <a:lnTo>
                    <a:pt x="5" y="78"/>
                  </a:lnTo>
                  <a:lnTo>
                    <a:pt x="8" y="69"/>
                  </a:lnTo>
                  <a:lnTo>
                    <a:pt x="10" y="58"/>
                  </a:lnTo>
                  <a:lnTo>
                    <a:pt x="11" y="48"/>
                  </a:lnTo>
                  <a:lnTo>
                    <a:pt x="13" y="38"/>
                  </a:lnTo>
                  <a:lnTo>
                    <a:pt x="14" y="28"/>
                  </a:lnTo>
                  <a:lnTo>
                    <a:pt x="16" y="20"/>
                  </a:lnTo>
                  <a:lnTo>
                    <a:pt x="17" y="13"/>
                  </a:lnTo>
                  <a:lnTo>
                    <a:pt x="18" y="7"/>
                  </a:lnTo>
                  <a:lnTo>
                    <a:pt x="18" y="4"/>
                  </a:lnTo>
                  <a:lnTo>
                    <a:pt x="19" y="3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90400" y="4266360"/>
              <a:ext cx="275040" cy="213120"/>
            </a:xfrm>
            <a:custGeom>
              <a:avLst/>
              <a:gdLst/>
              <a:ahLst/>
              <a:rect l="l" t="t" r="r" b="b"/>
              <a:pathLst>
                <a:path w="117" h="116">
                  <a:moveTo>
                    <a:pt x="95" y="14"/>
                  </a:moveTo>
                  <a:lnTo>
                    <a:pt x="94" y="12"/>
                  </a:lnTo>
                  <a:lnTo>
                    <a:pt x="94" y="11"/>
                  </a:lnTo>
                  <a:lnTo>
                    <a:pt x="93" y="10"/>
                  </a:lnTo>
                  <a:lnTo>
                    <a:pt x="92" y="9"/>
                  </a:lnTo>
                  <a:lnTo>
                    <a:pt x="91" y="8"/>
                  </a:lnTo>
                  <a:lnTo>
                    <a:pt x="90" y="7"/>
                  </a:lnTo>
                  <a:lnTo>
                    <a:pt x="89" y="7"/>
                  </a:lnTo>
                  <a:lnTo>
                    <a:pt x="88" y="6"/>
                  </a:lnTo>
                  <a:lnTo>
                    <a:pt x="87" y="6"/>
                  </a:lnTo>
                  <a:lnTo>
                    <a:pt x="86" y="5"/>
                  </a:lnTo>
                  <a:lnTo>
                    <a:pt x="85" y="4"/>
                  </a:lnTo>
                  <a:lnTo>
                    <a:pt x="83" y="4"/>
                  </a:lnTo>
                  <a:lnTo>
                    <a:pt x="82" y="3"/>
                  </a:lnTo>
                  <a:lnTo>
                    <a:pt x="81" y="3"/>
                  </a:lnTo>
                  <a:lnTo>
                    <a:pt x="80" y="3"/>
                  </a:lnTo>
                  <a:lnTo>
                    <a:pt x="79" y="3"/>
                  </a:lnTo>
                  <a:lnTo>
                    <a:pt x="77" y="2"/>
                  </a:lnTo>
                  <a:lnTo>
                    <a:pt x="76" y="2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2" y="1"/>
                  </a:lnTo>
                  <a:lnTo>
                    <a:pt x="70" y="1"/>
                  </a:lnTo>
                  <a:lnTo>
                    <a:pt x="68" y="0"/>
                  </a:lnTo>
                  <a:lnTo>
                    <a:pt x="67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0" y="1"/>
                  </a:lnTo>
                  <a:lnTo>
                    <a:pt x="49" y="2"/>
                  </a:lnTo>
                  <a:lnTo>
                    <a:pt x="47" y="3"/>
                  </a:lnTo>
                  <a:lnTo>
                    <a:pt x="44" y="3"/>
                  </a:lnTo>
                  <a:lnTo>
                    <a:pt x="42" y="4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7"/>
                  </a:lnTo>
                  <a:lnTo>
                    <a:pt x="35" y="8"/>
                  </a:lnTo>
                  <a:lnTo>
                    <a:pt x="33" y="10"/>
                  </a:lnTo>
                  <a:lnTo>
                    <a:pt x="30" y="12"/>
                  </a:lnTo>
                  <a:lnTo>
                    <a:pt x="29" y="14"/>
                  </a:lnTo>
                  <a:lnTo>
                    <a:pt x="26" y="14"/>
                  </a:lnTo>
                  <a:lnTo>
                    <a:pt x="25" y="16"/>
                  </a:lnTo>
                  <a:lnTo>
                    <a:pt x="23" y="18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8" y="22"/>
                  </a:lnTo>
                  <a:lnTo>
                    <a:pt x="17" y="24"/>
                  </a:lnTo>
                  <a:lnTo>
                    <a:pt x="16" y="26"/>
                  </a:lnTo>
                  <a:lnTo>
                    <a:pt x="14" y="27"/>
                  </a:lnTo>
                  <a:lnTo>
                    <a:pt x="13" y="28"/>
                  </a:lnTo>
                  <a:lnTo>
                    <a:pt x="12" y="30"/>
                  </a:lnTo>
                  <a:lnTo>
                    <a:pt x="11" y="32"/>
                  </a:lnTo>
                  <a:lnTo>
                    <a:pt x="10" y="35"/>
                  </a:lnTo>
                  <a:lnTo>
                    <a:pt x="9" y="36"/>
                  </a:lnTo>
                  <a:lnTo>
                    <a:pt x="8" y="37"/>
                  </a:lnTo>
                  <a:lnTo>
                    <a:pt x="8" y="40"/>
                  </a:lnTo>
                  <a:lnTo>
                    <a:pt x="7" y="41"/>
                  </a:lnTo>
                  <a:lnTo>
                    <a:pt x="5" y="44"/>
                  </a:lnTo>
                  <a:lnTo>
                    <a:pt x="4" y="45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3"/>
                  </a:lnTo>
                  <a:lnTo>
                    <a:pt x="2" y="55"/>
                  </a:lnTo>
                  <a:lnTo>
                    <a:pt x="2" y="58"/>
                  </a:lnTo>
                  <a:lnTo>
                    <a:pt x="1" y="60"/>
                  </a:lnTo>
                  <a:lnTo>
                    <a:pt x="1" y="62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1" y="76"/>
                  </a:lnTo>
                  <a:lnTo>
                    <a:pt x="0" y="78"/>
                  </a:lnTo>
                  <a:lnTo>
                    <a:pt x="0" y="81"/>
                  </a:lnTo>
                  <a:lnTo>
                    <a:pt x="1" y="82"/>
                  </a:lnTo>
                  <a:lnTo>
                    <a:pt x="1" y="85"/>
                  </a:lnTo>
                  <a:lnTo>
                    <a:pt x="1" y="86"/>
                  </a:lnTo>
                  <a:lnTo>
                    <a:pt x="1" y="87"/>
                  </a:lnTo>
                  <a:lnTo>
                    <a:pt x="2" y="89"/>
                  </a:lnTo>
                  <a:lnTo>
                    <a:pt x="3" y="91"/>
                  </a:lnTo>
                  <a:lnTo>
                    <a:pt x="3" y="93"/>
                  </a:lnTo>
                  <a:lnTo>
                    <a:pt x="3" y="94"/>
                  </a:lnTo>
                  <a:lnTo>
                    <a:pt x="4" y="95"/>
                  </a:lnTo>
                  <a:lnTo>
                    <a:pt x="5" y="97"/>
                  </a:lnTo>
                  <a:lnTo>
                    <a:pt x="7" y="98"/>
                  </a:lnTo>
                  <a:lnTo>
                    <a:pt x="8" y="99"/>
                  </a:lnTo>
                  <a:lnTo>
                    <a:pt x="8" y="101"/>
                  </a:lnTo>
                  <a:lnTo>
                    <a:pt x="10" y="102"/>
                  </a:lnTo>
                  <a:lnTo>
                    <a:pt x="11" y="103"/>
                  </a:lnTo>
                  <a:lnTo>
                    <a:pt x="12" y="104"/>
                  </a:lnTo>
                  <a:lnTo>
                    <a:pt x="13" y="105"/>
                  </a:lnTo>
                  <a:lnTo>
                    <a:pt x="13" y="106"/>
                  </a:lnTo>
                  <a:lnTo>
                    <a:pt x="14" y="107"/>
                  </a:lnTo>
                  <a:lnTo>
                    <a:pt x="16" y="108"/>
                  </a:lnTo>
                  <a:lnTo>
                    <a:pt x="17" y="108"/>
                  </a:lnTo>
                  <a:lnTo>
                    <a:pt x="17" y="109"/>
                  </a:lnTo>
                  <a:lnTo>
                    <a:pt x="18" y="110"/>
                  </a:lnTo>
                  <a:lnTo>
                    <a:pt x="20" y="110"/>
                  </a:lnTo>
                  <a:lnTo>
                    <a:pt x="21" y="110"/>
                  </a:lnTo>
                  <a:lnTo>
                    <a:pt x="22" y="111"/>
                  </a:lnTo>
                  <a:lnTo>
                    <a:pt x="23" y="112"/>
                  </a:lnTo>
                  <a:lnTo>
                    <a:pt x="25" y="113"/>
                  </a:lnTo>
                  <a:lnTo>
                    <a:pt x="26" y="114"/>
                  </a:lnTo>
                  <a:lnTo>
                    <a:pt x="28" y="114"/>
                  </a:lnTo>
                  <a:lnTo>
                    <a:pt x="29" y="114"/>
                  </a:lnTo>
                  <a:lnTo>
                    <a:pt x="30" y="114"/>
                  </a:lnTo>
                  <a:lnTo>
                    <a:pt x="31" y="114"/>
                  </a:lnTo>
                  <a:lnTo>
                    <a:pt x="34" y="115"/>
                  </a:lnTo>
                  <a:lnTo>
                    <a:pt x="35" y="115"/>
                  </a:lnTo>
                  <a:lnTo>
                    <a:pt x="36" y="115"/>
                  </a:lnTo>
                  <a:lnTo>
                    <a:pt x="39" y="115"/>
                  </a:lnTo>
                  <a:lnTo>
                    <a:pt x="41" y="115"/>
                  </a:lnTo>
                  <a:lnTo>
                    <a:pt x="43" y="115"/>
                  </a:lnTo>
                  <a:lnTo>
                    <a:pt x="44" y="115"/>
                  </a:lnTo>
                  <a:lnTo>
                    <a:pt x="48" y="115"/>
                  </a:lnTo>
                  <a:lnTo>
                    <a:pt x="50" y="115"/>
                  </a:lnTo>
                  <a:lnTo>
                    <a:pt x="51" y="114"/>
                  </a:lnTo>
                  <a:lnTo>
                    <a:pt x="53" y="114"/>
                  </a:lnTo>
                  <a:lnTo>
                    <a:pt x="54" y="114"/>
                  </a:lnTo>
                  <a:lnTo>
                    <a:pt x="56" y="114"/>
                  </a:lnTo>
                  <a:lnTo>
                    <a:pt x="57" y="114"/>
                  </a:lnTo>
                  <a:lnTo>
                    <a:pt x="59" y="114"/>
                  </a:lnTo>
                  <a:lnTo>
                    <a:pt x="61" y="114"/>
                  </a:lnTo>
                  <a:lnTo>
                    <a:pt x="63" y="114"/>
                  </a:lnTo>
                  <a:lnTo>
                    <a:pt x="63" y="113"/>
                  </a:lnTo>
                  <a:lnTo>
                    <a:pt x="65" y="112"/>
                  </a:lnTo>
                  <a:lnTo>
                    <a:pt x="67" y="111"/>
                  </a:lnTo>
                  <a:lnTo>
                    <a:pt x="68" y="110"/>
                  </a:lnTo>
                  <a:lnTo>
                    <a:pt x="69" y="110"/>
                  </a:lnTo>
                  <a:lnTo>
                    <a:pt x="72" y="110"/>
                  </a:lnTo>
                  <a:lnTo>
                    <a:pt x="73" y="109"/>
                  </a:lnTo>
                  <a:lnTo>
                    <a:pt x="75" y="108"/>
                  </a:lnTo>
                  <a:lnTo>
                    <a:pt x="76" y="106"/>
                  </a:lnTo>
                  <a:lnTo>
                    <a:pt x="78" y="105"/>
                  </a:lnTo>
                  <a:lnTo>
                    <a:pt x="80" y="105"/>
                  </a:lnTo>
                  <a:lnTo>
                    <a:pt x="80" y="103"/>
                  </a:lnTo>
                  <a:lnTo>
                    <a:pt x="82" y="102"/>
                  </a:lnTo>
                  <a:lnTo>
                    <a:pt x="85" y="101"/>
                  </a:lnTo>
                  <a:lnTo>
                    <a:pt x="87" y="99"/>
                  </a:lnTo>
                  <a:lnTo>
                    <a:pt x="89" y="97"/>
                  </a:lnTo>
                  <a:lnTo>
                    <a:pt x="91" y="95"/>
                  </a:lnTo>
                  <a:lnTo>
                    <a:pt x="94" y="93"/>
                  </a:lnTo>
                  <a:lnTo>
                    <a:pt x="99" y="89"/>
                  </a:lnTo>
                  <a:lnTo>
                    <a:pt x="101" y="87"/>
                  </a:lnTo>
                  <a:lnTo>
                    <a:pt x="104" y="84"/>
                  </a:lnTo>
                  <a:lnTo>
                    <a:pt x="106" y="81"/>
                  </a:lnTo>
                  <a:lnTo>
                    <a:pt x="109" y="78"/>
                  </a:lnTo>
                  <a:lnTo>
                    <a:pt x="111" y="74"/>
                  </a:lnTo>
                  <a:lnTo>
                    <a:pt x="113" y="70"/>
                  </a:lnTo>
                  <a:lnTo>
                    <a:pt x="113" y="66"/>
                  </a:lnTo>
                  <a:lnTo>
                    <a:pt x="114" y="64"/>
                  </a:lnTo>
                  <a:lnTo>
                    <a:pt x="115" y="60"/>
                  </a:lnTo>
                  <a:lnTo>
                    <a:pt x="116" y="55"/>
                  </a:lnTo>
                  <a:lnTo>
                    <a:pt x="116" y="51"/>
                  </a:lnTo>
                  <a:lnTo>
                    <a:pt x="116" y="48"/>
                  </a:lnTo>
                  <a:lnTo>
                    <a:pt x="114" y="44"/>
                  </a:lnTo>
                  <a:lnTo>
                    <a:pt x="113" y="40"/>
                  </a:lnTo>
                  <a:lnTo>
                    <a:pt x="112" y="36"/>
                  </a:lnTo>
                  <a:lnTo>
                    <a:pt x="109" y="32"/>
                  </a:lnTo>
                  <a:lnTo>
                    <a:pt x="107" y="27"/>
                  </a:lnTo>
                  <a:lnTo>
                    <a:pt x="104" y="23"/>
                  </a:lnTo>
                  <a:lnTo>
                    <a:pt x="101" y="19"/>
                  </a:lnTo>
                  <a:lnTo>
                    <a:pt x="99" y="15"/>
                  </a:lnTo>
                  <a:lnTo>
                    <a:pt x="95" y="14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09920" y="4332600"/>
              <a:ext cx="91800" cy="900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2" y="5"/>
                  </a:moveTo>
                  <a:lnTo>
                    <a:pt x="11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3" y="42"/>
                  </a:lnTo>
                  <a:lnTo>
                    <a:pt x="3" y="43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4" y="45"/>
                  </a:lnTo>
                  <a:lnTo>
                    <a:pt x="7" y="45"/>
                  </a:lnTo>
                  <a:lnTo>
                    <a:pt x="7" y="46"/>
                  </a:lnTo>
                  <a:lnTo>
                    <a:pt x="8" y="46"/>
                  </a:lnTo>
                  <a:lnTo>
                    <a:pt x="9" y="47"/>
                  </a:lnTo>
                  <a:lnTo>
                    <a:pt x="10" y="48"/>
                  </a:lnTo>
                  <a:lnTo>
                    <a:pt x="11" y="48"/>
                  </a:lnTo>
                  <a:lnTo>
                    <a:pt x="12" y="48"/>
                  </a:lnTo>
                  <a:lnTo>
                    <a:pt x="13" y="48"/>
                  </a:lnTo>
                  <a:lnTo>
                    <a:pt x="13" y="47"/>
                  </a:lnTo>
                  <a:lnTo>
                    <a:pt x="14" y="47"/>
                  </a:lnTo>
                  <a:lnTo>
                    <a:pt x="15" y="47"/>
                  </a:lnTo>
                  <a:lnTo>
                    <a:pt x="16" y="47"/>
                  </a:lnTo>
                  <a:lnTo>
                    <a:pt x="17" y="47"/>
                  </a:lnTo>
                  <a:lnTo>
                    <a:pt x="20" y="47"/>
                  </a:lnTo>
                  <a:lnTo>
                    <a:pt x="20" y="46"/>
                  </a:lnTo>
                  <a:lnTo>
                    <a:pt x="21" y="46"/>
                  </a:lnTo>
                  <a:lnTo>
                    <a:pt x="21" y="45"/>
                  </a:lnTo>
                  <a:lnTo>
                    <a:pt x="22" y="45"/>
                  </a:lnTo>
                  <a:lnTo>
                    <a:pt x="23" y="45"/>
                  </a:lnTo>
                  <a:lnTo>
                    <a:pt x="24" y="45"/>
                  </a:lnTo>
                  <a:lnTo>
                    <a:pt x="25" y="45"/>
                  </a:lnTo>
                  <a:lnTo>
                    <a:pt x="25" y="44"/>
                  </a:lnTo>
                  <a:lnTo>
                    <a:pt x="25" y="43"/>
                  </a:lnTo>
                  <a:lnTo>
                    <a:pt x="26" y="42"/>
                  </a:lnTo>
                  <a:lnTo>
                    <a:pt x="27" y="42"/>
                  </a:lnTo>
                  <a:lnTo>
                    <a:pt x="28" y="41"/>
                  </a:lnTo>
                  <a:lnTo>
                    <a:pt x="28" y="40"/>
                  </a:lnTo>
                  <a:lnTo>
                    <a:pt x="29" y="40"/>
                  </a:lnTo>
                  <a:lnTo>
                    <a:pt x="30" y="40"/>
                  </a:lnTo>
                  <a:lnTo>
                    <a:pt x="30" y="38"/>
                  </a:lnTo>
                  <a:lnTo>
                    <a:pt x="31" y="38"/>
                  </a:lnTo>
                  <a:lnTo>
                    <a:pt x="33" y="37"/>
                  </a:lnTo>
                  <a:lnTo>
                    <a:pt x="33" y="36"/>
                  </a:lnTo>
                  <a:lnTo>
                    <a:pt x="34" y="36"/>
                  </a:lnTo>
                  <a:lnTo>
                    <a:pt x="34" y="34"/>
                  </a:lnTo>
                  <a:lnTo>
                    <a:pt x="35" y="33"/>
                  </a:lnTo>
                  <a:lnTo>
                    <a:pt x="35" y="32"/>
                  </a:lnTo>
                  <a:lnTo>
                    <a:pt x="36" y="30"/>
                  </a:lnTo>
                  <a:lnTo>
                    <a:pt x="37" y="29"/>
                  </a:lnTo>
                  <a:lnTo>
                    <a:pt x="37" y="28"/>
                  </a:lnTo>
                  <a:lnTo>
                    <a:pt x="37" y="27"/>
                  </a:lnTo>
                  <a:lnTo>
                    <a:pt x="37" y="25"/>
                  </a:lnTo>
                  <a:lnTo>
                    <a:pt x="37" y="24"/>
                  </a:lnTo>
                  <a:lnTo>
                    <a:pt x="37" y="23"/>
                  </a:lnTo>
                  <a:lnTo>
                    <a:pt x="37" y="21"/>
                  </a:lnTo>
                  <a:lnTo>
                    <a:pt x="37" y="20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8" y="17"/>
                  </a:lnTo>
                  <a:lnTo>
                    <a:pt x="38" y="16"/>
                  </a:lnTo>
                  <a:lnTo>
                    <a:pt x="38" y="14"/>
                  </a:lnTo>
                  <a:lnTo>
                    <a:pt x="38" y="13"/>
                  </a:lnTo>
                  <a:lnTo>
                    <a:pt x="38" y="12"/>
                  </a:lnTo>
                  <a:lnTo>
                    <a:pt x="37" y="10"/>
                  </a:lnTo>
                  <a:lnTo>
                    <a:pt x="37" y="9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5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2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92720" y="4271760"/>
              <a:ext cx="145800" cy="205560"/>
            </a:xfrm>
            <a:custGeom>
              <a:avLst/>
              <a:gdLst/>
              <a:ahLst/>
              <a:rect l="l" t="t" r="r" b="b"/>
              <a:pathLst>
                <a:path w="62" h="112">
                  <a:moveTo>
                    <a:pt x="11" y="11"/>
                  </a:moveTo>
                  <a:lnTo>
                    <a:pt x="11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61" y="1"/>
                  </a:lnTo>
                  <a:lnTo>
                    <a:pt x="41" y="111"/>
                  </a:lnTo>
                  <a:lnTo>
                    <a:pt x="0" y="111"/>
                  </a:lnTo>
                  <a:lnTo>
                    <a:pt x="11" y="11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85080" y="4194720"/>
              <a:ext cx="383760" cy="73080"/>
            </a:xfrm>
            <a:custGeom>
              <a:avLst/>
              <a:gdLst/>
              <a:ahLst/>
              <a:rect l="l" t="t" r="r" b="b"/>
              <a:pathLst>
                <a:path w="163" h="40">
                  <a:moveTo>
                    <a:pt x="23" y="0"/>
                  </a:moveTo>
                  <a:lnTo>
                    <a:pt x="28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5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2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49" y="0"/>
                  </a:lnTo>
                  <a:lnTo>
                    <a:pt x="151" y="0"/>
                  </a:lnTo>
                  <a:lnTo>
                    <a:pt x="154" y="0"/>
                  </a:lnTo>
                  <a:lnTo>
                    <a:pt x="157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1" y="0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3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1" y="6"/>
                  </a:lnTo>
                  <a:lnTo>
                    <a:pt x="161" y="7"/>
                  </a:lnTo>
                  <a:lnTo>
                    <a:pt x="161" y="8"/>
                  </a:lnTo>
                  <a:lnTo>
                    <a:pt x="161" y="9"/>
                  </a:lnTo>
                  <a:lnTo>
                    <a:pt x="161" y="10"/>
                  </a:lnTo>
                  <a:lnTo>
                    <a:pt x="160" y="10"/>
                  </a:lnTo>
                  <a:lnTo>
                    <a:pt x="160" y="11"/>
                  </a:lnTo>
                  <a:lnTo>
                    <a:pt x="160" y="12"/>
                  </a:lnTo>
                  <a:lnTo>
                    <a:pt x="160" y="13"/>
                  </a:lnTo>
                  <a:lnTo>
                    <a:pt x="160" y="14"/>
                  </a:lnTo>
                  <a:lnTo>
                    <a:pt x="159" y="15"/>
                  </a:lnTo>
                  <a:lnTo>
                    <a:pt x="159" y="16"/>
                  </a:lnTo>
                  <a:lnTo>
                    <a:pt x="159" y="17"/>
                  </a:lnTo>
                  <a:lnTo>
                    <a:pt x="159" y="18"/>
                  </a:lnTo>
                  <a:lnTo>
                    <a:pt x="158" y="18"/>
                  </a:lnTo>
                  <a:lnTo>
                    <a:pt x="158" y="19"/>
                  </a:lnTo>
                  <a:lnTo>
                    <a:pt x="158" y="20"/>
                  </a:lnTo>
                  <a:lnTo>
                    <a:pt x="158" y="21"/>
                  </a:lnTo>
                  <a:lnTo>
                    <a:pt x="158" y="22"/>
                  </a:lnTo>
                  <a:lnTo>
                    <a:pt x="158" y="23"/>
                  </a:lnTo>
                  <a:lnTo>
                    <a:pt x="158" y="24"/>
                  </a:lnTo>
                  <a:lnTo>
                    <a:pt x="157" y="24"/>
                  </a:lnTo>
                  <a:lnTo>
                    <a:pt x="157" y="25"/>
                  </a:lnTo>
                  <a:lnTo>
                    <a:pt x="157" y="26"/>
                  </a:lnTo>
                  <a:lnTo>
                    <a:pt x="157" y="27"/>
                  </a:lnTo>
                  <a:lnTo>
                    <a:pt x="157" y="29"/>
                  </a:lnTo>
                  <a:lnTo>
                    <a:pt x="157" y="30"/>
                  </a:lnTo>
                  <a:lnTo>
                    <a:pt x="157" y="31"/>
                  </a:lnTo>
                  <a:lnTo>
                    <a:pt x="155" y="31"/>
                  </a:lnTo>
                  <a:lnTo>
                    <a:pt x="154" y="33"/>
                  </a:lnTo>
                  <a:lnTo>
                    <a:pt x="153" y="34"/>
                  </a:lnTo>
                  <a:lnTo>
                    <a:pt x="152" y="35"/>
                  </a:lnTo>
                  <a:lnTo>
                    <a:pt x="151" y="35"/>
                  </a:lnTo>
                  <a:lnTo>
                    <a:pt x="151" y="36"/>
                  </a:lnTo>
                  <a:lnTo>
                    <a:pt x="151" y="37"/>
                  </a:lnTo>
                  <a:lnTo>
                    <a:pt x="150" y="37"/>
                  </a:lnTo>
                  <a:lnTo>
                    <a:pt x="149" y="38"/>
                  </a:lnTo>
                  <a:lnTo>
                    <a:pt x="148" y="38"/>
                  </a:lnTo>
                  <a:lnTo>
                    <a:pt x="147" y="38"/>
                  </a:lnTo>
                  <a:lnTo>
                    <a:pt x="146" y="38"/>
                  </a:lnTo>
                  <a:lnTo>
                    <a:pt x="146" y="39"/>
                  </a:lnTo>
                  <a:lnTo>
                    <a:pt x="145" y="39"/>
                  </a:lnTo>
                  <a:lnTo>
                    <a:pt x="135" y="39"/>
                  </a:lnTo>
                  <a:lnTo>
                    <a:pt x="126" y="39"/>
                  </a:lnTo>
                  <a:lnTo>
                    <a:pt x="116" y="39"/>
                  </a:lnTo>
                  <a:lnTo>
                    <a:pt x="108" y="39"/>
                  </a:lnTo>
                  <a:lnTo>
                    <a:pt x="98" y="39"/>
                  </a:lnTo>
                  <a:lnTo>
                    <a:pt x="89" y="39"/>
                  </a:lnTo>
                  <a:lnTo>
                    <a:pt x="80" y="39"/>
                  </a:lnTo>
                  <a:lnTo>
                    <a:pt x="73" y="39"/>
                  </a:lnTo>
                  <a:lnTo>
                    <a:pt x="62" y="39"/>
                  </a:lnTo>
                  <a:lnTo>
                    <a:pt x="53" y="39"/>
                  </a:lnTo>
                  <a:lnTo>
                    <a:pt x="46" y="39"/>
                  </a:lnTo>
                  <a:lnTo>
                    <a:pt x="36" y="39"/>
                  </a:lnTo>
                  <a:lnTo>
                    <a:pt x="26" y="39"/>
                  </a:lnTo>
                  <a:lnTo>
                    <a:pt x="17" y="39"/>
                  </a:lnTo>
                  <a:lnTo>
                    <a:pt x="9" y="39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6"/>
                  </a:lnTo>
                  <a:lnTo>
                    <a:pt x="7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73040" y="4191120"/>
              <a:ext cx="197280" cy="288720"/>
            </a:xfrm>
            <a:custGeom>
              <a:avLst/>
              <a:gdLst/>
              <a:ahLst/>
              <a:rect l="l" t="t" r="r" b="b"/>
              <a:pathLst>
                <a:path w="84" h="157">
                  <a:moveTo>
                    <a:pt x="46" y="156"/>
                  </a:moveTo>
                  <a:lnTo>
                    <a:pt x="0" y="156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8" y="3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8" y="1"/>
                  </a:lnTo>
                  <a:lnTo>
                    <a:pt x="83" y="1"/>
                  </a:lnTo>
                  <a:lnTo>
                    <a:pt x="55" y="148"/>
                  </a:lnTo>
                  <a:lnTo>
                    <a:pt x="55" y="149"/>
                  </a:lnTo>
                  <a:lnTo>
                    <a:pt x="54" y="149"/>
                  </a:lnTo>
                  <a:lnTo>
                    <a:pt x="54" y="151"/>
                  </a:lnTo>
                  <a:lnTo>
                    <a:pt x="54" y="152"/>
                  </a:lnTo>
                  <a:lnTo>
                    <a:pt x="54" y="153"/>
                  </a:lnTo>
                  <a:lnTo>
                    <a:pt x="53" y="153"/>
                  </a:lnTo>
                  <a:lnTo>
                    <a:pt x="52" y="153"/>
                  </a:lnTo>
                  <a:lnTo>
                    <a:pt x="52" y="155"/>
                  </a:lnTo>
                  <a:lnTo>
                    <a:pt x="51" y="155"/>
                  </a:lnTo>
                  <a:lnTo>
                    <a:pt x="50" y="155"/>
                  </a:lnTo>
                  <a:lnTo>
                    <a:pt x="49" y="155"/>
                  </a:lnTo>
                  <a:lnTo>
                    <a:pt x="49" y="156"/>
                  </a:lnTo>
                  <a:lnTo>
                    <a:pt x="47" y="156"/>
                  </a:lnTo>
                  <a:lnTo>
                    <a:pt x="46" y="156"/>
                  </a:lnTo>
                  <a:lnTo>
                    <a:pt x="45" y="156"/>
                  </a:lnTo>
                  <a:lnTo>
                    <a:pt x="46" y="156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19160" y="4262760"/>
              <a:ext cx="336960" cy="217080"/>
            </a:xfrm>
            <a:custGeom>
              <a:avLst/>
              <a:gdLst/>
              <a:ahLst/>
              <a:rect l="l" t="t" r="r" b="b"/>
              <a:pathLst>
                <a:path w="143" h="118">
                  <a:moveTo>
                    <a:pt x="52" y="45"/>
                  </a:moveTo>
                  <a:lnTo>
                    <a:pt x="54" y="45"/>
                  </a:lnTo>
                  <a:lnTo>
                    <a:pt x="55" y="45"/>
                  </a:lnTo>
                  <a:lnTo>
                    <a:pt x="59" y="45"/>
                  </a:lnTo>
                  <a:lnTo>
                    <a:pt x="62" y="45"/>
                  </a:lnTo>
                  <a:lnTo>
                    <a:pt x="65" y="45"/>
                  </a:lnTo>
                  <a:lnTo>
                    <a:pt x="69" y="45"/>
                  </a:lnTo>
                  <a:lnTo>
                    <a:pt x="74" y="45"/>
                  </a:lnTo>
                  <a:lnTo>
                    <a:pt x="78" y="45"/>
                  </a:lnTo>
                  <a:lnTo>
                    <a:pt x="82" y="45"/>
                  </a:lnTo>
                  <a:lnTo>
                    <a:pt x="86" y="45"/>
                  </a:lnTo>
                  <a:lnTo>
                    <a:pt x="90" y="45"/>
                  </a:lnTo>
                  <a:lnTo>
                    <a:pt x="92" y="45"/>
                  </a:lnTo>
                  <a:lnTo>
                    <a:pt x="94" y="45"/>
                  </a:lnTo>
                  <a:lnTo>
                    <a:pt x="95" y="45"/>
                  </a:lnTo>
                  <a:lnTo>
                    <a:pt x="96" y="45"/>
                  </a:lnTo>
                  <a:lnTo>
                    <a:pt x="96" y="43"/>
                  </a:lnTo>
                  <a:lnTo>
                    <a:pt x="96" y="42"/>
                  </a:lnTo>
                  <a:lnTo>
                    <a:pt x="96" y="41"/>
                  </a:lnTo>
                  <a:lnTo>
                    <a:pt x="96" y="39"/>
                  </a:lnTo>
                  <a:lnTo>
                    <a:pt x="95" y="39"/>
                  </a:lnTo>
                  <a:lnTo>
                    <a:pt x="95" y="38"/>
                  </a:lnTo>
                  <a:lnTo>
                    <a:pt x="95" y="37"/>
                  </a:lnTo>
                  <a:lnTo>
                    <a:pt x="94" y="35"/>
                  </a:lnTo>
                  <a:lnTo>
                    <a:pt x="94" y="34"/>
                  </a:lnTo>
                  <a:lnTo>
                    <a:pt x="92" y="33"/>
                  </a:lnTo>
                  <a:lnTo>
                    <a:pt x="92" y="32"/>
                  </a:lnTo>
                  <a:lnTo>
                    <a:pt x="91" y="31"/>
                  </a:lnTo>
                  <a:lnTo>
                    <a:pt x="90" y="30"/>
                  </a:lnTo>
                  <a:lnTo>
                    <a:pt x="89" y="29"/>
                  </a:lnTo>
                  <a:lnTo>
                    <a:pt x="88" y="29"/>
                  </a:lnTo>
                  <a:lnTo>
                    <a:pt x="88" y="28"/>
                  </a:lnTo>
                  <a:lnTo>
                    <a:pt x="87" y="28"/>
                  </a:lnTo>
                  <a:lnTo>
                    <a:pt x="86" y="28"/>
                  </a:lnTo>
                  <a:lnTo>
                    <a:pt x="85" y="28"/>
                  </a:lnTo>
                  <a:lnTo>
                    <a:pt x="85" y="26"/>
                  </a:lnTo>
                  <a:lnTo>
                    <a:pt x="82" y="26"/>
                  </a:lnTo>
                  <a:lnTo>
                    <a:pt x="81" y="26"/>
                  </a:lnTo>
                  <a:lnTo>
                    <a:pt x="80" y="26"/>
                  </a:lnTo>
                  <a:lnTo>
                    <a:pt x="78" y="26"/>
                  </a:lnTo>
                  <a:lnTo>
                    <a:pt x="77" y="26"/>
                  </a:lnTo>
                  <a:lnTo>
                    <a:pt x="76" y="26"/>
                  </a:lnTo>
                  <a:lnTo>
                    <a:pt x="74" y="26"/>
                  </a:lnTo>
                  <a:lnTo>
                    <a:pt x="72" y="26"/>
                  </a:lnTo>
                  <a:lnTo>
                    <a:pt x="69" y="28"/>
                  </a:lnTo>
                  <a:lnTo>
                    <a:pt x="68" y="28"/>
                  </a:lnTo>
                  <a:lnTo>
                    <a:pt x="67" y="28"/>
                  </a:lnTo>
                  <a:lnTo>
                    <a:pt x="66" y="28"/>
                  </a:lnTo>
                  <a:lnTo>
                    <a:pt x="65" y="28"/>
                  </a:lnTo>
                  <a:lnTo>
                    <a:pt x="64" y="29"/>
                  </a:lnTo>
                  <a:lnTo>
                    <a:pt x="62" y="30"/>
                  </a:lnTo>
                  <a:lnTo>
                    <a:pt x="62" y="31"/>
                  </a:lnTo>
                  <a:lnTo>
                    <a:pt x="60" y="31"/>
                  </a:lnTo>
                  <a:lnTo>
                    <a:pt x="60" y="32"/>
                  </a:lnTo>
                  <a:lnTo>
                    <a:pt x="59" y="33"/>
                  </a:lnTo>
                  <a:lnTo>
                    <a:pt x="57" y="34"/>
                  </a:lnTo>
                  <a:lnTo>
                    <a:pt x="57" y="35"/>
                  </a:lnTo>
                  <a:lnTo>
                    <a:pt x="55" y="37"/>
                  </a:lnTo>
                  <a:lnTo>
                    <a:pt x="54" y="37"/>
                  </a:lnTo>
                  <a:lnTo>
                    <a:pt x="54" y="38"/>
                  </a:lnTo>
                  <a:lnTo>
                    <a:pt x="54" y="39"/>
                  </a:lnTo>
                  <a:lnTo>
                    <a:pt x="53" y="41"/>
                  </a:lnTo>
                  <a:lnTo>
                    <a:pt x="53" y="42"/>
                  </a:lnTo>
                  <a:lnTo>
                    <a:pt x="52" y="43"/>
                  </a:lnTo>
                  <a:lnTo>
                    <a:pt x="52" y="45"/>
                  </a:lnTo>
                  <a:lnTo>
                    <a:pt x="88" y="80"/>
                  </a:lnTo>
                  <a:lnTo>
                    <a:pt x="90" y="80"/>
                  </a:lnTo>
                  <a:lnTo>
                    <a:pt x="91" y="80"/>
                  </a:lnTo>
                  <a:lnTo>
                    <a:pt x="94" y="80"/>
                  </a:lnTo>
                  <a:lnTo>
                    <a:pt x="99" y="80"/>
                  </a:lnTo>
                  <a:lnTo>
                    <a:pt x="101" y="80"/>
                  </a:lnTo>
                  <a:lnTo>
                    <a:pt x="106" y="80"/>
                  </a:lnTo>
                  <a:lnTo>
                    <a:pt x="111" y="80"/>
                  </a:lnTo>
                  <a:lnTo>
                    <a:pt x="115" y="80"/>
                  </a:lnTo>
                  <a:lnTo>
                    <a:pt x="119" y="80"/>
                  </a:lnTo>
                  <a:lnTo>
                    <a:pt x="122" y="80"/>
                  </a:lnTo>
                  <a:lnTo>
                    <a:pt x="127" y="80"/>
                  </a:lnTo>
                  <a:lnTo>
                    <a:pt x="130" y="80"/>
                  </a:lnTo>
                  <a:lnTo>
                    <a:pt x="131" y="80"/>
                  </a:lnTo>
                  <a:lnTo>
                    <a:pt x="133" y="80"/>
                  </a:lnTo>
                  <a:lnTo>
                    <a:pt x="134" y="80"/>
                  </a:lnTo>
                  <a:lnTo>
                    <a:pt x="132" y="82"/>
                  </a:lnTo>
                  <a:lnTo>
                    <a:pt x="131" y="83"/>
                  </a:lnTo>
                  <a:lnTo>
                    <a:pt x="131" y="86"/>
                  </a:lnTo>
                  <a:lnTo>
                    <a:pt x="129" y="87"/>
                  </a:lnTo>
                  <a:lnTo>
                    <a:pt x="128" y="89"/>
                  </a:lnTo>
                  <a:lnTo>
                    <a:pt x="127" y="91"/>
                  </a:lnTo>
                  <a:lnTo>
                    <a:pt x="126" y="92"/>
                  </a:lnTo>
                  <a:lnTo>
                    <a:pt x="124" y="93"/>
                  </a:lnTo>
                  <a:lnTo>
                    <a:pt x="122" y="95"/>
                  </a:lnTo>
                  <a:lnTo>
                    <a:pt x="120" y="97"/>
                  </a:lnTo>
                  <a:lnTo>
                    <a:pt x="118" y="99"/>
                  </a:lnTo>
                  <a:lnTo>
                    <a:pt x="117" y="100"/>
                  </a:lnTo>
                  <a:lnTo>
                    <a:pt x="115" y="101"/>
                  </a:lnTo>
                  <a:lnTo>
                    <a:pt x="113" y="103"/>
                  </a:lnTo>
                  <a:lnTo>
                    <a:pt x="111" y="104"/>
                  </a:lnTo>
                  <a:lnTo>
                    <a:pt x="108" y="106"/>
                  </a:lnTo>
                  <a:lnTo>
                    <a:pt x="106" y="107"/>
                  </a:lnTo>
                  <a:lnTo>
                    <a:pt x="104" y="108"/>
                  </a:lnTo>
                  <a:lnTo>
                    <a:pt x="101" y="109"/>
                  </a:lnTo>
                  <a:lnTo>
                    <a:pt x="99" y="110"/>
                  </a:lnTo>
                  <a:lnTo>
                    <a:pt x="94" y="112"/>
                  </a:lnTo>
                  <a:lnTo>
                    <a:pt x="92" y="112"/>
                  </a:lnTo>
                  <a:lnTo>
                    <a:pt x="90" y="113"/>
                  </a:lnTo>
                  <a:lnTo>
                    <a:pt x="87" y="114"/>
                  </a:lnTo>
                  <a:lnTo>
                    <a:pt x="82" y="115"/>
                  </a:lnTo>
                  <a:lnTo>
                    <a:pt x="80" y="115"/>
                  </a:lnTo>
                  <a:lnTo>
                    <a:pt x="77" y="116"/>
                  </a:lnTo>
                  <a:lnTo>
                    <a:pt x="74" y="116"/>
                  </a:lnTo>
                  <a:lnTo>
                    <a:pt x="69" y="116"/>
                  </a:lnTo>
                  <a:lnTo>
                    <a:pt x="66" y="116"/>
                  </a:lnTo>
                  <a:lnTo>
                    <a:pt x="63" y="116"/>
                  </a:lnTo>
                  <a:lnTo>
                    <a:pt x="60" y="117"/>
                  </a:lnTo>
                  <a:lnTo>
                    <a:pt x="55" y="116"/>
                  </a:lnTo>
                  <a:lnTo>
                    <a:pt x="52" y="116"/>
                  </a:lnTo>
                  <a:lnTo>
                    <a:pt x="49" y="116"/>
                  </a:lnTo>
                  <a:lnTo>
                    <a:pt x="46" y="116"/>
                  </a:lnTo>
                  <a:lnTo>
                    <a:pt x="42" y="116"/>
                  </a:lnTo>
                  <a:lnTo>
                    <a:pt x="40" y="115"/>
                  </a:lnTo>
                  <a:lnTo>
                    <a:pt x="37" y="114"/>
                  </a:lnTo>
                  <a:lnTo>
                    <a:pt x="35" y="113"/>
                  </a:lnTo>
                  <a:lnTo>
                    <a:pt x="31" y="112"/>
                  </a:lnTo>
                  <a:lnTo>
                    <a:pt x="29" y="112"/>
                  </a:lnTo>
                  <a:lnTo>
                    <a:pt x="27" y="111"/>
                  </a:lnTo>
                  <a:lnTo>
                    <a:pt x="24" y="109"/>
                  </a:lnTo>
                  <a:lnTo>
                    <a:pt x="22" y="108"/>
                  </a:lnTo>
                  <a:lnTo>
                    <a:pt x="20" y="107"/>
                  </a:lnTo>
                  <a:lnTo>
                    <a:pt x="17" y="105"/>
                  </a:lnTo>
                  <a:lnTo>
                    <a:pt x="16" y="104"/>
                  </a:lnTo>
                  <a:lnTo>
                    <a:pt x="13" y="103"/>
                  </a:lnTo>
                  <a:lnTo>
                    <a:pt x="12" y="101"/>
                  </a:lnTo>
                  <a:lnTo>
                    <a:pt x="10" y="99"/>
                  </a:lnTo>
                  <a:lnTo>
                    <a:pt x="9" y="97"/>
                  </a:lnTo>
                  <a:lnTo>
                    <a:pt x="8" y="95"/>
                  </a:lnTo>
                  <a:lnTo>
                    <a:pt x="7" y="93"/>
                  </a:lnTo>
                  <a:lnTo>
                    <a:pt x="4" y="91"/>
                  </a:lnTo>
                  <a:lnTo>
                    <a:pt x="3" y="89"/>
                  </a:lnTo>
                  <a:lnTo>
                    <a:pt x="3" y="87"/>
                  </a:lnTo>
                  <a:lnTo>
                    <a:pt x="2" y="85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0" y="78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1" y="59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2" y="53"/>
                  </a:lnTo>
                  <a:lnTo>
                    <a:pt x="3" y="51"/>
                  </a:lnTo>
                  <a:lnTo>
                    <a:pt x="3" y="49"/>
                  </a:lnTo>
                  <a:lnTo>
                    <a:pt x="3" y="47"/>
                  </a:lnTo>
                  <a:lnTo>
                    <a:pt x="4" y="45"/>
                  </a:lnTo>
                  <a:lnTo>
                    <a:pt x="5" y="43"/>
                  </a:lnTo>
                  <a:lnTo>
                    <a:pt x="7" y="42"/>
                  </a:lnTo>
                  <a:lnTo>
                    <a:pt x="8" y="39"/>
                  </a:lnTo>
                  <a:lnTo>
                    <a:pt x="9" y="38"/>
                  </a:lnTo>
                  <a:lnTo>
                    <a:pt x="10" y="37"/>
                  </a:lnTo>
                  <a:lnTo>
                    <a:pt x="11" y="34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5" y="30"/>
                  </a:lnTo>
                  <a:lnTo>
                    <a:pt x="16" y="28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21" y="24"/>
                  </a:lnTo>
                  <a:lnTo>
                    <a:pt x="22" y="22"/>
                  </a:lnTo>
                  <a:lnTo>
                    <a:pt x="23" y="20"/>
                  </a:lnTo>
                  <a:lnTo>
                    <a:pt x="25" y="18"/>
                  </a:lnTo>
                  <a:lnTo>
                    <a:pt x="27" y="18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4" y="12"/>
                  </a:lnTo>
                  <a:lnTo>
                    <a:pt x="36" y="11"/>
                  </a:lnTo>
                  <a:lnTo>
                    <a:pt x="38" y="9"/>
                  </a:lnTo>
                  <a:lnTo>
                    <a:pt x="40" y="9"/>
                  </a:lnTo>
                  <a:lnTo>
                    <a:pt x="42" y="8"/>
                  </a:lnTo>
                  <a:lnTo>
                    <a:pt x="44" y="6"/>
                  </a:lnTo>
                  <a:lnTo>
                    <a:pt x="47" y="5"/>
                  </a:lnTo>
                  <a:lnTo>
                    <a:pt x="49" y="5"/>
                  </a:lnTo>
                  <a:lnTo>
                    <a:pt x="51" y="4"/>
                  </a:lnTo>
                  <a:lnTo>
                    <a:pt x="54" y="3"/>
                  </a:lnTo>
                  <a:lnTo>
                    <a:pt x="55" y="2"/>
                  </a:lnTo>
                  <a:lnTo>
                    <a:pt x="59" y="2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5" y="1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87" y="0"/>
                  </a:lnTo>
                  <a:lnTo>
                    <a:pt x="90" y="0"/>
                  </a:lnTo>
                  <a:lnTo>
                    <a:pt x="92" y="0"/>
                  </a:lnTo>
                  <a:lnTo>
                    <a:pt x="94" y="0"/>
                  </a:lnTo>
                  <a:lnTo>
                    <a:pt x="96" y="1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5" y="2"/>
                  </a:lnTo>
                  <a:lnTo>
                    <a:pt x="107" y="2"/>
                  </a:lnTo>
                  <a:lnTo>
                    <a:pt x="108" y="3"/>
                  </a:lnTo>
                  <a:lnTo>
                    <a:pt x="112" y="4"/>
                  </a:lnTo>
                  <a:lnTo>
                    <a:pt x="113" y="5"/>
                  </a:lnTo>
                  <a:lnTo>
                    <a:pt x="115" y="5"/>
                  </a:lnTo>
                  <a:lnTo>
                    <a:pt x="117" y="7"/>
                  </a:lnTo>
                  <a:lnTo>
                    <a:pt x="117" y="8"/>
                  </a:lnTo>
                  <a:lnTo>
                    <a:pt x="119" y="9"/>
                  </a:lnTo>
                  <a:lnTo>
                    <a:pt x="121" y="9"/>
                  </a:lnTo>
                  <a:lnTo>
                    <a:pt x="122" y="10"/>
                  </a:lnTo>
                  <a:lnTo>
                    <a:pt x="124" y="12"/>
                  </a:lnTo>
                  <a:lnTo>
                    <a:pt x="126" y="13"/>
                  </a:lnTo>
                  <a:lnTo>
                    <a:pt x="127" y="14"/>
                  </a:lnTo>
                  <a:lnTo>
                    <a:pt x="128" y="16"/>
                  </a:lnTo>
                  <a:lnTo>
                    <a:pt x="129" y="17"/>
                  </a:lnTo>
                  <a:lnTo>
                    <a:pt x="130" y="18"/>
                  </a:lnTo>
                  <a:lnTo>
                    <a:pt x="131" y="20"/>
                  </a:lnTo>
                  <a:lnTo>
                    <a:pt x="132" y="20"/>
                  </a:lnTo>
                  <a:lnTo>
                    <a:pt x="133" y="22"/>
                  </a:lnTo>
                  <a:lnTo>
                    <a:pt x="134" y="24"/>
                  </a:lnTo>
                  <a:lnTo>
                    <a:pt x="135" y="25"/>
                  </a:lnTo>
                  <a:lnTo>
                    <a:pt x="137" y="26"/>
                  </a:lnTo>
                  <a:lnTo>
                    <a:pt x="137" y="28"/>
                  </a:lnTo>
                  <a:lnTo>
                    <a:pt x="137" y="29"/>
                  </a:lnTo>
                  <a:lnTo>
                    <a:pt x="138" y="30"/>
                  </a:lnTo>
                  <a:lnTo>
                    <a:pt x="139" y="32"/>
                  </a:lnTo>
                  <a:lnTo>
                    <a:pt x="139" y="34"/>
                  </a:lnTo>
                  <a:lnTo>
                    <a:pt x="140" y="35"/>
                  </a:lnTo>
                  <a:lnTo>
                    <a:pt x="140" y="37"/>
                  </a:lnTo>
                  <a:lnTo>
                    <a:pt x="141" y="39"/>
                  </a:lnTo>
                  <a:lnTo>
                    <a:pt x="141" y="41"/>
                  </a:lnTo>
                  <a:lnTo>
                    <a:pt x="141" y="42"/>
                  </a:lnTo>
                  <a:lnTo>
                    <a:pt x="141" y="43"/>
                  </a:lnTo>
                  <a:lnTo>
                    <a:pt x="141" y="45"/>
                  </a:lnTo>
                  <a:lnTo>
                    <a:pt x="141" y="47"/>
                  </a:lnTo>
                  <a:lnTo>
                    <a:pt x="141" y="49"/>
                  </a:lnTo>
                  <a:lnTo>
                    <a:pt x="141" y="50"/>
                  </a:lnTo>
                  <a:lnTo>
                    <a:pt x="142" y="53"/>
                  </a:lnTo>
                  <a:lnTo>
                    <a:pt x="141" y="53"/>
                  </a:lnTo>
                  <a:lnTo>
                    <a:pt x="141" y="54"/>
                  </a:lnTo>
                  <a:lnTo>
                    <a:pt x="141" y="55"/>
                  </a:lnTo>
                  <a:lnTo>
                    <a:pt x="141" y="57"/>
                  </a:lnTo>
                  <a:lnTo>
                    <a:pt x="141" y="58"/>
                  </a:lnTo>
                  <a:lnTo>
                    <a:pt x="141" y="59"/>
                  </a:lnTo>
                  <a:lnTo>
                    <a:pt x="141" y="60"/>
                  </a:lnTo>
                  <a:lnTo>
                    <a:pt x="141" y="62"/>
                  </a:lnTo>
                  <a:lnTo>
                    <a:pt x="141" y="63"/>
                  </a:lnTo>
                  <a:lnTo>
                    <a:pt x="141" y="64"/>
                  </a:lnTo>
                  <a:lnTo>
                    <a:pt x="141" y="66"/>
                  </a:lnTo>
                  <a:lnTo>
                    <a:pt x="141" y="68"/>
                  </a:lnTo>
                  <a:lnTo>
                    <a:pt x="139" y="68"/>
                  </a:lnTo>
                  <a:lnTo>
                    <a:pt x="137" y="68"/>
                  </a:lnTo>
                  <a:lnTo>
                    <a:pt x="131" y="68"/>
                  </a:lnTo>
                  <a:lnTo>
                    <a:pt x="126" y="68"/>
                  </a:lnTo>
                  <a:lnTo>
                    <a:pt x="118" y="68"/>
                  </a:lnTo>
                  <a:lnTo>
                    <a:pt x="111" y="68"/>
                  </a:lnTo>
                  <a:lnTo>
                    <a:pt x="103" y="68"/>
                  </a:lnTo>
                  <a:lnTo>
                    <a:pt x="94" y="68"/>
                  </a:lnTo>
                  <a:lnTo>
                    <a:pt x="85" y="68"/>
                  </a:lnTo>
                  <a:lnTo>
                    <a:pt x="77" y="68"/>
                  </a:lnTo>
                  <a:lnTo>
                    <a:pt x="68" y="68"/>
                  </a:lnTo>
                  <a:lnTo>
                    <a:pt x="62" y="68"/>
                  </a:lnTo>
                  <a:lnTo>
                    <a:pt x="55" y="68"/>
                  </a:lnTo>
                  <a:lnTo>
                    <a:pt x="51" y="68"/>
                  </a:lnTo>
                  <a:lnTo>
                    <a:pt x="49" y="68"/>
                  </a:lnTo>
                  <a:lnTo>
                    <a:pt x="48" y="68"/>
                  </a:lnTo>
                  <a:lnTo>
                    <a:pt x="47" y="68"/>
                  </a:lnTo>
                  <a:lnTo>
                    <a:pt x="47" y="70"/>
                  </a:lnTo>
                  <a:lnTo>
                    <a:pt x="47" y="71"/>
                  </a:lnTo>
                  <a:lnTo>
                    <a:pt x="47" y="72"/>
                  </a:lnTo>
                  <a:lnTo>
                    <a:pt x="47" y="74"/>
                  </a:lnTo>
                  <a:lnTo>
                    <a:pt x="48" y="74"/>
                  </a:lnTo>
                  <a:lnTo>
                    <a:pt x="48" y="76"/>
                  </a:lnTo>
                  <a:lnTo>
                    <a:pt x="48" y="78"/>
                  </a:lnTo>
                  <a:lnTo>
                    <a:pt x="49" y="78"/>
                  </a:lnTo>
                  <a:lnTo>
                    <a:pt x="49" y="79"/>
                  </a:lnTo>
                  <a:lnTo>
                    <a:pt x="50" y="80"/>
                  </a:lnTo>
                  <a:lnTo>
                    <a:pt x="50" y="82"/>
                  </a:lnTo>
                  <a:lnTo>
                    <a:pt x="50" y="83"/>
                  </a:lnTo>
                  <a:lnTo>
                    <a:pt x="51" y="83"/>
                  </a:lnTo>
                  <a:lnTo>
                    <a:pt x="52" y="84"/>
                  </a:lnTo>
                  <a:lnTo>
                    <a:pt x="53" y="85"/>
                  </a:lnTo>
                  <a:lnTo>
                    <a:pt x="54" y="86"/>
                  </a:lnTo>
                  <a:lnTo>
                    <a:pt x="54" y="87"/>
                  </a:lnTo>
                  <a:lnTo>
                    <a:pt x="55" y="87"/>
                  </a:lnTo>
                  <a:lnTo>
                    <a:pt x="57" y="87"/>
                  </a:lnTo>
                  <a:lnTo>
                    <a:pt x="57" y="88"/>
                  </a:lnTo>
                  <a:lnTo>
                    <a:pt x="59" y="88"/>
                  </a:lnTo>
                  <a:lnTo>
                    <a:pt x="60" y="88"/>
                  </a:lnTo>
                  <a:lnTo>
                    <a:pt x="60" y="89"/>
                  </a:lnTo>
                  <a:lnTo>
                    <a:pt x="62" y="89"/>
                  </a:lnTo>
                  <a:lnTo>
                    <a:pt x="63" y="89"/>
                  </a:lnTo>
                  <a:lnTo>
                    <a:pt x="64" y="89"/>
                  </a:lnTo>
                  <a:lnTo>
                    <a:pt x="65" y="89"/>
                  </a:lnTo>
                  <a:lnTo>
                    <a:pt x="67" y="91"/>
                  </a:lnTo>
                  <a:lnTo>
                    <a:pt x="68" y="89"/>
                  </a:lnTo>
                  <a:lnTo>
                    <a:pt x="69" y="89"/>
                  </a:lnTo>
                  <a:lnTo>
                    <a:pt x="72" y="89"/>
                  </a:lnTo>
                  <a:lnTo>
                    <a:pt x="74" y="89"/>
                  </a:lnTo>
                  <a:lnTo>
                    <a:pt x="76" y="89"/>
                  </a:lnTo>
                  <a:lnTo>
                    <a:pt x="77" y="88"/>
                  </a:lnTo>
                  <a:lnTo>
                    <a:pt x="78" y="87"/>
                  </a:lnTo>
                  <a:lnTo>
                    <a:pt x="80" y="87"/>
                  </a:lnTo>
                  <a:lnTo>
                    <a:pt x="81" y="87"/>
                  </a:lnTo>
                  <a:lnTo>
                    <a:pt x="82" y="86"/>
                  </a:lnTo>
                  <a:lnTo>
                    <a:pt x="82" y="84"/>
                  </a:lnTo>
                  <a:lnTo>
                    <a:pt x="85" y="83"/>
                  </a:lnTo>
                  <a:lnTo>
                    <a:pt x="87" y="80"/>
                  </a:lnTo>
                  <a:lnTo>
                    <a:pt x="88" y="80"/>
                  </a:lnTo>
                  <a:lnTo>
                    <a:pt x="52" y="45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76720" y="4295880"/>
              <a:ext cx="470880" cy="301320"/>
            </a:xfrm>
            <a:custGeom>
              <a:avLst/>
              <a:gdLst/>
              <a:ahLst/>
              <a:rect l="l" t="t" r="r" b="b"/>
              <a:pathLst>
                <a:path w="200" h="164">
                  <a:moveTo>
                    <a:pt x="63" y="125"/>
                  </a:moveTo>
                  <a:lnTo>
                    <a:pt x="71" y="132"/>
                  </a:lnTo>
                  <a:lnTo>
                    <a:pt x="81" y="138"/>
                  </a:lnTo>
                  <a:lnTo>
                    <a:pt x="91" y="143"/>
                  </a:lnTo>
                  <a:lnTo>
                    <a:pt x="101" y="148"/>
                  </a:lnTo>
                  <a:lnTo>
                    <a:pt x="110" y="152"/>
                  </a:lnTo>
                  <a:lnTo>
                    <a:pt x="119" y="155"/>
                  </a:lnTo>
                  <a:lnTo>
                    <a:pt x="129" y="159"/>
                  </a:lnTo>
                  <a:lnTo>
                    <a:pt x="137" y="160"/>
                  </a:lnTo>
                  <a:lnTo>
                    <a:pt x="146" y="162"/>
                  </a:lnTo>
                  <a:lnTo>
                    <a:pt x="155" y="163"/>
                  </a:lnTo>
                  <a:lnTo>
                    <a:pt x="162" y="162"/>
                  </a:lnTo>
                  <a:lnTo>
                    <a:pt x="170" y="161"/>
                  </a:lnTo>
                  <a:lnTo>
                    <a:pt x="175" y="160"/>
                  </a:lnTo>
                  <a:lnTo>
                    <a:pt x="182" y="157"/>
                  </a:lnTo>
                  <a:lnTo>
                    <a:pt x="187" y="154"/>
                  </a:lnTo>
                  <a:lnTo>
                    <a:pt x="191" y="151"/>
                  </a:lnTo>
                  <a:lnTo>
                    <a:pt x="194" y="146"/>
                  </a:lnTo>
                  <a:lnTo>
                    <a:pt x="197" y="140"/>
                  </a:lnTo>
                  <a:lnTo>
                    <a:pt x="198" y="134"/>
                  </a:lnTo>
                  <a:lnTo>
                    <a:pt x="199" y="129"/>
                  </a:lnTo>
                  <a:lnTo>
                    <a:pt x="198" y="122"/>
                  </a:lnTo>
                  <a:lnTo>
                    <a:pt x="198" y="115"/>
                  </a:lnTo>
                  <a:lnTo>
                    <a:pt x="196" y="108"/>
                  </a:lnTo>
                  <a:lnTo>
                    <a:pt x="193" y="101"/>
                  </a:lnTo>
                  <a:lnTo>
                    <a:pt x="188" y="93"/>
                  </a:lnTo>
                  <a:lnTo>
                    <a:pt x="184" y="85"/>
                  </a:lnTo>
                  <a:lnTo>
                    <a:pt x="180" y="78"/>
                  </a:lnTo>
                  <a:lnTo>
                    <a:pt x="173" y="70"/>
                  </a:lnTo>
                  <a:lnTo>
                    <a:pt x="165" y="63"/>
                  </a:lnTo>
                  <a:lnTo>
                    <a:pt x="158" y="55"/>
                  </a:lnTo>
                  <a:lnTo>
                    <a:pt x="150" y="47"/>
                  </a:lnTo>
                  <a:lnTo>
                    <a:pt x="142" y="41"/>
                  </a:lnTo>
                  <a:lnTo>
                    <a:pt x="141" y="41"/>
                  </a:lnTo>
                  <a:lnTo>
                    <a:pt x="141" y="42"/>
                  </a:lnTo>
                  <a:lnTo>
                    <a:pt x="140" y="42"/>
                  </a:lnTo>
                  <a:lnTo>
                    <a:pt x="138" y="45"/>
                  </a:lnTo>
                  <a:lnTo>
                    <a:pt x="138" y="47"/>
                  </a:lnTo>
                  <a:lnTo>
                    <a:pt x="137" y="50"/>
                  </a:lnTo>
                  <a:lnTo>
                    <a:pt x="137" y="55"/>
                  </a:lnTo>
                  <a:lnTo>
                    <a:pt x="136" y="59"/>
                  </a:lnTo>
                  <a:lnTo>
                    <a:pt x="134" y="63"/>
                  </a:lnTo>
                  <a:lnTo>
                    <a:pt x="134" y="67"/>
                  </a:lnTo>
                  <a:lnTo>
                    <a:pt x="133" y="71"/>
                  </a:lnTo>
                  <a:lnTo>
                    <a:pt x="133" y="74"/>
                  </a:lnTo>
                  <a:lnTo>
                    <a:pt x="132" y="78"/>
                  </a:lnTo>
                  <a:lnTo>
                    <a:pt x="132" y="80"/>
                  </a:lnTo>
                  <a:lnTo>
                    <a:pt x="132" y="83"/>
                  </a:lnTo>
                  <a:lnTo>
                    <a:pt x="132" y="85"/>
                  </a:lnTo>
                  <a:lnTo>
                    <a:pt x="132" y="87"/>
                  </a:lnTo>
                  <a:lnTo>
                    <a:pt x="132" y="88"/>
                  </a:lnTo>
                  <a:lnTo>
                    <a:pt x="132" y="89"/>
                  </a:lnTo>
                  <a:lnTo>
                    <a:pt x="130" y="89"/>
                  </a:lnTo>
                  <a:lnTo>
                    <a:pt x="130" y="91"/>
                  </a:lnTo>
                  <a:lnTo>
                    <a:pt x="130" y="92"/>
                  </a:lnTo>
                  <a:lnTo>
                    <a:pt x="130" y="93"/>
                  </a:lnTo>
                  <a:lnTo>
                    <a:pt x="129" y="93"/>
                  </a:lnTo>
                  <a:lnTo>
                    <a:pt x="129" y="95"/>
                  </a:lnTo>
                  <a:lnTo>
                    <a:pt x="128" y="95"/>
                  </a:lnTo>
                  <a:lnTo>
                    <a:pt x="128" y="96"/>
                  </a:lnTo>
                  <a:lnTo>
                    <a:pt x="128" y="97"/>
                  </a:lnTo>
                  <a:lnTo>
                    <a:pt x="125" y="97"/>
                  </a:lnTo>
                  <a:lnTo>
                    <a:pt x="125" y="98"/>
                  </a:lnTo>
                  <a:lnTo>
                    <a:pt x="124" y="98"/>
                  </a:lnTo>
                  <a:lnTo>
                    <a:pt x="124" y="99"/>
                  </a:lnTo>
                  <a:lnTo>
                    <a:pt x="123" y="99"/>
                  </a:lnTo>
                  <a:lnTo>
                    <a:pt x="121" y="100"/>
                  </a:lnTo>
                  <a:lnTo>
                    <a:pt x="120" y="100"/>
                  </a:lnTo>
                  <a:lnTo>
                    <a:pt x="119" y="100"/>
                  </a:lnTo>
                  <a:lnTo>
                    <a:pt x="118" y="100"/>
                  </a:lnTo>
                  <a:lnTo>
                    <a:pt x="116" y="100"/>
                  </a:lnTo>
                  <a:lnTo>
                    <a:pt x="114" y="100"/>
                  </a:lnTo>
                  <a:lnTo>
                    <a:pt x="111" y="100"/>
                  </a:lnTo>
                  <a:lnTo>
                    <a:pt x="110" y="100"/>
                  </a:lnTo>
                  <a:lnTo>
                    <a:pt x="109" y="100"/>
                  </a:lnTo>
                  <a:lnTo>
                    <a:pt x="107" y="100"/>
                  </a:lnTo>
                  <a:lnTo>
                    <a:pt x="106" y="100"/>
                  </a:lnTo>
                  <a:lnTo>
                    <a:pt x="105" y="100"/>
                  </a:lnTo>
                  <a:lnTo>
                    <a:pt x="103" y="100"/>
                  </a:lnTo>
                  <a:lnTo>
                    <a:pt x="102" y="100"/>
                  </a:lnTo>
                  <a:lnTo>
                    <a:pt x="100" y="100"/>
                  </a:lnTo>
                  <a:lnTo>
                    <a:pt x="97" y="100"/>
                  </a:lnTo>
                  <a:lnTo>
                    <a:pt x="96" y="100"/>
                  </a:lnTo>
                  <a:lnTo>
                    <a:pt x="95" y="100"/>
                  </a:lnTo>
                  <a:lnTo>
                    <a:pt x="92" y="100"/>
                  </a:lnTo>
                  <a:lnTo>
                    <a:pt x="90" y="100"/>
                  </a:lnTo>
                  <a:lnTo>
                    <a:pt x="89" y="100"/>
                  </a:lnTo>
                  <a:lnTo>
                    <a:pt x="88" y="100"/>
                  </a:lnTo>
                  <a:lnTo>
                    <a:pt x="85" y="100"/>
                  </a:lnTo>
                  <a:lnTo>
                    <a:pt x="83" y="100"/>
                  </a:lnTo>
                  <a:lnTo>
                    <a:pt x="81" y="100"/>
                  </a:lnTo>
                  <a:lnTo>
                    <a:pt x="80" y="100"/>
                  </a:lnTo>
                  <a:lnTo>
                    <a:pt x="79" y="100"/>
                  </a:lnTo>
                  <a:lnTo>
                    <a:pt x="78" y="100"/>
                  </a:lnTo>
                  <a:lnTo>
                    <a:pt x="77" y="100"/>
                  </a:lnTo>
                  <a:lnTo>
                    <a:pt x="76" y="100"/>
                  </a:lnTo>
                  <a:lnTo>
                    <a:pt x="75" y="100"/>
                  </a:lnTo>
                  <a:lnTo>
                    <a:pt x="74" y="100"/>
                  </a:lnTo>
                  <a:lnTo>
                    <a:pt x="74" y="99"/>
                  </a:lnTo>
                  <a:lnTo>
                    <a:pt x="74" y="96"/>
                  </a:lnTo>
                  <a:lnTo>
                    <a:pt x="74" y="93"/>
                  </a:lnTo>
                  <a:lnTo>
                    <a:pt x="74" y="89"/>
                  </a:lnTo>
                  <a:lnTo>
                    <a:pt x="76" y="84"/>
                  </a:lnTo>
                  <a:lnTo>
                    <a:pt x="77" y="78"/>
                  </a:lnTo>
                  <a:lnTo>
                    <a:pt x="78" y="72"/>
                  </a:lnTo>
                  <a:lnTo>
                    <a:pt x="79" y="66"/>
                  </a:lnTo>
                  <a:lnTo>
                    <a:pt x="80" y="59"/>
                  </a:lnTo>
                  <a:lnTo>
                    <a:pt x="81" y="54"/>
                  </a:lnTo>
                  <a:lnTo>
                    <a:pt x="83" y="48"/>
                  </a:lnTo>
                  <a:lnTo>
                    <a:pt x="83" y="42"/>
                  </a:lnTo>
                  <a:lnTo>
                    <a:pt x="84" y="38"/>
                  </a:lnTo>
                  <a:lnTo>
                    <a:pt x="85" y="33"/>
                  </a:lnTo>
                  <a:lnTo>
                    <a:pt x="85" y="31"/>
                  </a:lnTo>
                  <a:lnTo>
                    <a:pt x="87" y="29"/>
                  </a:lnTo>
                  <a:lnTo>
                    <a:pt x="87" y="28"/>
                  </a:lnTo>
                  <a:lnTo>
                    <a:pt x="87" y="27"/>
                  </a:lnTo>
                  <a:lnTo>
                    <a:pt x="87" y="26"/>
                  </a:lnTo>
                  <a:lnTo>
                    <a:pt x="87" y="25"/>
                  </a:lnTo>
                  <a:lnTo>
                    <a:pt x="88" y="25"/>
                  </a:lnTo>
                  <a:lnTo>
                    <a:pt x="88" y="24"/>
                  </a:lnTo>
                  <a:lnTo>
                    <a:pt x="88" y="23"/>
                  </a:lnTo>
                  <a:lnTo>
                    <a:pt x="88" y="22"/>
                  </a:lnTo>
                  <a:lnTo>
                    <a:pt x="88" y="21"/>
                  </a:lnTo>
                  <a:lnTo>
                    <a:pt x="88" y="20"/>
                  </a:lnTo>
                  <a:lnTo>
                    <a:pt x="88" y="17"/>
                  </a:lnTo>
                  <a:lnTo>
                    <a:pt x="88" y="16"/>
                  </a:lnTo>
                  <a:lnTo>
                    <a:pt x="89" y="14"/>
                  </a:lnTo>
                  <a:lnTo>
                    <a:pt x="89" y="13"/>
                  </a:lnTo>
                  <a:lnTo>
                    <a:pt x="89" y="12"/>
                  </a:lnTo>
                  <a:lnTo>
                    <a:pt x="90" y="12"/>
                  </a:lnTo>
                  <a:lnTo>
                    <a:pt x="90" y="11"/>
                  </a:lnTo>
                  <a:lnTo>
                    <a:pt x="89" y="11"/>
                  </a:lnTo>
                  <a:lnTo>
                    <a:pt x="82" y="8"/>
                  </a:lnTo>
                  <a:lnTo>
                    <a:pt x="76" y="5"/>
                  </a:lnTo>
                  <a:lnTo>
                    <a:pt x="69" y="4"/>
                  </a:lnTo>
                  <a:lnTo>
                    <a:pt x="64" y="3"/>
                  </a:lnTo>
                  <a:lnTo>
                    <a:pt x="57" y="1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25" y="3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9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2" y="49"/>
                  </a:lnTo>
                  <a:lnTo>
                    <a:pt x="4" y="55"/>
                  </a:lnTo>
                  <a:lnTo>
                    <a:pt x="9" y="63"/>
                  </a:lnTo>
                  <a:lnTo>
                    <a:pt x="13" y="71"/>
                  </a:lnTo>
                  <a:lnTo>
                    <a:pt x="17" y="79"/>
                  </a:lnTo>
                  <a:lnTo>
                    <a:pt x="23" y="87"/>
                  </a:lnTo>
                  <a:lnTo>
                    <a:pt x="29" y="95"/>
                  </a:lnTo>
                  <a:lnTo>
                    <a:pt x="37" y="102"/>
                  </a:lnTo>
                  <a:lnTo>
                    <a:pt x="44" y="110"/>
                  </a:lnTo>
                  <a:lnTo>
                    <a:pt x="53" y="118"/>
                  </a:lnTo>
                  <a:lnTo>
                    <a:pt x="63" y="125"/>
                  </a:lnTo>
                </a:path>
              </a:pathLst>
            </a:custGeom>
            <a:solidFill>
              <a:srgbClr val="fa7d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51960" y="4262760"/>
              <a:ext cx="308160" cy="217080"/>
            </a:xfrm>
            <a:custGeom>
              <a:avLst/>
              <a:gdLst/>
              <a:ahLst/>
              <a:rect l="l" t="t" r="r" b="b"/>
              <a:pathLst>
                <a:path w="131" h="118">
                  <a:moveTo>
                    <a:pt x="87" y="34"/>
                  </a:moveTo>
                  <a:lnTo>
                    <a:pt x="86" y="33"/>
                  </a:lnTo>
                  <a:lnTo>
                    <a:pt x="86" y="31"/>
                  </a:lnTo>
                  <a:lnTo>
                    <a:pt x="86" y="30"/>
                  </a:lnTo>
                  <a:lnTo>
                    <a:pt x="86" y="29"/>
                  </a:lnTo>
                  <a:lnTo>
                    <a:pt x="85" y="28"/>
                  </a:lnTo>
                  <a:lnTo>
                    <a:pt x="85" y="27"/>
                  </a:lnTo>
                  <a:lnTo>
                    <a:pt x="85" y="26"/>
                  </a:lnTo>
                  <a:lnTo>
                    <a:pt x="83" y="26"/>
                  </a:lnTo>
                  <a:lnTo>
                    <a:pt x="82" y="25"/>
                  </a:lnTo>
                  <a:lnTo>
                    <a:pt x="81" y="24"/>
                  </a:lnTo>
                  <a:lnTo>
                    <a:pt x="79" y="24"/>
                  </a:lnTo>
                  <a:lnTo>
                    <a:pt x="78" y="24"/>
                  </a:lnTo>
                  <a:lnTo>
                    <a:pt x="76" y="24"/>
                  </a:lnTo>
                  <a:lnTo>
                    <a:pt x="75" y="24"/>
                  </a:lnTo>
                  <a:lnTo>
                    <a:pt x="74" y="24"/>
                  </a:lnTo>
                  <a:lnTo>
                    <a:pt x="72" y="24"/>
                  </a:lnTo>
                  <a:lnTo>
                    <a:pt x="70" y="24"/>
                  </a:lnTo>
                  <a:lnTo>
                    <a:pt x="69" y="24"/>
                  </a:lnTo>
                  <a:lnTo>
                    <a:pt x="67" y="24"/>
                  </a:lnTo>
                  <a:lnTo>
                    <a:pt x="66" y="24"/>
                  </a:lnTo>
                  <a:lnTo>
                    <a:pt x="66" y="25"/>
                  </a:lnTo>
                  <a:lnTo>
                    <a:pt x="65" y="25"/>
                  </a:lnTo>
                  <a:lnTo>
                    <a:pt x="64" y="26"/>
                  </a:lnTo>
                  <a:lnTo>
                    <a:pt x="63" y="26"/>
                  </a:lnTo>
                  <a:lnTo>
                    <a:pt x="62" y="27"/>
                  </a:lnTo>
                  <a:lnTo>
                    <a:pt x="62" y="28"/>
                  </a:lnTo>
                  <a:lnTo>
                    <a:pt x="61" y="29"/>
                  </a:lnTo>
                  <a:lnTo>
                    <a:pt x="60" y="29"/>
                  </a:lnTo>
                  <a:lnTo>
                    <a:pt x="60" y="30"/>
                  </a:lnTo>
                  <a:lnTo>
                    <a:pt x="60" y="31"/>
                  </a:lnTo>
                  <a:lnTo>
                    <a:pt x="59" y="31"/>
                  </a:lnTo>
                  <a:lnTo>
                    <a:pt x="59" y="33"/>
                  </a:lnTo>
                  <a:lnTo>
                    <a:pt x="60" y="33"/>
                  </a:lnTo>
                  <a:lnTo>
                    <a:pt x="61" y="34"/>
                  </a:lnTo>
                  <a:lnTo>
                    <a:pt x="61" y="35"/>
                  </a:lnTo>
                  <a:lnTo>
                    <a:pt x="62" y="35"/>
                  </a:lnTo>
                  <a:lnTo>
                    <a:pt x="63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66" y="38"/>
                  </a:lnTo>
                  <a:lnTo>
                    <a:pt x="68" y="39"/>
                  </a:lnTo>
                  <a:lnTo>
                    <a:pt x="70" y="39"/>
                  </a:lnTo>
                  <a:lnTo>
                    <a:pt x="74" y="41"/>
                  </a:lnTo>
                  <a:lnTo>
                    <a:pt x="76" y="41"/>
                  </a:lnTo>
                  <a:lnTo>
                    <a:pt x="79" y="41"/>
                  </a:lnTo>
                  <a:lnTo>
                    <a:pt x="82" y="42"/>
                  </a:lnTo>
                  <a:lnTo>
                    <a:pt x="86" y="43"/>
                  </a:lnTo>
                  <a:lnTo>
                    <a:pt x="89" y="43"/>
                  </a:lnTo>
                  <a:lnTo>
                    <a:pt x="91" y="44"/>
                  </a:lnTo>
                  <a:lnTo>
                    <a:pt x="93" y="45"/>
                  </a:lnTo>
                  <a:lnTo>
                    <a:pt x="96" y="46"/>
                  </a:lnTo>
                  <a:lnTo>
                    <a:pt x="99" y="46"/>
                  </a:lnTo>
                  <a:lnTo>
                    <a:pt x="102" y="47"/>
                  </a:lnTo>
                  <a:lnTo>
                    <a:pt x="103" y="48"/>
                  </a:lnTo>
                  <a:lnTo>
                    <a:pt x="106" y="48"/>
                  </a:lnTo>
                  <a:lnTo>
                    <a:pt x="107" y="49"/>
                  </a:lnTo>
                  <a:lnTo>
                    <a:pt x="109" y="50"/>
                  </a:lnTo>
                  <a:lnTo>
                    <a:pt x="112" y="50"/>
                  </a:lnTo>
                  <a:lnTo>
                    <a:pt x="114" y="51"/>
                  </a:lnTo>
                  <a:lnTo>
                    <a:pt x="115" y="51"/>
                  </a:lnTo>
                  <a:lnTo>
                    <a:pt x="116" y="52"/>
                  </a:lnTo>
                  <a:lnTo>
                    <a:pt x="118" y="53"/>
                  </a:lnTo>
                  <a:lnTo>
                    <a:pt x="119" y="54"/>
                  </a:lnTo>
                  <a:lnTo>
                    <a:pt x="120" y="54"/>
                  </a:lnTo>
                  <a:lnTo>
                    <a:pt x="121" y="56"/>
                  </a:lnTo>
                  <a:lnTo>
                    <a:pt x="122" y="57"/>
                  </a:lnTo>
                  <a:lnTo>
                    <a:pt x="124" y="59"/>
                  </a:lnTo>
                  <a:lnTo>
                    <a:pt x="125" y="59"/>
                  </a:lnTo>
                  <a:lnTo>
                    <a:pt x="125" y="61"/>
                  </a:lnTo>
                  <a:lnTo>
                    <a:pt x="125" y="63"/>
                  </a:lnTo>
                  <a:lnTo>
                    <a:pt x="126" y="64"/>
                  </a:lnTo>
                  <a:lnTo>
                    <a:pt x="126" y="66"/>
                  </a:lnTo>
                  <a:lnTo>
                    <a:pt x="126" y="67"/>
                  </a:lnTo>
                  <a:lnTo>
                    <a:pt x="126" y="69"/>
                  </a:lnTo>
                  <a:lnTo>
                    <a:pt x="127" y="71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79"/>
                  </a:lnTo>
                  <a:lnTo>
                    <a:pt x="125" y="81"/>
                  </a:lnTo>
                  <a:lnTo>
                    <a:pt x="125" y="84"/>
                  </a:lnTo>
                  <a:lnTo>
                    <a:pt x="124" y="85"/>
                  </a:lnTo>
                  <a:lnTo>
                    <a:pt x="122" y="88"/>
                  </a:lnTo>
                  <a:lnTo>
                    <a:pt x="121" y="90"/>
                  </a:lnTo>
                  <a:lnTo>
                    <a:pt x="120" y="92"/>
                  </a:lnTo>
                  <a:lnTo>
                    <a:pt x="118" y="94"/>
                  </a:lnTo>
                  <a:lnTo>
                    <a:pt x="116" y="96"/>
                  </a:lnTo>
                  <a:lnTo>
                    <a:pt x="115" y="97"/>
                  </a:lnTo>
                  <a:lnTo>
                    <a:pt x="113" y="99"/>
                  </a:lnTo>
                  <a:lnTo>
                    <a:pt x="111" y="101"/>
                  </a:lnTo>
                  <a:lnTo>
                    <a:pt x="108" y="103"/>
                  </a:lnTo>
                  <a:lnTo>
                    <a:pt x="106" y="105"/>
                  </a:lnTo>
                  <a:lnTo>
                    <a:pt x="104" y="105"/>
                  </a:lnTo>
                  <a:lnTo>
                    <a:pt x="102" y="107"/>
                  </a:lnTo>
                  <a:lnTo>
                    <a:pt x="99" y="109"/>
                  </a:lnTo>
                  <a:lnTo>
                    <a:pt x="95" y="110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7" y="113"/>
                  </a:lnTo>
                  <a:lnTo>
                    <a:pt x="83" y="114"/>
                  </a:lnTo>
                  <a:lnTo>
                    <a:pt x="80" y="114"/>
                  </a:lnTo>
                  <a:lnTo>
                    <a:pt x="77" y="114"/>
                  </a:lnTo>
                  <a:lnTo>
                    <a:pt x="74" y="116"/>
                  </a:lnTo>
                  <a:lnTo>
                    <a:pt x="70" y="116"/>
                  </a:lnTo>
                  <a:lnTo>
                    <a:pt x="66" y="116"/>
                  </a:lnTo>
                  <a:lnTo>
                    <a:pt x="62" y="116"/>
                  </a:lnTo>
                  <a:lnTo>
                    <a:pt x="59" y="116"/>
                  </a:lnTo>
                  <a:lnTo>
                    <a:pt x="55" y="117"/>
                  </a:lnTo>
                  <a:lnTo>
                    <a:pt x="52" y="116"/>
                  </a:lnTo>
                  <a:lnTo>
                    <a:pt x="48" y="116"/>
                  </a:lnTo>
                  <a:lnTo>
                    <a:pt x="46" y="116"/>
                  </a:lnTo>
                  <a:lnTo>
                    <a:pt x="42" y="116"/>
                  </a:lnTo>
                  <a:lnTo>
                    <a:pt x="39" y="116"/>
                  </a:lnTo>
                  <a:lnTo>
                    <a:pt x="37" y="116"/>
                  </a:lnTo>
                  <a:lnTo>
                    <a:pt x="35" y="114"/>
                  </a:lnTo>
                  <a:lnTo>
                    <a:pt x="31" y="114"/>
                  </a:lnTo>
                  <a:lnTo>
                    <a:pt x="29" y="114"/>
                  </a:lnTo>
                  <a:lnTo>
                    <a:pt x="26" y="113"/>
                  </a:lnTo>
                  <a:lnTo>
                    <a:pt x="25" y="112"/>
                  </a:lnTo>
                  <a:lnTo>
                    <a:pt x="22" y="112"/>
                  </a:lnTo>
                  <a:lnTo>
                    <a:pt x="21" y="110"/>
                  </a:lnTo>
                  <a:lnTo>
                    <a:pt x="17" y="109"/>
                  </a:lnTo>
                  <a:lnTo>
                    <a:pt x="16" y="108"/>
                  </a:lnTo>
                  <a:lnTo>
                    <a:pt x="14" y="107"/>
                  </a:lnTo>
                  <a:lnTo>
                    <a:pt x="12" y="105"/>
                  </a:lnTo>
                  <a:lnTo>
                    <a:pt x="10" y="105"/>
                  </a:lnTo>
                  <a:lnTo>
                    <a:pt x="8" y="103"/>
                  </a:lnTo>
                  <a:lnTo>
                    <a:pt x="8" y="101"/>
                  </a:lnTo>
                  <a:lnTo>
                    <a:pt x="5" y="100"/>
                  </a:lnTo>
                  <a:lnTo>
                    <a:pt x="4" y="99"/>
                  </a:lnTo>
                  <a:lnTo>
                    <a:pt x="3" y="97"/>
                  </a:lnTo>
                  <a:lnTo>
                    <a:pt x="3" y="95"/>
                  </a:lnTo>
                  <a:lnTo>
                    <a:pt x="2" y="93"/>
                  </a:lnTo>
                  <a:lnTo>
                    <a:pt x="1" y="92"/>
                  </a:lnTo>
                  <a:lnTo>
                    <a:pt x="1" y="89"/>
                  </a:lnTo>
                  <a:lnTo>
                    <a:pt x="0" y="87"/>
                  </a:lnTo>
                  <a:lnTo>
                    <a:pt x="0" y="85"/>
                  </a:lnTo>
                  <a:lnTo>
                    <a:pt x="0" y="83"/>
                  </a:lnTo>
                  <a:lnTo>
                    <a:pt x="0" y="80"/>
                  </a:lnTo>
                  <a:lnTo>
                    <a:pt x="1" y="78"/>
                  </a:lnTo>
                  <a:lnTo>
                    <a:pt x="3" y="78"/>
                  </a:lnTo>
                  <a:lnTo>
                    <a:pt x="4" y="78"/>
                  </a:lnTo>
                  <a:lnTo>
                    <a:pt x="8" y="78"/>
                  </a:lnTo>
                  <a:lnTo>
                    <a:pt x="12" y="78"/>
                  </a:lnTo>
                  <a:lnTo>
                    <a:pt x="15" y="78"/>
                  </a:lnTo>
                  <a:lnTo>
                    <a:pt x="20" y="78"/>
                  </a:lnTo>
                  <a:lnTo>
                    <a:pt x="24" y="78"/>
                  </a:lnTo>
                  <a:lnTo>
                    <a:pt x="27" y="78"/>
                  </a:lnTo>
                  <a:lnTo>
                    <a:pt x="31" y="78"/>
                  </a:lnTo>
                  <a:lnTo>
                    <a:pt x="35" y="78"/>
                  </a:lnTo>
                  <a:lnTo>
                    <a:pt x="39" y="78"/>
                  </a:lnTo>
                  <a:lnTo>
                    <a:pt x="42" y="78"/>
                  </a:lnTo>
                  <a:lnTo>
                    <a:pt x="43" y="78"/>
                  </a:lnTo>
                  <a:lnTo>
                    <a:pt x="46" y="78"/>
                  </a:lnTo>
                  <a:lnTo>
                    <a:pt x="47" y="78"/>
                  </a:lnTo>
                  <a:lnTo>
                    <a:pt x="46" y="80"/>
                  </a:lnTo>
                  <a:lnTo>
                    <a:pt x="47" y="82"/>
                  </a:lnTo>
                  <a:lnTo>
                    <a:pt x="47" y="84"/>
                  </a:lnTo>
                  <a:lnTo>
                    <a:pt x="48" y="84"/>
                  </a:lnTo>
                  <a:lnTo>
                    <a:pt x="48" y="86"/>
                  </a:lnTo>
                  <a:lnTo>
                    <a:pt x="48" y="87"/>
                  </a:lnTo>
                  <a:lnTo>
                    <a:pt x="49" y="88"/>
                  </a:lnTo>
                  <a:lnTo>
                    <a:pt x="50" y="88"/>
                  </a:lnTo>
                  <a:lnTo>
                    <a:pt x="52" y="89"/>
                  </a:lnTo>
                  <a:lnTo>
                    <a:pt x="53" y="90"/>
                  </a:lnTo>
                  <a:lnTo>
                    <a:pt x="54" y="90"/>
                  </a:lnTo>
                  <a:lnTo>
                    <a:pt x="55" y="91"/>
                  </a:lnTo>
                  <a:lnTo>
                    <a:pt x="57" y="91"/>
                  </a:lnTo>
                  <a:lnTo>
                    <a:pt x="59" y="91"/>
                  </a:lnTo>
                  <a:lnTo>
                    <a:pt x="62" y="92"/>
                  </a:lnTo>
                  <a:lnTo>
                    <a:pt x="62" y="91"/>
                  </a:lnTo>
                  <a:lnTo>
                    <a:pt x="63" y="91"/>
                  </a:lnTo>
                  <a:lnTo>
                    <a:pt x="64" y="91"/>
                  </a:lnTo>
                  <a:lnTo>
                    <a:pt x="65" y="91"/>
                  </a:lnTo>
                  <a:lnTo>
                    <a:pt x="66" y="91"/>
                  </a:lnTo>
                  <a:lnTo>
                    <a:pt x="67" y="91"/>
                  </a:lnTo>
                  <a:lnTo>
                    <a:pt x="68" y="90"/>
                  </a:lnTo>
                  <a:lnTo>
                    <a:pt x="69" y="90"/>
                  </a:lnTo>
                  <a:lnTo>
                    <a:pt x="70" y="90"/>
                  </a:lnTo>
                  <a:lnTo>
                    <a:pt x="70" y="89"/>
                  </a:lnTo>
                  <a:lnTo>
                    <a:pt x="72" y="89"/>
                  </a:lnTo>
                  <a:lnTo>
                    <a:pt x="73" y="89"/>
                  </a:lnTo>
                  <a:lnTo>
                    <a:pt x="73" y="88"/>
                  </a:lnTo>
                  <a:lnTo>
                    <a:pt x="74" y="88"/>
                  </a:lnTo>
                  <a:lnTo>
                    <a:pt x="75" y="88"/>
                  </a:lnTo>
                  <a:lnTo>
                    <a:pt x="75" y="87"/>
                  </a:lnTo>
                  <a:lnTo>
                    <a:pt x="76" y="86"/>
                  </a:lnTo>
                  <a:lnTo>
                    <a:pt x="76" y="85"/>
                  </a:lnTo>
                  <a:lnTo>
                    <a:pt x="77" y="85"/>
                  </a:lnTo>
                  <a:lnTo>
                    <a:pt x="77" y="84"/>
                  </a:lnTo>
                  <a:lnTo>
                    <a:pt x="77" y="83"/>
                  </a:lnTo>
                  <a:lnTo>
                    <a:pt x="77" y="82"/>
                  </a:lnTo>
                  <a:lnTo>
                    <a:pt x="78" y="82"/>
                  </a:lnTo>
                  <a:lnTo>
                    <a:pt x="77" y="81"/>
                  </a:lnTo>
                  <a:lnTo>
                    <a:pt x="77" y="80"/>
                  </a:lnTo>
                  <a:lnTo>
                    <a:pt x="77" y="79"/>
                  </a:lnTo>
                  <a:lnTo>
                    <a:pt x="77" y="78"/>
                  </a:lnTo>
                  <a:lnTo>
                    <a:pt x="76" y="78"/>
                  </a:lnTo>
                  <a:lnTo>
                    <a:pt x="76" y="77"/>
                  </a:lnTo>
                  <a:lnTo>
                    <a:pt x="75" y="77"/>
                  </a:lnTo>
                  <a:lnTo>
                    <a:pt x="75" y="76"/>
                  </a:lnTo>
                  <a:lnTo>
                    <a:pt x="74" y="76"/>
                  </a:lnTo>
                  <a:lnTo>
                    <a:pt x="73" y="75"/>
                  </a:lnTo>
                  <a:lnTo>
                    <a:pt x="72" y="75"/>
                  </a:lnTo>
                  <a:lnTo>
                    <a:pt x="70" y="74"/>
                  </a:lnTo>
                  <a:lnTo>
                    <a:pt x="69" y="74"/>
                  </a:lnTo>
                  <a:lnTo>
                    <a:pt x="68" y="73"/>
                  </a:lnTo>
                  <a:lnTo>
                    <a:pt x="66" y="73"/>
                  </a:lnTo>
                  <a:lnTo>
                    <a:pt x="65" y="72"/>
                  </a:lnTo>
                  <a:lnTo>
                    <a:pt x="63" y="72"/>
                  </a:lnTo>
                  <a:lnTo>
                    <a:pt x="62" y="71"/>
                  </a:lnTo>
                  <a:lnTo>
                    <a:pt x="60" y="71"/>
                  </a:lnTo>
                  <a:lnTo>
                    <a:pt x="57" y="71"/>
                  </a:lnTo>
                  <a:lnTo>
                    <a:pt x="56" y="71"/>
                  </a:lnTo>
                  <a:lnTo>
                    <a:pt x="54" y="71"/>
                  </a:lnTo>
                  <a:lnTo>
                    <a:pt x="52" y="70"/>
                  </a:lnTo>
                  <a:lnTo>
                    <a:pt x="50" y="70"/>
                  </a:lnTo>
                  <a:lnTo>
                    <a:pt x="48" y="69"/>
                  </a:lnTo>
                  <a:lnTo>
                    <a:pt x="44" y="68"/>
                  </a:lnTo>
                  <a:lnTo>
                    <a:pt x="42" y="67"/>
                  </a:lnTo>
                  <a:lnTo>
                    <a:pt x="39" y="67"/>
                  </a:lnTo>
                  <a:lnTo>
                    <a:pt x="38" y="67"/>
                  </a:lnTo>
                  <a:lnTo>
                    <a:pt x="36" y="66"/>
                  </a:lnTo>
                  <a:lnTo>
                    <a:pt x="34" y="65"/>
                  </a:lnTo>
                  <a:lnTo>
                    <a:pt x="31" y="64"/>
                  </a:lnTo>
                  <a:lnTo>
                    <a:pt x="30" y="63"/>
                  </a:lnTo>
                  <a:lnTo>
                    <a:pt x="28" y="63"/>
                  </a:lnTo>
                  <a:lnTo>
                    <a:pt x="26" y="63"/>
                  </a:lnTo>
                  <a:lnTo>
                    <a:pt x="26" y="62"/>
                  </a:lnTo>
                  <a:lnTo>
                    <a:pt x="24" y="61"/>
                  </a:lnTo>
                  <a:lnTo>
                    <a:pt x="22" y="60"/>
                  </a:lnTo>
                  <a:lnTo>
                    <a:pt x="22" y="59"/>
                  </a:lnTo>
                  <a:lnTo>
                    <a:pt x="21" y="59"/>
                  </a:lnTo>
                  <a:lnTo>
                    <a:pt x="20" y="57"/>
                  </a:lnTo>
                  <a:lnTo>
                    <a:pt x="17" y="56"/>
                  </a:lnTo>
                  <a:lnTo>
                    <a:pt x="17" y="55"/>
                  </a:lnTo>
                  <a:lnTo>
                    <a:pt x="16" y="54"/>
                  </a:lnTo>
                  <a:lnTo>
                    <a:pt x="15" y="53"/>
                  </a:lnTo>
                  <a:lnTo>
                    <a:pt x="14" y="51"/>
                  </a:lnTo>
                  <a:lnTo>
                    <a:pt x="14" y="50"/>
                  </a:lnTo>
                  <a:lnTo>
                    <a:pt x="13" y="49"/>
                  </a:lnTo>
                  <a:lnTo>
                    <a:pt x="13" y="48"/>
                  </a:lnTo>
                  <a:lnTo>
                    <a:pt x="12" y="46"/>
                  </a:lnTo>
                  <a:lnTo>
                    <a:pt x="12" y="45"/>
                  </a:lnTo>
                  <a:lnTo>
                    <a:pt x="12" y="43"/>
                  </a:lnTo>
                  <a:lnTo>
                    <a:pt x="12" y="41"/>
                  </a:lnTo>
                  <a:lnTo>
                    <a:pt x="12" y="39"/>
                  </a:lnTo>
                  <a:lnTo>
                    <a:pt x="12" y="38"/>
                  </a:lnTo>
                  <a:lnTo>
                    <a:pt x="13" y="37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14" y="31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7" y="25"/>
                  </a:lnTo>
                  <a:lnTo>
                    <a:pt x="17" y="24"/>
                  </a:lnTo>
                  <a:lnTo>
                    <a:pt x="20" y="22"/>
                  </a:lnTo>
                  <a:lnTo>
                    <a:pt x="20" y="20"/>
                  </a:lnTo>
                  <a:lnTo>
                    <a:pt x="21" y="18"/>
                  </a:lnTo>
                  <a:lnTo>
                    <a:pt x="22" y="17"/>
                  </a:lnTo>
                  <a:lnTo>
                    <a:pt x="24" y="16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3" y="9"/>
                  </a:lnTo>
                  <a:lnTo>
                    <a:pt x="35" y="7"/>
                  </a:lnTo>
                  <a:lnTo>
                    <a:pt x="37" y="6"/>
                  </a:lnTo>
                  <a:lnTo>
                    <a:pt x="39" y="5"/>
                  </a:lnTo>
                  <a:lnTo>
                    <a:pt x="42" y="4"/>
                  </a:lnTo>
                  <a:lnTo>
                    <a:pt x="44" y="3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60" y="1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5" y="1"/>
                  </a:lnTo>
                  <a:lnTo>
                    <a:pt x="101" y="1"/>
                  </a:lnTo>
                  <a:lnTo>
                    <a:pt x="105" y="2"/>
                  </a:lnTo>
                  <a:lnTo>
                    <a:pt x="109" y="4"/>
                  </a:lnTo>
                  <a:lnTo>
                    <a:pt x="114" y="5"/>
                  </a:lnTo>
                  <a:lnTo>
                    <a:pt x="117" y="7"/>
                  </a:lnTo>
                  <a:lnTo>
                    <a:pt x="120" y="9"/>
                  </a:lnTo>
                  <a:lnTo>
                    <a:pt x="122" y="12"/>
                  </a:lnTo>
                  <a:lnTo>
                    <a:pt x="125" y="14"/>
                  </a:lnTo>
                  <a:lnTo>
                    <a:pt x="127" y="17"/>
                  </a:lnTo>
                  <a:lnTo>
                    <a:pt x="128" y="20"/>
                  </a:lnTo>
                  <a:lnTo>
                    <a:pt x="129" y="22"/>
                  </a:lnTo>
                  <a:lnTo>
                    <a:pt x="129" y="27"/>
                  </a:lnTo>
                  <a:lnTo>
                    <a:pt x="130" y="31"/>
                  </a:lnTo>
                  <a:lnTo>
                    <a:pt x="130" y="33"/>
                  </a:lnTo>
                  <a:lnTo>
                    <a:pt x="130" y="34"/>
                  </a:lnTo>
                  <a:lnTo>
                    <a:pt x="129" y="34"/>
                  </a:lnTo>
                  <a:lnTo>
                    <a:pt x="128" y="34"/>
                  </a:lnTo>
                  <a:lnTo>
                    <a:pt x="126" y="34"/>
                  </a:lnTo>
                  <a:lnTo>
                    <a:pt x="124" y="34"/>
                  </a:lnTo>
                  <a:lnTo>
                    <a:pt x="120" y="34"/>
                  </a:lnTo>
                  <a:lnTo>
                    <a:pt x="116" y="34"/>
                  </a:lnTo>
                  <a:lnTo>
                    <a:pt x="112" y="34"/>
                  </a:lnTo>
                  <a:lnTo>
                    <a:pt x="108" y="34"/>
                  </a:lnTo>
                  <a:lnTo>
                    <a:pt x="104" y="34"/>
                  </a:lnTo>
                  <a:lnTo>
                    <a:pt x="100" y="34"/>
                  </a:lnTo>
                  <a:lnTo>
                    <a:pt x="96" y="34"/>
                  </a:lnTo>
                  <a:lnTo>
                    <a:pt x="93" y="34"/>
                  </a:lnTo>
                  <a:lnTo>
                    <a:pt x="90" y="34"/>
                  </a:lnTo>
                  <a:lnTo>
                    <a:pt x="89" y="34"/>
                  </a:lnTo>
                  <a:lnTo>
                    <a:pt x="87" y="34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5" name=""/>
          <p:cNvGraphicFramePr/>
          <p:nvPr/>
        </p:nvGraphicFramePr>
        <p:xfrm>
          <a:off x="7620120" y="1844640"/>
          <a:ext cx="100800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1844640"/>
                    <a:ext cx="10080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877080" y="4653000"/>
          <a:ext cx="179064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77080" y="4653000"/>
                    <a:ext cx="17906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9" name="" descr=""/>
          <p:cNvPicPr/>
          <p:nvPr/>
        </p:nvPicPr>
        <p:blipFill>
          <a:blip r:embed="rId9"/>
          <a:stretch/>
        </p:blipFill>
        <p:spPr>
          <a:xfrm>
            <a:off x="4876920" y="5486400"/>
            <a:ext cx="1600200" cy="457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Caltex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8028000" y="5373720"/>
            <a:ext cx="669960" cy="789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2"/>
          <a:stretch/>
        </p:blipFill>
        <p:spPr>
          <a:xfrm>
            <a:off x="6705720" y="5334120"/>
            <a:ext cx="104760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468360" y="1916280"/>
          <a:ext cx="4284720" cy="319860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8360" y="1916280"/>
                    <a:ext cx="4284720" cy="31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MS PGothic"/>
              </a:rPr>
              <a:t>Verticals and service footprin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Vert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Manufac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Financi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ele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 strategy and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Large Scale reengineering including platform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Package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APAC </a:t>
            </a:r>
            <a:r>
              <a:rPr b="0" lang="en-GB" sz="3200" spc="-1" strike="noStrike">
                <a:solidFill>
                  <a:srgbClr val="993300"/>
                </a:solidFill>
                <a:latin typeface="Arial"/>
              </a:rPr>
              <a:t>– Key Characteristic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Diverse 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Challenges include diversity of language, culture, business prac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Outsourcing as a concept slowly getting 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In most countries (except Japan) no credible mid size Consulting/ SI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Need for skills in latest technology areas a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osys i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AP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as traditionally grown at twice the company growth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90% of clients are Global 1000 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ng term client relat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Have built local capability to deliver in markets like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04:23:38Z</dcterms:created>
  <dc:creator>P R Ganapathy</dc:creator>
  <dc:description/>
  <dc:language>en-US</dc:language>
  <cp:lastModifiedBy>Abhilash</cp:lastModifiedBy>
  <dcterms:modified xsi:type="dcterms:W3CDTF">2002-08-29T04:24:38Z</dcterms:modified>
  <cp:revision>56</cp:revision>
  <dc:subject/>
  <dc:title>Keeping the promise</dc:title>
</cp:coreProperties>
</file>