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649C-74E0-4BA9-BDF4-BF33695A4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t me take you through Infosys, telling you about the services we offer, our work culture, and the high standards that we aim to maintain. “ Powered by intellect, driven by values.” Infosys is truly a company driven by intellect and knowledge. Care is taken to ensure that the best from the best institutions are chosen. Secondly, the whole organization rests on a very effective foundation – a strong value system. As you can well imagine an organization, which rests on the two strong pillars of intellect and values, cannot help but be a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2E18-FA32-4F1D-A749-FC8158156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 for customized diagrams and slide di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95F2-D668-47D9-8E92-23C1C995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7C4-15CD-439C-8BB7-038409B6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6D7-7D24-40DE-B02D-79DC6095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184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413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3619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5184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413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27E7-4A1F-42C2-9592-01915AE8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47676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948-8288-4059-A6D2-1BC48B38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5184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413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619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5184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413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BA8-A5FD-4C1D-BB29-C431F617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DBFD-295E-4386-8386-06036373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628-24B6-4BD7-BEFA-91EDA140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47676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14B3-DD75-4DEB-9ACC-0A2A48A7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637B-5153-4871-A19B-A66C332E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60EA-3818-4842-AE21-E6F573BC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CEB7-EA64-409A-82AB-5624F475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248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222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222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08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840" y="66132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02 Infosys Technologie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 </a:t>
            </a:r>
            <a:fld id="{9D2F1C78-1D49-468F-8109-65D00568C9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438280" y="104760"/>
            <a:ext cx="22100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t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gust 27,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803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5943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2 Infosys Technologie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1523880"/>
            <a:ext cx="22096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t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gust 27,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50532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up to the promi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3459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0320" algn="ctr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6280" algn="ctr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76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76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hyperlink" Target="http://www.rbcprivatebanking.com/home.html" TargetMode="External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reating thought leadership </a:t>
            </a:r>
            <a:br>
              <a:rPr sz="3200"/>
            </a:b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n technology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G. V. Subramanyam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resentations and publications in leading international conferences and publications …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2133720"/>
            <a:ext cx="2133720" cy="1981080"/>
          </a:xfrm>
          <a:prstGeom prst="rect">
            <a:avLst/>
          </a:prstGeom>
          <a:solidFill>
            <a:srgbClr val="e3eaf6"/>
          </a:solidFill>
          <a:ln w="9360">
            <a:solidFill>
              <a:srgbClr val="007cc2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rademark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usiness-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lig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Flux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62920" y="914400"/>
            <a:ext cx="1904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Research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4267080"/>
            <a:ext cx="2133720" cy="2057400"/>
          </a:xfrm>
          <a:prstGeom prst="rect">
            <a:avLst/>
          </a:prstGeom>
          <a:solidFill>
            <a:srgbClr val="e3eaf6"/>
          </a:solidFill>
          <a:ln w="9360">
            <a:solidFill>
              <a:srgbClr val="007cc2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ublished </a:t>
            </a:r>
            <a:br>
              <a:rPr sz="1600"/>
            </a:b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ook tit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rt and </a:t>
            </a:r>
            <a:br>
              <a:rPr sz="1600"/>
            </a:b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echnology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oftw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ngineering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18766" b="18972"/>
          <a:stretch/>
        </p:blipFill>
        <p:spPr>
          <a:xfrm>
            <a:off x="685800" y="2133720"/>
            <a:ext cx="914400" cy="633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35120" y="2141640"/>
            <a:ext cx="1635120" cy="617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105520" y="2165400"/>
            <a:ext cx="990360" cy="571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154480" y="5486400"/>
            <a:ext cx="941400" cy="10666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2971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201"/>
              </a:spcBef>
              <a:spcAft>
                <a:spcPts val="499"/>
              </a:spcAft>
              <a:buClr>
                <a:srgbClr val="007cc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services interoperability: A practitioner's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01"/>
              </a:spcBef>
              <a:spcAft>
                <a:spcPts val="499"/>
              </a:spcAft>
              <a:buClr>
                <a:srgbClr val="007cc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trinet based simulation approach for ... perihsable goods retail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01"/>
              </a:spcBef>
              <a:spcAft>
                <a:spcPts val="499"/>
              </a:spcAft>
              <a:buClr>
                <a:srgbClr val="007cc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ng a Reliable, Extensible QoS Infrastructure Using the Java™ Message Service (JMS) API and the EJBTM 2.0 Specification's Message Driven B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01"/>
              </a:spcBef>
              <a:spcAft>
                <a:spcPts val="499"/>
              </a:spcAft>
              <a:buClr>
                <a:srgbClr val="007cc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ulti-Agent system for Sales Order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01"/>
              </a:spcBef>
              <a:spcAft>
                <a:spcPts val="499"/>
              </a:spcAft>
              <a:buClr>
                <a:srgbClr val="007cc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ing Solution for Jakarta Tomcat Servlet Engine using JavaSpaces(TM) Technolo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01"/>
              </a:spcBef>
              <a:spcAft>
                <a:spcPts val="499"/>
              </a:spcAft>
              <a:buClr>
                <a:srgbClr val="007cc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PML: A business  process modeling   language for dynamic business mod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01"/>
              </a:spcBef>
              <a:spcAft>
                <a:spcPts val="499"/>
              </a:spcAft>
              <a:buClr>
                <a:srgbClr val="007cc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of IT on Businesses : distinct generations of the Ente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01"/>
              </a:spcBef>
              <a:spcAft>
                <a:spcPts val="499"/>
              </a:spcAft>
              <a:buClr>
                <a:srgbClr val="007cc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ing roles of IT in Collaborative 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5257800" y="4257720"/>
            <a:ext cx="685800" cy="933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5257800" y="3048120"/>
            <a:ext cx="69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151680" y="1828800"/>
            <a:ext cx="2840040" cy="4648320"/>
          </a:xfrm>
          <a:prstGeom prst="foldedCorner">
            <a:avLst>
              <a:gd name="adj" fmla="val 12500"/>
            </a:avLst>
          </a:prstGeom>
          <a:solidFill>
            <a:srgbClr val="e3ea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8040" y="1889280"/>
            <a:ext cx="27529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99"/>
                </a:solidFill>
                <a:latin typeface="Arial"/>
              </a:rPr>
              <a:t>InFlux™ Feedback from cli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Flux process started approximately 6 weeks ago.   I am taking this opportunity to tell you how well I think things have gone, and to thank you for what you've done, both "long-timers" and "new guys", and I've appreciated the opportunity to work with each of you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've been through processes like this with a number of other 3rd parties, as well as facilitating numerous exercises of this nature within my company. Thus, I am not easily impressed by such an exercise.  I can honestly say that I have the most confidence in the future than I've ever had, based on the work done to-date.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InFlux Case Study - A Leading Transportation </a:t>
            </a:r>
            <a:br>
              <a:rPr sz="2800"/>
            </a:b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Management Company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53341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erprise applications built incrementally over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ck of integration between applications leading to issues lik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spcBef>
                <a:spcPts val="3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information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spcBef>
                <a:spcPts val="3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operations happening in sub-optimal m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application portfolio did not support 3PL business unit complet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InFlux based approach was followed and 3 “tracks” identifi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spcBef>
                <a:spcPts val="3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acy applications T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spcBef>
                <a:spcPts val="3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rchitecture t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spcBef>
                <a:spcPts val="3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Process T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914400" y="1303200"/>
            <a:ext cx="7315200" cy="5124240"/>
            <a:chOff x="914400" y="1303200"/>
            <a:chExt cx="7315200" cy="512424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914400" y="2021760"/>
              <a:ext cx="7315200" cy="425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3069360" y="2936520"/>
              <a:ext cx="285084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5550840" y="4046040"/>
              <a:ext cx="980280" cy="9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3264840" y="6201360"/>
              <a:ext cx="3634200" cy="22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Global Private Banking - RBC - Royal Bank of Canada">
              <a:hlinkClick r:id="rId5"/>
            </p:cNvPr>
            <p:cNvPicPr/>
            <p:nvPr/>
          </p:nvPicPr>
          <p:blipFill>
            <a:blip r:embed="rId6"/>
            <a:srcRect l="0" t="0" r="0" b="28610"/>
            <a:stretch/>
          </p:blipFill>
          <p:spPr>
            <a:xfrm>
              <a:off x="2090160" y="3981600"/>
              <a:ext cx="147924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John Hancock"/>
            <p:cNvPicPr/>
            <p:nvPr/>
          </p:nvPicPr>
          <p:blipFill>
            <a:blip r:embed="rId7"/>
            <a:stretch/>
          </p:blipFill>
          <p:spPr>
            <a:xfrm>
              <a:off x="4507560" y="1303200"/>
              <a:ext cx="2219400" cy="74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nFlux – Client Lis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ought Leadership: Infosys Contex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ought Leadership is the ability to understand customer’s business and provide genuine insight on how technology can be used for advantage in their business in the immediate and long-te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949400"/>
            <a:ext cx="2133720" cy="3276720"/>
          </a:xfrm>
          <a:prstGeom prst="rect">
            <a:avLst/>
          </a:prstGeom>
          <a:gradFill rotWithShape="0">
            <a:gsLst>
              <a:gs pos="0">
                <a:srgbClr val="9ebce3"/>
              </a:gs>
              <a:gs pos="50000">
                <a:srgbClr val="e3eaf6"/>
              </a:gs>
              <a:gs pos="100000">
                <a:srgbClr val="9ebce3"/>
              </a:gs>
            </a:gsLst>
            <a:lin ang="5400000"/>
          </a:gradFill>
          <a:ln w="9360">
            <a:solidFill>
              <a:srgbClr val="007cc2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ought Leadership Imperativ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5360" y="3146400"/>
            <a:ext cx="1905120" cy="733320"/>
          </a:xfrm>
          <a:prstGeom prst="rect">
            <a:avLst/>
          </a:prstGeom>
          <a:solidFill>
            <a:srgbClr val="e3eaf6"/>
          </a:solidFill>
          <a:ln w="9360">
            <a:solidFill>
              <a:srgbClr val="007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Marke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Macroecono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Custom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Compet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2558880"/>
            <a:ext cx="1828800" cy="1905120"/>
          </a:xfrm>
          <a:prstGeom prst="ellipse">
            <a:avLst/>
          </a:prstGeom>
          <a:solidFill>
            <a:srgbClr val="007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e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5143320" y="3282840"/>
            <a:ext cx="2133720" cy="380880"/>
          </a:xfrm>
          <a:prstGeom prst="triangle">
            <a:avLst>
              <a:gd name="adj" fmla="val 49639"/>
            </a:avLst>
          </a:prstGeom>
          <a:solidFill>
            <a:srgbClr val="9eb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2025720"/>
            <a:ext cx="2133720" cy="3276360"/>
          </a:xfrm>
          <a:prstGeom prst="rect">
            <a:avLst/>
          </a:prstGeom>
          <a:gradFill rotWithShape="0">
            <a:gsLst>
              <a:gs pos="0">
                <a:srgbClr val="9ebce3"/>
              </a:gs>
              <a:gs pos="50000">
                <a:srgbClr val="ffffff"/>
              </a:gs>
              <a:gs pos="100000">
                <a:srgbClr val="9ebce3"/>
              </a:gs>
            </a:gsLst>
            <a:lin ang="5400000"/>
          </a:gradFill>
          <a:ln w="9360">
            <a:solidFill>
              <a:srgbClr val="007cc2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nable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2171520" y="3282840"/>
            <a:ext cx="2133720" cy="380880"/>
          </a:xfrm>
          <a:prstGeom prst="triangle">
            <a:avLst>
              <a:gd name="adj" fmla="val 49639"/>
            </a:avLst>
          </a:prstGeom>
          <a:solidFill>
            <a:srgbClr val="9eb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5360" y="2101680"/>
            <a:ext cx="1905120" cy="733320"/>
          </a:xfrm>
          <a:prstGeom prst="rect">
            <a:avLst/>
          </a:prstGeom>
          <a:solidFill>
            <a:srgbClr val="e3eaf6"/>
          </a:solidFill>
          <a:ln w="9360">
            <a:solidFill>
              <a:srgbClr val="007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Aspi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Business Part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End to End Sol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Technology Advi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5360" y="4159080"/>
            <a:ext cx="1905120" cy="733320"/>
          </a:xfrm>
          <a:prstGeom prst="rect">
            <a:avLst/>
          </a:prstGeom>
          <a:solidFill>
            <a:srgbClr val="e3eaf6"/>
          </a:solidFill>
          <a:ln w="9360">
            <a:solidFill>
              <a:srgbClr val="007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Execution Effec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Product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5486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ought leadership driv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ue cre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Infosys and its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Holistic View of Business Transformation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32200" y="2411280"/>
            <a:ext cx="1770120" cy="600120"/>
          </a:xfrm>
          <a:prstGeom prst="rect">
            <a:avLst/>
          </a:prstGeom>
          <a:solidFill>
            <a:srgbClr val="72a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anaged, Measurable Proce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8280" y="1685880"/>
            <a:ext cx="1771560" cy="577800"/>
          </a:xfrm>
          <a:prstGeom prst="rect">
            <a:avLst/>
          </a:prstGeom>
          <a:solidFill>
            <a:srgbClr val="72a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mized Proce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97640" y="2262240"/>
            <a:ext cx="1752480" cy="1263600"/>
          </a:xfrm>
          <a:prstGeom prst="rect">
            <a:avLst/>
          </a:prstGeom>
          <a:noFill/>
          <a:ln w="9360">
            <a:solidFill>
              <a:srgbClr val="72a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112680" indent="-11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grated Enterpr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mized cross-organizational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Collab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iances, co-opet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24000" y="5670720"/>
            <a:ext cx="1771560" cy="577800"/>
          </a:xfrm>
          <a:prstGeom prst="rect">
            <a:avLst/>
          </a:prstGeom>
          <a:solidFill>
            <a:srgbClr val="72a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issemin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9720" y="3171960"/>
            <a:ext cx="1771560" cy="590400"/>
          </a:xfrm>
          <a:prstGeom prst="rect">
            <a:avLst/>
          </a:prstGeom>
          <a:solidFill>
            <a:srgbClr val="72a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fined Proce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40120" y="3002040"/>
            <a:ext cx="1754280" cy="1262160"/>
          </a:xfrm>
          <a:prstGeom prst="rect">
            <a:avLst/>
          </a:prstGeom>
          <a:noFill/>
          <a:ln w="9360">
            <a:solidFill>
              <a:srgbClr val="72a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2680" indent="-11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ated Enterpr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d, Measurable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d-to-End Process Auto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ing to ke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87640" y="3762360"/>
            <a:ext cx="1754280" cy="1262160"/>
          </a:xfrm>
          <a:prstGeom prst="rect">
            <a:avLst/>
          </a:prstGeom>
          <a:noFill/>
          <a:ln w="9360">
            <a:solidFill>
              <a:srgbClr val="72a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112680" indent="-11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operable Enterpr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, 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mation of key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ss-functional te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31920" y="4791240"/>
            <a:ext cx="1754280" cy="896760"/>
          </a:xfrm>
          <a:prstGeom prst="rect">
            <a:avLst/>
          </a:prstGeom>
          <a:noFill/>
          <a:ln w="9360">
            <a:solidFill>
              <a:srgbClr val="72a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2680" indent="-11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lands of Auto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ketchy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 publish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vidual Hero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24000" y="4213080"/>
            <a:ext cx="1771560" cy="578160"/>
          </a:xfrm>
          <a:prstGeom prst="rect">
            <a:avLst/>
          </a:prstGeom>
          <a:solidFill>
            <a:srgbClr val="72a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ketchy Proce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79720" y="5029200"/>
            <a:ext cx="1771560" cy="588960"/>
          </a:xfrm>
          <a:prstGeom prst="rect">
            <a:avLst/>
          </a:prstGeom>
          <a:solidFill>
            <a:srgbClr val="72a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utomat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32200" y="4245120"/>
            <a:ext cx="1771920" cy="601560"/>
          </a:xfrm>
          <a:prstGeom prst="rect">
            <a:avLst/>
          </a:prstGeom>
          <a:solidFill>
            <a:srgbClr val="72a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uto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88280" y="3479760"/>
            <a:ext cx="1771560" cy="601560"/>
          </a:xfrm>
          <a:prstGeom prst="rect">
            <a:avLst/>
          </a:prstGeom>
          <a:solidFill>
            <a:srgbClr val="72a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ynami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rtn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41560" y="1731960"/>
            <a:ext cx="7178400" cy="4627440"/>
            <a:chOff x="1141560" y="1731960"/>
            <a:chExt cx="7178400" cy="4627440"/>
          </a:xfrm>
        </p:grpSpPr>
        <p:sp>
          <p:nvSpPr>
            <p:cNvPr id="121" name=""/>
            <p:cNvSpPr/>
            <p:nvPr/>
          </p:nvSpPr>
          <p:spPr>
            <a:xfrm>
              <a:off x="1141560" y="6318360"/>
              <a:ext cx="7178400" cy="0"/>
            </a:xfrm>
            <a:prstGeom prst="line">
              <a:avLst/>
            </a:prstGeom>
            <a:ln w="76320">
              <a:solidFill>
                <a:srgbClr val="007c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141560" y="1731960"/>
              <a:ext cx="1440" cy="4627440"/>
            </a:xfrm>
            <a:prstGeom prst="line">
              <a:avLst/>
            </a:prstGeom>
            <a:ln w="76320">
              <a:solidFill>
                <a:srgbClr val="007c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432600" y="6324480"/>
            <a:ext cx="21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aborative cap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81360" y="395352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Matur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Business Leadership is increasingly Technology Driven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>
            <a:grayscl/>
          </a:blip>
          <a:srcRect l="0" t="0" r="0" b="11151"/>
          <a:stretch/>
        </p:blipFill>
        <p:spPr>
          <a:xfrm>
            <a:off x="4427640" y="1747800"/>
            <a:ext cx="4300560" cy="3727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rot="19141800">
            <a:off x="4078440" y="2085840"/>
            <a:ext cx="2458800" cy="5181840"/>
          </a:xfrm>
          <a:custGeom>
            <a:avLst/>
            <a:gdLst>
              <a:gd name="textAreaLeft" fmla="*/ 329400 w 2458800"/>
              <a:gd name="textAreaRight" fmla="*/ 2129400 w 2458800"/>
              <a:gd name="textAreaTop" fmla="*/ 906840 h 5181840"/>
              <a:gd name="textAreaBottom" fmla="*/ 375696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9ebce3"/>
              </a:gs>
              <a:gs pos="50000">
                <a:srgbClr val="ffffff"/>
              </a:gs>
              <a:gs pos="100000">
                <a:srgbClr val="9ebc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13040" y="2101680"/>
            <a:ext cx="2658960" cy="580680"/>
          </a:xfrm>
          <a:prstGeom prst="rect">
            <a:avLst/>
          </a:prstGeom>
          <a:solidFill>
            <a:srgbClr val="e3e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onymous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Stove Pi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7520" y="2951280"/>
            <a:ext cx="2973600" cy="824040"/>
          </a:xfrm>
          <a:prstGeom prst="rect">
            <a:avLst/>
          </a:prstGeom>
          <a:solidFill>
            <a:srgbClr val="e3e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Wid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 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C and Intran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4030560"/>
            <a:ext cx="2801880" cy="824040"/>
          </a:xfrm>
          <a:prstGeom prst="rect">
            <a:avLst/>
          </a:prstGeom>
          <a:solidFill>
            <a:srgbClr val="e3e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2B 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to Point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View ‘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51000" y="5110200"/>
            <a:ext cx="3456000" cy="1067400"/>
          </a:xfrm>
          <a:prstGeom prst="rect">
            <a:avLst/>
          </a:prstGeom>
          <a:solidFill>
            <a:srgbClr val="e3e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Enter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Management – Intra &amp; Extra enter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f-Service’ &amp; Person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02320" y="4538520"/>
            <a:ext cx="3017880" cy="2057760"/>
          </a:xfrm>
          <a:prstGeom prst="rect">
            <a:avLst/>
          </a:prstGeom>
          <a:solidFill>
            <a:srgbClr val="e3e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obal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Architecture &amp; Dynamic Discovery – Web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Auto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vasive Comp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Imperatives for Next Generation Enterprise Information Systems are…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7656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227520" indent="-227520">
              <a:spcBef>
                <a:spcPts val="15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vasive Infrastru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ing systems on Multi-channel communication 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15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leable Architectur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extreme Flexibility in absorbing changing technology de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15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lized Inform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fied corporate information view personalized to individual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15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mized Process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ility in analysis and redesign of business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15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IT Manag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-effective adaptability to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14164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8200" y="2143080"/>
            <a:ext cx="5384880" cy="4334040"/>
          </a:xfrm>
          <a:prstGeom prst="ellipse">
            <a:avLst/>
          </a:prstGeom>
          <a:gradFill rotWithShape="0">
            <a:gsLst>
              <a:gs pos="0">
                <a:srgbClr val="ccdbf0"/>
              </a:gs>
              <a:gs pos="50000">
                <a:srgbClr val="ffffff"/>
              </a:gs>
              <a:gs pos="100000">
                <a:srgbClr val="ccdbf0"/>
              </a:gs>
            </a:gsLst>
            <a:lin ang="5400000"/>
          </a:gradFill>
          <a:ln w="57240">
            <a:solidFill>
              <a:srgbClr val="ccda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1185"/>
          <a:stretch/>
        </p:blipFill>
        <p:spPr>
          <a:xfrm>
            <a:off x="1023840" y="2170080"/>
            <a:ext cx="4516560" cy="3911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9480" y="30132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95280"/>
            <a:ext cx="793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These Imperatives drive Technology Thought Leadership Research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1597600">
            <a:off x="3962160" y="3962520"/>
            <a:ext cx="198576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3851280"/>
            <a:ext cx="717480" cy="822240"/>
          </a:xfrm>
          <a:custGeom>
            <a:avLst/>
            <a:gdLst>
              <a:gd name="textAreaLeft" fmla="*/ 111960 w 717480"/>
              <a:gd name="textAreaRight" fmla="*/ 584640 w 717480"/>
              <a:gd name="textAreaTop" fmla="*/ 240840 h 822240"/>
              <a:gd name="textAreaBottom" fmla="*/ 581400 h 822240"/>
            </a:gdLst>
            <a:ahLst/>
            <a:rect l="textAreaLeft" t="textAreaTop" r="textAreaRight" b="textAreaBottom"/>
            <a:pathLst>
              <a:path w="21600" h="21600">
                <a:moveTo>
                  <a:pt x="3375" y="6327"/>
                </a:moveTo>
                <a:lnTo>
                  <a:pt x="11925" y="6327"/>
                </a:lnTo>
                <a:lnTo>
                  <a:pt x="11925" y="0"/>
                </a:lnTo>
                <a:lnTo>
                  <a:pt x="21600" y="10800"/>
                </a:lnTo>
                <a:lnTo>
                  <a:pt x="11925" y="21600"/>
                </a:lnTo>
                <a:lnTo>
                  <a:pt x="11925" y="15273"/>
                </a:lnTo>
                <a:lnTo>
                  <a:pt x="3375" y="15273"/>
                </a:lnTo>
                <a:close/>
              </a:path>
              <a:path w="21600" h="21600">
                <a:moveTo>
                  <a:pt x="0" y="6327"/>
                </a:moveTo>
                <a:lnTo>
                  <a:pt x="675" y="6327"/>
                </a:lnTo>
                <a:lnTo>
                  <a:pt x="675" y="15273"/>
                </a:lnTo>
                <a:lnTo>
                  <a:pt x="0" y="15273"/>
                </a:lnTo>
                <a:close/>
              </a:path>
              <a:path w="21600" h="21600">
                <a:moveTo>
                  <a:pt x="1350" y="6327"/>
                </a:moveTo>
                <a:lnTo>
                  <a:pt x="2700" y="6327"/>
                </a:lnTo>
                <a:lnTo>
                  <a:pt x="2700" y="15273"/>
                </a:lnTo>
                <a:lnTo>
                  <a:pt x="1350" y="15273"/>
                </a:lnTo>
                <a:close/>
              </a:path>
            </a:pathLst>
          </a:custGeom>
          <a:solidFill>
            <a:srgbClr val="007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rot="9034800">
            <a:off x="5402160" y="3276000"/>
            <a:ext cx="1176480" cy="660600"/>
          </a:xfrm>
          <a:custGeom>
            <a:avLst/>
            <a:gdLst>
              <a:gd name="textAreaLeft" fmla="*/ 183600 w 1176480"/>
              <a:gd name="textAreaRight" fmla="*/ 958320 w 1176480"/>
              <a:gd name="textAreaTop" fmla="*/ 193320 h 660600"/>
              <a:gd name="textAreaBottom" fmla="*/ 467280 h 660600"/>
            </a:gdLst>
            <a:ahLst/>
            <a:rect l="textAreaLeft" t="textAreaTop" r="textAreaRight" b="textAreaBottom"/>
            <a:pathLst>
              <a:path w="21600" h="21600">
                <a:moveTo>
                  <a:pt x="3375" y="6327"/>
                </a:moveTo>
                <a:lnTo>
                  <a:pt x="11925" y="6327"/>
                </a:lnTo>
                <a:lnTo>
                  <a:pt x="11925" y="0"/>
                </a:lnTo>
                <a:lnTo>
                  <a:pt x="21600" y="10800"/>
                </a:lnTo>
                <a:lnTo>
                  <a:pt x="11925" y="21600"/>
                </a:lnTo>
                <a:lnTo>
                  <a:pt x="11925" y="15273"/>
                </a:lnTo>
                <a:lnTo>
                  <a:pt x="3375" y="15273"/>
                </a:lnTo>
                <a:close/>
              </a:path>
              <a:path w="21600" h="21600">
                <a:moveTo>
                  <a:pt x="0" y="6327"/>
                </a:moveTo>
                <a:lnTo>
                  <a:pt x="675" y="6327"/>
                </a:lnTo>
                <a:lnTo>
                  <a:pt x="675" y="15273"/>
                </a:lnTo>
                <a:lnTo>
                  <a:pt x="0" y="15273"/>
                </a:lnTo>
                <a:close/>
              </a:path>
              <a:path w="21600" h="21600">
                <a:moveTo>
                  <a:pt x="1350" y="6327"/>
                </a:moveTo>
                <a:lnTo>
                  <a:pt x="2700" y="6327"/>
                </a:lnTo>
                <a:lnTo>
                  <a:pt x="2700" y="15273"/>
                </a:lnTo>
                <a:lnTo>
                  <a:pt x="1350" y="15273"/>
                </a:lnTo>
                <a:close/>
              </a:path>
            </a:pathLst>
          </a:custGeom>
          <a:gradFill rotWithShape="0">
            <a:gsLst>
              <a:gs pos="0">
                <a:srgbClr val="007cc2"/>
              </a:gs>
              <a:gs pos="100000">
                <a:srgbClr val="e3eaf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1597600">
            <a:off x="6573960" y="2643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Md BT"/>
              </a:rPr>
              <a:t>Enhancing Infosys service delivery effec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1597600">
            <a:off x="6573960" y="4800240"/>
            <a:ext cx="229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Md BT"/>
              </a:rPr>
              <a:t>Provide Infosys’ clients best-in-class business solutions frame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 rot="12565200">
            <a:off x="5402160" y="4647600"/>
            <a:ext cx="1176480" cy="660600"/>
          </a:xfrm>
          <a:custGeom>
            <a:avLst/>
            <a:gdLst>
              <a:gd name="textAreaLeft" fmla="*/ 183600 w 1176480"/>
              <a:gd name="textAreaRight" fmla="*/ 958320 w 1176480"/>
              <a:gd name="textAreaTop" fmla="*/ 193320 h 660600"/>
              <a:gd name="textAreaBottom" fmla="*/ 467280 h 660600"/>
            </a:gdLst>
            <a:ahLst/>
            <a:rect l="textAreaLeft" t="textAreaTop" r="textAreaRight" b="textAreaBottom"/>
            <a:pathLst>
              <a:path w="21600" h="21600">
                <a:moveTo>
                  <a:pt x="3375" y="6327"/>
                </a:moveTo>
                <a:lnTo>
                  <a:pt x="11925" y="6327"/>
                </a:lnTo>
                <a:lnTo>
                  <a:pt x="11925" y="0"/>
                </a:lnTo>
                <a:lnTo>
                  <a:pt x="21600" y="10800"/>
                </a:lnTo>
                <a:lnTo>
                  <a:pt x="11925" y="21600"/>
                </a:lnTo>
                <a:lnTo>
                  <a:pt x="11925" y="15273"/>
                </a:lnTo>
                <a:lnTo>
                  <a:pt x="3375" y="15273"/>
                </a:lnTo>
                <a:close/>
              </a:path>
              <a:path w="21600" h="21600">
                <a:moveTo>
                  <a:pt x="0" y="6327"/>
                </a:moveTo>
                <a:lnTo>
                  <a:pt x="675" y="6327"/>
                </a:lnTo>
                <a:lnTo>
                  <a:pt x="675" y="15273"/>
                </a:lnTo>
                <a:lnTo>
                  <a:pt x="0" y="15273"/>
                </a:lnTo>
                <a:close/>
              </a:path>
              <a:path w="21600" h="21600">
                <a:moveTo>
                  <a:pt x="1350" y="6327"/>
                </a:moveTo>
                <a:lnTo>
                  <a:pt x="2700" y="6327"/>
                </a:lnTo>
                <a:lnTo>
                  <a:pt x="2700" y="15273"/>
                </a:lnTo>
                <a:lnTo>
                  <a:pt x="1350" y="15273"/>
                </a:lnTo>
                <a:close/>
              </a:path>
            </a:pathLst>
          </a:custGeom>
          <a:gradFill rotWithShape="0">
            <a:gsLst>
              <a:gs pos="0">
                <a:srgbClr val="007cc2"/>
              </a:gs>
              <a:gs pos="100000">
                <a:srgbClr val="e3eaf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669600" y="869400"/>
            <a:ext cx="7881120" cy="6498000"/>
            <a:chOff x="669600" y="869400"/>
            <a:chExt cx="7881120" cy="6498000"/>
          </a:xfrm>
        </p:grpSpPr>
        <p:sp>
          <p:nvSpPr>
            <p:cNvPr id="147" name=""/>
            <p:cNvSpPr/>
            <p:nvPr/>
          </p:nvSpPr>
          <p:spPr>
            <a:xfrm rot="20514600">
              <a:off x="1219320" y="1807920"/>
              <a:ext cx="6781680" cy="462060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12200" y="2255040"/>
              <a:ext cx="2515320" cy="3602160"/>
            </a:xfrm>
            <a:custGeom>
              <a:avLst/>
              <a:gdLst/>
              <a:ahLst/>
              <a:rect l="l" t="t" r="r" b="b"/>
              <a:pathLst>
                <a:path w="1620" h="2320">
                  <a:moveTo>
                    <a:pt x="1140" y="0"/>
                  </a:moveTo>
                  <a:lnTo>
                    <a:pt x="1620" y="1008"/>
                  </a:lnTo>
                  <a:lnTo>
                    <a:pt x="328" y="2320"/>
                  </a:lnTo>
                  <a:lnTo>
                    <a:pt x="248" y="2240"/>
                  </a:lnTo>
                  <a:lnTo>
                    <a:pt x="178" y="2145"/>
                  </a:lnTo>
                  <a:lnTo>
                    <a:pt x="140" y="2080"/>
                  </a:lnTo>
                  <a:lnTo>
                    <a:pt x="86" y="1976"/>
                  </a:lnTo>
                  <a:lnTo>
                    <a:pt x="40" y="1864"/>
                  </a:lnTo>
                  <a:lnTo>
                    <a:pt x="17" y="1745"/>
                  </a:lnTo>
                  <a:lnTo>
                    <a:pt x="0" y="1616"/>
                  </a:lnTo>
                  <a:lnTo>
                    <a:pt x="0" y="1460"/>
                  </a:lnTo>
                  <a:lnTo>
                    <a:pt x="24" y="1296"/>
                  </a:lnTo>
                  <a:lnTo>
                    <a:pt x="78" y="1123"/>
                  </a:lnTo>
                  <a:lnTo>
                    <a:pt x="120" y="1016"/>
                  </a:lnTo>
                  <a:lnTo>
                    <a:pt x="160" y="916"/>
                  </a:lnTo>
                  <a:lnTo>
                    <a:pt x="228" y="804"/>
                  </a:lnTo>
                  <a:lnTo>
                    <a:pt x="288" y="716"/>
                  </a:lnTo>
                  <a:lnTo>
                    <a:pt x="360" y="620"/>
                  </a:lnTo>
                  <a:lnTo>
                    <a:pt x="455" y="516"/>
                  </a:lnTo>
                  <a:lnTo>
                    <a:pt x="568" y="416"/>
                  </a:lnTo>
                  <a:lnTo>
                    <a:pt x="680" y="324"/>
                  </a:lnTo>
                  <a:lnTo>
                    <a:pt x="800" y="232"/>
                  </a:lnTo>
                  <a:lnTo>
                    <a:pt x="908" y="152"/>
                  </a:lnTo>
                  <a:lnTo>
                    <a:pt x="1020" y="80"/>
                  </a:lnTo>
                  <a:lnTo>
                    <a:pt x="11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cfa2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81960" y="1677960"/>
              <a:ext cx="2583360" cy="2142360"/>
            </a:xfrm>
            <a:custGeom>
              <a:avLst/>
              <a:gdLst/>
              <a:ahLst/>
              <a:rect l="l" t="t" r="r" b="b"/>
              <a:pathLst>
                <a:path w="1664" h="1380">
                  <a:moveTo>
                    <a:pt x="0" y="372"/>
                  </a:moveTo>
                  <a:lnTo>
                    <a:pt x="480" y="1380"/>
                  </a:lnTo>
                  <a:lnTo>
                    <a:pt x="1664" y="12"/>
                  </a:lnTo>
                  <a:lnTo>
                    <a:pt x="1444" y="0"/>
                  </a:lnTo>
                  <a:lnTo>
                    <a:pt x="1256" y="12"/>
                  </a:lnTo>
                  <a:lnTo>
                    <a:pt x="1112" y="24"/>
                  </a:lnTo>
                  <a:lnTo>
                    <a:pt x="952" y="48"/>
                  </a:lnTo>
                  <a:lnTo>
                    <a:pt x="804" y="76"/>
                  </a:lnTo>
                  <a:lnTo>
                    <a:pt x="684" y="108"/>
                  </a:lnTo>
                  <a:lnTo>
                    <a:pt x="568" y="144"/>
                  </a:lnTo>
                  <a:lnTo>
                    <a:pt x="436" y="188"/>
                  </a:lnTo>
                  <a:lnTo>
                    <a:pt x="312" y="236"/>
                  </a:lnTo>
                  <a:lnTo>
                    <a:pt x="96" y="324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63d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21600" y="3820320"/>
              <a:ext cx="3123720" cy="2732400"/>
            </a:xfrm>
            <a:custGeom>
              <a:avLst/>
              <a:gdLst/>
              <a:ahLst/>
              <a:rect l="l" t="t" r="r" b="b"/>
              <a:pathLst>
                <a:path w="2012" h="1760">
                  <a:moveTo>
                    <a:pt x="1292" y="0"/>
                  </a:moveTo>
                  <a:lnTo>
                    <a:pt x="2012" y="1680"/>
                  </a:lnTo>
                  <a:lnTo>
                    <a:pt x="1864" y="1712"/>
                  </a:lnTo>
                  <a:lnTo>
                    <a:pt x="1716" y="1732"/>
                  </a:lnTo>
                  <a:lnTo>
                    <a:pt x="1584" y="1748"/>
                  </a:lnTo>
                  <a:lnTo>
                    <a:pt x="1412" y="1756"/>
                  </a:lnTo>
                  <a:lnTo>
                    <a:pt x="1256" y="1760"/>
                  </a:lnTo>
                  <a:lnTo>
                    <a:pt x="1108" y="1756"/>
                  </a:lnTo>
                  <a:lnTo>
                    <a:pt x="948" y="1736"/>
                  </a:lnTo>
                  <a:lnTo>
                    <a:pt x="788" y="1704"/>
                  </a:lnTo>
                  <a:lnTo>
                    <a:pt x="612" y="1660"/>
                  </a:lnTo>
                  <a:lnTo>
                    <a:pt x="424" y="1592"/>
                  </a:lnTo>
                  <a:lnTo>
                    <a:pt x="236" y="1488"/>
                  </a:lnTo>
                  <a:lnTo>
                    <a:pt x="128" y="1416"/>
                  </a:lnTo>
                  <a:lnTo>
                    <a:pt x="0" y="1316"/>
                  </a:lnTo>
                  <a:lnTo>
                    <a:pt x="1292" y="0"/>
                  </a:lnTo>
                </a:path>
              </a:pathLst>
            </a:custGeom>
            <a:solidFill>
              <a:srgbClr val="64d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113200">
              <a:off x="2560680" y="2776680"/>
              <a:ext cx="2906280" cy="2161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113200">
              <a:off x="2783880" y="3000240"/>
              <a:ext cx="2393640" cy="164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35920" y="3075120"/>
              <a:ext cx="1438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11840" y="3596760"/>
              <a:ext cx="1794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ngineer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5440" y="4118400"/>
              <a:ext cx="1625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vangeliz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81960" y="3522240"/>
              <a:ext cx="2012040" cy="0"/>
            </a:xfrm>
            <a:prstGeom prst="line">
              <a:avLst/>
            </a:prstGeom>
            <a:ln w="38160">
              <a:solidFill>
                <a:srgbClr val="63d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58400" y="4043880"/>
              <a:ext cx="2161440" cy="0"/>
            </a:xfrm>
            <a:prstGeom prst="line">
              <a:avLst/>
            </a:prstGeom>
            <a:ln w="38160">
              <a:solidFill>
                <a:srgbClr val="63d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5120" y="2277000"/>
              <a:ext cx="13161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unc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87720" y="3969720"/>
              <a:ext cx="14180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nowledg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50720" y="2478960"/>
              <a:ext cx="1870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llabo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amp;  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tnershi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24040" y="3522240"/>
              <a:ext cx="2413440" cy="16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iversity of Georg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nMobile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eb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PM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croso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B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ac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pplyChain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20320" y="4193280"/>
              <a:ext cx="2707560" cy="16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M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wov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ak XV Networks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B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A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cours grou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trixOn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PMarke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orkad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72720" y="5013000"/>
              <a:ext cx="14976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e-of-a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38560" y="5460120"/>
              <a:ext cx="21132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NET Center of Excelle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reless center for excelle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-commerce la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l e-business solutions la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lution for speech recogni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echnology Research Ecosystem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3027240"/>
            <a:ext cx="373392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Process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 participation in BP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tecture for B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reo: Referenc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acy Moder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acom: Framework for leveraging legacy 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Ev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Effectiveness 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G Road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3027240"/>
            <a:ext cx="4191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er to Peer Network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Translation using XSL &amp; X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tecture Referenc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bile 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 hand-off in mobil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Por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formation Management 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219320"/>
            <a:ext cx="8574120" cy="457200"/>
          </a:xfrm>
          <a:prstGeom prst="rect">
            <a:avLst/>
          </a:prstGeom>
          <a:solidFill>
            <a:srgbClr val="ccd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-wide Thought Leadership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2514600"/>
            <a:ext cx="8574120" cy="436680"/>
          </a:xfrm>
          <a:prstGeom prst="rect">
            <a:avLst/>
          </a:prstGeom>
          <a:solidFill>
            <a:srgbClr val="ccd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Research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676520"/>
            <a:ext cx="3314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gent 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1676520"/>
            <a:ext cx="3314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04:23:38Z</dcterms:created>
  <dc:creator>P R Ganapathy</dc:creator>
  <dc:description/>
  <dc:language>en-US</dc:language>
  <cp:lastModifiedBy>abhay_pawar</cp:lastModifiedBy>
  <dcterms:modified xsi:type="dcterms:W3CDTF">2002-08-27T08:21:57Z</dcterms:modified>
  <cp:revision>45</cp:revision>
  <dc:subject/>
  <dc:title>Keeping the promise</dc:title>
</cp:coreProperties>
</file>