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5984-1AAB-4D55-9560-ADEF65557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 me take you through Infosys, telling you about the services we offer, our work culture, and the high standards that we aim to maintain. “ Powered by intellect, driven by values.” Infosys is truly a company driven by intellect and knowledge. Care is taken to ensure that the best from the best institutions are chosen. Secondly, the whole organization rests on a very effective foundation – a strong value system. As you can well imagine an organization, which rests on the two strong pillars of intellect and values, cannot help but be a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C2D-17D5-4F56-95B3-87E89E63C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for customized diagrams and slide di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E24-9D50-4C33-9C8B-F0CC8C43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D8D-370C-4E92-9806-3EDF3C1E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074-68E3-4860-95A1-D752328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E1B-F120-423A-BF29-996DE226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5A6-ECB6-467A-A82B-CD8B8805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0A7-FF62-4AB0-B003-D48E1B09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2EA-0E4C-4F2F-8F1D-73F177C7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AC7-68F9-477B-8CE5-0B10073B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CCB-9428-4581-94AA-57A62CE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C2C-985D-4142-A30B-0951CA9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65F-F044-4EE6-AC40-63FE0FB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40C-E97F-4EDF-B02C-D580429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412F5743-D679-4FCB-80B7-717B6A9F98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hyperlink" Target="http://www.rbcprivatebanking.com/home.html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ating thought leadership 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 technolog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G. V. Subramanyam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esentations and publications in leading international conferences and publications …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2133720" cy="198108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demark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siness-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Flux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91440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Research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4267080"/>
            <a:ext cx="2133720" cy="205740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ublished 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ook tit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 and 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chnology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oft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gineer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18766" b="18972"/>
          <a:stretch/>
        </p:blipFill>
        <p:spPr>
          <a:xfrm>
            <a:off x="685800" y="213372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35120" y="2141640"/>
            <a:ext cx="1635120" cy="617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05520" y="2165400"/>
            <a:ext cx="990360" cy="571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154480" y="5486400"/>
            <a:ext cx="941400" cy="1066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ices interoperability: A practitioner's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trinet based simulation approach for ... perihsable goods retail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Reliable, Extensible QoS Infrastructure Using the Java™ Message Service (JMS) API and the EJBTM 2.0 Specification's Message Driven B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ulti-Agent system for Sales Order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ing Solution for Jakarta Tomcat Servlet Engine using JavaSpaces(TM) T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ML: A business  process modeling   language for dynamic business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IT on Businesses : distinct generations of the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201"/>
              </a:spcBef>
              <a:spcAft>
                <a:spcPts val="499"/>
              </a:spcAft>
              <a:buClr>
                <a:srgbClr val="007cc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roles of IT in Collaborative 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257800" y="4257720"/>
            <a:ext cx="685800" cy="933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257800" y="3048120"/>
            <a:ext cx="69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51680" y="1828800"/>
            <a:ext cx="2840040" cy="4648320"/>
          </a:xfrm>
          <a:prstGeom prst="foldedCorner">
            <a:avLst>
              <a:gd name="adj" fmla="val 12500"/>
            </a:avLst>
          </a:prstGeom>
          <a:solidFill>
            <a:srgbClr val="e3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8040" y="1889280"/>
            <a:ext cx="27529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99"/>
                </a:solidFill>
                <a:latin typeface="Arial"/>
              </a:rPr>
              <a:t>InFlux™ Feedback from 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lux process started approximately 6 weeks ago.   I am taking this opportunity to tell you how well I think things have gone, and to thank you for what you've done, both "long-timers" and "new guys", and I've appreciated the opportunity to work with each of you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've been through processes like this with a number of other 3rd parties, as well as facilitating numerous exercises of this nature within my company. Thus, I am not easily impressed by such an exercise.  I can honestly say that I have the most confidence in the future than I've ever had, based on the work done to-date.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Flux Case Study - A Leading Transportation 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nagement Company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5334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prise applications built incrementally over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integration between applications leading to issues lik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formation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operations happening in sub-optimal 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pplication portfolio did not support 3PL business unit comple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InFlux based approach was followed and 3 “tracks” identifi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cy applications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rchitecture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spcBef>
                <a:spcPts val="3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Process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914400" y="1303200"/>
            <a:ext cx="7315200" cy="5124240"/>
            <a:chOff x="914400" y="1303200"/>
            <a:chExt cx="7315200" cy="51242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914400" y="2021760"/>
              <a:ext cx="7315200" cy="42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3069360" y="2936520"/>
              <a:ext cx="285084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5550840" y="4046040"/>
              <a:ext cx="9802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3264840" y="6201360"/>
              <a:ext cx="3634200" cy="22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Global Private Banking - RBC - Royal Bank of Canada">
              <a:hlinkClick r:id="rId5"/>
            </p:cNvPr>
            <p:cNvPicPr/>
            <p:nvPr/>
          </p:nvPicPr>
          <p:blipFill>
            <a:blip r:embed="rId6"/>
            <a:srcRect l="0" t="0" r="0" b="28610"/>
            <a:stretch/>
          </p:blipFill>
          <p:spPr>
            <a:xfrm>
              <a:off x="2090160" y="3981600"/>
              <a:ext cx="147924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John Hancock"/>
            <p:cNvPicPr/>
            <p:nvPr/>
          </p:nvPicPr>
          <p:blipFill>
            <a:blip r:embed="rId7"/>
            <a:stretch/>
          </p:blipFill>
          <p:spPr>
            <a:xfrm>
              <a:off x="4507560" y="1303200"/>
              <a:ext cx="2219400" cy="74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lux – Client Lis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ought Leadership: Infosys Contex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ought Leadership is the ability to understand customer’s business and provide genuine insight on how technology can be used for advantage in their business in the immediate and long-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949400"/>
            <a:ext cx="2133720" cy="3276720"/>
          </a:xfrm>
          <a:prstGeom prst="rect">
            <a:avLst/>
          </a:prstGeom>
          <a:gradFill rotWithShape="0">
            <a:gsLst>
              <a:gs pos="0">
                <a:srgbClr val="9ebce3"/>
              </a:gs>
              <a:gs pos="50000">
                <a:srgbClr val="e3eaf6"/>
              </a:gs>
              <a:gs pos="100000">
                <a:srgbClr val="9ebce3"/>
              </a:gs>
            </a:gsLst>
            <a:lin ang="5400000"/>
          </a:gra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ought Leadership Imperativ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360" y="3146400"/>
            <a:ext cx="1905120" cy="73332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Marke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acroecono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ustom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ompet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2558880"/>
            <a:ext cx="1828800" cy="1905120"/>
          </a:xfrm>
          <a:prstGeom prst="ellipse">
            <a:avLst/>
          </a:prstGeom>
          <a:solidFill>
            <a:srgbClr val="007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143320" y="3282840"/>
            <a:ext cx="2133720" cy="380880"/>
          </a:xfrm>
          <a:prstGeom prst="triangle">
            <a:avLst>
              <a:gd name="adj" fmla="val 49639"/>
            </a:avLst>
          </a:prstGeom>
          <a:solidFill>
            <a:srgbClr val="9eb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25720"/>
            <a:ext cx="2133720" cy="3276360"/>
          </a:xfrm>
          <a:prstGeom prst="rect">
            <a:avLst/>
          </a:prstGeom>
          <a:gradFill rotWithShape="0">
            <a:gsLst>
              <a:gs pos="0">
                <a:srgbClr val="9ebce3"/>
              </a:gs>
              <a:gs pos="50000">
                <a:srgbClr val="ffffff"/>
              </a:gs>
              <a:gs pos="100000">
                <a:srgbClr val="9ebce3"/>
              </a:gs>
            </a:gsLst>
            <a:lin ang="5400000"/>
          </a:gradFill>
          <a:ln w="9360">
            <a:solidFill>
              <a:srgbClr val="007cc2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abl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71520" y="3282840"/>
            <a:ext cx="2133720" cy="380880"/>
          </a:xfrm>
          <a:prstGeom prst="triangle">
            <a:avLst>
              <a:gd name="adj" fmla="val 49639"/>
            </a:avLst>
          </a:prstGeom>
          <a:solidFill>
            <a:srgbClr val="9eb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2101680"/>
            <a:ext cx="1905120" cy="73332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Aspi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usiness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nd to End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Technology Ad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" y="4159080"/>
            <a:ext cx="1905120" cy="733320"/>
          </a:xfrm>
          <a:prstGeom prst="rect">
            <a:avLst/>
          </a:prstGeom>
          <a:solidFill>
            <a:srgbClr val="e3eaf6"/>
          </a:solidFill>
          <a:ln w="9360">
            <a:solidFill>
              <a:srgbClr val="007c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xecution 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Product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ought leadership dr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e cre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Infosys and it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olistic View of Business Transform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32200" y="2411280"/>
            <a:ext cx="1770120" cy="60012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naged, Measurable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8280" y="1685880"/>
            <a:ext cx="1771560" cy="57780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mized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97640" y="2262240"/>
            <a:ext cx="1752480" cy="126360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ed Enter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mized cross-organizational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Collab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ances, co-ope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24000" y="5670720"/>
            <a:ext cx="1771560" cy="57780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9720" y="3171960"/>
            <a:ext cx="1771560" cy="59040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fined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40120" y="3002040"/>
            <a:ext cx="1754280" cy="126216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2680" indent="-11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ated Enter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, Measurable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-to-End Process Auto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 to k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3762360"/>
            <a:ext cx="1754280" cy="126216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12680" indent="-11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operable Enter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, 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on of key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ss-functional 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1920" y="4791240"/>
            <a:ext cx="1754280" cy="896760"/>
          </a:xfrm>
          <a:prstGeom prst="rect">
            <a:avLst/>
          </a:prstGeom>
          <a:noFill/>
          <a:ln w="9360">
            <a:solidFill>
              <a:srgbClr val="72a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2680" indent="-11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lands of Auto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etchy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publis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vidual Hero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0" y="4213080"/>
            <a:ext cx="1771560" cy="5781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ketchy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9720" y="5029200"/>
            <a:ext cx="1771560" cy="5889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utoma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32200" y="4245120"/>
            <a:ext cx="1771920" cy="6015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8280" y="3479760"/>
            <a:ext cx="1771560" cy="601560"/>
          </a:xfrm>
          <a:prstGeom prst="rect">
            <a:avLst/>
          </a:prstGeom>
          <a:solidFill>
            <a:srgbClr val="72a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1560" y="1731960"/>
            <a:ext cx="7178400" cy="4627440"/>
            <a:chOff x="1141560" y="1731960"/>
            <a:chExt cx="7178400" cy="4627440"/>
          </a:xfrm>
        </p:grpSpPr>
        <p:sp>
          <p:nvSpPr>
            <p:cNvPr id="121" name=""/>
            <p:cNvSpPr/>
            <p:nvPr/>
          </p:nvSpPr>
          <p:spPr>
            <a:xfrm>
              <a:off x="1141560" y="6318360"/>
              <a:ext cx="7178400" cy="0"/>
            </a:xfrm>
            <a:prstGeom prst="line">
              <a:avLst/>
            </a:prstGeom>
            <a:ln w="76320">
              <a:solidFill>
                <a:srgbClr val="007c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141560" y="1731960"/>
              <a:ext cx="1440" cy="4627440"/>
            </a:xfrm>
            <a:prstGeom prst="line">
              <a:avLst/>
            </a:prstGeom>
            <a:ln w="76320">
              <a:solidFill>
                <a:srgbClr val="007c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432600" y="6324480"/>
            <a:ext cx="21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borative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1360" y="395352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Matur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usiness Leadership is increasingly Technology Drive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grayscl/>
          </a:blip>
          <a:srcRect l="0" t="0" r="0" b="11151"/>
          <a:stretch/>
        </p:blipFill>
        <p:spPr>
          <a:xfrm>
            <a:off x="4427640" y="1747800"/>
            <a:ext cx="4300560" cy="3727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9141800">
            <a:off x="4078440" y="2085840"/>
            <a:ext cx="2458800" cy="5181840"/>
          </a:xfrm>
          <a:custGeom>
            <a:avLst/>
            <a:gdLst>
              <a:gd name="textAreaLeft" fmla="*/ 329400 w 2458800"/>
              <a:gd name="textAreaRight" fmla="*/ 2129400 w 2458800"/>
              <a:gd name="textAreaTop" fmla="*/ 906840 h 5181840"/>
              <a:gd name="textAreaBottom" fmla="*/ 375696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9ebce3"/>
              </a:gs>
              <a:gs pos="50000">
                <a:srgbClr val="ffffff"/>
              </a:gs>
              <a:gs pos="100000">
                <a:srgbClr val="9ebc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3040" y="2101680"/>
            <a:ext cx="2658960" cy="58068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nymous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Stove P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7520" y="2951280"/>
            <a:ext cx="2973600" cy="82404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Wid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C and Intra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030560"/>
            <a:ext cx="2801880" cy="82404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2B 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to Point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View ‘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1000" y="5110200"/>
            <a:ext cx="3456000" cy="106740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Management – Intra &amp; Extra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Service’ &amp; Perso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02320" y="4538520"/>
            <a:ext cx="3017880" cy="2057760"/>
          </a:xfrm>
          <a:prstGeom prst="rect">
            <a:avLst/>
          </a:prstGeom>
          <a:solidFill>
            <a:srgbClr val="e3e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Architecture &amp; Dynamic Discovery –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vasive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mperatives for Next Generation Enterprise Information Systems are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vasive Infra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ing systems on Multi-channel communication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leable Architectu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extreme Flexibility in absorbing changing technology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ed Inform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corporate information view personalized to individu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ed Process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ility in analysis and redesign of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15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IT Manag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adaptability to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14164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8200" y="2143080"/>
            <a:ext cx="5384880" cy="4334040"/>
          </a:xfrm>
          <a:prstGeom prst="ellipse">
            <a:avLst/>
          </a:prstGeom>
          <a:gradFill rotWithShape="0">
            <a:gsLst>
              <a:gs pos="0">
                <a:srgbClr val="ccdbf0"/>
              </a:gs>
              <a:gs pos="50000">
                <a:srgbClr val="ffffff"/>
              </a:gs>
              <a:gs pos="100000">
                <a:srgbClr val="ccdbf0"/>
              </a:gs>
            </a:gsLst>
            <a:lin ang="5400000"/>
          </a:gradFill>
          <a:ln w="57240">
            <a:solidFill>
              <a:srgbClr val="ccda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1185"/>
          <a:stretch/>
        </p:blipFill>
        <p:spPr>
          <a:xfrm>
            <a:off x="1023840" y="2170080"/>
            <a:ext cx="4516560" cy="3911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3013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793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ese Imperatives drive Technology Thought Leadership Research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597600">
            <a:off x="3962160" y="3962520"/>
            <a:ext cx="198576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3851280"/>
            <a:ext cx="717480" cy="822240"/>
          </a:xfrm>
          <a:custGeom>
            <a:avLst/>
            <a:gdLst>
              <a:gd name="textAreaLeft" fmla="*/ 111960 w 717480"/>
              <a:gd name="textAreaRight" fmla="*/ 584640 w 717480"/>
              <a:gd name="textAreaTop" fmla="*/ 240840 h 822240"/>
              <a:gd name="textAreaBottom" fmla="*/ 581400 h 822240"/>
            </a:gdLst>
            <a:ahLst/>
            <a:rect l="textAreaLeft" t="textAreaTop" r="textAreaRight" b="textAreaBottom"/>
            <a:pathLst>
              <a:path w="21600" h="21600">
                <a:moveTo>
                  <a:pt x="3375" y="6327"/>
                </a:moveTo>
                <a:lnTo>
                  <a:pt x="11925" y="6327"/>
                </a:lnTo>
                <a:lnTo>
                  <a:pt x="11925" y="0"/>
                </a:lnTo>
                <a:lnTo>
                  <a:pt x="21600" y="10800"/>
                </a:lnTo>
                <a:lnTo>
                  <a:pt x="11925" y="21600"/>
                </a:lnTo>
                <a:lnTo>
                  <a:pt x="11925" y="15273"/>
                </a:lnTo>
                <a:lnTo>
                  <a:pt x="3375" y="15273"/>
                </a:lnTo>
                <a:close/>
              </a:path>
              <a:path w="21600" h="21600">
                <a:moveTo>
                  <a:pt x="0" y="6327"/>
                </a:moveTo>
                <a:lnTo>
                  <a:pt x="675" y="6327"/>
                </a:lnTo>
                <a:lnTo>
                  <a:pt x="675" y="15273"/>
                </a:lnTo>
                <a:lnTo>
                  <a:pt x="0" y="15273"/>
                </a:lnTo>
                <a:close/>
              </a:path>
              <a:path w="21600" h="21600">
                <a:moveTo>
                  <a:pt x="1350" y="6327"/>
                </a:moveTo>
                <a:lnTo>
                  <a:pt x="2700" y="6327"/>
                </a:lnTo>
                <a:lnTo>
                  <a:pt x="2700" y="15273"/>
                </a:lnTo>
                <a:lnTo>
                  <a:pt x="1350" y="15273"/>
                </a:lnTo>
                <a:close/>
              </a:path>
            </a:pathLst>
          </a:custGeom>
          <a:solidFill>
            <a:srgbClr val="007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9034800">
            <a:off x="5402160" y="3276000"/>
            <a:ext cx="1176480" cy="660600"/>
          </a:xfrm>
          <a:custGeom>
            <a:avLst/>
            <a:gdLst>
              <a:gd name="textAreaLeft" fmla="*/ 183600 w 1176480"/>
              <a:gd name="textAreaRight" fmla="*/ 958320 w 1176480"/>
              <a:gd name="textAreaTop" fmla="*/ 193320 h 660600"/>
              <a:gd name="textAreaBottom" fmla="*/ 467280 h 660600"/>
            </a:gdLst>
            <a:ahLst/>
            <a:rect l="textAreaLeft" t="textAreaTop" r="textAreaRight" b="textAreaBottom"/>
            <a:pathLst>
              <a:path w="21600" h="21600">
                <a:moveTo>
                  <a:pt x="3375" y="6327"/>
                </a:moveTo>
                <a:lnTo>
                  <a:pt x="11925" y="6327"/>
                </a:lnTo>
                <a:lnTo>
                  <a:pt x="11925" y="0"/>
                </a:lnTo>
                <a:lnTo>
                  <a:pt x="21600" y="10800"/>
                </a:lnTo>
                <a:lnTo>
                  <a:pt x="11925" y="21600"/>
                </a:lnTo>
                <a:lnTo>
                  <a:pt x="11925" y="15273"/>
                </a:lnTo>
                <a:lnTo>
                  <a:pt x="3375" y="15273"/>
                </a:lnTo>
                <a:close/>
              </a:path>
              <a:path w="21600" h="21600">
                <a:moveTo>
                  <a:pt x="0" y="6327"/>
                </a:moveTo>
                <a:lnTo>
                  <a:pt x="675" y="6327"/>
                </a:lnTo>
                <a:lnTo>
                  <a:pt x="675" y="15273"/>
                </a:lnTo>
                <a:lnTo>
                  <a:pt x="0" y="15273"/>
                </a:lnTo>
                <a:close/>
              </a:path>
              <a:path w="21600" h="21600">
                <a:moveTo>
                  <a:pt x="1350" y="6327"/>
                </a:moveTo>
                <a:lnTo>
                  <a:pt x="2700" y="6327"/>
                </a:lnTo>
                <a:lnTo>
                  <a:pt x="2700" y="15273"/>
                </a:lnTo>
                <a:lnTo>
                  <a:pt x="1350" y="15273"/>
                </a:lnTo>
                <a:close/>
              </a:path>
            </a:pathLst>
          </a:custGeom>
          <a:gradFill rotWithShape="0">
            <a:gsLst>
              <a:gs pos="0">
                <a:srgbClr val="007cc2"/>
              </a:gs>
              <a:gs pos="100000">
                <a:srgbClr val="e3eaf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597600">
            <a:off x="6573960" y="2643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Enhancing Infosys service delivery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597600">
            <a:off x="6573960" y="4800240"/>
            <a:ext cx="22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Provide Infosys’ clients best-in-class business solutions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 rot="12565200">
            <a:off x="5402160" y="4647600"/>
            <a:ext cx="1176480" cy="660600"/>
          </a:xfrm>
          <a:custGeom>
            <a:avLst/>
            <a:gdLst>
              <a:gd name="textAreaLeft" fmla="*/ 183600 w 1176480"/>
              <a:gd name="textAreaRight" fmla="*/ 958320 w 1176480"/>
              <a:gd name="textAreaTop" fmla="*/ 193320 h 660600"/>
              <a:gd name="textAreaBottom" fmla="*/ 467280 h 660600"/>
            </a:gdLst>
            <a:ahLst/>
            <a:rect l="textAreaLeft" t="textAreaTop" r="textAreaRight" b="textAreaBottom"/>
            <a:pathLst>
              <a:path w="21600" h="21600">
                <a:moveTo>
                  <a:pt x="3375" y="6327"/>
                </a:moveTo>
                <a:lnTo>
                  <a:pt x="11925" y="6327"/>
                </a:lnTo>
                <a:lnTo>
                  <a:pt x="11925" y="0"/>
                </a:lnTo>
                <a:lnTo>
                  <a:pt x="21600" y="10800"/>
                </a:lnTo>
                <a:lnTo>
                  <a:pt x="11925" y="21600"/>
                </a:lnTo>
                <a:lnTo>
                  <a:pt x="11925" y="15273"/>
                </a:lnTo>
                <a:lnTo>
                  <a:pt x="3375" y="15273"/>
                </a:lnTo>
                <a:close/>
              </a:path>
              <a:path w="21600" h="21600">
                <a:moveTo>
                  <a:pt x="0" y="6327"/>
                </a:moveTo>
                <a:lnTo>
                  <a:pt x="675" y="6327"/>
                </a:lnTo>
                <a:lnTo>
                  <a:pt x="675" y="15273"/>
                </a:lnTo>
                <a:lnTo>
                  <a:pt x="0" y="15273"/>
                </a:lnTo>
                <a:close/>
              </a:path>
              <a:path w="21600" h="21600">
                <a:moveTo>
                  <a:pt x="1350" y="6327"/>
                </a:moveTo>
                <a:lnTo>
                  <a:pt x="2700" y="6327"/>
                </a:lnTo>
                <a:lnTo>
                  <a:pt x="2700" y="15273"/>
                </a:lnTo>
                <a:lnTo>
                  <a:pt x="1350" y="15273"/>
                </a:lnTo>
                <a:close/>
              </a:path>
            </a:pathLst>
          </a:custGeom>
          <a:gradFill rotWithShape="0">
            <a:gsLst>
              <a:gs pos="0">
                <a:srgbClr val="007cc2"/>
              </a:gs>
              <a:gs pos="100000">
                <a:srgbClr val="e3eaf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669600" y="869400"/>
            <a:ext cx="7881120" cy="6498000"/>
            <a:chOff x="669600" y="869400"/>
            <a:chExt cx="7881120" cy="6498000"/>
          </a:xfrm>
        </p:grpSpPr>
        <p:sp>
          <p:nvSpPr>
            <p:cNvPr id="147" name=""/>
            <p:cNvSpPr/>
            <p:nvPr/>
          </p:nvSpPr>
          <p:spPr>
            <a:xfrm rot="20514600">
              <a:off x="1219320" y="1807920"/>
              <a:ext cx="6781680" cy="46206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200" y="2255040"/>
              <a:ext cx="2515320" cy="3602160"/>
            </a:xfrm>
            <a:custGeom>
              <a:avLst/>
              <a:gdLst/>
              <a:ahLst/>
              <a:rect l="l" t="t" r="r" b="b"/>
              <a:pathLst>
                <a:path w="1620" h="2320">
                  <a:moveTo>
                    <a:pt x="1140" y="0"/>
                  </a:moveTo>
                  <a:lnTo>
                    <a:pt x="1620" y="1008"/>
                  </a:lnTo>
                  <a:lnTo>
                    <a:pt x="328" y="2320"/>
                  </a:lnTo>
                  <a:lnTo>
                    <a:pt x="248" y="2240"/>
                  </a:lnTo>
                  <a:lnTo>
                    <a:pt x="178" y="2145"/>
                  </a:lnTo>
                  <a:lnTo>
                    <a:pt x="140" y="2080"/>
                  </a:lnTo>
                  <a:lnTo>
                    <a:pt x="86" y="1976"/>
                  </a:lnTo>
                  <a:lnTo>
                    <a:pt x="40" y="1864"/>
                  </a:lnTo>
                  <a:lnTo>
                    <a:pt x="17" y="1745"/>
                  </a:lnTo>
                  <a:lnTo>
                    <a:pt x="0" y="1616"/>
                  </a:lnTo>
                  <a:lnTo>
                    <a:pt x="0" y="1460"/>
                  </a:lnTo>
                  <a:lnTo>
                    <a:pt x="24" y="1296"/>
                  </a:lnTo>
                  <a:lnTo>
                    <a:pt x="78" y="1123"/>
                  </a:lnTo>
                  <a:lnTo>
                    <a:pt x="120" y="1016"/>
                  </a:lnTo>
                  <a:lnTo>
                    <a:pt x="160" y="916"/>
                  </a:lnTo>
                  <a:lnTo>
                    <a:pt x="228" y="804"/>
                  </a:lnTo>
                  <a:lnTo>
                    <a:pt x="288" y="716"/>
                  </a:lnTo>
                  <a:lnTo>
                    <a:pt x="360" y="620"/>
                  </a:lnTo>
                  <a:lnTo>
                    <a:pt x="455" y="516"/>
                  </a:lnTo>
                  <a:lnTo>
                    <a:pt x="568" y="416"/>
                  </a:lnTo>
                  <a:lnTo>
                    <a:pt x="680" y="324"/>
                  </a:lnTo>
                  <a:lnTo>
                    <a:pt x="800" y="232"/>
                  </a:lnTo>
                  <a:lnTo>
                    <a:pt x="908" y="152"/>
                  </a:lnTo>
                  <a:lnTo>
                    <a:pt x="1020" y="80"/>
                  </a:lnTo>
                  <a:lnTo>
                    <a:pt x="11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cfa2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81960" y="1677960"/>
              <a:ext cx="2583360" cy="2142360"/>
            </a:xfrm>
            <a:custGeom>
              <a:avLst/>
              <a:gdLst/>
              <a:ahLst/>
              <a:rect l="l" t="t" r="r" b="b"/>
              <a:pathLst>
                <a:path w="1664" h="1380">
                  <a:moveTo>
                    <a:pt x="0" y="372"/>
                  </a:moveTo>
                  <a:lnTo>
                    <a:pt x="480" y="1380"/>
                  </a:lnTo>
                  <a:lnTo>
                    <a:pt x="1664" y="12"/>
                  </a:lnTo>
                  <a:lnTo>
                    <a:pt x="1444" y="0"/>
                  </a:lnTo>
                  <a:lnTo>
                    <a:pt x="1256" y="12"/>
                  </a:lnTo>
                  <a:lnTo>
                    <a:pt x="1112" y="24"/>
                  </a:lnTo>
                  <a:lnTo>
                    <a:pt x="952" y="48"/>
                  </a:lnTo>
                  <a:lnTo>
                    <a:pt x="804" y="76"/>
                  </a:lnTo>
                  <a:lnTo>
                    <a:pt x="684" y="108"/>
                  </a:lnTo>
                  <a:lnTo>
                    <a:pt x="568" y="144"/>
                  </a:lnTo>
                  <a:lnTo>
                    <a:pt x="436" y="188"/>
                  </a:lnTo>
                  <a:lnTo>
                    <a:pt x="312" y="236"/>
                  </a:lnTo>
                  <a:lnTo>
                    <a:pt x="96" y="324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63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1600" y="3820320"/>
              <a:ext cx="3123720" cy="2732400"/>
            </a:xfrm>
            <a:custGeom>
              <a:avLst/>
              <a:gdLst/>
              <a:ahLst/>
              <a:rect l="l" t="t" r="r" b="b"/>
              <a:pathLst>
                <a:path w="2012" h="1760">
                  <a:moveTo>
                    <a:pt x="1292" y="0"/>
                  </a:moveTo>
                  <a:lnTo>
                    <a:pt x="2012" y="1680"/>
                  </a:lnTo>
                  <a:lnTo>
                    <a:pt x="1864" y="1712"/>
                  </a:lnTo>
                  <a:lnTo>
                    <a:pt x="1716" y="1732"/>
                  </a:lnTo>
                  <a:lnTo>
                    <a:pt x="1584" y="1748"/>
                  </a:lnTo>
                  <a:lnTo>
                    <a:pt x="1412" y="1756"/>
                  </a:lnTo>
                  <a:lnTo>
                    <a:pt x="1256" y="1760"/>
                  </a:lnTo>
                  <a:lnTo>
                    <a:pt x="1108" y="1756"/>
                  </a:lnTo>
                  <a:lnTo>
                    <a:pt x="948" y="1736"/>
                  </a:lnTo>
                  <a:lnTo>
                    <a:pt x="788" y="1704"/>
                  </a:lnTo>
                  <a:lnTo>
                    <a:pt x="612" y="1660"/>
                  </a:lnTo>
                  <a:lnTo>
                    <a:pt x="424" y="1592"/>
                  </a:lnTo>
                  <a:lnTo>
                    <a:pt x="236" y="1488"/>
                  </a:lnTo>
                  <a:lnTo>
                    <a:pt x="128" y="1416"/>
                  </a:lnTo>
                  <a:lnTo>
                    <a:pt x="0" y="1316"/>
                  </a:lnTo>
                  <a:lnTo>
                    <a:pt x="1292" y="0"/>
                  </a:lnTo>
                </a:path>
              </a:pathLst>
            </a:custGeom>
            <a:solidFill>
              <a:srgbClr val="64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113200">
              <a:off x="2560680" y="2776680"/>
              <a:ext cx="2906280" cy="2161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113200">
              <a:off x="2783880" y="3000240"/>
              <a:ext cx="2393640" cy="164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5920" y="3075120"/>
              <a:ext cx="1438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1840" y="3596760"/>
              <a:ext cx="179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5440" y="4118400"/>
              <a:ext cx="1625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vangeliz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1960" y="3522240"/>
              <a:ext cx="2012040" cy="0"/>
            </a:xfrm>
            <a:prstGeom prst="line">
              <a:avLst/>
            </a:prstGeom>
            <a:ln w="38160">
              <a:solidFill>
                <a:srgbClr val="63d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58400" y="4043880"/>
              <a:ext cx="2161440" cy="0"/>
            </a:xfrm>
            <a:prstGeom prst="line">
              <a:avLst/>
            </a:prstGeom>
            <a:ln w="38160">
              <a:solidFill>
                <a:srgbClr val="63d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5120" y="2277000"/>
              <a:ext cx="1316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87720" y="3969720"/>
              <a:ext cx="1418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nowled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0720" y="2478960"/>
              <a:ext cx="187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nershi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24040" y="3522240"/>
              <a:ext cx="241344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ity of Georg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Mobile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eb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M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croso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yChai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0320" y="4193280"/>
              <a:ext cx="2707560" cy="16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M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wov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ak XV Network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B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A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ours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rix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PMark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a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2720" y="5013000"/>
              <a:ext cx="14976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e-of-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38560" y="5460120"/>
              <a:ext cx="2113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NET Center of Excell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reless center for excell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-commerce la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l e-business solutions la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ution for speech recogn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echnology Research Ecosyste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3027240"/>
            <a:ext cx="373392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participation in BP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 for B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reo: Referenc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cy Moder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com: Framework for leveraging legacy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Effectiveness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G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027240"/>
            <a:ext cx="4191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 to Peer Network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ranslation using XSL &amp; X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 Referenc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 hand-off in mobil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Por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347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formation Management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219320"/>
            <a:ext cx="8574120" cy="457200"/>
          </a:xfrm>
          <a:prstGeom prst="rect">
            <a:avLst/>
          </a:prstGeom>
          <a:solidFill>
            <a:srgbClr val="ccd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-wide Thought Leadership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514600"/>
            <a:ext cx="8574120" cy="436680"/>
          </a:xfrm>
          <a:prstGeom prst="rect">
            <a:avLst/>
          </a:prstGeom>
          <a:solidFill>
            <a:srgbClr val="ccd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76520"/>
            <a:ext cx="3314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nt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676520"/>
            <a:ext cx="3314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abhay_pawar</cp:lastModifiedBy>
  <dcterms:modified xsi:type="dcterms:W3CDTF">2002-08-27T08:21:57Z</dcterms:modified>
  <cp:revision>45</cp:revision>
  <dc:subject/>
  <dc:title>Keeping the promise</dc:title>
</cp:coreProperties>
</file>