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lick to move the slide</a:t>
            </a:r>
            <a:endParaRPr b="0" lang="en-US" sz="3200" spc="-1" strike="noStrike">
              <a:solidFill>
                <a:srgbClr val="9933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2980-24A2-424B-A206-1A6D72F8A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le Slide with Visual</a:t>
            </a:r>
            <a:endParaRPr b="0" lang="en-US" sz="2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A7C70-4999-416E-8DAC-9C37CF968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6240" y="689040"/>
            <a:ext cx="4567320" cy="3425760"/>
          </a:xfrm>
          <a:prstGeom prst="rect">
            <a:avLst/>
          </a:prstGeom>
          <a:ln w="0">
            <a:noFill/>
          </a:ln>
        </p:spPr>
      </p:sp>
      <p:sp>
        <p:nvSpPr>
          <p:cNvPr id="204" name="PlaceHolder 2"/>
          <p:cNvSpPr>
            <a:spLocks noGrp="1"/>
          </p:cNvSpPr>
          <p:nvPr>
            <p:ph type="body"/>
          </p:nvPr>
        </p:nvSpPr>
        <p:spPr>
          <a:xfrm>
            <a:off x="912960" y="4343040"/>
            <a:ext cx="503208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Slide</a:t>
            </a: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B2C31-5F31-4DEE-B8FE-B549DE941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29" name="PlaceHolder 2"/>
          <p:cNvSpPr>
            <a:spLocks noGrp="1"/>
          </p:cNvSpPr>
          <p:nvPr>
            <p:ph/>
          </p:nvPr>
        </p:nvSpPr>
        <p:spPr>
          <a:xfrm>
            <a:off x="2361960" y="548640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0" name="PlaceHolder 3"/>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A61BC-8F31-47FB-BD47-F4D4F4E21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2"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3"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4"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5" name="PlaceHolder 5"/>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6705E-D2A7-4F74-A8B3-9574611DF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7" name="PlaceHolder 2"/>
          <p:cNvSpPr>
            <a:spLocks noGrp="1"/>
          </p:cNvSpPr>
          <p:nvPr>
            <p:ph/>
          </p:nvPr>
        </p:nvSpPr>
        <p:spPr>
          <a:xfrm>
            <a:off x="23619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8" name="PlaceHolder 3"/>
          <p:cNvSpPr>
            <a:spLocks noGrp="1"/>
          </p:cNvSpPr>
          <p:nvPr>
            <p:ph/>
          </p:nvPr>
        </p:nvSpPr>
        <p:spPr>
          <a:xfrm>
            <a:off x="455184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9" name="PlaceHolder 4"/>
          <p:cNvSpPr>
            <a:spLocks noGrp="1"/>
          </p:cNvSpPr>
          <p:nvPr>
            <p:ph/>
          </p:nvPr>
        </p:nvSpPr>
        <p:spPr>
          <a:xfrm>
            <a:off x="67413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0" name="PlaceHolder 5"/>
          <p:cNvSpPr>
            <a:spLocks noGrp="1"/>
          </p:cNvSpPr>
          <p:nvPr>
            <p:ph/>
          </p:nvPr>
        </p:nvSpPr>
        <p:spPr>
          <a:xfrm>
            <a:off x="23619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1" name="PlaceHolder 6"/>
          <p:cNvSpPr>
            <a:spLocks noGrp="1"/>
          </p:cNvSpPr>
          <p:nvPr>
            <p:ph/>
          </p:nvPr>
        </p:nvSpPr>
        <p:spPr>
          <a:xfrm>
            <a:off x="455184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2" name="PlaceHolder 7"/>
          <p:cNvSpPr>
            <a:spLocks noGrp="1"/>
          </p:cNvSpPr>
          <p:nvPr>
            <p:ph/>
          </p:nvPr>
        </p:nvSpPr>
        <p:spPr>
          <a:xfrm>
            <a:off x="67413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CBA6C-FB0D-4679-9A96-7AFE91D35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51" name="PlaceHolder 2"/>
          <p:cNvSpPr>
            <a:spLocks noGrp="1"/>
          </p:cNvSpPr>
          <p:nvPr>
            <p:ph type="subTitle"/>
          </p:nvPr>
        </p:nvSpPr>
        <p:spPr>
          <a:xfrm>
            <a:off x="2361960" y="5486400"/>
            <a:ext cx="6476760" cy="838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53" name="PlaceHolder 2"/>
          <p:cNvSpPr>
            <a:spLocks noGrp="1"/>
          </p:cNvSpPr>
          <p:nvPr>
            <p:ph/>
          </p:nvPr>
        </p:nvSpPr>
        <p:spPr>
          <a:xfrm>
            <a:off x="2361960" y="5486400"/>
            <a:ext cx="647676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55"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6"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61960" y="3886200"/>
            <a:ext cx="6476760" cy="6712920"/>
          </a:xfrm>
          <a:prstGeom prst="rect">
            <a:avLst/>
          </a:prstGeom>
          <a:noFill/>
          <a:ln w="0">
            <a:noFill/>
          </a:ln>
        </p:spPr>
        <p:txBody>
          <a:bodyPr lIns="90000" rIns="90000" tIns="46800" bIns="46800" anchor="t">
            <a:noAutofit/>
          </a:bodyPr>
          <a:p>
            <a:endParaRPr b="0" lang="en-US" sz="20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60"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1"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2"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8" name="PlaceHolder 2"/>
          <p:cNvSpPr>
            <a:spLocks noGrp="1"/>
          </p:cNvSpPr>
          <p:nvPr>
            <p:ph type="subTitle"/>
          </p:nvPr>
        </p:nvSpPr>
        <p:spPr>
          <a:xfrm>
            <a:off x="2361960" y="5486400"/>
            <a:ext cx="6476760" cy="838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21BCA-CA2F-4C8B-B465-51D273469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64"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5"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6" name="PlaceHolder 4"/>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68"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9"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0" name="PlaceHolder 4"/>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72" name="PlaceHolder 2"/>
          <p:cNvSpPr>
            <a:spLocks noGrp="1"/>
          </p:cNvSpPr>
          <p:nvPr>
            <p:ph/>
          </p:nvPr>
        </p:nvSpPr>
        <p:spPr>
          <a:xfrm>
            <a:off x="2361960" y="548640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3" name="PlaceHolder 3"/>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75"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6"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7"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8" name="PlaceHolder 5"/>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80" name="PlaceHolder 2"/>
          <p:cNvSpPr>
            <a:spLocks noGrp="1"/>
          </p:cNvSpPr>
          <p:nvPr>
            <p:ph/>
          </p:nvPr>
        </p:nvSpPr>
        <p:spPr>
          <a:xfrm>
            <a:off x="23619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1" name="PlaceHolder 3"/>
          <p:cNvSpPr>
            <a:spLocks noGrp="1"/>
          </p:cNvSpPr>
          <p:nvPr>
            <p:ph/>
          </p:nvPr>
        </p:nvSpPr>
        <p:spPr>
          <a:xfrm>
            <a:off x="455184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2" name="PlaceHolder 4"/>
          <p:cNvSpPr>
            <a:spLocks noGrp="1"/>
          </p:cNvSpPr>
          <p:nvPr>
            <p:ph/>
          </p:nvPr>
        </p:nvSpPr>
        <p:spPr>
          <a:xfrm>
            <a:off x="67413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3" name="PlaceHolder 5"/>
          <p:cNvSpPr>
            <a:spLocks noGrp="1"/>
          </p:cNvSpPr>
          <p:nvPr>
            <p:ph/>
          </p:nvPr>
        </p:nvSpPr>
        <p:spPr>
          <a:xfrm>
            <a:off x="23619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4" name="PlaceHolder 6"/>
          <p:cNvSpPr>
            <a:spLocks noGrp="1"/>
          </p:cNvSpPr>
          <p:nvPr>
            <p:ph/>
          </p:nvPr>
        </p:nvSpPr>
        <p:spPr>
          <a:xfrm>
            <a:off x="455184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5" name="PlaceHolder 7"/>
          <p:cNvSpPr>
            <a:spLocks noGrp="1"/>
          </p:cNvSpPr>
          <p:nvPr>
            <p:ph/>
          </p:nvPr>
        </p:nvSpPr>
        <p:spPr>
          <a:xfrm>
            <a:off x="67413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10" name="PlaceHolder 2"/>
          <p:cNvSpPr>
            <a:spLocks noGrp="1"/>
          </p:cNvSpPr>
          <p:nvPr>
            <p:ph/>
          </p:nvPr>
        </p:nvSpPr>
        <p:spPr>
          <a:xfrm>
            <a:off x="2361960" y="5486400"/>
            <a:ext cx="647676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B97E8-DA1F-459F-8F30-73BE9C20A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12"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13"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88499-D20A-4BC9-B87C-B952132F9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6E494-A211-40C0-BC7C-98D21D966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61960" y="3886200"/>
            <a:ext cx="6476760" cy="6712920"/>
          </a:xfrm>
          <a:prstGeom prst="rect">
            <a:avLst/>
          </a:prstGeom>
          <a:noFill/>
          <a:ln w="0">
            <a:noFill/>
          </a:ln>
        </p:spPr>
        <p:txBody>
          <a:bodyPr lIns="90000" rIns="90000" tIns="46800" bIns="46800" anchor="t">
            <a:noAutofit/>
          </a:bodyPr>
          <a:p>
            <a:endParaRPr b="0" lang="en-US" sz="20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52EC3-B83A-431A-B762-53024320C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17"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18"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19"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4A0CB-6169-4BAB-BEBC-D0D78654D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21"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2"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3" name="PlaceHolder 4"/>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879D9-2916-447F-92FA-CE0D31060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25"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6"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7" name="PlaceHolder 4"/>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FCBE3-6BFE-4A48-8CF1-3F9E860E40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lick to edit the title text format</a:t>
            </a:r>
            <a:endParaRPr b="0" lang="en-US" sz="3200" spc="-1" strike="noStrike">
              <a:solidFill>
                <a:srgbClr val="993300"/>
              </a:solidFill>
              <a:latin typeface="Arial"/>
            </a:endParaRPr>
          </a:p>
        </p:txBody>
      </p:sp>
      <p:sp>
        <p:nvSpPr>
          <p:cNvPr id="2"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23004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68440" indent="-22248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6036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98760" indent="-22248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98760" indent="-2224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98760" indent="-2224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30828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456840" y="6613200"/>
            <a:ext cx="289548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r>
              <a:rPr b="0" lang="en-US" sz="1000" spc="-1" strike="noStrike">
                <a:solidFill>
                  <a:srgbClr val="ffffff"/>
                </a:solidFill>
                <a:latin typeface="Times New Roman"/>
              </a:rPr>
              <a:t>© 2002 Infosys Technologies Limited</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61320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lide </a:t>
            </a:r>
            <a:fld id="{FFF85808-62B1-496A-A054-A9F23F0C3FC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6" name=""/>
          <p:cNvSpPr/>
          <p:nvPr/>
        </p:nvSpPr>
        <p:spPr>
          <a:xfrm>
            <a:off x="2438280" y="104760"/>
            <a:ext cx="2210040" cy="68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t Meet</a:t>
            </a:r>
            <a:endParaRPr b="0" lang="en-US" sz="24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gust 27, 2002</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3803760"/>
          </a:xfrm>
          <a:prstGeom prst="rect">
            <a:avLst/>
          </a:prstGeom>
          <a:ln w="0">
            <a:noFill/>
          </a:ln>
        </p:spPr>
      </p:pic>
      <p:sp>
        <p:nvSpPr>
          <p:cNvPr id="4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lick to edit the title text format</a:t>
            </a:r>
            <a:endParaRPr b="0" lang="en-US" sz="3200" spc="-1" strike="noStrike">
              <a:solidFill>
                <a:srgbClr val="993300"/>
              </a:solidFill>
              <a:latin typeface="Arial"/>
            </a:endParaRPr>
          </a:p>
        </p:txBody>
      </p:sp>
      <p:sp>
        <p:nvSpPr>
          <p:cNvPr id="45" name="PlaceHolder 2"/>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5943240" y="6476760"/>
            <a:ext cx="289548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r>
              <a:rPr b="0" lang="en-US" sz="1000" spc="-1" strike="noStrike">
                <a:solidFill>
                  <a:srgbClr val="000000"/>
                </a:solidFill>
                <a:latin typeface="Times New Roman"/>
              </a:rPr>
              <a:t>© 2002 Infosys Technologies Limited</a:t>
            </a:r>
            <a:endParaRPr b="0" lang="en-US" sz="1000" spc="-1" strike="noStrike">
              <a:solidFill>
                <a:srgbClr val="000000"/>
              </a:solidFill>
              <a:latin typeface="Times New Roman"/>
            </a:endParaRPr>
          </a:p>
        </p:txBody>
      </p:sp>
      <p:sp>
        <p:nvSpPr>
          <p:cNvPr id="47" name=""/>
          <p:cNvSpPr/>
          <p:nvPr/>
        </p:nvSpPr>
        <p:spPr>
          <a:xfrm>
            <a:off x="6172200" y="1523880"/>
            <a:ext cx="2209680" cy="68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t Meet</a:t>
            </a:r>
            <a:endParaRPr b="0" lang="en-US" sz="24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gust 27, 2002</a:t>
            </a:r>
            <a:endParaRPr b="0" lang="en-US" sz="1200" spc="-1" strike="noStrike">
              <a:solidFill>
                <a:srgbClr val="000000"/>
              </a:solidFill>
              <a:latin typeface="Arial"/>
            </a:endParaRPr>
          </a:p>
        </p:txBody>
      </p:sp>
      <p:sp>
        <p:nvSpPr>
          <p:cNvPr id="48" name=""/>
          <p:cNvSpPr/>
          <p:nvPr/>
        </p:nvSpPr>
        <p:spPr>
          <a:xfrm>
            <a:off x="2362320" y="3505320"/>
            <a:ext cx="3657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Living up to the promise”</a:t>
            </a:r>
            <a:endParaRPr b="0" lang="en-US" sz="1200" spc="-1" strike="noStrike">
              <a:solidFill>
                <a:srgbClr val="000000"/>
              </a:solidFill>
              <a:latin typeface="Arial"/>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Click to edit the outline text format</a:t>
            </a:r>
            <a:endParaRPr b="0" lang="en-US" sz="2000" spc="-1" strike="noStrike">
              <a:solidFill>
                <a:srgbClr val="993300"/>
              </a:solidFill>
              <a:latin typeface="Arial"/>
            </a:endParaRPr>
          </a:p>
          <a:p>
            <a:pPr lvl="1" marL="34596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4360" algn="ctr">
              <a:spcBef>
                <a:spcPts val="499"/>
              </a:spcBef>
              <a:buClr>
                <a:srgbClr val="000099"/>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30320" algn="ctr">
              <a:spcBef>
                <a:spcPts val="451"/>
              </a:spcBef>
              <a:buClr>
                <a:srgbClr val="000099"/>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76280" algn="ctr">
              <a:spcBef>
                <a:spcPts val="400"/>
              </a:spcBef>
              <a:buClr>
                <a:srgbClr val="000099"/>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76280">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76280">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Leveraging business domain competency  </a:t>
            </a:r>
            <a:endParaRPr b="0" lang="en-US" sz="3200" spc="-1" strike="noStrike">
              <a:solidFill>
                <a:srgbClr val="993300"/>
              </a:solidFill>
              <a:latin typeface="Arial"/>
            </a:endParaRPr>
          </a:p>
        </p:txBody>
      </p:sp>
      <p:sp>
        <p:nvSpPr>
          <p:cNvPr id="94" name="PlaceHolder 2"/>
          <p:cNvSpPr>
            <a:spLocks noGrp="1"/>
          </p:cNvSpPr>
          <p:nvPr>
            <p:ph type="subTitle"/>
          </p:nvPr>
        </p:nvSpPr>
        <p:spPr>
          <a:xfrm>
            <a:off x="2361960" y="5486400"/>
            <a:ext cx="6476760" cy="838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Dr. P. Balasubramanian</a:t>
            </a:r>
            <a:endParaRPr b="0" lang="en-US" sz="2000" spc="-1" strike="noStrike">
              <a:solidFill>
                <a:srgbClr val="9933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57200" y="1722600"/>
            <a:ext cx="3790800" cy="478764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Arial"/>
                <a:ea typeface="Times New Roman"/>
              </a:rPr>
              <a:t>Assignment Scope</a:t>
            </a:r>
            <a:endParaRPr b="0" lang="en-US" sz="1500" spc="-1" strike="noStrike">
              <a:solidFill>
                <a:srgbClr val="000000"/>
              </a:solidFill>
              <a:latin typeface="Arial"/>
            </a:endParaRPr>
          </a:p>
          <a:p>
            <a:pPr marL="230040" indent="-230040">
              <a:spcBef>
                <a:spcPts val="374"/>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Times New Roman"/>
              </a:rPr>
              <a:t>Multiple applications/systems calculate interest on customer balances derived from various securities and foreign exchange transactions leading to repetitive and redundant processing</a:t>
            </a:r>
            <a:endParaRPr b="0" lang="en-US" sz="1500" spc="-1" strike="noStrike">
              <a:solidFill>
                <a:srgbClr val="000000"/>
              </a:solidFill>
              <a:latin typeface="Arial"/>
            </a:endParaRPr>
          </a:p>
          <a:p>
            <a:pPr marL="230040" indent="-230040">
              <a:spcBef>
                <a:spcPts val="374"/>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Times New Roman"/>
              </a:rPr>
              <a:t>Existing applications do not calculate interest accurately. Incorrect interest calculation leading to losses due to undercharging of debit interest/fees and overpayment of credit interest/rebate to customers. </a:t>
            </a:r>
            <a:endParaRPr b="0" lang="en-US" sz="1500" spc="-1" strike="noStrike">
              <a:solidFill>
                <a:srgbClr val="000000"/>
              </a:solidFill>
              <a:latin typeface="Arial"/>
            </a:endParaRPr>
          </a:p>
          <a:p>
            <a:pPr marL="230040" indent="-230040">
              <a:spcBef>
                <a:spcPts val="374"/>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Times New Roman"/>
              </a:rPr>
              <a:t>Unnecessary operating expense to run and maintain multiple applications.</a:t>
            </a:r>
            <a:endParaRPr b="0" lang="en-US" sz="1500" spc="-1" strike="noStrike">
              <a:solidFill>
                <a:srgbClr val="000000"/>
              </a:solidFill>
              <a:latin typeface="Arial"/>
            </a:endParaRPr>
          </a:p>
          <a:p>
            <a:pPr marL="230040" indent="-230040">
              <a:spcBef>
                <a:spcPts val="374"/>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Times New Roman"/>
              </a:rPr>
              <a:t>Critical and complex functionalities like P &amp; L tracking and allocation to cost centres etc. require manual intervention leading to monetary losses.</a:t>
            </a:r>
            <a:endParaRPr b="0" lang="en-US" sz="1500" spc="-1" strike="noStrike">
              <a:solidFill>
                <a:srgbClr val="000000"/>
              </a:solidFill>
              <a:latin typeface="Arial"/>
            </a:endParaRPr>
          </a:p>
        </p:txBody>
      </p:sp>
      <p:sp>
        <p:nvSpPr>
          <p:cNvPr id="159" name=""/>
          <p:cNvSpPr/>
          <p:nvPr/>
        </p:nvSpPr>
        <p:spPr>
          <a:xfrm>
            <a:off x="4572000" y="5310360"/>
            <a:ext cx="3921120" cy="127152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ea typeface="Times New Roman"/>
              </a:rPr>
              <a:t>Specific Domain Expertise used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terest calculation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curities / foreign exchang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a:off x="4572000" y="3821040"/>
            <a:ext cx="3938760" cy="148428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DCG’s Rol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Key role in requirements analysis and building a high level design.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Imparting training to onsite Infosys team.</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993300"/>
                </a:solidFill>
                <a:latin typeface="Arial"/>
              </a:rPr>
              <a:t>Large Securities Company</a:t>
            </a:r>
            <a:endParaRPr b="0" lang="en-US" sz="3200" spc="-1" strike="noStrike">
              <a:solidFill>
                <a:srgbClr val="993300"/>
              </a:solidFill>
              <a:latin typeface="Arial"/>
            </a:endParaRPr>
          </a:p>
        </p:txBody>
      </p:sp>
      <p:sp>
        <p:nvSpPr>
          <p:cNvPr id="162" name=""/>
          <p:cNvSpPr/>
          <p:nvPr/>
        </p:nvSpPr>
        <p:spPr>
          <a:xfrm>
            <a:off x="4572000" y="1998720"/>
            <a:ext cx="3790800" cy="154944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374"/>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Times New Roman"/>
              </a:rPr>
              <a:t>Applications are unable to cope with changing business requirements.  </a:t>
            </a:r>
            <a:endParaRPr b="0" lang="en-US" sz="1500" spc="-1" strike="noStrike">
              <a:solidFill>
                <a:srgbClr val="000000"/>
              </a:solidFill>
              <a:latin typeface="Arial"/>
            </a:endParaRPr>
          </a:p>
          <a:p>
            <a:pPr marL="230040" indent="-230040">
              <a:spcBef>
                <a:spcPts val="374"/>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Times New Roman"/>
              </a:rPr>
              <a:t>Infosys is involved in developing a single consolidated interest system that will provide flexible, accurate and consistent calculations for all types of customer transactions.  </a:t>
            </a:r>
            <a:endParaRPr b="0" lang="en-US" sz="15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49360" y="1670040"/>
            <a:ext cx="3822480" cy="444672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Assignment Scop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Client is facing challenges in aligning certain key processes and systems to its current and future business needs. Based on initial assessment, Infosys identified the need for “Item Lifecycle Process Definition” study as one of the key initiatives to be pursued.  This study was subsequently carried out by Infosys for all Item Life Cycle processes</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Infosys used its proprietary InFluxTM methodology to carry out the Business Modelling.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4572000" y="3629160"/>
            <a:ext cx="4156200" cy="284292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217188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99"/>
                </a:solidFill>
                <a:latin typeface="Arial"/>
                <a:ea typeface="Times New Roman"/>
              </a:rPr>
              <a:t>Specific Domain Expertise used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21718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omain expertise in Supermarket</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21718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ry and Perishable category merchandising processes like:  </a:t>
            </a:r>
            <a:endParaRPr b="0" lang="en-US" sz="1600" spc="-1" strike="noStrike">
              <a:solidFill>
                <a:srgbClr val="000000"/>
              </a:solidFill>
              <a:latin typeface="Arial"/>
            </a:endParaRPr>
          </a:p>
          <a:p>
            <a:pPr marL="230040" indent="-230040">
              <a:spcBef>
                <a:spcPts val="349"/>
              </a:spcBef>
              <a:tabLst>
                <a:tab algn="l" pos="0"/>
                <a:tab algn="l" pos="217188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99"/>
                </a:solidFill>
                <a:latin typeface="Arial"/>
                <a:ea typeface="Times New Roman"/>
              </a:rPr>
              <a:t>Item Set-up Item</a:t>
            </a:r>
            <a:r>
              <a:rPr b="0" lang="en-AU" sz="1400" spc="-1" strike="noStrike">
                <a:solidFill>
                  <a:srgbClr val="333399"/>
                </a:solidFill>
                <a:latin typeface="Arial"/>
                <a:ea typeface="Times New Roman"/>
              </a:rPr>
              <a:t>	</a:t>
            </a:r>
            <a:r>
              <a:rPr b="0" lang="en-AU" sz="1400" spc="-1" strike="noStrike">
                <a:solidFill>
                  <a:srgbClr val="333399"/>
                </a:solidFill>
                <a:latin typeface="Arial"/>
                <a:ea typeface="Times New Roman"/>
              </a:rPr>
              <a:t>Configuration Change</a:t>
            </a:r>
            <a:endParaRPr b="0" lang="en-US" sz="1400" spc="-1" strike="noStrike">
              <a:solidFill>
                <a:srgbClr val="000000"/>
              </a:solidFill>
              <a:latin typeface="Arial"/>
            </a:endParaRPr>
          </a:p>
          <a:p>
            <a:pPr marL="230040" indent="-230040">
              <a:spcBef>
                <a:spcPts val="349"/>
              </a:spcBef>
              <a:tabLst>
                <a:tab algn="l" pos="0"/>
                <a:tab algn="l" pos="217188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99"/>
                </a:solidFill>
                <a:latin typeface="Arial"/>
                <a:ea typeface="Times New Roman"/>
              </a:rPr>
              <a:t>Item Cost Change</a:t>
            </a:r>
            <a:r>
              <a:rPr b="0" lang="en-AU" sz="1400" spc="-1" strike="noStrike">
                <a:solidFill>
                  <a:srgbClr val="333399"/>
                </a:solidFill>
                <a:latin typeface="Arial"/>
                <a:ea typeface="Times New Roman"/>
              </a:rPr>
              <a:t>	</a:t>
            </a:r>
            <a:r>
              <a:rPr b="0" lang="en-AU" sz="1400" spc="-1" strike="noStrike">
                <a:solidFill>
                  <a:srgbClr val="333399"/>
                </a:solidFill>
                <a:latin typeface="Arial"/>
                <a:ea typeface="Times New Roman"/>
              </a:rPr>
              <a:t>Item Price Change </a:t>
            </a:r>
            <a:endParaRPr b="0" lang="en-US" sz="1400" spc="-1" strike="noStrike">
              <a:solidFill>
                <a:srgbClr val="000000"/>
              </a:solidFill>
              <a:latin typeface="Arial"/>
            </a:endParaRPr>
          </a:p>
          <a:p>
            <a:pPr marL="230040" indent="-230040">
              <a:spcBef>
                <a:spcPts val="349"/>
              </a:spcBef>
              <a:tabLst>
                <a:tab algn="l" pos="0"/>
                <a:tab algn="l" pos="217188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99"/>
                </a:solidFill>
                <a:latin typeface="Arial"/>
                <a:ea typeface="Times New Roman"/>
              </a:rPr>
              <a:t>Item Force out</a:t>
            </a:r>
            <a:r>
              <a:rPr b="0" lang="en-AU" sz="1400" spc="-1" strike="noStrike">
                <a:solidFill>
                  <a:srgbClr val="333399"/>
                </a:solidFill>
                <a:latin typeface="Arial"/>
                <a:ea typeface="Times New Roman"/>
              </a:rPr>
              <a:t>	</a:t>
            </a:r>
            <a:r>
              <a:rPr b="0" lang="en-AU" sz="1400" spc="-1" strike="noStrike">
                <a:solidFill>
                  <a:srgbClr val="333399"/>
                </a:solidFill>
                <a:latin typeface="Arial"/>
                <a:ea typeface="Times New Roman"/>
              </a:rPr>
              <a:t>Item Proration </a:t>
            </a:r>
            <a:endParaRPr b="0" lang="en-US" sz="1400" spc="-1" strike="noStrike">
              <a:solidFill>
                <a:srgbClr val="000000"/>
              </a:solidFill>
              <a:latin typeface="Arial"/>
            </a:endParaRPr>
          </a:p>
          <a:p>
            <a:pPr marL="230040" indent="-230040">
              <a:spcBef>
                <a:spcPts val="349"/>
              </a:spcBef>
              <a:tabLst>
                <a:tab algn="l" pos="0"/>
                <a:tab algn="l" pos="217188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99"/>
                </a:solidFill>
                <a:latin typeface="Arial"/>
                <a:ea typeface="Times New Roman"/>
              </a:rPr>
              <a:t>Item Substitution</a:t>
            </a:r>
            <a:r>
              <a:rPr b="0" lang="en-AU" sz="1400" spc="-1" strike="noStrike">
                <a:solidFill>
                  <a:srgbClr val="333399"/>
                </a:solidFill>
                <a:latin typeface="Arial"/>
                <a:ea typeface="Times New Roman"/>
              </a:rPr>
              <a:t>	</a:t>
            </a:r>
            <a:r>
              <a:rPr b="0" lang="en-AU" sz="1400" spc="-1" strike="noStrike">
                <a:solidFill>
                  <a:srgbClr val="333399"/>
                </a:solidFill>
                <a:latin typeface="Arial"/>
                <a:ea typeface="Times New Roman"/>
              </a:rPr>
              <a:t>Item Review</a:t>
            </a:r>
            <a:endParaRPr b="0" lang="en-US" sz="1400" spc="-1" strike="noStrike">
              <a:solidFill>
                <a:srgbClr val="000000"/>
              </a:solidFill>
              <a:latin typeface="Arial"/>
            </a:endParaRPr>
          </a:p>
          <a:p>
            <a:pPr marL="230040" indent="-230040">
              <a:spcBef>
                <a:spcPts val="349"/>
              </a:spcBef>
              <a:tabLst>
                <a:tab algn="l" pos="0"/>
                <a:tab algn="l" pos="217188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99"/>
                </a:solidFill>
                <a:latin typeface="Arial"/>
                <a:ea typeface="Times New Roman"/>
              </a:rPr>
              <a:t>Item Discontinue / Delete</a:t>
            </a:r>
            <a:endParaRPr b="0" lang="en-US" sz="1400" spc="-1" strike="noStrike">
              <a:solidFill>
                <a:srgbClr val="000000"/>
              </a:solidFill>
              <a:latin typeface="Arial"/>
            </a:endParaRPr>
          </a:p>
        </p:txBody>
      </p:sp>
      <p:sp>
        <p:nvSpPr>
          <p:cNvPr id="165" name=""/>
          <p:cNvSpPr/>
          <p:nvPr/>
        </p:nvSpPr>
        <p:spPr>
          <a:xfrm>
            <a:off x="4565520" y="1650960"/>
            <a:ext cx="4156200" cy="177804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99"/>
                </a:solidFill>
                <a:latin typeface="Arial"/>
                <a:ea typeface="Times New Roman"/>
              </a:rPr>
              <a:t>DCG’s Rol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a:t>
            </a:r>
            <a:r>
              <a:rPr b="0" lang="en-AU" sz="1600" spc="-1" strike="noStrike">
                <a:solidFill>
                  <a:srgbClr val="000000"/>
                </a:solidFill>
                <a:latin typeface="Arial"/>
                <a:ea typeface="Times New Roman"/>
              </a:rPr>
              <a:t>AS IS’ and ‘TO BE’ process definitions</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 </a:t>
            </a:r>
            <a:r>
              <a:rPr b="0" lang="en-AU" sz="1600" spc="-1" strike="noStrike">
                <a:solidFill>
                  <a:srgbClr val="000000"/>
                </a:solidFill>
                <a:latin typeface="Arial"/>
                <a:ea typeface="Times New Roman"/>
              </a:rPr>
              <a:t>Gap analysis was done indicating the gaps identified in existing processes, systems and structure for each of the unique category item processes.</a:t>
            </a:r>
            <a:endParaRPr b="0" lang="en-US" sz="1600" spc="-1" strike="noStrike">
              <a:solidFill>
                <a:srgbClr val="000000"/>
              </a:solidFill>
              <a:latin typeface="Arial"/>
            </a:endParaRPr>
          </a:p>
        </p:txBody>
      </p:sp>
      <p:sp>
        <p:nvSpPr>
          <p:cNvPr id="16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993300"/>
                </a:solidFill>
                <a:latin typeface="Arial"/>
              </a:rPr>
              <a:t>Large US super market chain</a:t>
            </a:r>
            <a:endParaRPr b="0" lang="en-US" sz="3200" spc="-1" strike="noStrike">
              <a:solidFill>
                <a:srgbClr val="9933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572000" y="1708200"/>
            <a:ext cx="4265640" cy="143028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DCG’s Rol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Partnering the client in the defining the detailed business process flows and user requirement documentation spanning across multi-functional areas.</a:t>
            </a:r>
            <a:endParaRPr b="0" lang="en-US" sz="1600" spc="-1" strike="noStrike">
              <a:solidFill>
                <a:srgbClr val="000000"/>
              </a:solidFill>
              <a:latin typeface="Arial"/>
            </a:endParaRPr>
          </a:p>
        </p:txBody>
      </p:sp>
      <p:sp>
        <p:nvSpPr>
          <p:cNvPr id="168" name=""/>
          <p:cNvSpPr/>
          <p:nvPr/>
        </p:nvSpPr>
        <p:spPr>
          <a:xfrm>
            <a:off x="4572000" y="3429000"/>
            <a:ext cx="4302000" cy="175248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99"/>
                </a:solidFill>
                <a:latin typeface="Arial"/>
                <a:ea typeface="Times New Roman"/>
              </a:rPr>
              <a:t>Specific Domain Expertise used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istribution Management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Order Management</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Inventory Management &amp; Demand Forecasting</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Warehouse Management</a:t>
            </a:r>
            <a:endParaRPr b="0" lang="en-US" sz="1600" spc="-1" strike="noStrike">
              <a:solidFill>
                <a:srgbClr val="000000"/>
              </a:solidFill>
              <a:latin typeface="Arial"/>
            </a:endParaRPr>
          </a:p>
        </p:txBody>
      </p:sp>
      <p:sp>
        <p:nvSpPr>
          <p:cNvPr id="169" name=""/>
          <p:cNvSpPr/>
          <p:nvPr/>
        </p:nvSpPr>
        <p:spPr>
          <a:xfrm>
            <a:off x="460440" y="1733400"/>
            <a:ext cx="3981240" cy="479772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Assignment Scop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Client evaluated the business case for implementing Redistribution as a part of the business model. Redistribution was envisaged with the following benefits:</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Procurement aggregation and economies of scal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Logistics and Distribution efficiencies</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Reduction in inventory handling and carrying costs</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Reduction in transaction processing costs</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Implementation of the Redistribution business model has a significant impact on the business processes and IT systems that currently support the operations. </a:t>
            </a:r>
            <a:endParaRPr b="0" lang="en-US" sz="1600" spc="-1" strike="noStrike">
              <a:solidFill>
                <a:srgbClr val="000000"/>
              </a:solidFill>
              <a:latin typeface="Arial"/>
            </a:endParaRPr>
          </a:p>
        </p:txBody>
      </p:sp>
      <p:sp>
        <p:nvSpPr>
          <p:cNvPr id="17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993300"/>
                </a:solidFill>
                <a:latin typeface="Arial"/>
              </a:rPr>
              <a:t>Leading food service distributor</a:t>
            </a:r>
            <a:endParaRPr b="0" lang="en-US" sz="3200" spc="-1" strike="noStrike">
              <a:solidFill>
                <a:srgbClr val="9933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Large transportation player</a:t>
            </a:r>
            <a:endParaRPr b="0" lang="en-US" sz="3200" spc="-1" strike="noStrike">
              <a:solidFill>
                <a:srgbClr val="993300"/>
              </a:solidFill>
              <a:latin typeface="Arial"/>
            </a:endParaRPr>
          </a:p>
        </p:txBody>
      </p:sp>
      <p:sp>
        <p:nvSpPr>
          <p:cNvPr id="172" name="PlaceHolder 2"/>
          <p:cNvSpPr>
            <a:spLocks noGrp="1"/>
          </p:cNvSpPr>
          <p:nvPr>
            <p:ph/>
          </p:nvPr>
        </p:nvSpPr>
        <p:spPr>
          <a:xfrm>
            <a:off x="4572000" y="3806640"/>
            <a:ext cx="4248000" cy="1927080"/>
          </a:xfrm>
          <a:prstGeom prst="rect">
            <a:avLst/>
          </a:prstGeom>
          <a:noFill/>
          <a:ln w="0">
            <a:noFill/>
          </a:ln>
        </p:spPr>
        <p:txBody>
          <a:bodyPr anchor="t">
            <a:normAutofit/>
          </a:bodyPr>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Specific Domain Expertise used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uote management</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e / pricing management</a:t>
            </a:r>
            <a:endParaRPr b="0" lang="en-US" sz="1600" spc="-1" strike="noStrike">
              <a:solidFill>
                <a:srgbClr val="000000"/>
              </a:solidFill>
              <a:latin typeface="Arial"/>
            </a:endParaRPr>
          </a:p>
        </p:txBody>
      </p:sp>
      <p:sp>
        <p:nvSpPr>
          <p:cNvPr id="173" name=""/>
          <p:cNvSpPr/>
          <p:nvPr/>
        </p:nvSpPr>
        <p:spPr>
          <a:xfrm>
            <a:off x="4572000" y="1838160"/>
            <a:ext cx="4235400" cy="159084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DCG’s Rol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CG provided business process analysis expertise, and understanding and knowledge dissemination of the high level initiative and how it tied in with the enterprise strategy.</a:t>
            </a:r>
            <a:endParaRPr b="0" lang="en-US" sz="1600" spc="-1" strike="noStrike">
              <a:solidFill>
                <a:srgbClr val="000000"/>
              </a:solidFill>
              <a:latin typeface="Arial"/>
            </a:endParaRPr>
          </a:p>
        </p:txBody>
      </p:sp>
      <p:sp>
        <p:nvSpPr>
          <p:cNvPr id="174" name="PlaceHolder 3"/>
          <p:cNvSpPr>
            <a:spLocks noGrp="1"/>
          </p:cNvSpPr>
          <p:nvPr>
            <p:ph/>
          </p:nvPr>
        </p:nvSpPr>
        <p:spPr>
          <a:xfrm>
            <a:off x="504360" y="1852200"/>
            <a:ext cx="3876840" cy="4111560"/>
          </a:xfrm>
          <a:prstGeom prst="rect">
            <a:avLst/>
          </a:prstGeom>
          <a:noFill/>
          <a:ln w="0">
            <a:noFill/>
          </a:ln>
        </p:spPr>
        <p:txBody>
          <a:bodyPr anchor="t">
            <a:normAutofit/>
          </a:bodyPr>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Assignment Scop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cean Liner Business</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tegrated Logistics Service Provider</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 large re-engineering initiative to increase the efficiency of the Quote-to-Cash process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fosys working on an important element of the end-to-end process - the Pricing domain.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project involved resolving and tackling issues like Quote management, Contract management and mis-rating of Bill of Lading. </a:t>
            </a:r>
            <a:endParaRPr b="0" lang="en-US" sz="1600" spc="-1" strike="noStrike">
              <a:solidFill>
                <a:srgbClr val="000000"/>
              </a:solidFill>
              <a:latin typeface="Arial"/>
            </a:endParaRPr>
          </a:p>
          <a:p>
            <a:pPr marL="230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509760" y="1760400"/>
            <a:ext cx="3946320" cy="359568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Assignment Scop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client is known in the industry to be the technology leader in its domain. It plans to retain that leadership position by defining and implementing a new generation concept in use of technology in E&amp;P.</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fosys involved in Development, Enhancement and Maintenance of Applications in the areas of Data Acquisition, Simulation, Analysis and Interpretation. </a:t>
            </a:r>
            <a:endParaRPr b="0" lang="en-US" sz="1600" spc="-1" strike="noStrike">
              <a:solidFill>
                <a:srgbClr val="000000"/>
              </a:solidFill>
              <a:latin typeface="Arial"/>
            </a:endParaRPr>
          </a:p>
        </p:txBody>
      </p:sp>
      <p:sp>
        <p:nvSpPr>
          <p:cNvPr id="176" name=""/>
          <p:cNvSpPr/>
          <p:nvPr/>
        </p:nvSpPr>
        <p:spPr>
          <a:xfrm>
            <a:off x="4572000" y="1738440"/>
            <a:ext cx="4357800" cy="273996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DCG’s Role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omain consultants specializing in the E&amp;P lifecycle , with years of experience in the field contribute towards training and execution of this project.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CG’s multidimensional role includes training team members on high level concepts of E&amp;P as well as detailed concepts of data acquisition,Simulation, Data Analysis and Data Interpretation</a:t>
            </a:r>
            <a:endParaRPr b="0" lang="en-US" sz="1600" spc="-1" strike="noStrike">
              <a:solidFill>
                <a:srgbClr val="000000"/>
              </a:solidFill>
              <a:latin typeface="Arial"/>
            </a:endParaRPr>
          </a:p>
        </p:txBody>
      </p:sp>
      <p:sp>
        <p:nvSpPr>
          <p:cNvPr id="177" name=""/>
          <p:cNvSpPr/>
          <p:nvPr/>
        </p:nvSpPr>
        <p:spPr>
          <a:xfrm>
            <a:off x="4572000" y="4471920"/>
            <a:ext cx="4052880" cy="204336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Arial"/>
                <a:ea typeface="Times New Roman"/>
              </a:rPr>
              <a:t>Specific Domain Expertise used : </a:t>
            </a:r>
            <a:endParaRPr b="0" lang="en-US" sz="1500" spc="-1" strike="noStrike">
              <a:solidFill>
                <a:srgbClr val="000000"/>
              </a:solidFill>
              <a:latin typeface="Arial"/>
            </a:endParaRPr>
          </a:p>
          <a:p>
            <a:pPr marL="230040" indent="-230040">
              <a:spcBef>
                <a:spcPts val="374"/>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Interpretation and translation of physical data acquisition tool parameters</a:t>
            </a:r>
            <a:endParaRPr b="0" lang="en-US" sz="1500" spc="-1" strike="noStrike">
              <a:solidFill>
                <a:srgbClr val="000000"/>
              </a:solidFill>
              <a:latin typeface="Arial"/>
            </a:endParaRPr>
          </a:p>
          <a:p>
            <a:pPr marL="230040" indent="-230040">
              <a:spcBef>
                <a:spcPts val="374"/>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Translation of Well parameters; Interpretation of Maps and well log plots</a:t>
            </a:r>
            <a:endParaRPr b="0" lang="en-US" sz="1500" spc="-1" strike="noStrike">
              <a:solidFill>
                <a:srgbClr val="000000"/>
              </a:solidFill>
              <a:latin typeface="Arial"/>
            </a:endParaRPr>
          </a:p>
          <a:p>
            <a:pPr marL="230040" indent="-230040">
              <a:spcBef>
                <a:spcPts val="374"/>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Validation &amp; Review of software specifications from the perspective of correctness of details of oil physics.</a:t>
            </a:r>
            <a:endParaRPr b="0" lang="en-US" sz="1500" spc="-1" strike="noStrike">
              <a:solidFill>
                <a:srgbClr val="000000"/>
              </a:solidFill>
              <a:latin typeface="Arial"/>
            </a:endParaRPr>
          </a:p>
        </p:txBody>
      </p:sp>
      <p:sp>
        <p:nvSpPr>
          <p:cNvPr id="17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Large Oil Field Services Company</a:t>
            </a:r>
            <a:endParaRPr b="0" lang="en-US" sz="3200" spc="-1" strike="noStrike">
              <a:solidFill>
                <a:srgbClr val="9933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Building Competency in Newer Domains</a:t>
            </a:r>
            <a:endParaRPr b="0" lang="en-US" sz="3200" spc="-1" strike="noStrike">
              <a:solidFill>
                <a:srgbClr val="993300"/>
              </a:solidFill>
              <a:latin typeface="Arial"/>
            </a:endParaRPr>
          </a:p>
        </p:txBody>
      </p:sp>
      <p:sp>
        <p:nvSpPr>
          <p:cNvPr id="180"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Care Application </a:t>
            </a:r>
            <a:endParaRPr b="0" lang="en-US" sz="2800" spc="-1" strike="noStrike">
              <a:solidFill>
                <a:srgbClr val="000000"/>
              </a:solidFill>
              <a:latin typeface="Arial"/>
            </a:endParaRPr>
          </a:p>
          <a:p>
            <a:pPr lvl="1" marL="568440" indent="-22248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based Electronic Health Records </a:t>
            </a:r>
            <a:endParaRPr b="0" lang="en-US" sz="2400" spc="-1" strike="noStrike">
              <a:solidFill>
                <a:srgbClr val="000000"/>
              </a:solidFill>
              <a:latin typeface="Arial"/>
            </a:endParaRPr>
          </a:p>
          <a:p>
            <a:pPr lvl="1" marL="568440" indent="-22248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 CFR Part 11 Compliance Solution   </a:t>
            </a:r>
            <a:endParaRPr b="0" lang="en-US" sz="2400" spc="-1" strike="noStrike">
              <a:solidFill>
                <a:srgbClr val="000000"/>
              </a:solidFill>
              <a:latin typeface="Arial"/>
            </a:endParaRPr>
          </a:p>
          <a:p>
            <a:pPr lvl="1" marL="56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ansportation</a:t>
            </a:r>
            <a:endParaRPr b="0" lang="en-US" sz="2800" spc="-1" strike="noStrike">
              <a:solidFill>
                <a:srgbClr val="000000"/>
              </a:solidFill>
              <a:latin typeface="Arial"/>
            </a:endParaRPr>
          </a:p>
          <a:p>
            <a:pPr lvl="1" marL="568440" indent="-22248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PL Solutions</a:t>
            </a:r>
            <a:endParaRPr b="0" lang="en-US" sz="2400" spc="-1" strike="noStrike">
              <a:solidFill>
                <a:srgbClr val="000000"/>
              </a:solidFill>
              <a:latin typeface="Arial"/>
            </a:endParaRPr>
          </a:p>
          <a:p>
            <a:pPr lvl="1" marL="568440" indent="-22248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 and consignment tracking</a:t>
            </a:r>
            <a:endParaRPr b="0" lang="en-US" sz="24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ompetency Building : Examples</a:t>
            </a:r>
            <a:endParaRPr b="0" lang="en-US" sz="3200" spc="-1" strike="noStrike">
              <a:solidFill>
                <a:srgbClr val="993300"/>
              </a:solidFill>
              <a:latin typeface="Arial"/>
            </a:endParaRPr>
          </a:p>
        </p:txBody>
      </p:sp>
      <p:sp>
        <p:nvSpPr>
          <p:cNvPr id="182"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Straight Through Processing - A tactical and strategic approach” by M.D. Ranganath and Sunil Kumar was </a:t>
            </a:r>
            <a:r>
              <a:rPr b="1" lang="en-US" sz="1600" spc="-1" strike="noStrike">
                <a:solidFill>
                  <a:srgbClr val="333399"/>
                </a:solidFill>
                <a:latin typeface="Arial"/>
              </a:rPr>
              <a:t>published in Wall Street &amp; Technology</a:t>
            </a:r>
            <a:r>
              <a:rPr b="1" lang="en-US" sz="1600" spc="-1" strike="noStrike">
                <a:solidFill>
                  <a:srgbClr val="000000"/>
                </a:solidFill>
                <a:latin typeface="Arial"/>
              </a:rPr>
              <a:t> </a:t>
            </a:r>
            <a:endParaRPr b="0" lang="en-US" sz="1600" spc="-1" strike="noStrike">
              <a:solidFill>
                <a:srgbClr val="000000"/>
              </a:solidFill>
              <a:latin typeface="Arial"/>
            </a:endParaRPr>
          </a:p>
          <a:p>
            <a:pPr marL="230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fting IT projects offshore" by Rama Warrier has appeared in the April 2002 issue of </a:t>
            </a:r>
            <a:r>
              <a:rPr b="1" lang="en-US" sz="1600" spc="-1" strike="noStrike">
                <a:solidFill>
                  <a:srgbClr val="333399"/>
                </a:solidFill>
                <a:latin typeface="Arial"/>
              </a:rPr>
              <a:t>'InfoRM' - the official monthly journal of 'Institute of Risk Management', UK</a:t>
            </a:r>
            <a:r>
              <a:rPr b="0" lang="en-US" sz="1600" spc="-1" strike="noStrike">
                <a:solidFill>
                  <a:srgbClr val="333399"/>
                </a:solidFill>
                <a:latin typeface="Arial"/>
              </a:rPr>
              <a:t>.</a:t>
            </a:r>
            <a:endParaRPr b="0" lang="en-US" sz="1600" spc="-1" strike="noStrike">
              <a:solidFill>
                <a:srgbClr val="000000"/>
              </a:solidFill>
              <a:latin typeface="Arial"/>
            </a:endParaRPr>
          </a:p>
          <a:p>
            <a:pPr marL="230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etri Net Based Simulation Approach for Evaluating Benefits of Time Temperature Indicator and Wireless Technologies in Perishable Goods Retail Management " (By Kishor Gummaraju of DCG and Navaneet Bhushan of SetLabs), was presented at </a:t>
            </a:r>
            <a:r>
              <a:rPr b="1" lang="en-US" sz="1600" spc="-1" strike="noStrike">
                <a:solidFill>
                  <a:srgbClr val="333399"/>
                </a:solidFill>
                <a:latin typeface="Arial"/>
              </a:rPr>
              <a:t>FoodSim 2002</a:t>
            </a:r>
            <a:r>
              <a:rPr b="0" lang="en-US" sz="1600" spc="-1" strike="noStrike">
                <a:solidFill>
                  <a:srgbClr val="000000"/>
                </a:solidFill>
                <a:latin typeface="Arial"/>
              </a:rPr>
              <a:t> (a prestigious international conference on Simulation and Modeling in the Food and Bio-Industry) at Ireland.</a:t>
            </a:r>
            <a:endParaRPr b="0" lang="en-US" sz="1600" spc="-1" strike="noStrike">
              <a:solidFill>
                <a:srgbClr val="000000"/>
              </a:solidFill>
              <a:latin typeface="Arial"/>
            </a:endParaRPr>
          </a:p>
          <a:p>
            <a:pPr marL="230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Web based Electronic Health Records on Dot Net Platform( Web Services) </a:t>
            </a:r>
            <a:r>
              <a:rPr b="0" lang="en-US" sz="1600" spc="-1" strike="noStrike">
                <a:solidFill>
                  <a:srgbClr val="000000"/>
                </a:solidFill>
                <a:latin typeface="Arial"/>
              </a:rPr>
              <a:t>: This application demonstrates  a new paradigm of clinical experience leveraging web services, mobile devices and seamless multi-channel integration. </a:t>
            </a:r>
            <a:endParaRPr b="0" lang="en-US" sz="16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248600" y="2438280"/>
            <a:ext cx="1685880" cy="15271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248600" y="4495680"/>
            <a:ext cx="1685880" cy="15271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7248600" y="1636560"/>
            <a:ext cx="1685880" cy="5875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33360" y="1752480"/>
            <a:ext cx="6912000" cy="190980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Perishables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veloped a series of collaterals and taken them to a number of super market chains</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tudied and recommended improvements in item lifecycle processes at a major US based retailer.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commended TO BE processes and systems. This has substantially enhanced our capability to deliver perishables solutions.</a:t>
            </a:r>
            <a:endParaRPr b="0" lang="en-US" sz="1600" spc="-1" strike="noStrike">
              <a:solidFill>
                <a:srgbClr val="000000"/>
              </a:solidFill>
              <a:latin typeface="Arial"/>
            </a:endParaRPr>
          </a:p>
        </p:txBody>
      </p:sp>
      <p:sp>
        <p:nvSpPr>
          <p:cNvPr id="187" name=""/>
          <p:cNvSpPr/>
          <p:nvPr/>
        </p:nvSpPr>
        <p:spPr>
          <a:xfrm>
            <a:off x="7257960" y="1660680"/>
            <a:ext cx="163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New Clients due to the initiative</a:t>
            </a:r>
            <a:endParaRPr b="0" lang="en-US" sz="1400" spc="-1" strike="noStrike">
              <a:solidFill>
                <a:srgbClr val="000000"/>
              </a:solidFill>
              <a:latin typeface="Arial"/>
            </a:endParaRPr>
          </a:p>
        </p:txBody>
      </p:sp>
      <p:sp>
        <p:nvSpPr>
          <p:cNvPr id="188" name=""/>
          <p:cNvSpPr/>
          <p:nvPr/>
        </p:nvSpPr>
        <p:spPr>
          <a:xfrm>
            <a:off x="7315200" y="2801880"/>
            <a:ext cx="150480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Food Lion</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Hannaford Brothers</a:t>
            </a:r>
            <a:endParaRPr b="0" lang="en-US" sz="1400" spc="-1" strike="noStrike">
              <a:solidFill>
                <a:srgbClr val="000000"/>
              </a:solidFill>
              <a:latin typeface="Arial"/>
            </a:endParaRPr>
          </a:p>
        </p:txBody>
      </p:sp>
      <p:sp>
        <p:nvSpPr>
          <p:cNvPr id="189" name=""/>
          <p:cNvSpPr/>
          <p:nvPr/>
        </p:nvSpPr>
        <p:spPr>
          <a:xfrm>
            <a:off x="7296120" y="5108400"/>
            <a:ext cx="1581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arge custodian</a:t>
            </a:r>
            <a:endParaRPr b="0" lang="en-US" sz="1400" spc="-1" strike="noStrike">
              <a:solidFill>
                <a:srgbClr val="000000"/>
              </a:solidFill>
              <a:latin typeface="Arial"/>
            </a:endParaRPr>
          </a:p>
        </p:txBody>
      </p:sp>
      <p:sp>
        <p:nvSpPr>
          <p:cNvPr id="190" name=""/>
          <p:cNvSpPr/>
          <p:nvPr/>
        </p:nvSpPr>
        <p:spPr>
          <a:xfrm>
            <a:off x="333360" y="3886200"/>
            <a:ext cx="6912000" cy="228600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STP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fined service offerings for target segments and their scop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Concluding “Alliance Partner” agreement with a key player in external STP spac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ulti-disciplinary team in place. The team has formulated collaterals and approaches for internal STP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ublished opinion making article and concept paper in international forum</a:t>
            </a:r>
            <a:endParaRPr b="0" lang="en-US" sz="1600" spc="-1" strike="noStrike">
              <a:solidFill>
                <a:srgbClr val="000000"/>
              </a:solidFill>
              <a:latin typeface="Arial"/>
            </a:endParaRPr>
          </a:p>
        </p:txBody>
      </p:sp>
      <p:sp>
        <p:nvSpPr>
          <p:cNvPr id="19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Arial"/>
              </a:rPr>
              <a:t>Leveraging specific initiatives for broader penetration</a:t>
            </a:r>
            <a:endParaRPr b="0" lang="en-US" sz="2600" spc="-1" strike="noStrike">
              <a:solidFill>
                <a:srgbClr val="9933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Arial"/>
              </a:rPr>
              <a:t>Leveraging specific initiatives for broader penetration</a:t>
            </a:r>
            <a:endParaRPr b="0" lang="en-US" sz="2600" spc="-1" strike="noStrike">
              <a:solidFill>
                <a:srgbClr val="993300"/>
              </a:solidFill>
              <a:latin typeface="Arial"/>
            </a:endParaRPr>
          </a:p>
        </p:txBody>
      </p:sp>
      <p:sp>
        <p:nvSpPr>
          <p:cNvPr id="193"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30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IPAA</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sys’s trade marked methodology InFluxTM is adapted to formulate a solution for InHIPAA.  </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PAA Core group has developed a series of collaterals and taken them to a number of healthcare organizations. </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PAA Core group is working towards building alliances and synergies with HIPAA vendor solutions providers.</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extension in HIPAA Compliance timelines, the   business opportunities could be a longer time span.</a:t>
            </a:r>
            <a:endParaRPr b="0" lang="en-US" sz="24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Brand Building</a:t>
            </a:r>
            <a:endParaRPr b="0" lang="en-US" sz="3200" spc="-1" strike="noStrike">
              <a:solidFill>
                <a:srgbClr val="993300"/>
              </a:solidFill>
              <a:latin typeface="Arial"/>
            </a:endParaRPr>
          </a:p>
        </p:txBody>
      </p:sp>
      <p:sp>
        <p:nvSpPr>
          <p:cNvPr id="195"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SBC Guide for Cash &amp; Treasury Management in Asia Pacific 2003</a:t>
            </a:r>
            <a:r>
              <a:rPr b="0" lang="en-US" sz="2400" spc="-1" strike="noStrike">
                <a:solidFill>
                  <a:srgbClr val="000000"/>
                </a:solidFill>
                <a:latin typeface="Arial"/>
              </a:rPr>
              <a:t>. Infosys has entered into an agreement with the Publisher to be the sponsor of “Technology Trends” Section of this forthcoming Book.</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BOS 2002 in Geneva</a:t>
            </a:r>
            <a:r>
              <a:rPr b="0" lang="en-US" sz="2400" spc="-1" strike="noStrike">
                <a:solidFill>
                  <a:srgbClr val="000000"/>
                </a:solidFill>
                <a:latin typeface="Arial"/>
              </a:rPr>
              <a:t> : Infosys is participating in Swift Annual Conference - SIBOS 2002 where in Domain Competency Group will promote its consulting services along with Banking Products under the flagship of “Financle”.</a:t>
            </a:r>
            <a:endParaRPr b="0" lang="en-US" sz="24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DCG Focus Groups: Two new groups added</a:t>
            </a:r>
            <a:endParaRPr b="0" lang="en-US" sz="3200" spc="-1" strike="noStrike">
              <a:solidFill>
                <a:srgbClr val="993300"/>
              </a:solidFill>
              <a:latin typeface="Arial"/>
            </a:endParaRPr>
          </a:p>
        </p:txBody>
      </p:sp>
      <p:grpSp>
        <p:nvGrpSpPr>
          <p:cNvPr id="96" name=""/>
          <p:cNvGrpSpPr/>
          <p:nvPr/>
        </p:nvGrpSpPr>
        <p:grpSpPr>
          <a:xfrm>
            <a:off x="785880" y="1952640"/>
            <a:ext cx="7296120" cy="4324320"/>
            <a:chOff x="785880" y="1952640"/>
            <a:chExt cx="7296120" cy="4324320"/>
          </a:xfrm>
        </p:grpSpPr>
        <p:pic>
          <p:nvPicPr>
            <p:cNvPr id="97" name="" descr=""/>
            <p:cNvPicPr/>
            <p:nvPr/>
          </p:nvPicPr>
          <p:blipFill>
            <a:blip r:embed="rId1"/>
            <a:stretch/>
          </p:blipFill>
          <p:spPr>
            <a:xfrm>
              <a:off x="3498840" y="3208320"/>
              <a:ext cx="2160720" cy="2057400"/>
            </a:xfrm>
            <a:prstGeom prst="rect">
              <a:avLst/>
            </a:prstGeom>
            <a:ln w="0">
              <a:noFill/>
            </a:ln>
          </p:spPr>
        </p:pic>
        <p:sp>
          <p:nvSpPr>
            <p:cNvPr id="98" name=""/>
            <p:cNvSpPr/>
            <p:nvPr/>
          </p:nvSpPr>
          <p:spPr>
            <a:xfrm>
              <a:off x="3117960" y="2751120"/>
              <a:ext cx="2849400" cy="2706480"/>
            </a:xfrm>
            <a:prstGeom prst="sun">
              <a:avLst>
                <a:gd name="adj" fmla="val 25000"/>
              </a:avLst>
            </a:prstGeom>
            <a:solidFill>
              <a:srgbClr val="808080">
                <a:alpha val="50000"/>
              </a:srgbClr>
            </a:solidFill>
            <a:ln w="0">
              <a:noFill/>
            </a:ln>
          </p:spPr>
          <p:style>
            <a:lnRef idx="0"/>
            <a:fillRef idx="0"/>
            <a:effectRef idx="0"/>
            <a:fontRef idx="minor"/>
          </p:style>
          <p:txBody>
            <a:bodyPr wrap="none" lIns="63360" rIns="63360" tIns="25200" bIns="25200" anchor="ctr">
              <a:noAutofit/>
            </a:bodyPr>
            <a:p>
              <a:endParaRPr b="0" lang="en-US" sz="1800" spc="-1" strike="noStrike">
                <a:solidFill>
                  <a:srgbClr val="000000"/>
                </a:solidFill>
                <a:latin typeface="Arial"/>
              </a:endParaRPr>
            </a:p>
          </p:txBody>
        </p:sp>
        <p:sp>
          <p:nvSpPr>
            <p:cNvPr id="99" name=""/>
            <p:cNvSpPr/>
            <p:nvPr/>
          </p:nvSpPr>
          <p:spPr>
            <a:xfrm>
              <a:off x="3814920" y="5514840"/>
              <a:ext cx="2057400" cy="762120"/>
            </a:xfrm>
            <a:prstGeom prst="roundRect">
              <a:avLst>
                <a:gd name="adj" fmla="val 38125"/>
              </a:avLst>
            </a:prstGeom>
            <a:solidFill>
              <a:srgbClr val="6699ff"/>
            </a:solidFill>
            <a:ln w="0">
              <a:noFill/>
            </a:ln>
          </p:spPr>
          <p:style>
            <a:lnRef idx="0"/>
            <a:fillRef idx="0"/>
            <a:effectRef idx="0"/>
            <a:fontRef idx="minor"/>
          </p:style>
          <p:txBody>
            <a:bodyPr wrap="none"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ail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ribution</a:t>
              </a:r>
              <a:endParaRPr b="0" lang="en-US" sz="1800" spc="-1" strike="noStrike">
                <a:solidFill>
                  <a:srgbClr val="000000"/>
                </a:solidFill>
                <a:latin typeface="Arial"/>
              </a:endParaRPr>
            </a:p>
          </p:txBody>
        </p:sp>
        <p:sp>
          <p:nvSpPr>
            <p:cNvPr id="100" name=""/>
            <p:cNvSpPr/>
            <p:nvPr/>
          </p:nvSpPr>
          <p:spPr>
            <a:xfrm>
              <a:off x="6024600" y="4200480"/>
              <a:ext cx="2057400" cy="761760"/>
            </a:xfrm>
            <a:prstGeom prst="roundRect">
              <a:avLst>
                <a:gd name="adj" fmla="val 45417"/>
              </a:avLst>
            </a:prstGeom>
            <a:solidFill>
              <a:srgbClr val="6699ff"/>
            </a:solidFill>
            <a:ln w="0">
              <a:noFill/>
            </a:ln>
          </p:spPr>
          <p:style>
            <a:lnRef idx="0"/>
            <a:fillRef idx="0"/>
            <a:effectRef idx="0"/>
            <a:fontRef idx="minor"/>
          </p:style>
          <p:txBody>
            <a:bodyPr wrap="none"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ation</a:t>
              </a:r>
              <a:endParaRPr b="0" lang="en-US" sz="1800" spc="-1" strike="noStrike">
                <a:solidFill>
                  <a:srgbClr val="000000"/>
                </a:solidFill>
                <a:latin typeface="Arial"/>
              </a:endParaRPr>
            </a:p>
          </p:txBody>
        </p:sp>
        <p:sp>
          <p:nvSpPr>
            <p:cNvPr id="101" name=""/>
            <p:cNvSpPr/>
            <p:nvPr/>
          </p:nvSpPr>
          <p:spPr>
            <a:xfrm>
              <a:off x="5967360" y="3019320"/>
              <a:ext cx="2057400" cy="762120"/>
            </a:xfrm>
            <a:prstGeom prst="roundRect">
              <a:avLst>
                <a:gd name="adj" fmla="val 31042"/>
              </a:avLst>
            </a:prstGeom>
            <a:solidFill>
              <a:srgbClr val="6699ff"/>
            </a:solidFill>
            <a:ln w="0">
              <a:noFill/>
            </a:ln>
          </p:spPr>
          <p:style>
            <a:lnRef idx="0"/>
            <a:fillRef idx="0"/>
            <a:effectRef idx="0"/>
            <a:fontRef idx="minor"/>
          </p:style>
          <p:txBody>
            <a:bodyPr wrap="none"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lthcare</a:t>
              </a:r>
              <a:endParaRPr b="0" lang="en-US" sz="1800" spc="-1" strike="noStrike">
                <a:solidFill>
                  <a:srgbClr val="000000"/>
                </a:solidFill>
                <a:latin typeface="Arial"/>
              </a:endParaRPr>
            </a:p>
          </p:txBody>
        </p:sp>
        <p:sp>
          <p:nvSpPr>
            <p:cNvPr id="102" name=""/>
            <p:cNvSpPr/>
            <p:nvPr/>
          </p:nvSpPr>
          <p:spPr>
            <a:xfrm>
              <a:off x="2386080" y="1952640"/>
              <a:ext cx="2057400" cy="761760"/>
            </a:xfrm>
            <a:prstGeom prst="roundRect">
              <a:avLst>
                <a:gd name="adj" fmla="val 33542"/>
              </a:avLst>
            </a:prstGeom>
            <a:solidFill>
              <a:srgbClr val="6699ff"/>
            </a:solidFill>
            <a:ln w="0">
              <a:noFill/>
            </a:ln>
          </p:spPr>
          <p:style>
            <a:lnRef idx="0"/>
            <a:fillRef idx="0"/>
            <a:effectRef idx="0"/>
            <a:fontRef idx="minor"/>
          </p:style>
          <p:txBody>
            <a:bodyPr wrap="none"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amp; Utilities</a:t>
              </a:r>
              <a:endParaRPr b="0" lang="en-US" sz="1800" spc="-1" strike="noStrike">
                <a:solidFill>
                  <a:srgbClr val="000000"/>
                </a:solidFill>
                <a:latin typeface="Arial"/>
              </a:endParaRPr>
            </a:p>
          </p:txBody>
        </p:sp>
        <p:sp>
          <p:nvSpPr>
            <p:cNvPr id="103" name=""/>
            <p:cNvSpPr/>
            <p:nvPr/>
          </p:nvSpPr>
          <p:spPr>
            <a:xfrm>
              <a:off x="1166760" y="2943000"/>
              <a:ext cx="2057400" cy="762120"/>
            </a:xfrm>
            <a:prstGeom prst="roundRect">
              <a:avLst>
                <a:gd name="adj" fmla="val 40625"/>
              </a:avLst>
            </a:prstGeom>
            <a:solidFill>
              <a:srgbClr val="6699ff"/>
            </a:solidFill>
            <a:ln w="0">
              <a:noFill/>
            </a:ln>
          </p:spPr>
          <p:style>
            <a:lnRef idx="0"/>
            <a:fillRef idx="0"/>
            <a:effectRef idx="0"/>
            <a:fontRef idx="minor"/>
          </p:style>
          <p:txBody>
            <a:bodyPr wrap="none"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urance</a:t>
              </a:r>
              <a:endParaRPr b="0" lang="en-US" sz="1800" spc="-1" strike="noStrike">
                <a:solidFill>
                  <a:srgbClr val="000000"/>
                </a:solidFill>
                <a:latin typeface="Arial"/>
              </a:endParaRPr>
            </a:p>
          </p:txBody>
        </p:sp>
        <p:sp>
          <p:nvSpPr>
            <p:cNvPr id="104" name=""/>
            <p:cNvSpPr/>
            <p:nvPr/>
          </p:nvSpPr>
          <p:spPr>
            <a:xfrm>
              <a:off x="785880" y="4010040"/>
              <a:ext cx="2057400" cy="761760"/>
            </a:xfrm>
            <a:prstGeom prst="roundRect">
              <a:avLst>
                <a:gd name="adj" fmla="val 35833"/>
              </a:avLst>
            </a:prstGeom>
            <a:solidFill>
              <a:srgbClr val="6699ff"/>
            </a:solidFill>
            <a:ln w="0">
              <a:noFill/>
            </a:ln>
          </p:spPr>
          <p:style>
            <a:lnRef idx="0"/>
            <a:fillRef idx="0"/>
            <a:effectRef idx="0"/>
            <a:fontRef idx="minor"/>
          </p:style>
          <p:txBody>
            <a:bodyPr wrap="none"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nking and Cas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p:txBody>
        </p:sp>
        <p:sp>
          <p:nvSpPr>
            <p:cNvPr id="105" name=""/>
            <p:cNvSpPr/>
            <p:nvPr/>
          </p:nvSpPr>
          <p:spPr>
            <a:xfrm>
              <a:off x="4977000" y="1952640"/>
              <a:ext cx="2057400" cy="761760"/>
            </a:xfrm>
            <a:prstGeom prst="roundRect">
              <a:avLst>
                <a:gd name="adj" fmla="val 31042"/>
              </a:avLst>
            </a:prstGeom>
            <a:solidFill>
              <a:srgbClr val="6699ff"/>
            </a:solidFill>
            <a:ln w="0">
              <a:noFill/>
            </a:ln>
          </p:spPr>
          <p:style>
            <a:lnRef idx="0"/>
            <a:fillRef idx="0"/>
            <a:effectRef idx="0"/>
            <a:fontRef idx="minor"/>
          </p:style>
          <p:txBody>
            <a:bodyPr wrap="none"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M &a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ing</a:t>
              </a:r>
              <a:endParaRPr b="0" lang="en-US" sz="1800" spc="-1" strike="noStrike">
                <a:solidFill>
                  <a:srgbClr val="000000"/>
                </a:solidFill>
                <a:latin typeface="Arial"/>
              </a:endParaRPr>
            </a:p>
          </p:txBody>
        </p:sp>
        <p:sp>
          <p:nvSpPr>
            <p:cNvPr id="106" name=""/>
            <p:cNvSpPr/>
            <p:nvPr/>
          </p:nvSpPr>
          <p:spPr>
            <a:xfrm>
              <a:off x="1166760" y="5076720"/>
              <a:ext cx="2057400" cy="762120"/>
            </a:xfrm>
            <a:prstGeom prst="roundRect">
              <a:avLst>
                <a:gd name="adj" fmla="val 47500"/>
              </a:avLst>
            </a:prstGeom>
            <a:solidFill>
              <a:srgbClr val="6699ff"/>
            </a:solidFill>
            <a:ln w="0">
              <a:noFill/>
            </a:ln>
          </p:spPr>
          <p:style>
            <a:lnRef idx="0"/>
            <a:fillRef idx="0"/>
            <a:effectRef idx="0"/>
            <a:fontRef idx="minor"/>
          </p:style>
          <p:txBody>
            <a:bodyPr wrap="none"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ies</a:t>
              </a:r>
              <a:endParaRPr b="0" lang="en-US" sz="1800" spc="-1" strike="noStrike">
                <a:solidFill>
                  <a:srgbClr val="000000"/>
                </a:solidFill>
                <a:latin typeface="Arial"/>
              </a:endParaRPr>
            </a:p>
          </p:txBody>
        </p:sp>
        <p:graphicFrame>
          <p:nvGraphicFramePr>
            <p:cNvPr id="107" name=""/>
            <p:cNvGraphicFramePr/>
            <p:nvPr/>
          </p:nvGraphicFramePr>
          <p:xfrm>
            <a:off x="3986280" y="3552840"/>
            <a:ext cx="1179360" cy="1255680"/>
          </p:xfrm>
          <a:graphic>
            <a:graphicData uri="http://schemas.openxmlformats.org/presentationml/2006/ole">
              <p:oleObj r:id="rId2" spid="">
                <p:embed/>
                <p:pic>
                  <p:nvPicPr>
                    <p:cNvPr id="108" name="" descr=""/>
                    <p:cNvPicPr/>
                    <p:nvPr/>
                  </p:nvPicPr>
                  <p:blipFill>
                    <a:blip r:embed="rId3"/>
                    <a:stretch/>
                  </p:blipFill>
                  <p:spPr>
                    <a:xfrm>
                      <a:off x="3986280" y="3552840"/>
                      <a:ext cx="1179360" cy="1255680"/>
                    </a:xfrm>
                    <a:prstGeom prst="rect">
                      <a:avLst/>
                    </a:prstGeom>
                    <a:ln w="0">
                      <a:noFill/>
                    </a:ln>
                  </p:spPr>
                </p:pic>
              </p:oleObj>
            </a:graphicData>
          </a:graphic>
        </p:graphicFrame>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Thank You</a:t>
            </a:r>
            <a:endParaRPr b="0" lang="en-US" sz="3200" spc="-1" strike="noStrike">
              <a:solidFill>
                <a:srgbClr val="9933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2340720" y="1782720"/>
            <a:ext cx="4559760" cy="4908240"/>
            <a:chOff x="2340720" y="1782720"/>
            <a:chExt cx="4559760" cy="4908240"/>
          </a:xfrm>
        </p:grpSpPr>
        <p:sp>
          <p:nvSpPr>
            <p:cNvPr id="110" name=""/>
            <p:cNvSpPr/>
            <p:nvPr/>
          </p:nvSpPr>
          <p:spPr>
            <a:xfrm flipV="1" rot="2917800">
              <a:off x="2467440" y="4357440"/>
              <a:ext cx="1703520" cy="1108080"/>
            </a:xfrm>
            <a:custGeom>
              <a:avLst/>
              <a:gdLst/>
              <a:ahLst/>
              <a:rect l="l" t="t" r="r" b="b"/>
              <a:pathLst>
                <a:path w="1471" h="852">
                  <a:moveTo>
                    <a:pt x="1270" y="604"/>
                  </a:moveTo>
                  <a:lnTo>
                    <a:pt x="1251" y="598"/>
                  </a:lnTo>
                  <a:lnTo>
                    <a:pt x="1233" y="592"/>
                  </a:lnTo>
                  <a:lnTo>
                    <a:pt x="1212" y="586"/>
                  </a:lnTo>
                  <a:lnTo>
                    <a:pt x="1192" y="582"/>
                  </a:lnTo>
                  <a:lnTo>
                    <a:pt x="1170" y="576"/>
                  </a:lnTo>
                  <a:lnTo>
                    <a:pt x="1149" y="572"/>
                  </a:lnTo>
                  <a:lnTo>
                    <a:pt x="1125" y="568"/>
                  </a:lnTo>
                  <a:lnTo>
                    <a:pt x="1102" y="564"/>
                  </a:lnTo>
                  <a:lnTo>
                    <a:pt x="1078" y="561"/>
                  </a:lnTo>
                  <a:lnTo>
                    <a:pt x="1053" y="559"/>
                  </a:lnTo>
                  <a:lnTo>
                    <a:pt x="1041" y="557"/>
                  </a:lnTo>
                  <a:lnTo>
                    <a:pt x="1027" y="556"/>
                  </a:lnTo>
                  <a:lnTo>
                    <a:pt x="1002" y="556"/>
                  </a:lnTo>
                  <a:lnTo>
                    <a:pt x="976" y="554"/>
                  </a:lnTo>
                  <a:lnTo>
                    <a:pt x="950" y="554"/>
                  </a:lnTo>
                  <a:lnTo>
                    <a:pt x="925" y="554"/>
                  </a:lnTo>
                  <a:lnTo>
                    <a:pt x="898" y="556"/>
                  </a:lnTo>
                  <a:lnTo>
                    <a:pt x="880" y="557"/>
                  </a:lnTo>
                  <a:lnTo>
                    <a:pt x="861" y="560"/>
                  </a:lnTo>
                  <a:lnTo>
                    <a:pt x="838" y="562"/>
                  </a:lnTo>
                  <a:lnTo>
                    <a:pt x="827" y="564"/>
                  </a:lnTo>
                  <a:lnTo>
                    <a:pt x="816" y="565"/>
                  </a:lnTo>
                  <a:lnTo>
                    <a:pt x="791" y="570"/>
                  </a:lnTo>
                  <a:lnTo>
                    <a:pt x="765" y="575"/>
                  </a:lnTo>
                  <a:lnTo>
                    <a:pt x="738" y="582"/>
                  </a:lnTo>
                  <a:lnTo>
                    <a:pt x="724" y="586"/>
                  </a:lnTo>
                  <a:lnTo>
                    <a:pt x="711" y="591"/>
                  </a:lnTo>
                  <a:lnTo>
                    <a:pt x="681" y="600"/>
                  </a:lnTo>
                  <a:lnTo>
                    <a:pt x="652" y="608"/>
                  </a:lnTo>
                  <a:lnTo>
                    <a:pt x="637" y="614"/>
                  </a:lnTo>
                  <a:lnTo>
                    <a:pt x="623" y="621"/>
                  </a:lnTo>
                  <a:lnTo>
                    <a:pt x="607" y="626"/>
                  </a:lnTo>
                  <a:lnTo>
                    <a:pt x="592" y="633"/>
                  </a:lnTo>
                  <a:lnTo>
                    <a:pt x="576" y="639"/>
                  </a:lnTo>
                  <a:lnTo>
                    <a:pt x="562" y="647"/>
                  </a:lnTo>
                  <a:lnTo>
                    <a:pt x="546" y="655"/>
                  </a:lnTo>
                  <a:lnTo>
                    <a:pt x="531" y="662"/>
                  </a:lnTo>
                  <a:lnTo>
                    <a:pt x="516" y="671"/>
                  </a:lnTo>
                  <a:lnTo>
                    <a:pt x="502" y="680"/>
                  </a:lnTo>
                  <a:lnTo>
                    <a:pt x="487" y="690"/>
                  </a:lnTo>
                  <a:lnTo>
                    <a:pt x="472" y="700"/>
                  </a:lnTo>
                  <a:lnTo>
                    <a:pt x="575" y="851"/>
                  </a:lnTo>
                  <a:lnTo>
                    <a:pt x="0" y="667"/>
                  </a:lnTo>
                  <a:lnTo>
                    <a:pt x="35" y="80"/>
                  </a:lnTo>
                  <a:lnTo>
                    <a:pt x="147" y="239"/>
                  </a:lnTo>
                  <a:lnTo>
                    <a:pt x="169" y="225"/>
                  </a:lnTo>
                  <a:lnTo>
                    <a:pt x="191" y="212"/>
                  </a:lnTo>
                  <a:lnTo>
                    <a:pt x="215" y="198"/>
                  </a:lnTo>
                  <a:lnTo>
                    <a:pt x="237" y="185"/>
                  </a:lnTo>
                  <a:lnTo>
                    <a:pt x="260" y="173"/>
                  </a:lnTo>
                  <a:lnTo>
                    <a:pt x="282" y="161"/>
                  </a:lnTo>
                  <a:lnTo>
                    <a:pt x="307" y="150"/>
                  </a:lnTo>
                  <a:lnTo>
                    <a:pt x="331" y="138"/>
                  </a:lnTo>
                  <a:lnTo>
                    <a:pt x="356" y="128"/>
                  </a:lnTo>
                  <a:lnTo>
                    <a:pt x="380" y="117"/>
                  </a:lnTo>
                  <a:lnTo>
                    <a:pt x="404" y="106"/>
                  </a:lnTo>
                  <a:lnTo>
                    <a:pt x="428" y="97"/>
                  </a:lnTo>
                  <a:lnTo>
                    <a:pt x="453" y="88"/>
                  </a:lnTo>
                  <a:lnTo>
                    <a:pt x="479" y="79"/>
                  </a:lnTo>
                  <a:lnTo>
                    <a:pt x="505" y="71"/>
                  </a:lnTo>
                  <a:lnTo>
                    <a:pt x="530" y="63"/>
                  </a:lnTo>
                  <a:lnTo>
                    <a:pt x="556" y="55"/>
                  </a:lnTo>
                  <a:lnTo>
                    <a:pt x="582" y="48"/>
                  </a:lnTo>
                  <a:lnTo>
                    <a:pt x="609" y="42"/>
                  </a:lnTo>
                  <a:lnTo>
                    <a:pt x="635" y="35"/>
                  </a:lnTo>
                  <a:lnTo>
                    <a:pt x="662" y="30"/>
                  </a:lnTo>
                  <a:lnTo>
                    <a:pt x="688" y="24"/>
                  </a:lnTo>
                  <a:lnTo>
                    <a:pt x="702" y="22"/>
                  </a:lnTo>
                  <a:lnTo>
                    <a:pt x="715" y="20"/>
                  </a:lnTo>
                  <a:lnTo>
                    <a:pt x="742" y="15"/>
                  </a:lnTo>
                  <a:lnTo>
                    <a:pt x="769" y="12"/>
                  </a:lnTo>
                  <a:lnTo>
                    <a:pt x="798" y="9"/>
                  </a:lnTo>
                  <a:lnTo>
                    <a:pt x="825" y="6"/>
                  </a:lnTo>
                  <a:lnTo>
                    <a:pt x="852" y="4"/>
                  </a:lnTo>
                  <a:lnTo>
                    <a:pt x="881" y="2"/>
                  </a:lnTo>
                  <a:lnTo>
                    <a:pt x="908" y="0"/>
                  </a:lnTo>
                  <a:lnTo>
                    <a:pt x="935" y="0"/>
                  </a:lnTo>
                  <a:lnTo>
                    <a:pt x="964" y="0"/>
                  </a:lnTo>
                  <a:lnTo>
                    <a:pt x="998" y="0"/>
                  </a:lnTo>
                  <a:lnTo>
                    <a:pt x="1030" y="1"/>
                  </a:lnTo>
                  <a:lnTo>
                    <a:pt x="1063" y="3"/>
                  </a:lnTo>
                  <a:lnTo>
                    <a:pt x="1095" y="6"/>
                  </a:lnTo>
                  <a:lnTo>
                    <a:pt x="1129" y="9"/>
                  </a:lnTo>
                  <a:lnTo>
                    <a:pt x="1160" y="13"/>
                  </a:lnTo>
                  <a:lnTo>
                    <a:pt x="1192" y="18"/>
                  </a:lnTo>
                  <a:lnTo>
                    <a:pt x="1224" y="22"/>
                  </a:lnTo>
                  <a:lnTo>
                    <a:pt x="1255" y="28"/>
                  </a:lnTo>
                  <a:lnTo>
                    <a:pt x="1287" y="35"/>
                  </a:lnTo>
                  <a:lnTo>
                    <a:pt x="1318" y="42"/>
                  </a:lnTo>
                  <a:lnTo>
                    <a:pt x="1349" y="48"/>
                  </a:lnTo>
                  <a:lnTo>
                    <a:pt x="1379" y="57"/>
                  </a:lnTo>
                  <a:lnTo>
                    <a:pt x="1410" y="66"/>
                  </a:lnTo>
                  <a:lnTo>
                    <a:pt x="1439" y="76"/>
                  </a:lnTo>
                  <a:lnTo>
                    <a:pt x="1470" y="86"/>
                  </a:lnTo>
                  <a:lnTo>
                    <a:pt x="1270" y="604"/>
                  </a:lnTo>
                </a:path>
              </a:pathLst>
            </a:custGeom>
            <a:solidFill>
              <a:srgbClr val="99cc00"/>
            </a:solidFill>
            <a:ln cap="rnd" w="1260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18258600">
              <a:off x="3882960" y="4962600"/>
              <a:ext cx="1188720" cy="1582920"/>
            </a:xfrm>
            <a:custGeom>
              <a:avLst/>
              <a:gdLst/>
              <a:ahLst/>
              <a:rect l="l" t="t" r="r" b="b"/>
              <a:pathLst>
                <a:path w="942" h="1142">
                  <a:moveTo>
                    <a:pt x="941" y="686"/>
                  </a:moveTo>
                  <a:lnTo>
                    <a:pt x="919" y="671"/>
                  </a:lnTo>
                  <a:lnTo>
                    <a:pt x="899" y="655"/>
                  </a:lnTo>
                  <a:lnTo>
                    <a:pt x="880" y="639"/>
                  </a:lnTo>
                  <a:lnTo>
                    <a:pt x="861" y="623"/>
                  </a:lnTo>
                  <a:lnTo>
                    <a:pt x="840" y="606"/>
                  </a:lnTo>
                  <a:lnTo>
                    <a:pt x="823" y="589"/>
                  </a:lnTo>
                  <a:lnTo>
                    <a:pt x="806" y="572"/>
                  </a:lnTo>
                  <a:lnTo>
                    <a:pt x="788" y="554"/>
                  </a:lnTo>
                  <a:lnTo>
                    <a:pt x="772" y="535"/>
                  </a:lnTo>
                  <a:lnTo>
                    <a:pt x="758" y="515"/>
                  </a:lnTo>
                  <a:lnTo>
                    <a:pt x="742" y="498"/>
                  </a:lnTo>
                  <a:lnTo>
                    <a:pt x="728" y="478"/>
                  </a:lnTo>
                  <a:lnTo>
                    <a:pt x="715" y="458"/>
                  </a:lnTo>
                  <a:lnTo>
                    <a:pt x="701" y="437"/>
                  </a:lnTo>
                  <a:lnTo>
                    <a:pt x="694" y="427"/>
                  </a:lnTo>
                  <a:lnTo>
                    <a:pt x="689" y="416"/>
                  </a:lnTo>
                  <a:lnTo>
                    <a:pt x="676" y="396"/>
                  </a:lnTo>
                  <a:lnTo>
                    <a:pt x="665" y="374"/>
                  </a:lnTo>
                  <a:lnTo>
                    <a:pt x="656" y="352"/>
                  </a:lnTo>
                  <a:lnTo>
                    <a:pt x="646" y="330"/>
                  </a:lnTo>
                  <a:lnTo>
                    <a:pt x="637" y="308"/>
                  </a:lnTo>
                  <a:lnTo>
                    <a:pt x="626" y="285"/>
                  </a:lnTo>
                  <a:lnTo>
                    <a:pt x="620" y="261"/>
                  </a:lnTo>
                  <a:lnTo>
                    <a:pt x="612" y="238"/>
                  </a:lnTo>
                  <a:lnTo>
                    <a:pt x="605" y="213"/>
                  </a:lnTo>
                  <a:lnTo>
                    <a:pt x="599" y="187"/>
                  </a:lnTo>
                  <a:lnTo>
                    <a:pt x="594" y="163"/>
                  </a:lnTo>
                  <a:lnTo>
                    <a:pt x="589" y="137"/>
                  </a:lnTo>
                  <a:lnTo>
                    <a:pt x="587" y="123"/>
                  </a:lnTo>
                  <a:lnTo>
                    <a:pt x="585" y="110"/>
                  </a:lnTo>
                  <a:lnTo>
                    <a:pt x="581" y="84"/>
                  </a:lnTo>
                  <a:lnTo>
                    <a:pt x="578" y="56"/>
                  </a:lnTo>
                  <a:lnTo>
                    <a:pt x="577" y="28"/>
                  </a:lnTo>
                  <a:lnTo>
                    <a:pt x="574" y="0"/>
                  </a:lnTo>
                  <a:lnTo>
                    <a:pt x="0" y="0"/>
                  </a:lnTo>
                  <a:lnTo>
                    <a:pt x="1" y="44"/>
                  </a:lnTo>
                  <a:lnTo>
                    <a:pt x="2" y="66"/>
                  </a:lnTo>
                  <a:lnTo>
                    <a:pt x="3" y="88"/>
                  </a:lnTo>
                  <a:lnTo>
                    <a:pt x="5" y="110"/>
                  </a:lnTo>
                  <a:lnTo>
                    <a:pt x="7" y="131"/>
                  </a:lnTo>
                  <a:lnTo>
                    <a:pt x="8" y="153"/>
                  </a:lnTo>
                  <a:lnTo>
                    <a:pt x="11" y="174"/>
                  </a:lnTo>
                  <a:lnTo>
                    <a:pt x="15" y="195"/>
                  </a:lnTo>
                  <a:lnTo>
                    <a:pt x="18" y="216"/>
                  </a:lnTo>
                  <a:lnTo>
                    <a:pt x="25" y="259"/>
                  </a:lnTo>
                  <a:lnTo>
                    <a:pt x="29" y="280"/>
                  </a:lnTo>
                  <a:lnTo>
                    <a:pt x="34" y="301"/>
                  </a:lnTo>
                  <a:lnTo>
                    <a:pt x="40" y="322"/>
                  </a:lnTo>
                  <a:lnTo>
                    <a:pt x="44" y="342"/>
                  </a:lnTo>
                  <a:lnTo>
                    <a:pt x="57" y="383"/>
                  </a:lnTo>
                  <a:lnTo>
                    <a:pt x="62" y="403"/>
                  </a:lnTo>
                  <a:lnTo>
                    <a:pt x="69" y="423"/>
                  </a:lnTo>
                  <a:lnTo>
                    <a:pt x="76" y="443"/>
                  </a:lnTo>
                  <a:lnTo>
                    <a:pt x="83" y="463"/>
                  </a:lnTo>
                  <a:lnTo>
                    <a:pt x="98" y="502"/>
                  </a:lnTo>
                  <a:lnTo>
                    <a:pt x="115" y="541"/>
                  </a:lnTo>
                  <a:lnTo>
                    <a:pt x="132" y="580"/>
                  </a:lnTo>
                  <a:lnTo>
                    <a:pt x="141" y="599"/>
                  </a:lnTo>
                  <a:lnTo>
                    <a:pt x="150" y="618"/>
                  </a:lnTo>
                  <a:lnTo>
                    <a:pt x="171" y="655"/>
                  </a:lnTo>
                  <a:lnTo>
                    <a:pt x="191" y="692"/>
                  </a:lnTo>
                  <a:lnTo>
                    <a:pt x="202" y="709"/>
                  </a:lnTo>
                  <a:lnTo>
                    <a:pt x="213" y="728"/>
                  </a:lnTo>
                  <a:lnTo>
                    <a:pt x="236" y="763"/>
                  </a:lnTo>
                  <a:lnTo>
                    <a:pt x="248" y="780"/>
                  </a:lnTo>
                  <a:lnTo>
                    <a:pt x="260" y="797"/>
                  </a:lnTo>
                  <a:lnTo>
                    <a:pt x="286" y="831"/>
                  </a:lnTo>
                  <a:lnTo>
                    <a:pt x="311" y="863"/>
                  </a:lnTo>
                  <a:lnTo>
                    <a:pt x="325" y="880"/>
                  </a:lnTo>
                  <a:lnTo>
                    <a:pt x="338" y="896"/>
                  </a:lnTo>
                  <a:lnTo>
                    <a:pt x="365" y="927"/>
                  </a:lnTo>
                  <a:lnTo>
                    <a:pt x="380" y="942"/>
                  </a:lnTo>
                  <a:lnTo>
                    <a:pt x="395" y="957"/>
                  </a:lnTo>
                  <a:lnTo>
                    <a:pt x="409" y="972"/>
                  </a:lnTo>
                  <a:lnTo>
                    <a:pt x="423" y="987"/>
                  </a:lnTo>
                  <a:lnTo>
                    <a:pt x="439" y="1001"/>
                  </a:lnTo>
                  <a:lnTo>
                    <a:pt x="453" y="1015"/>
                  </a:lnTo>
                  <a:lnTo>
                    <a:pt x="469" y="1030"/>
                  </a:lnTo>
                  <a:lnTo>
                    <a:pt x="485" y="1043"/>
                  </a:lnTo>
                  <a:lnTo>
                    <a:pt x="501" y="1056"/>
                  </a:lnTo>
                  <a:lnTo>
                    <a:pt x="517" y="1068"/>
                  </a:lnTo>
                  <a:lnTo>
                    <a:pt x="534" y="1081"/>
                  </a:lnTo>
                  <a:lnTo>
                    <a:pt x="550" y="1094"/>
                  </a:lnTo>
                  <a:lnTo>
                    <a:pt x="568" y="1106"/>
                  </a:lnTo>
                  <a:lnTo>
                    <a:pt x="584" y="1118"/>
                  </a:lnTo>
                  <a:lnTo>
                    <a:pt x="619" y="1141"/>
                  </a:lnTo>
                  <a:lnTo>
                    <a:pt x="941" y="686"/>
                  </a:lnTo>
                </a:path>
              </a:pathLst>
            </a:custGeom>
            <a:solidFill>
              <a:srgbClr val="99cc00"/>
            </a:solidFill>
            <a:ln cap="rnd" w="1260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rot="18258600">
              <a:off x="4501800" y="4323600"/>
              <a:ext cx="2467080" cy="1136520"/>
            </a:xfrm>
            <a:custGeom>
              <a:avLst/>
              <a:gdLst/>
              <a:ahLst/>
              <a:rect l="l" t="t" r="r" b="b"/>
              <a:pathLst>
                <a:path w="1904" h="829">
                  <a:moveTo>
                    <a:pt x="1467" y="0"/>
                  </a:moveTo>
                  <a:lnTo>
                    <a:pt x="1450" y="17"/>
                  </a:lnTo>
                  <a:lnTo>
                    <a:pt x="1434" y="33"/>
                  </a:lnTo>
                  <a:lnTo>
                    <a:pt x="1417" y="47"/>
                  </a:lnTo>
                  <a:lnTo>
                    <a:pt x="1400" y="63"/>
                  </a:lnTo>
                  <a:lnTo>
                    <a:pt x="1382" y="77"/>
                  </a:lnTo>
                  <a:lnTo>
                    <a:pt x="1364" y="90"/>
                  </a:lnTo>
                  <a:lnTo>
                    <a:pt x="1345" y="105"/>
                  </a:lnTo>
                  <a:lnTo>
                    <a:pt x="1327" y="117"/>
                  </a:lnTo>
                  <a:lnTo>
                    <a:pt x="1307" y="130"/>
                  </a:lnTo>
                  <a:lnTo>
                    <a:pt x="1289" y="142"/>
                  </a:lnTo>
                  <a:lnTo>
                    <a:pt x="1270" y="153"/>
                  </a:lnTo>
                  <a:lnTo>
                    <a:pt x="1250" y="165"/>
                  </a:lnTo>
                  <a:lnTo>
                    <a:pt x="1231" y="175"/>
                  </a:lnTo>
                  <a:lnTo>
                    <a:pt x="1210" y="185"/>
                  </a:lnTo>
                  <a:lnTo>
                    <a:pt x="1190" y="195"/>
                  </a:lnTo>
                  <a:lnTo>
                    <a:pt x="1168" y="204"/>
                  </a:lnTo>
                  <a:lnTo>
                    <a:pt x="1148" y="212"/>
                  </a:lnTo>
                  <a:lnTo>
                    <a:pt x="1128" y="220"/>
                  </a:lnTo>
                  <a:lnTo>
                    <a:pt x="1105" y="228"/>
                  </a:lnTo>
                  <a:lnTo>
                    <a:pt x="1085" y="234"/>
                  </a:lnTo>
                  <a:lnTo>
                    <a:pt x="1063" y="241"/>
                  </a:lnTo>
                  <a:lnTo>
                    <a:pt x="1041" y="247"/>
                  </a:lnTo>
                  <a:lnTo>
                    <a:pt x="1019" y="252"/>
                  </a:lnTo>
                  <a:lnTo>
                    <a:pt x="998" y="258"/>
                  </a:lnTo>
                  <a:lnTo>
                    <a:pt x="975" y="262"/>
                  </a:lnTo>
                  <a:lnTo>
                    <a:pt x="953" y="265"/>
                  </a:lnTo>
                  <a:lnTo>
                    <a:pt x="930" y="268"/>
                  </a:lnTo>
                  <a:lnTo>
                    <a:pt x="907" y="271"/>
                  </a:lnTo>
                  <a:lnTo>
                    <a:pt x="895" y="272"/>
                  </a:lnTo>
                  <a:lnTo>
                    <a:pt x="885" y="273"/>
                  </a:lnTo>
                  <a:lnTo>
                    <a:pt x="861" y="274"/>
                  </a:lnTo>
                  <a:lnTo>
                    <a:pt x="838" y="275"/>
                  </a:lnTo>
                  <a:lnTo>
                    <a:pt x="815" y="275"/>
                  </a:lnTo>
                  <a:lnTo>
                    <a:pt x="781" y="275"/>
                  </a:lnTo>
                  <a:lnTo>
                    <a:pt x="748" y="273"/>
                  </a:lnTo>
                  <a:lnTo>
                    <a:pt x="715" y="271"/>
                  </a:lnTo>
                  <a:lnTo>
                    <a:pt x="683" y="266"/>
                  </a:lnTo>
                  <a:lnTo>
                    <a:pt x="667" y="264"/>
                  </a:lnTo>
                  <a:lnTo>
                    <a:pt x="652" y="262"/>
                  </a:lnTo>
                  <a:lnTo>
                    <a:pt x="635" y="259"/>
                  </a:lnTo>
                  <a:lnTo>
                    <a:pt x="619" y="255"/>
                  </a:lnTo>
                  <a:lnTo>
                    <a:pt x="605" y="252"/>
                  </a:lnTo>
                  <a:lnTo>
                    <a:pt x="589" y="249"/>
                  </a:lnTo>
                  <a:lnTo>
                    <a:pt x="559" y="240"/>
                  </a:lnTo>
                  <a:lnTo>
                    <a:pt x="529" y="231"/>
                  </a:lnTo>
                  <a:lnTo>
                    <a:pt x="513" y="226"/>
                  </a:lnTo>
                  <a:lnTo>
                    <a:pt x="498" y="219"/>
                  </a:lnTo>
                  <a:lnTo>
                    <a:pt x="469" y="208"/>
                  </a:lnTo>
                  <a:lnTo>
                    <a:pt x="438" y="195"/>
                  </a:lnTo>
                  <a:lnTo>
                    <a:pt x="409" y="181"/>
                  </a:lnTo>
                  <a:lnTo>
                    <a:pt x="380" y="165"/>
                  </a:lnTo>
                  <a:lnTo>
                    <a:pt x="350" y="149"/>
                  </a:lnTo>
                  <a:lnTo>
                    <a:pt x="320" y="130"/>
                  </a:lnTo>
                  <a:lnTo>
                    <a:pt x="0" y="583"/>
                  </a:lnTo>
                  <a:lnTo>
                    <a:pt x="21" y="598"/>
                  </a:lnTo>
                  <a:lnTo>
                    <a:pt x="44" y="612"/>
                  </a:lnTo>
                  <a:lnTo>
                    <a:pt x="67" y="625"/>
                  </a:lnTo>
                  <a:lnTo>
                    <a:pt x="88" y="639"/>
                  </a:lnTo>
                  <a:lnTo>
                    <a:pt x="112" y="651"/>
                  </a:lnTo>
                  <a:lnTo>
                    <a:pt x="136" y="663"/>
                  </a:lnTo>
                  <a:lnTo>
                    <a:pt x="159" y="675"/>
                  </a:lnTo>
                  <a:lnTo>
                    <a:pt x="183" y="687"/>
                  </a:lnTo>
                  <a:lnTo>
                    <a:pt x="207" y="697"/>
                  </a:lnTo>
                  <a:lnTo>
                    <a:pt x="232" y="708"/>
                  </a:lnTo>
                  <a:lnTo>
                    <a:pt x="255" y="719"/>
                  </a:lnTo>
                  <a:lnTo>
                    <a:pt x="281" y="728"/>
                  </a:lnTo>
                  <a:lnTo>
                    <a:pt x="306" y="738"/>
                  </a:lnTo>
                  <a:lnTo>
                    <a:pt x="331" y="746"/>
                  </a:lnTo>
                  <a:lnTo>
                    <a:pt x="356" y="755"/>
                  </a:lnTo>
                  <a:lnTo>
                    <a:pt x="383" y="763"/>
                  </a:lnTo>
                  <a:lnTo>
                    <a:pt x="409" y="772"/>
                  </a:lnTo>
                  <a:lnTo>
                    <a:pt x="435" y="778"/>
                  </a:lnTo>
                  <a:lnTo>
                    <a:pt x="461" y="785"/>
                  </a:lnTo>
                  <a:lnTo>
                    <a:pt x="487" y="790"/>
                  </a:lnTo>
                  <a:lnTo>
                    <a:pt x="514" y="797"/>
                  </a:lnTo>
                  <a:lnTo>
                    <a:pt x="541" y="803"/>
                  </a:lnTo>
                  <a:lnTo>
                    <a:pt x="595" y="811"/>
                  </a:lnTo>
                  <a:lnTo>
                    <a:pt x="623" y="816"/>
                  </a:lnTo>
                  <a:lnTo>
                    <a:pt x="651" y="818"/>
                  </a:lnTo>
                  <a:lnTo>
                    <a:pt x="678" y="821"/>
                  </a:lnTo>
                  <a:lnTo>
                    <a:pt x="705" y="823"/>
                  </a:lnTo>
                  <a:lnTo>
                    <a:pt x="734" y="825"/>
                  </a:lnTo>
                  <a:lnTo>
                    <a:pt x="762" y="827"/>
                  </a:lnTo>
                  <a:lnTo>
                    <a:pt x="789" y="828"/>
                  </a:lnTo>
                  <a:lnTo>
                    <a:pt x="817" y="828"/>
                  </a:lnTo>
                  <a:lnTo>
                    <a:pt x="857" y="827"/>
                  </a:lnTo>
                  <a:lnTo>
                    <a:pt x="877" y="827"/>
                  </a:lnTo>
                  <a:lnTo>
                    <a:pt x="896" y="826"/>
                  </a:lnTo>
                  <a:lnTo>
                    <a:pt x="915" y="825"/>
                  </a:lnTo>
                  <a:lnTo>
                    <a:pt x="936" y="822"/>
                  </a:lnTo>
                  <a:lnTo>
                    <a:pt x="975" y="819"/>
                  </a:lnTo>
                  <a:lnTo>
                    <a:pt x="1014" y="815"/>
                  </a:lnTo>
                  <a:lnTo>
                    <a:pt x="1053" y="808"/>
                  </a:lnTo>
                  <a:lnTo>
                    <a:pt x="1092" y="801"/>
                  </a:lnTo>
                  <a:lnTo>
                    <a:pt x="1130" y="794"/>
                  </a:lnTo>
                  <a:lnTo>
                    <a:pt x="1168" y="785"/>
                  </a:lnTo>
                  <a:lnTo>
                    <a:pt x="1207" y="775"/>
                  </a:lnTo>
                  <a:lnTo>
                    <a:pt x="1244" y="763"/>
                  </a:lnTo>
                  <a:lnTo>
                    <a:pt x="1280" y="752"/>
                  </a:lnTo>
                  <a:lnTo>
                    <a:pt x="1319" y="740"/>
                  </a:lnTo>
                  <a:lnTo>
                    <a:pt x="1354" y="727"/>
                  </a:lnTo>
                  <a:lnTo>
                    <a:pt x="1391" y="711"/>
                  </a:lnTo>
                  <a:lnTo>
                    <a:pt x="1426" y="697"/>
                  </a:lnTo>
                  <a:lnTo>
                    <a:pt x="1461" y="680"/>
                  </a:lnTo>
                  <a:lnTo>
                    <a:pt x="1496" y="664"/>
                  </a:lnTo>
                  <a:lnTo>
                    <a:pt x="1529" y="646"/>
                  </a:lnTo>
                  <a:lnTo>
                    <a:pt x="1563" y="629"/>
                  </a:lnTo>
                  <a:lnTo>
                    <a:pt x="1596" y="609"/>
                  </a:lnTo>
                  <a:lnTo>
                    <a:pt x="1627" y="590"/>
                  </a:lnTo>
                  <a:lnTo>
                    <a:pt x="1643" y="579"/>
                  </a:lnTo>
                  <a:lnTo>
                    <a:pt x="1659" y="569"/>
                  </a:lnTo>
                  <a:lnTo>
                    <a:pt x="1673" y="559"/>
                  </a:lnTo>
                  <a:lnTo>
                    <a:pt x="1688" y="548"/>
                  </a:lnTo>
                  <a:lnTo>
                    <a:pt x="1704" y="537"/>
                  </a:lnTo>
                  <a:lnTo>
                    <a:pt x="1719" y="526"/>
                  </a:lnTo>
                  <a:lnTo>
                    <a:pt x="1733" y="515"/>
                  </a:lnTo>
                  <a:lnTo>
                    <a:pt x="1747" y="504"/>
                  </a:lnTo>
                  <a:lnTo>
                    <a:pt x="1776" y="482"/>
                  </a:lnTo>
                  <a:lnTo>
                    <a:pt x="1802" y="459"/>
                  </a:lnTo>
                  <a:lnTo>
                    <a:pt x="1828" y="434"/>
                  </a:lnTo>
                  <a:lnTo>
                    <a:pt x="1841" y="423"/>
                  </a:lnTo>
                  <a:lnTo>
                    <a:pt x="1853" y="411"/>
                  </a:lnTo>
                  <a:lnTo>
                    <a:pt x="1878" y="385"/>
                  </a:lnTo>
                  <a:lnTo>
                    <a:pt x="1903" y="359"/>
                  </a:lnTo>
                  <a:lnTo>
                    <a:pt x="1467" y="0"/>
                  </a:lnTo>
                </a:path>
              </a:pathLst>
            </a:custGeom>
            <a:solidFill>
              <a:srgbClr val="99cc00"/>
            </a:solidFill>
            <a:ln cap="rnd" w="12600">
              <a:solidFill>
                <a:srgbClr val="99cc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 name=""/>
            <p:cNvSpPr/>
            <p:nvPr/>
          </p:nvSpPr>
          <p:spPr>
            <a:xfrm rot="18258600">
              <a:off x="4267800" y="1727640"/>
              <a:ext cx="1436760" cy="2971800"/>
            </a:xfrm>
            <a:custGeom>
              <a:avLst/>
              <a:gdLst/>
              <a:ahLst/>
              <a:rect l="l" t="t" r="r" b="b"/>
              <a:pathLst>
                <a:path w="1130" h="2217">
                  <a:moveTo>
                    <a:pt x="0" y="517"/>
                  </a:moveTo>
                  <a:lnTo>
                    <a:pt x="29" y="530"/>
                  </a:lnTo>
                  <a:lnTo>
                    <a:pt x="58" y="544"/>
                  </a:lnTo>
                  <a:lnTo>
                    <a:pt x="87" y="559"/>
                  </a:lnTo>
                  <a:lnTo>
                    <a:pt x="114" y="575"/>
                  </a:lnTo>
                  <a:lnTo>
                    <a:pt x="141" y="591"/>
                  </a:lnTo>
                  <a:lnTo>
                    <a:pt x="155" y="600"/>
                  </a:lnTo>
                  <a:lnTo>
                    <a:pt x="167" y="609"/>
                  </a:lnTo>
                  <a:lnTo>
                    <a:pt x="181" y="618"/>
                  </a:lnTo>
                  <a:lnTo>
                    <a:pt x="194" y="627"/>
                  </a:lnTo>
                  <a:lnTo>
                    <a:pt x="219" y="644"/>
                  </a:lnTo>
                  <a:lnTo>
                    <a:pt x="243" y="664"/>
                  </a:lnTo>
                  <a:lnTo>
                    <a:pt x="268" y="684"/>
                  </a:lnTo>
                  <a:lnTo>
                    <a:pt x="290" y="705"/>
                  </a:lnTo>
                  <a:lnTo>
                    <a:pt x="302" y="715"/>
                  </a:lnTo>
                  <a:lnTo>
                    <a:pt x="312" y="726"/>
                  </a:lnTo>
                  <a:lnTo>
                    <a:pt x="333" y="748"/>
                  </a:lnTo>
                  <a:lnTo>
                    <a:pt x="355" y="771"/>
                  </a:lnTo>
                  <a:lnTo>
                    <a:pt x="374" y="794"/>
                  </a:lnTo>
                  <a:lnTo>
                    <a:pt x="383" y="806"/>
                  </a:lnTo>
                  <a:lnTo>
                    <a:pt x="392" y="818"/>
                  </a:lnTo>
                  <a:lnTo>
                    <a:pt x="410" y="843"/>
                  </a:lnTo>
                  <a:lnTo>
                    <a:pt x="418" y="856"/>
                  </a:lnTo>
                  <a:lnTo>
                    <a:pt x="427" y="869"/>
                  </a:lnTo>
                  <a:lnTo>
                    <a:pt x="435" y="882"/>
                  </a:lnTo>
                  <a:lnTo>
                    <a:pt x="443" y="895"/>
                  </a:lnTo>
                  <a:lnTo>
                    <a:pt x="458" y="922"/>
                  </a:lnTo>
                  <a:lnTo>
                    <a:pt x="471" y="949"/>
                  </a:lnTo>
                  <a:lnTo>
                    <a:pt x="485" y="977"/>
                  </a:lnTo>
                  <a:lnTo>
                    <a:pt x="496" y="1006"/>
                  </a:lnTo>
                  <a:lnTo>
                    <a:pt x="506" y="1035"/>
                  </a:lnTo>
                  <a:lnTo>
                    <a:pt x="512" y="1051"/>
                  </a:lnTo>
                  <a:lnTo>
                    <a:pt x="516" y="1066"/>
                  </a:lnTo>
                  <a:lnTo>
                    <a:pt x="521" y="1080"/>
                  </a:lnTo>
                  <a:lnTo>
                    <a:pt x="525" y="1097"/>
                  </a:lnTo>
                  <a:lnTo>
                    <a:pt x="529" y="1113"/>
                  </a:lnTo>
                  <a:lnTo>
                    <a:pt x="532" y="1129"/>
                  </a:lnTo>
                  <a:lnTo>
                    <a:pt x="536" y="1144"/>
                  </a:lnTo>
                  <a:lnTo>
                    <a:pt x="539" y="1161"/>
                  </a:lnTo>
                  <a:lnTo>
                    <a:pt x="541" y="1177"/>
                  </a:lnTo>
                  <a:lnTo>
                    <a:pt x="545" y="1194"/>
                  </a:lnTo>
                  <a:lnTo>
                    <a:pt x="546" y="1210"/>
                  </a:lnTo>
                  <a:lnTo>
                    <a:pt x="548" y="1228"/>
                  </a:lnTo>
                  <a:lnTo>
                    <a:pt x="549" y="1245"/>
                  </a:lnTo>
                  <a:lnTo>
                    <a:pt x="550" y="1261"/>
                  </a:lnTo>
                  <a:lnTo>
                    <a:pt x="551" y="1279"/>
                  </a:lnTo>
                  <a:lnTo>
                    <a:pt x="551" y="1296"/>
                  </a:lnTo>
                  <a:lnTo>
                    <a:pt x="551" y="1338"/>
                  </a:lnTo>
                  <a:lnTo>
                    <a:pt x="550" y="1359"/>
                  </a:lnTo>
                  <a:lnTo>
                    <a:pt x="549" y="1379"/>
                  </a:lnTo>
                  <a:lnTo>
                    <a:pt x="548" y="1399"/>
                  </a:lnTo>
                  <a:lnTo>
                    <a:pt x="546" y="1417"/>
                  </a:lnTo>
                  <a:lnTo>
                    <a:pt x="544" y="1437"/>
                  </a:lnTo>
                  <a:lnTo>
                    <a:pt x="540" y="1456"/>
                  </a:lnTo>
                  <a:lnTo>
                    <a:pt x="536" y="1475"/>
                  </a:lnTo>
                  <a:lnTo>
                    <a:pt x="532" y="1493"/>
                  </a:lnTo>
                  <a:lnTo>
                    <a:pt x="528" y="1511"/>
                  </a:lnTo>
                  <a:lnTo>
                    <a:pt x="522" y="1530"/>
                  </a:lnTo>
                  <a:lnTo>
                    <a:pt x="516" y="1547"/>
                  </a:lnTo>
                  <a:lnTo>
                    <a:pt x="511" y="1565"/>
                  </a:lnTo>
                  <a:lnTo>
                    <a:pt x="505" y="1583"/>
                  </a:lnTo>
                  <a:lnTo>
                    <a:pt x="498" y="1599"/>
                  </a:lnTo>
                  <a:lnTo>
                    <a:pt x="492" y="1616"/>
                  </a:lnTo>
                  <a:lnTo>
                    <a:pt x="484" y="1632"/>
                  </a:lnTo>
                  <a:lnTo>
                    <a:pt x="476" y="1650"/>
                  </a:lnTo>
                  <a:lnTo>
                    <a:pt x="467" y="1665"/>
                  </a:lnTo>
                  <a:lnTo>
                    <a:pt x="458" y="1682"/>
                  </a:lnTo>
                  <a:lnTo>
                    <a:pt x="449" y="1698"/>
                  </a:lnTo>
                  <a:lnTo>
                    <a:pt x="440" y="1714"/>
                  </a:lnTo>
                  <a:lnTo>
                    <a:pt x="429" y="1730"/>
                  </a:lnTo>
                  <a:lnTo>
                    <a:pt x="419" y="1747"/>
                  </a:lnTo>
                  <a:lnTo>
                    <a:pt x="408" y="1761"/>
                  </a:lnTo>
                  <a:lnTo>
                    <a:pt x="398" y="1778"/>
                  </a:lnTo>
                  <a:lnTo>
                    <a:pt x="386" y="1793"/>
                  </a:lnTo>
                  <a:lnTo>
                    <a:pt x="374" y="1808"/>
                  </a:lnTo>
                  <a:lnTo>
                    <a:pt x="363" y="1824"/>
                  </a:lnTo>
                  <a:lnTo>
                    <a:pt x="350" y="1839"/>
                  </a:lnTo>
                  <a:lnTo>
                    <a:pt x="337" y="1855"/>
                  </a:lnTo>
                  <a:lnTo>
                    <a:pt x="775" y="2216"/>
                  </a:lnTo>
                  <a:lnTo>
                    <a:pt x="796" y="2192"/>
                  </a:lnTo>
                  <a:lnTo>
                    <a:pt x="815" y="2167"/>
                  </a:lnTo>
                  <a:lnTo>
                    <a:pt x="834" y="2142"/>
                  </a:lnTo>
                  <a:lnTo>
                    <a:pt x="853" y="2118"/>
                  </a:lnTo>
                  <a:lnTo>
                    <a:pt x="871" y="2093"/>
                  </a:lnTo>
                  <a:lnTo>
                    <a:pt x="889" y="2067"/>
                  </a:lnTo>
                  <a:lnTo>
                    <a:pt x="906" y="2041"/>
                  </a:lnTo>
                  <a:lnTo>
                    <a:pt x="923" y="2014"/>
                  </a:lnTo>
                  <a:lnTo>
                    <a:pt x="939" y="1988"/>
                  </a:lnTo>
                  <a:lnTo>
                    <a:pt x="954" y="1960"/>
                  </a:lnTo>
                  <a:lnTo>
                    <a:pt x="968" y="1933"/>
                  </a:lnTo>
                  <a:lnTo>
                    <a:pt x="983" y="1905"/>
                  </a:lnTo>
                  <a:lnTo>
                    <a:pt x="997" y="1878"/>
                  </a:lnTo>
                  <a:lnTo>
                    <a:pt x="1009" y="1849"/>
                  </a:lnTo>
                  <a:lnTo>
                    <a:pt x="1022" y="1821"/>
                  </a:lnTo>
                  <a:lnTo>
                    <a:pt x="1027" y="1806"/>
                  </a:lnTo>
                  <a:lnTo>
                    <a:pt x="1034" y="1792"/>
                  </a:lnTo>
                  <a:lnTo>
                    <a:pt x="1045" y="1762"/>
                  </a:lnTo>
                  <a:lnTo>
                    <a:pt x="1055" y="1734"/>
                  </a:lnTo>
                  <a:lnTo>
                    <a:pt x="1066" y="1703"/>
                  </a:lnTo>
                  <a:lnTo>
                    <a:pt x="1075" y="1673"/>
                  </a:lnTo>
                  <a:lnTo>
                    <a:pt x="1083" y="1644"/>
                  </a:lnTo>
                  <a:lnTo>
                    <a:pt x="1090" y="1613"/>
                  </a:lnTo>
                  <a:lnTo>
                    <a:pt x="1097" y="1583"/>
                  </a:lnTo>
                  <a:lnTo>
                    <a:pt x="1104" y="1552"/>
                  </a:lnTo>
                  <a:lnTo>
                    <a:pt x="1110" y="1521"/>
                  </a:lnTo>
                  <a:lnTo>
                    <a:pt x="1114" y="1489"/>
                  </a:lnTo>
                  <a:lnTo>
                    <a:pt x="1119" y="1457"/>
                  </a:lnTo>
                  <a:lnTo>
                    <a:pt x="1122" y="1425"/>
                  </a:lnTo>
                  <a:lnTo>
                    <a:pt x="1124" y="1393"/>
                  </a:lnTo>
                  <a:lnTo>
                    <a:pt x="1127" y="1360"/>
                  </a:lnTo>
                  <a:lnTo>
                    <a:pt x="1129" y="1327"/>
                  </a:lnTo>
                  <a:lnTo>
                    <a:pt x="1129" y="1294"/>
                  </a:lnTo>
                  <a:lnTo>
                    <a:pt x="1129" y="1268"/>
                  </a:lnTo>
                  <a:lnTo>
                    <a:pt x="1128" y="1240"/>
                  </a:lnTo>
                  <a:lnTo>
                    <a:pt x="1125" y="1213"/>
                  </a:lnTo>
                  <a:lnTo>
                    <a:pt x="1123" y="1185"/>
                  </a:lnTo>
                  <a:lnTo>
                    <a:pt x="1121" y="1159"/>
                  </a:lnTo>
                  <a:lnTo>
                    <a:pt x="1119" y="1131"/>
                  </a:lnTo>
                  <a:lnTo>
                    <a:pt x="1114" y="1105"/>
                  </a:lnTo>
                  <a:lnTo>
                    <a:pt x="1110" y="1078"/>
                  </a:lnTo>
                  <a:lnTo>
                    <a:pt x="1105" y="1052"/>
                  </a:lnTo>
                  <a:lnTo>
                    <a:pt x="1099" y="1025"/>
                  </a:lnTo>
                  <a:lnTo>
                    <a:pt x="1095" y="1000"/>
                  </a:lnTo>
                  <a:lnTo>
                    <a:pt x="1088" y="974"/>
                  </a:lnTo>
                  <a:lnTo>
                    <a:pt x="1080" y="948"/>
                  </a:lnTo>
                  <a:lnTo>
                    <a:pt x="1073" y="923"/>
                  </a:lnTo>
                  <a:lnTo>
                    <a:pt x="1066" y="898"/>
                  </a:lnTo>
                  <a:lnTo>
                    <a:pt x="1057" y="873"/>
                  </a:lnTo>
                  <a:lnTo>
                    <a:pt x="1049" y="847"/>
                  </a:lnTo>
                  <a:lnTo>
                    <a:pt x="1038" y="823"/>
                  </a:lnTo>
                  <a:lnTo>
                    <a:pt x="1029" y="798"/>
                  </a:lnTo>
                  <a:lnTo>
                    <a:pt x="1019" y="774"/>
                  </a:lnTo>
                  <a:lnTo>
                    <a:pt x="1008" y="750"/>
                  </a:lnTo>
                  <a:lnTo>
                    <a:pt x="997" y="726"/>
                  </a:lnTo>
                  <a:lnTo>
                    <a:pt x="985" y="702"/>
                  </a:lnTo>
                  <a:lnTo>
                    <a:pt x="973" y="678"/>
                  </a:lnTo>
                  <a:lnTo>
                    <a:pt x="960" y="655"/>
                  </a:lnTo>
                  <a:lnTo>
                    <a:pt x="948" y="632"/>
                  </a:lnTo>
                  <a:lnTo>
                    <a:pt x="935" y="609"/>
                  </a:lnTo>
                  <a:lnTo>
                    <a:pt x="920" y="587"/>
                  </a:lnTo>
                  <a:lnTo>
                    <a:pt x="906" y="565"/>
                  </a:lnTo>
                  <a:lnTo>
                    <a:pt x="892" y="543"/>
                  </a:lnTo>
                  <a:lnTo>
                    <a:pt x="876" y="521"/>
                  </a:lnTo>
                  <a:lnTo>
                    <a:pt x="861" y="500"/>
                  </a:lnTo>
                  <a:lnTo>
                    <a:pt x="845" y="478"/>
                  </a:lnTo>
                  <a:lnTo>
                    <a:pt x="829" y="457"/>
                  </a:lnTo>
                  <a:lnTo>
                    <a:pt x="812" y="437"/>
                  </a:lnTo>
                  <a:lnTo>
                    <a:pt x="796" y="416"/>
                  </a:lnTo>
                  <a:lnTo>
                    <a:pt x="779" y="396"/>
                  </a:lnTo>
                  <a:lnTo>
                    <a:pt x="760" y="377"/>
                  </a:lnTo>
                  <a:lnTo>
                    <a:pt x="744" y="358"/>
                  </a:lnTo>
                  <a:lnTo>
                    <a:pt x="724" y="339"/>
                  </a:lnTo>
                  <a:lnTo>
                    <a:pt x="705" y="320"/>
                  </a:lnTo>
                  <a:lnTo>
                    <a:pt x="687" y="302"/>
                  </a:lnTo>
                  <a:lnTo>
                    <a:pt x="668" y="284"/>
                  </a:lnTo>
                  <a:lnTo>
                    <a:pt x="647" y="267"/>
                  </a:lnTo>
                  <a:lnTo>
                    <a:pt x="629" y="249"/>
                  </a:lnTo>
                  <a:lnTo>
                    <a:pt x="609" y="233"/>
                  </a:lnTo>
                  <a:lnTo>
                    <a:pt x="589" y="217"/>
                  </a:lnTo>
                  <a:lnTo>
                    <a:pt x="568" y="200"/>
                  </a:lnTo>
                  <a:lnTo>
                    <a:pt x="547" y="185"/>
                  </a:lnTo>
                  <a:lnTo>
                    <a:pt x="525" y="170"/>
                  </a:lnTo>
                  <a:lnTo>
                    <a:pt x="504" y="155"/>
                  </a:lnTo>
                  <a:lnTo>
                    <a:pt x="481" y="141"/>
                  </a:lnTo>
                  <a:lnTo>
                    <a:pt x="460" y="127"/>
                  </a:lnTo>
                  <a:lnTo>
                    <a:pt x="437" y="112"/>
                  </a:lnTo>
                  <a:lnTo>
                    <a:pt x="415" y="99"/>
                  </a:lnTo>
                  <a:lnTo>
                    <a:pt x="392" y="86"/>
                  </a:lnTo>
                  <a:lnTo>
                    <a:pt x="370" y="74"/>
                  </a:lnTo>
                  <a:lnTo>
                    <a:pt x="345" y="63"/>
                  </a:lnTo>
                  <a:lnTo>
                    <a:pt x="322" y="51"/>
                  </a:lnTo>
                  <a:lnTo>
                    <a:pt x="298" y="40"/>
                  </a:lnTo>
                  <a:lnTo>
                    <a:pt x="275" y="29"/>
                  </a:lnTo>
                  <a:lnTo>
                    <a:pt x="251" y="20"/>
                  </a:lnTo>
                  <a:lnTo>
                    <a:pt x="226" y="10"/>
                  </a:lnTo>
                  <a:lnTo>
                    <a:pt x="200" y="0"/>
                  </a:lnTo>
                  <a:lnTo>
                    <a:pt x="0" y="517"/>
                  </a:lnTo>
                </a:path>
              </a:pathLst>
            </a:custGeom>
            <a:solidFill>
              <a:srgbClr val="99cc00"/>
            </a:solidFill>
            <a:ln cap="rnd" w="12600">
              <a:solidFill>
                <a:srgbClr val="99cc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Domain Competency Cycle</a:t>
            </a:r>
            <a:endParaRPr b="0" lang="en-US" sz="3200" spc="-1" strike="noStrike">
              <a:solidFill>
                <a:srgbClr val="993300"/>
              </a:solidFill>
              <a:latin typeface="Arial"/>
            </a:endParaRPr>
          </a:p>
        </p:txBody>
      </p:sp>
      <p:sp>
        <p:nvSpPr>
          <p:cNvPr id="115" name=""/>
          <p:cNvSpPr/>
          <p:nvPr/>
        </p:nvSpPr>
        <p:spPr>
          <a:xfrm>
            <a:off x="447840" y="4705200"/>
            <a:ext cx="3565440" cy="1052640"/>
          </a:xfrm>
          <a:prstGeom prst="rect">
            <a:avLst/>
          </a:prstGeom>
          <a:gradFill rotWithShape="0">
            <a:gsLst>
              <a:gs pos="0">
                <a:srgbClr val="003399"/>
              </a:gs>
              <a:gs pos="50000">
                <a:srgbClr val="6699ff"/>
              </a:gs>
              <a:gs pos="100000">
                <a:srgbClr val="003399"/>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ject Support</a:t>
            </a:r>
            <a:endParaRPr b="0" lang="en-US" sz="2200" spc="-1" strike="noStrike">
              <a:solidFill>
                <a:srgbClr val="000000"/>
              </a:solidFill>
              <a:latin typeface="Arial"/>
            </a:endParaRPr>
          </a:p>
        </p:txBody>
      </p:sp>
      <p:sp>
        <p:nvSpPr>
          <p:cNvPr id="116" name=""/>
          <p:cNvSpPr/>
          <p:nvPr/>
        </p:nvSpPr>
        <p:spPr>
          <a:xfrm>
            <a:off x="5097600" y="3943440"/>
            <a:ext cx="3541680" cy="1006560"/>
          </a:xfrm>
          <a:prstGeom prst="rect">
            <a:avLst/>
          </a:prstGeom>
          <a:gradFill rotWithShape="0">
            <a:gsLst>
              <a:gs pos="0">
                <a:srgbClr val="003399"/>
              </a:gs>
              <a:gs pos="50000">
                <a:srgbClr val="6699ff"/>
              </a:gs>
              <a:gs pos="100000">
                <a:srgbClr val="003399"/>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spect Support</a:t>
            </a:r>
            <a:endParaRPr b="0" lang="en-US" sz="2200" spc="-1" strike="noStrike">
              <a:solidFill>
                <a:srgbClr val="000000"/>
              </a:solidFill>
              <a:latin typeface="Arial"/>
            </a:endParaRPr>
          </a:p>
        </p:txBody>
      </p:sp>
      <p:sp>
        <p:nvSpPr>
          <p:cNvPr id="117" name=""/>
          <p:cNvSpPr/>
          <p:nvPr/>
        </p:nvSpPr>
        <p:spPr>
          <a:xfrm>
            <a:off x="771480" y="2076480"/>
            <a:ext cx="4049640" cy="1038240"/>
          </a:xfrm>
          <a:prstGeom prst="rect">
            <a:avLst/>
          </a:prstGeom>
          <a:gradFill rotWithShape="0">
            <a:gsLst>
              <a:gs pos="0">
                <a:srgbClr val="003399"/>
              </a:gs>
              <a:gs pos="50000">
                <a:srgbClr val="6699ff"/>
              </a:gs>
              <a:gs pos="100000">
                <a:srgbClr val="003399"/>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mpetency Development</a:t>
            </a:r>
            <a:endParaRPr b="0" lang="en-US" sz="2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Why Domain and Technology Expertise ?</a:t>
            </a:r>
            <a:endParaRPr b="0" lang="en-US" sz="3200" spc="-1" strike="noStrike">
              <a:solidFill>
                <a:srgbClr val="993300"/>
              </a:solidFill>
              <a:latin typeface="Arial"/>
            </a:endParaRPr>
          </a:p>
        </p:txBody>
      </p:sp>
      <p:sp>
        <p:nvSpPr>
          <p:cNvPr id="119" name=""/>
          <p:cNvSpPr/>
          <p:nvPr/>
        </p:nvSpPr>
        <p:spPr>
          <a:xfrm>
            <a:off x="358920" y="5834160"/>
            <a:ext cx="8447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hese are critical skills needed to move  up th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Value chain</a:t>
            </a:r>
            <a:endParaRPr b="0" lang="en-US" sz="2000" spc="-1" strike="noStrike">
              <a:solidFill>
                <a:srgbClr val="000000"/>
              </a:solidFill>
              <a:latin typeface="Arial"/>
            </a:endParaRPr>
          </a:p>
        </p:txBody>
      </p:sp>
      <p:sp>
        <p:nvSpPr>
          <p:cNvPr id="120" name=""/>
          <p:cNvSpPr/>
          <p:nvPr/>
        </p:nvSpPr>
        <p:spPr>
          <a:xfrm>
            <a:off x="1117440" y="4873680"/>
            <a:ext cx="7166160" cy="852480"/>
          </a:xfrm>
          <a:prstGeom prst="rect">
            <a:avLst/>
          </a:prstGeom>
          <a:gradFill rotWithShape="0">
            <a:gsLst>
              <a:gs pos="0">
                <a:srgbClr val="62edfc"/>
              </a:gs>
              <a:gs pos="100000">
                <a:srgbClr val="ccecff"/>
              </a:gs>
            </a:gsLst>
            <a:lin ang="5400000"/>
          </a:gradFill>
          <a:ln w="0">
            <a:noFill/>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17440" y="3905280"/>
            <a:ext cx="7166160" cy="852480"/>
          </a:xfrm>
          <a:prstGeom prst="rect">
            <a:avLst/>
          </a:prstGeom>
          <a:gradFill rotWithShape="0">
            <a:gsLst>
              <a:gs pos="0">
                <a:srgbClr val="3366cc"/>
              </a:gs>
              <a:gs pos="100000">
                <a:srgbClr val="99ccff"/>
              </a:gs>
            </a:gsLst>
            <a:lin ang="5400000"/>
          </a:gradFill>
          <a:ln w="0">
            <a:noFill/>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117440" y="2925720"/>
            <a:ext cx="7166160" cy="852480"/>
          </a:xfrm>
          <a:prstGeom prst="rect">
            <a:avLst/>
          </a:prstGeom>
          <a:gradFill rotWithShape="0">
            <a:gsLst>
              <a:gs pos="0">
                <a:srgbClr val="99ccff"/>
              </a:gs>
              <a:gs pos="100000">
                <a:srgbClr val="3366cc"/>
              </a:gs>
            </a:gsLst>
            <a:lin ang="5400000"/>
          </a:gradFill>
          <a:ln w="0">
            <a:noFill/>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17440" y="1941480"/>
            <a:ext cx="7166160" cy="852480"/>
          </a:xfrm>
          <a:prstGeom prst="rect">
            <a:avLst/>
          </a:prstGeom>
          <a:gradFill rotWithShape="0">
            <a:gsLst>
              <a:gs pos="0">
                <a:srgbClr val="ccecff"/>
              </a:gs>
              <a:gs pos="100000">
                <a:srgbClr val="62edfc"/>
              </a:gs>
            </a:gsLst>
            <a:lin ang="5400000"/>
          </a:gradFill>
          <a:ln w="0">
            <a:noFill/>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3164040" y="4869000"/>
            <a:ext cx="1731960" cy="861840"/>
          </a:xfrm>
          <a:prstGeom prst="rect">
            <a:avLst/>
          </a:prstGeom>
          <a:solidFill>
            <a:srgbClr val="99cc00"/>
          </a:solidFill>
          <a:ln w="0">
            <a:noFill/>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ming Services</a:t>
            </a:r>
            <a:endParaRPr b="0" lang="en-US" sz="1600" spc="-1" strike="noStrike">
              <a:solidFill>
                <a:srgbClr val="000000"/>
              </a:solidFill>
              <a:latin typeface="Arial"/>
            </a:endParaRPr>
          </a:p>
        </p:txBody>
      </p:sp>
      <p:sp>
        <p:nvSpPr>
          <p:cNvPr id="125" name=""/>
          <p:cNvSpPr/>
          <p:nvPr/>
        </p:nvSpPr>
        <p:spPr>
          <a:xfrm>
            <a:off x="3386160" y="3906720"/>
            <a:ext cx="1731960" cy="849600"/>
          </a:xfrm>
          <a:prstGeom prst="rect">
            <a:avLst/>
          </a:prstGeom>
          <a:solidFill>
            <a:srgbClr val="c6c6c6"/>
          </a:solidFill>
          <a:ln w="0">
            <a:noFill/>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mplementation</a:t>
            </a:r>
            <a:endParaRPr b="0" lang="en-US" sz="1600" spc="-1" strike="noStrike">
              <a:solidFill>
                <a:srgbClr val="000000"/>
              </a:solidFill>
              <a:latin typeface="Arial"/>
            </a:endParaRPr>
          </a:p>
        </p:txBody>
      </p:sp>
      <p:sp>
        <p:nvSpPr>
          <p:cNvPr id="126" name=""/>
          <p:cNvSpPr/>
          <p:nvPr/>
        </p:nvSpPr>
        <p:spPr>
          <a:xfrm>
            <a:off x="4211640" y="1955880"/>
            <a:ext cx="1563840" cy="842760"/>
          </a:xfrm>
          <a:prstGeom prst="rect">
            <a:avLst/>
          </a:prstGeom>
          <a:solidFill>
            <a:srgbClr val="6f87ff"/>
          </a:solidFill>
          <a:ln w="0">
            <a:noFill/>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Strategy</a:t>
            </a:r>
            <a:endParaRPr b="0" lang="en-US" sz="1600" spc="-1" strike="noStrike">
              <a:solidFill>
                <a:srgbClr val="000000"/>
              </a:solidFill>
              <a:latin typeface="Arial"/>
            </a:endParaRPr>
          </a:p>
        </p:txBody>
      </p:sp>
      <p:sp>
        <p:nvSpPr>
          <p:cNvPr id="127" name=""/>
          <p:cNvSpPr/>
          <p:nvPr/>
        </p:nvSpPr>
        <p:spPr>
          <a:xfrm>
            <a:off x="3849840" y="2930400"/>
            <a:ext cx="1638000" cy="843120"/>
          </a:xfrm>
          <a:prstGeom prst="rect">
            <a:avLst/>
          </a:prstGeom>
          <a:solidFill>
            <a:srgbClr val="ffcc00"/>
          </a:solidFill>
          <a:ln w="0">
            <a:noFill/>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Engineering</a:t>
            </a:r>
            <a:endParaRPr b="0" lang="en-US" sz="1600" spc="-1" strike="noStrike">
              <a:solidFill>
                <a:srgbClr val="000000"/>
              </a:solidFill>
              <a:latin typeface="Arial"/>
            </a:endParaRPr>
          </a:p>
        </p:txBody>
      </p:sp>
      <p:sp>
        <p:nvSpPr>
          <p:cNvPr id="128" name=""/>
          <p:cNvSpPr/>
          <p:nvPr/>
        </p:nvSpPr>
        <p:spPr>
          <a:xfrm>
            <a:off x="1179000" y="2216160"/>
            <a:ext cx="215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 my business problem</a:t>
            </a:r>
            <a:endParaRPr b="0" lang="en-US" sz="1400" spc="-1" strike="noStrike">
              <a:solidFill>
                <a:srgbClr val="000000"/>
              </a:solidFill>
              <a:latin typeface="Arial"/>
            </a:endParaRPr>
          </a:p>
        </p:txBody>
      </p:sp>
      <p:sp>
        <p:nvSpPr>
          <p:cNvPr id="129" name=""/>
          <p:cNvSpPr/>
          <p:nvPr/>
        </p:nvSpPr>
        <p:spPr>
          <a:xfrm>
            <a:off x="5879880" y="2109960"/>
            <a:ext cx="2218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process chan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ain Expertise</a:t>
            </a:r>
            <a:endParaRPr b="0" lang="en-US" sz="1400" spc="-1" strike="noStrike">
              <a:solidFill>
                <a:srgbClr val="000000"/>
              </a:solidFill>
              <a:latin typeface="Arial"/>
            </a:endParaRPr>
          </a:p>
        </p:txBody>
      </p:sp>
      <p:sp>
        <p:nvSpPr>
          <p:cNvPr id="130" name=""/>
          <p:cNvSpPr/>
          <p:nvPr/>
        </p:nvSpPr>
        <p:spPr>
          <a:xfrm rot="16200000">
            <a:off x="-780840" y="3736800"/>
            <a:ext cx="2417760" cy="303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ISING EXPECTATIONS</a:t>
            </a:r>
            <a:endParaRPr b="0" lang="en-US" sz="1600" spc="-1" strike="noStrike">
              <a:solidFill>
                <a:srgbClr val="000000"/>
              </a:solidFill>
              <a:latin typeface="Arial"/>
            </a:endParaRPr>
          </a:p>
        </p:txBody>
      </p:sp>
      <p:sp>
        <p:nvSpPr>
          <p:cNvPr id="131" name=""/>
          <p:cNvSpPr/>
          <p:nvPr/>
        </p:nvSpPr>
        <p:spPr>
          <a:xfrm rot="16200000">
            <a:off x="7625520" y="3739320"/>
            <a:ext cx="2417760" cy="301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ORE COMPETENCY</a:t>
            </a:r>
            <a:endParaRPr b="0" lang="en-US" sz="1600" spc="-1" strike="noStrike">
              <a:solidFill>
                <a:srgbClr val="000000"/>
              </a:solidFill>
              <a:latin typeface="Arial"/>
            </a:endParaRPr>
          </a:p>
        </p:txBody>
      </p:sp>
      <p:sp>
        <p:nvSpPr>
          <p:cNvPr id="132" name=""/>
          <p:cNvSpPr/>
          <p:nvPr/>
        </p:nvSpPr>
        <p:spPr>
          <a:xfrm>
            <a:off x="647640" y="2000160"/>
            <a:ext cx="433440" cy="3673440"/>
          </a:xfrm>
          <a:prstGeom prst="upArrow">
            <a:avLst>
              <a:gd name="adj1" fmla="val 39620"/>
              <a:gd name="adj2" fmla="val 69880"/>
            </a:avLst>
          </a:prstGeom>
          <a:gradFill rotWithShape="0">
            <a:gsLst>
              <a:gs pos="0">
                <a:srgbClr val="333399"/>
              </a:gs>
              <a:gs pos="100000">
                <a:srgbClr val="33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878440" y="2986200"/>
            <a:ext cx="20811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Model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chitecture, IT strate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ain knowledge</a:t>
            </a:r>
            <a:endParaRPr b="0" lang="en-US" sz="1400" spc="-1" strike="noStrike">
              <a:solidFill>
                <a:srgbClr val="000000"/>
              </a:solidFill>
              <a:latin typeface="Arial"/>
            </a:endParaRPr>
          </a:p>
        </p:txBody>
      </p:sp>
      <p:sp>
        <p:nvSpPr>
          <p:cNvPr id="134" name=""/>
          <p:cNvSpPr/>
          <p:nvPr/>
        </p:nvSpPr>
        <p:spPr>
          <a:xfrm>
            <a:off x="5882760" y="3965400"/>
            <a:ext cx="18266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manage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desig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ain knowledge</a:t>
            </a:r>
            <a:endParaRPr b="0" lang="en-US" sz="1400" spc="-1" strike="noStrike">
              <a:solidFill>
                <a:srgbClr val="000000"/>
              </a:solidFill>
              <a:latin typeface="Arial"/>
            </a:endParaRPr>
          </a:p>
        </p:txBody>
      </p:sp>
      <p:sp>
        <p:nvSpPr>
          <p:cNvPr id="135" name=""/>
          <p:cNvSpPr/>
          <p:nvPr/>
        </p:nvSpPr>
        <p:spPr>
          <a:xfrm>
            <a:off x="5884200" y="5148360"/>
            <a:ext cx="132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code</a:t>
            </a:r>
            <a:endParaRPr b="0" lang="en-US" sz="1400" spc="-1" strike="noStrike">
              <a:solidFill>
                <a:srgbClr val="000000"/>
              </a:solidFill>
              <a:latin typeface="Arial"/>
            </a:endParaRPr>
          </a:p>
        </p:txBody>
      </p:sp>
      <p:sp>
        <p:nvSpPr>
          <p:cNvPr id="136" name=""/>
          <p:cNvSpPr/>
          <p:nvPr/>
        </p:nvSpPr>
        <p:spPr>
          <a:xfrm>
            <a:off x="1178280" y="3094200"/>
            <a:ext cx="1892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amp; automa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business process</a:t>
            </a:r>
            <a:endParaRPr b="0" lang="en-US" sz="1400" spc="-1" strike="noStrike">
              <a:solidFill>
                <a:srgbClr val="000000"/>
              </a:solidFill>
              <a:latin typeface="Arial"/>
            </a:endParaRPr>
          </a:p>
        </p:txBody>
      </p:sp>
      <p:sp>
        <p:nvSpPr>
          <p:cNvPr id="137" name=""/>
          <p:cNvSpPr/>
          <p:nvPr/>
        </p:nvSpPr>
        <p:spPr>
          <a:xfrm>
            <a:off x="1179720" y="4179960"/>
            <a:ext cx="1780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this system</a:t>
            </a:r>
            <a:endParaRPr b="0" lang="en-US" sz="1400" spc="-1" strike="noStrike">
              <a:solidFill>
                <a:srgbClr val="000000"/>
              </a:solidFill>
              <a:latin typeface="Arial"/>
            </a:endParaRPr>
          </a:p>
        </p:txBody>
      </p:sp>
      <p:sp>
        <p:nvSpPr>
          <p:cNvPr id="138" name=""/>
          <p:cNvSpPr/>
          <p:nvPr/>
        </p:nvSpPr>
        <p:spPr>
          <a:xfrm>
            <a:off x="1180800" y="5146560"/>
            <a:ext cx="163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this program</a:t>
            </a:r>
            <a:endParaRPr b="0" lang="en-US" sz="1400" spc="-1" strike="noStrike">
              <a:solidFill>
                <a:srgbClr val="000000"/>
              </a:solidFill>
              <a:latin typeface="Arial"/>
            </a:endParaRPr>
          </a:p>
        </p:txBody>
      </p:sp>
      <p:sp>
        <p:nvSpPr>
          <p:cNvPr id="139" name=""/>
          <p:cNvSpPr/>
          <p:nvPr/>
        </p:nvSpPr>
        <p:spPr>
          <a:xfrm>
            <a:off x="8305920" y="2000160"/>
            <a:ext cx="433440" cy="3673440"/>
          </a:xfrm>
          <a:prstGeom prst="upArrow">
            <a:avLst>
              <a:gd name="adj1" fmla="val 39620"/>
              <a:gd name="adj2" fmla="val 69880"/>
            </a:avLst>
          </a:prstGeom>
          <a:gradFill rotWithShape="0">
            <a:gsLst>
              <a:gs pos="0">
                <a:srgbClr val="333399"/>
              </a:gs>
              <a:gs pos="100000">
                <a:srgbClr val="33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Leveraging Domain Competency</a:t>
            </a:r>
            <a:endParaRPr b="0" lang="en-US" sz="3200" spc="-1" strike="noStrike">
              <a:solidFill>
                <a:srgbClr val="993300"/>
              </a:solidFill>
              <a:latin typeface="Arial"/>
            </a:endParaRPr>
          </a:p>
        </p:txBody>
      </p:sp>
      <p:sp>
        <p:nvSpPr>
          <p:cNvPr id="141"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 projects at higher levels of quality and productivity  </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Prospecting win ratio</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rt Thought Leadership position</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up the value chain</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partner for customers</a:t>
            </a:r>
            <a:endParaRPr b="0" lang="en-US" sz="24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World’s leading software firm</a:t>
            </a:r>
            <a:endParaRPr b="0" lang="en-US" sz="3200" spc="-1" strike="noStrike">
              <a:solidFill>
                <a:srgbClr val="993300"/>
              </a:solidFill>
              <a:latin typeface="Arial"/>
            </a:endParaRPr>
          </a:p>
        </p:txBody>
      </p:sp>
      <p:sp>
        <p:nvSpPr>
          <p:cNvPr id="143" name=""/>
          <p:cNvSpPr/>
          <p:nvPr/>
        </p:nvSpPr>
        <p:spPr>
          <a:xfrm>
            <a:off x="515880" y="1946160"/>
            <a:ext cx="4000680" cy="350532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Assignment Scop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ient </a:t>
            </a:r>
            <a:r>
              <a:rPr b="0" lang="en-US" sz="1600" spc="-1" strike="noStrike">
                <a:solidFill>
                  <a:srgbClr val="000000"/>
                </a:solidFill>
                <a:latin typeface="Arial"/>
              </a:rPr>
              <a:t>trying out  outsourcing for their Financial IT services for the first tim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 build a robust application for managing  risk financing program  handling</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ogram creation and management</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ccurrence capture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termining potential candidate programs for claim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aims processing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nancials.</a:t>
            </a:r>
            <a:endParaRPr b="0" lang="en-US" sz="1600" spc="-1" strike="noStrike">
              <a:solidFill>
                <a:srgbClr val="000000"/>
              </a:solidFill>
              <a:latin typeface="Arial"/>
            </a:endParaRPr>
          </a:p>
        </p:txBody>
      </p:sp>
      <p:sp>
        <p:nvSpPr>
          <p:cNvPr id="144" name=""/>
          <p:cNvSpPr/>
          <p:nvPr/>
        </p:nvSpPr>
        <p:spPr>
          <a:xfrm>
            <a:off x="4505400" y="1960560"/>
            <a:ext cx="4270320" cy="225432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DCG’s Role</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CG was  involved from proposal stage  – to understand the domain requirements and come up with  the strategic solution definition as well as the roadmap.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ep domain understanding significantly helped in the implementation of Risk management application:</a:t>
            </a:r>
            <a:endParaRPr b="0" lang="en-US" sz="1600" spc="-1" strike="noStrike">
              <a:solidFill>
                <a:srgbClr val="000000"/>
              </a:solidFill>
              <a:latin typeface="Arial"/>
            </a:endParaRPr>
          </a:p>
        </p:txBody>
      </p:sp>
      <p:sp>
        <p:nvSpPr>
          <p:cNvPr id="145" name=""/>
          <p:cNvSpPr/>
          <p:nvPr/>
        </p:nvSpPr>
        <p:spPr>
          <a:xfrm>
            <a:off x="4506840" y="4464000"/>
            <a:ext cx="4334040" cy="95256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Specific Domain Expertise used :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Risk management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Property and Casualty expertise   </a:t>
            </a:r>
            <a:endParaRPr b="0" lang="en-US" sz="16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Large long term care insurance player</a:t>
            </a:r>
            <a:endParaRPr b="0" lang="en-US" sz="3200" spc="-1" strike="noStrike">
              <a:solidFill>
                <a:srgbClr val="993300"/>
              </a:solidFill>
              <a:latin typeface="Arial"/>
            </a:endParaRPr>
          </a:p>
        </p:txBody>
      </p:sp>
      <p:sp>
        <p:nvSpPr>
          <p:cNvPr id="147" name="PlaceHolder 2"/>
          <p:cNvSpPr>
            <a:spLocks noGrp="1"/>
          </p:cNvSpPr>
          <p:nvPr>
            <p:ph/>
          </p:nvPr>
        </p:nvSpPr>
        <p:spPr>
          <a:xfrm>
            <a:off x="4514760" y="4500360"/>
            <a:ext cx="4060800" cy="1530360"/>
          </a:xfrm>
          <a:prstGeom prst="rect">
            <a:avLst/>
          </a:prstGeom>
          <a:noFill/>
          <a:ln w="0">
            <a:noFill/>
          </a:ln>
        </p:spPr>
        <p:txBody>
          <a:bodyPr anchor="t">
            <a:normAutofit/>
          </a:bodyPr>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Specific Domain Expertise Used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Long Term Care as a Product</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surance and Health Care Expertise  </a:t>
            </a:r>
            <a:endParaRPr b="0" lang="en-US" sz="1600" spc="-1" strike="noStrike">
              <a:solidFill>
                <a:srgbClr val="000000"/>
              </a:solidFill>
              <a:latin typeface="Arial"/>
            </a:endParaRPr>
          </a:p>
          <a:p>
            <a:pPr marL="230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
          <p:cNvSpPr/>
          <p:nvPr/>
        </p:nvSpPr>
        <p:spPr>
          <a:xfrm>
            <a:off x="487440" y="1887480"/>
            <a:ext cx="3714840" cy="444816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Assignment Scop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  large  LTC insurance program with potential members of 2,000,000  under the aegis of Federal Government ,US.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ient  wanted a  high performance web site that would support up to 2000 simultaneous user sessions with response time being 5-6 seconds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ong term care was a  new focus business segment for Infosys. DCG was  involved from proposal stage  – to understand the domain requirements and come up with  the strategic solution definition and approach.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
          <p:cNvSpPr/>
          <p:nvPr/>
        </p:nvSpPr>
        <p:spPr>
          <a:xfrm>
            <a:off x="4514760" y="1863720"/>
            <a:ext cx="4149720" cy="256068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DCG’s role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CG was  involved from proposal stage  – to understand the domain requirements and come up with  the strategic solution definition and approach .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vincing multiple stakeholders . Domain expertise was critical in defining a common and acceptable business process, tools and illustrations</a:t>
            </a:r>
            <a:endParaRPr b="0" lang="en-US" sz="16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547560" y="1700280"/>
            <a:ext cx="3686400" cy="406080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Assignment Scop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 build a real-time processing system for Intra-Day comparison of equities trades.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Earlier,  equities trades were being input using the Online Comparison System of another floor-based exchange and processed in a batch mode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new system to enable improved trade processing efficiency and reduced risk of failed trades</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sers include Clearing Member Firms, Specialists, Brokers and Market Operations staff</a:t>
            </a:r>
            <a:endParaRPr b="0" lang="en-US" sz="1600" spc="-1" strike="noStrike">
              <a:solidFill>
                <a:srgbClr val="000000"/>
              </a:solidFill>
              <a:latin typeface="Arial"/>
            </a:endParaRPr>
          </a:p>
        </p:txBody>
      </p:sp>
      <p:sp>
        <p:nvSpPr>
          <p:cNvPr id="151" name=""/>
          <p:cNvSpPr/>
          <p:nvPr/>
        </p:nvSpPr>
        <p:spPr>
          <a:xfrm>
            <a:off x="4486320" y="1700280"/>
            <a:ext cx="4340160" cy="384336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DCG’s Role</a:t>
            </a:r>
            <a:endParaRPr b="0" lang="en-US" sz="1600" spc="-1" strike="noStrike">
              <a:solidFill>
                <a:srgbClr val="000000"/>
              </a:solidFill>
              <a:latin typeface="Arial"/>
            </a:endParaRPr>
          </a:p>
          <a:p>
            <a:pPr marL="230040" indent="-230040">
              <a:lnSpc>
                <a:spcPct val="90000"/>
              </a:lnSpc>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rticulation of Infosys value proposition by successfully demonstrating security trading and settlement expertise</a:t>
            </a:r>
            <a:endParaRPr b="0" lang="en-US" sz="1600" spc="-1" strike="noStrike">
              <a:solidFill>
                <a:srgbClr val="000000"/>
              </a:solidFill>
              <a:latin typeface="Arial"/>
            </a:endParaRPr>
          </a:p>
          <a:p>
            <a:pPr marL="230040" indent="-230040">
              <a:lnSpc>
                <a:spcPct val="90000"/>
              </a:lnSpc>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teraction with business users and sponsors to elicit requirements for the new system</a:t>
            </a:r>
            <a:endParaRPr b="0" lang="en-US" sz="1600" spc="-1" strike="noStrike">
              <a:solidFill>
                <a:srgbClr val="000000"/>
              </a:solidFill>
              <a:latin typeface="Arial"/>
            </a:endParaRPr>
          </a:p>
          <a:p>
            <a:pPr marL="230040" indent="-230040">
              <a:lnSpc>
                <a:spcPct val="90000"/>
              </a:lnSpc>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nalysis of the required  business processes and functionalities</a:t>
            </a:r>
            <a:endParaRPr b="0" lang="en-US" sz="1600" spc="-1" strike="noStrike">
              <a:solidFill>
                <a:srgbClr val="000000"/>
              </a:solidFill>
              <a:latin typeface="Arial"/>
            </a:endParaRPr>
          </a:p>
          <a:p>
            <a:pPr marL="230040" indent="-230040">
              <a:lnSpc>
                <a:spcPct val="90000"/>
              </a:lnSpc>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pid knowledge transfer to development team thereby helping in reducing the lead time</a:t>
            </a:r>
            <a:endParaRPr b="0" lang="en-US" sz="1600" spc="-1" strike="noStrike">
              <a:solidFill>
                <a:srgbClr val="000000"/>
              </a:solidFill>
              <a:latin typeface="Arial"/>
            </a:endParaRPr>
          </a:p>
          <a:p>
            <a:pPr marL="230040" indent="-230040">
              <a:lnSpc>
                <a:spcPct val="90000"/>
              </a:lnSpc>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tensive participation in testing to minimize functional defects. </a:t>
            </a:r>
            <a:endParaRPr b="0" lang="en-US" sz="1600" spc="-1" strike="noStrike">
              <a:solidFill>
                <a:srgbClr val="000000"/>
              </a:solidFill>
              <a:latin typeface="Arial"/>
            </a:endParaRPr>
          </a:p>
        </p:txBody>
      </p:sp>
      <p:sp>
        <p:nvSpPr>
          <p:cNvPr id="15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Floor based stock exchange</a:t>
            </a:r>
            <a:endParaRPr b="0" lang="en-US" sz="3200" spc="-1" strike="noStrike">
              <a:solidFill>
                <a:srgbClr val="993300"/>
              </a:solidFill>
              <a:latin typeface="Arial"/>
            </a:endParaRPr>
          </a:p>
        </p:txBody>
      </p:sp>
      <p:sp>
        <p:nvSpPr>
          <p:cNvPr id="153" name=""/>
          <p:cNvSpPr/>
          <p:nvPr/>
        </p:nvSpPr>
        <p:spPr>
          <a:xfrm>
            <a:off x="4486320" y="5254560"/>
            <a:ext cx="4340160" cy="127008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Arial"/>
                <a:ea typeface="Times New Roman"/>
              </a:rPr>
              <a:t>Specific Domain Expertise used :</a:t>
            </a:r>
            <a:endParaRPr b="0" lang="en-US" sz="1500" spc="-1" strike="noStrike">
              <a:solidFill>
                <a:srgbClr val="000000"/>
              </a:solidFill>
              <a:latin typeface="Arial"/>
            </a:endParaRPr>
          </a:p>
          <a:p>
            <a:pPr marL="230040" indent="-230040">
              <a:spcBef>
                <a:spcPts val="374"/>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Understanding of trade &amp; settlement processes </a:t>
            </a:r>
            <a:endParaRPr b="0" lang="en-US" sz="1500" spc="-1" strike="noStrike">
              <a:solidFill>
                <a:srgbClr val="000000"/>
              </a:solidFill>
              <a:latin typeface="Arial"/>
            </a:endParaRPr>
          </a:p>
          <a:p>
            <a:pPr marL="230040" indent="-230040">
              <a:spcBef>
                <a:spcPts val="374"/>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Understanding of and nature of interaction among market players</a:t>
            </a:r>
            <a:endParaRPr b="0" lang="en-US" sz="15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572000" y="1816200"/>
            <a:ext cx="4102200" cy="159048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DCG’s Rol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fosys was awarded a pilot project for doing business analysis for a critical piece of the application. The business analysis was conducted by two domain experts from DCG</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542880" y="1816200"/>
            <a:ext cx="3652920" cy="463212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Assignment Scop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fosys chosen as the partner to design, develop, and deploy a consolidated data-warehouse involving sourcing of information from multiple product processors spanning across mainframe, distributed computing and internet technologies. Consolidation involved using ETL tools such as Abinitio and delivery of information via web.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is is an strategically Important project to achieve  “competitive differentiation” for the client with respect to delivering high-value services to its large and growing private high net worth customers.</a:t>
            </a:r>
            <a:endParaRPr b="0" lang="en-US" sz="1600" spc="-1" strike="noStrike">
              <a:solidFill>
                <a:srgbClr val="000000"/>
              </a:solidFill>
              <a:latin typeface="Arial"/>
            </a:endParaRPr>
          </a:p>
        </p:txBody>
      </p:sp>
      <p:sp>
        <p:nvSpPr>
          <p:cNvPr id="156" name=""/>
          <p:cNvSpPr/>
          <p:nvPr/>
        </p:nvSpPr>
        <p:spPr>
          <a:xfrm>
            <a:off x="4586400" y="3745080"/>
            <a:ext cx="4176720" cy="63324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Specific Domain Expertise used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Private Wealth Management</a:t>
            </a:r>
            <a:endParaRPr b="0" lang="en-US" sz="1600" spc="-1" strike="noStrike">
              <a:solidFill>
                <a:srgbClr val="000000"/>
              </a:solidFill>
              <a:latin typeface="Arial"/>
            </a:endParaRPr>
          </a:p>
        </p:txBody>
      </p:sp>
      <p:sp>
        <p:nvSpPr>
          <p:cNvPr id="15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Private banking group of a large US conglomerate</a:t>
            </a:r>
            <a:endParaRPr b="0" lang="en-US" sz="2800" spc="-1" strike="noStrike">
              <a:solidFill>
                <a:srgbClr val="9933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6T04:23:38Z</dcterms:created>
  <dc:creator>P R Ganapathy</dc:creator>
  <dc:description/>
  <dc:language>en-US</dc:language>
  <cp:lastModifiedBy>blrkec</cp:lastModifiedBy>
  <dcterms:modified xsi:type="dcterms:W3CDTF">2007-09-28T06:19:31Z</dcterms:modified>
  <cp:revision>47</cp:revision>
  <dc:subject/>
  <dc:title>Keeping the promise</dc:title>
</cp:coreProperties>
</file>