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D3D-E07F-4FD6-A2C9-1028631F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73A-0A5C-472E-A89C-74E6A604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DD3-718B-4412-9BC1-F1F5BB68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968-B9BA-4ECA-A886-EE662554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09E-7C6B-4E76-A705-1345DE57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A97-A4E0-423A-A5C8-3337E15C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997-0DBD-47DF-A575-2C5CEB47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31D-AA69-4330-9796-67C191A3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D300-0479-4D10-8A33-828BEF7A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4FE-04BA-4420-B527-5A423C0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E9E-5EAD-4AD2-BCDD-DCC80C60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283-0B2A-440F-90E2-3255F94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3DBD3C6-D836-49F7-8851-CDDB156559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ving up to the promis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.V. Mohandas Pai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st management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-2138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 control on non-revenue related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recruitment for support (ex-sales &amp; marketing) departments during th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GDM for non-revenue generating activities in high-cost econo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cost contro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rationalization of internal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negotiations with vendors and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nalization of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discretionary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ating leased premi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cuts during the year aggregated 2.4% of revenues (3.5% excluding increase in personnel cost in the 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esults - the final cost structur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...recalibrated Capex spending…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733400"/>
            <a:ext cx="8001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aintained liquidity to de-risk 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n uncertain environment…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79250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rporate governanc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udit committe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ly comprised of independent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owers to recommend appointment/termination of auditors to the shar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various accounting issues directly with the au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and external auditors have independent access to th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ncials are discussed in detail and adopted by the audit committee before being presented to and approved by the full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xecutive compens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r directors are excluded from the stock op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te prohibits providing loans to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lowest compensation for the senior management in th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 by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Operations and disclosure polici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 through branches worldwide – hence only one legal entity / finan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aries created only for busines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r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he subsidiary requires a different strategy, culture, skill sets, cost structur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terial off-balance sheet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disclosur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ntra is “In case of doubt, disclose. Go beyond the statut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arent reporting on all operating and financial metrics at the time of announcing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of the art website with lots of useful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access to management / frequent investor interactions at conferences, roadshow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compliance with laws in all countries / regimes that we opera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cquisitions Vs. Allianc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sys has been searching for a strategic acquisition for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not made an acquisition to date because of valuation issues, lack of acquired management commitment, lack of revenue visibility, financial weakness / discipline / viabilit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growth has remained comfortable, however acquisition of target competencies important for the “next orbit” / differ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ances are a possible via-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urrent issu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es made, promise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ability, sustainability, de-ri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ssues – Infosys’ response and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sis of confidence in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option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risis of confidence in the marke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s re-stating their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issues in large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roportionate executive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able off-balance shee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basic corporate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Infosys’ long history of principled corporate governance, conservative financial reporting and transparent corporate structures differentiates us in thi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tock option accounting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so f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US companies, Indian corporates do not get tax benefits on employees exercising their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option accounting is a non-cash charge which does not alter the overall cash value of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-Scholes model based on historical volatility does not provide fair value of an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companies like Microsoft are against expens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We are internally debating this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arbanes-Oxley Ac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requires all CEOs / CFOs to personally swear to the veracity of their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sys fully complies with the 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 a challenging business environment…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eduction in technology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I based IT investments by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outsourcing of technology and offshore becoming mai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 pric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ation of vendors and customers preference for large, end-to-end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sys has continued to execute, flawlessly, without diluting the corporation’s core val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romise Vs Performanc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Guidance vs Performance - Quarterl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Guidance vs Performance - Annua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How did we do it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and cost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calibrating Cap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liqu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evenue and cost projection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model gives us a good insight into our Clients’ plans /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85% repeat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a state of the art pipeline visibility system – “InPip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ior management is in close touch with key decision makers at important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several large Fortune 1000 corporations to the Clien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-risked our operations by maintaining a disciplined mix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costs budgeted on a conservative revenue assumption – automatic “stretch” built into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ly monitored during the course of the quarter / year, should mid-course corrections becom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vestments critical for long term growth are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792468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st manageme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ed 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 increase linked to attainment of company performance targets (70% of total increase linked to company performance last fis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variable component paid during last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costs by closely tying recruitment to busines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in time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ment based on business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addition to employees by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29:49Z</dcterms:created>
  <dc:creator>VINAYAKPV</dc:creator>
  <dc:description/>
  <dc:language>en-US</dc:language>
  <cp:lastModifiedBy>abhay_pawar</cp:lastModifiedBy>
  <dcterms:modified xsi:type="dcterms:W3CDTF">2002-08-27T05:28:41Z</dcterms:modified>
  <cp:revision>74</cp:revision>
  <dc:subject/>
  <dc:title>PowerPoint Presentation</dc:title>
</cp:coreProperties>
</file>