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95A-0B11-4AEF-BC7A-799E10FD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F14-A5A8-4AA7-9169-F4481525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4A9-4A22-4947-A616-44E12DFA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3482-51B8-4921-8A31-5D0FEE50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FED-5FF8-4C11-957C-23B8E167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7D2-32EA-4DFE-90FF-6E1EE1BC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A79B-923F-4330-96A9-00A6AF3B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6BB4-74B6-432D-8F4D-848D5E31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E4D4-B10A-4B30-9CBC-95A7F02C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538-F417-4366-BAE6-AAF4D2E7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C2D3-127D-42C1-8431-D7FDA9D1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9D9-9C37-42FB-9988-76E4EE1E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08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132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13FD6EA-2DBF-4864-BABC-C2EA4EAE2CF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438280" y="104760"/>
            <a:ext cx="22100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803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5943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1523880"/>
            <a:ext cx="22096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50532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up to the promi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3459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0320" algn="ctr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6280" algn="ctr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iving up to the promis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T.V. Mohandas Pai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ost management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3840" indent="-213840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ght control on non-revenue related exp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66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recruitment for support (ex-sales &amp; marketing) departments during th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66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d GDM for non-revenue generating activities in high-cost econom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 cost control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66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rationalization of internal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66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-negotiations with vendors and service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66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ionalization of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66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 in discretionary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66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ating leased premis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sav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66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cuts during the year aggregated 2.4% of revenues (3.5% excluding increase in personnel cost in the 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Results - the final cost structur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960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...recalibrated Capex spending…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1733400"/>
            <a:ext cx="8001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maintained liquidity to de-risk </a:t>
            </a:r>
            <a:br>
              <a:rPr sz="2800"/>
            </a:b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n uncertain environment…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2103480"/>
            <a:ext cx="792504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orporate governanc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udit committe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rely comprised of independent dir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powers to recommend appointment/termination of auditors to the shar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various accounting issues directly with the aud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and external auditors have independent access to the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nancials are discussed in detail and adopted by the audit committee before being presented to and approved by the full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Executive compensatio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r directors are excluded from the stock option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te prohibits providing loans to dir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lowest compensation for the senior management in the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ship by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Operations and disclosure polici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 through branches worldwide – hence only one legal entity / financ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idiaries created only for business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re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21780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he subsidiary requires a different strategy, culture, skill sets, cost structure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aterial off-balance sheet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disclosur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21780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antra is “In case of doubt, disclose. Go beyond the statute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21780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arent reporting on all operating and financial metrics at the time of announcing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21780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of the art website with lots of useful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21780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access to management / frequent investor interactions at conferences, roadshow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compliance with laws in all countries / regimes that we opera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cquisitions Vs. Allianc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sys has been searching for a strategic acquisition for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not made an acquisition to date because of valuation issues, lack of acquired management commitment, lack of revenue visibility, financial weakness / discipline / viability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c growth has remained comfortable, however acquisition of target competencies important for the “next orbit” / differen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ances are a possible via-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urrent issu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ises made, promises k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ability, sustainability, de-ris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cy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i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issues – Infosys’ response and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sis of confidence in corpo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option 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risis of confidence in the marke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s re-stating their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 issues in large corpo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roportionate executive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able off-balance sheet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basic corporate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Infosys’ long history of principled corporate governance, conservative financial reporting and transparent corporate structures differentiates us in this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tock option accounting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 so fa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US companies, Indian corporates do not get tax benefits on employees exercising their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option accounting is a non-cash charge which does not alter the overall cash value of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-Scholes model based on historical volatility does not provide fair value of an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companies like Microsoft are against expens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We are internally debating this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arbanes-Oxley Ac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requires all CEOs / CFOs to personally swear to the veracity of their 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sys fully complies with the 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n a challenging business environment…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reduction in technology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I based IT investments by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outsourcing of technology and offshore becoming main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ing pric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ization of vendors and customers preference for large, end-to-end p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sys has continued to execute, flawlessly, without diluting the corporation’s core valu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Promise Vs Performanc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Guidance vs Performance - Quarterly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1532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Guidance vs Performance - Annua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1532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How did we do it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ue and cost proj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calibrating Cap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ing liqu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Revenue and cost projection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model gives us a good insight into our Clients’ plans /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21780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85% repeat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21780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d a state of the art pipeline visibility system – “InPip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21780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ior management is in close touch with key decision makers at important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21780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d several large Fortune 1000 corporations to the Client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-risked our operations by maintaining a disciplined mix of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costs budgeted on a conservative revenue assumption – automatic “stretch” built into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ly monitored during the course of the quarter / year, should mid-course corrections become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21780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investments critical for long term growth are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5181480"/>
            <a:ext cx="7924680" cy="9144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ost managemen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ed fixe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ry increase linked to attainment of company performance targets (70% of total increase linked to company performance last fis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variable component paid during last fi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costs by closely tying recruitment to business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in time 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ruitment based on business out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addition to employees by 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08:29:49Z</dcterms:created>
  <dc:creator>VINAYAKPV</dc:creator>
  <dc:description/>
  <dc:language>en-US</dc:language>
  <cp:lastModifiedBy>abhay_pawar</cp:lastModifiedBy>
  <dcterms:modified xsi:type="dcterms:W3CDTF">2002-08-27T05:28:41Z</dcterms:modified>
  <cp:revision>74</cp:revision>
  <dc:subject/>
  <dc:title>PowerPoint Presentation</dc:title>
</cp:coreProperties>
</file>