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C4B-7B7D-43F0-80C5-D85103BAD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CF8-4400-43AD-8E55-C16882F9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see convergence in this industry – while on the one hand you have, Infosys, an established Talent Magnet with High Quality Execution using the Global Delivery model, a “Customer First” culture and a lean cost structure. Infosys will have to make on-shore investments from its big cash hoard in sales and marketing / brand building, education and training in giving its employees a “consulting” mind-set and introduce services to offer a full line. It might also have to hire on-shore for building hi level relationships with clients / front-end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other hand, Global Majors will have to move to a leaner organization which use global delivery extensive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make the transition more easily? A lean and mean 10,000 employee organization or a fat and heavy 80,000 employee organization. I leave it for you to dec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33E-287D-4513-A562-E402A9F9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474-157F-43D4-B4B5-3C4E8A2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47E-C305-435F-8F0C-0DAD3348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BEB-B05D-4562-B478-213D7E56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37D-1F7B-410F-A614-8B6F204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EB5-28EF-4E72-B723-82A28E2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C39-707C-4B05-BE94-EA9C593E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EF2-40F0-48B6-B0F0-3F8E0432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95A-B221-4172-8288-E852C76F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90C-F618-4AF0-98E5-82AFE12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A01-51EB-4323-B6FF-227B394A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7AF-AD7E-4EBB-B85E-BFE35B3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CFA682F5-BFE7-41D7-830F-5AF0C04573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ving up to the promis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. Gopalakrishnan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ummary : Industry Convergence</a:t>
            </a:r>
            <a:br>
              <a:rPr sz="32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Who will win the race to the finish line?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133720"/>
            <a:ext cx="2209680" cy="434340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sy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ent mag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quality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ed Glob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firs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n Org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2133720"/>
            <a:ext cx="2209680" cy="4343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obal Major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ep, hi-level client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ymade solution-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ulting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d-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Book Antiqu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ll set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2209680"/>
            <a:ext cx="3504960" cy="2133720"/>
          </a:xfrm>
          <a:custGeom>
            <a:avLst/>
            <a:gdLst>
              <a:gd name="textAreaLeft" fmla="*/ 547560 w 3504960"/>
              <a:gd name="textAreaRight" fmla="*/ 3111480 w 3504960"/>
              <a:gd name="textAreaTop" fmla="*/ 288720 h 2133720"/>
              <a:gd name="textAreaBottom" fmla="*/ 1845000 h 2133720"/>
            </a:gdLst>
            <a:ahLst/>
            <a:rect l="textAreaLeft" t="textAreaTop" r="textAreaRight" b="textAreaBottom"/>
            <a:pathLst>
              <a:path w="21600" h="21600">
                <a:moveTo>
                  <a:pt x="3375" y="2925"/>
                </a:moveTo>
                <a:lnTo>
                  <a:pt x="18274" y="2925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8675"/>
                </a:lnTo>
                <a:lnTo>
                  <a:pt x="3375" y="18675"/>
                </a:lnTo>
                <a:close/>
              </a:path>
              <a:path w="21600" h="21600">
                <a:moveTo>
                  <a:pt x="0" y="2925"/>
                </a:moveTo>
                <a:lnTo>
                  <a:pt x="675" y="2925"/>
                </a:lnTo>
                <a:lnTo>
                  <a:pt x="675" y="18675"/>
                </a:lnTo>
                <a:lnTo>
                  <a:pt x="0" y="18675"/>
                </a:lnTo>
                <a:close/>
              </a:path>
              <a:path w="21600" h="21600">
                <a:moveTo>
                  <a:pt x="1350" y="2925"/>
                </a:moveTo>
                <a:lnTo>
                  <a:pt x="2700" y="2925"/>
                </a:lnTo>
                <a:lnTo>
                  <a:pt x="2700" y="18675"/>
                </a:lnTo>
                <a:lnTo>
                  <a:pt x="1350" y="18675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-shore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ucation an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ulting mind-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ll-line o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-shore h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2819520" y="4343040"/>
            <a:ext cx="3504960" cy="2133720"/>
          </a:xfrm>
          <a:custGeom>
            <a:avLst/>
            <a:gdLst>
              <a:gd name="textAreaLeft" fmla="*/ 547560 w 3504960"/>
              <a:gd name="textAreaRight" fmla="*/ 3111480 w 3504960"/>
              <a:gd name="textAreaTop" fmla="*/ 288720 h 2133720"/>
              <a:gd name="textAreaBottom" fmla="*/ 1845000 h 2133720"/>
            </a:gdLst>
            <a:ahLst/>
            <a:rect l="textAreaLeft" t="textAreaTop" r="textAreaRight" b="textAreaBottom"/>
            <a:pathLst>
              <a:path w="21600" h="21600">
                <a:moveTo>
                  <a:pt x="3375" y="2925"/>
                </a:moveTo>
                <a:lnTo>
                  <a:pt x="18274" y="2925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8675"/>
                </a:lnTo>
                <a:lnTo>
                  <a:pt x="3375" y="18675"/>
                </a:lnTo>
                <a:close/>
              </a:path>
              <a:path w="21600" h="21600">
                <a:moveTo>
                  <a:pt x="0" y="2925"/>
                </a:moveTo>
                <a:lnTo>
                  <a:pt x="675" y="2925"/>
                </a:lnTo>
                <a:lnTo>
                  <a:pt x="675" y="18675"/>
                </a:lnTo>
                <a:lnTo>
                  <a:pt x="0" y="18675"/>
                </a:lnTo>
                <a:close/>
              </a:path>
              <a:path w="21600" h="21600">
                <a:moveTo>
                  <a:pt x="1350" y="2925"/>
                </a:moveTo>
                <a:lnTo>
                  <a:pt x="2700" y="2925"/>
                </a:lnTo>
                <a:lnTo>
                  <a:pt x="2700" y="18675"/>
                </a:lnTo>
                <a:lnTo>
                  <a:pt x="1350" y="1867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fshore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 fat / shift C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-allocat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vest in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lve orgn.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lve bill-rate red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983-F9B2-46DA-A617-D8A5EEEBE054}" type="slidenum">
              <a:t>10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s made, promise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and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up the 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ing the service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 new services uniqu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ing a one-stop-shop face to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cture of the fu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D6F-A54A-4311-9889-89E6A1CF54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324480" y="2286000"/>
            <a:ext cx="1600200" cy="373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nomic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rofitable revenue growth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6440" y="1828800"/>
          <a:ext cx="774828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828800"/>
                    <a:ext cx="77482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981080" y="3621240"/>
            <a:ext cx="3581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895480"/>
            <a:ext cx="2361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2879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582400">
            <a:off x="3200040" y="3352320"/>
            <a:ext cx="2416320" cy="633600"/>
          </a:xfrm>
          <a:custGeom>
            <a:avLst/>
            <a:gdLst>
              <a:gd name="textAreaLeft" fmla="*/ 377280 w 2416320"/>
              <a:gd name="textAreaRight" fmla="*/ 2244960 w 2416320"/>
              <a:gd name="textAreaTop" fmla="*/ 137520 h 633600"/>
              <a:gd name="textAreaBottom" fmla="*/ 496080 h 633600"/>
            </a:gdLst>
            <a:ahLst/>
            <a:rect l="textAreaLeft" t="textAreaTop" r="textAreaRight" b="textAreaBottom"/>
            <a:pathLst>
              <a:path w="21600" h="21600">
                <a:moveTo>
                  <a:pt x="3375" y="4696"/>
                </a:moveTo>
                <a:lnTo>
                  <a:pt x="18885" y="4696"/>
                </a:lnTo>
                <a:lnTo>
                  <a:pt x="18885" y="0"/>
                </a:lnTo>
                <a:lnTo>
                  <a:pt x="21600" y="10800"/>
                </a:lnTo>
                <a:lnTo>
                  <a:pt x="18885" y="21600"/>
                </a:lnTo>
                <a:lnTo>
                  <a:pt x="18885" y="16904"/>
                </a:lnTo>
                <a:lnTo>
                  <a:pt x="3375" y="16904"/>
                </a:lnTo>
                <a:close/>
              </a:path>
              <a:path w="21600" h="21600">
                <a:moveTo>
                  <a:pt x="0" y="4696"/>
                </a:moveTo>
                <a:lnTo>
                  <a:pt x="675" y="4696"/>
                </a:lnTo>
                <a:lnTo>
                  <a:pt x="675" y="16904"/>
                </a:lnTo>
                <a:lnTo>
                  <a:pt x="0" y="16904"/>
                </a:lnTo>
                <a:close/>
              </a:path>
              <a:path w="21600" h="21600">
                <a:moveTo>
                  <a:pt x="1350" y="4696"/>
                </a:moveTo>
                <a:lnTo>
                  <a:pt x="2700" y="4696"/>
                </a:lnTo>
                <a:lnTo>
                  <a:pt x="2700" y="16904"/>
                </a:lnTo>
                <a:lnTo>
                  <a:pt x="1350" y="1690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18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GR = 5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920" y="6172200"/>
            <a:ext cx="29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Excluding one-time stock compensation 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F99-6F6A-4A97-9B27-148455DDAE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Understanding where the profits come from</a:t>
            </a:r>
            <a:br>
              <a:rPr sz="2800"/>
            </a:b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Data from Q1 FY 2002-03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216320"/>
            <a:ext cx="1371600" cy="182880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shor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35240"/>
            <a:ext cx="1371600" cy="1981080"/>
          </a:xfrm>
          <a:prstGeom prst="rect">
            <a:avLst/>
          </a:prstGeom>
          <a:solidFill>
            <a:srgbClr val="3366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sit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235240"/>
            <a:ext cx="1371600" cy="106668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site salaries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30192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520704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664240"/>
            <a:ext cx="1371600" cy="3808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shore salaries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207040"/>
            <a:ext cx="1371600" cy="457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ther direct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572000" y="5394240"/>
            <a:ext cx="1828800" cy="1006560"/>
          </a:xfrm>
          <a:prstGeom prst="borderCallout2">
            <a:avLst>
              <a:gd name="adj1" fmla="val 18750"/>
              <a:gd name="adj2" fmla="val -8333"/>
              <a:gd name="adj3" fmla="val 88643"/>
              <a:gd name="adj4" fmla="val 126388"/>
              <a:gd name="adj5" fmla="val 88800"/>
              <a:gd name="adj6" fmla="val 154166"/>
            </a:avLst>
          </a:prstGeom>
          <a:solidFill>
            <a:srgbClr val="cc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preciatio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direct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301920"/>
            <a:ext cx="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11560" y="3757680"/>
            <a:ext cx="11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Margi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4597560"/>
            <a:ext cx="1371600" cy="609480"/>
          </a:xfrm>
          <a:prstGeom prst="rect">
            <a:avLst/>
          </a:prstGeom>
          <a:solidFill>
            <a:srgbClr val="99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ther operating costs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705360" y="4749840"/>
            <a:ext cx="1981080" cy="1006560"/>
          </a:xfrm>
          <a:prstGeom prst="borderCallout2">
            <a:avLst>
              <a:gd name="adj1" fmla="val 18750"/>
              <a:gd name="adj2" fmla="val -8333"/>
              <a:gd name="adj3" fmla="val 88643"/>
              <a:gd name="adj4" fmla="val 125717"/>
              <a:gd name="adj5" fmla="val 88958"/>
              <a:gd name="adj6" fmla="val 172435"/>
            </a:avLst>
          </a:prstGeom>
          <a:solidFill>
            <a:srgbClr val="99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&amp;M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&amp;A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OP Charg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301920"/>
            <a:ext cx="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59756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30520"/>
            <a:ext cx="11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g. Margi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301920"/>
            <a:ext cx="1676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149640"/>
            <a:ext cx="1371600" cy="152280"/>
          </a:xfrm>
          <a:prstGeom prst="rect">
            <a:avLst/>
          </a:prstGeom>
          <a:solidFill>
            <a:srgbClr val="800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ther income 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3149640"/>
            <a:ext cx="1371600" cy="380880"/>
          </a:xfrm>
          <a:prstGeom prst="rect">
            <a:avLst/>
          </a:prstGeom>
          <a:solidFill>
            <a:srgbClr val="99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ax 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97560"/>
            <a:ext cx="27432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5920" y="3530520"/>
            <a:ext cx="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3743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In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D2B-D182-4604-BD18-B8A05FCA5439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oving up the value chai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828800"/>
            <a:ext cx="5143320" cy="2764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Partne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09960" y="3363840"/>
            <a:ext cx="2895480" cy="2917800"/>
            <a:chOff x="3009960" y="3363840"/>
            <a:chExt cx="2895480" cy="2917800"/>
          </a:xfrm>
        </p:grpSpPr>
        <p:sp>
          <p:nvSpPr>
            <p:cNvPr id="131" name=""/>
            <p:cNvSpPr/>
            <p:nvPr/>
          </p:nvSpPr>
          <p:spPr>
            <a:xfrm>
              <a:off x="4114800" y="6030720"/>
              <a:ext cx="1600200" cy="25092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0680" y="3363840"/>
              <a:ext cx="914400" cy="213336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91040" y="3363840"/>
              <a:ext cx="914400" cy="213336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9960" y="3963960"/>
              <a:ext cx="914400" cy="1533240"/>
            </a:xfrm>
            <a:prstGeom prst="rect">
              <a:avLst/>
            </a:prstGeom>
            <a:solidFill>
              <a:srgbClr val="99cc00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2120" y="3973680"/>
            <a:ext cx="2171520" cy="2307600"/>
            <a:chOff x="762120" y="3973680"/>
            <a:chExt cx="2171520" cy="2307600"/>
          </a:xfrm>
        </p:grpSpPr>
        <p:sp>
          <p:nvSpPr>
            <p:cNvPr id="136" name=""/>
            <p:cNvSpPr/>
            <p:nvPr/>
          </p:nvSpPr>
          <p:spPr>
            <a:xfrm>
              <a:off x="762120" y="6030720"/>
              <a:ext cx="1600200" cy="25056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981 - 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6960" y="3973680"/>
              <a:ext cx="1066680" cy="60624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4620960"/>
              <a:ext cx="2171520" cy="40464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5094000"/>
              <a:ext cx="2171520" cy="402840"/>
            </a:xfrm>
            <a:prstGeom prst="rect">
              <a:avLst/>
            </a:prstGeom>
            <a:solidFill>
              <a:srgbClr val="3333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-enginee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62120" y="2268360"/>
            <a:ext cx="5143320" cy="4013280"/>
            <a:chOff x="762120" y="2268360"/>
            <a:chExt cx="5143320" cy="4013280"/>
          </a:xfrm>
        </p:grpSpPr>
        <p:sp>
          <p:nvSpPr>
            <p:cNvPr id="141" name=""/>
            <p:cNvSpPr/>
            <p:nvPr/>
          </p:nvSpPr>
          <p:spPr>
            <a:xfrm>
              <a:off x="2438280" y="6030720"/>
              <a:ext cx="1600200" cy="25092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996 - 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2830320"/>
              <a:ext cx="5143320" cy="43344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erprise Architecture Defi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3947760"/>
              <a:ext cx="1028520" cy="62568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3363840"/>
              <a:ext cx="3162240" cy="53964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chnology-enabled BP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2268360"/>
              <a:ext cx="5143320" cy="43344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ted Business-IT Roadm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6431040" y="1752480"/>
          <a:ext cx="2332080" cy="33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1040" y="1752480"/>
                    <a:ext cx="233208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553080" y="525744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ices have expanded the addressable market by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D03-617C-4CA1-9B85-66E23442722A}" type="slidenum">
              <a:t>5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ystematic expansion of footpri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ven, defined methodology for introduction of new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rvices are delivered uniqu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s as a critical way to “stick to the knitting” while presenting unified end-to-end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ance partners are best in class, a true win-win 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e on what we do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ssively use global delivery for win-win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quality client interface team presents these services in an integrated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A8B-D8B6-4802-B416-49E108AA5B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2903400" y="3971880"/>
            <a:ext cx="3352680" cy="982800"/>
            <a:chOff x="2903400" y="3971880"/>
            <a:chExt cx="3352680" cy="982800"/>
          </a:xfrm>
        </p:grpSpPr>
        <p:sp>
          <p:nvSpPr>
            <p:cNvPr id="152" name=""/>
            <p:cNvSpPr/>
            <p:nvPr/>
          </p:nvSpPr>
          <p:spPr>
            <a:xfrm>
              <a:off x="2903400" y="3971880"/>
              <a:ext cx="3352680" cy="982800"/>
            </a:xfrm>
            <a:custGeom>
              <a:avLst/>
              <a:gdLst/>
              <a:ahLst/>
              <a:rect l="l" t="t" r="r" b="b"/>
              <a:pathLst>
                <a:path w="1670" h="528">
                  <a:moveTo>
                    <a:pt x="309" y="0"/>
                  </a:moveTo>
                  <a:lnTo>
                    <a:pt x="1365" y="0"/>
                  </a:lnTo>
                  <a:lnTo>
                    <a:pt x="1670" y="528"/>
                  </a:lnTo>
                  <a:lnTo>
                    <a:pt x="0" y="525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42960" y="4200480"/>
              <a:ext cx="242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eneric project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98520" y="2778120"/>
            <a:ext cx="1800" cy="2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18240" y="2778120"/>
            <a:ext cx="1800" cy="2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18240" y="5583240"/>
            <a:ext cx="1800" cy="2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316240"/>
            <a:ext cx="99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494000" y="2971800"/>
            <a:ext cx="2620800" cy="9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1440" y="1904760"/>
            <a:ext cx="677520" cy="4387320"/>
            <a:chOff x="541440" y="1904760"/>
            <a:chExt cx="677520" cy="4387320"/>
          </a:xfrm>
        </p:grpSpPr>
        <p:sp>
          <p:nvSpPr>
            <p:cNvPr id="160" name=""/>
            <p:cNvSpPr/>
            <p:nvPr/>
          </p:nvSpPr>
          <p:spPr>
            <a:xfrm rot="16200000">
              <a:off x="-1513800" y="3960000"/>
              <a:ext cx="438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zational Value Add / Employ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8960" y="2216160"/>
              <a:ext cx="0" cy="37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19320" y="3367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94000" y="3882960"/>
            <a:ext cx="2087280" cy="3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800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94000" y="5943600"/>
            <a:ext cx="7156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33680" y="3065400"/>
            <a:ext cx="2315880" cy="820440"/>
            <a:chOff x="3433680" y="3065400"/>
            <a:chExt cx="2315880" cy="820440"/>
          </a:xfrm>
        </p:grpSpPr>
        <p:sp>
          <p:nvSpPr>
            <p:cNvPr id="167" name=""/>
            <p:cNvSpPr/>
            <p:nvPr/>
          </p:nvSpPr>
          <p:spPr>
            <a:xfrm>
              <a:off x="3578040" y="3065400"/>
              <a:ext cx="2012760" cy="820440"/>
            </a:xfrm>
            <a:custGeom>
              <a:avLst/>
              <a:gdLst/>
              <a:ahLst/>
              <a:rect l="l" t="t" r="r" b="b"/>
              <a:pathLst>
                <a:path w="1002" h="440">
                  <a:moveTo>
                    <a:pt x="243" y="5"/>
                  </a:moveTo>
                  <a:lnTo>
                    <a:pt x="773" y="0"/>
                  </a:lnTo>
                  <a:lnTo>
                    <a:pt x="1002" y="440"/>
                  </a:lnTo>
                  <a:lnTo>
                    <a:pt x="0" y="440"/>
                  </a:lnTo>
                  <a:lnTo>
                    <a:pt x="243" y="5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33680" y="3171600"/>
              <a:ext cx="231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pecialty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T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57560" y="5049720"/>
            <a:ext cx="4628520" cy="893520"/>
            <a:chOff x="2257560" y="5049720"/>
            <a:chExt cx="4628520" cy="893520"/>
          </a:xfrm>
        </p:grpSpPr>
        <p:sp>
          <p:nvSpPr>
            <p:cNvPr id="170" name=""/>
            <p:cNvSpPr/>
            <p:nvPr/>
          </p:nvSpPr>
          <p:spPr>
            <a:xfrm>
              <a:off x="2257560" y="5049720"/>
              <a:ext cx="4628520" cy="893520"/>
            </a:xfrm>
            <a:custGeom>
              <a:avLst/>
              <a:gdLst/>
              <a:ahLst/>
              <a:rect l="l" t="t" r="r" b="b"/>
              <a:pathLst>
                <a:path w="2304" h="480">
                  <a:moveTo>
                    <a:pt x="0" y="480"/>
                  </a:moveTo>
                  <a:lnTo>
                    <a:pt x="2304" y="480"/>
                  </a:lnTo>
                  <a:lnTo>
                    <a:pt x="2016" y="0"/>
                  </a:lnTo>
                  <a:lnTo>
                    <a:pt x="288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30640" y="5335200"/>
              <a:ext cx="270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affing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391520" y="4114800"/>
            <a:ext cx="1523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st Offshore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4480" y="2668680"/>
            <a:ext cx="1091880" cy="45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SYS –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n G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4120" y="3354480"/>
            <a:ext cx="1366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obal Majors –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or no G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614560" y="3707280"/>
            <a:ext cx="1624320" cy="2251800"/>
            <a:chOff x="5614560" y="3707280"/>
            <a:chExt cx="1624320" cy="2251800"/>
          </a:xfrm>
        </p:grpSpPr>
        <p:sp>
          <p:nvSpPr>
            <p:cNvPr id="176" name=""/>
            <p:cNvSpPr/>
            <p:nvPr/>
          </p:nvSpPr>
          <p:spPr>
            <a:xfrm>
              <a:off x="6294600" y="4264200"/>
              <a:ext cx="944280" cy="533160"/>
            </a:xfrm>
            <a:custGeom>
              <a:avLst/>
              <a:gdLst/>
              <a:ahLst/>
              <a:rect l="l" t="t" r="r" b="b"/>
              <a:pathLst>
                <a:path w="1008" h="336">
                  <a:moveTo>
                    <a:pt x="0" y="288"/>
                  </a:moveTo>
                  <a:lnTo>
                    <a:pt x="288" y="0"/>
                  </a:lnTo>
                  <a:lnTo>
                    <a:pt x="1008" y="0"/>
                  </a:lnTo>
                  <a:lnTo>
                    <a:pt x="1008" y="48"/>
                  </a:lnTo>
                  <a:lnTo>
                    <a:pt x="336" y="48"/>
                  </a:lnTo>
                  <a:lnTo>
                    <a:pt x="48" y="33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3496800">
              <a:off x="5040000" y="4786200"/>
              <a:ext cx="2589480" cy="93600"/>
            </a:xfrm>
            <a:prstGeom prst="parallelogram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904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 : Butler Group, Infos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102200" y="2184480"/>
            <a:ext cx="5230800" cy="806400"/>
            <a:chOff x="4102200" y="2184480"/>
            <a:chExt cx="5230800" cy="806400"/>
          </a:xfrm>
        </p:grpSpPr>
        <p:sp>
          <p:nvSpPr>
            <p:cNvPr id="180" name=""/>
            <p:cNvSpPr/>
            <p:nvPr/>
          </p:nvSpPr>
          <p:spPr>
            <a:xfrm>
              <a:off x="4102200" y="2184480"/>
              <a:ext cx="963360" cy="8064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0" y="432"/>
                  </a:moveTo>
                  <a:lnTo>
                    <a:pt x="480" y="432"/>
                  </a:lnTo>
                  <a:lnTo>
                    <a:pt x="240" y="0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5200" y="2452680"/>
              <a:ext cx="201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y, consul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876560" y="2590920"/>
              <a:ext cx="2438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s a result, we have a unique position in the marketplac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831200" y="2873160"/>
            <a:ext cx="2787480" cy="2095560"/>
            <a:chOff x="4831200" y="2873160"/>
            <a:chExt cx="2787480" cy="2095560"/>
          </a:xfrm>
        </p:grpSpPr>
        <p:sp>
          <p:nvSpPr>
            <p:cNvPr id="185" name=""/>
            <p:cNvSpPr/>
            <p:nvPr/>
          </p:nvSpPr>
          <p:spPr>
            <a:xfrm rot="18295800">
              <a:off x="6935400" y="3035160"/>
              <a:ext cx="632160" cy="453960"/>
            </a:xfrm>
            <a:custGeom>
              <a:avLst/>
              <a:gdLst/>
              <a:ahLst/>
              <a:rect l="l" t="t" r="r" b="b"/>
              <a:pathLst>
                <a:path w="1008" h="336">
                  <a:moveTo>
                    <a:pt x="0" y="288"/>
                  </a:moveTo>
                  <a:lnTo>
                    <a:pt x="288" y="0"/>
                  </a:lnTo>
                  <a:lnTo>
                    <a:pt x="1008" y="0"/>
                  </a:lnTo>
                  <a:lnTo>
                    <a:pt x="1008" y="48"/>
                  </a:lnTo>
                  <a:lnTo>
                    <a:pt x="336" y="48"/>
                  </a:lnTo>
                  <a:lnTo>
                    <a:pt x="48" y="33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831200" y="2883600"/>
              <a:ext cx="2255400" cy="2085120"/>
              <a:chOff x="4831200" y="2883600"/>
              <a:chExt cx="2255400" cy="2085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334120" y="3197160"/>
                <a:ext cx="1752480" cy="612720"/>
              </a:xfrm>
              <a:custGeom>
                <a:avLst/>
                <a:gdLst/>
                <a:ahLst/>
                <a:rect l="l" t="t" r="r" b="b"/>
                <a:pathLst>
                  <a:path w="1008" h="336">
                    <a:moveTo>
                      <a:pt x="0" y="288"/>
                    </a:moveTo>
                    <a:lnTo>
                      <a:pt x="288" y="0"/>
                    </a:lnTo>
                    <a:lnTo>
                      <a:pt x="1008" y="0"/>
                    </a:lnTo>
                    <a:lnTo>
                      <a:pt x="1008" y="48"/>
                    </a:lnTo>
                    <a:lnTo>
                      <a:pt x="336" y="48"/>
                    </a:lnTo>
                    <a:lnTo>
                      <a:pt x="48" y="336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3496800">
                <a:off x="4299840" y="3882240"/>
                <a:ext cx="2397240" cy="87120"/>
              </a:xfrm>
              <a:prstGeom prst="parallelogram">
                <a:avLst>
                  <a:gd name="adj" fmla="val 0"/>
                </a:avLst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8FC-7BBD-4CC5-88CA-31522B3BAFFD}" type="slidenum">
              <a:t>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 glimpse into the future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consolidation – fewer, end-to-en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ourcing becoming ubiquitous – changing role of the CIO and his / h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Delivery is a necessary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risk (perceived and actual) i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7D6-4065-4D87-8DFE-8EC03787B2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nd our response…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becoming an end-to-end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“large deal” cross-functional team for such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losely with outsourcing consultants to build consensus for and thought leadership in  outsour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so enables “sole-sourc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ly leveraging GDM in al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brand and financial stability reduce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EDC-085B-4F45-BC83-EFD9424FFB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VINAYAKPV</cp:lastModifiedBy>
  <dcterms:modified xsi:type="dcterms:W3CDTF">2002-08-28T10:34:38Z</dcterms:modified>
  <cp:revision>21</cp:revision>
  <dc:subject/>
  <dc:title>Keeping the promise</dc:title>
</cp:coreProperties>
</file>