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DBE71-22E4-4C72-83F8-B87F93D40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8EE510D6-3285-4A89-A973-4F70EA926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5F526274-C3E8-4840-9B40-B2F0B9390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B9C267D2-ABCB-4832-BB80-D436427F4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A5E3D2-EB69-4B8A-AE91-3495C5FE6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76F140-D5A2-42EB-9B63-2A280EB7D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55C447-ACEE-4836-8A02-A5B21EC3B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7BEA21-4FC4-444D-9CA9-6918775FB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4D5AC2-6259-4515-A4A3-5715BB30B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5506B5-4900-4EF5-B562-968BBD978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C072B3-F770-474B-9CC4-65B4ECFC6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B786888-D795-4928-8702-3F49E86F97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AE2DA0-9AD6-42DE-92D8-3CB19F4A7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B68BD-7A9A-404C-8685-1E21087EC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90D901-7F6B-4A92-94B9-7B62705F8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21AC3A-CE22-47AA-B9D3-3C5DE1C6C5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2000"/>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1C1FC2-4A34-4ECF-83AF-99FEDEDA6D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558BA34-9E88-4249-B22A-E041CEDB4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29EB38A1-E343-4E0B-83DD-45C57BE514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B59F3922-E498-4446-9453-04991AD6E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33EB512-B58D-45F9-9041-E147C0C2E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48016FBA-7813-4B92-8D8F-4BA1BD95E3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DC89A789-4FD8-4186-B779-46AAD45FF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A2278861-129D-4DE0-8A2C-B7E69C507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7AD2-2391-431B-9E7F-19425028CA1D}" type="datetime">
              <a:rPr b="0" lang="en-US" sz="1400" spc="-1" strike="noStrike">
                <a:solidFill>
                  <a:srgbClr val="000000"/>
                </a:solidFill>
                <a:latin typeface="Arial"/>
                <a:ea typeface="Arial"/>
              </a:rPr>
              <a:t>07/29/26</a:t>
            </a:fld>
            <a:endParaRPr b="0" lang="en-US" sz="1400" spc="-1" strike="noStrike">
              <a:solidFill>
                <a:srgbClr val="000000"/>
              </a:solidFill>
              <a:latin typeface="Arial"/>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ED8D-07B5-4E2F-9B98-89EB046C0B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grpSp>
        <p:nvGrpSpPr>
          <p:cNvPr id="4" name=""/>
          <p:cNvGrpSpPr/>
          <p:nvPr/>
        </p:nvGrpSpPr>
        <p:grpSpPr>
          <a:xfrm>
            <a:off x="457200" y="76320"/>
            <a:ext cx="696600" cy="256680"/>
            <a:chOff x="457200" y="76320"/>
            <a:chExt cx="696600" cy="256680"/>
          </a:xfrm>
        </p:grpSpPr>
        <p:sp>
          <p:nvSpPr>
            <p:cNvPr id="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0" name="PlaceHolder 2"/>
          <p:cNvSpPr>
            <a:spLocks noGrp="1"/>
          </p:cNvSpPr>
          <p:nvPr>
            <p:ph type="body"/>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lnSpc>
                <a:spcPct val="12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1" name="PlaceHolder 3"/>
          <p:cNvSpPr>
            <a:spLocks noGrp="1"/>
          </p:cNvSpPr>
          <p:nvPr>
            <p:ph type="sldNum" idx="1"/>
          </p:nvPr>
        </p:nvSpPr>
        <p:spPr>
          <a:xfrm>
            <a:off x="7009920" y="6629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Slide </a:t>
            </a:r>
            <a:fld id="{2F640AA3-9335-41B5-BBB6-507BAE9E7EA4}" type="slidenum">
              <a:rPr b="0" lang="en-US" sz="1000" spc="-1" strike="noStrike">
                <a:solidFill>
                  <a:srgbClr val="dddddd"/>
                </a:solidFill>
                <a:latin typeface="Arial"/>
              </a:rPr>
              <a:t>&lt;number&gt;</a:t>
            </a:fld>
            <a:endParaRPr b="0" lang="en-US" sz="1000" spc="-1" strike="noStrike">
              <a:solidFill>
                <a:srgbClr val="000000"/>
              </a:solidFill>
              <a:latin typeface="Arial"/>
            </a:endParaRPr>
          </a:p>
        </p:txBody>
      </p:sp>
      <p:sp>
        <p:nvSpPr>
          <p:cNvPr id="1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50"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90E4-6B99-4AF0-9499-536D96FA27D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1"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F8FF-2B14-4EC3-874D-4CD7B1055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5688000" y="3365640"/>
            <a:ext cx="3456000" cy="5000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 Outline Level</a:t>
            </a:r>
            <a:endParaRPr b="0" lang="en-US" sz="22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file://ITLINFOSYSWEB/WWWROOT/Sandeep/International%20tax/Miscellanous/FY%2003/Q2%20FY%2003/www.sec.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2895480" y="1066680"/>
            <a:ext cx="556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19720" y="3962520"/>
            <a:ext cx="3886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96" name=""/>
          <p:cNvGrpSpPr/>
          <p:nvPr/>
        </p:nvGrpSpPr>
        <p:grpSpPr>
          <a:xfrm>
            <a:off x="7467480" y="244440"/>
            <a:ext cx="1524240" cy="593280"/>
            <a:chOff x="7467480" y="244440"/>
            <a:chExt cx="1524240" cy="593280"/>
          </a:xfrm>
        </p:grpSpPr>
        <p:sp>
          <p:nvSpPr>
            <p:cNvPr id="97" name=""/>
            <p:cNvSpPr/>
            <p:nvPr/>
          </p:nvSpPr>
          <p:spPr>
            <a:xfrm>
              <a:off x="7857360" y="786240"/>
              <a:ext cx="28800" cy="51480"/>
            </a:xfrm>
            <a:custGeom>
              <a:avLst/>
              <a:gdLst/>
              <a:ahLst/>
              <a:rect l="l" t="t" r="r" b="b"/>
              <a:pathLst>
                <a:path w="13" h="23">
                  <a:moveTo>
                    <a:pt x="2" y="1"/>
                  </a:moveTo>
                  <a:lnTo>
                    <a:pt x="4" y="1"/>
                  </a:lnTo>
                  <a:cubicBezTo>
                    <a:pt x="10" y="1"/>
                    <a:pt x="11" y="3"/>
                    <a:pt x="11" y="10"/>
                  </a:cubicBezTo>
                  <a:cubicBezTo>
                    <a:pt x="11" y="19"/>
                    <a:pt x="10" y="21"/>
                    <a:pt x="4" y="21"/>
                  </a:cubicBezTo>
                  <a:lnTo>
                    <a:pt x="2" y="21"/>
                  </a:lnTo>
                  <a:lnTo>
                    <a:pt x="2" y="1"/>
                  </a:lnTo>
                  <a:moveTo>
                    <a:pt x="0" y="23"/>
                  </a:moveTo>
                  <a:lnTo>
                    <a:pt x="5" y="23"/>
                  </a:lnTo>
                  <a:cubicBezTo>
                    <a:pt x="12" y="23"/>
                    <a:pt x="13" y="19"/>
                    <a:pt x="13" y="11"/>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 name=""/>
            <p:cNvSpPr/>
            <p:nvPr/>
          </p:nvSpPr>
          <p:spPr>
            <a:xfrm>
              <a:off x="7939080" y="786240"/>
              <a:ext cx="27000" cy="51480"/>
            </a:xfrm>
            <a:custGeom>
              <a:avLst/>
              <a:gdLst/>
              <a:ahLst/>
              <a:rect l="l" t="t" r="r" b="b"/>
              <a:pathLst>
                <a:path w="12" h="23">
                  <a:moveTo>
                    <a:pt x="6" y="12"/>
                  </a:moveTo>
                  <a:cubicBezTo>
                    <a:pt x="10" y="12"/>
                    <a:pt x="9" y="16"/>
                    <a:pt x="9" y="17"/>
                  </a:cubicBezTo>
                  <a:cubicBezTo>
                    <a:pt x="9" y="18"/>
                    <a:pt x="9" y="22"/>
                    <a:pt x="10" y="23"/>
                  </a:cubicBezTo>
                  <a:lnTo>
                    <a:pt x="12" y="23"/>
                  </a:lnTo>
                  <a:cubicBezTo>
                    <a:pt x="12" y="22"/>
                    <a:pt x="11" y="21"/>
                    <a:pt x="11" y="20"/>
                  </a:cubicBezTo>
                  <a:cubicBezTo>
                    <a:pt x="11" y="12"/>
                    <a:pt x="11" y="11"/>
                    <a:pt x="8" y="11"/>
                  </a:cubicBezTo>
                  <a:lnTo>
                    <a:pt x="8" y="11"/>
                  </a:lnTo>
                  <a:cubicBezTo>
                    <a:pt x="11" y="10"/>
                    <a:pt x="12" y="8"/>
                    <a:pt x="12" y="5"/>
                  </a:cubicBezTo>
                  <a:cubicBezTo>
                    <a:pt x="12" y="1"/>
                    <a:pt x="10" y="0"/>
                    <a:pt x="6" y="0"/>
                  </a:cubicBezTo>
                  <a:lnTo>
                    <a:pt x="0" y="0"/>
                  </a:lnTo>
                  <a:lnTo>
                    <a:pt x="0" y="23"/>
                  </a:lnTo>
                  <a:lnTo>
                    <a:pt x="2" y="23"/>
                  </a:lnTo>
                  <a:lnTo>
                    <a:pt x="2" y="12"/>
                  </a:lnTo>
                  <a:lnTo>
                    <a:pt x="6" y="12"/>
                  </a:lnTo>
                  <a:moveTo>
                    <a:pt x="2" y="1"/>
                  </a:moveTo>
                  <a:lnTo>
                    <a:pt x="6" y="1"/>
                  </a:lnTo>
                  <a:cubicBezTo>
                    <a:pt x="8" y="1"/>
                    <a:pt x="10" y="2"/>
                    <a:pt x="10" y="5"/>
                  </a:cubicBezTo>
                  <a:cubicBezTo>
                    <a:pt x="10" y="9"/>
                    <a:pt x="8" y="10"/>
                    <a:pt x="5" y="10"/>
                  </a:cubicBezTo>
                  <a:lnTo>
                    <a:pt x="2" y="10"/>
                  </a:lnTo>
                  <a:lnTo>
                    <a:pt x="2" y="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 name=""/>
            <p:cNvSpPr/>
            <p:nvPr/>
          </p:nvSpPr>
          <p:spPr>
            <a:xfrm>
              <a:off x="8015760" y="78624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
            <p:cNvSpPr/>
            <p:nvPr/>
          </p:nvSpPr>
          <p:spPr>
            <a:xfrm>
              <a:off x="806796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151840" y="786240"/>
              <a:ext cx="24840" cy="51480"/>
            </a:xfrm>
            <a:custGeom>
              <a:avLst/>
              <a:gdLst/>
              <a:ahLst/>
              <a:rect l="l" t="t" r="r" b="b"/>
              <a:pathLst>
                <a:path w="11" h="23">
                  <a:moveTo>
                    <a:pt x="0" y="0"/>
                  </a:moveTo>
                  <a:lnTo>
                    <a:pt x="0" y="23"/>
                  </a:lnTo>
                  <a:lnTo>
                    <a:pt x="11" y="23"/>
                  </a:lnTo>
                  <a:lnTo>
                    <a:pt x="11"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2" name=""/>
            <p:cNvSpPr/>
            <p:nvPr/>
          </p:nvSpPr>
          <p:spPr>
            <a:xfrm>
              <a:off x="8224920" y="786240"/>
              <a:ext cx="33840" cy="51480"/>
            </a:xfrm>
            <a:custGeom>
              <a:avLst/>
              <a:gdLst/>
              <a:ahLst/>
              <a:rect l="l" t="t" r="r" b="b"/>
              <a:pathLst>
                <a:path w="15" h="23">
                  <a:moveTo>
                    <a:pt x="2" y="23"/>
                  </a:moveTo>
                  <a:lnTo>
                    <a:pt x="2" y="2"/>
                  </a:lnTo>
                  <a:lnTo>
                    <a:pt x="3" y="2"/>
                  </a:lnTo>
                  <a:lnTo>
                    <a:pt x="12" y="23"/>
                  </a:lnTo>
                  <a:lnTo>
                    <a:pt x="15" y="23"/>
                  </a:lnTo>
                  <a:lnTo>
                    <a:pt x="15" y="0"/>
                  </a:lnTo>
                  <a:lnTo>
                    <a:pt x="13" y="0"/>
                  </a:lnTo>
                  <a:lnTo>
                    <a:pt x="13" y="20"/>
                  </a:lnTo>
                  <a:lnTo>
                    <a:pt x="13" y="20"/>
                  </a:lnTo>
                  <a:lnTo>
                    <a:pt x="4"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3" name=""/>
            <p:cNvSpPr/>
            <p:nvPr/>
          </p:nvSpPr>
          <p:spPr>
            <a:xfrm>
              <a:off x="8367840" y="786240"/>
              <a:ext cx="28800" cy="51480"/>
            </a:xfrm>
            <a:custGeom>
              <a:avLst/>
              <a:gdLst/>
              <a:ahLst/>
              <a:rect l="l" t="t" r="r" b="b"/>
              <a:pathLst>
                <a:path w="13" h="23">
                  <a:moveTo>
                    <a:pt x="2" y="10"/>
                  </a:moveTo>
                  <a:lnTo>
                    <a:pt x="2" y="1"/>
                  </a:lnTo>
                  <a:lnTo>
                    <a:pt x="6" y="1"/>
                  </a:lnTo>
                  <a:cubicBezTo>
                    <a:pt x="8" y="1"/>
                    <a:pt x="10" y="2"/>
                    <a:pt x="10" y="5"/>
                  </a:cubicBezTo>
                  <a:cubicBezTo>
                    <a:pt x="10" y="8"/>
                    <a:pt x="9" y="10"/>
                    <a:pt x="6" y="10"/>
                  </a:cubicBezTo>
                  <a:lnTo>
                    <a:pt x="2" y="10"/>
                  </a:lnTo>
                  <a:moveTo>
                    <a:pt x="7" y="23"/>
                  </a:moveTo>
                  <a:cubicBezTo>
                    <a:pt x="11" y="23"/>
                    <a:pt x="13" y="21"/>
                    <a:pt x="13" y="16"/>
                  </a:cubicBezTo>
                  <a:cubicBezTo>
                    <a:pt x="13" y="13"/>
                    <a:pt x="12" y="11"/>
                    <a:pt x="9" y="11"/>
                  </a:cubicBezTo>
                  <a:lnTo>
                    <a:pt x="9" y="11"/>
                  </a:lnTo>
                  <a:cubicBezTo>
                    <a:pt x="12" y="10"/>
                    <a:pt x="12" y="8"/>
                    <a:pt x="12" y="5"/>
                  </a:cubicBezTo>
                  <a:cubicBezTo>
                    <a:pt x="12" y="1"/>
                    <a:pt x="10" y="0"/>
                    <a:pt x="7" y="0"/>
                  </a:cubicBezTo>
                  <a:lnTo>
                    <a:pt x="0" y="0"/>
                  </a:lnTo>
                  <a:lnTo>
                    <a:pt x="0" y="23"/>
                  </a:lnTo>
                  <a:lnTo>
                    <a:pt x="7" y="23"/>
                  </a:lnTo>
                  <a:moveTo>
                    <a:pt x="2" y="12"/>
                  </a:moveTo>
                  <a:lnTo>
                    <a:pt x="7" y="12"/>
                  </a:lnTo>
                  <a:cubicBezTo>
                    <a:pt x="10" y="12"/>
                    <a:pt x="11" y="14"/>
                    <a:pt x="11" y="17"/>
                  </a:cubicBezTo>
                  <a:cubicBezTo>
                    <a:pt x="11" y="20"/>
                    <a:pt x="9" y="21"/>
                    <a:pt x="6" y="21"/>
                  </a:cubicBezTo>
                  <a:lnTo>
                    <a:pt x="2" y="21"/>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4" name=""/>
            <p:cNvSpPr/>
            <p:nvPr/>
          </p:nvSpPr>
          <p:spPr>
            <a:xfrm>
              <a:off x="8442360" y="786240"/>
              <a:ext cx="33840" cy="51480"/>
            </a:xfrm>
            <a:custGeom>
              <a:avLst/>
              <a:gdLst/>
              <a:ahLst/>
              <a:rect l="l" t="t" r="r" b="b"/>
              <a:pathLst>
                <a:path w="15" h="23">
                  <a:moveTo>
                    <a:pt x="6" y="23"/>
                  </a:moveTo>
                  <a:lnTo>
                    <a:pt x="8" y="23"/>
                  </a:lnTo>
                  <a:lnTo>
                    <a:pt x="8" y="13"/>
                  </a:lnTo>
                  <a:lnTo>
                    <a:pt x="15" y="0"/>
                  </a:lnTo>
                  <a:lnTo>
                    <a:pt x="13" y="0"/>
                  </a:lnTo>
                  <a:lnTo>
                    <a:pt x="7" y="11"/>
                  </a:lnTo>
                  <a:lnTo>
                    <a:pt x="2" y="0"/>
                  </a:lnTo>
                  <a:lnTo>
                    <a:pt x="0" y="0"/>
                  </a:lnTo>
                  <a:lnTo>
                    <a:pt x="6" y="13"/>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5" name=""/>
            <p:cNvSpPr/>
            <p:nvPr/>
          </p:nvSpPr>
          <p:spPr>
            <a:xfrm>
              <a:off x="8576280" y="786240"/>
              <a:ext cx="36360" cy="51480"/>
            </a:xfrm>
            <a:custGeom>
              <a:avLst/>
              <a:gdLst/>
              <a:ahLst/>
              <a:rect l="l" t="t" r="r" b="b"/>
              <a:pathLst>
                <a:path w="16" h="23">
                  <a:moveTo>
                    <a:pt x="8" y="20"/>
                  </a:moveTo>
                  <a:lnTo>
                    <a:pt x="8" y="20"/>
                  </a:lnTo>
                  <a:lnTo>
                    <a:pt x="3" y="0"/>
                  </a:lnTo>
                  <a:lnTo>
                    <a:pt x="0" y="0"/>
                  </a:lnTo>
                  <a:lnTo>
                    <a:pt x="7" y="23"/>
                  </a:lnTo>
                  <a:lnTo>
                    <a:pt x="9" y="23"/>
                  </a:lnTo>
                  <a:lnTo>
                    <a:pt x="16" y="0"/>
                  </a:lnTo>
                  <a:lnTo>
                    <a:pt x="14" y="0"/>
                  </a:lnTo>
                  <a:lnTo>
                    <a:pt x="8" y="2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6" name=""/>
            <p:cNvSpPr/>
            <p:nvPr/>
          </p:nvSpPr>
          <p:spPr>
            <a:xfrm>
              <a:off x="8652960" y="786240"/>
              <a:ext cx="38520" cy="51480"/>
            </a:xfrm>
            <a:custGeom>
              <a:avLst/>
              <a:gdLst/>
              <a:ahLst/>
              <a:rect l="l" t="t" r="r" b="b"/>
              <a:pathLst>
                <a:path w="17" h="23">
                  <a:moveTo>
                    <a:pt x="7" y="0"/>
                  </a:moveTo>
                  <a:lnTo>
                    <a:pt x="0" y="23"/>
                  </a:lnTo>
                  <a:lnTo>
                    <a:pt x="2" y="23"/>
                  </a:lnTo>
                  <a:lnTo>
                    <a:pt x="4" y="17"/>
                  </a:lnTo>
                  <a:lnTo>
                    <a:pt x="13" y="17"/>
                  </a:lnTo>
                  <a:lnTo>
                    <a:pt x="14" y="23"/>
                  </a:lnTo>
                  <a:lnTo>
                    <a:pt x="17" y="23"/>
                  </a:lnTo>
                  <a:lnTo>
                    <a:pt x="9" y="0"/>
                  </a:lnTo>
                  <a:lnTo>
                    <a:pt x="7" y="0"/>
                  </a:lnTo>
                  <a:moveTo>
                    <a:pt x="4" y="15"/>
                  </a:moveTo>
                  <a:lnTo>
                    <a:pt x="8" y="2"/>
                  </a:lnTo>
                  <a:lnTo>
                    <a:pt x="8" y="2"/>
                  </a:lnTo>
                  <a:lnTo>
                    <a:pt x="12" y="15"/>
                  </a:lnTo>
                  <a:lnTo>
                    <a:pt x="4" y="15"/>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7" name=""/>
            <p:cNvSpPr/>
            <p:nvPr/>
          </p:nvSpPr>
          <p:spPr>
            <a:xfrm>
              <a:off x="8739720" y="786240"/>
              <a:ext cx="20520" cy="51480"/>
            </a:xfrm>
            <a:custGeom>
              <a:avLst/>
              <a:gdLst/>
              <a:ahLst/>
              <a:rect l="l" t="t" r="r" b="b"/>
              <a:pathLst>
                <a:path w="9" h="23">
                  <a:moveTo>
                    <a:pt x="9" y="23"/>
                  </a:moveTo>
                  <a:lnTo>
                    <a:pt x="9" y="21"/>
                  </a:lnTo>
                  <a:lnTo>
                    <a:pt x="2" y="21"/>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 name=""/>
            <p:cNvSpPr/>
            <p:nvPr/>
          </p:nvSpPr>
          <p:spPr>
            <a:xfrm>
              <a:off x="8807760" y="786240"/>
              <a:ext cx="31680" cy="51480"/>
            </a:xfrm>
            <a:custGeom>
              <a:avLst/>
              <a:gdLst/>
              <a:ahLst/>
              <a:rect l="l" t="t" r="r" b="b"/>
              <a:pathLst>
                <a:path w="14" h="23">
                  <a:moveTo>
                    <a:pt x="2" y="0"/>
                  </a:moveTo>
                  <a:lnTo>
                    <a:pt x="0" y="0"/>
                  </a:lnTo>
                  <a:lnTo>
                    <a:pt x="0" y="16"/>
                  </a:lnTo>
                  <a:cubicBezTo>
                    <a:pt x="0" y="22"/>
                    <a:pt x="3" y="23"/>
                    <a:pt x="7" y="23"/>
                  </a:cubicBezTo>
                  <a:cubicBezTo>
                    <a:pt x="11" y="23"/>
                    <a:pt x="14" y="22"/>
                    <a:pt x="14" y="16"/>
                  </a:cubicBezTo>
                  <a:lnTo>
                    <a:pt x="14" y="0"/>
                  </a:lnTo>
                  <a:lnTo>
                    <a:pt x="12" y="0"/>
                  </a:lnTo>
                  <a:lnTo>
                    <a:pt x="12" y="14"/>
                  </a:lnTo>
                  <a:cubicBezTo>
                    <a:pt x="12" y="17"/>
                    <a:pt x="12" y="22"/>
                    <a:pt x="7" y="22"/>
                  </a:cubicBezTo>
                  <a:cubicBezTo>
                    <a:pt x="2" y="22"/>
                    <a:pt x="2" y="17"/>
                    <a:pt x="2" y="14"/>
                  </a:cubicBezTo>
                  <a:lnTo>
                    <a:pt x="2"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 name=""/>
            <p:cNvSpPr/>
            <p:nvPr/>
          </p:nvSpPr>
          <p:spPr>
            <a:xfrm>
              <a:off x="8892000" y="786240"/>
              <a:ext cx="21960" cy="51480"/>
            </a:xfrm>
            <a:custGeom>
              <a:avLst/>
              <a:gdLst/>
              <a:ahLst/>
              <a:rect l="l" t="t" r="r" b="b"/>
              <a:pathLst>
                <a:path w="10" h="23">
                  <a:moveTo>
                    <a:pt x="0" y="0"/>
                  </a:moveTo>
                  <a:lnTo>
                    <a:pt x="0" y="23"/>
                  </a:lnTo>
                  <a:lnTo>
                    <a:pt x="10" y="23"/>
                  </a:lnTo>
                  <a:lnTo>
                    <a:pt x="10" y="21"/>
                  </a:lnTo>
                  <a:lnTo>
                    <a:pt x="2" y="21"/>
                  </a:lnTo>
                  <a:lnTo>
                    <a:pt x="2" y="12"/>
                  </a:lnTo>
                  <a:lnTo>
                    <a:pt x="10" y="12"/>
                  </a:lnTo>
                  <a:lnTo>
                    <a:pt x="10" y="10"/>
                  </a:lnTo>
                  <a:lnTo>
                    <a:pt x="2" y="10"/>
                  </a:lnTo>
                  <a:lnTo>
                    <a:pt x="2" y="1"/>
                  </a:lnTo>
                  <a:lnTo>
                    <a:pt x="10" y="1"/>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 name=""/>
            <p:cNvSpPr/>
            <p:nvPr/>
          </p:nvSpPr>
          <p:spPr>
            <a:xfrm>
              <a:off x="8962200" y="784080"/>
              <a:ext cx="29520" cy="53640"/>
            </a:xfrm>
            <a:custGeom>
              <a:avLst/>
              <a:gdLst/>
              <a:ahLst/>
              <a:rect l="l" t="t" r="r" b="b"/>
              <a:pathLst>
                <a:path w="13" h="24">
                  <a:moveTo>
                    <a:pt x="13" y="7"/>
                  </a:moveTo>
                  <a:cubicBezTo>
                    <a:pt x="13" y="3"/>
                    <a:pt x="12" y="0"/>
                    <a:pt x="7" y="0"/>
                  </a:cubicBezTo>
                  <a:cubicBezTo>
                    <a:pt x="3" y="0"/>
                    <a:pt x="1" y="2"/>
                    <a:pt x="1" y="6"/>
                  </a:cubicBezTo>
                  <a:cubicBezTo>
                    <a:pt x="1" y="8"/>
                    <a:pt x="1" y="10"/>
                    <a:pt x="6" y="12"/>
                  </a:cubicBezTo>
                  <a:cubicBezTo>
                    <a:pt x="9" y="14"/>
                    <a:pt x="11" y="15"/>
                    <a:pt x="11" y="18"/>
                  </a:cubicBezTo>
                  <a:cubicBezTo>
                    <a:pt x="11" y="21"/>
                    <a:pt x="10" y="23"/>
                    <a:pt x="7" y="23"/>
                  </a:cubicBezTo>
                  <a:cubicBezTo>
                    <a:pt x="3" y="23"/>
                    <a:pt x="3" y="20"/>
                    <a:pt x="3" y="17"/>
                  </a:cubicBezTo>
                  <a:lnTo>
                    <a:pt x="0" y="17"/>
                  </a:lnTo>
                  <a:cubicBezTo>
                    <a:pt x="0" y="22"/>
                    <a:pt x="2" y="24"/>
                    <a:pt x="7" y="24"/>
                  </a:cubicBezTo>
                  <a:cubicBezTo>
                    <a:pt x="11" y="24"/>
                    <a:pt x="13" y="22"/>
                    <a:pt x="13" y="18"/>
                  </a:cubicBezTo>
                  <a:cubicBezTo>
                    <a:pt x="13" y="14"/>
                    <a:pt x="10" y="13"/>
                    <a:pt x="7" y="11"/>
                  </a:cubicBezTo>
                  <a:cubicBezTo>
                    <a:pt x="5" y="9"/>
                    <a:pt x="3" y="9"/>
                    <a:pt x="3" y="6"/>
                  </a:cubicBezTo>
                  <a:cubicBezTo>
                    <a:pt x="3" y="3"/>
                    <a:pt x="4" y="2"/>
                    <a:pt x="7" y="2"/>
                  </a:cubicBezTo>
                  <a:cubicBezTo>
                    <a:pt x="10" y="2"/>
                    <a:pt x="11" y="4"/>
                    <a:pt x="11" y="7"/>
                  </a:cubicBezTo>
                  <a:lnTo>
                    <a:pt x="13" y="7"/>
                  </a:ln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 name=""/>
            <p:cNvSpPr/>
            <p:nvPr/>
          </p:nvSpPr>
          <p:spPr>
            <a:xfrm>
              <a:off x="7467480" y="677880"/>
              <a:ext cx="26280" cy="51480"/>
            </a:xfrm>
            <a:custGeom>
              <a:avLst/>
              <a:gdLst/>
              <a:ahLst/>
              <a:rect l="l" t="t" r="r" b="b"/>
              <a:pathLst>
                <a:path w="12" h="23">
                  <a:moveTo>
                    <a:pt x="0" y="23"/>
                  </a:moveTo>
                  <a:lnTo>
                    <a:pt x="2" y="23"/>
                  </a:lnTo>
                  <a:lnTo>
                    <a:pt x="2" y="13"/>
                  </a:lnTo>
                  <a:lnTo>
                    <a:pt x="6" y="13"/>
                  </a:lnTo>
                  <a:cubicBezTo>
                    <a:pt x="10" y="13"/>
                    <a:pt x="12" y="11"/>
                    <a:pt x="12" y="6"/>
                  </a:cubicBezTo>
                  <a:cubicBezTo>
                    <a:pt x="12" y="1"/>
                    <a:pt x="8" y="0"/>
                    <a:pt x="7" y="0"/>
                  </a:cubicBezTo>
                  <a:lnTo>
                    <a:pt x="0" y="0"/>
                  </a:lnTo>
                  <a:lnTo>
                    <a:pt x="0" y="23"/>
                  </a:lnTo>
                  <a:moveTo>
                    <a:pt x="2" y="2"/>
                  </a:moveTo>
                  <a:lnTo>
                    <a:pt x="6" y="2"/>
                  </a:lnTo>
                  <a:cubicBezTo>
                    <a:pt x="8" y="2"/>
                    <a:pt x="10" y="2"/>
                    <a:pt x="10" y="6"/>
                  </a:cubicBezTo>
                  <a:cubicBezTo>
                    <a:pt x="10" y="10"/>
                    <a:pt x="8" y="11"/>
                    <a:pt x="6" y="11"/>
                  </a:cubicBezTo>
                  <a:lnTo>
                    <a:pt x="2" y="11"/>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2" name=""/>
            <p:cNvSpPr/>
            <p:nvPr/>
          </p:nvSpPr>
          <p:spPr>
            <a:xfrm>
              <a:off x="7539480" y="677880"/>
              <a:ext cx="33840" cy="53640"/>
            </a:xfrm>
            <a:custGeom>
              <a:avLst/>
              <a:gdLst/>
              <a:ahLst/>
              <a:rect l="l" t="t" r="r" b="b"/>
              <a:pathLst>
                <a:path w="15" h="24">
                  <a:moveTo>
                    <a:pt x="7" y="22"/>
                  </a:moveTo>
                  <a:cubicBezTo>
                    <a:pt x="2" y="22"/>
                    <a:pt x="2" y="18"/>
                    <a:pt x="2" y="12"/>
                  </a:cubicBezTo>
                  <a:cubicBezTo>
                    <a:pt x="2" y="6"/>
                    <a:pt x="2" y="2"/>
                    <a:pt x="7" y="2"/>
                  </a:cubicBezTo>
                  <a:cubicBezTo>
                    <a:pt x="12" y="2"/>
                    <a:pt x="12" y="6"/>
                    <a:pt x="12" y="12"/>
                  </a:cubicBezTo>
                  <a:cubicBezTo>
                    <a:pt x="12" y="18"/>
                    <a:pt x="12" y="22"/>
                    <a:pt x="7" y="22"/>
                  </a:cubicBezTo>
                  <a:moveTo>
                    <a:pt x="7" y="24"/>
                  </a:moveTo>
                  <a:cubicBezTo>
                    <a:pt x="15" y="24"/>
                    <a:pt x="14" y="16"/>
                    <a:pt x="14" y="12"/>
                  </a:cubicBezTo>
                  <a:cubicBezTo>
                    <a:pt x="14" y="7"/>
                    <a:pt x="15" y="0"/>
                    <a:pt x="7" y="0"/>
                  </a:cubicBezTo>
                  <a:cubicBezTo>
                    <a:pt x="0" y="0"/>
                    <a:pt x="0" y="7"/>
                    <a:pt x="0" y="12"/>
                  </a:cubicBezTo>
                  <a:cubicBezTo>
                    <a:pt x="0"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 name=""/>
            <p:cNvSpPr/>
            <p:nvPr/>
          </p:nvSpPr>
          <p:spPr>
            <a:xfrm>
              <a:off x="7618680" y="677880"/>
              <a:ext cx="59040" cy="51480"/>
            </a:xfrm>
            <a:custGeom>
              <a:avLst/>
              <a:gdLst/>
              <a:ahLst/>
              <a:rect l="l" t="t" r="r" b="b"/>
              <a:pathLst>
                <a:path w="26" h="23">
                  <a:moveTo>
                    <a:pt x="6" y="21"/>
                  </a:moveTo>
                  <a:lnTo>
                    <a:pt x="6" y="21"/>
                  </a:lnTo>
                  <a:lnTo>
                    <a:pt x="2" y="0"/>
                  </a:lnTo>
                  <a:lnTo>
                    <a:pt x="0" y="0"/>
                  </a:lnTo>
                  <a:lnTo>
                    <a:pt x="5" y="23"/>
                  </a:lnTo>
                  <a:lnTo>
                    <a:pt x="8" y="23"/>
                  </a:lnTo>
                  <a:lnTo>
                    <a:pt x="12" y="3"/>
                  </a:lnTo>
                  <a:lnTo>
                    <a:pt x="13" y="3"/>
                  </a:lnTo>
                  <a:lnTo>
                    <a:pt x="17" y="23"/>
                  </a:lnTo>
                  <a:lnTo>
                    <a:pt x="20" y="23"/>
                  </a:lnTo>
                  <a:lnTo>
                    <a:pt x="26" y="0"/>
                  </a:lnTo>
                  <a:lnTo>
                    <a:pt x="24" y="0"/>
                  </a:lnTo>
                  <a:lnTo>
                    <a:pt x="19" y="21"/>
                  </a:lnTo>
                  <a:lnTo>
                    <a:pt x="19" y="21"/>
                  </a:lnTo>
                  <a:lnTo>
                    <a:pt x="14" y="0"/>
                  </a:lnTo>
                  <a:lnTo>
                    <a:pt x="11" y="0"/>
                  </a:lnTo>
                  <a:lnTo>
                    <a:pt x="6" y="21"/>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4" name=""/>
            <p:cNvSpPr/>
            <p:nvPr/>
          </p:nvSpPr>
          <p:spPr>
            <a:xfrm>
              <a:off x="7723800" y="677880"/>
              <a:ext cx="2412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1" y="2"/>
                  </a:lnTo>
                  <a:lnTo>
                    <a:pt x="11"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 name=""/>
            <p:cNvSpPr/>
            <p:nvPr/>
          </p:nvSpPr>
          <p:spPr>
            <a:xfrm>
              <a:off x="7795800" y="677880"/>
              <a:ext cx="27000" cy="51480"/>
            </a:xfrm>
            <a:custGeom>
              <a:avLst/>
              <a:gdLst/>
              <a:ahLst/>
              <a:rect l="l" t="t" r="r" b="b"/>
              <a:pathLst>
                <a:path w="12" h="23">
                  <a:moveTo>
                    <a:pt x="6" y="12"/>
                  </a:moveTo>
                  <a:cubicBezTo>
                    <a:pt x="11" y="12"/>
                    <a:pt x="10" y="17"/>
                    <a:pt x="10" y="18"/>
                  </a:cubicBezTo>
                  <a:cubicBezTo>
                    <a:pt x="10" y="19"/>
                    <a:pt x="10" y="23"/>
                    <a:pt x="10" y="23"/>
                  </a:cubicBezTo>
                  <a:lnTo>
                    <a:pt x="12" y="23"/>
                  </a:lnTo>
                  <a:cubicBezTo>
                    <a:pt x="12" y="22"/>
                    <a:pt x="12" y="22"/>
                    <a:pt x="12" y="21"/>
                  </a:cubicBezTo>
                  <a:cubicBezTo>
                    <a:pt x="12" y="12"/>
                    <a:pt x="12" y="12"/>
                    <a:pt x="9" y="11"/>
                  </a:cubicBezTo>
                  <a:lnTo>
                    <a:pt x="9" y="11"/>
                  </a:lnTo>
                  <a:cubicBezTo>
                    <a:pt x="12" y="11"/>
                    <a:pt x="12" y="9"/>
                    <a:pt x="12" y="6"/>
                  </a:cubicBezTo>
                  <a:cubicBezTo>
                    <a:pt x="12" y="2"/>
                    <a:pt x="11" y="0"/>
                    <a:pt x="7" y="0"/>
                  </a:cubicBezTo>
                  <a:lnTo>
                    <a:pt x="0" y="0"/>
                  </a:lnTo>
                  <a:lnTo>
                    <a:pt x="0" y="23"/>
                  </a:lnTo>
                  <a:lnTo>
                    <a:pt x="2" y="23"/>
                  </a:lnTo>
                  <a:lnTo>
                    <a:pt x="2" y="12"/>
                  </a:lnTo>
                  <a:lnTo>
                    <a:pt x="6" y="12"/>
                  </a:lnTo>
                  <a:moveTo>
                    <a:pt x="2" y="2"/>
                  </a:moveTo>
                  <a:lnTo>
                    <a:pt x="7" y="2"/>
                  </a:lnTo>
                  <a:cubicBezTo>
                    <a:pt x="9" y="2"/>
                    <a:pt x="10" y="3"/>
                    <a:pt x="10" y="6"/>
                  </a:cubicBezTo>
                  <a:cubicBezTo>
                    <a:pt x="10" y="10"/>
                    <a:pt x="9" y="10"/>
                    <a:pt x="6" y="10"/>
                  </a:cubicBezTo>
                  <a:lnTo>
                    <a:pt x="2" y="10"/>
                  </a:lnTo>
                  <a:lnTo>
                    <a:pt x="2" y="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 name=""/>
            <p:cNvSpPr/>
            <p:nvPr/>
          </p:nvSpPr>
          <p:spPr>
            <a:xfrm>
              <a:off x="7875720" y="677880"/>
              <a:ext cx="2196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 name=""/>
            <p:cNvSpPr/>
            <p:nvPr/>
          </p:nvSpPr>
          <p:spPr>
            <a:xfrm>
              <a:off x="7948080" y="677880"/>
              <a:ext cx="29520" cy="51480"/>
            </a:xfrm>
            <a:custGeom>
              <a:avLst/>
              <a:gdLst/>
              <a:ahLst/>
              <a:rect l="l" t="t" r="r" b="b"/>
              <a:pathLst>
                <a:path w="13" h="23">
                  <a:moveTo>
                    <a:pt x="2" y="2"/>
                  </a:moveTo>
                  <a:lnTo>
                    <a:pt x="5" y="2"/>
                  </a:lnTo>
                  <a:cubicBezTo>
                    <a:pt x="10" y="2"/>
                    <a:pt x="11" y="4"/>
                    <a:pt x="11" y="11"/>
                  </a:cubicBezTo>
                  <a:cubicBezTo>
                    <a:pt x="11" y="20"/>
                    <a:pt x="11" y="22"/>
                    <a:pt x="4" y="22"/>
                  </a:cubicBezTo>
                  <a:lnTo>
                    <a:pt x="2" y="22"/>
                  </a:lnTo>
                  <a:lnTo>
                    <a:pt x="2" y="2"/>
                  </a:lnTo>
                  <a:moveTo>
                    <a:pt x="0" y="23"/>
                  </a:moveTo>
                  <a:lnTo>
                    <a:pt x="5" y="23"/>
                  </a:lnTo>
                  <a:cubicBezTo>
                    <a:pt x="12" y="23"/>
                    <a:pt x="13" y="20"/>
                    <a:pt x="13" y="12"/>
                  </a:cubicBezTo>
                  <a:cubicBezTo>
                    <a:pt x="13" y="4"/>
                    <a:pt x="12" y="0"/>
                    <a:pt x="6" y="0"/>
                  </a:cubicBezTo>
                  <a:lnTo>
                    <a:pt x="0" y="0"/>
                  </a:lnTo>
                  <a:lnTo>
                    <a:pt x="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8" name=""/>
            <p:cNvSpPr/>
            <p:nvPr/>
          </p:nvSpPr>
          <p:spPr>
            <a:xfrm>
              <a:off x="8077320" y="677880"/>
              <a:ext cx="27360" cy="51480"/>
            </a:xfrm>
            <a:custGeom>
              <a:avLst/>
              <a:gdLst/>
              <a:ahLst/>
              <a:rect l="l" t="t" r="r" b="b"/>
              <a:pathLst>
                <a:path w="12" h="23">
                  <a:moveTo>
                    <a:pt x="2" y="11"/>
                  </a:moveTo>
                  <a:lnTo>
                    <a:pt x="2" y="2"/>
                  </a:lnTo>
                  <a:lnTo>
                    <a:pt x="6" y="2"/>
                  </a:lnTo>
                  <a:cubicBezTo>
                    <a:pt x="8" y="2"/>
                    <a:pt x="10" y="2"/>
                    <a:pt x="10" y="6"/>
                  </a:cubicBezTo>
                  <a:cubicBezTo>
                    <a:pt x="10" y="9"/>
                    <a:pt x="9" y="11"/>
                    <a:pt x="6" y="11"/>
                  </a:cubicBezTo>
                  <a:lnTo>
                    <a:pt x="2" y="11"/>
                  </a:lnTo>
                  <a:moveTo>
                    <a:pt x="7" y="23"/>
                  </a:moveTo>
                  <a:cubicBezTo>
                    <a:pt x="10" y="23"/>
                    <a:pt x="12" y="21"/>
                    <a:pt x="12" y="17"/>
                  </a:cubicBezTo>
                  <a:cubicBezTo>
                    <a:pt x="12" y="14"/>
                    <a:pt x="12" y="12"/>
                    <a:pt x="9" y="11"/>
                  </a:cubicBezTo>
                  <a:lnTo>
                    <a:pt x="9" y="11"/>
                  </a:lnTo>
                  <a:cubicBezTo>
                    <a:pt x="11" y="11"/>
                    <a:pt x="12" y="9"/>
                    <a:pt x="12" y="6"/>
                  </a:cubicBezTo>
                  <a:cubicBezTo>
                    <a:pt x="12" y="2"/>
                    <a:pt x="10" y="0"/>
                    <a:pt x="6" y="0"/>
                  </a:cubicBezTo>
                  <a:lnTo>
                    <a:pt x="0" y="0"/>
                  </a:lnTo>
                  <a:lnTo>
                    <a:pt x="0" y="23"/>
                  </a:lnTo>
                  <a:lnTo>
                    <a:pt x="7" y="23"/>
                  </a:lnTo>
                  <a:moveTo>
                    <a:pt x="2" y="12"/>
                  </a:moveTo>
                  <a:lnTo>
                    <a:pt x="6" y="12"/>
                  </a:lnTo>
                  <a:cubicBezTo>
                    <a:pt x="10" y="12"/>
                    <a:pt x="10" y="15"/>
                    <a:pt x="10" y="17"/>
                  </a:cubicBezTo>
                  <a:cubicBezTo>
                    <a:pt x="10" y="21"/>
                    <a:pt x="9" y="22"/>
                    <a:pt x="5" y="22"/>
                  </a:cubicBezTo>
                  <a:lnTo>
                    <a:pt x="2" y="22"/>
                  </a:lnTo>
                  <a:lnTo>
                    <a:pt x="2" y="12"/>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9" name=""/>
            <p:cNvSpPr/>
            <p:nvPr/>
          </p:nvSpPr>
          <p:spPr>
            <a:xfrm>
              <a:off x="8149680" y="677880"/>
              <a:ext cx="34200" cy="51480"/>
            </a:xfrm>
            <a:custGeom>
              <a:avLst/>
              <a:gdLst/>
              <a:ahLst/>
              <a:rect l="l" t="t" r="r" b="b"/>
              <a:pathLst>
                <a:path w="15" h="23">
                  <a:moveTo>
                    <a:pt x="7" y="23"/>
                  </a:moveTo>
                  <a:lnTo>
                    <a:pt x="9" y="23"/>
                  </a:lnTo>
                  <a:lnTo>
                    <a:pt x="9" y="14"/>
                  </a:lnTo>
                  <a:lnTo>
                    <a:pt x="15" y="0"/>
                  </a:lnTo>
                  <a:lnTo>
                    <a:pt x="13" y="0"/>
                  </a:lnTo>
                  <a:lnTo>
                    <a:pt x="8" y="12"/>
                  </a:lnTo>
                  <a:lnTo>
                    <a:pt x="3" y="0"/>
                  </a:lnTo>
                  <a:lnTo>
                    <a:pt x="0" y="0"/>
                  </a:lnTo>
                  <a:lnTo>
                    <a:pt x="7" y="14"/>
                  </a:lnTo>
                  <a:lnTo>
                    <a:pt x="7"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 name=""/>
            <p:cNvSpPr/>
            <p:nvPr/>
          </p:nvSpPr>
          <p:spPr>
            <a:xfrm>
              <a:off x="8281080" y="677880"/>
              <a:ext cx="4320" cy="51480"/>
            </a:xfrm>
            <a:prstGeom prst="rect">
              <a:avLst/>
            </a:prstGeom>
            <a:solidFill>
              <a:srgbClr val="ffffff"/>
            </a:solidFill>
            <a:ln w="936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1" name=""/>
            <p:cNvSpPr/>
            <p:nvPr/>
          </p:nvSpPr>
          <p:spPr>
            <a:xfrm>
              <a:off x="8338320" y="677880"/>
              <a:ext cx="33840" cy="51480"/>
            </a:xfrm>
            <a:custGeom>
              <a:avLst/>
              <a:gdLst/>
              <a:ahLst/>
              <a:rect l="l" t="t" r="r" b="b"/>
              <a:pathLst>
                <a:path w="15" h="23">
                  <a:moveTo>
                    <a:pt x="2" y="23"/>
                  </a:moveTo>
                  <a:lnTo>
                    <a:pt x="2" y="3"/>
                  </a:lnTo>
                  <a:lnTo>
                    <a:pt x="2" y="3"/>
                  </a:lnTo>
                  <a:lnTo>
                    <a:pt x="12" y="23"/>
                  </a:lnTo>
                  <a:lnTo>
                    <a:pt x="15" y="23"/>
                  </a:lnTo>
                  <a:lnTo>
                    <a:pt x="15" y="0"/>
                  </a:lnTo>
                  <a:lnTo>
                    <a:pt x="13" y="0"/>
                  </a:lnTo>
                  <a:lnTo>
                    <a:pt x="13" y="21"/>
                  </a:lnTo>
                  <a:lnTo>
                    <a:pt x="13" y="21"/>
                  </a:lnTo>
                  <a:lnTo>
                    <a:pt x="3" y="0"/>
                  </a:lnTo>
                  <a:lnTo>
                    <a:pt x="0" y="0"/>
                  </a:lnTo>
                  <a:lnTo>
                    <a:pt x="0" y="23"/>
                  </a:lnTo>
                  <a:lnTo>
                    <a:pt x="2"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2" name=""/>
            <p:cNvSpPr/>
            <p:nvPr/>
          </p:nvSpPr>
          <p:spPr>
            <a:xfrm>
              <a:off x="8419680" y="677880"/>
              <a:ext cx="29520" cy="51480"/>
            </a:xfrm>
            <a:custGeom>
              <a:avLst/>
              <a:gdLst/>
              <a:ahLst/>
              <a:rect l="l" t="t" r="r" b="b"/>
              <a:pathLst>
                <a:path w="13" h="23">
                  <a:moveTo>
                    <a:pt x="5" y="23"/>
                  </a:moveTo>
                  <a:lnTo>
                    <a:pt x="7" y="23"/>
                  </a:lnTo>
                  <a:lnTo>
                    <a:pt x="7" y="2"/>
                  </a:lnTo>
                  <a:lnTo>
                    <a:pt x="13" y="2"/>
                  </a:lnTo>
                  <a:lnTo>
                    <a:pt x="13" y="0"/>
                  </a:lnTo>
                  <a:lnTo>
                    <a:pt x="0" y="0"/>
                  </a:lnTo>
                  <a:lnTo>
                    <a:pt x="0" y="2"/>
                  </a:lnTo>
                  <a:lnTo>
                    <a:pt x="5" y="2"/>
                  </a:lnTo>
                  <a:lnTo>
                    <a:pt x="5"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3" name=""/>
            <p:cNvSpPr/>
            <p:nvPr/>
          </p:nvSpPr>
          <p:spPr>
            <a:xfrm>
              <a:off x="8497080" y="677880"/>
              <a:ext cx="22680" cy="51480"/>
            </a:xfrm>
            <a:custGeom>
              <a:avLst/>
              <a:gdLst/>
              <a:ahLst/>
              <a:rect l="l" t="t" r="r" b="b"/>
              <a:pathLst>
                <a:path w="10" h="23">
                  <a:moveTo>
                    <a:pt x="0" y="0"/>
                  </a:moveTo>
                  <a:lnTo>
                    <a:pt x="0" y="23"/>
                  </a:lnTo>
                  <a:lnTo>
                    <a:pt x="10" y="23"/>
                  </a:lnTo>
                  <a:lnTo>
                    <a:pt x="10"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4" name=""/>
            <p:cNvSpPr/>
            <p:nvPr/>
          </p:nvSpPr>
          <p:spPr>
            <a:xfrm>
              <a:off x="8569440" y="677880"/>
              <a:ext cx="20520" cy="51480"/>
            </a:xfrm>
            <a:custGeom>
              <a:avLst/>
              <a:gdLst/>
              <a:ahLst/>
              <a:rect l="l" t="t" r="r" b="b"/>
              <a:pathLst>
                <a:path w="9" h="23">
                  <a:moveTo>
                    <a:pt x="9" y="23"/>
                  </a:moveTo>
                  <a:lnTo>
                    <a:pt x="9" y="22"/>
                  </a:lnTo>
                  <a:lnTo>
                    <a:pt x="2" y="22"/>
                  </a:lnTo>
                  <a:lnTo>
                    <a:pt x="2" y="0"/>
                  </a:lnTo>
                  <a:lnTo>
                    <a:pt x="0" y="0"/>
                  </a:lnTo>
                  <a:lnTo>
                    <a:pt x="0" y="23"/>
                  </a:lnTo>
                  <a:lnTo>
                    <a:pt x="9"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5" name=""/>
            <p:cNvSpPr/>
            <p:nvPr/>
          </p:nvSpPr>
          <p:spPr>
            <a:xfrm>
              <a:off x="8637840" y="677880"/>
              <a:ext cx="21960" cy="51480"/>
            </a:xfrm>
            <a:custGeom>
              <a:avLst/>
              <a:gdLst/>
              <a:ahLst/>
              <a:rect l="l" t="t" r="r" b="b"/>
              <a:pathLst>
                <a:path w="10" h="23">
                  <a:moveTo>
                    <a:pt x="10" y="23"/>
                  </a:moveTo>
                  <a:lnTo>
                    <a:pt x="10" y="22"/>
                  </a:lnTo>
                  <a:lnTo>
                    <a:pt x="2" y="22"/>
                  </a:lnTo>
                  <a:lnTo>
                    <a:pt x="2" y="0"/>
                  </a:lnTo>
                  <a:lnTo>
                    <a:pt x="0" y="0"/>
                  </a:lnTo>
                  <a:lnTo>
                    <a:pt x="0" y="23"/>
                  </a:lnTo>
                  <a:lnTo>
                    <a:pt x="10"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
            <p:cNvSpPr/>
            <p:nvPr/>
          </p:nvSpPr>
          <p:spPr>
            <a:xfrm>
              <a:off x="8708040" y="677880"/>
              <a:ext cx="24840" cy="51480"/>
            </a:xfrm>
            <a:custGeom>
              <a:avLst/>
              <a:gdLst/>
              <a:ahLst/>
              <a:rect l="l" t="t" r="r" b="b"/>
              <a:pathLst>
                <a:path w="11" h="23">
                  <a:moveTo>
                    <a:pt x="0" y="0"/>
                  </a:moveTo>
                  <a:lnTo>
                    <a:pt x="0" y="23"/>
                  </a:lnTo>
                  <a:lnTo>
                    <a:pt x="11" y="23"/>
                  </a:lnTo>
                  <a:lnTo>
                    <a:pt x="11" y="22"/>
                  </a:lnTo>
                  <a:lnTo>
                    <a:pt x="2" y="22"/>
                  </a:lnTo>
                  <a:lnTo>
                    <a:pt x="2" y="12"/>
                  </a:lnTo>
                  <a:lnTo>
                    <a:pt x="10" y="12"/>
                  </a:lnTo>
                  <a:lnTo>
                    <a:pt x="10" y="11"/>
                  </a:lnTo>
                  <a:lnTo>
                    <a:pt x="2" y="11"/>
                  </a:lnTo>
                  <a:lnTo>
                    <a:pt x="2" y="2"/>
                  </a:lnTo>
                  <a:lnTo>
                    <a:pt x="10" y="2"/>
                  </a:lnTo>
                  <a:lnTo>
                    <a:pt x="1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7" name=""/>
            <p:cNvSpPr/>
            <p:nvPr/>
          </p:nvSpPr>
          <p:spPr>
            <a:xfrm>
              <a:off x="8778600" y="677880"/>
              <a:ext cx="28800" cy="53640"/>
            </a:xfrm>
            <a:custGeom>
              <a:avLst/>
              <a:gdLst/>
              <a:ahLst/>
              <a:rect l="l" t="t" r="r" b="b"/>
              <a:pathLst>
                <a:path w="13" h="24">
                  <a:moveTo>
                    <a:pt x="7" y="24"/>
                  </a:moveTo>
                  <a:cubicBezTo>
                    <a:pt x="13" y="24"/>
                    <a:pt x="13" y="18"/>
                    <a:pt x="13" y="17"/>
                  </a:cubicBezTo>
                  <a:lnTo>
                    <a:pt x="11" y="17"/>
                  </a:lnTo>
                  <a:cubicBezTo>
                    <a:pt x="11" y="20"/>
                    <a:pt x="10" y="22"/>
                    <a:pt x="7" y="22"/>
                  </a:cubicBezTo>
                  <a:cubicBezTo>
                    <a:pt x="3" y="22"/>
                    <a:pt x="3" y="18"/>
                    <a:pt x="3" y="12"/>
                  </a:cubicBezTo>
                  <a:cubicBezTo>
                    <a:pt x="3" y="6"/>
                    <a:pt x="3" y="2"/>
                    <a:pt x="7" y="2"/>
                  </a:cubicBezTo>
                  <a:cubicBezTo>
                    <a:pt x="10" y="2"/>
                    <a:pt x="11" y="4"/>
                    <a:pt x="11" y="7"/>
                  </a:cubicBezTo>
                  <a:lnTo>
                    <a:pt x="13" y="7"/>
                  </a:lnTo>
                  <a:cubicBezTo>
                    <a:pt x="13" y="5"/>
                    <a:pt x="13" y="0"/>
                    <a:pt x="7" y="0"/>
                  </a:cubicBezTo>
                  <a:cubicBezTo>
                    <a:pt x="0" y="0"/>
                    <a:pt x="1" y="7"/>
                    <a:pt x="1" y="12"/>
                  </a:cubicBezTo>
                  <a:cubicBezTo>
                    <a:pt x="1" y="16"/>
                    <a:pt x="0" y="24"/>
                    <a:pt x="7" y="24"/>
                  </a:cubicBezTo>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8" name=""/>
            <p:cNvSpPr/>
            <p:nvPr/>
          </p:nvSpPr>
          <p:spPr>
            <a:xfrm>
              <a:off x="8853120" y="677880"/>
              <a:ext cx="31680" cy="51480"/>
            </a:xfrm>
            <a:custGeom>
              <a:avLst/>
              <a:gdLst/>
              <a:ahLst/>
              <a:rect l="l" t="t" r="r" b="b"/>
              <a:pathLst>
                <a:path w="14" h="23">
                  <a:moveTo>
                    <a:pt x="6" y="23"/>
                  </a:moveTo>
                  <a:lnTo>
                    <a:pt x="8" y="23"/>
                  </a:lnTo>
                  <a:lnTo>
                    <a:pt x="8" y="2"/>
                  </a:lnTo>
                  <a:lnTo>
                    <a:pt x="14" y="2"/>
                  </a:lnTo>
                  <a:lnTo>
                    <a:pt x="14" y="0"/>
                  </a:lnTo>
                  <a:lnTo>
                    <a:pt x="0" y="0"/>
                  </a:lnTo>
                  <a:lnTo>
                    <a:pt x="0" y="2"/>
                  </a:lnTo>
                  <a:lnTo>
                    <a:pt x="6" y="2"/>
                  </a:lnTo>
                  <a:lnTo>
                    <a:pt x="6" y="23"/>
                  </a:lnTo>
                </a:path>
              </a:pathLst>
            </a:custGeom>
            <a:solidFill>
              <a:srgbClr val="ffffff"/>
            </a:solidFill>
            <a:ln w="936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9" name=""/>
            <p:cNvSpPr/>
            <p:nvPr/>
          </p:nvSpPr>
          <p:spPr>
            <a:xfrm>
              <a:off x="8721720" y="244440"/>
              <a:ext cx="67680" cy="65160"/>
            </a:xfrm>
            <a:custGeom>
              <a:avLst/>
              <a:gdLst/>
              <a:ahLst/>
              <a:rect l="l" t="t" r="r" b="b"/>
              <a:pathLst>
                <a:path w="30" h="29">
                  <a:moveTo>
                    <a:pt x="15" y="29"/>
                  </a:moveTo>
                  <a:cubicBezTo>
                    <a:pt x="23" y="29"/>
                    <a:pt x="30" y="23"/>
                    <a:pt x="30" y="15"/>
                  </a:cubicBezTo>
                  <a:cubicBezTo>
                    <a:pt x="30" y="7"/>
                    <a:pt x="23" y="0"/>
                    <a:pt x="15" y="0"/>
                  </a:cubicBezTo>
                  <a:cubicBezTo>
                    <a:pt x="7" y="0"/>
                    <a:pt x="0" y="7"/>
                    <a:pt x="0" y="15"/>
                  </a:cubicBezTo>
                  <a:cubicBezTo>
                    <a:pt x="0" y="23"/>
                    <a:pt x="7" y="29"/>
                    <a:pt x="15" y="29"/>
                  </a:cubicBezTo>
                  <a:moveTo>
                    <a:pt x="2" y="15"/>
                  </a:moveTo>
                  <a:cubicBezTo>
                    <a:pt x="2" y="8"/>
                    <a:pt x="8" y="2"/>
                    <a:pt x="15" y="2"/>
                  </a:cubicBezTo>
                  <a:cubicBezTo>
                    <a:pt x="22" y="2"/>
                    <a:pt x="27" y="8"/>
                    <a:pt x="27" y="15"/>
                  </a:cubicBezTo>
                  <a:cubicBezTo>
                    <a:pt x="27" y="22"/>
                    <a:pt x="22" y="27"/>
                    <a:pt x="15" y="27"/>
                  </a:cubicBezTo>
                  <a:cubicBezTo>
                    <a:pt x="8" y="27"/>
                    <a:pt x="2" y="22"/>
                    <a:pt x="2" y="15"/>
                  </a:cubicBezTo>
                  <a:moveTo>
                    <a:pt x="9" y="22"/>
                  </a:moveTo>
                  <a:lnTo>
                    <a:pt x="12" y="22"/>
                  </a:lnTo>
                  <a:lnTo>
                    <a:pt x="12" y="16"/>
                  </a:lnTo>
                  <a:lnTo>
                    <a:pt x="16" y="16"/>
                  </a:lnTo>
                  <a:lnTo>
                    <a:pt x="18" y="22"/>
                  </a:lnTo>
                  <a:lnTo>
                    <a:pt x="21" y="22"/>
                  </a:lnTo>
                  <a:lnTo>
                    <a:pt x="18" y="15"/>
                  </a:lnTo>
                  <a:cubicBezTo>
                    <a:pt x="19" y="15"/>
                    <a:pt x="21" y="14"/>
                    <a:pt x="21" y="12"/>
                  </a:cubicBezTo>
                  <a:cubicBezTo>
                    <a:pt x="21" y="7"/>
                    <a:pt x="18" y="7"/>
                    <a:pt x="15" y="7"/>
                  </a:cubicBezTo>
                  <a:lnTo>
                    <a:pt x="9" y="7"/>
                  </a:lnTo>
                  <a:lnTo>
                    <a:pt x="9" y="22"/>
                  </a:lnTo>
                  <a:moveTo>
                    <a:pt x="12" y="9"/>
                  </a:moveTo>
                  <a:lnTo>
                    <a:pt x="15" y="9"/>
                  </a:lnTo>
                  <a:cubicBezTo>
                    <a:pt x="17" y="9"/>
                    <a:pt x="18" y="10"/>
                    <a:pt x="18" y="11"/>
                  </a:cubicBezTo>
                  <a:cubicBezTo>
                    <a:pt x="18" y="13"/>
                    <a:pt x="17" y="13"/>
                    <a:pt x="16" y="13"/>
                  </a:cubicBezTo>
                  <a:lnTo>
                    <a:pt x="12" y="13"/>
                  </a:lnTo>
                  <a:lnTo>
                    <a:pt x="12" y="9"/>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 name=""/>
            <p:cNvSpPr/>
            <p:nvPr/>
          </p:nvSpPr>
          <p:spPr>
            <a:xfrm>
              <a:off x="7687080" y="253440"/>
              <a:ext cx="41040" cy="326160"/>
            </a:xfrm>
            <a:custGeom>
              <a:avLst/>
              <a:gdLst/>
              <a:ahLst/>
              <a:rect l="l" t="t" r="r" b="b"/>
              <a:pathLst>
                <a:path w="18" h="144">
                  <a:moveTo>
                    <a:pt x="0" y="17"/>
                  </a:moveTo>
                  <a:lnTo>
                    <a:pt x="0" y="17"/>
                  </a:lnTo>
                  <a:lnTo>
                    <a:pt x="0" y="0"/>
                  </a:lnTo>
                  <a:lnTo>
                    <a:pt x="18" y="0"/>
                  </a:lnTo>
                  <a:lnTo>
                    <a:pt x="18" y="17"/>
                  </a:lnTo>
                  <a:lnTo>
                    <a:pt x="18" y="17"/>
                  </a:lnTo>
                  <a:lnTo>
                    <a:pt x="18" y="127"/>
                  </a:lnTo>
                  <a:lnTo>
                    <a:pt x="18" y="127"/>
                  </a:lnTo>
                  <a:lnTo>
                    <a:pt x="18" y="144"/>
                  </a:lnTo>
                  <a:lnTo>
                    <a:pt x="0" y="144"/>
                  </a:lnTo>
                  <a:lnTo>
                    <a:pt x="0" y="127"/>
                  </a:lnTo>
                  <a:lnTo>
                    <a:pt x="0" y="127"/>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954920" y="251280"/>
              <a:ext cx="757440" cy="398880"/>
            </a:xfrm>
            <a:custGeom>
              <a:avLst/>
              <a:gdLst/>
              <a:ahLst/>
              <a:rect l="l" t="t" r="r" b="b"/>
              <a:pathLst>
                <a:path w="334" h="176">
                  <a:moveTo>
                    <a:pt x="59" y="93"/>
                  </a:moveTo>
                  <a:cubicBezTo>
                    <a:pt x="59" y="119"/>
                    <a:pt x="76" y="140"/>
                    <a:pt x="95" y="139"/>
                  </a:cubicBezTo>
                  <a:cubicBezTo>
                    <a:pt x="115" y="139"/>
                    <a:pt x="131" y="118"/>
                    <a:pt x="130" y="91"/>
                  </a:cubicBezTo>
                  <a:cubicBezTo>
                    <a:pt x="130" y="65"/>
                    <a:pt x="113" y="44"/>
                    <a:pt x="94" y="44"/>
                  </a:cubicBezTo>
                  <a:cubicBezTo>
                    <a:pt x="74" y="45"/>
                    <a:pt x="58" y="66"/>
                    <a:pt x="59" y="93"/>
                  </a:cubicBezTo>
                  <a:moveTo>
                    <a:pt x="203" y="61"/>
                  </a:moveTo>
                  <a:cubicBezTo>
                    <a:pt x="203" y="62"/>
                    <a:pt x="202" y="59"/>
                    <a:pt x="202" y="59"/>
                  </a:cubicBezTo>
                  <a:lnTo>
                    <a:pt x="203" y="61"/>
                  </a:lnTo>
                  <a:moveTo>
                    <a:pt x="214" y="170"/>
                  </a:moveTo>
                  <a:cubicBezTo>
                    <a:pt x="215" y="168"/>
                    <a:pt x="216" y="166"/>
                    <a:pt x="218" y="163"/>
                  </a:cubicBezTo>
                  <a:lnTo>
                    <a:pt x="214" y="170"/>
                  </a:lnTo>
                  <a:moveTo>
                    <a:pt x="215" y="52"/>
                  </a:moveTo>
                  <a:cubicBezTo>
                    <a:pt x="216" y="52"/>
                    <a:pt x="216" y="53"/>
                    <a:pt x="216" y="54"/>
                  </a:cubicBezTo>
                  <a:lnTo>
                    <a:pt x="222" y="68"/>
                  </a:lnTo>
                  <a:lnTo>
                    <a:pt x="215" y="52"/>
                  </a:lnTo>
                  <a:moveTo>
                    <a:pt x="143" y="124"/>
                  </a:moveTo>
                  <a:cubicBezTo>
                    <a:pt x="153" y="134"/>
                    <a:pt x="163" y="139"/>
                    <a:pt x="175" y="139"/>
                  </a:cubicBezTo>
                  <a:cubicBezTo>
                    <a:pt x="188" y="139"/>
                    <a:pt x="199" y="133"/>
                    <a:pt x="199" y="121"/>
                  </a:cubicBezTo>
                  <a:cubicBezTo>
                    <a:pt x="199" y="111"/>
                    <a:pt x="191" y="105"/>
                    <a:pt x="175" y="98"/>
                  </a:cubicBezTo>
                  <a:cubicBezTo>
                    <a:pt x="161" y="93"/>
                    <a:pt x="152" y="88"/>
                    <a:pt x="146" y="80"/>
                  </a:cubicBezTo>
                  <a:cubicBezTo>
                    <a:pt x="147" y="84"/>
                    <a:pt x="147" y="88"/>
                    <a:pt x="147" y="91"/>
                  </a:cubicBezTo>
                  <a:cubicBezTo>
                    <a:pt x="147" y="124"/>
                    <a:pt x="124" y="150"/>
                    <a:pt x="95" y="150"/>
                  </a:cubicBezTo>
                  <a:cubicBezTo>
                    <a:pt x="66" y="150"/>
                    <a:pt x="43" y="124"/>
                    <a:pt x="43" y="91"/>
                  </a:cubicBezTo>
                  <a:cubicBezTo>
                    <a:pt x="43" y="72"/>
                    <a:pt x="51" y="55"/>
                    <a:pt x="64" y="44"/>
                  </a:cubicBezTo>
                  <a:lnTo>
                    <a:pt x="29" y="44"/>
                  </a:lnTo>
                  <a:lnTo>
                    <a:pt x="29" y="128"/>
                  </a:lnTo>
                  <a:lnTo>
                    <a:pt x="29" y="128"/>
                  </a:lnTo>
                  <a:lnTo>
                    <a:pt x="29" y="145"/>
                  </a:lnTo>
                  <a:lnTo>
                    <a:pt x="13" y="145"/>
                  </a:lnTo>
                  <a:lnTo>
                    <a:pt x="13" y="129"/>
                  </a:lnTo>
                  <a:cubicBezTo>
                    <a:pt x="13" y="128"/>
                    <a:pt x="13" y="128"/>
                    <a:pt x="13" y="128"/>
                  </a:cubicBezTo>
                  <a:lnTo>
                    <a:pt x="13" y="44"/>
                  </a:lnTo>
                  <a:lnTo>
                    <a:pt x="0" y="44"/>
                  </a:lnTo>
                  <a:lnTo>
                    <a:pt x="0" y="34"/>
                  </a:lnTo>
                  <a:lnTo>
                    <a:pt x="14" y="34"/>
                  </a:lnTo>
                  <a:cubicBezTo>
                    <a:pt x="15" y="12"/>
                    <a:pt x="29" y="0"/>
                    <a:pt x="47" y="0"/>
                  </a:cubicBezTo>
                  <a:cubicBezTo>
                    <a:pt x="59" y="0"/>
                    <a:pt x="65" y="2"/>
                    <a:pt x="69" y="3"/>
                  </a:cubicBezTo>
                  <a:lnTo>
                    <a:pt x="69" y="18"/>
                  </a:lnTo>
                  <a:cubicBezTo>
                    <a:pt x="69" y="19"/>
                    <a:pt x="69" y="19"/>
                    <a:pt x="69" y="19"/>
                  </a:cubicBezTo>
                  <a:cubicBezTo>
                    <a:pt x="69" y="19"/>
                    <a:pt x="68" y="19"/>
                    <a:pt x="68" y="19"/>
                  </a:cubicBezTo>
                  <a:cubicBezTo>
                    <a:pt x="63" y="14"/>
                    <a:pt x="57" y="10"/>
                    <a:pt x="44" y="10"/>
                  </a:cubicBezTo>
                  <a:cubicBezTo>
                    <a:pt x="33" y="10"/>
                    <a:pt x="27" y="19"/>
                    <a:pt x="29" y="34"/>
                  </a:cubicBezTo>
                  <a:lnTo>
                    <a:pt x="88" y="34"/>
                  </a:lnTo>
                  <a:cubicBezTo>
                    <a:pt x="90" y="33"/>
                    <a:pt x="93" y="33"/>
                    <a:pt x="95" y="33"/>
                  </a:cubicBezTo>
                  <a:cubicBezTo>
                    <a:pt x="116" y="33"/>
                    <a:pt x="134" y="47"/>
                    <a:pt x="142" y="67"/>
                  </a:cubicBezTo>
                  <a:cubicBezTo>
                    <a:pt x="142" y="66"/>
                    <a:pt x="142" y="64"/>
                    <a:pt x="142" y="63"/>
                  </a:cubicBezTo>
                  <a:cubicBezTo>
                    <a:pt x="142" y="42"/>
                    <a:pt x="162" y="34"/>
                    <a:pt x="183" y="34"/>
                  </a:cubicBezTo>
                  <a:cubicBezTo>
                    <a:pt x="184" y="34"/>
                    <a:pt x="185" y="34"/>
                    <a:pt x="186" y="34"/>
                  </a:cubicBezTo>
                  <a:cubicBezTo>
                    <a:pt x="193" y="34"/>
                    <a:pt x="203" y="36"/>
                    <a:pt x="210" y="38"/>
                  </a:cubicBezTo>
                  <a:lnTo>
                    <a:pt x="215" y="52"/>
                  </a:lnTo>
                  <a:lnTo>
                    <a:pt x="222" y="68"/>
                  </a:lnTo>
                  <a:lnTo>
                    <a:pt x="240" y="111"/>
                  </a:lnTo>
                  <a:lnTo>
                    <a:pt x="242" y="118"/>
                  </a:lnTo>
                  <a:lnTo>
                    <a:pt x="244" y="111"/>
                  </a:lnTo>
                  <a:lnTo>
                    <a:pt x="266" y="56"/>
                  </a:lnTo>
                  <a:cubicBezTo>
                    <a:pt x="271" y="41"/>
                    <a:pt x="287" y="34"/>
                    <a:pt x="305" y="34"/>
                  </a:cubicBezTo>
                  <a:cubicBezTo>
                    <a:pt x="314" y="34"/>
                    <a:pt x="321" y="35"/>
                    <a:pt x="328" y="38"/>
                  </a:cubicBezTo>
                  <a:lnTo>
                    <a:pt x="328" y="55"/>
                  </a:lnTo>
                  <a:cubicBezTo>
                    <a:pt x="319" y="47"/>
                    <a:pt x="312" y="43"/>
                    <a:pt x="301" y="43"/>
                  </a:cubicBezTo>
                  <a:cubicBezTo>
                    <a:pt x="291" y="43"/>
                    <a:pt x="279" y="48"/>
                    <a:pt x="279" y="62"/>
                  </a:cubicBezTo>
                  <a:cubicBezTo>
                    <a:pt x="279" y="73"/>
                    <a:pt x="285" y="75"/>
                    <a:pt x="304" y="84"/>
                  </a:cubicBezTo>
                  <a:cubicBezTo>
                    <a:pt x="320" y="91"/>
                    <a:pt x="334" y="98"/>
                    <a:pt x="334" y="116"/>
                  </a:cubicBezTo>
                  <a:cubicBezTo>
                    <a:pt x="334" y="145"/>
                    <a:pt x="306" y="150"/>
                    <a:pt x="292" y="150"/>
                  </a:cubicBezTo>
                  <a:cubicBezTo>
                    <a:pt x="280" y="150"/>
                    <a:pt x="268" y="147"/>
                    <a:pt x="262" y="141"/>
                  </a:cubicBezTo>
                  <a:lnTo>
                    <a:pt x="262" y="122"/>
                  </a:lnTo>
                  <a:lnTo>
                    <a:pt x="263" y="123"/>
                  </a:lnTo>
                  <a:cubicBezTo>
                    <a:pt x="274" y="134"/>
                    <a:pt x="284" y="139"/>
                    <a:pt x="297" y="139"/>
                  </a:cubicBezTo>
                  <a:cubicBezTo>
                    <a:pt x="310" y="139"/>
                    <a:pt x="321" y="133"/>
                    <a:pt x="321" y="121"/>
                  </a:cubicBezTo>
                  <a:cubicBezTo>
                    <a:pt x="321" y="111"/>
                    <a:pt x="312" y="105"/>
                    <a:pt x="297" y="99"/>
                  </a:cubicBezTo>
                  <a:cubicBezTo>
                    <a:pt x="282" y="92"/>
                    <a:pt x="272" y="88"/>
                    <a:pt x="268" y="77"/>
                  </a:cubicBezTo>
                  <a:cubicBezTo>
                    <a:pt x="261" y="92"/>
                    <a:pt x="233" y="161"/>
                    <a:pt x="226" y="176"/>
                  </a:cubicBezTo>
                  <a:lnTo>
                    <a:pt x="211" y="176"/>
                  </a:lnTo>
                  <a:lnTo>
                    <a:pt x="214" y="170"/>
                  </a:lnTo>
                  <a:lnTo>
                    <a:pt x="218" y="163"/>
                  </a:lnTo>
                  <a:lnTo>
                    <a:pt x="218" y="163"/>
                  </a:lnTo>
                  <a:cubicBezTo>
                    <a:pt x="222" y="156"/>
                    <a:pt x="227" y="144"/>
                    <a:pt x="232" y="132"/>
                  </a:cubicBezTo>
                  <a:lnTo>
                    <a:pt x="203" y="61"/>
                  </a:lnTo>
                  <a:cubicBezTo>
                    <a:pt x="202" y="60"/>
                    <a:pt x="202" y="59"/>
                    <a:pt x="201" y="57"/>
                  </a:cubicBezTo>
                  <a:cubicBezTo>
                    <a:pt x="199" y="52"/>
                    <a:pt x="197" y="47"/>
                    <a:pt x="190" y="45"/>
                  </a:cubicBezTo>
                  <a:cubicBezTo>
                    <a:pt x="187" y="44"/>
                    <a:pt x="183" y="43"/>
                    <a:pt x="179" y="43"/>
                  </a:cubicBezTo>
                  <a:cubicBezTo>
                    <a:pt x="169" y="43"/>
                    <a:pt x="157" y="47"/>
                    <a:pt x="157" y="62"/>
                  </a:cubicBezTo>
                  <a:cubicBezTo>
                    <a:pt x="156" y="72"/>
                    <a:pt x="164" y="74"/>
                    <a:pt x="183" y="84"/>
                  </a:cubicBezTo>
                  <a:cubicBezTo>
                    <a:pt x="198" y="91"/>
                    <a:pt x="213" y="98"/>
                    <a:pt x="213" y="115"/>
                  </a:cubicBezTo>
                  <a:cubicBezTo>
                    <a:pt x="213" y="144"/>
                    <a:pt x="184" y="149"/>
                    <a:pt x="170" y="149"/>
                  </a:cubicBezTo>
                  <a:cubicBezTo>
                    <a:pt x="159" y="149"/>
                    <a:pt x="149" y="147"/>
                    <a:pt x="143" y="143"/>
                  </a:cubicBezTo>
                  <a:lnTo>
                    <a:pt x="143"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66280" y="325800"/>
              <a:ext cx="181800" cy="253800"/>
            </a:xfrm>
            <a:custGeom>
              <a:avLst/>
              <a:gdLst/>
              <a:ahLst/>
              <a:rect l="l" t="t" r="r" b="b"/>
              <a:pathLst>
                <a:path w="80" h="112">
                  <a:moveTo>
                    <a:pt x="15" y="2"/>
                  </a:moveTo>
                  <a:lnTo>
                    <a:pt x="15" y="14"/>
                  </a:lnTo>
                  <a:lnTo>
                    <a:pt x="15" y="15"/>
                  </a:lnTo>
                  <a:lnTo>
                    <a:pt x="15" y="15"/>
                  </a:lnTo>
                  <a:cubicBezTo>
                    <a:pt x="16" y="15"/>
                    <a:pt x="16" y="14"/>
                    <a:pt x="16" y="14"/>
                  </a:cubicBezTo>
                  <a:cubicBezTo>
                    <a:pt x="23" y="7"/>
                    <a:pt x="31" y="0"/>
                    <a:pt x="50" y="0"/>
                  </a:cubicBezTo>
                  <a:cubicBezTo>
                    <a:pt x="68" y="0"/>
                    <a:pt x="80" y="16"/>
                    <a:pt x="80" y="26"/>
                  </a:cubicBezTo>
                  <a:lnTo>
                    <a:pt x="80" y="95"/>
                  </a:lnTo>
                  <a:lnTo>
                    <a:pt x="80" y="95"/>
                  </a:lnTo>
                  <a:lnTo>
                    <a:pt x="80" y="112"/>
                  </a:lnTo>
                  <a:lnTo>
                    <a:pt x="65" y="112"/>
                  </a:lnTo>
                  <a:lnTo>
                    <a:pt x="65" y="92"/>
                  </a:lnTo>
                  <a:lnTo>
                    <a:pt x="65" y="33"/>
                  </a:lnTo>
                  <a:cubicBezTo>
                    <a:pt x="65" y="20"/>
                    <a:pt x="54" y="12"/>
                    <a:pt x="41" y="12"/>
                  </a:cubicBezTo>
                  <a:cubicBezTo>
                    <a:pt x="30" y="12"/>
                    <a:pt x="16" y="21"/>
                    <a:pt x="15" y="31"/>
                  </a:cubicBezTo>
                  <a:lnTo>
                    <a:pt x="15" y="95"/>
                  </a:lnTo>
                  <a:lnTo>
                    <a:pt x="15" y="95"/>
                  </a:lnTo>
                  <a:lnTo>
                    <a:pt x="15" y="112"/>
                  </a:lnTo>
                  <a:lnTo>
                    <a:pt x="0" y="112"/>
                  </a:lnTo>
                  <a:lnTo>
                    <a:pt x="0" y="95"/>
                  </a:lnTo>
                  <a:lnTo>
                    <a:pt x="0" y="16"/>
                  </a:lnTo>
                  <a:lnTo>
                    <a:pt x="0" y="2"/>
                  </a:lnTo>
                  <a:lnTo>
                    <a:pt x="3" y="2"/>
                  </a:lnTo>
                  <a:lnTo>
                    <a:pt x="11" y="2"/>
                  </a:lnTo>
                  <a:lnTo>
                    <a:pt x="15"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34" name=""/>
          <p:cNvSpPr/>
          <p:nvPr/>
        </p:nvSpPr>
        <p:spPr>
          <a:xfrm>
            <a:off x="228600" y="380880"/>
            <a:ext cx="52578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fosy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vestor Relations</a:t>
            </a:r>
            <a:endParaRPr b="0" lang="en-US" sz="4000" spc="-1" strike="noStrike">
              <a:solidFill>
                <a:srgbClr val="000000"/>
              </a:solidFill>
              <a:latin typeface="Arial"/>
            </a:endParaRPr>
          </a:p>
        </p:txBody>
      </p:sp>
      <p:sp>
        <p:nvSpPr>
          <p:cNvPr id="2" name="PlaceHolder 1"/>
          <p:cNvSpPr>
            <a:spLocks noGrp="1"/>
          </p:cNvSpPr>
          <p:nvPr>
            <p:ph type="sldNum" idx="1"/>
          </p:nvPr>
        </p:nvSpPr>
        <p:spPr/>
        <p:txBody>
          <a:bodyPr/>
          <a:p>
            <a:fld id="{CC99B577-7732-4C53-9FC0-D9E0698767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6450120" y="4114800"/>
          <a:ext cx="2693880" cy="2743200"/>
        </p:xfrm>
        <a:graphic>
          <a:graphicData uri="http://schemas.openxmlformats.org/presentationml/2006/ole">
            <p:oleObj r:id="rId1" spid="">
              <p:embed/>
              <p:pic>
                <p:nvPicPr>
                  <p:cNvPr id="172" name="" descr=""/>
                  <p:cNvPicPr/>
                  <p:nvPr/>
                </p:nvPicPr>
                <p:blipFill>
                  <a:blip r:embed="rId2"/>
                  <a:stretch/>
                </p:blipFill>
                <p:spPr>
                  <a:xfrm>
                    <a:off x="6450120" y="4114800"/>
                    <a:ext cx="2693880" cy="2743200"/>
                  </a:xfrm>
                  <a:prstGeom prst="rect">
                    <a:avLst/>
                  </a:prstGeom>
                  <a:ln w="0">
                    <a:noFill/>
                  </a:ln>
                </p:spPr>
              </p:pic>
            </p:oleObj>
          </a:graphicData>
        </a:graphic>
      </p:graphicFrame>
      <p:sp>
        <p:nvSpPr>
          <p:cNvPr id="173" name=""/>
          <p:cNvSpPr/>
          <p:nvPr/>
        </p:nvSpPr>
        <p:spPr>
          <a:xfrm>
            <a:off x="10944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174"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17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tical Domains</a:t>
            </a:r>
            <a:endParaRPr b="0" lang="en-US" sz="2800" spc="-1" strike="noStrike">
              <a:solidFill>
                <a:srgbClr val="ffff00"/>
              </a:solidFill>
              <a:latin typeface="Arial"/>
            </a:endParaRPr>
          </a:p>
        </p:txBody>
      </p:sp>
      <p:sp>
        <p:nvSpPr>
          <p:cNvPr id="176" name=""/>
          <p:cNvSpPr/>
          <p:nvPr/>
        </p:nvSpPr>
        <p:spPr>
          <a:xfrm>
            <a:off x="3200400" y="108576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177" name=""/>
          <p:cNvSpPr/>
          <p:nvPr/>
        </p:nvSpPr>
        <p:spPr>
          <a:xfrm>
            <a:off x="3370320" y="578952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 name=""/>
          <p:cNvSpPr/>
          <p:nvPr/>
        </p:nvSpPr>
        <p:spPr>
          <a:xfrm>
            <a:off x="3467520" y="5753160"/>
            <a:ext cx="72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nufacturing</a:t>
            </a:r>
            <a:endParaRPr b="0" lang="en-US" sz="900" spc="-1" strike="noStrike">
              <a:solidFill>
                <a:srgbClr val="000000"/>
              </a:solidFill>
              <a:latin typeface="Arial"/>
            </a:endParaRPr>
          </a:p>
        </p:txBody>
      </p:sp>
      <p:sp>
        <p:nvSpPr>
          <p:cNvPr id="179" name=""/>
          <p:cNvSpPr/>
          <p:nvPr/>
        </p:nvSpPr>
        <p:spPr>
          <a:xfrm>
            <a:off x="5043600" y="578952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0" name=""/>
          <p:cNvSpPr/>
          <p:nvPr/>
        </p:nvSpPr>
        <p:spPr>
          <a:xfrm>
            <a:off x="5139720" y="575316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urance</a:t>
            </a:r>
            <a:endParaRPr b="0" lang="en-US" sz="900" spc="-1" strike="noStrike">
              <a:solidFill>
                <a:srgbClr val="000000"/>
              </a:solidFill>
              <a:latin typeface="Arial"/>
            </a:endParaRPr>
          </a:p>
        </p:txBody>
      </p:sp>
      <p:sp>
        <p:nvSpPr>
          <p:cNvPr id="181" name=""/>
          <p:cNvSpPr/>
          <p:nvPr/>
        </p:nvSpPr>
        <p:spPr>
          <a:xfrm>
            <a:off x="3370320" y="597852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3463920" y="5942160"/>
            <a:ext cx="149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anking &amp; Financial Services</a:t>
            </a:r>
            <a:endParaRPr b="0" lang="en-US" sz="900" spc="-1" strike="noStrike">
              <a:solidFill>
                <a:srgbClr val="000000"/>
              </a:solidFill>
              <a:latin typeface="Arial"/>
            </a:endParaRPr>
          </a:p>
        </p:txBody>
      </p:sp>
      <p:sp>
        <p:nvSpPr>
          <p:cNvPr id="183" name=""/>
          <p:cNvSpPr/>
          <p:nvPr/>
        </p:nvSpPr>
        <p:spPr>
          <a:xfrm>
            <a:off x="5043600" y="597852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4" name=""/>
          <p:cNvSpPr/>
          <p:nvPr/>
        </p:nvSpPr>
        <p:spPr>
          <a:xfrm>
            <a:off x="5140440" y="59421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lecom</a:t>
            </a:r>
            <a:endParaRPr b="0" lang="en-US" sz="900" spc="-1" strike="noStrike">
              <a:solidFill>
                <a:srgbClr val="000000"/>
              </a:solidFill>
              <a:latin typeface="Arial"/>
            </a:endParaRPr>
          </a:p>
        </p:txBody>
      </p:sp>
      <p:sp>
        <p:nvSpPr>
          <p:cNvPr id="185" name=""/>
          <p:cNvSpPr/>
          <p:nvPr/>
        </p:nvSpPr>
        <p:spPr>
          <a:xfrm>
            <a:off x="3370320" y="615780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6" name=""/>
          <p:cNvSpPr/>
          <p:nvPr/>
        </p:nvSpPr>
        <p:spPr>
          <a:xfrm>
            <a:off x="3468960" y="612288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tail</a:t>
            </a:r>
            <a:endParaRPr b="0" lang="en-US" sz="900" spc="-1" strike="noStrike">
              <a:solidFill>
                <a:srgbClr val="000000"/>
              </a:solidFill>
              <a:latin typeface="Arial"/>
            </a:endParaRPr>
          </a:p>
        </p:txBody>
      </p:sp>
      <p:sp>
        <p:nvSpPr>
          <p:cNvPr id="187" name=""/>
          <p:cNvSpPr/>
          <p:nvPr/>
        </p:nvSpPr>
        <p:spPr>
          <a:xfrm>
            <a:off x="5043600" y="615780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8" name=""/>
          <p:cNvSpPr/>
          <p:nvPr/>
        </p:nvSpPr>
        <p:spPr>
          <a:xfrm>
            <a:off x="5138640" y="6122880"/>
            <a:ext cx="87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ergy &amp; Utilities</a:t>
            </a:r>
            <a:endParaRPr b="0" lang="en-US" sz="900" spc="-1" strike="noStrike">
              <a:solidFill>
                <a:srgbClr val="000000"/>
              </a:solidFill>
              <a:latin typeface="Arial"/>
            </a:endParaRPr>
          </a:p>
        </p:txBody>
      </p:sp>
      <p:sp>
        <p:nvSpPr>
          <p:cNvPr id="189" name=""/>
          <p:cNvSpPr/>
          <p:nvPr/>
        </p:nvSpPr>
        <p:spPr>
          <a:xfrm>
            <a:off x="3370320" y="634680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3464640" y="6311880"/>
            <a:ext cx="13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ransportation &amp; Logistics</a:t>
            </a:r>
            <a:endParaRPr b="0" lang="en-US" sz="900" spc="-1" strike="noStrike">
              <a:solidFill>
                <a:srgbClr val="000000"/>
              </a:solidFill>
              <a:latin typeface="Arial"/>
            </a:endParaRPr>
          </a:p>
        </p:txBody>
      </p:sp>
      <p:sp>
        <p:nvSpPr>
          <p:cNvPr id="191" name=""/>
          <p:cNvSpPr/>
          <p:nvPr/>
        </p:nvSpPr>
        <p:spPr>
          <a:xfrm>
            <a:off x="5043600" y="634680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2" name=""/>
          <p:cNvSpPr/>
          <p:nvPr/>
        </p:nvSpPr>
        <p:spPr>
          <a:xfrm>
            <a:off x="5139720" y="6311880"/>
            <a:ext cx="44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rvices</a:t>
            </a:r>
            <a:endParaRPr b="0" lang="en-US" sz="900" spc="-1" strike="noStrike">
              <a:solidFill>
                <a:srgbClr val="000000"/>
              </a:solidFill>
              <a:latin typeface="Arial"/>
            </a:endParaRPr>
          </a:p>
        </p:txBody>
      </p:sp>
      <p:sp>
        <p:nvSpPr>
          <p:cNvPr id="193" name=""/>
          <p:cNvSpPr/>
          <p:nvPr/>
        </p:nvSpPr>
        <p:spPr>
          <a:xfrm>
            <a:off x="3200400" y="5614920"/>
            <a:ext cx="304812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4" name=""/>
          <p:cNvGraphicFramePr/>
          <p:nvPr/>
        </p:nvGraphicFramePr>
        <p:xfrm>
          <a:off x="2819520" y="1395360"/>
          <a:ext cx="4038480" cy="4114800"/>
        </p:xfrm>
        <a:graphic>
          <a:graphicData uri="http://schemas.openxmlformats.org/presentationml/2006/ole">
            <p:oleObj r:id="rId3" spid="">
              <p:embed/>
              <p:pic>
                <p:nvPicPr>
                  <p:cNvPr id="195" name="" descr=""/>
                  <p:cNvPicPr/>
                  <p:nvPr/>
                </p:nvPicPr>
                <p:blipFill>
                  <a:blip r:embed="rId4"/>
                  <a:stretch/>
                </p:blipFill>
                <p:spPr>
                  <a:xfrm>
                    <a:off x="2819520" y="1395360"/>
                    <a:ext cx="4038480" cy="4114800"/>
                  </a:xfrm>
                  <a:prstGeom prst="rect">
                    <a:avLst/>
                  </a:prstGeom>
                  <a:ln w="0">
                    <a:noFill/>
                  </a:ln>
                </p:spPr>
              </p:pic>
            </p:oleObj>
          </a:graphicData>
        </a:graphic>
      </p:graphicFrame>
      <p:graphicFrame>
        <p:nvGraphicFramePr>
          <p:cNvPr id="196" name=""/>
          <p:cNvGraphicFramePr/>
          <p:nvPr/>
        </p:nvGraphicFramePr>
        <p:xfrm>
          <a:off x="95400" y="3886200"/>
          <a:ext cx="3141360" cy="3200400"/>
        </p:xfrm>
        <a:graphic>
          <a:graphicData uri="http://schemas.openxmlformats.org/presentationml/2006/ole">
            <p:oleObj r:id="rId5" spid="">
              <p:embed/>
              <p:pic>
                <p:nvPicPr>
                  <p:cNvPr id="197" name="" descr=""/>
                  <p:cNvPicPr/>
                  <p:nvPr/>
                </p:nvPicPr>
                <p:blipFill>
                  <a:blip r:embed="rId6"/>
                  <a:stretch/>
                </p:blipFill>
                <p:spPr>
                  <a:xfrm>
                    <a:off x="95400" y="3886200"/>
                    <a:ext cx="3141360" cy="3200400"/>
                  </a:xfrm>
                  <a:prstGeom prst="rect">
                    <a:avLst/>
                  </a:prstGeom>
                  <a:ln w="0">
                    <a:noFill/>
                  </a:ln>
                </p:spPr>
              </p:pic>
            </p:oleObj>
          </a:graphicData>
        </a:graphic>
      </p:graphicFrame>
      <p:sp>
        <p:nvSpPr>
          <p:cNvPr id="198" name=""/>
          <p:cNvSpPr/>
          <p:nvPr/>
        </p:nvSpPr>
        <p:spPr>
          <a:xfrm>
            <a:off x="3367080" y="651348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9" name=""/>
          <p:cNvSpPr/>
          <p:nvPr/>
        </p:nvSpPr>
        <p:spPr>
          <a:xfrm>
            <a:off x="3483360" y="6478560"/>
            <a:ext cx="34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s</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2FB12DB1-B847-49C6-B29D-A15C1B30B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4400" y="359100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01" name=""/>
          <p:cNvSpPr/>
          <p:nvPr/>
        </p:nvSpPr>
        <p:spPr>
          <a:xfrm>
            <a:off x="6207120" y="38098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0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Service Offering</a:t>
            </a:r>
            <a:endParaRPr b="0" lang="en-US" sz="2800" spc="-1" strike="noStrike">
              <a:solidFill>
                <a:srgbClr val="ffff00"/>
              </a:solidFill>
              <a:latin typeface="Arial"/>
            </a:endParaRPr>
          </a:p>
        </p:txBody>
      </p:sp>
      <p:sp>
        <p:nvSpPr>
          <p:cNvPr id="203" name=""/>
          <p:cNvSpPr/>
          <p:nvPr/>
        </p:nvSpPr>
        <p:spPr>
          <a:xfrm>
            <a:off x="3200400" y="142884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sp>
        <p:nvSpPr>
          <p:cNvPr id="204" name=""/>
          <p:cNvSpPr/>
          <p:nvPr/>
        </p:nvSpPr>
        <p:spPr>
          <a:xfrm>
            <a:off x="2913120" y="585144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5" name=""/>
          <p:cNvSpPr/>
          <p:nvPr/>
        </p:nvSpPr>
        <p:spPr>
          <a:xfrm>
            <a:off x="3011040" y="581508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velopment</a:t>
            </a:r>
            <a:endParaRPr b="0" lang="en-US" sz="900" spc="-1" strike="noStrike">
              <a:solidFill>
                <a:srgbClr val="000000"/>
              </a:solidFill>
              <a:latin typeface="Arial"/>
            </a:endParaRPr>
          </a:p>
        </p:txBody>
      </p:sp>
      <p:sp>
        <p:nvSpPr>
          <p:cNvPr id="206" name=""/>
          <p:cNvSpPr/>
          <p:nvPr/>
        </p:nvSpPr>
        <p:spPr>
          <a:xfrm>
            <a:off x="4586400" y="585144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4682160" y="5815080"/>
            <a:ext cx="659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intenance</a:t>
            </a:r>
            <a:endParaRPr b="0" lang="en-US" sz="900" spc="-1" strike="noStrike">
              <a:solidFill>
                <a:srgbClr val="000000"/>
              </a:solidFill>
              <a:latin typeface="Arial"/>
            </a:endParaRPr>
          </a:p>
        </p:txBody>
      </p:sp>
      <p:sp>
        <p:nvSpPr>
          <p:cNvPr id="208" name=""/>
          <p:cNvSpPr/>
          <p:nvPr/>
        </p:nvSpPr>
        <p:spPr>
          <a:xfrm>
            <a:off x="2913120" y="604044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9" name=""/>
          <p:cNvSpPr/>
          <p:nvPr/>
        </p:nvSpPr>
        <p:spPr>
          <a:xfrm>
            <a:off x="3010320" y="6004080"/>
            <a:ext cx="786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engineering</a:t>
            </a:r>
            <a:endParaRPr b="0" lang="en-US" sz="900" spc="-1" strike="noStrike">
              <a:solidFill>
                <a:srgbClr val="000000"/>
              </a:solidFill>
              <a:latin typeface="Arial"/>
            </a:endParaRPr>
          </a:p>
        </p:txBody>
      </p:sp>
      <p:sp>
        <p:nvSpPr>
          <p:cNvPr id="210" name=""/>
          <p:cNvSpPr/>
          <p:nvPr/>
        </p:nvSpPr>
        <p:spPr>
          <a:xfrm>
            <a:off x="4586400" y="6040440"/>
            <a:ext cx="71280" cy="71280"/>
          </a:xfrm>
          <a:prstGeom prst="rect">
            <a:avLst/>
          </a:prstGeom>
          <a:solidFill>
            <a:srgbClr val="00ff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4680720" y="6004080"/>
            <a:ext cx="126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ckage Implementation</a:t>
            </a:r>
            <a:endParaRPr b="0" lang="en-US" sz="900" spc="-1" strike="noStrike">
              <a:solidFill>
                <a:srgbClr val="000000"/>
              </a:solidFill>
              <a:latin typeface="Arial"/>
            </a:endParaRPr>
          </a:p>
        </p:txBody>
      </p:sp>
      <p:sp>
        <p:nvSpPr>
          <p:cNvPr id="212" name=""/>
          <p:cNvSpPr/>
          <p:nvPr/>
        </p:nvSpPr>
        <p:spPr>
          <a:xfrm>
            <a:off x="2913120" y="6219720"/>
            <a:ext cx="73080" cy="73080"/>
          </a:xfrm>
          <a:prstGeom prst="rect">
            <a:avLst/>
          </a:prstGeom>
          <a:solidFill>
            <a:srgbClr val="ff66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 name=""/>
          <p:cNvSpPr/>
          <p:nvPr/>
        </p:nvSpPr>
        <p:spPr>
          <a:xfrm>
            <a:off x="3010680" y="6184800"/>
            <a:ext cx="54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sulting</a:t>
            </a:r>
            <a:endParaRPr b="0" lang="en-US" sz="900" spc="-1" strike="noStrike">
              <a:solidFill>
                <a:srgbClr val="000000"/>
              </a:solidFill>
              <a:latin typeface="Arial"/>
            </a:endParaRPr>
          </a:p>
        </p:txBody>
      </p:sp>
      <p:sp>
        <p:nvSpPr>
          <p:cNvPr id="214" name=""/>
          <p:cNvSpPr/>
          <p:nvPr/>
        </p:nvSpPr>
        <p:spPr>
          <a:xfrm>
            <a:off x="4586400" y="6219720"/>
            <a:ext cx="71280" cy="73080"/>
          </a:xfrm>
          <a:prstGeom prst="rect">
            <a:avLst/>
          </a:prstGeom>
          <a:solidFill>
            <a:srgbClr val="ffff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5" name=""/>
          <p:cNvSpPr/>
          <p:nvPr/>
        </p:nvSpPr>
        <p:spPr>
          <a:xfrm>
            <a:off x="4682880" y="6184800"/>
            <a:ext cx="37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sting</a:t>
            </a:r>
            <a:endParaRPr b="0" lang="en-US" sz="900" spc="-1" strike="noStrike">
              <a:solidFill>
                <a:srgbClr val="000000"/>
              </a:solidFill>
              <a:latin typeface="Arial"/>
            </a:endParaRPr>
          </a:p>
        </p:txBody>
      </p:sp>
      <p:sp>
        <p:nvSpPr>
          <p:cNvPr id="216" name=""/>
          <p:cNvSpPr/>
          <p:nvPr/>
        </p:nvSpPr>
        <p:spPr>
          <a:xfrm>
            <a:off x="2913120" y="6408720"/>
            <a:ext cx="73080" cy="73080"/>
          </a:xfrm>
          <a:prstGeom prst="rect">
            <a:avLst/>
          </a:prstGeom>
          <a:solidFill>
            <a:srgbClr val="0066cc"/>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7" name=""/>
          <p:cNvSpPr/>
          <p:nvPr/>
        </p:nvSpPr>
        <p:spPr>
          <a:xfrm>
            <a:off x="3008520" y="6373800"/>
            <a:ext cx="108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gineering Services</a:t>
            </a:r>
            <a:endParaRPr b="0" lang="en-US" sz="900" spc="-1" strike="noStrike">
              <a:solidFill>
                <a:srgbClr val="000000"/>
              </a:solidFill>
              <a:latin typeface="Arial"/>
            </a:endParaRPr>
          </a:p>
        </p:txBody>
      </p:sp>
      <p:sp>
        <p:nvSpPr>
          <p:cNvPr id="218" name=""/>
          <p:cNvSpPr/>
          <p:nvPr/>
        </p:nvSpPr>
        <p:spPr>
          <a:xfrm>
            <a:off x="4586400" y="6408720"/>
            <a:ext cx="71280" cy="73080"/>
          </a:xfrm>
          <a:prstGeom prst="rect">
            <a:avLst/>
          </a:prstGeom>
          <a:solidFill>
            <a:srgbClr val="ccccff"/>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9" name=""/>
          <p:cNvSpPr/>
          <p:nvPr/>
        </p:nvSpPr>
        <p:spPr>
          <a:xfrm>
            <a:off x="4679280" y="6373800"/>
            <a:ext cx="1617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usiness Process Management</a:t>
            </a:r>
            <a:endParaRPr b="0" lang="en-US" sz="900" spc="-1" strike="noStrike">
              <a:solidFill>
                <a:srgbClr val="000000"/>
              </a:solidFill>
              <a:latin typeface="Arial"/>
            </a:endParaRPr>
          </a:p>
        </p:txBody>
      </p:sp>
      <p:sp>
        <p:nvSpPr>
          <p:cNvPr id="220" name=""/>
          <p:cNvSpPr/>
          <p:nvPr/>
        </p:nvSpPr>
        <p:spPr>
          <a:xfrm>
            <a:off x="2743200" y="5676840"/>
            <a:ext cx="3676680" cy="106704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 name=""/>
          <p:cNvGraphicFramePr/>
          <p:nvPr/>
        </p:nvGraphicFramePr>
        <p:xfrm>
          <a:off x="2819520" y="1738440"/>
          <a:ext cx="4038480" cy="4114800"/>
        </p:xfrm>
        <a:graphic>
          <a:graphicData uri="http://schemas.openxmlformats.org/presentationml/2006/ole">
            <p:oleObj r:id="rId1" spid="">
              <p:embed/>
              <p:pic>
                <p:nvPicPr>
                  <p:cNvPr id="222" name="" descr=""/>
                  <p:cNvPicPr/>
                  <p:nvPr/>
                </p:nvPicPr>
                <p:blipFill>
                  <a:blip r:embed="rId2"/>
                  <a:stretch/>
                </p:blipFill>
                <p:spPr>
                  <a:xfrm>
                    <a:off x="2819520" y="1738440"/>
                    <a:ext cx="4038480" cy="4114800"/>
                  </a:xfrm>
                  <a:prstGeom prst="rect">
                    <a:avLst/>
                  </a:prstGeom>
                  <a:ln w="0">
                    <a:noFill/>
                  </a:ln>
                </p:spPr>
              </p:pic>
            </p:oleObj>
          </a:graphicData>
        </a:graphic>
      </p:graphicFrame>
      <p:sp>
        <p:nvSpPr>
          <p:cNvPr id="223" name=""/>
          <p:cNvSpPr/>
          <p:nvPr/>
        </p:nvSpPr>
        <p:spPr>
          <a:xfrm>
            <a:off x="2909880" y="6575400"/>
            <a:ext cx="71280" cy="73080"/>
          </a:xfrm>
          <a:prstGeom prst="rect">
            <a:avLst/>
          </a:prstGeom>
          <a:solidFill>
            <a:srgbClr val="ff33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 name=""/>
          <p:cNvSpPr/>
          <p:nvPr/>
        </p:nvSpPr>
        <p:spPr>
          <a:xfrm>
            <a:off x="3024720" y="6540480"/>
            <a:ext cx="76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Services</a:t>
            </a:r>
            <a:endParaRPr b="0" lang="en-US" sz="900" spc="-1" strike="noStrike">
              <a:solidFill>
                <a:srgbClr val="000000"/>
              </a:solidFill>
              <a:latin typeface="Arial"/>
            </a:endParaRPr>
          </a:p>
        </p:txBody>
      </p:sp>
      <p:graphicFrame>
        <p:nvGraphicFramePr>
          <p:cNvPr id="225" name=""/>
          <p:cNvGraphicFramePr/>
          <p:nvPr/>
        </p:nvGraphicFramePr>
        <p:xfrm>
          <a:off x="293760" y="4064040"/>
          <a:ext cx="2743200" cy="2793960"/>
        </p:xfrm>
        <a:graphic>
          <a:graphicData uri="http://schemas.openxmlformats.org/presentationml/2006/ole">
            <p:oleObj r:id="rId3" spid="">
              <p:embed/>
              <p:pic>
                <p:nvPicPr>
                  <p:cNvPr id="226" name="" descr=""/>
                  <p:cNvPicPr/>
                  <p:nvPr/>
                </p:nvPicPr>
                <p:blipFill>
                  <a:blip r:embed="rId4"/>
                  <a:stretch/>
                </p:blipFill>
                <p:spPr>
                  <a:xfrm>
                    <a:off x="293760" y="4064040"/>
                    <a:ext cx="2743200" cy="2793960"/>
                  </a:xfrm>
                  <a:prstGeom prst="rect">
                    <a:avLst/>
                  </a:prstGeom>
                  <a:ln w="0">
                    <a:noFill/>
                  </a:ln>
                </p:spPr>
              </p:pic>
            </p:oleObj>
          </a:graphicData>
        </a:graphic>
      </p:graphicFrame>
      <p:graphicFrame>
        <p:nvGraphicFramePr>
          <p:cNvPr id="227" name=""/>
          <p:cNvGraphicFramePr/>
          <p:nvPr/>
        </p:nvGraphicFramePr>
        <p:xfrm>
          <a:off x="6256440" y="4064040"/>
          <a:ext cx="2743200" cy="2793960"/>
        </p:xfrm>
        <a:graphic>
          <a:graphicData uri="http://schemas.openxmlformats.org/presentationml/2006/ole">
            <p:oleObj r:id="rId5" spid="">
              <p:embed/>
              <p:pic>
                <p:nvPicPr>
                  <p:cNvPr id="228" name="" descr=""/>
                  <p:cNvPicPr/>
                  <p:nvPr/>
                </p:nvPicPr>
                <p:blipFill>
                  <a:blip r:embed="rId6"/>
                  <a:stretch/>
                </p:blipFill>
                <p:spPr>
                  <a:xfrm>
                    <a:off x="6256440" y="4064040"/>
                    <a:ext cx="2743200" cy="2793960"/>
                  </a:xfrm>
                  <a:prstGeom prst="rect">
                    <a:avLst/>
                  </a:prstGeom>
                  <a:ln w="0">
                    <a:noFill/>
                  </a:ln>
                </p:spPr>
              </p:pic>
            </p:oleObj>
          </a:graphicData>
        </a:graphic>
      </p:graphicFrame>
      <p:sp>
        <p:nvSpPr>
          <p:cNvPr id="229" name=""/>
          <p:cNvSpPr/>
          <p:nvPr/>
        </p:nvSpPr>
        <p:spPr>
          <a:xfrm>
            <a:off x="4586400" y="6575400"/>
            <a:ext cx="71280" cy="73080"/>
          </a:xfrm>
          <a:prstGeom prst="rect">
            <a:avLst/>
          </a:prstGeom>
          <a:solidFill>
            <a:srgbClr val="669900"/>
          </a:solidFill>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0" name=""/>
          <p:cNvSpPr/>
          <p:nvPr/>
        </p:nvSpPr>
        <p:spPr>
          <a:xfrm>
            <a:off x="4702320" y="65404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FA16AFC5-9E3E-4BBE-BA32-0A14D6C28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49400" y="3772080"/>
            <a:ext cx="2670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4 2003-04</a:t>
            </a:r>
            <a:endParaRPr b="0" lang="en-US" sz="1400" spc="-1" strike="noStrike">
              <a:solidFill>
                <a:srgbClr val="000000"/>
              </a:solidFill>
              <a:latin typeface="Arial"/>
            </a:endParaRPr>
          </a:p>
        </p:txBody>
      </p:sp>
      <p:sp>
        <p:nvSpPr>
          <p:cNvPr id="232" name=""/>
          <p:cNvSpPr/>
          <p:nvPr/>
        </p:nvSpPr>
        <p:spPr>
          <a:xfrm>
            <a:off x="6121440" y="377208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3-04</a:t>
            </a:r>
            <a:endParaRPr b="0" lang="en-US" sz="1400" spc="-1" strike="noStrike">
              <a:solidFill>
                <a:srgbClr val="000000"/>
              </a:solidFill>
              <a:latin typeface="Arial"/>
            </a:endParaRPr>
          </a:p>
        </p:txBody>
      </p:sp>
      <p:sp>
        <p:nvSpPr>
          <p:cNvPr id="23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graphical Footprint</a:t>
            </a:r>
            <a:endParaRPr b="0" lang="en-US" sz="2800" spc="-1" strike="noStrike">
              <a:solidFill>
                <a:srgbClr val="ffff00"/>
              </a:solidFill>
              <a:latin typeface="Arial"/>
            </a:endParaRPr>
          </a:p>
        </p:txBody>
      </p:sp>
      <p:sp>
        <p:nvSpPr>
          <p:cNvPr id="234" name=""/>
          <p:cNvSpPr/>
          <p:nvPr/>
        </p:nvSpPr>
        <p:spPr>
          <a:xfrm>
            <a:off x="3200400" y="1447920"/>
            <a:ext cx="2641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Q1 2004-05</a:t>
            </a:r>
            <a:endParaRPr b="0" lang="en-US" sz="1400" spc="-1" strike="noStrike">
              <a:solidFill>
                <a:srgbClr val="000000"/>
              </a:solidFill>
              <a:latin typeface="Arial"/>
            </a:endParaRPr>
          </a:p>
        </p:txBody>
      </p:sp>
      <p:grpSp>
        <p:nvGrpSpPr>
          <p:cNvPr id="235" name=""/>
          <p:cNvGrpSpPr/>
          <p:nvPr/>
        </p:nvGrpSpPr>
        <p:grpSpPr>
          <a:xfrm>
            <a:off x="3429000" y="5943600"/>
            <a:ext cx="2438280" cy="457200"/>
            <a:chOff x="3429000" y="5943600"/>
            <a:chExt cx="2438280" cy="457200"/>
          </a:xfrm>
        </p:grpSpPr>
        <p:sp>
          <p:nvSpPr>
            <p:cNvPr id="236" name=""/>
            <p:cNvSpPr/>
            <p:nvPr/>
          </p:nvSpPr>
          <p:spPr>
            <a:xfrm>
              <a:off x="3522600" y="6051600"/>
              <a:ext cx="73080" cy="71640"/>
            </a:xfrm>
            <a:prstGeom prst="rect">
              <a:avLst/>
            </a:prstGeom>
            <a:solidFill>
              <a:srgbClr val="ffcc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7" name=""/>
            <p:cNvSpPr/>
            <p:nvPr/>
          </p:nvSpPr>
          <p:spPr>
            <a:xfrm>
              <a:off x="3620880" y="6015240"/>
              <a:ext cx="73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th America</a:t>
              </a:r>
              <a:endParaRPr b="0" lang="en-US" sz="900" spc="-1" strike="noStrike">
                <a:solidFill>
                  <a:srgbClr val="000000"/>
                </a:solidFill>
                <a:latin typeface="Arial"/>
              </a:endParaRPr>
            </a:p>
          </p:txBody>
        </p:sp>
        <p:sp>
          <p:nvSpPr>
            <p:cNvPr id="238" name=""/>
            <p:cNvSpPr/>
            <p:nvPr/>
          </p:nvSpPr>
          <p:spPr>
            <a:xfrm>
              <a:off x="5195880" y="6051600"/>
              <a:ext cx="71280" cy="71640"/>
            </a:xfrm>
            <a:prstGeom prst="rect">
              <a:avLst/>
            </a:prstGeom>
            <a:solidFill>
              <a:srgbClr val="00ff00"/>
            </a:solidFill>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9" name=""/>
            <p:cNvSpPr/>
            <p:nvPr/>
          </p:nvSpPr>
          <p:spPr>
            <a:xfrm>
              <a:off x="5292720" y="6015240"/>
              <a:ext cx="371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urope</a:t>
              </a:r>
              <a:endParaRPr b="0" lang="en-US" sz="900" spc="-1" strike="noStrike">
                <a:solidFill>
                  <a:srgbClr val="000000"/>
                </a:solidFill>
                <a:latin typeface="Arial"/>
              </a:endParaRPr>
            </a:p>
          </p:txBody>
        </p:sp>
        <p:sp>
          <p:nvSpPr>
            <p:cNvPr id="240" name=""/>
            <p:cNvSpPr/>
            <p:nvPr/>
          </p:nvSpPr>
          <p:spPr>
            <a:xfrm>
              <a:off x="3522600" y="6240600"/>
              <a:ext cx="73080" cy="71280"/>
            </a:xfrm>
            <a:prstGeom prst="rect">
              <a:avLst/>
            </a:prstGeom>
            <a:solidFill>
              <a:srgbClr val="ff00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1" name=""/>
            <p:cNvSpPr/>
            <p:nvPr/>
          </p:nvSpPr>
          <p:spPr>
            <a:xfrm>
              <a:off x="3619440" y="6204240"/>
              <a:ext cx="889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t of the World</a:t>
              </a:r>
              <a:endParaRPr b="0" lang="en-US" sz="900" spc="-1" strike="noStrike">
                <a:solidFill>
                  <a:srgbClr val="000000"/>
                </a:solidFill>
                <a:latin typeface="Arial"/>
              </a:endParaRPr>
            </a:p>
          </p:txBody>
        </p:sp>
        <p:sp>
          <p:nvSpPr>
            <p:cNvPr id="242" name=""/>
            <p:cNvSpPr/>
            <p:nvPr/>
          </p:nvSpPr>
          <p:spPr>
            <a:xfrm>
              <a:off x="5195880" y="6240600"/>
              <a:ext cx="712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3" name=""/>
            <p:cNvSpPr/>
            <p:nvPr/>
          </p:nvSpPr>
          <p:spPr>
            <a:xfrm>
              <a:off x="5292720" y="6204240"/>
              <a:ext cx="25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dia</a:t>
              </a:r>
              <a:endParaRPr b="0" lang="en-US" sz="900" spc="-1" strike="noStrike">
                <a:solidFill>
                  <a:srgbClr val="000000"/>
                </a:solidFill>
                <a:latin typeface="Arial"/>
              </a:endParaRPr>
            </a:p>
          </p:txBody>
        </p:sp>
        <p:sp>
          <p:nvSpPr>
            <p:cNvPr id="244" name=""/>
            <p:cNvSpPr/>
            <p:nvPr/>
          </p:nvSpPr>
          <p:spPr>
            <a:xfrm>
              <a:off x="3429000" y="5943600"/>
              <a:ext cx="2438280" cy="4572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7340760" y="4241880"/>
            <a:ext cx="14436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221600" y="4267080"/>
            <a:ext cx="263520" cy="827280"/>
          </a:xfrm>
          <a:custGeom>
            <a:avLst/>
            <a:gdLst/>
            <a:ahLst/>
            <a:rect l="l" t="t" r="r" b="b"/>
            <a:pathLst>
              <a:path w="166" h="521">
                <a:moveTo>
                  <a:pt x="166" y="442"/>
                </a:moveTo>
                <a:lnTo>
                  <a:pt x="0" y="0"/>
                </a:lnTo>
                <a:lnTo>
                  <a:pt x="0" y="79"/>
                </a:lnTo>
                <a:lnTo>
                  <a:pt x="166" y="521"/>
                </a:lnTo>
                <a:lnTo>
                  <a:pt x="166" y="442"/>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21600" y="4241880"/>
            <a:ext cx="263520" cy="726840"/>
          </a:xfrm>
          <a:custGeom>
            <a:avLst/>
            <a:gdLst/>
            <a:ahLst/>
            <a:rect l="l" t="t" r="r" b="b"/>
            <a:pathLst>
              <a:path w="166" h="458">
                <a:moveTo>
                  <a:pt x="0" y="16"/>
                </a:moveTo>
                <a:lnTo>
                  <a:pt x="7" y="12"/>
                </a:lnTo>
                <a:lnTo>
                  <a:pt x="26" y="8"/>
                </a:lnTo>
                <a:lnTo>
                  <a:pt x="33" y="4"/>
                </a:lnTo>
                <a:lnTo>
                  <a:pt x="45" y="4"/>
                </a:lnTo>
                <a:lnTo>
                  <a:pt x="64" y="0"/>
                </a:lnTo>
                <a:lnTo>
                  <a:pt x="71" y="0"/>
                </a:lnTo>
                <a:lnTo>
                  <a:pt x="166" y="458"/>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962760" y="4386240"/>
            <a:ext cx="522360" cy="708120"/>
          </a:xfrm>
          <a:custGeom>
            <a:avLst/>
            <a:gdLst/>
            <a:ahLst/>
            <a:rect l="l" t="t" r="r" b="b"/>
            <a:pathLst>
              <a:path w="329" h="446">
                <a:moveTo>
                  <a:pt x="329" y="367"/>
                </a:moveTo>
                <a:lnTo>
                  <a:pt x="0" y="0"/>
                </a:lnTo>
                <a:lnTo>
                  <a:pt x="0" y="79"/>
                </a:lnTo>
                <a:lnTo>
                  <a:pt x="329" y="446"/>
                </a:lnTo>
                <a:lnTo>
                  <a:pt x="329" y="36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956280" y="4267080"/>
            <a:ext cx="528840" cy="701640"/>
          </a:xfrm>
          <a:custGeom>
            <a:avLst/>
            <a:gdLst/>
            <a:ahLst/>
            <a:rect l="l" t="t" r="r" b="b"/>
            <a:pathLst>
              <a:path w="333" h="442">
                <a:moveTo>
                  <a:pt x="0" y="75"/>
                </a:moveTo>
                <a:lnTo>
                  <a:pt x="8" y="71"/>
                </a:lnTo>
                <a:lnTo>
                  <a:pt x="23" y="60"/>
                </a:lnTo>
                <a:lnTo>
                  <a:pt x="31" y="56"/>
                </a:lnTo>
                <a:lnTo>
                  <a:pt x="38" y="52"/>
                </a:lnTo>
                <a:lnTo>
                  <a:pt x="57" y="41"/>
                </a:lnTo>
                <a:lnTo>
                  <a:pt x="65" y="37"/>
                </a:lnTo>
                <a:lnTo>
                  <a:pt x="72" y="34"/>
                </a:lnTo>
                <a:lnTo>
                  <a:pt x="87" y="26"/>
                </a:lnTo>
                <a:lnTo>
                  <a:pt x="99" y="22"/>
                </a:lnTo>
                <a:lnTo>
                  <a:pt x="106" y="18"/>
                </a:lnTo>
                <a:lnTo>
                  <a:pt x="121" y="15"/>
                </a:lnTo>
                <a:lnTo>
                  <a:pt x="133" y="11"/>
                </a:lnTo>
                <a:lnTo>
                  <a:pt x="140" y="7"/>
                </a:lnTo>
                <a:lnTo>
                  <a:pt x="159" y="0"/>
                </a:lnTo>
                <a:lnTo>
                  <a:pt x="167" y="0"/>
                </a:lnTo>
                <a:lnTo>
                  <a:pt x="333" y="442"/>
                </a:lnTo>
                <a:lnTo>
                  <a:pt x="0" y="7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32640" y="4968720"/>
            <a:ext cx="12600" cy="263520"/>
          </a:xfrm>
          <a:custGeom>
            <a:avLst/>
            <a:gdLst/>
            <a:ahLst/>
            <a:rect l="l" t="t" r="r" b="b"/>
            <a:pathLst>
              <a:path w="8" h="166">
                <a:moveTo>
                  <a:pt x="8" y="86"/>
                </a:moveTo>
                <a:lnTo>
                  <a:pt x="8" y="79"/>
                </a:lnTo>
                <a:lnTo>
                  <a:pt x="4" y="71"/>
                </a:lnTo>
                <a:lnTo>
                  <a:pt x="4" y="56"/>
                </a:lnTo>
                <a:lnTo>
                  <a:pt x="4" y="49"/>
                </a:lnTo>
                <a:lnTo>
                  <a:pt x="0" y="37"/>
                </a:lnTo>
                <a:lnTo>
                  <a:pt x="0" y="30"/>
                </a:lnTo>
                <a:lnTo>
                  <a:pt x="0" y="15"/>
                </a:lnTo>
                <a:lnTo>
                  <a:pt x="0" y="7"/>
                </a:lnTo>
                <a:lnTo>
                  <a:pt x="0" y="0"/>
                </a:lnTo>
                <a:lnTo>
                  <a:pt x="0" y="79"/>
                </a:lnTo>
                <a:lnTo>
                  <a:pt x="0" y="86"/>
                </a:lnTo>
                <a:lnTo>
                  <a:pt x="0" y="94"/>
                </a:lnTo>
                <a:lnTo>
                  <a:pt x="0" y="109"/>
                </a:lnTo>
                <a:lnTo>
                  <a:pt x="0" y="117"/>
                </a:lnTo>
                <a:lnTo>
                  <a:pt x="4" y="128"/>
                </a:lnTo>
                <a:lnTo>
                  <a:pt x="4" y="136"/>
                </a:lnTo>
                <a:lnTo>
                  <a:pt x="4" y="151"/>
                </a:lnTo>
                <a:lnTo>
                  <a:pt x="8" y="158"/>
                </a:lnTo>
                <a:lnTo>
                  <a:pt x="8" y="166"/>
                </a:lnTo>
                <a:lnTo>
                  <a:pt x="8" y="8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651720" y="4968720"/>
            <a:ext cx="833400" cy="263520"/>
          </a:xfrm>
          <a:custGeom>
            <a:avLst/>
            <a:gdLst/>
            <a:ahLst/>
            <a:rect l="l" t="t" r="r" b="b"/>
            <a:pathLst>
              <a:path w="525" h="166">
                <a:moveTo>
                  <a:pt x="525" y="0"/>
                </a:moveTo>
                <a:lnTo>
                  <a:pt x="0" y="86"/>
                </a:lnTo>
                <a:lnTo>
                  <a:pt x="0" y="166"/>
                </a:lnTo>
                <a:lnTo>
                  <a:pt x="525" y="79"/>
                </a:lnTo>
                <a:lnTo>
                  <a:pt x="5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32640" y="4386240"/>
            <a:ext cx="852480" cy="725400"/>
          </a:xfrm>
          <a:custGeom>
            <a:avLst/>
            <a:gdLst/>
            <a:ahLst/>
            <a:rect l="l" t="t" r="r" b="b"/>
            <a:pathLst>
              <a:path w="537" h="457">
                <a:moveTo>
                  <a:pt x="8" y="457"/>
                </a:moveTo>
                <a:lnTo>
                  <a:pt x="8" y="450"/>
                </a:lnTo>
                <a:lnTo>
                  <a:pt x="4" y="431"/>
                </a:lnTo>
                <a:lnTo>
                  <a:pt x="4" y="423"/>
                </a:lnTo>
                <a:lnTo>
                  <a:pt x="4" y="416"/>
                </a:lnTo>
                <a:lnTo>
                  <a:pt x="0" y="401"/>
                </a:lnTo>
                <a:lnTo>
                  <a:pt x="0" y="393"/>
                </a:lnTo>
                <a:lnTo>
                  <a:pt x="0" y="385"/>
                </a:lnTo>
                <a:lnTo>
                  <a:pt x="0" y="367"/>
                </a:lnTo>
                <a:lnTo>
                  <a:pt x="0" y="359"/>
                </a:lnTo>
                <a:lnTo>
                  <a:pt x="0" y="351"/>
                </a:lnTo>
                <a:lnTo>
                  <a:pt x="0" y="344"/>
                </a:lnTo>
                <a:lnTo>
                  <a:pt x="0" y="325"/>
                </a:lnTo>
                <a:lnTo>
                  <a:pt x="4" y="317"/>
                </a:lnTo>
                <a:lnTo>
                  <a:pt x="4" y="310"/>
                </a:lnTo>
                <a:lnTo>
                  <a:pt x="4" y="295"/>
                </a:lnTo>
                <a:lnTo>
                  <a:pt x="8" y="287"/>
                </a:lnTo>
                <a:lnTo>
                  <a:pt x="8" y="280"/>
                </a:lnTo>
                <a:lnTo>
                  <a:pt x="12" y="261"/>
                </a:lnTo>
                <a:lnTo>
                  <a:pt x="16" y="253"/>
                </a:lnTo>
                <a:lnTo>
                  <a:pt x="19" y="246"/>
                </a:lnTo>
                <a:lnTo>
                  <a:pt x="23" y="231"/>
                </a:lnTo>
                <a:lnTo>
                  <a:pt x="27" y="223"/>
                </a:lnTo>
                <a:lnTo>
                  <a:pt x="27" y="215"/>
                </a:lnTo>
                <a:lnTo>
                  <a:pt x="34" y="200"/>
                </a:lnTo>
                <a:lnTo>
                  <a:pt x="38" y="193"/>
                </a:lnTo>
                <a:lnTo>
                  <a:pt x="42" y="185"/>
                </a:lnTo>
                <a:lnTo>
                  <a:pt x="46" y="178"/>
                </a:lnTo>
                <a:lnTo>
                  <a:pt x="53" y="163"/>
                </a:lnTo>
                <a:lnTo>
                  <a:pt x="57" y="155"/>
                </a:lnTo>
                <a:lnTo>
                  <a:pt x="61" y="147"/>
                </a:lnTo>
                <a:lnTo>
                  <a:pt x="72" y="132"/>
                </a:lnTo>
                <a:lnTo>
                  <a:pt x="76" y="129"/>
                </a:lnTo>
                <a:lnTo>
                  <a:pt x="80" y="121"/>
                </a:lnTo>
                <a:lnTo>
                  <a:pt x="91" y="106"/>
                </a:lnTo>
                <a:lnTo>
                  <a:pt x="95" y="98"/>
                </a:lnTo>
                <a:lnTo>
                  <a:pt x="102" y="95"/>
                </a:lnTo>
                <a:lnTo>
                  <a:pt x="114" y="79"/>
                </a:lnTo>
                <a:lnTo>
                  <a:pt x="118" y="76"/>
                </a:lnTo>
                <a:lnTo>
                  <a:pt x="125" y="68"/>
                </a:lnTo>
                <a:lnTo>
                  <a:pt x="136" y="57"/>
                </a:lnTo>
                <a:lnTo>
                  <a:pt x="144" y="49"/>
                </a:lnTo>
                <a:lnTo>
                  <a:pt x="151" y="42"/>
                </a:lnTo>
                <a:lnTo>
                  <a:pt x="155" y="38"/>
                </a:lnTo>
                <a:lnTo>
                  <a:pt x="170" y="27"/>
                </a:lnTo>
                <a:lnTo>
                  <a:pt x="178" y="19"/>
                </a:lnTo>
                <a:lnTo>
                  <a:pt x="185" y="15"/>
                </a:lnTo>
                <a:lnTo>
                  <a:pt x="197" y="4"/>
                </a:lnTo>
                <a:lnTo>
                  <a:pt x="204" y="0"/>
                </a:lnTo>
                <a:lnTo>
                  <a:pt x="537" y="367"/>
                </a:lnTo>
                <a:lnTo>
                  <a:pt x="8" y="45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645240" y="4968720"/>
            <a:ext cx="1690560" cy="863640"/>
          </a:xfrm>
          <a:custGeom>
            <a:avLst/>
            <a:gdLst/>
            <a:ahLst/>
            <a:rect l="l" t="t" r="r" b="b"/>
            <a:pathLst>
              <a:path w="1065" h="544">
                <a:moveTo>
                  <a:pt x="1065" y="0"/>
                </a:moveTo>
                <a:lnTo>
                  <a:pt x="1065" y="7"/>
                </a:lnTo>
                <a:lnTo>
                  <a:pt x="1065" y="22"/>
                </a:lnTo>
                <a:lnTo>
                  <a:pt x="1061" y="30"/>
                </a:lnTo>
                <a:lnTo>
                  <a:pt x="1061" y="37"/>
                </a:lnTo>
                <a:lnTo>
                  <a:pt x="1061" y="56"/>
                </a:lnTo>
                <a:lnTo>
                  <a:pt x="1057" y="64"/>
                </a:lnTo>
                <a:lnTo>
                  <a:pt x="1057" y="71"/>
                </a:lnTo>
                <a:lnTo>
                  <a:pt x="1057" y="79"/>
                </a:lnTo>
                <a:lnTo>
                  <a:pt x="1054" y="94"/>
                </a:lnTo>
                <a:lnTo>
                  <a:pt x="1050" y="102"/>
                </a:lnTo>
                <a:lnTo>
                  <a:pt x="1050" y="113"/>
                </a:lnTo>
                <a:lnTo>
                  <a:pt x="1042" y="128"/>
                </a:lnTo>
                <a:lnTo>
                  <a:pt x="1042" y="136"/>
                </a:lnTo>
                <a:lnTo>
                  <a:pt x="1038" y="143"/>
                </a:lnTo>
                <a:lnTo>
                  <a:pt x="1031" y="158"/>
                </a:lnTo>
                <a:lnTo>
                  <a:pt x="1027" y="166"/>
                </a:lnTo>
                <a:lnTo>
                  <a:pt x="1023" y="173"/>
                </a:lnTo>
                <a:lnTo>
                  <a:pt x="1016" y="188"/>
                </a:lnTo>
                <a:lnTo>
                  <a:pt x="1012" y="196"/>
                </a:lnTo>
                <a:lnTo>
                  <a:pt x="1008" y="204"/>
                </a:lnTo>
                <a:lnTo>
                  <a:pt x="1001" y="215"/>
                </a:lnTo>
                <a:lnTo>
                  <a:pt x="997" y="222"/>
                </a:lnTo>
                <a:lnTo>
                  <a:pt x="993" y="230"/>
                </a:lnTo>
                <a:lnTo>
                  <a:pt x="986" y="238"/>
                </a:lnTo>
                <a:lnTo>
                  <a:pt x="978" y="253"/>
                </a:lnTo>
                <a:lnTo>
                  <a:pt x="970" y="260"/>
                </a:lnTo>
                <a:lnTo>
                  <a:pt x="967" y="264"/>
                </a:lnTo>
                <a:lnTo>
                  <a:pt x="955" y="279"/>
                </a:lnTo>
                <a:lnTo>
                  <a:pt x="952" y="283"/>
                </a:lnTo>
                <a:lnTo>
                  <a:pt x="944" y="290"/>
                </a:lnTo>
                <a:lnTo>
                  <a:pt x="933" y="302"/>
                </a:lnTo>
                <a:lnTo>
                  <a:pt x="925" y="309"/>
                </a:lnTo>
                <a:lnTo>
                  <a:pt x="921" y="317"/>
                </a:lnTo>
                <a:lnTo>
                  <a:pt x="906" y="328"/>
                </a:lnTo>
                <a:lnTo>
                  <a:pt x="899" y="332"/>
                </a:lnTo>
                <a:lnTo>
                  <a:pt x="895" y="340"/>
                </a:lnTo>
                <a:lnTo>
                  <a:pt x="887" y="343"/>
                </a:lnTo>
                <a:lnTo>
                  <a:pt x="872" y="355"/>
                </a:lnTo>
                <a:lnTo>
                  <a:pt x="865" y="358"/>
                </a:lnTo>
                <a:lnTo>
                  <a:pt x="857" y="366"/>
                </a:lnTo>
                <a:lnTo>
                  <a:pt x="842" y="374"/>
                </a:lnTo>
                <a:lnTo>
                  <a:pt x="834" y="381"/>
                </a:lnTo>
                <a:lnTo>
                  <a:pt x="827" y="385"/>
                </a:lnTo>
                <a:lnTo>
                  <a:pt x="812" y="392"/>
                </a:lnTo>
                <a:lnTo>
                  <a:pt x="804" y="396"/>
                </a:lnTo>
                <a:lnTo>
                  <a:pt x="797" y="400"/>
                </a:lnTo>
                <a:lnTo>
                  <a:pt x="778" y="408"/>
                </a:lnTo>
                <a:lnTo>
                  <a:pt x="770" y="411"/>
                </a:lnTo>
                <a:lnTo>
                  <a:pt x="763" y="415"/>
                </a:lnTo>
                <a:lnTo>
                  <a:pt x="748" y="423"/>
                </a:lnTo>
                <a:lnTo>
                  <a:pt x="736" y="426"/>
                </a:lnTo>
                <a:lnTo>
                  <a:pt x="729" y="430"/>
                </a:lnTo>
                <a:lnTo>
                  <a:pt x="721" y="434"/>
                </a:lnTo>
                <a:lnTo>
                  <a:pt x="702" y="438"/>
                </a:lnTo>
                <a:lnTo>
                  <a:pt x="695" y="442"/>
                </a:lnTo>
                <a:lnTo>
                  <a:pt x="683" y="442"/>
                </a:lnTo>
                <a:lnTo>
                  <a:pt x="668" y="449"/>
                </a:lnTo>
                <a:lnTo>
                  <a:pt x="657" y="449"/>
                </a:lnTo>
                <a:lnTo>
                  <a:pt x="649" y="453"/>
                </a:lnTo>
                <a:lnTo>
                  <a:pt x="631" y="453"/>
                </a:lnTo>
                <a:lnTo>
                  <a:pt x="619" y="457"/>
                </a:lnTo>
                <a:lnTo>
                  <a:pt x="612" y="457"/>
                </a:lnTo>
                <a:lnTo>
                  <a:pt x="593" y="460"/>
                </a:lnTo>
                <a:lnTo>
                  <a:pt x="585" y="460"/>
                </a:lnTo>
                <a:lnTo>
                  <a:pt x="574" y="460"/>
                </a:lnTo>
                <a:lnTo>
                  <a:pt x="566" y="460"/>
                </a:lnTo>
                <a:lnTo>
                  <a:pt x="548" y="464"/>
                </a:lnTo>
                <a:lnTo>
                  <a:pt x="536" y="464"/>
                </a:lnTo>
                <a:lnTo>
                  <a:pt x="529" y="464"/>
                </a:lnTo>
                <a:lnTo>
                  <a:pt x="510" y="464"/>
                </a:lnTo>
                <a:lnTo>
                  <a:pt x="498" y="464"/>
                </a:lnTo>
                <a:lnTo>
                  <a:pt x="491" y="460"/>
                </a:lnTo>
                <a:lnTo>
                  <a:pt x="472" y="460"/>
                </a:lnTo>
                <a:lnTo>
                  <a:pt x="461" y="460"/>
                </a:lnTo>
                <a:lnTo>
                  <a:pt x="453" y="460"/>
                </a:lnTo>
                <a:lnTo>
                  <a:pt x="434" y="457"/>
                </a:lnTo>
                <a:lnTo>
                  <a:pt x="427" y="453"/>
                </a:lnTo>
                <a:lnTo>
                  <a:pt x="415" y="453"/>
                </a:lnTo>
                <a:lnTo>
                  <a:pt x="408" y="453"/>
                </a:lnTo>
                <a:lnTo>
                  <a:pt x="389" y="449"/>
                </a:lnTo>
                <a:lnTo>
                  <a:pt x="381" y="445"/>
                </a:lnTo>
                <a:lnTo>
                  <a:pt x="370" y="442"/>
                </a:lnTo>
                <a:lnTo>
                  <a:pt x="355" y="438"/>
                </a:lnTo>
                <a:lnTo>
                  <a:pt x="344" y="434"/>
                </a:lnTo>
                <a:lnTo>
                  <a:pt x="336" y="434"/>
                </a:lnTo>
                <a:lnTo>
                  <a:pt x="317" y="426"/>
                </a:lnTo>
                <a:lnTo>
                  <a:pt x="310" y="423"/>
                </a:lnTo>
                <a:lnTo>
                  <a:pt x="302" y="419"/>
                </a:lnTo>
                <a:lnTo>
                  <a:pt x="283" y="411"/>
                </a:lnTo>
                <a:lnTo>
                  <a:pt x="276" y="408"/>
                </a:lnTo>
                <a:lnTo>
                  <a:pt x="268" y="404"/>
                </a:lnTo>
                <a:lnTo>
                  <a:pt x="253" y="396"/>
                </a:lnTo>
                <a:lnTo>
                  <a:pt x="245" y="392"/>
                </a:lnTo>
                <a:lnTo>
                  <a:pt x="234" y="389"/>
                </a:lnTo>
                <a:lnTo>
                  <a:pt x="227" y="385"/>
                </a:lnTo>
                <a:lnTo>
                  <a:pt x="211" y="374"/>
                </a:lnTo>
                <a:lnTo>
                  <a:pt x="204" y="370"/>
                </a:lnTo>
                <a:lnTo>
                  <a:pt x="196" y="366"/>
                </a:lnTo>
                <a:lnTo>
                  <a:pt x="181" y="355"/>
                </a:lnTo>
                <a:lnTo>
                  <a:pt x="177" y="351"/>
                </a:lnTo>
                <a:lnTo>
                  <a:pt x="170" y="343"/>
                </a:lnTo>
                <a:lnTo>
                  <a:pt x="155" y="332"/>
                </a:lnTo>
                <a:lnTo>
                  <a:pt x="147" y="328"/>
                </a:lnTo>
                <a:lnTo>
                  <a:pt x="143" y="321"/>
                </a:lnTo>
                <a:lnTo>
                  <a:pt x="128" y="309"/>
                </a:lnTo>
                <a:lnTo>
                  <a:pt x="125" y="302"/>
                </a:lnTo>
                <a:lnTo>
                  <a:pt x="117" y="298"/>
                </a:lnTo>
                <a:lnTo>
                  <a:pt x="110" y="290"/>
                </a:lnTo>
                <a:lnTo>
                  <a:pt x="98" y="279"/>
                </a:lnTo>
                <a:lnTo>
                  <a:pt x="94" y="272"/>
                </a:lnTo>
                <a:lnTo>
                  <a:pt x="87" y="264"/>
                </a:lnTo>
                <a:lnTo>
                  <a:pt x="79" y="253"/>
                </a:lnTo>
                <a:lnTo>
                  <a:pt x="72" y="245"/>
                </a:lnTo>
                <a:lnTo>
                  <a:pt x="68" y="238"/>
                </a:lnTo>
                <a:lnTo>
                  <a:pt x="60" y="222"/>
                </a:lnTo>
                <a:lnTo>
                  <a:pt x="53" y="215"/>
                </a:lnTo>
                <a:lnTo>
                  <a:pt x="49" y="211"/>
                </a:lnTo>
                <a:lnTo>
                  <a:pt x="42" y="196"/>
                </a:lnTo>
                <a:lnTo>
                  <a:pt x="38" y="188"/>
                </a:lnTo>
                <a:lnTo>
                  <a:pt x="34" y="181"/>
                </a:lnTo>
                <a:lnTo>
                  <a:pt x="26" y="166"/>
                </a:lnTo>
                <a:lnTo>
                  <a:pt x="23" y="158"/>
                </a:lnTo>
                <a:lnTo>
                  <a:pt x="19" y="151"/>
                </a:lnTo>
                <a:lnTo>
                  <a:pt x="19" y="143"/>
                </a:lnTo>
                <a:lnTo>
                  <a:pt x="11" y="128"/>
                </a:lnTo>
                <a:lnTo>
                  <a:pt x="11" y="120"/>
                </a:lnTo>
                <a:lnTo>
                  <a:pt x="8" y="113"/>
                </a:lnTo>
                <a:lnTo>
                  <a:pt x="4" y="94"/>
                </a:lnTo>
                <a:lnTo>
                  <a:pt x="0" y="86"/>
                </a:lnTo>
                <a:lnTo>
                  <a:pt x="0" y="166"/>
                </a:lnTo>
                <a:lnTo>
                  <a:pt x="4" y="173"/>
                </a:lnTo>
                <a:lnTo>
                  <a:pt x="8" y="192"/>
                </a:lnTo>
                <a:lnTo>
                  <a:pt x="11" y="200"/>
                </a:lnTo>
                <a:lnTo>
                  <a:pt x="11" y="207"/>
                </a:lnTo>
                <a:lnTo>
                  <a:pt x="19" y="222"/>
                </a:lnTo>
                <a:lnTo>
                  <a:pt x="19" y="230"/>
                </a:lnTo>
                <a:lnTo>
                  <a:pt x="23" y="238"/>
                </a:lnTo>
                <a:lnTo>
                  <a:pt x="26" y="245"/>
                </a:lnTo>
                <a:lnTo>
                  <a:pt x="34" y="260"/>
                </a:lnTo>
                <a:lnTo>
                  <a:pt x="38" y="268"/>
                </a:lnTo>
                <a:lnTo>
                  <a:pt x="42" y="275"/>
                </a:lnTo>
                <a:lnTo>
                  <a:pt x="49" y="290"/>
                </a:lnTo>
                <a:lnTo>
                  <a:pt x="53" y="294"/>
                </a:lnTo>
                <a:lnTo>
                  <a:pt x="60" y="302"/>
                </a:lnTo>
                <a:lnTo>
                  <a:pt x="68" y="317"/>
                </a:lnTo>
                <a:lnTo>
                  <a:pt x="72" y="324"/>
                </a:lnTo>
                <a:lnTo>
                  <a:pt x="79" y="332"/>
                </a:lnTo>
                <a:lnTo>
                  <a:pt x="87" y="343"/>
                </a:lnTo>
                <a:lnTo>
                  <a:pt x="94" y="351"/>
                </a:lnTo>
                <a:lnTo>
                  <a:pt x="98" y="358"/>
                </a:lnTo>
                <a:lnTo>
                  <a:pt x="110" y="370"/>
                </a:lnTo>
                <a:lnTo>
                  <a:pt x="117" y="377"/>
                </a:lnTo>
                <a:lnTo>
                  <a:pt x="125" y="381"/>
                </a:lnTo>
                <a:lnTo>
                  <a:pt x="128" y="389"/>
                </a:lnTo>
                <a:lnTo>
                  <a:pt x="143" y="400"/>
                </a:lnTo>
                <a:lnTo>
                  <a:pt x="147" y="408"/>
                </a:lnTo>
                <a:lnTo>
                  <a:pt x="155" y="411"/>
                </a:lnTo>
                <a:lnTo>
                  <a:pt x="170" y="423"/>
                </a:lnTo>
                <a:lnTo>
                  <a:pt x="177" y="430"/>
                </a:lnTo>
                <a:lnTo>
                  <a:pt x="181" y="434"/>
                </a:lnTo>
                <a:lnTo>
                  <a:pt x="196" y="445"/>
                </a:lnTo>
                <a:lnTo>
                  <a:pt x="204" y="449"/>
                </a:lnTo>
                <a:lnTo>
                  <a:pt x="211" y="453"/>
                </a:lnTo>
                <a:lnTo>
                  <a:pt x="227" y="464"/>
                </a:lnTo>
                <a:lnTo>
                  <a:pt x="234" y="468"/>
                </a:lnTo>
                <a:lnTo>
                  <a:pt x="245" y="472"/>
                </a:lnTo>
                <a:lnTo>
                  <a:pt x="253" y="476"/>
                </a:lnTo>
                <a:lnTo>
                  <a:pt x="268" y="483"/>
                </a:lnTo>
                <a:lnTo>
                  <a:pt x="276" y="487"/>
                </a:lnTo>
                <a:lnTo>
                  <a:pt x="283" y="491"/>
                </a:lnTo>
                <a:lnTo>
                  <a:pt x="302" y="498"/>
                </a:lnTo>
                <a:lnTo>
                  <a:pt x="310" y="502"/>
                </a:lnTo>
                <a:lnTo>
                  <a:pt x="317" y="506"/>
                </a:lnTo>
                <a:lnTo>
                  <a:pt x="336" y="513"/>
                </a:lnTo>
                <a:lnTo>
                  <a:pt x="344" y="513"/>
                </a:lnTo>
                <a:lnTo>
                  <a:pt x="355" y="517"/>
                </a:lnTo>
                <a:lnTo>
                  <a:pt x="370" y="521"/>
                </a:lnTo>
                <a:lnTo>
                  <a:pt x="381" y="525"/>
                </a:lnTo>
                <a:lnTo>
                  <a:pt x="389" y="528"/>
                </a:lnTo>
                <a:lnTo>
                  <a:pt x="408" y="532"/>
                </a:lnTo>
                <a:lnTo>
                  <a:pt x="415" y="532"/>
                </a:lnTo>
                <a:lnTo>
                  <a:pt x="427" y="532"/>
                </a:lnTo>
                <a:lnTo>
                  <a:pt x="434" y="536"/>
                </a:lnTo>
                <a:lnTo>
                  <a:pt x="453" y="540"/>
                </a:lnTo>
                <a:lnTo>
                  <a:pt x="461" y="540"/>
                </a:lnTo>
                <a:lnTo>
                  <a:pt x="472" y="540"/>
                </a:lnTo>
                <a:lnTo>
                  <a:pt x="491" y="540"/>
                </a:lnTo>
                <a:lnTo>
                  <a:pt x="498" y="544"/>
                </a:lnTo>
                <a:lnTo>
                  <a:pt x="510" y="544"/>
                </a:lnTo>
                <a:lnTo>
                  <a:pt x="529" y="544"/>
                </a:lnTo>
                <a:lnTo>
                  <a:pt x="536" y="544"/>
                </a:lnTo>
                <a:lnTo>
                  <a:pt x="548" y="544"/>
                </a:lnTo>
                <a:lnTo>
                  <a:pt x="566" y="540"/>
                </a:lnTo>
                <a:lnTo>
                  <a:pt x="574" y="540"/>
                </a:lnTo>
                <a:lnTo>
                  <a:pt x="585" y="540"/>
                </a:lnTo>
                <a:lnTo>
                  <a:pt x="593" y="540"/>
                </a:lnTo>
                <a:lnTo>
                  <a:pt x="612" y="536"/>
                </a:lnTo>
                <a:lnTo>
                  <a:pt x="619" y="536"/>
                </a:lnTo>
                <a:lnTo>
                  <a:pt x="631" y="532"/>
                </a:lnTo>
                <a:lnTo>
                  <a:pt x="649" y="532"/>
                </a:lnTo>
                <a:lnTo>
                  <a:pt x="657" y="528"/>
                </a:lnTo>
                <a:lnTo>
                  <a:pt x="668" y="528"/>
                </a:lnTo>
                <a:lnTo>
                  <a:pt x="683" y="521"/>
                </a:lnTo>
                <a:lnTo>
                  <a:pt x="695" y="521"/>
                </a:lnTo>
                <a:lnTo>
                  <a:pt x="702" y="517"/>
                </a:lnTo>
                <a:lnTo>
                  <a:pt x="721" y="513"/>
                </a:lnTo>
                <a:lnTo>
                  <a:pt x="729" y="510"/>
                </a:lnTo>
                <a:lnTo>
                  <a:pt x="736" y="506"/>
                </a:lnTo>
                <a:lnTo>
                  <a:pt x="748" y="502"/>
                </a:lnTo>
                <a:lnTo>
                  <a:pt x="763" y="494"/>
                </a:lnTo>
                <a:lnTo>
                  <a:pt x="770" y="491"/>
                </a:lnTo>
                <a:lnTo>
                  <a:pt x="778" y="487"/>
                </a:lnTo>
                <a:lnTo>
                  <a:pt x="797" y="479"/>
                </a:lnTo>
                <a:lnTo>
                  <a:pt x="804" y="476"/>
                </a:lnTo>
                <a:lnTo>
                  <a:pt x="812" y="472"/>
                </a:lnTo>
                <a:lnTo>
                  <a:pt x="827" y="464"/>
                </a:lnTo>
                <a:lnTo>
                  <a:pt x="834" y="460"/>
                </a:lnTo>
                <a:lnTo>
                  <a:pt x="842" y="453"/>
                </a:lnTo>
                <a:lnTo>
                  <a:pt x="857" y="445"/>
                </a:lnTo>
                <a:lnTo>
                  <a:pt x="865" y="438"/>
                </a:lnTo>
                <a:lnTo>
                  <a:pt x="872" y="434"/>
                </a:lnTo>
                <a:lnTo>
                  <a:pt x="887" y="423"/>
                </a:lnTo>
                <a:lnTo>
                  <a:pt x="895" y="419"/>
                </a:lnTo>
                <a:lnTo>
                  <a:pt x="899" y="411"/>
                </a:lnTo>
                <a:lnTo>
                  <a:pt x="906" y="408"/>
                </a:lnTo>
                <a:lnTo>
                  <a:pt x="921" y="396"/>
                </a:lnTo>
                <a:lnTo>
                  <a:pt x="925" y="389"/>
                </a:lnTo>
                <a:lnTo>
                  <a:pt x="933" y="381"/>
                </a:lnTo>
                <a:lnTo>
                  <a:pt x="944" y="370"/>
                </a:lnTo>
                <a:lnTo>
                  <a:pt x="952" y="362"/>
                </a:lnTo>
                <a:lnTo>
                  <a:pt x="955" y="358"/>
                </a:lnTo>
                <a:lnTo>
                  <a:pt x="967" y="343"/>
                </a:lnTo>
                <a:lnTo>
                  <a:pt x="970" y="340"/>
                </a:lnTo>
                <a:lnTo>
                  <a:pt x="978" y="332"/>
                </a:lnTo>
                <a:lnTo>
                  <a:pt x="986" y="317"/>
                </a:lnTo>
                <a:lnTo>
                  <a:pt x="993" y="309"/>
                </a:lnTo>
                <a:lnTo>
                  <a:pt x="997" y="302"/>
                </a:lnTo>
                <a:lnTo>
                  <a:pt x="1001" y="294"/>
                </a:lnTo>
                <a:lnTo>
                  <a:pt x="1008" y="283"/>
                </a:lnTo>
                <a:lnTo>
                  <a:pt x="1012" y="275"/>
                </a:lnTo>
                <a:lnTo>
                  <a:pt x="1016" y="268"/>
                </a:lnTo>
                <a:lnTo>
                  <a:pt x="1023" y="253"/>
                </a:lnTo>
                <a:lnTo>
                  <a:pt x="1027" y="245"/>
                </a:lnTo>
                <a:lnTo>
                  <a:pt x="1031" y="238"/>
                </a:lnTo>
                <a:lnTo>
                  <a:pt x="1038" y="222"/>
                </a:lnTo>
                <a:lnTo>
                  <a:pt x="1042" y="215"/>
                </a:lnTo>
                <a:lnTo>
                  <a:pt x="1042" y="207"/>
                </a:lnTo>
                <a:lnTo>
                  <a:pt x="1050" y="192"/>
                </a:lnTo>
                <a:lnTo>
                  <a:pt x="1050" y="181"/>
                </a:lnTo>
                <a:lnTo>
                  <a:pt x="1054" y="173"/>
                </a:lnTo>
                <a:lnTo>
                  <a:pt x="1057" y="158"/>
                </a:lnTo>
                <a:lnTo>
                  <a:pt x="1057" y="151"/>
                </a:lnTo>
                <a:lnTo>
                  <a:pt x="1057" y="143"/>
                </a:lnTo>
                <a:lnTo>
                  <a:pt x="1061" y="136"/>
                </a:lnTo>
                <a:lnTo>
                  <a:pt x="1061" y="117"/>
                </a:lnTo>
                <a:lnTo>
                  <a:pt x="1061" y="109"/>
                </a:lnTo>
                <a:lnTo>
                  <a:pt x="1065" y="102"/>
                </a:lnTo>
                <a:lnTo>
                  <a:pt x="1065" y="86"/>
                </a:lnTo>
                <a:lnTo>
                  <a:pt x="1065" y="79"/>
                </a:lnTo>
                <a:lnTo>
                  <a:pt x="1065"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645240" y="4230720"/>
            <a:ext cx="1690560" cy="1481040"/>
          </a:xfrm>
          <a:custGeom>
            <a:avLst/>
            <a:gdLst/>
            <a:ahLst/>
            <a:rect l="l" t="t" r="r" b="b"/>
            <a:pathLst>
              <a:path w="1065" h="933">
                <a:moveTo>
                  <a:pt x="434" y="7"/>
                </a:moveTo>
                <a:lnTo>
                  <a:pt x="446" y="4"/>
                </a:lnTo>
                <a:lnTo>
                  <a:pt x="461" y="4"/>
                </a:lnTo>
                <a:lnTo>
                  <a:pt x="472" y="0"/>
                </a:lnTo>
                <a:lnTo>
                  <a:pt x="480" y="0"/>
                </a:lnTo>
                <a:lnTo>
                  <a:pt x="498" y="0"/>
                </a:lnTo>
                <a:lnTo>
                  <a:pt x="510" y="0"/>
                </a:lnTo>
                <a:lnTo>
                  <a:pt x="517" y="0"/>
                </a:lnTo>
                <a:lnTo>
                  <a:pt x="536" y="0"/>
                </a:lnTo>
                <a:lnTo>
                  <a:pt x="548" y="0"/>
                </a:lnTo>
                <a:lnTo>
                  <a:pt x="555" y="0"/>
                </a:lnTo>
                <a:lnTo>
                  <a:pt x="574" y="0"/>
                </a:lnTo>
                <a:lnTo>
                  <a:pt x="585" y="0"/>
                </a:lnTo>
                <a:lnTo>
                  <a:pt x="593" y="4"/>
                </a:lnTo>
                <a:lnTo>
                  <a:pt x="604" y="4"/>
                </a:lnTo>
                <a:lnTo>
                  <a:pt x="619" y="7"/>
                </a:lnTo>
                <a:lnTo>
                  <a:pt x="631" y="7"/>
                </a:lnTo>
                <a:lnTo>
                  <a:pt x="638" y="7"/>
                </a:lnTo>
                <a:lnTo>
                  <a:pt x="657" y="11"/>
                </a:lnTo>
                <a:lnTo>
                  <a:pt x="668" y="15"/>
                </a:lnTo>
                <a:lnTo>
                  <a:pt x="676" y="19"/>
                </a:lnTo>
                <a:lnTo>
                  <a:pt x="695" y="23"/>
                </a:lnTo>
                <a:lnTo>
                  <a:pt x="702" y="23"/>
                </a:lnTo>
                <a:lnTo>
                  <a:pt x="710" y="26"/>
                </a:lnTo>
                <a:lnTo>
                  <a:pt x="729" y="34"/>
                </a:lnTo>
                <a:lnTo>
                  <a:pt x="736" y="38"/>
                </a:lnTo>
                <a:lnTo>
                  <a:pt x="748" y="38"/>
                </a:lnTo>
                <a:lnTo>
                  <a:pt x="763" y="45"/>
                </a:lnTo>
                <a:lnTo>
                  <a:pt x="770" y="49"/>
                </a:lnTo>
                <a:lnTo>
                  <a:pt x="778" y="53"/>
                </a:lnTo>
                <a:lnTo>
                  <a:pt x="797" y="60"/>
                </a:lnTo>
                <a:lnTo>
                  <a:pt x="804" y="64"/>
                </a:lnTo>
                <a:lnTo>
                  <a:pt x="812" y="72"/>
                </a:lnTo>
                <a:lnTo>
                  <a:pt x="827" y="79"/>
                </a:lnTo>
                <a:lnTo>
                  <a:pt x="834" y="83"/>
                </a:lnTo>
                <a:lnTo>
                  <a:pt x="842" y="87"/>
                </a:lnTo>
                <a:lnTo>
                  <a:pt x="850" y="94"/>
                </a:lnTo>
                <a:lnTo>
                  <a:pt x="865" y="102"/>
                </a:lnTo>
                <a:lnTo>
                  <a:pt x="872" y="109"/>
                </a:lnTo>
                <a:lnTo>
                  <a:pt x="880" y="113"/>
                </a:lnTo>
                <a:lnTo>
                  <a:pt x="895" y="125"/>
                </a:lnTo>
                <a:lnTo>
                  <a:pt x="899" y="128"/>
                </a:lnTo>
                <a:lnTo>
                  <a:pt x="906" y="136"/>
                </a:lnTo>
                <a:lnTo>
                  <a:pt x="921" y="147"/>
                </a:lnTo>
                <a:lnTo>
                  <a:pt x="925" y="155"/>
                </a:lnTo>
                <a:lnTo>
                  <a:pt x="933" y="159"/>
                </a:lnTo>
                <a:lnTo>
                  <a:pt x="944" y="174"/>
                </a:lnTo>
                <a:lnTo>
                  <a:pt x="952" y="177"/>
                </a:lnTo>
                <a:lnTo>
                  <a:pt x="955" y="185"/>
                </a:lnTo>
                <a:lnTo>
                  <a:pt x="967" y="196"/>
                </a:lnTo>
                <a:lnTo>
                  <a:pt x="970" y="204"/>
                </a:lnTo>
                <a:lnTo>
                  <a:pt x="978" y="211"/>
                </a:lnTo>
                <a:lnTo>
                  <a:pt x="986" y="227"/>
                </a:lnTo>
                <a:lnTo>
                  <a:pt x="993" y="230"/>
                </a:lnTo>
                <a:lnTo>
                  <a:pt x="997" y="238"/>
                </a:lnTo>
                <a:lnTo>
                  <a:pt x="1004" y="253"/>
                </a:lnTo>
                <a:lnTo>
                  <a:pt x="1008" y="261"/>
                </a:lnTo>
                <a:lnTo>
                  <a:pt x="1012" y="268"/>
                </a:lnTo>
                <a:lnTo>
                  <a:pt x="1016" y="276"/>
                </a:lnTo>
                <a:lnTo>
                  <a:pt x="1023" y="291"/>
                </a:lnTo>
                <a:lnTo>
                  <a:pt x="1027" y="298"/>
                </a:lnTo>
                <a:lnTo>
                  <a:pt x="1031" y="306"/>
                </a:lnTo>
                <a:lnTo>
                  <a:pt x="1038" y="321"/>
                </a:lnTo>
                <a:lnTo>
                  <a:pt x="1042" y="329"/>
                </a:lnTo>
                <a:lnTo>
                  <a:pt x="1042" y="336"/>
                </a:lnTo>
                <a:lnTo>
                  <a:pt x="1050" y="351"/>
                </a:lnTo>
                <a:lnTo>
                  <a:pt x="1050" y="359"/>
                </a:lnTo>
                <a:lnTo>
                  <a:pt x="1054" y="370"/>
                </a:lnTo>
                <a:lnTo>
                  <a:pt x="1057" y="385"/>
                </a:lnTo>
                <a:lnTo>
                  <a:pt x="1057" y="393"/>
                </a:lnTo>
                <a:lnTo>
                  <a:pt x="1057" y="400"/>
                </a:lnTo>
                <a:lnTo>
                  <a:pt x="1061" y="415"/>
                </a:lnTo>
                <a:lnTo>
                  <a:pt x="1061" y="423"/>
                </a:lnTo>
                <a:lnTo>
                  <a:pt x="1061" y="434"/>
                </a:lnTo>
                <a:lnTo>
                  <a:pt x="1065" y="449"/>
                </a:lnTo>
                <a:lnTo>
                  <a:pt x="1065" y="457"/>
                </a:lnTo>
                <a:lnTo>
                  <a:pt x="1065" y="465"/>
                </a:lnTo>
                <a:lnTo>
                  <a:pt x="1065" y="483"/>
                </a:lnTo>
                <a:lnTo>
                  <a:pt x="1065" y="491"/>
                </a:lnTo>
                <a:lnTo>
                  <a:pt x="1061" y="499"/>
                </a:lnTo>
                <a:lnTo>
                  <a:pt x="1061" y="506"/>
                </a:lnTo>
                <a:lnTo>
                  <a:pt x="1061" y="521"/>
                </a:lnTo>
                <a:lnTo>
                  <a:pt x="1057" y="529"/>
                </a:lnTo>
                <a:lnTo>
                  <a:pt x="1057" y="540"/>
                </a:lnTo>
                <a:lnTo>
                  <a:pt x="1054" y="555"/>
                </a:lnTo>
                <a:lnTo>
                  <a:pt x="1054" y="563"/>
                </a:lnTo>
                <a:lnTo>
                  <a:pt x="1050" y="570"/>
                </a:lnTo>
                <a:lnTo>
                  <a:pt x="1046" y="585"/>
                </a:lnTo>
                <a:lnTo>
                  <a:pt x="1042" y="593"/>
                </a:lnTo>
                <a:lnTo>
                  <a:pt x="1042" y="601"/>
                </a:lnTo>
                <a:lnTo>
                  <a:pt x="1035" y="616"/>
                </a:lnTo>
                <a:lnTo>
                  <a:pt x="1031" y="623"/>
                </a:lnTo>
                <a:lnTo>
                  <a:pt x="1027" y="635"/>
                </a:lnTo>
                <a:lnTo>
                  <a:pt x="1020" y="650"/>
                </a:lnTo>
                <a:lnTo>
                  <a:pt x="1016" y="653"/>
                </a:lnTo>
                <a:lnTo>
                  <a:pt x="1012" y="661"/>
                </a:lnTo>
                <a:lnTo>
                  <a:pt x="1004" y="676"/>
                </a:lnTo>
                <a:lnTo>
                  <a:pt x="1001" y="684"/>
                </a:lnTo>
                <a:lnTo>
                  <a:pt x="997" y="691"/>
                </a:lnTo>
                <a:lnTo>
                  <a:pt x="986" y="706"/>
                </a:lnTo>
                <a:lnTo>
                  <a:pt x="982" y="714"/>
                </a:lnTo>
                <a:lnTo>
                  <a:pt x="978" y="721"/>
                </a:lnTo>
                <a:lnTo>
                  <a:pt x="967" y="733"/>
                </a:lnTo>
                <a:lnTo>
                  <a:pt x="963" y="740"/>
                </a:lnTo>
                <a:lnTo>
                  <a:pt x="955" y="748"/>
                </a:lnTo>
                <a:lnTo>
                  <a:pt x="952" y="752"/>
                </a:lnTo>
                <a:lnTo>
                  <a:pt x="940" y="767"/>
                </a:lnTo>
                <a:lnTo>
                  <a:pt x="933" y="771"/>
                </a:lnTo>
                <a:lnTo>
                  <a:pt x="925" y="778"/>
                </a:lnTo>
                <a:lnTo>
                  <a:pt x="914" y="789"/>
                </a:lnTo>
                <a:lnTo>
                  <a:pt x="906" y="797"/>
                </a:lnTo>
                <a:lnTo>
                  <a:pt x="899" y="801"/>
                </a:lnTo>
                <a:lnTo>
                  <a:pt x="887" y="812"/>
                </a:lnTo>
                <a:lnTo>
                  <a:pt x="880" y="816"/>
                </a:lnTo>
                <a:lnTo>
                  <a:pt x="872" y="823"/>
                </a:lnTo>
                <a:lnTo>
                  <a:pt x="857" y="835"/>
                </a:lnTo>
                <a:lnTo>
                  <a:pt x="850" y="839"/>
                </a:lnTo>
                <a:lnTo>
                  <a:pt x="842" y="842"/>
                </a:lnTo>
                <a:lnTo>
                  <a:pt x="827" y="854"/>
                </a:lnTo>
                <a:lnTo>
                  <a:pt x="819" y="857"/>
                </a:lnTo>
                <a:lnTo>
                  <a:pt x="812" y="861"/>
                </a:lnTo>
                <a:lnTo>
                  <a:pt x="797" y="869"/>
                </a:lnTo>
                <a:lnTo>
                  <a:pt x="789" y="873"/>
                </a:lnTo>
                <a:lnTo>
                  <a:pt x="778" y="876"/>
                </a:lnTo>
                <a:lnTo>
                  <a:pt x="763" y="884"/>
                </a:lnTo>
                <a:lnTo>
                  <a:pt x="755" y="888"/>
                </a:lnTo>
                <a:lnTo>
                  <a:pt x="748" y="891"/>
                </a:lnTo>
                <a:lnTo>
                  <a:pt x="736" y="895"/>
                </a:lnTo>
                <a:lnTo>
                  <a:pt x="721" y="903"/>
                </a:lnTo>
                <a:lnTo>
                  <a:pt x="710" y="903"/>
                </a:lnTo>
                <a:lnTo>
                  <a:pt x="702" y="907"/>
                </a:lnTo>
                <a:lnTo>
                  <a:pt x="683" y="910"/>
                </a:lnTo>
                <a:lnTo>
                  <a:pt x="676" y="914"/>
                </a:lnTo>
                <a:lnTo>
                  <a:pt x="668" y="918"/>
                </a:lnTo>
                <a:lnTo>
                  <a:pt x="649" y="922"/>
                </a:lnTo>
                <a:lnTo>
                  <a:pt x="638" y="922"/>
                </a:lnTo>
                <a:lnTo>
                  <a:pt x="631" y="922"/>
                </a:lnTo>
                <a:lnTo>
                  <a:pt x="612" y="925"/>
                </a:lnTo>
                <a:lnTo>
                  <a:pt x="604" y="929"/>
                </a:lnTo>
                <a:lnTo>
                  <a:pt x="593" y="929"/>
                </a:lnTo>
                <a:lnTo>
                  <a:pt x="574" y="929"/>
                </a:lnTo>
                <a:lnTo>
                  <a:pt x="566" y="929"/>
                </a:lnTo>
                <a:lnTo>
                  <a:pt x="555" y="933"/>
                </a:lnTo>
                <a:lnTo>
                  <a:pt x="536" y="933"/>
                </a:lnTo>
                <a:lnTo>
                  <a:pt x="529" y="933"/>
                </a:lnTo>
                <a:lnTo>
                  <a:pt x="517" y="933"/>
                </a:lnTo>
                <a:lnTo>
                  <a:pt x="498" y="933"/>
                </a:lnTo>
                <a:lnTo>
                  <a:pt x="491" y="929"/>
                </a:lnTo>
                <a:lnTo>
                  <a:pt x="480" y="929"/>
                </a:lnTo>
                <a:lnTo>
                  <a:pt x="472" y="929"/>
                </a:lnTo>
                <a:lnTo>
                  <a:pt x="453" y="929"/>
                </a:lnTo>
                <a:lnTo>
                  <a:pt x="446" y="925"/>
                </a:lnTo>
                <a:lnTo>
                  <a:pt x="434" y="925"/>
                </a:lnTo>
                <a:lnTo>
                  <a:pt x="415" y="922"/>
                </a:lnTo>
                <a:lnTo>
                  <a:pt x="408" y="922"/>
                </a:lnTo>
                <a:lnTo>
                  <a:pt x="396" y="918"/>
                </a:lnTo>
                <a:lnTo>
                  <a:pt x="381" y="914"/>
                </a:lnTo>
                <a:lnTo>
                  <a:pt x="370" y="910"/>
                </a:lnTo>
                <a:lnTo>
                  <a:pt x="363" y="910"/>
                </a:lnTo>
                <a:lnTo>
                  <a:pt x="344" y="903"/>
                </a:lnTo>
                <a:lnTo>
                  <a:pt x="336" y="903"/>
                </a:lnTo>
                <a:lnTo>
                  <a:pt x="329" y="899"/>
                </a:lnTo>
                <a:lnTo>
                  <a:pt x="310" y="891"/>
                </a:lnTo>
                <a:lnTo>
                  <a:pt x="302" y="888"/>
                </a:lnTo>
                <a:lnTo>
                  <a:pt x="295" y="884"/>
                </a:lnTo>
                <a:lnTo>
                  <a:pt x="276" y="876"/>
                </a:lnTo>
                <a:lnTo>
                  <a:pt x="268" y="873"/>
                </a:lnTo>
                <a:lnTo>
                  <a:pt x="261" y="869"/>
                </a:lnTo>
                <a:lnTo>
                  <a:pt x="245" y="861"/>
                </a:lnTo>
                <a:lnTo>
                  <a:pt x="234" y="857"/>
                </a:lnTo>
                <a:lnTo>
                  <a:pt x="227" y="854"/>
                </a:lnTo>
                <a:lnTo>
                  <a:pt x="219" y="846"/>
                </a:lnTo>
                <a:lnTo>
                  <a:pt x="204" y="839"/>
                </a:lnTo>
                <a:lnTo>
                  <a:pt x="196" y="835"/>
                </a:lnTo>
                <a:lnTo>
                  <a:pt x="189" y="827"/>
                </a:lnTo>
                <a:lnTo>
                  <a:pt x="177" y="816"/>
                </a:lnTo>
                <a:lnTo>
                  <a:pt x="170" y="812"/>
                </a:lnTo>
                <a:lnTo>
                  <a:pt x="162" y="808"/>
                </a:lnTo>
                <a:lnTo>
                  <a:pt x="147" y="797"/>
                </a:lnTo>
                <a:lnTo>
                  <a:pt x="143" y="789"/>
                </a:lnTo>
                <a:lnTo>
                  <a:pt x="136" y="782"/>
                </a:lnTo>
                <a:lnTo>
                  <a:pt x="125" y="771"/>
                </a:lnTo>
                <a:lnTo>
                  <a:pt x="117" y="767"/>
                </a:lnTo>
                <a:lnTo>
                  <a:pt x="110" y="759"/>
                </a:lnTo>
                <a:lnTo>
                  <a:pt x="98" y="748"/>
                </a:lnTo>
                <a:lnTo>
                  <a:pt x="94" y="740"/>
                </a:lnTo>
                <a:lnTo>
                  <a:pt x="87" y="733"/>
                </a:lnTo>
                <a:lnTo>
                  <a:pt x="79" y="721"/>
                </a:lnTo>
                <a:lnTo>
                  <a:pt x="72" y="714"/>
                </a:lnTo>
                <a:lnTo>
                  <a:pt x="68" y="706"/>
                </a:lnTo>
                <a:lnTo>
                  <a:pt x="60" y="691"/>
                </a:lnTo>
                <a:lnTo>
                  <a:pt x="53" y="684"/>
                </a:lnTo>
                <a:lnTo>
                  <a:pt x="49" y="676"/>
                </a:lnTo>
                <a:lnTo>
                  <a:pt x="45" y="669"/>
                </a:lnTo>
                <a:lnTo>
                  <a:pt x="38" y="653"/>
                </a:lnTo>
                <a:lnTo>
                  <a:pt x="34" y="650"/>
                </a:lnTo>
                <a:lnTo>
                  <a:pt x="30" y="642"/>
                </a:lnTo>
                <a:lnTo>
                  <a:pt x="23" y="623"/>
                </a:lnTo>
                <a:lnTo>
                  <a:pt x="19" y="616"/>
                </a:lnTo>
                <a:lnTo>
                  <a:pt x="19" y="608"/>
                </a:lnTo>
                <a:lnTo>
                  <a:pt x="11" y="593"/>
                </a:lnTo>
                <a:lnTo>
                  <a:pt x="11" y="585"/>
                </a:lnTo>
                <a:lnTo>
                  <a:pt x="8" y="578"/>
                </a:lnTo>
                <a:lnTo>
                  <a:pt x="4" y="563"/>
                </a:lnTo>
                <a:lnTo>
                  <a:pt x="0" y="555"/>
                </a:lnTo>
                <a:lnTo>
                  <a:pt x="529" y="465"/>
                </a:lnTo>
                <a:lnTo>
                  <a:pt x="434"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343000" y="5443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4.7%</a:t>
            </a:r>
            <a:endParaRPr b="0" lang="en-US" sz="1200" spc="-1" strike="noStrike">
              <a:solidFill>
                <a:srgbClr val="000000"/>
              </a:solidFill>
              <a:latin typeface="Arial"/>
            </a:endParaRPr>
          </a:p>
        </p:txBody>
      </p:sp>
      <p:sp>
        <p:nvSpPr>
          <p:cNvPr id="256" name=""/>
          <p:cNvSpPr/>
          <p:nvPr/>
        </p:nvSpPr>
        <p:spPr>
          <a:xfrm>
            <a:off x="6180840" y="46767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4%</a:t>
            </a:r>
            <a:endParaRPr b="0" lang="en-US" sz="1200" spc="-1" strike="noStrike">
              <a:solidFill>
                <a:srgbClr val="000000"/>
              </a:solidFill>
              <a:latin typeface="Arial"/>
            </a:endParaRPr>
          </a:p>
        </p:txBody>
      </p:sp>
      <p:sp>
        <p:nvSpPr>
          <p:cNvPr id="257" name=""/>
          <p:cNvSpPr/>
          <p:nvPr/>
        </p:nvSpPr>
        <p:spPr>
          <a:xfrm>
            <a:off x="6732360" y="41511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000000"/>
              </a:solidFill>
              <a:latin typeface="Arial"/>
            </a:endParaRPr>
          </a:p>
        </p:txBody>
      </p:sp>
      <p:sp>
        <p:nvSpPr>
          <p:cNvPr id="258" name=""/>
          <p:cNvSpPr/>
          <p:nvPr/>
        </p:nvSpPr>
        <p:spPr>
          <a:xfrm>
            <a:off x="7122960" y="403848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000000"/>
              </a:solidFill>
              <a:latin typeface="Arial"/>
            </a:endParaRPr>
          </a:p>
        </p:txBody>
      </p:sp>
      <p:sp>
        <p:nvSpPr>
          <p:cNvPr id="259" name=""/>
          <p:cNvSpPr/>
          <p:nvPr/>
        </p:nvSpPr>
        <p:spPr>
          <a:xfrm>
            <a:off x="1473120" y="4241880"/>
            <a:ext cx="144720" cy="852480"/>
          </a:xfrm>
          <a:custGeom>
            <a:avLst/>
            <a:gdLst/>
            <a:ahLst/>
            <a:rect l="l" t="t" r="r" b="b"/>
            <a:pathLst>
              <a:path w="91" h="537">
                <a:moveTo>
                  <a:pt x="91" y="458"/>
                </a:moveTo>
                <a:lnTo>
                  <a:pt x="0" y="0"/>
                </a:lnTo>
                <a:lnTo>
                  <a:pt x="0" y="80"/>
                </a:lnTo>
                <a:lnTo>
                  <a:pt x="91" y="537"/>
                </a:lnTo>
                <a:lnTo>
                  <a:pt x="91" y="458"/>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13000" y="4248000"/>
            <a:ext cx="204840" cy="846360"/>
          </a:xfrm>
          <a:custGeom>
            <a:avLst/>
            <a:gdLst/>
            <a:ahLst/>
            <a:rect l="l" t="t" r="r" b="b"/>
            <a:pathLst>
              <a:path w="129" h="533">
                <a:moveTo>
                  <a:pt x="129" y="454"/>
                </a:moveTo>
                <a:lnTo>
                  <a:pt x="0" y="0"/>
                </a:lnTo>
                <a:lnTo>
                  <a:pt x="0" y="80"/>
                </a:lnTo>
                <a:lnTo>
                  <a:pt x="129" y="533"/>
                </a:lnTo>
                <a:lnTo>
                  <a:pt x="129" y="454"/>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406520" y="4241880"/>
            <a:ext cx="211320" cy="726840"/>
          </a:xfrm>
          <a:custGeom>
            <a:avLst/>
            <a:gdLst/>
            <a:ahLst/>
            <a:rect l="l" t="t" r="r" b="b"/>
            <a:pathLst>
              <a:path w="133" h="458">
                <a:moveTo>
                  <a:pt x="0" y="4"/>
                </a:moveTo>
                <a:lnTo>
                  <a:pt x="12" y="4"/>
                </a:lnTo>
                <a:lnTo>
                  <a:pt x="31" y="0"/>
                </a:lnTo>
                <a:lnTo>
                  <a:pt x="38" y="0"/>
                </a:lnTo>
                <a:lnTo>
                  <a:pt x="133" y="458"/>
                </a:lnTo>
                <a:lnTo>
                  <a:pt x="0" y="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73000" y="4608360"/>
            <a:ext cx="744840" cy="486000"/>
          </a:xfrm>
          <a:custGeom>
            <a:avLst/>
            <a:gdLst/>
            <a:ahLst/>
            <a:rect l="l" t="t" r="r" b="b"/>
            <a:pathLst>
              <a:path w="469" h="306">
                <a:moveTo>
                  <a:pt x="469" y="227"/>
                </a:moveTo>
                <a:lnTo>
                  <a:pt x="0" y="0"/>
                </a:lnTo>
                <a:lnTo>
                  <a:pt x="0" y="79"/>
                </a:lnTo>
                <a:lnTo>
                  <a:pt x="469" y="306"/>
                </a:lnTo>
                <a:lnTo>
                  <a:pt x="469" y="22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73000" y="4248000"/>
            <a:ext cx="744840" cy="720720"/>
          </a:xfrm>
          <a:custGeom>
            <a:avLst/>
            <a:gdLst/>
            <a:ahLst/>
            <a:rect l="l" t="t" r="r" b="b"/>
            <a:pathLst>
              <a:path w="469" h="454">
                <a:moveTo>
                  <a:pt x="0" y="227"/>
                </a:moveTo>
                <a:lnTo>
                  <a:pt x="4" y="219"/>
                </a:lnTo>
                <a:lnTo>
                  <a:pt x="12" y="208"/>
                </a:lnTo>
                <a:lnTo>
                  <a:pt x="19" y="200"/>
                </a:lnTo>
                <a:lnTo>
                  <a:pt x="23" y="193"/>
                </a:lnTo>
                <a:lnTo>
                  <a:pt x="34" y="182"/>
                </a:lnTo>
                <a:lnTo>
                  <a:pt x="38" y="174"/>
                </a:lnTo>
                <a:lnTo>
                  <a:pt x="46" y="166"/>
                </a:lnTo>
                <a:lnTo>
                  <a:pt x="50" y="163"/>
                </a:lnTo>
                <a:lnTo>
                  <a:pt x="65" y="148"/>
                </a:lnTo>
                <a:lnTo>
                  <a:pt x="68" y="144"/>
                </a:lnTo>
                <a:lnTo>
                  <a:pt x="76" y="136"/>
                </a:lnTo>
                <a:lnTo>
                  <a:pt x="87" y="125"/>
                </a:lnTo>
                <a:lnTo>
                  <a:pt x="95" y="117"/>
                </a:lnTo>
                <a:lnTo>
                  <a:pt x="102" y="114"/>
                </a:lnTo>
                <a:lnTo>
                  <a:pt x="117" y="102"/>
                </a:lnTo>
                <a:lnTo>
                  <a:pt x="121" y="98"/>
                </a:lnTo>
                <a:lnTo>
                  <a:pt x="129" y="91"/>
                </a:lnTo>
                <a:lnTo>
                  <a:pt x="144" y="83"/>
                </a:lnTo>
                <a:lnTo>
                  <a:pt x="151" y="76"/>
                </a:lnTo>
                <a:lnTo>
                  <a:pt x="159" y="72"/>
                </a:lnTo>
                <a:lnTo>
                  <a:pt x="167" y="68"/>
                </a:lnTo>
                <a:lnTo>
                  <a:pt x="185" y="61"/>
                </a:lnTo>
                <a:lnTo>
                  <a:pt x="193" y="53"/>
                </a:lnTo>
                <a:lnTo>
                  <a:pt x="201" y="49"/>
                </a:lnTo>
                <a:lnTo>
                  <a:pt x="216" y="42"/>
                </a:lnTo>
                <a:lnTo>
                  <a:pt x="223" y="38"/>
                </a:lnTo>
                <a:lnTo>
                  <a:pt x="235" y="34"/>
                </a:lnTo>
                <a:lnTo>
                  <a:pt x="250" y="27"/>
                </a:lnTo>
                <a:lnTo>
                  <a:pt x="257" y="27"/>
                </a:lnTo>
                <a:lnTo>
                  <a:pt x="269" y="23"/>
                </a:lnTo>
                <a:lnTo>
                  <a:pt x="276" y="19"/>
                </a:lnTo>
                <a:lnTo>
                  <a:pt x="295" y="12"/>
                </a:lnTo>
                <a:lnTo>
                  <a:pt x="302" y="12"/>
                </a:lnTo>
                <a:lnTo>
                  <a:pt x="310" y="8"/>
                </a:lnTo>
                <a:lnTo>
                  <a:pt x="329" y="4"/>
                </a:lnTo>
                <a:lnTo>
                  <a:pt x="336" y="0"/>
                </a:lnTo>
                <a:lnTo>
                  <a:pt x="469" y="454"/>
                </a:lnTo>
                <a:lnTo>
                  <a:pt x="0" y="22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65000" y="4968720"/>
            <a:ext cx="239760" cy="635040"/>
          </a:xfrm>
          <a:custGeom>
            <a:avLst/>
            <a:gdLst/>
            <a:ahLst/>
            <a:rect l="l" t="t" r="r" b="b"/>
            <a:pathLst>
              <a:path w="151" h="400">
                <a:moveTo>
                  <a:pt x="151" y="321"/>
                </a:moveTo>
                <a:lnTo>
                  <a:pt x="144" y="317"/>
                </a:lnTo>
                <a:lnTo>
                  <a:pt x="133" y="302"/>
                </a:lnTo>
                <a:lnTo>
                  <a:pt x="125" y="298"/>
                </a:lnTo>
                <a:lnTo>
                  <a:pt x="118" y="290"/>
                </a:lnTo>
                <a:lnTo>
                  <a:pt x="106" y="279"/>
                </a:lnTo>
                <a:lnTo>
                  <a:pt x="102" y="272"/>
                </a:lnTo>
                <a:lnTo>
                  <a:pt x="95" y="264"/>
                </a:lnTo>
                <a:lnTo>
                  <a:pt x="87" y="253"/>
                </a:lnTo>
                <a:lnTo>
                  <a:pt x="80" y="245"/>
                </a:lnTo>
                <a:lnTo>
                  <a:pt x="76" y="238"/>
                </a:lnTo>
                <a:lnTo>
                  <a:pt x="68" y="222"/>
                </a:lnTo>
                <a:lnTo>
                  <a:pt x="61" y="215"/>
                </a:lnTo>
                <a:lnTo>
                  <a:pt x="57" y="211"/>
                </a:lnTo>
                <a:lnTo>
                  <a:pt x="50" y="196"/>
                </a:lnTo>
                <a:lnTo>
                  <a:pt x="46" y="188"/>
                </a:lnTo>
                <a:lnTo>
                  <a:pt x="42" y="181"/>
                </a:lnTo>
                <a:lnTo>
                  <a:pt x="34" y="166"/>
                </a:lnTo>
                <a:lnTo>
                  <a:pt x="31" y="158"/>
                </a:lnTo>
                <a:lnTo>
                  <a:pt x="27" y="151"/>
                </a:lnTo>
                <a:lnTo>
                  <a:pt x="23" y="136"/>
                </a:lnTo>
                <a:lnTo>
                  <a:pt x="19" y="128"/>
                </a:lnTo>
                <a:lnTo>
                  <a:pt x="19" y="120"/>
                </a:lnTo>
                <a:lnTo>
                  <a:pt x="12" y="102"/>
                </a:lnTo>
                <a:lnTo>
                  <a:pt x="12" y="94"/>
                </a:lnTo>
                <a:lnTo>
                  <a:pt x="8" y="86"/>
                </a:lnTo>
                <a:lnTo>
                  <a:pt x="4" y="71"/>
                </a:lnTo>
                <a:lnTo>
                  <a:pt x="4" y="64"/>
                </a:lnTo>
                <a:lnTo>
                  <a:pt x="4" y="56"/>
                </a:lnTo>
                <a:lnTo>
                  <a:pt x="0" y="37"/>
                </a:lnTo>
                <a:lnTo>
                  <a:pt x="0" y="30"/>
                </a:lnTo>
                <a:lnTo>
                  <a:pt x="0" y="22"/>
                </a:lnTo>
                <a:lnTo>
                  <a:pt x="0" y="7"/>
                </a:lnTo>
                <a:lnTo>
                  <a:pt x="0" y="0"/>
                </a:lnTo>
                <a:lnTo>
                  <a:pt x="0" y="79"/>
                </a:lnTo>
                <a:lnTo>
                  <a:pt x="0" y="86"/>
                </a:lnTo>
                <a:lnTo>
                  <a:pt x="0" y="102"/>
                </a:lnTo>
                <a:lnTo>
                  <a:pt x="0" y="109"/>
                </a:lnTo>
                <a:lnTo>
                  <a:pt x="0" y="117"/>
                </a:lnTo>
                <a:lnTo>
                  <a:pt x="4" y="136"/>
                </a:lnTo>
                <a:lnTo>
                  <a:pt x="4" y="143"/>
                </a:lnTo>
                <a:lnTo>
                  <a:pt x="4" y="151"/>
                </a:lnTo>
                <a:lnTo>
                  <a:pt x="8" y="166"/>
                </a:lnTo>
                <a:lnTo>
                  <a:pt x="12" y="173"/>
                </a:lnTo>
                <a:lnTo>
                  <a:pt x="12" y="181"/>
                </a:lnTo>
                <a:lnTo>
                  <a:pt x="19" y="200"/>
                </a:lnTo>
                <a:lnTo>
                  <a:pt x="19" y="207"/>
                </a:lnTo>
                <a:lnTo>
                  <a:pt x="23" y="215"/>
                </a:lnTo>
                <a:lnTo>
                  <a:pt x="27" y="230"/>
                </a:lnTo>
                <a:lnTo>
                  <a:pt x="31" y="238"/>
                </a:lnTo>
                <a:lnTo>
                  <a:pt x="34" y="245"/>
                </a:lnTo>
                <a:lnTo>
                  <a:pt x="42" y="260"/>
                </a:lnTo>
                <a:lnTo>
                  <a:pt x="46" y="268"/>
                </a:lnTo>
                <a:lnTo>
                  <a:pt x="50" y="275"/>
                </a:lnTo>
                <a:lnTo>
                  <a:pt x="57" y="290"/>
                </a:lnTo>
                <a:lnTo>
                  <a:pt x="61" y="294"/>
                </a:lnTo>
                <a:lnTo>
                  <a:pt x="68" y="302"/>
                </a:lnTo>
                <a:lnTo>
                  <a:pt x="76" y="317"/>
                </a:lnTo>
                <a:lnTo>
                  <a:pt x="80" y="324"/>
                </a:lnTo>
                <a:lnTo>
                  <a:pt x="87" y="332"/>
                </a:lnTo>
                <a:lnTo>
                  <a:pt x="95" y="343"/>
                </a:lnTo>
                <a:lnTo>
                  <a:pt x="102" y="351"/>
                </a:lnTo>
                <a:lnTo>
                  <a:pt x="106" y="358"/>
                </a:lnTo>
                <a:lnTo>
                  <a:pt x="118" y="370"/>
                </a:lnTo>
                <a:lnTo>
                  <a:pt x="125" y="377"/>
                </a:lnTo>
                <a:lnTo>
                  <a:pt x="133" y="381"/>
                </a:lnTo>
                <a:lnTo>
                  <a:pt x="144" y="396"/>
                </a:lnTo>
                <a:lnTo>
                  <a:pt x="151" y="400"/>
                </a:lnTo>
                <a:lnTo>
                  <a:pt x="151" y="3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04760" y="4968720"/>
            <a:ext cx="613080" cy="641520"/>
          </a:xfrm>
          <a:custGeom>
            <a:avLst/>
            <a:gdLst/>
            <a:ahLst/>
            <a:rect l="l" t="t" r="r" b="b"/>
            <a:pathLst>
              <a:path w="386" h="404">
                <a:moveTo>
                  <a:pt x="386" y="0"/>
                </a:moveTo>
                <a:lnTo>
                  <a:pt x="0" y="324"/>
                </a:lnTo>
                <a:lnTo>
                  <a:pt x="0" y="404"/>
                </a:lnTo>
                <a:lnTo>
                  <a:pt x="386" y="79"/>
                </a:lnTo>
                <a:lnTo>
                  <a:pt x="38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65000" y="4608360"/>
            <a:ext cx="852840" cy="874800"/>
          </a:xfrm>
          <a:custGeom>
            <a:avLst/>
            <a:gdLst/>
            <a:ahLst/>
            <a:rect l="l" t="t" r="r" b="b"/>
            <a:pathLst>
              <a:path w="537" h="551">
                <a:moveTo>
                  <a:pt x="151" y="551"/>
                </a:moveTo>
                <a:lnTo>
                  <a:pt x="144" y="544"/>
                </a:lnTo>
                <a:lnTo>
                  <a:pt x="133" y="533"/>
                </a:lnTo>
                <a:lnTo>
                  <a:pt x="125" y="529"/>
                </a:lnTo>
                <a:lnTo>
                  <a:pt x="118" y="521"/>
                </a:lnTo>
                <a:lnTo>
                  <a:pt x="114" y="514"/>
                </a:lnTo>
                <a:lnTo>
                  <a:pt x="102" y="502"/>
                </a:lnTo>
                <a:lnTo>
                  <a:pt x="95" y="495"/>
                </a:lnTo>
                <a:lnTo>
                  <a:pt x="91" y="487"/>
                </a:lnTo>
                <a:lnTo>
                  <a:pt x="80" y="476"/>
                </a:lnTo>
                <a:lnTo>
                  <a:pt x="76" y="468"/>
                </a:lnTo>
                <a:lnTo>
                  <a:pt x="72" y="461"/>
                </a:lnTo>
                <a:lnTo>
                  <a:pt x="68" y="453"/>
                </a:lnTo>
                <a:lnTo>
                  <a:pt x="57" y="438"/>
                </a:lnTo>
                <a:lnTo>
                  <a:pt x="53" y="431"/>
                </a:lnTo>
                <a:lnTo>
                  <a:pt x="50" y="423"/>
                </a:lnTo>
                <a:lnTo>
                  <a:pt x="46" y="415"/>
                </a:lnTo>
                <a:lnTo>
                  <a:pt x="38" y="404"/>
                </a:lnTo>
                <a:lnTo>
                  <a:pt x="34" y="397"/>
                </a:lnTo>
                <a:lnTo>
                  <a:pt x="31" y="385"/>
                </a:lnTo>
                <a:lnTo>
                  <a:pt x="27" y="370"/>
                </a:lnTo>
                <a:lnTo>
                  <a:pt x="23" y="363"/>
                </a:lnTo>
                <a:lnTo>
                  <a:pt x="19" y="355"/>
                </a:lnTo>
                <a:lnTo>
                  <a:pt x="19" y="347"/>
                </a:lnTo>
                <a:lnTo>
                  <a:pt x="12" y="332"/>
                </a:lnTo>
                <a:lnTo>
                  <a:pt x="12" y="325"/>
                </a:lnTo>
                <a:lnTo>
                  <a:pt x="8" y="317"/>
                </a:lnTo>
                <a:lnTo>
                  <a:pt x="4" y="302"/>
                </a:lnTo>
                <a:lnTo>
                  <a:pt x="4" y="291"/>
                </a:lnTo>
                <a:lnTo>
                  <a:pt x="4" y="283"/>
                </a:lnTo>
                <a:lnTo>
                  <a:pt x="4" y="276"/>
                </a:lnTo>
                <a:lnTo>
                  <a:pt x="0" y="261"/>
                </a:lnTo>
                <a:lnTo>
                  <a:pt x="0" y="253"/>
                </a:lnTo>
                <a:lnTo>
                  <a:pt x="0" y="245"/>
                </a:lnTo>
                <a:lnTo>
                  <a:pt x="0" y="227"/>
                </a:lnTo>
                <a:lnTo>
                  <a:pt x="0" y="219"/>
                </a:lnTo>
                <a:lnTo>
                  <a:pt x="0" y="211"/>
                </a:lnTo>
                <a:lnTo>
                  <a:pt x="0" y="204"/>
                </a:lnTo>
                <a:lnTo>
                  <a:pt x="0" y="185"/>
                </a:lnTo>
                <a:lnTo>
                  <a:pt x="4" y="177"/>
                </a:lnTo>
                <a:lnTo>
                  <a:pt x="4" y="170"/>
                </a:lnTo>
                <a:lnTo>
                  <a:pt x="4" y="155"/>
                </a:lnTo>
                <a:lnTo>
                  <a:pt x="8" y="147"/>
                </a:lnTo>
                <a:lnTo>
                  <a:pt x="8" y="140"/>
                </a:lnTo>
                <a:lnTo>
                  <a:pt x="12" y="132"/>
                </a:lnTo>
                <a:lnTo>
                  <a:pt x="16" y="113"/>
                </a:lnTo>
                <a:lnTo>
                  <a:pt x="19" y="106"/>
                </a:lnTo>
                <a:lnTo>
                  <a:pt x="19" y="98"/>
                </a:lnTo>
                <a:lnTo>
                  <a:pt x="23" y="91"/>
                </a:lnTo>
                <a:lnTo>
                  <a:pt x="27" y="75"/>
                </a:lnTo>
                <a:lnTo>
                  <a:pt x="31" y="68"/>
                </a:lnTo>
                <a:lnTo>
                  <a:pt x="34" y="60"/>
                </a:lnTo>
                <a:lnTo>
                  <a:pt x="42" y="45"/>
                </a:lnTo>
                <a:lnTo>
                  <a:pt x="46" y="38"/>
                </a:lnTo>
                <a:lnTo>
                  <a:pt x="50" y="30"/>
                </a:lnTo>
                <a:lnTo>
                  <a:pt x="53" y="23"/>
                </a:lnTo>
                <a:lnTo>
                  <a:pt x="61" y="7"/>
                </a:lnTo>
                <a:lnTo>
                  <a:pt x="68" y="0"/>
                </a:lnTo>
                <a:lnTo>
                  <a:pt x="537" y="227"/>
                </a:lnTo>
                <a:lnTo>
                  <a:pt x="151" y="55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4760" y="4968720"/>
            <a:ext cx="1463760" cy="863640"/>
          </a:xfrm>
          <a:custGeom>
            <a:avLst/>
            <a:gdLst/>
            <a:ahLst/>
            <a:rect l="l" t="t" r="r" b="b"/>
            <a:pathLst>
              <a:path w="922" h="544">
                <a:moveTo>
                  <a:pt x="922" y="0"/>
                </a:moveTo>
                <a:lnTo>
                  <a:pt x="922" y="7"/>
                </a:lnTo>
                <a:lnTo>
                  <a:pt x="922" y="22"/>
                </a:lnTo>
                <a:lnTo>
                  <a:pt x="918" y="30"/>
                </a:lnTo>
                <a:lnTo>
                  <a:pt x="918" y="37"/>
                </a:lnTo>
                <a:lnTo>
                  <a:pt x="918" y="56"/>
                </a:lnTo>
                <a:lnTo>
                  <a:pt x="914" y="64"/>
                </a:lnTo>
                <a:lnTo>
                  <a:pt x="914" y="71"/>
                </a:lnTo>
                <a:lnTo>
                  <a:pt x="910" y="86"/>
                </a:lnTo>
                <a:lnTo>
                  <a:pt x="910" y="94"/>
                </a:lnTo>
                <a:lnTo>
                  <a:pt x="907" y="102"/>
                </a:lnTo>
                <a:lnTo>
                  <a:pt x="903" y="120"/>
                </a:lnTo>
                <a:lnTo>
                  <a:pt x="899" y="128"/>
                </a:lnTo>
                <a:lnTo>
                  <a:pt x="899" y="136"/>
                </a:lnTo>
                <a:lnTo>
                  <a:pt x="892" y="151"/>
                </a:lnTo>
                <a:lnTo>
                  <a:pt x="888" y="158"/>
                </a:lnTo>
                <a:lnTo>
                  <a:pt x="884" y="166"/>
                </a:lnTo>
                <a:lnTo>
                  <a:pt x="877" y="181"/>
                </a:lnTo>
                <a:lnTo>
                  <a:pt x="873" y="188"/>
                </a:lnTo>
                <a:lnTo>
                  <a:pt x="869" y="196"/>
                </a:lnTo>
                <a:lnTo>
                  <a:pt x="861" y="211"/>
                </a:lnTo>
                <a:lnTo>
                  <a:pt x="858" y="215"/>
                </a:lnTo>
                <a:lnTo>
                  <a:pt x="854" y="222"/>
                </a:lnTo>
                <a:lnTo>
                  <a:pt x="843" y="238"/>
                </a:lnTo>
                <a:lnTo>
                  <a:pt x="839" y="245"/>
                </a:lnTo>
                <a:lnTo>
                  <a:pt x="835" y="253"/>
                </a:lnTo>
                <a:lnTo>
                  <a:pt x="824" y="264"/>
                </a:lnTo>
                <a:lnTo>
                  <a:pt x="820" y="272"/>
                </a:lnTo>
                <a:lnTo>
                  <a:pt x="812" y="279"/>
                </a:lnTo>
                <a:lnTo>
                  <a:pt x="801" y="290"/>
                </a:lnTo>
                <a:lnTo>
                  <a:pt x="797" y="298"/>
                </a:lnTo>
                <a:lnTo>
                  <a:pt x="790" y="302"/>
                </a:lnTo>
                <a:lnTo>
                  <a:pt x="778" y="317"/>
                </a:lnTo>
                <a:lnTo>
                  <a:pt x="771" y="321"/>
                </a:lnTo>
                <a:lnTo>
                  <a:pt x="763" y="328"/>
                </a:lnTo>
                <a:lnTo>
                  <a:pt x="752" y="340"/>
                </a:lnTo>
                <a:lnTo>
                  <a:pt x="744" y="343"/>
                </a:lnTo>
                <a:lnTo>
                  <a:pt x="737" y="351"/>
                </a:lnTo>
                <a:lnTo>
                  <a:pt x="722" y="358"/>
                </a:lnTo>
                <a:lnTo>
                  <a:pt x="714" y="366"/>
                </a:lnTo>
                <a:lnTo>
                  <a:pt x="707" y="370"/>
                </a:lnTo>
                <a:lnTo>
                  <a:pt x="691" y="381"/>
                </a:lnTo>
                <a:lnTo>
                  <a:pt x="684" y="385"/>
                </a:lnTo>
                <a:lnTo>
                  <a:pt x="676" y="389"/>
                </a:lnTo>
                <a:lnTo>
                  <a:pt x="661" y="396"/>
                </a:lnTo>
                <a:lnTo>
                  <a:pt x="654" y="400"/>
                </a:lnTo>
                <a:lnTo>
                  <a:pt x="646" y="404"/>
                </a:lnTo>
                <a:lnTo>
                  <a:pt x="627" y="411"/>
                </a:lnTo>
                <a:lnTo>
                  <a:pt x="620" y="415"/>
                </a:lnTo>
                <a:lnTo>
                  <a:pt x="612" y="419"/>
                </a:lnTo>
                <a:lnTo>
                  <a:pt x="593" y="426"/>
                </a:lnTo>
                <a:lnTo>
                  <a:pt x="586" y="430"/>
                </a:lnTo>
                <a:lnTo>
                  <a:pt x="578" y="434"/>
                </a:lnTo>
                <a:lnTo>
                  <a:pt x="559" y="438"/>
                </a:lnTo>
                <a:lnTo>
                  <a:pt x="552" y="442"/>
                </a:lnTo>
                <a:lnTo>
                  <a:pt x="540" y="442"/>
                </a:lnTo>
                <a:lnTo>
                  <a:pt x="525" y="449"/>
                </a:lnTo>
                <a:lnTo>
                  <a:pt x="514" y="449"/>
                </a:lnTo>
                <a:lnTo>
                  <a:pt x="506" y="453"/>
                </a:lnTo>
                <a:lnTo>
                  <a:pt x="488" y="453"/>
                </a:lnTo>
                <a:lnTo>
                  <a:pt x="476" y="457"/>
                </a:lnTo>
                <a:lnTo>
                  <a:pt x="469" y="457"/>
                </a:lnTo>
                <a:lnTo>
                  <a:pt x="450" y="460"/>
                </a:lnTo>
                <a:lnTo>
                  <a:pt x="442" y="460"/>
                </a:lnTo>
                <a:lnTo>
                  <a:pt x="431" y="460"/>
                </a:lnTo>
                <a:lnTo>
                  <a:pt x="412" y="464"/>
                </a:lnTo>
                <a:lnTo>
                  <a:pt x="405" y="464"/>
                </a:lnTo>
                <a:lnTo>
                  <a:pt x="393" y="464"/>
                </a:lnTo>
                <a:lnTo>
                  <a:pt x="374" y="464"/>
                </a:lnTo>
                <a:lnTo>
                  <a:pt x="367" y="464"/>
                </a:lnTo>
                <a:lnTo>
                  <a:pt x="355" y="464"/>
                </a:lnTo>
                <a:lnTo>
                  <a:pt x="337" y="460"/>
                </a:lnTo>
                <a:lnTo>
                  <a:pt x="329" y="460"/>
                </a:lnTo>
                <a:lnTo>
                  <a:pt x="318" y="460"/>
                </a:lnTo>
                <a:lnTo>
                  <a:pt x="303" y="457"/>
                </a:lnTo>
                <a:lnTo>
                  <a:pt x="291" y="457"/>
                </a:lnTo>
                <a:lnTo>
                  <a:pt x="284" y="453"/>
                </a:lnTo>
                <a:lnTo>
                  <a:pt x="265" y="453"/>
                </a:lnTo>
                <a:lnTo>
                  <a:pt x="253" y="449"/>
                </a:lnTo>
                <a:lnTo>
                  <a:pt x="246" y="449"/>
                </a:lnTo>
                <a:lnTo>
                  <a:pt x="227" y="442"/>
                </a:lnTo>
                <a:lnTo>
                  <a:pt x="219" y="442"/>
                </a:lnTo>
                <a:lnTo>
                  <a:pt x="212" y="438"/>
                </a:lnTo>
                <a:lnTo>
                  <a:pt x="193" y="434"/>
                </a:lnTo>
                <a:lnTo>
                  <a:pt x="186" y="430"/>
                </a:lnTo>
                <a:lnTo>
                  <a:pt x="174" y="426"/>
                </a:lnTo>
                <a:lnTo>
                  <a:pt x="159" y="419"/>
                </a:lnTo>
                <a:lnTo>
                  <a:pt x="152" y="415"/>
                </a:lnTo>
                <a:lnTo>
                  <a:pt x="140" y="411"/>
                </a:lnTo>
                <a:lnTo>
                  <a:pt x="125" y="404"/>
                </a:lnTo>
                <a:lnTo>
                  <a:pt x="118" y="400"/>
                </a:lnTo>
                <a:lnTo>
                  <a:pt x="110" y="396"/>
                </a:lnTo>
                <a:lnTo>
                  <a:pt x="91" y="389"/>
                </a:lnTo>
                <a:lnTo>
                  <a:pt x="84" y="385"/>
                </a:lnTo>
                <a:lnTo>
                  <a:pt x="76" y="381"/>
                </a:lnTo>
                <a:lnTo>
                  <a:pt x="61" y="370"/>
                </a:lnTo>
                <a:lnTo>
                  <a:pt x="53" y="366"/>
                </a:lnTo>
                <a:lnTo>
                  <a:pt x="46" y="358"/>
                </a:lnTo>
                <a:lnTo>
                  <a:pt x="34" y="351"/>
                </a:lnTo>
                <a:lnTo>
                  <a:pt x="27" y="343"/>
                </a:lnTo>
                <a:lnTo>
                  <a:pt x="19" y="340"/>
                </a:lnTo>
                <a:lnTo>
                  <a:pt x="4" y="328"/>
                </a:lnTo>
                <a:lnTo>
                  <a:pt x="0" y="321"/>
                </a:lnTo>
                <a:lnTo>
                  <a:pt x="0" y="400"/>
                </a:lnTo>
                <a:lnTo>
                  <a:pt x="4" y="408"/>
                </a:lnTo>
                <a:lnTo>
                  <a:pt x="19" y="419"/>
                </a:lnTo>
                <a:lnTo>
                  <a:pt x="27" y="423"/>
                </a:lnTo>
                <a:lnTo>
                  <a:pt x="34" y="430"/>
                </a:lnTo>
                <a:lnTo>
                  <a:pt x="46" y="438"/>
                </a:lnTo>
                <a:lnTo>
                  <a:pt x="53" y="445"/>
                </a:lnTo>
                <a:lnTo>
                  <a:pt x="61" y="449"/>
                </a:lnTo>
                <a:lnTo>
                  <a:pt x="76" y="460"/>
                </a:lnTo>
                <a:lnTo>
                  <a:pt x="84" y="464"/>
                </a:lnTo>
                <a:lnTo>
                  <a:pt x="91" y="468"/>
                </a:lnTo>
                <a:lnTo>
                  <a:pt x="110" y="476"/>
                </a:lnTo>
                <a:lnTo>
                  <a:pt x="118" y="479"/>
                </a:lnTo>
                <a:lnTo>
                  <a:pt x="125" y="483"/>
                </a:lnTo>
                <a:lnTo>
                  <a:pt x="140" y="491"/>
                </a:lnTo>
                <a:lnTo>
                  <a:pt x="152" y="494"/>
                </a:lnTo>
                <a:lnTo>
                  <a:pt x="159" y="498"/>
                </a:lnTo>
                <a:lnTo>
                  <a:pt x="174" y="506"/>
                </a:lnTo>
                <a:lnTo>
                  <a:pt x="186" y="510"/>
                </a:lnTo>
                <a:lnTo>
                  <a:pt x="193" y="513"/>
                </a:lnTo>
                <a:lnTo>
                  <a:pt x="212" y="517"/>
                </a:lnTo>
                <a:lnTo>
                  <a:pt x="219" y="521"/>
                </a:lnTo>
                <a:lnTo>
                  <a:pt x="227" y="521"/>
                </a:lnTo>
                <a:lnTo>
                  <a:pt x="246" y="528"/>
                </a:lnTo>
                <a:lnTo>
                  <a:pt x="253" y="528"/>
                </a:lnTo>
                <a:lnTo>
                  <a:pt x="265" y="532"/>
                </a:lnTo>
                <a:lnTo>
                  <a:pt x="284" y="532"/>
                </a:lnTo>
                <a:lnTo>
                  <a:pt x="291" y="536"/>
                </a:lnTo>
                <a:lnTo>
                  <a:pt x="303" y="536"/>
                </a:lnTo>
                <a:lnTo>
                  <a:pt x="318" y="540"/>
                </a:lnTo>
                <a:lnTo>
                  <a:pt x="329" y="540"/>
                </a:lnTo>
                <a:lnTo>
                  <a:pt x="337" y="540"/>
                </a:lnTo>
                <a:lnTo>
                  <a:pt x="355" y="544"/>
                </a:lnTo>
                <a:lnTo>
                  <a:pt x="367" y="544"/>
                </a:lnTo>
                <a:lnTo>
                  <a:pt x="374" y="544"/>
                </a:lnTo>
                <a:lnTo>
                  <a:pt x="393" y="544"/>
                </a:lnTo>
                <a:lnTo>
                  <a:pt x="405" y="544"/>
                </a:lnTo>
                <a:lnTo>
                  <a:pt x="412" y="544"/>
                </a:lnTo>
                <a:lnTo>
                  <a:pt x="431" y="540"/>
                </a:lnTo>
                <a:lnTo>
                  <a:pt x="442" y="540"/>
                </a:lnTo>
                <a:lnTo>
                  <a:pt x="450" y="540"/>
                </a:lnTo>
                <a:lnTo>
                  <a:pt x="469" y="536"/>
                </a:lnTo>
                <a:lnTo>
                  <a:pt x="476" y="536"/>
                </a:lnTo>
                <a:lnTo>
                  <a:pt x="488" y="532"/>
                </a:lnTo>
                <a:lnTo>
                  <a:pt x="506" y="532"/>
                </a:lnTo>
                <a:lnTo>
                  <a:pt x="514" y="528"/>
                </a:lnTo>
                <a:lnTo>
                  <a:pt x="525" y="528"/>
                </a:lnTo>
                <a:lnTo>
                  <a:pt x="540" y="521"/>
                </a:lnTo>
                <a:lnTo>
                  <a:pt x="552" y="521"/>
                </a:lnTo>
                <a:lnTo>
                  <a:pt x="559" y="517"/>
                </a:lnTo>
                <a:lnTo>
                  <a:pt x="578" y="513"/>
                </a:lnTo>
                <a:lnTo>
                  <a:pt x="586" y="510"/>
                </a:lnTo>
                <a:lnTo>
                  <a:pt x="593" y="506"/>
                </a:lnTo>
                <a:lnTo>
                  <a:pt x="612" y="498"/>
                </a:lnTo>
                <a:lnTo>
                  <a:pt x="620" y="494"/>
                </a:lnTo>
                <a:lnTo>
                  <a:pt x="627" y="491"/>
                </a:lnTo>
                <a:lnTo>
                  <a:pt x="646" y="483"/>
                </a:lnTo>
                <a:lnTo>
                  <a:pt x="654" y="479"/>
                </a:lnTo>
                <a:lnTo>
                  <a:pt x="661" y="476"/>
                </a:lnTo>
                <a:lnTo>
                  <a:pt x="676" y="468"/>
                </a:lnTo>
                <a:lnTo>
                  <a:pt x="684" y="464"/>
                </a:lnTo>
                <a:lnTo>
                  <a:pt x="691" y="460"/>
                </a:lnTo>
                <a:lnTo>
                  <a:pt x="707" y="449"/>
                </a:lnTo>
                <a:lnTo>
                  <a:pt x="714" y="445"/>
                </a:lnTo>
                <a:lnTo>
                  <a:pt x="722" y="438"/>
                </a:lnTo>
                <a:lnTo>
                  <a:pt x="737" y="430"/>
                </a:lnTo>
                <a:lnTo>
                  <a:pt x="744" y="423"/>
                </a:lnTo>
                <a:lnTo>
                  <a:pt x="752" y="419"/>
                </a:lnTo>
                <a:lnTo>
                  <a:pt x="763" y="408"/>
                </a:lnTo>
                <a:lnTo>
                  <a:pt x="771" y="400"/>
                </a:lnTo>
                <a:lnTo>
                  <a:pt x="778" y="396"/>
                </a:lnTo>
                <a:lnTo>
                  <a:pt x="790" y="381"/>
                </a:lnTo>
                <a:lnTo>
                  <a:pt x="797" y="377"/>
                </a:lnTo>
                <a:lnTo>
                  <a:pt x="801" y="370"/>
                </a:lnTo>
                <a:lnTo>
                  <a:pt x="812" y="358"/>
                </a:lnTo>
                <a:lnTo>
                  <a:pt x="820" y="351"/>
                </a:lnTo>
                <a:lnTo>
                  <a:pt x="824" y="343"/>
                </a:lnTo>
                <a:lnTo>
                  <a:pt x="835" y="332"/>
                </a:lnTo>
                <a:lnTo>
                  <a:pt x="839" y="324"/>
                </a:lnTo>
                <a:lnTo>
                  <a:pt x="843" y="317"/>
                </a:lnTo>
                <a:lnTo>
                  <a:pt x="854" y="302"/>
                </a:lnTo>
                <a:lnTo>
                  <a:pt x="858" y="294"/>
                </a:lnTo>
                <a:lnTo>
                  <a:pt x="861" y="290"/>
                </a:lnTo>
                <a:lnTo>
                  <a:pt x="869" y="275"/>
                </a:lnTo>
                <a:lnTo>
                  <a:pt x="873" y="268"/>
                </a:lnTo>
                <a:lnTo>
                  <a:pt x="877" y="260"/>
                </a:lnTo>
                <a:lnTo>
                  <a:pt x="884" y="245"/>
                </a:lnTo>
                <a:lnTo>
                  <a:pt x="888" y="238"/>
                </a:lnTo>
                <a:lnTo>
                  <a:pt x="892" y="230"/>
                </a:lnTo>
                <a:lnTo>
                  <a:pt x="899" y="215"/>
                </a:lnTo>
                <a:lnTo>
                  <a:pt x="899" y="207"/>
                </a:lnTo>
                <a:lnTo>
                  <a:pt x="903" y="200"/>
                </a:lnTo>
                <a:lnTo>
                  <a:pt x="907" y="181"/>
                </a:lnTo>
                <a:lnTo>
                  <a:pt x="910" y="173"/>
                </a:lnTo>
                <a:lnTo>
                  <a:pt x="910" y="166"/>
                </a:lnTo>
                <a:lnTo>
                  <a:pt x="914" y="151"/>
                </a:lnTo>
                <a:lnTo>
                  <a:pt x="914" y="143"/>
                </a:lnTo>
                <a:lnTo>
                  <a:pt x="918" y="136"/>
                </a:lnTo>
                <a:lnTo>
                  <a:pt x="918" y="117"/>
                </a:lnTo>
                <a:lnTo>
                  <a:pt x="918" y="109"/>
                </a:lnTo>
                <a:lnTo>
                  <a:pt x="922" y="102"/>
                </a:lnTo>
                <a:lnTo>
                  <a:pt x="922" y="86"/>
                </a:lnTo>
                <a:lnTo>
                  <a:pt x="922" y="79"/>
                </a:lnTo>
                <a:lnTo>
                  <a:pt x="922"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04760" y="4230720"/>
            <a:ext cx="1463760" cy="1481040"/>
          </a:xfrm>
          <a:custGeom>
            <a:avLst/>
            <a:gdLst/>
            <a:ahLst/>
            <a:rect l="l" t="t" r="r" b="b"/>
            <a:pathLst>
              <a:path w="922" h="933">
                <a:moveTo>
                  <a:pt x="291" y="7"/>
                </a:moveTo>
                <a:lnTo>
                  <a:pt x="303" y="4"/>
                </a:lnTo>
                <a:lnTo>
                  <a:pt x="318" y="4"/>
                </a:lnTo>
                <a:lnTo>
                  <a:pt x="329" y="0"/>
                </a:lnTo>
                <a:lnTo>
                  <a:pt x="337" y="0"/>
                </a:lnTo>
                <a:lnTo>
                  <a:pt x="355" y="0"/>
                </a:lnTo>
                <a:lnTo>
                  <a:pt x="367" y="0"/>
                </a:lnTo>
                <a:lnTo>
                  <a:pt x="374" y="0"/>
                </a:lnTo>
                <a:lnTo>
                  <a:pt x="393" y="0"/>
                </a:lnTo>
                <a:lnTo>
                  <a:pt x="405" y="0"/>
                </a:lnTo>
                <a:lnTo>
                  <a:pt x="412" y="0"/>
                </a:lnTo>
                <a:lnTo>
                  <a:pt x="431" y="0"/>
                </a:lnTo>
                <a:lnTo>
                  <a:pt x="442" y="0"/>
                </a:lnTo>
                <a:lnTo>
                  <a:pt x="450" y="4"/>
                </a:lnTo>
                <a:lnTo>
                  <a:pt x="469" y="4"/>
                </a:lnTo>
                <a:lnTo>
                  <a:pt x="476" y="7"/>
                </a:lnTo>
                <a:lnTo>
                  <a:pt x="488" y="7"/>
                </a:lnTo>
                <a:lnTo>
                  <a:pt x="506" y="11"/>
                </a:lnTo>
                <a:lnTo>
                  <a:pt x="514" y="11"/>
                </a:lnTo>
                <a:lnTo>
                  <a:pt x="525" y="15"/>
                </a:lnTo>
                <a:lnTo>
                  <a:pt x="540" y="19"/>
                </a:lnTo>
                <a:lnTo>
                  <a:pt x="552" y="23"/>
                </a:lnTo>
                <a:lnTo>
                  <a:pt x="559" y="23"/>
                </a:lnTo>
                <a:lnTo>
                  <a:pt x="578" y="30"/>
                </a:lnTo>
                <a:lnTo>
                  <a:pt x="586" y="34"/>
                </a:lnTo>
                <a:lnTo>
                  <a:pt x="593" y="38"/>
                </a:lnTo>
                <a:lnTo>
                  <a:pt x="612" y="41"/>
                </a:lnTo>
                <a:lnTo>
                  <a:pt x="620" y="45"/>
                </a:lnTo>
                <a:lnTo>
                  <a:pt x="627" y="49"/>
                </a:lnTo>
                <a:lnTo>
                  <a:pt x="646" y="57"/>
                </a:lnTo>
                <a:lnTo>
                  <a:pt x="654" y="60"/>
                </a:lnTo>
                <a:lnTo>
                  <a:pt x="661" y="64"/>
                </a:lnTo>
                <a:lnTo>
                  <a:pt x="676" y="75"/>
                </a:lnTo>
                <a:lnTo>
                  <a:pt x="684" y="79"/>
                </a:lnTo>
                <a:lnTo>
                  <a:pt x="691" y="83"/>
                </a:lnTo>
                <a:lnTo>
                  <a:pt x="707" y="94"/>
                </a:lnTo>
                <a:lnTo>
                  <a:pt x="714" y="98"/>
                </a:lnTo>
                <a:lnTo>
                  <a:pt x="722" y="102"/>
                </a:lnTo>
                <a:lnTo>
                  <a:pt x="737" y="113"/>
                </a:lnTo>
                <a:lnTo>
                  <a:pt x="744" y="117"/>
                </a:lnTo>
                <a:lnTo>
                  <a:pt x="752" y="125"/>
                </a:lnTo>
                <a:lnTo>
                  <a:pt x="763" y="136"/>
                </a:lnTo>
                <a:lnTo>
                  <a:pt x="771" y="140"/>
                </a:lnTo>
                <a:lnTo>
                  <a:pt x="778" y="147"/>
                </a:lnTo>
                <a:lnTo>
                  <a:pt x="790" y="159"/>
                </a:lnTo>
                <a:lnTo>
                  <a:pt x="797" y="166"/>
                </a:lnTo>
                <a:lnTo>
                  <a:pt x="801" y="174"/>
                </a:lnTo>
                <a:lnTo>
                  <a:pt x="812" y="185"/>
                </a:lnTo>
                <a:lnTo>
                  <a:pt x="820" y="193"/>
                </a:lnTo>
                <a:lnTo>
                  <a:pt x="824" y="196"/>
                </a:lnTo>
                <a:lnTo>
                  <a:pt x="835" y="211"/>
                </a:lnTo>
                <a:lnTo>
                  <a:pt x="839" y="219"/>
                </a:lnTo>
                <a:lnTo>
                  <a:pt x="843" y="227"/>
                </a:lnTo>
                <a:lnTo>
                  <a:pt x="854" y="238"/>
                </a:lnTo>
                <a:lnTo>
                  <a:pt x="858" y="245"/>
                </a:lnTo>
                <a:lnTo>
                  <a:pt x="861" y="253"/>
                </a:lnTo>
                <a:lnTo>
                  <a:pt x="869" y="268"/>
                </a:lnTo>
                <a:lnTo>
                  <a:pt x="873" y="276"/>
                </a:lnTo>
                <a:lnTo>
                  <a:pt x="877" y="283"/>
                </a:lnTo>
                <a:lnTo>
                  <a:pt x="884" y="298"/>
                </a:lnTo>
                <a:lnTo>
                  <a:pt x="888" y="306"/>
                </a:lnTo>
                <a:lnTo>
                  <a:pt x="892" y="313"/>
                </a:lnTo>
                <a:lnTo>
                  <a:pt x="899" y="329"/>
                </a:lnTo>
                <a:lnTo>
                  <a:pt x="899" y="336"/>
                </a:lnTo>
                <a:lnTo>
                  <a:pt x="903" y="344"/>
                </a:lnTo>
                <a:lnTo>
                  <a:pt x="907" y="359"/>
                </a:lnTo>
                <a:lnTo>
                  <a:pt x="910" y="370"/>
                </a:lnTo>
                <a:lnTo>
                  <a:pt x="910" y="378"/>
                </a:lnTo>
                <a:lnTo>
                  <a:pt x="914" y="393"/>
                </a:lnTo>
                <a:lnTo>
                  <a:pt x="914" y="400"/>
                </a:lnTo>
                <a:lnTo>
                  <a:pt x="918" y="408"/>
                </a:lnTo>
                <a:lnTo>
                  <a:pt x="918" y="423"/>
                </a:lnTo>
                <a:lnTo>
                  <a:pt x="918" y="434"/>
                </a:lnTo>
                <a:lnTo>
                  <a:pt x="922" y="442"/>
                </a:lnTo>
                <a:lnTo>
                  <a:pt x="922" y="457"/>
                </a:lnTo>
                <a:lnTo>
                  <a:pt x="922" y="465"/>
                </a:lnTo>
                <a:lnTo>
                  <a:pt x="922" y="472"/>
                </a:lnTo>
                <a:lnTo>
                  <a:pt x="922" y="491"/>
                </a:lnTo>
                <a:lnTo>
                  <a:pt x="918" y="499"/>
                </a:lnTo>
                <a:lnTo>
                  <a:pt x="918" y="506"/>
                </a:lnTo>
                <a:lnTo>
                  <a:pt x="918" y="521"/>
                </a:lnTo>
                <a:lnTo>
                  <a:pt x="914" y="529"/>
                </a:lnTo>
                <a:lnTo>
                  <a:pt x="914" y="540"/>
                </a:lnTo>
                <a:lnTo>
                  <a:pt x="910" y="555"/>
                </a:lnTo>
                <a:lnTo>
                  <a:pt x="910" y="563"/>
                </a:lnTo>
                <a:lnTo>
                  <a:pt x="907" y="570"/>
                </a:lnTo>
                <a:lnTo>
                  <a:pt x="903" y="585"/>
                </a:lnTo>
                <a:lnTo>
                  <a:pt x="899" y="593"/>
                </a:lnTo>
                <a:lnTo>
                  <a:pt x="899" y="601"/>
                </a:lnTo>
                <a:lnTo>
                  <a:pt x="892" y="616"/>
                </a:lnTo>
                <a:lnTo>
                  <a:pt x="888" y="623"/>
                </a:lnTo>
                <a:lnTo>
                  <a:pt x="884" y="635"/>
                </a:lnTo>
                <a:lnTo>
                  <a:pt x="877" y="650"/>
                </a:lnTo>
                <a:lnTo>
                  <a:pt x="873" y="653"/>
                </a:lnTo>
                <a:lnTo>
                  <a:pt x="869" y="661"/>
                </a:lnTo>
                <a:lnTo>
                  <a:pt x="861" y="676"/>
                </a:lnTo>
                <a:lnTo>
                  <a:pt x="858" y="684"/>
                </a:lnTo>
                <a:lnTo>
                  <a:pt x="854" y="691"/>
                </a:lnTo>
                <a:lnTo>
                  <a:pt x="843" y="706"/>
                </a:lnTo>
                <a:lnTo>
                  <a:pt x="839" y="714"/>
                </a:lnTo>
                <a:lnTo>
                  <a:pt x="835" y="721"/>
                </a:lnTo>
                <a:lnTo>
                  <a:pt x="824" y="733"/>
                </a:lnTo>
                <a:lnTo>
                  <a:pt x="820" y="740"/>
                </a:lnTo>
                <a:lnTo>
                  <a:pt x="812" y="748"/>
                </a:lnTo>
                <a:lnTo>
                  <a:pt x="801" y="759"/>
                </a:lnTo>
                <a:lnTo>
                  <a:pt x="797" y="767"/>
                </a:lnTo>
                <a:lnTo>
                  <a:pt x="790" y="771"/>
                </a:lnTo>
                <a:lnTo>
                  <a:pt x="778" y="782"/>
                </a:lnTo>
                <a:lnTo>
                  <a:pt x="771" y="789"/>
                </a:lnTo>
                <a:lnTo>
                  <a:pt x="763" y="797"/>
                </a:lnTo>
                <a:lnTo>
                  <a:pt x="752" y="808"/>
                </a:lnTo>
                <a:lnTo>
                  <a:pt x="744" y="812"/>
                </a:lnTo>
                <a:lnTo>
                  <a:pt x="737" y="816"/>
                </a:lnTo>
                <a:lnTo>
                  <a:pt x="722" y="827"/>
                </a:lnTo>
                <a:lnTo>
                  <a:pt x="714" y="835"/>
                </a:lnTo>
                <a:lnTo>
                  <a:pt x="707" y="839"/>
                </a:lnTo>
                <a:lnTo>
                  <a:pt x="691" y="846"/>
                </a:lnTo>
                <a:lnTo>
                  <a:pt x="684" y="854"/>
                </a:lnTo>
                <a:lnTo>
                  <a:pt x="676" y="857"/>
                </a:lnTo>
                <a:lnTo>
                  <a:pt x="661" y="865"/>
                </a:lnTo>
                <a:lnTo>
                  <a:pt x="654" y="869"/>
                </a:lnTo>
                <a:lnTo>
                  <a:pt x="646" y="873"/>
                </a:lnTo>
                <a:lnTo>
                  <a:pt x="627" y="880"/>
                </a:lnTo>
                <a:lnTo>
                  <a:pt x="620" y="884"/>
                </a:lnTo>
                <a:lnTo>
                  <a:pt x="612" y="888"/>
                </a:lnTo>
                <a:lnTo>
                  <a:pt x="593" y="895"/>
                </a:lnTo>
                <a:lnTo>
                  <a:pt x="586" y="899"/>
                </a:lnTo>
                <a:lnTo>
                  <a:pt x="578" y="903"/>
                </a:lnTo>
                <a:lnTo>
                  <a:pt x="559" y="907"/>
                </a:lnTo>
                <a:lnTo>
                  <a:pt x="552" y="910"/>
                </a:lnTo>
                <a:lnTo>
                  <a:pt x="540" y="910"/>
                </a:lnTo>
                <a:lnTo>
                  <a:pt x="525" y="918"/>
                </a:lnTo>
                <a:lnTo>
                  <a:pt x="514" y="918"/>
                </a:lnTo>
                <a:lnTo>
                  <a:pt x="506" y="922"/>
                </a:lnTo>
                <a:lnTo>
                  <a:pt x="488" y="922"/>
                </a:lnTo>
                <a:lnTo>
                  <a:pt x="476" y="925"/>
                </a:lnTo>
                <a:lnTo>
                  <a:pt x="469" y="925"/>
                </a:lnTo>
                <a:lnTo>
                  <a:pt x="450" y="929"/>
                </a:lnTo>
                <a:lnTo>
                  <a:pt x="442" y="929"/>
                </a:lnTo>
                <a:lnTo>
                  <a:pt x="431" y="929"/>
                </a:lnTo>
                <a:lnTo>
                  <a:pt x="412" y="933"/>
                </a:lnTo>
                <a:lnTo>
                  <a:pt x="405" y="933"/>
                </a:lnTo>
                <a:lnTo>
                  <a:pt x="393" y="933"/>
                </a:lnTo>
                <a:lnTo>
                  <a:pt x="374" y="933"/>
                </a:lnTo>
                <a:lnTo>
                  <a:pt x="367" y="933"/>
                </a:lnTo>
                <a:lnTo>
                  <a:pt x="355" y="933"/>
                </a:lnTo>
                <a:lnTo>
                  <a:pt x="337" y="929"/>
                </a:lnTo>
                <a:lnTo>
                  <a:pt x="329" y="929"/>
                </a:lnTo>
                <a:lnTo>
                  <a:pt x="318" y="929"/>
                </a:lnTo>
                <a:lnTo>
                  <a:pt x="303" y="925"/>
                </a:lnTo>
                <a:lnTo>
                  <a:pt x="291" y="925"/>
                </a:lnTo>
                <a:lnTo>
                  <a:pt x="284" y="922"/>
                </a:lnTo>
                <a:lnTo>
                  <a:pt x="265" y="922"/>
                </a:lnTo>
                <a:lnTo>
                  <a:pt x="253" y="918"/>
                </a:lnTo>
                <a:lnTo>
                  <a:pt x="246" y="918"/>
                </a:lnTo>
                <a:lnTo>
                  <a:pt x="227" y="910"/>
                </a:lnTo>
                <a:lnTo>
                  <a:pt x="219" y="910"/>
                </a:lnTo>
                <a:lnTo>
                  <a:pt x="212" y="907"/>
                </a:lnTo>
                <a:lnTo>
                  <a:pt x="193" y="903"/>
                </a:lnTo>
                <a:lnTo>
                  <a:pt x="186" y="899"/>
                </a:lnTo>
                <a:lnTo>
                  <a:pt x="174" y="895"/>
                </a:lnTo>
                <a:lnTo>
                  <a:pt x="159" y="888"/>
                </a:lnTo>
                <a:lnTo>
                  <a:pt x="152" y="884"/>
                </a:lnTo>
                <a:lnTo>
                  <a:pt x="140" y="880"/>
                </a:lnTo>
                <a:lnTo>
                  <a:pt x="125" y="873"/>
                </a:lnTo>
                <a:lnTo>
                  <a:pt x="118" y="869"/>
                </a:lnTo>
                <a:lnTo>
                  <a:pt x="110" y="865"/>
                </a:lnTo>
                <a:lnTo>
                  <a:pt x="91" y="857"/>
                </a:lnTo>
                <a:lnTo>
                  <a:pt x="84" y="854"/>
                </a:lnTo>
                <a:lnTo>
                  <a:pt x="76" y="846"/>
                </a:lnTo>
                <a:lnTo>
                  <a:pt x="61" y="839"/>
                </a:lnTo>
                <a:lnTo>
                  <a:pt x="53" y="835"/>
                </a:lnTo>
                <a:lnTo>
                  <a:pt x="46" y="827"/>
                </a:lnTo>
                <a:lnTo>
                  <a:pt x="34" y="816"/>
                </a:lnTo>
                <a:lnTo>
                  <a:pt x="27" y="812"/>
                </a:lnTo>
                <a:lnTo>
                  <a:pt x="19" y="808"/>
                </a:lnTo>
                <a:lnTo>
                  <a:pt x="4" y="797"/>
                </a:lnTo>
                <a:lnTo>
                  <a:pt x="0" y="789"/>
                </a:lnTo>
                <a:lnTo>
                  <a:pt x="386" y="465"/>
                </a:lnTo>
                <a:lnTo>
                  <a:pt x="291"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26480" y="5183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5%</a:t>
            </a:r>
            <a:endParaRPr b="0" lang="en-US" sz="1200" spc="-1" strike="noStrike">
              <a:solidFill>
                <a:srgbClr val="000000"/>
              </a:solidFill>
              <a:latin typeface="Arial"/>
            </a:endParaRPr>
          </a:p>
        </p:txBody>
      </p:sp>
      <p:sp>
        <p:nvSpPr>
          <p:cNvPr id="270" name=""/>
          <p:cNvSpPr/>
          <p:nvPr/>
        </p:nvSpPr>
        <p:spPr>
          <a:xfrm>
            <a:off x="256320" y="514656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3%</a:t>
            </a:r>
            <a:endParaRPr b="0" lang="en-US" sz="1200" spc="-1" strike="noStrike">
              <a:solidFill>
                <a:srgbClr val="000000"/>
              </a:solidFill>
              <a:latin typeface="Arial"/>
            </a:endParaRPr>
          </a:p>
        </p:txBody>
      </p:sp>
      <p:sp>
        <p:nvSpPr>
          <p:cNvPr id="271" name=""/>
          <p:cNvSpPr/>
          <p:nvPr/>
        </p:nvSpPr>
        <p:spPr>
          <a:xfrm>
            <a:off x="667440" y="423864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0%</a:t>
            </a:r>
            <a:endParaRPr b="0" lang="en-US" sz="1200" spc="-1" strike="noStrike">
              <a:solidFill>
                <a:srgbClr val="000000"/>
              </a:solidFill>
              <a:latin typeface="Arial"/>
            </a:endParaRPr>
          </a:p>
        </p:txBody>
      </p:sp>
      <p:sp>
        <p:nvSpPr>
          <p:cNvPr id="272" name=""/>
          <p:cNvSpPr/>
          <p:nvPr/>
        </p:nvSpPr>
        <p:spPr>
          <a:xfrm>
            <a:off x="1164960" y="40575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000000"/>
              </a:solidFill>
              <a:latin typeface="Arial"/>
            </a:endParaRPr>
          </a:p>
        </p:txBody>
      </p:sp>
      <p:sp>
        <p:nvSpPr>
          <p:cNvPr id="273" name=""/>
          <p:cNvSpPr/>
          <p:nvPr/>
        </p:nvSpPr>
        <p:spPr>
          <a:xfrm>
            <a:off x="4392720" y="2122560"/>
            <a:ext cx="207720" cy="1227240"/>
          </a:xfrm>
          <a:custGeom>
            <a:avLst/>
            <a:gdLst/>
            <a:ahLst/>
            <a:rect l="l" t="t" r="r" b="b"/>
            <a:pathLst>
              <a:path w="131" h="773">
                <a:moveTo>
                  <a:pt x="131" y="659"/>
                </a:moveTo>
                <a:lnTo>
                  <a:pt x="0" y="0"/>
                </a:lnTo>
                <a:lnTo>
                  <a:pt x="0" y="114"/>
                </a:lnTo>
                <a:lnTo>
                  <a:pt x="131" y="773"/>
                </a:lnTo>
                <a:lnTo>
                  <a:pt x="131" y="659"/>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262400" y="2147760"/>
            <a:ext cx="338040" cy="1202040"/>
          </a:xfrm>
          <a:custGeom>
            <a:avLst/>
            <a:gdLst/>
            <a:ahLst/>
            <a:rect l="l" t="t" r="r" b="b"/>
            <a:pathLst>
              <a:path w="213" h="757">
                <a:moveTo>
                  <a:pt x="213" y="643"/>
                </a:moveTo>
                <a:lnTo>
                  <a:pt x="0" y="0"/>
                </a:lnTo>
                <a:lnTo>
                  <a:pt x="0" y="115"/>
                </a:lnTo>
                <a:lnTo>
                  <a:pt x="213" y="757"/>
                </a:lnTo>
                <a:lnTo>
                  <a:pt x="213" y="643"/>
                </a:lnTo>
                <a:close/>
              </a:path>
            </a:pathLst>
          </a:custGeom>
          <a:solidFill>
            <a:srgbClr val="664d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262400" y="2122560"/>
            <a:ext cx="338040" cy="1046160"/>
          </a:xfrm>
          <a:custGeom>
            <a:avLst/>
            <a:gdLst/>
            <a:ahLst/>
            <a:rect l="l" t="t" r="r" b="b"/>
            <a:pathLst>
              <a:path w="213" h="659">
                <a:moveTo>
                  <a:pt x="0" y="16"/>
                </a:moveTo>
                <a:lnTo>
                  <a:pt x="11" y="11"/>
                </a:lnTo>
                <a:lnTo>
                  <a:pt x="22" y="6"/>
                </a:lnTo>
                <a:lnTo>
                  <a:pt x="39" y="6"/>
                </a:lnTo>
                <a:lnTo>
                  <a:pt x="49" y="0"/>
                </a:lnTo>
                <a:lnTo>
                  <a:pt x="66" y="0"/>
                </a:lnTo>
                <a:lnTo>
                  <a:pt x="77" y="0"/>
                </a:lnTo>
                <a:lnTo>
                  <a:pt x="213" y="659"/>
                </a:lnTo>
                <a:lnTo>
                  <a:pt x="0" y="16"/>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97120" y="2554200"/>
            <a:ext cx="1003320" cy="795600"/>
          </a:xfrm>
          <a:custGeom>
            <a:avLst/>
            <a:gdLst/>
            <a:ahLst/>
            <a:rect l="l" t="t" r="r" b="b"/>
            <a:pathLst>
              <a:path w="632" h="501">
                <a:moveTo>
                  <a:pt x="632" y="387"/>
                </a:moveTo>
                <a:lnTo>
                  <a:pt x="0" y="0"/>
                </a:lnTo>
                <a:lnTo>
                  <a:pt x="0" y="115"/>
                </a:lnTo>
                <a:lnTo>
                  <a:pt x="632" y="501"/>
                </a:lnTo>
                <a:lnTo>
                  <a:pt x="632" y="387"/>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589200" y="2147760"/>
            <a:ext cx="1011240" cy="1020960"/>
          </a:xfrm>
          <a:custGeom>
            <a:avLst/>
            <a:gdLst/>
            <a:ahLst/>
            <a:rect l="l" t="t" r="r" b="b"/>
            <a:pathLst>
              <a:path w="637" h="643">
                <a:moveTo>
                  <a:pt x="0" y="256"/>
                </a:moveTo>
                <a:lnTo>
                  <a:pt x="11" y="251"/>
                </a:lnTo>
                <a:lnTo>
                  <a:pt x="27" y="229"/>
                </a:lnTo>
                <a:lnTo>
                  <a:pt x="33" y="224"/>
                </a:lnTo>
                <a:lnTo>
                  <a:pt x="43" y="213"/>
                </a:lnTo>
                <a:lnTo>
                  <a:pt x="60" y="196"/>
                </a:lnTo>
                <a:lnTo>
                  <a:pt x="71" y="186"/>
                </a:lnTo>
                <a:lnTo>
                  <a:pt x="82" y="175"/>
                </a:lnTo>
                <a:lnTo>
                  <a:pt x="87" y="169"/>
                </a:lnTo>
                <a:lnTo>
                  <a:pt x="109" y="153"/>
                </a:lnTo>
                <a:lnTo>
                  <a:pt x="120" y="142"/>
                </a:lnTo>
                <a:lnTo>
                  <a:pt x="131" y="137"/>
                </a:lnTo>
                <a:lnTo>
                  <a:pt x="147" y="120"/>
                </a:lnTo>
                <a:lnTo>
                  <a:pt x="158" y="115"/>
                </a:lnTo>
                <a:lnTo>
                  <a:pt x="169" y="109"/>
                </a:lnTo>
                <a:lnTo>
                  <a:pt x="190" y="93"/>
                </a:lnTo>
                <a:lnTo>
                  <a:pt x="201" y="88"/>
                </a:lnTo>
                <a:lnTo>
                  <a:pt x="212" y="82"/>
                </a:lnTo>
                <a:lnTo>
                  <a:pt x="229" y="77"/>
                </a:lnTo>
                <a:lnTo>
                  <a:pt x="250" y="60"/>
                </a:lnTo>
                <a:lnTo>
                  <a:pt x="261" y="55"/>
                </a:lnTo>
                <a:lnTo>
                  <a:pt x="272" y="49"/>
                </a:lnTo>
                <a:lnTo>
                  <a:pt x="299" y="39"/>
                </a:lnTo>
                <a:lnTo>
                  <a:pt x="310" y="33"/>
                </a:lnTo>
                <a:lnTo>
                  <a:pt x="321" y="28"/>
                </a:lnTo>
                <a:lnTo>
                  <a:pt x="348" y="22"/>
                </a:lnTo>
                <a:lnTo>
                  <a:pt x="359" y="17"/>
                </a:lnTo>
                <a:lnTo>
                  <a:pt x="370" y="11"/>
                </a:lnTo>
                <a:lnTo>
                  <a:pt x="386" y="6"/>
                </a:lnTo>
                <a:lnTo>
                  <a:pt x="408" y="0"/>
                </a:lnTo>
                <a:lnTo>
                  <a:pt x="424" y="0"/>
                </a:lnTo>
                <a:lnTo>
                  <a:pt x="637" y="643"/>
                </a:lnTo>
                <a:lnTo>
                  <a:pt x="0" y="25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373560" y="3168720"/>
            <a:ext cx="353880" cy="933480"/>
          </a:xfrm>
          <a:custGeom>
            <a:avLst/>
            <a:gdLst/>
            <a:ahLst/>
            <a:rect l="l" t="t" r="r" b="b"/>
            <a:pathLst>
              <a:path w="223" h="588">
                <a:moveTo>
                  <a:pt x="223" y="474"/>
                </a:moveTo>
                <a:lnTo>
                  <a:pt x="218" y="463"/>
                </a:lnTo>
                <a:lnTo>
                  <a:pt x="196" y="446"/>
                </a:lnTo>
                <a:lnTo>
                  <a:pt x="190" y="435"/>
                </a:lnTo>
                <a:lnTo>
                  <a:pt x="179" y="430"/>
                </a:lnTo>
                <a:lnTo>
                  <a:pt x="169" y="419"/>
                </a:lnTo>
                <a:lnTo>
                  <a:pt x="152" y="403"/>
                </a:lnTo>
                <a:lnTo>
                  <a:pt x="147" y="392"/>
                </a:lnTo>
                <a:lnTo>
                  <a:pt x="136" y="381"/>
                </a:lnTo>
                <a:lnTo>
                  <a:pt x="130" y="376"/>
                </a:lnTo>
                <a:lnTo>
                  <a:pt x="114" y="354"/>
                </a:lnTo>
                <a:lnTo>
                  <a:pt x="109" y="343"/>
                </a:lnTo>
                <a:lnTo>
                  <a:pt x="103" y="332"/>
                </a:lnTo>
                <a:lnTo>
                  <a:pt x="98" y="321"/>
                </a:lnTo>
                <a:lnTo>
                  <a:pt x="81" y="305"/>
                </a:lnTo>
                <a:lnTo>
                  <a:pt x="76" y="294"/>
                </a:lnTo>
                <a:lnTo>
                  <a:pt x="71" y="283"/>
                </a:lnTo>
                <a:lnTo>
                  <a:pt x="65" y="272"/>
                </a:lnTo>
                <a:lnTo>
                  <a:pt x="54" y="250"/>
                </a:lnTo>
                <a:lnTo>
                  <a:pt x="49" y="239"/>
                </a:lnTo>
                <a:lnTo>
                  <a:pt x="43" y="229"/>
                </a:lnTo>
                <a:lnTo>
                  <a:pt x="38" y="218"/>
                </a:lnTo>
                <a:lnTo>
                  <a:pt x="32" y="196"/>
                </a:lnTo>
                <a:lnTo>
                  <a:pt x="27" y="185"/>
                </a:lnTo>
                <a:lnTo>
                  <a:pt x="27" y="174"/>
                </a:lnTo>
                <a:lnTo>
                  <a:pt x="22" y="163"/>
                </a:lnTo>
                <a:lnTo>
                  <a:pt x="16" y="136"/>
                </a:lnTo>
                <a:lnTo>
                  <a:pt x="11" y="125"/>
                </a:lnTo>
                <a:lnTo>
                  <a:pt x="11" y="114"/>
                </a:lnTo>
                <a:lnTo>
                  <a:pt x="5" y="103"/>
                </a:lnTo>
                <a:lnTo>
                  <a:pt x="5" y="82"/>
                </a:lnTo>
                <a:lnTo>
                  <a:pt x="5" y="71"/>
                </a:lnTo>
                <a:lnTo>
                  <a:pt x="0" y="54"/>
                </a:lnTo>
                <a:lnTo>
                  <a:pt x="0" y="43"/>
                </a:lnTo>
                <a:lnTo>
                  <a:pt x="0" y="22"/>
                </a:lnTo>
                <a:lnTo>
                  <a:pt x="0" y="11"/>
                </a:lnTo>
                <a:lnTo>
                  <a:pt x="0" y="0"/>
                </a:lnTo>
                <a:lnTo>
                  <a:pt x="0" y="114"/>
                </a:lnTo>
                <a:lnTo>
                  <a:pt x="0" y="125"/>
                </a:lnTo>
                <a:lnTo>
                  <a:pt x="0" y="136"/>
                </a:lnTo>
                <a:lnTo>
                  <a:pt x="0" y="158"/>
                </a:lnTo>
                <a:lnTo>
                  <a:pt x="0" y="169"/>
                </a:lnTo>
                <a:lnTo>
                  <a:pt x="5" y="185"/>
                </a:lnTo>
                <a:lnTo>
                  <a:pt x="5" y="196"/>
                </a:lnTo>
                <a:lnTo>
                  <a:pt x="5" y="218"/>
                </a:lnTo>
                <a:lnTo>
                  <a:pt x="11" y="229"/>
                </a:lnTo>
                <a:lnTo>
                  <a:pt x="11" y="239"/>
                </a:lnTo>
                <a:lnTo>
                  <a:pt x="16" y="250"/>
                </a:lnTo>
                <a:lnTo>
                  <a:pt x="22" y="278"/>
                </a:lnTo>
                <a:lnTo>
                  <a:pt x="27" y="288"/>
                </a:lnTo>
                <a:lnTo>
                  <a:pt x="27" y="299"/>
                </a:lnTo>
                <a:lnTo>
                  <a:pt x="32" y="310"/>
                </a:lnTo>
                <a:lnTo>
                  <a:pt x="38" y="332"/>
                </a:lnTo>
                <a:lnTo>
                  <a:pt x="43" y="343"/>
                </a:lnTo>
                <a:lnTo>
                  <a:pt x="49" y="354"/>
                </a:lnTo>
                <a:lnTo>
                  <a:pt x="54" y="365"/>
                </a:lnTo>
                <a:lnTo>
                  <a:pt x="65" y="386"/>
                </a:lnTo>
                <a:lnTo>
                  <a:pt x="71" y="397"/>
                </a:lnTo>
                <a:lnTo>
                  <a:pt x="76" y="408"/>
                </a:lnTo>
                <a:lnTo>
                  <a:pt x="81" y="419"/>
                </a:lnTo>
                <a:lnTo>
                  <a:pt x="98" y="435"/>
                </a:lnTo>
                <a:lnTo>
                  <a:pt x="103" y="446"/>
                </a:lnTo>
                <a:lnTo>
                  <a:pt x="109" y="457"/>
                </a:lnTo>
                <a:lnTo>
                  <a:pt x="114" y="468"/>
                </a:lnTo>
                <a:lnTo>
                  <a:pt x="130" y="490"/>
                </a:lnTo>
                <a:lnTo>
                  <a:pt x="136" y="495"/>
                </a:lnTo>
                <a:lnTo>
                  <a:pt x="147" y="506"/>
                </a:lnTo>
                <a:lnTo>
                  <a:pt x="152" y="517"/>
                </a:lnTo>
                <a:lnTo>
                  <a:pt x="169" y="533"/>
                </a:lnTo>
                <a:lnTo>
                  <a:pt x="179" y="544"/>
                </a:lnTo>
                <a:lnTo>
                  <a:pt x="190" y="550"/>
                </a:lnTo>
                <a:lnTo>
                  <a:pt x="196" y="561"/>
                </a:lnTo>
                <a:lnTo>
                  <a:pt x="218" y="577"/>
                </a:lnTo>
                <a:lnTo>
                  <a:pt x="223" y="588"/>
                </a:lnTo>
                <a:lnTo>
                  <a:pt x="223" y="47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735360" y="3168720"/>
            <a:ext cx="865080" cy="933480"/>
          </a:xfrm>
          <a:custGeom>
            <a:avLst/>
            <a:gdLst/>
            <a:ahLst/>
            <a:rect l="l" t="t" r="r" b="b"/>
            <a:pathLst>
              <a:path w="545" h="588">
                <a:moveTo>
                  <a:pt x="545" y="0"/>
                </a:moveTo>
                <a:lnTo>
                  <a:pt x="0" y="474"/>
                </a:lnTo>
                <a:lnTo>
                  <a:pt x="0" y="588"/>
                </a:lnTo>
                <a:lnTo>
                  <a:pt x="545" y="114"/>
                </a:lnTo>
                <a:lnTo>
                  <a:pt x="54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373560" y="2554200"/>
            <a:ext cx="1226880" cy="1374840"/>
          </a:xfrm>
          <a:custGeom>
            <a:avLst/>
            <a:gdLst/>
            <a:ahLst/>
            <a:rect l="l" t="t" r="r" b="b"/>
            <a:pathLst>
              <a:path w="773" h="866">
                <a:moveTo>
                  <a:pt x="223" y="866"/>
                </a:moveTo>
                <a:lnTo>
                  <a:pt x="218" y="855"/>
                </a:lnTo>
                <a:lnTo>
                  <a:pt x="196" y="839"/>
                </a:lnTo>
                <a:lnTo>
                  <a:pt x="190" y="828"/>
                </a:lnTo>
                <a:lnTo>
                  <a:pt x="179" y="822"/>
                </a:lnTo>
                <a:lnTo>
                  <a:pt x="163" y="801"/>
                </a:lnTo>
                <a:lnTo>
                  <a:pt x="152" y="795"/>
                </a:lnTo>
                <a:lnTo>
                  <a:pt x="147" y="784"/>
                </a:lnTo>
                <a:lnTo>
                  <a:pt x="130" y="763"/>
                </a:lnTo>
                <a:lnTo>
                  <a:pt x="125" y="757"/>
                </a:lnTo>
                <a:lnTo>
                  <a:pt x="114" y="746"/>
                </a:lnTo>
                <a:lnTo>
                  <a:pt x="103" y="724"/>
                </a:lnTo>
                <a:lnTo>
                  <a:pt x="98" y="714"/>
                </a:lnTo>
                <a:lnTo>
                  <a:pt x="87" y="703"/>
                </a:lnTo>
                <a:lnTo>
                  <a:pt x="76" y="681"/>
                </a:lnTo>
                <a:lnTo>
                  <a:pt x="71" y="670"/>
                </a:lnTo>
                <a:lnTo>
                  <a:pt x="65" y="659"/>
                </a:lnTo>
                <a:lnTo>
                  <a:pt x="54" y="643"/>
                </a:lnTo>
                <a:lnTo>
                  <a:pt x="49" y="632"/>
                </a:lnTo>
                <a:lnTo>
                  <a:pt x="43" y="616"/>
                </a:lnTo>
                <a:lnTo>
                  <a:pt x="38" y="594"/>
                </a:lnTo>
                <a:lnTo>
                  <a:pt x="32" y="583"/>
                </a:lnTo>
                <a:lnTo>
                  <a:pt x="27" y="572"/>
                </a:lnTo>
                <a:lnTo>
                  <a:pt x="22" y="550"/>
                </a:lnTo>
                <a:lnTo>
                  <a:pt x="16" y="539"/>
                </a:lnTo>
                <a:lnTo>
                  <a:pt x="16" y="528"/>
                </a:lnTo>
                <a:lnTo>
                  <a:pt x="11" y="507"/>
                </a:lnTo>
                <a:lnTo>
                  <a:pt x="5" y="496"/>
                </a:lnTo>
                <a:lnTo>
                  <a:pt x="5" y="479"/>
                </a:lnTo>
                <a:lnTo>
                  <a:pt x="5" y="458"/>
                </a:lnTo>
                <a:lnTo>
                  <a:pt x="0" y="447"/>
                </a:lnTo>
                <a:lnTo>
                  <a:pt x="0" y="436"/>
                </a:lnTo>
                <a:lnTo>
                  <a:pt x="0" y="414"/>
                </a:lnTo>
                <a:lnTo>
                  <a:pt x="0" y="398"/>
                </a:lnTo>
                <a:lnTo>
                  <a:pt x="0" y="387"/>
                </a:lnTo>
                <a:lnTo>
                  <a:pt x="0" y="365"/>
                </a:lnTo>
                <a:lnTo>
                  <a:pt x="0" y="354"/>
                </a:lnTo>
                <a:lnTo>
                  <a:pt x="0" y="343"/>
                </a:lnTo>
                <a:lnTo>
                  <a:pt x="5" y="316"/>
                </a:lnTo>
                <a:lnTo>
                  <a:pt x="5" y="305"/>
                </a:lnTo>
                <a:lnTo>
                  <a:pt x="5" y="294"/>
                </a:lnTo>
                <a:lnTo>
                  <a:pt x="11" y="273"/>
                </a:lnTo>
                <a:lnTo>
                  <a:pt x="11" y="262"/>
                </a:lnTo>
                <a:lnTo>
                  <a:pt x="16" y="251"/>
                </a:lnTo>
                <a:lnTo>
                  <a:pt x="22" y="224"/>
                </a:lnTo>
                <a:lnTo>
                  <a:pt x="27" y="213"/>
                </a:lnTo>
                <a:lnTo>
                  <a:pt x="27" y="202"/>
                </a:lnTo>
                <a:lnTo>
                  <a:pt x="38" y="180"/>
                </a:lnTo>
                <a:lnTo>
                  <a:pt x="38" y="169"/>
                </a:lnTo>
                <a:lnTo>
                  <a:pt x="43" y="158"/>
                </a:lnTo>
                <a:lnTo>
                  <a:pt x="54" y="136"/>
                </a:lnTo>
                <a:lnTo>
                  <a:pt x="60" y="126"/>
                </a:lnTo>
                <a:lnTo>
                  <a:pt x="65" y="115"/>
                </a:lnTo>
                <a:lnTo>
                  <a:pt x="76" y="93"/>
                </a:lnTo>
                <a:lnTo>
                  <a:pt x="81" y="82"/>
                </a:lnTo>
                <a:lnTo>
                  <a:pt x="87" y="71"/>
                </a:lnTo>
                <a:lnTo>
                  <a:pt x="103" y="49"/>
                </a:lnTo>
                <a:lnTo>
                  <a:pt x="109" y="44"/>
                </a:lnTo>
                <a:lnTo>
                  <a:pt x="114" y="33"/>
                </a:lnTo>
                <a:lnTo>
                  <a:pt x="130" y="11"/>
                </a:lnTo>
                <a:lnTo>
                  <a:pt x="136" y="0"/>
                </a:lnTo>
                <a:lnTo>
                  <a:pt x="773" y="387"/>
                </a:lnTo>
                <a:lnTo>
                  <a:pt x="223" y="86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727440" y="3168720"/>
            <a:ext cx="2100240" cy="1244520"/>
          </a:xfrm>
          <a:custGeom>
            <a:avLst/>
            <a:gdLst/>
            <a:ahLst/>
            <a:rect l="l" t="t" r="r" b="b"/>
            <a:pathLst>
              <a:path w="1323" h="784">
                <a:moveTo>
                  <a:pt x="1323" y="0"/>
                </a:moveTo>
                <a:lnTo>
                  <a:pt x="1323" y="11"/>
                </a:lnTo>
                <a:lnTo>
                  <a:pt x="1323" y="33"/>
                </a:lnTo>
                <a:lnTo>
                  <a:pt x="1317" y="43"/>
                </a:lnTo>
                <a:lnTo>
                  <a:pt x="1317" y="54"/>
                </a:lnTo>
                <a:lnTo>
                  <a:pt x="1317" y="82"/>
                </a:lnTo>
                <a:lnTo>
                  <a:pt x="1312" y="92"/>
                </a:lnTo>
                <a:lnTo>
                  <a:pt x="1312" y="103"/>
                </a:lnTo>
                <a:lnTo>
                  <a:pt x="1306" y="125"/>
                </a:lnTo>
                <a:lnTo>
                  <a:pt x="1306" y="136"/>
                </a:lnTo>
                <a:lnTo>
                  <a:pt x="1301" y="147"/>
                </a:lnTo>
                <a:lnTo>
                  <a:pt x="1296" y="174"/>
                </a:lnTo>
                <a:lnTo>
                  <a:pt x="1290" y="185"/>
                </a:lnTo>
                <a:lnTo>
                  <a:pt x="1290" y="196"/>
                </a:lnTo>
                <a:lnTo>
                  <a:pt x="1279" y="218"/>
                </a:lnTo>
                <a:lnTo>
                  <a:pt x="1274" y="229"/>
                </a:lnTo>
                <a:lnTo>
                  <a:pt x="1268" y="239"/>
                </a:lnTo>
                <a:lnTo>
                  <a:pt x="1257" y="261"/>
                </a:lnTo>
                <a:lnTo>
                  <a:pt x="1252" y="272"/>
                </a:lnTo>
                <a:lnTo>
                  <a:pt x="1247" y="283"/>
                </a:lnTo>
                <a:lnTo>
                  <a:pt x="1241" y="294"/>
                </a:lnTo>
                <a:lnTo>
                  <a:pt x="1230" y="310"/>
                </a:lnTo>
                <a:lnTo>
                  <a:pt x="1225" y="321"/>
                </a:lnTo>
                <a:lnTo>
                  <a:pt x="1219" y="332"/>
                </a:lnTo>
                <a:lnTo>
                  <a:pt x="1203" y="354"/>
                </a:lnTo>
                <a:lnTo>
                  <a:pt x="1198" y="365"/>
                </a:lnTo>
                <a:lnTo>
                  <a:pt x="1187" y="376"/>
                </a:lnTo>
                <a:lnTo>
                  <a:pt x="1176" y="392"/>
                </a:lnTo>
                <a:lnTo>
                  <a:pt x="1165" y="403"/>
                </a:lnTo>
                <a:lnTo>
                  <a:pt x="1159" y="408"/>
                </a:lnTo>
                <a:lnTo>
                  <a:pt x="1143" y="430"/>
                </a:lnTo>
                <a:lnTo>
                  <a:pt x="1132" y="435"/>
                </a:lnTo>
                <a:lnTo>
                  <a:pt x="1121" y="446"/>
                </a:lnTo>
                <a:lnTo>
                  <a:pt x="1105" y="463"/>
                </a:lnTo>
                <a:lnTo>
                  <a:pt x="1094" y="474"/>
                </a:lnTo>
                <a:lnTo>
                  <a:pt x="1083" y="479"/>
                </a:lnTo>
                <a:lnTo>
                  <a:pt x="1067" y="495"/>
                </a:lnTo>
                <a:lnTo>
                  <a:pt x="1056" y="506"/>
                </a:lnTo>
                <a:lnTo>
                  <a:pt x="1045" y="512"/>
                </a:lnTo>
                <a:lnTo>
                  <a:pt x="1023" y="528"/>
                </a:lnTo>
                <a:lnTo>
                  <a:pt x="1012" y="533"/>
                </a:lnTo>
                <a:lnTo>
                  <a:pt x="1002" y="539"/>
                </a:lnTo>
                <a:lnTo>
                  <a:pt x="980" y="555"/>
                </a:lnTo>
                <a:lnTo>
                  <a:pt x="969" y="561"/>
                </a:lnTo>
                <a:lnTo>
                  <a:pt x="958" y="566"/>
                </a:lnTo>
                <a:lnTo>
                  <a:pt x="936" y="577"/>
                </a:lnTo>
                <a:lnTo>
                  <a:pt x="925" y="582"/>
                </a:lnTo>
                <a:lnTo>
                  <a:pt x="909" y="588"/>
                </a:lnTo>
                <a:lnTo>
                  <a:pt x="887" y="599"/>
                </a:lnTo>
                <a:lnTo>
                  <a:pt x="876" y="604"/>
                </a:lnTo>
                <a:lnTo>
                  <a:pt x="866" y="610"/>
                </a:lnTo>
                <a:lnTo>
                  <a:pt x="838" y="621"/>
                </a:lnTo>
                <a:lnTo>
                  <a:pt x="827" y="626"/>
                </a:lnTo>
                <a:lnTo>
                  <a:pt x="811" y="626"/>
                </a:lnTo>
                <a:lnTo>
                  <a:pt x="800" y="631"/>
                </a:lnTo>
                <a:lnTo>
                  <a:pt x="773" y="637"/>
                </a:lnTo>
                <a:lnTo>
                  <a:pt x="762" y="642"/>
                </a:lnTo>
                <a:lnTo>
                  <a:pt x="751" y="648"/>
                </a:lnTo>
                <a:lnTo>
                  <a:pt x="724" y="653"/>
                </a:lnTo>
                <a:lnTo>
                  <a:pt x="708" y="653"/>
                </a:lnTo>
                <a:lnTo>
                  <a:pt x="697" y="653"/>
                </a:lnTo>
                <a:lnTo>
                  <a:pt x="670" y="659"/>
                </a:lnTo>
                <a:lnTo>
                  <a:pt x="659" y="664"/>
                </a:lnTo>
                <a:lnTo>
                  <a:pt x="642" y="664"/>
                </a:lnTo>
                <a:lnTo>
                  <a:pt x="615" y="664"/>
                </a:lnTo>
                <a:lnTo>
                  <a:pt x="604" y="664"/>
                </a:lnTo>
                <a:lnTo>
                  <a:pt x="588" y="670"/>
                </a:lnTo>
                <a:lnTo>
                  <a:pt x="561" y="670"/>
                </a:lnTo>
                <a:lnTo>
                  <a:pt x="550" y="670"/>
                </a:lnTo>
                <a:lnTo>
                  <a:pt x="533" y="670"/>
                </a:lnTo>
                <a:lnTo>
                  <a:pt x="506" y="670"/>
                </a:lnTo>
                <a:lnTo>
                  <a:pt x="495" y="664"/>
                </a:lnTo>
                <a:lnTo>
                  <a:pt x="479" y="664"/>
                </a:lnTo>
                <a:lnTo>
                  <a:pt x="452" y="664"/>
                </a:lnTo>
                <a:lnTo>
                  <a:pt x="441" y="664"/>
                </a:lnTo>
                <a:lnTo>
                  <a:pt x="430" y="659"/>
                </a:lnTo>
                <a:lnTo>
                  <a:pt x="403" y="653"/>
                </a:lnTo>
                <a:lnTo>
                  <a:pt x="386" y="653"/>
                </a:lnTo>
                <a:lnTo>
                  <a:pt x="376" y="653"/>
                </a:lnTo>
                <a:lnTo>
                  <a:pt x="348" y="648"/>
                </a:lnTo>
                <a:lnTo>
                  <a:pt x="337" y="642"/>
                </a:lnTo>
                <a:lnTo>
                  <a:pt x="321" y="637"/>
                </a:lnTo>
                <a:lnTo>
                  <a:pt x="299" y="631"/>
                </a:lnTo>
                <a:lnTo>
                  <a:pt x="283" y="626"/>
                </a:lnTo>
                <a:lnTo>
                  <a:pt x="272" y="626"/>
                </a:lnTo>
                <a:lnTo>
                  <a:pt x="245" y="615"/>
                </a:lnTo>
                <a:lnTo>
                  <a:pt x="234" y="610"/>
                </a:lnTo>
                <a:lnTo>
                  <a:pt x="223" y="604"/>
                </a:lnTo>
                <a:lnTo>
                  <a:pt x="212" y="599"/>
                </a:lnTo>
                <a:lnTo>
                  <a:pt x="185" y="588"/>
                </a:lnTo>
                <a:lnTo>
                  <a:pt x="174" y="582"/>
                </a:lnTo>
                <a:lnTo>
                  <a:pt x="163" y="577"/>
                </a:lnTo>
                <a:lnTo>
                  <a:pt x="142" y="566"/>
                </a:lnTo>
                <a:lnTo>
                  <a:pt x="125" y="561"/>
                </a:lnTo>
                <a:lnTo>
                  <a:pt x="114" y="555"/>
                </a:lnTo>
                <a:lnTo>
                  <a:pt x="93" y="539"/>
                </a:lnTo>
                <a:lnTo>
                  <a:pt x="82" y="533"/>
                </a:lnTo>
                <a:lnTo>
                  <a:pt x="71" y="528"/>
                </a:lnTo>
                <a:lnTo>
                  <a:pt x="49" y="512"/>
                </a:lnTo>
                <a:lnTo>
                  <a:pt x="44" y="506"/>
                </a:lnTo>
                <a:lnTo>
                  <a:pt x="33" y="495"/>
                </a:lnTo>
                <a:lnTo>
                  <a:pt x="11" y="479"/>
                </a:lnTo>
                <a:lnTo>
                  <a:pt x="0" y="474"/>
                </a:lnTo>
                <a:lnTo>
                  <a:pt x="0" y="588"/>
                </a:lnTo>
                <a:lnTo>
                  <a:pt x="11" y="593"/>
                </a:lnTo>
                <a:lnTo>
                  <a:pt x="33" y="610"/>
                </a:lnTo>
                <a:lnTo>
                  <a:pt x="44" y="621"/>
                </a:lnTo>
                <a:lnTo>
                  <a:pt x="49" y="626"/>
                </a:lnTo>
                <a:lnTo>
                  <a:pt x="71" y="642"/>
                </a:lnTo>
                <a:lnTo>
                  <a:pt x="82" y="648"/>
                </a:lnTo>
                <a:lnTo>
                  <a:pt x="93" y="653"/>
                </a:lnTo>
                <a:lnTo>
                  <a:pt x="114" y="670"/>
                </a:lnTo>
                <a:lnTo>
                  <a:pt x="125" y="675"/>
                </a:lnTo>
                <a:lnTo>
                  <a:pt x="142" y="680"/>
                </a:lnTo>
                <a:lnTo>
                  <a:pt x="163" y="691"/>
                </a:lnTo>
                <a:lnTo>
                  <a:pt x="174" y="697"/>
                </a:lnTo>
                <a:lnTo>
                  <a:pt x="185" y="702"/>
                </a:lnTo>
                <a:lnTo>
                  <a:pt x="212" y="713"/>
                </a:lnTo>
                <a:lnTo>
                  <a:pt x="223" y="719"/>
                </a:lnTo>
                <a:lnTo>
                  <a:pt x="234" y="724"/>
                </a:lnTo>
                <a:lnTo>
                  <a:pt x="245" y="729"/>
                </a:lnTo>
                <a:lnTo>
                  <a:pt x="272" y="740"/>
                </a:lnTo>
                <a:lnTo>
                  <a:pt x="283" y="740"/>
                </a:lnTo>
                <a:lnTo>
                  <a:pt x="299" y="746"/>
                </a:lnTo>
                <a:lnTo>
                  <a:pt x="321" y="751"/>
                </a:lnTo>
                <a:lnTo>
                  <a:pt x="337" y="757"/>
                </a:lnTo>
                <a:lnTo>
                  <a:pt x="348" y="762"/>
                </a:lnTo>
                <a:lnTo>
                  <a:pt x="376" y="768"/>
                </a:lnTo>
                <a:lnTo>
                  <a:pt x="386" y="768"/>
                </a:lnTo>
                <a:lnTo>
                  <a:pt x="403" y="768"/>
                </a:lnTo>
                <a:lnTo>
                  <a:pt x="430" y="773"/>
                </a:lnTo>
                <a:lnTo>
                  <a:pt x="441" y="778"/>
                </a:lnTo>
                <a:lnTo>
                  <a:pt x="452" y="778"/>
                </a:lnTo>
                <a:lnTo>
                  <a:pt x="479" y="778"/>
                </a:lnTo>
                <a:lnTo>
                  <a:pt x="495" y="778"/>
                </a:lnTo>
                <a:lnTo>
                  <a:pt x="506" y="784"/>
                </a:lnTo>
                <a:lnTo>
                  <a:pt x="533" y="784"/>
                </a:lnTo>
                <a:lnTo>
                  <a:pt x="550" y="784"/>
                </a:lnTo>
                <a:lnTo>
                  <a:pt x="561" y="784"/>
                </a:lnTo>
                <a:lnTo>
                  <a:pt x="588" y="784"/>
                </a:lnTo>
                <a:lnTo>
                  <a:pt x="604" y="778"/>
                </a:lnTo>
                <a:lnTo>
                  <a:pt x="615" y="778"/>
                </a:lnTo>
                <a:lnTo>
                  <a:pt x="642" y="778"/>
                </a:lnTo>
                <a:lnTo>
                  <a:pt x="659" y="778"/>
                </a:lnTo>
                <a:lnTo>
                  <a:pt x="670" y="773"/>
                </a:lnTo>
                <a:lnTo>
                  <a:pt x="697" y="768"/>
                </a:lnTo>
                <a:lnTo>
                  <a:pt x="708" y="768"/>
                </a:lnTo>
                <a:lnTo>
                  <a:pt x="724" y="768"/>
                </a:lnTo>
                <a:lnTo>
                  <a:pt x="751" y="762"/>
                </a:lnTo>
                <a:lnTo>
                  <a:pt x="762" y="757"/>
                </a:lnTo>
                <a:lnTo>
                  <a:pt x="773" y="751"/>
                </a:lnTo>
                <a:lnTo>
                  <a:pt x="800" y="746"/>
                </a:lnTo>
                <a:lnTo>
                  <a:pt x="811" y="740"/>
                </a:lnTo>
                <a:lnTo>
                  <a:pt x="827" y="740"/>
                </a:lnTo>
                <a:lnTo>
                  <a:pt x="838" y="735"/>
                </a:lnTo>
                <a:lnTo>
                  <a:pt x="866" y="724"/>
                </a:lnTo>
                <a:lnTo>
                  <a:pt x="876" y="719"/>
                </a:lnTo>
                <a:lnTo>
                  <a:pt x="887" y="713"/>
                </a:lnTo>
                <a:lnTo>
                  <a:pt x="909" y="702"/>
                </a:lnTo>
                <a:lnTo>
                  <a:pt x="925" y="697"/>
                </a:lnTo>
                <a:lnTo>
                  <a:pt x="936" y="691"/>
                </a:lnTo>
                <a:lnTo>
                  <a:pt x="958" y="680"/>
                </a:lnTo>
                <a:lnTo>
                  <a:pt x="969" y="675"/>
                </a:lnTo>
                <a:lnTo>
                  <a:pt x="980" y="670"/>
                </a:lnTo>
                <a:lnTo>
                  <a:pt x="1002" y="653"/>
                </a:lnTo>
                <a:lnTo>
                  <a:pt x="1012" y="648"/>
                </a:lnTo>
                <a:lnTo>
                  <a:pt x="1023" y="642"/>
                </a:lnTo>
                <a:lnTo>
                  <a:pt x="1045" y="626"/>
                </a:lnTo>
                <a:lnTo>
                  <a:pt x="1056" y="621"/>
                </a:lnTo>
                <a:lnTo>
                  <a:pt x="1067" y="610"/>
                </a:lnTo>
                <a:lnTo>
                  <a:pt x="1083" y="593"/>
                </a:lnTo>
                <a:lnTo>
                  <a:pt x="1094" y="588"/>
                </a:lnTo>
                <a:lnTo>
                  <a:pt x="1105" y="577"/>
                </a:lnTo>
                <a:lnTo>
                  <a:pt x="1121" y="561"/>
                </a:lnTo>
                <a:lnTo>
                  <a:pt x="1132" y="550"/>
                </a:lnTo>
                <a:lnTo>
                  <a:pt x="1143" y="544"/>
                </a:lnTo>
                <a:lnTo>
                  <a:pt x="1159" y="523"/>
                </a:lnTo>
                <a:lnTo>
                  <a:pt x="1165" y="517"/>
                </a:lnTo>
                <a:lnTo>
                  <a:pt x="1176" y="506"/>
                </a:lnTo>
                <a:lnTo>
                  <a:pt x="1187" y="490"/>
                </a:lnTo>
                <a:lnTo>
                  <a:pt x="1198" y="479"/>
                </a:lnTo>
                <a:lnTo>
                  <a:pt x="1203" y="468"/>
                </a:lnTo>
                <a:lnTo>
                  <a:pt x="1219" y="446"/>
                </a:lnTo>
                <a:lnTo>
                  <a:pt x="1225" y="435"/>
                </a:lnTo>
                <a:lnTo>
                  <a:pt x="1230" y="425"/>
                </a:lnTo>
                <a:lnTo>
                  <a:pt x="1241" y="408"/>
                </a:lnTo>
                <a:lnTo>
                  <a:pt x="1247" y="397"/>
                </a:lnTo>
                <a:lnTo>
                  <a:pt x="1252" y="386"/>
                </a:lnTo>
                <a:lnTo>
                  <a:pt x="1257" y="376"/>
                </a:lnTo>
                <a:lnTo>
                  <a:pt x="1268" y="354"/>
                </a:lnTo>
                <a:lnTo>
                  <a:pt x="1274" y="343"/>
                </a:lnTo>
                <a:lnTo>
                  <a:pt x="1279" y="332"/>
                </a:lnTo>
                <a:lnTo>
                  <a:pt x="1290" y="310"/>
                </a:lnTo>
                <a:lnTo>
                  <a:pt x="1290" y="299"/>
                </a:lnTo>
                <a:lnTo>
                  <a:pt x="1296" y="288"/>
                </a:lnTo>
                <a:lnTo>
                  <a:pt x="1301" y="261"/>
                </a:lnTo>
                <a:lnTo>
                  <a:pt x="1306" y="250"/>
                </a:lnTo>
                <a:lnTo>
                  <a:pt x="1306" y="239"/>
                </a:lnTo>
                <a:lnTo>
                  <a:pt x="1312" y="218"/>
                </a:lnTo>
                <a:lnTo>
                  <a:pt x="1312" y="207"/>
                </a:lnTo>
                <a:lnTo>
                  <a:pt x="1317" y="196"/>
                </a:lnTo>
                <a:lnTo>
                  <a:pt x="1317" y="169"/>
                </a:lnTo>
                <a:lnTo>
                  <a:pt x="1317" y="158"/>
                </a:lnTo>
                <a:lnTo>
                  <a:pt x="1323" y="147"/>
                </a:lnTo>
                <a:lnTo>
                  <a:pt x="1323" y="125"/>
                </a:lnTo>
                <a:lnTo>
                  <a:pt x="1323" y="114"/>
                </a:lnTo>
                <a:lnTo>
                  <a:pt x="1323" y="0"/>
                </a:lnTo>
                <a:close/>
              </a:path>
            </a:pathLst>
          </a:custGeom>
          <a:solidFill>
            <a:srgbClr val="8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727440" y="2104920"/>
            <a:ext cx="2100240" cy="2135160"/>
          </a:xfrm>
          <a:custGeom>
            <a:avLst/>
            <a:gdLst/>
            <a:ahLst/>
            <a:rect l="l" t="t" r="r" b="b"/>
            <a:pathLst>
              <a:path w="1323" h="1345">
                <a:moveTo>
                  <a:pt x="414" y="11"/>
                </a:moveTo>
                <a:lnTo>
                  <a:pt x="430" y="6"/>
                </a:lnTo>
                <a:lnTo>
                  <a:pt x="452" y="6"/>
                </a:lnTo>
                <a:lnTo>
                  <a:pt x="468" y="0"/>
                </a:lnTo>
                <a:lnTo>
                  <a:pt x="479" y="0"/>
                </a:lnTo>
                <a:lnTo>
                  <a:pt x="506" y="0"/>
                </a:lnTo>
                <a:lnTo>
                  <a:pt x="523" y="0"/>
                </a:lnTo>
                <a:lnTo>
                  <a:pt x="533" y="0"/>
                </a:lnTo>
                <a:lnTo>
                  <a:pt x="561" y="0"/>
                </a:lnTo>
                <a:lnTo>
                  <a:pt x="577" y="0"/>
                </a:lnTo>
                <a:lnTo>
                  <a:pt x="588" y="0"/>
                </a:lnTo>
                <a:lnTo>
                  <a:pt x="615" y="0"/>
                </a:lnTo>
                <a:lnTo>
                  <a:pt x="631" y="0"/>
                </a:lnTo>
                <a:lnTo>
                  <a:pt x="642" y="6"/>
                </a:lnTo>
                <a:lnTo>
                  <a:pt x="670" y="6"/>
                </a:lnTo>
                <a:lnTo>
                  <a:pt x="680" y="11"/>
                </a:lnTo>
                <a:lnTo>
                  <a:pt x="697" y="11"/>
                </a:lnTo>
                <a:lnTo>
                  <a:pt x="724" y="17"/>
                </a:lnTo>
                <a:lnTo>
                  <a:pt x="735" y="17"/>
                </a:lnTo>
                <a:lnTo>
                  <a:pt x="751" y="22"/>
                </a:lnTo>
                <a:lnTo>
                  <a:pt x="773" y="27"/>
                </a:lnTo>
                <a:lnTo>
                  <a:pt x="789" y="33"/>
                </a:lnTo>
                <a:lnTo>
                  <a:pt x="800" y="33"/>
                </a:lnTo>
                <a:lnTo>
                  <a:pt x="827" y="44"/>
                </a:lnTo>
                <a:lnTo>
                  <a:pt x="838" y="49"/>
                </a:lnTo>
                <a:lnTo>
                  <a:pt x="849" y="55"/>
                </a:lnTo>
                <a:lnTo>
                  <a:pt x="876" y="60"/>
                </a:lnTo>
                <a:lnTo>
                  <a:pt x="887" y="66"/>
                </a:lnTo>
                <a:lnTo>
                  <a:pt x="898" y="71"/>
                </a:lnTo>
                <a:lnTo>
                  <a:pt x="925" y="82"/>
                </a:lnTo>
                <a:lnTo>
                  <a:pt x="936" y="87"/>
                </a:lnTo>
                <a:lnTo>
                  <a:pt x="947" y="93"/>
                </a:lnTo>
                <a:lnTo>
                  <a:pt x="958" y="104"/>
                </a:lnTo>
                <a:lnTo>
                  <a:pt x="980" y="115"/>
                </a:lnTo>
                <a:lnTo>
                  <a:pt x="991" y="120"/>
                </a:lnTo>
                <a:lnTo>
                  <a:pt x="1002" y="125"/>
                </a:lnTo>
                <a:lnTo>
                  <a:pt x="1023" y="142"/>
                </a:lnTo>
                <a:lnTo>
                  <a:pt x="1034" y="147"/>
                </a:lnTo>
                <a:lnTo>
                  <a:pt x="1045" y="158"/>
                </a:lnTo>
                <a:lnTo>
                  <a:pt x="1067" y="169"/>
                </a:lnTo>
                <a:lnTo>
                  <a:pt x="1078" y="180"/>
                </a:lnTo>
                <a:lnTo>
                  <a:pt x="1083" y="185"/>
                </a:lnTo>
                <a:lnTo>
                  <a:pt x="1105" y="202"/>
                </a:lnTo>
                <a:lnTo>
                  <a:pt x="1116" y="213"/>
                </a:lnTo>
                <a:lnTo>
                  <a:pt x="1121" y="223"/>
                </a:lnTo>
                <a:lnTo>
                  <a:pt x="1143" y="240"/>
                </a:lnTo>
                <a:lnTo>
                  <a:pt x="1149" y="251"/>
                </a:lnTo>
                <a:lnTo>
                  <a:pt x="1159" y="256"/>
                </a:lnTo>
                <a:lnTo>
                  <a:pt x="1176" y="278"/>
                </a:lnTo>
                <a:lnTo>
                  <a:pt x="1181" y="283"/>
                </a:lnTo>
                <a:lnTo>
                  <a:pt x="1187" y="294"/>
                </a:lnTo>
                <a:lnTo>
                  <a:pt x="1203" y="316"/>
                </a:lnTo>
                <a:lnTo>
                  <a:pt x="1208" y="327"/>
                </a:lnTo>
                <a:lnTo>
                  <a:pt x="1219" y="332"/>
                </a:lnTo>
                <a:lnTo>
                  <a:pt x="1230" y="354"/>
                </a:lnTo>
                <a:lnTo>
                  <a:pt x="1236" y="365"/>
                </a:lnTo>
                <a:lnTo>
                  <a:pt x="1241" y="376"/>
                </a:lnTo>
                <a:lnTo>
                  <a:pt x="1252" y="398"/>
                </a:lnTo>
                <a:lnTo>
                  <a:pt x="1257" y="409"/>
                </a:lnTo>
                <a:lnTo>
                  <a:pt x="1263" y="419"/>
                </a:lnTo>
                <a:lnTo>
                  <a:pt x="1274" y="441"/>
                </a:lnTo>
                <a:lnTo>
                  <a:pt x="1279" y="452"/>
                </a:lnTo>
                <a:lnTo>
                  <a:pt x="1285" y="463"/>
                </a:lnTo>
                <a:lnTo>
                  <a:pt x="1290" y="485"/>
                </a:lnTo>
                <a:lnTo>
                  <a:pt x="1296" y="496"/>
                </a:lnTo>
                <a:lnTo>
                  <a:pt x="1301" y="507"/>
                </a:lnTo>
                <a:lnTo>
                  <a:pt x="1306" y="534"/>
                </a:lnTo>
                <a:lnTo>
                  <a:pt x="1306" y="545"/>
                </a:lnTo>
                <a:lnTo>
                  <a:pt x="1312" y="556"/>
                </a:lnTo>
                <a:lnTo>
                  <a:pt x="1312" y="577"/>
                </a:lnTo>
                <a:lnTo>
                  <a:pt x="1317" y="588"/>
                </a:lnTo>
                <a:lnTo>
                  <a:pt x="1317" y="599"/>
                </a:lnTo>
                <a:lnTo>
                  <a:pt x="1317" y="626"/>
                </a:lnTo>
                <a:lnTo>
                  <a:pt x="1323" y="637"/>
                </a:lnTo>
                <a:lnTo>
                  <a:pt x="1323" y="648"/>
                </a:lnTo>
                <a:lnTo>
                  <a:pt x="1323" y="670"/>
                </a:lnTo>
                <a:lnTo>
                  <a:pt x="1323" y="681"/>
                </a:lnTo>
                <a:lnTo>
                  <a:pt x="1323" y="697"/>
                </a:lnTo>
                <a:lnTo>
                  <a:pt x="1317" y="719"/>
                </a:lnTo>
                <a:lnTo>
                  <a:pt x="1317" y="730"/>
                </a:lnTo>
                <a:lnTo>
                  <a:pt x="1317" y="741"/>
                </a:lnTo>
                <a:lnTo>
                  <a:pt x="1312" y="762"/>
                </a:lnTo>
                <a:lnTo>
                  <a:pt x="1312" y="779"/>
                </a:lnTo>
                <a:lnTo>
                  <a:pt x="1312" y="790"/>
                </a:lnTo>
                <a:lnTo>
                  <a:pt x="1306" y="811"/>
                </a:lnTo>
                <a:lnTo>
                  <a:pt x="1301" y="822"/>
                </a:lnTo>
                <a:lnTo>
                  <a:pt x="1301" y="833"/>
                </a:lnTo>
                <a:lnTo>
                  <a:pt x="1290" y="855"/>
                </a:lnTo>
                <a:lnTo>
                  <a:pt x="1290" y="866"/>
                </a:lnTo>
                <a:lnTo>
                  <a:pt x="1285" y="877"/>
                </a:lnTo>
                <a:lnTo>
                  <a:pt x="1279" y="888"/>
                </a:lnTo>
                <a:lnTo>
                  <a:pt x="1268" y="915"/>
                </a:lnTo>
                <a:lnTo>
                  <a:pt x="1263" y="926"/>
                </a:lnTo>
                <a:lnTo>
                  <a:pt x="1257" y="937"/>
                </a:lnTo>
                <a:lnTo>
                  <a:pt x="1247" y="953"/>
                </a:lnTo>
                <a:lnTo>
                  <a:pt x="1241" y="964"/>
                </a:lnTo>
                <a:lnTo>
                  <a:pt x="1236" y="975"/>
                </a:lnTo>
                <a:lnTo>
                  <a:pt x="1225" y="997"/>
                </a:lnTo>
                <a:lnTo>
                  <a:pt x="1219" y="1007"/>
                </a:lnTo>
                <a:lnTo>
                  <a:pt x="1208" y="1018"/>
                </a:lnTo>
                <a:lnTo>
                  <a:pt x="1198" y="1040"/>
                </a:lnTo>
                <a:lnTo>
                  <a:pt x="1187" y="1046"/>
                </a:lnTo>
                <a:lnTo>
                  <a:pt x="1181" y="1056"/>
                </a:lnTo>
                <a:lnTo>
                  <a:pt x="1165" y="1078"/>
                </a:lnTo>
                <a:lnTo>
                  <a:pt x="1159" y="1084"/>
                </a:lnTo>
                <a:lnTo>
                  <a:pt x="1149" y="1095"/>
                </a:lnTo>
                <a:lnTo>
                  <a:pt x="1132" y="1111"/>
                </a:lnTo>
                <a:lnTo>
                  <a:pt x="1121" y="1122"/>
                </a:lnTo>
                <a:lnTo>
                  <a:pt x="1116" y="1127"/>
                </a:lnTo>
                <a:lnTo>
                  <a:pt x="1094" y="1149"/>
                </a:lnTo>
                <a:lnTo>
                  <a:pt x="1083" y="1154"/>
                </a:lnTo>
                <a:lnTo>
                  <a:pt x="1078" y="1165"/>
                </a:lnTo>
                <a:lnTo>
                  <a:pt x="1056" y="1176"/>
                </a:lnTo>
                <a:lnTo>
                  <a:pt x="1045" y="1187"/>
                </a:lnTo>
                <a:lnTo>
                  <a:pt x="1034" y="1193"/>
                </a:lnTo>
                <a:lnTo>
                  <a:pt x="1012" y="1209"/>
                </a:lnTo>
                <a:lnTo>
                  <a:pt x="1002" y="1214"/>
                </a:lnTo>
                <a:lnTo>
                  <a:pt x="991" y="1220"/>
                </a:lnTo>
                <a:lnTo>
                  <a:pt x="969" y="1236"/>
                </a:lnTo>
                <a:lnTo>
                  <a:pt x="958" y="1242"/>
                </a:lnTo>
                <a:lnTo>
                  <a:pt x="947" y="1247"/>
                </a:lnTo>
                <a:lnTo>
                  <a:pt x="925" y="1258"/>
                </a:lnTo>
                <a:lnTo>
                  <a:pt x="909" y="1263"/>
                </a:lnTo>
                <a:lnTo>
                  <a:pt x="898" y="1269"/>
                </a:lnTo>
                <a:lnTo>
                  <a:pt x="876" y="1280"/>
                </a:lnTo>
                <a:lnTo>
                  <a:pt x="866" y="1285"/>
                </a:lnTo>
                <a:lnTo>
                  <a:pt x="849" y="1291"/>
                </a:lnTo>
                <a:lnTo>
                  <a:pt x="827" y="1301"/>
                </a:lnTo>
                <a:lnTo>
                  <a:pt x="811" y="1301"/>
                </a:lnTo>
                <a:lnTo>
                  <a:pt x="800" y="1307"/>
                </a:lnTo>
                <a:lnTo>
                  <a:pt x="773" y="1312"/>
                </a:lnTo>
                <a:lnTo>
                  <a:pt x="762" y="1318"/>
                </a:lnTo>
                <a:lnTo>
                  <a:pt x="751" y="1323"/>
                </a:lnTo>
                <a:lnTo>
                  <a:pt x="724" y="1329"/>
                </a:lnTo>
                <a:lnTo>
                  <a:pt x="708" y="1329"/>
                </a:lnTo>
                <a:lnTo>
                  <a:pt x="697" y="1329"/>
                </a:lnTo>
                <a:lnTo>
                  <a:pt x="670" y="1334"/>
                </a:lnTo>
                <a:lnTo>
                  <a:pt x="659" y="1340"/>
                </a:lnTo>
                <a:lnTo>
                  <a:pt x="642" y="1340"/>
                </a:lnTo>
                <a:lnTo>
                  <a:pt x="615" y="1340"/>
                </a:lnTo>
                <a:lnTo>
                  <a:pt x="604" y="1340"/>
                </a:lnTo>
                <a:lnTo>
                  <a:pt x="588" y="1345"/>
                </a:lnTo>
                <a:lnTo>
                  <a:pt x="561" y="1345"/>
                </a:lnTo>
                <a:lnTo>
                  <a:pt x="550" y="1345"/>
                </a:lnTo>
                <a:lnTo>
                  <a:pt x="533" y="1345"/>
                </a:lnTo>
                <a:lnTo>
                  <a:pt x="506" y="1345"/>
                </a:lnTo>
                <a:lnTo>
                  <a:pt x="495" y="1340"/>
                </a:lnTo>
                <a:lnTo>
                  <a:pt x="479" y="1340"/>
                </a:lnTo>
                <a:lnTo>
                  <a:pt x="468" y="1340"/>
                </a:lnTo>
                <a:lnTo>
                  <a:pt x="441" y="1340"/>
                </a:lnTo>
                <a:lnTo>
                  <a:pt x="430" y="1334"/>
                </a:lnTo>
                <a:lnTo>
                  <a:pt x="414" y="1334"/>
                </a:lnTo>
                <a:lnTo>
                  <a:pt x="386" y="1329"/>
                </a:lnTo>
                <a:lnTo>
                  <a:pt x="376" y="1329"/>
                </a:lnTo>
                <a:lnTo>
                  <a:pt x="359" y="1323"/>
                </a:lnTo>
                <a:lnTo>
                  <a:pt x="337" y="1318"/>
                </a:lnTo>
                <a:lnTo>
                  <a:pt x="321" y="1312"/>
                </a:lnTo>
                <a:lnTo>
                  <a:pt x="310" y="1312"/>
                </a:lnTo>
                <a:lnTo>
                  <a:pt x="283" y="1301"/>
                </a:lnTo>
                <a:lnTo>
                  <a:pt x="272" y="1301"/>
                </a:lnTo>
                <a:lnTo>
                  <a:pt x="261" y="1296"/>
                </a:lnTo>
                <a:lnTo>
                  <a:pt x="234" y="1285"/>
                </a:lnTo>
                <a:lnTo>
                  <a:pt x="223" y="1280"/>
                </a:lnTo>
                <a:lnTo>
                  <a:pt x="212" y="1274"/>
                </a:lnTo>
                <a:lnTo>
                  <a:pt x="185" y="1263"/>
                </a:lnTo>
                <a:lnTo>
                  <a:pt x="174" y="1258"/>
                </a:lnTo>
                <a:lnTo>
                  <a:pt x="163" y="1252"/>
                </a:lnTo>
                <a:lnTo>
                  <a:pt x="142" y="1242"/>
                </a:lnTo>
                <a:lnTo>
                  <a:pt x="125" y="1236"/>
                </a:lnTo>
                <a:lnTo>
                  <a:pt x="114" y="1231"/>
                </a:lnTo>
                <a:lnTo>
                  <a:pt x="93" y="1214"/>
                </a:lnTo>
                <a:lnTo>
                  <a:pt x="82" y="1209"/>
                </a:lnTo>
                <a:lnTo>
                  <a:pt x="71" y="1203"/>
                </a:lnTo>
                <a:lnTo>
                  <a:pt x="49" y="1187"/>
                </a:lnTo>
                <a:lnTo>
                  <a:pt x="44" y="1176"/>
                </a:lnTo>
                <a:lnTo>
                  <a:pt x="33" y="1171"/>
                </a:lnTo>
                <a:lnTo>
                  <a:pt x="11" y="1154"/>
                </a:lnTo>
                <a:lnTo>
                  <a:pt x="0" y="1149"/>
                </a:lnTo>
                <a:lnTo>
                  <a:pt x="550" y="670"/>
                </a:lnTo>
                <a:lnTo>
                  <a:pt x="414" y="1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825160" y="363528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5.2%</a:t>
            </a:r>
            <a:endParaRPr b="0" lang="en-US" sz="1200" spc="-1" strike="noStrike">
              <a:solidFill>
                <a:srgbClr val="000000"/>
              </a:solidFill>
              <a:latin typeface="Arial"/>
            </a:endParaRPr>
          </a:p>
        </p:txBody>
      </p:sp>
      <p:sp>
        <p:nvSpPr>
          <p:cNvPr id="284" name=""/>
          <p:cNvSpPr/>
          <p:nvPr/>
        </p:nvSpPr>
        <p:spPr>
          <a:xfrm>
            <a:off x="2982600" y="3384720"/>
            <a:ext cx="41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2</a:t>
            </a:r>
            <a:r>
              <a:rPr b="0" lang="en-US" sz="1000" spc="-1" strike="noStrike">
                <a:solidFill>
                  <a:srgbClr val="ffffff"/>
                </a:solidFill>
                <a:latin typeface="Arial"/>
              </a:rPr>
              <a:t>%</a:t>
            </a:r>
            <a:endParaRPr b="0" lang="en-US" sz="1000" spc="-1" strike="noStrike">
              <a:solidFill>
                <a:srgbClr val="000000"/>
              </a:solidFill>
              <a:latin typeface="Arial"/>
            </a:endParaRPr>
          </a:p>
        </p:txBody>
      </p:sp>
      <p:sp>
        <p:nvSpPr>
          <p:cNvPr id="285" name=""/>
          <p:cNvSpPr/>
          <p:nvPr/>
        </p:nvSpPr>
        <p:spPr>
          <a:xfrm>
            <a:off x="3499560" y="2104920"/>
            <a:ext cx="43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a:t>
            </a:r>
            <a:endParaRPr b="0" lang="en-US" sz="1200" spc="-1" strike="noStrike">
              <a:solidFill>
                <a:srgbClr val="000000"/>
              </a:solidFill>
              <a:latin typeface="Arial"/>
            </a:endParaRPr>
          </a:p>
        </p:txBody>
      </p:sp>
      <p:sp>
        <p:nvSpPr>
          <p:cNvPr id="286" name=""/>
          <p:cNvSpPr/>
          <p:nvPr/>
        </p:nvSpPr>
        <p:spPr>
          <a:xfrm>
            <a:off x="4022640" y="191916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323CF7A-BF19-45B8-8396-02A1D03967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80880" y="4114800"/>
          <a:ext cx="5410080" cy="2297160"/>
        </p:xfrm>
        <a:graphic>
          <a:graphicData uri="http://schemas.openxmlformats.org/presentationml/2006/ole">
            <p:oleObj r:id="rId1" spid="">
              <p:embed/>
              <p:pic>
                <p:nvPicPr>
                  <p:cNvPr id="288" name="" descr=""/>
                  <p:cNvPicPr/>
                  <p:nvPr/>
                </p:nvPicPr>
                <p:blipFill>
                  <a:blip r:embed="rId2"/>
                  <a:stretch/>
                </p:blipFill>
                <p:spPr>
                  <a:xfrm>
                    <a:off x="-380880" y="4114800"/>
                    <a:ext cx="5410080" cy="2297160"/>
                  </a:xfrm>
                  <a:prstGeom prst="rect">
                    <a:avLst/>
                  </a:prstGeom>
                  <a:ln w="0">
                    <a:noFill/>
                  </a:ln>
                </p:spPr>
              </p:pic>
            </p:oleObj>
          </a:graphicData>
        </a:graphic>
      </p:graphicFrame>
      <p:grpSp>
        <p:nvGrpSpPr>
          <p:cNvPr id="289" name=""/>
          <p:cNvGrpSpPr/>
          <p:nvPr/>
        </p:nvGrpSpPr>
        <p:grpSpPr>
          <a:xfrm>
            <a:off x="3429000" y="6172200"/>
            <a:ext cx="2438280" cy="228600"/>
            <a:chOff x="3429000" y="6172200"/>
            <a:chExt cx="2438280" cy="228600"/>
          </a:xfrm>
        </p:grpSpPr>
        <p:sp>
          <p:nvSpPr>
            <p:cNvPr id="290" name=""/>
            <p:cNvSpPr/>
            <p:nvPr/>
          </p:nvSpPr>
          <p:spPr>
            <a:xfrm>
              <a:off x="3522600" y="6280200"/>
              <a:ext cx="73080" cy="71280"/>
            </a:xfrm>
            <a:prstGeom prst="rect">
              <a:avLst/>
            </a:prstGeom>
            <a:solidFill>
              <a:srgbClr val="cc99ff"/>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1" name=""/>
            <p:cNvSpPr/>
            <p:nvPr/>
          </p:nvSpPr>
          <p:spPr>
            <a:xfrm>
              <a:off x="3620520" y="6243480"/>
              <a:ext cx="86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me &amp; Materials</a:t>
              </a:r>
              <a:endParaRPr b="0" lang="en-US" sz="900" spc="-1" strike="noStrike">
                <a:solidFill>
                  <a:srgbClr val="000000"/>
                </a:solidFill>
                <a:latin typeface="Arial"/>
              </a:endParaRPr>
            </a:p>
          </p:txBody>
        </p:sp>
        <p:sp>
          <p:nvSpPr>
            <p:cNvPr id="292" name=""/>
            <p:cNvSpPr/>
            <p:nvPr/>
          </p:nvSpPr>
          <p:spPr>
            <a:xfrm>
              <a:off x="5029200" y="6280200"/>
              <a:ext cx="71280" cy="71280"/>
            </a:xfrm>
            <a:prstGeom prst="rect">
              <a:avLst/>
            </a:prstGeom>
            <a:solidFill>
              <a:srgbClr val="ffcc66"/>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3" name=""/>
            <p:cNvSpPr/>
            <p:nvPr/>
          </p:nvSpPr>
          <p:spPr>
            <a:xfrm>
              <a:off x="5178960" y="6243480"/>
              <a:ext cx="57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Price</a:t>
              </a:r>
              <a:endParaRPr b="0" lang="en-US" sz="900" spc="-1" strike="noStrike">
                <a:solidFill>
                  <a:srgbClr val="000000"/>
                </a:solidFill>
                <a:latin typeface="Arial"/>
              </a:endParaRPr>
            </a:p>
          </p:txBody>
        </p:sp>
        <p:sp>
          <p:nvSpPr>
            <p:cNvPr id="294" name=""/>
            <p:cNvSpPr/>
            <p:nvPr/>
          </p:nvSpPr>
          <p:spPr>
            <a:xfrm>
              <a:off x="3429000" y="6172200"/>
              <a:ext cx="2438280" cy="228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5" name=""/>
          <p:cNvSpPr/>
          <p:nvPr/>
        </p:nvSpPr>
        <p:spPr>
          <a:xfrm>
            <a:off x="114300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6%</a:t>
            </a:r>
            <a:endParaRPr b="0" lang="en-US" sz="1200" spc="-1" strike="noStrike">
              <a:solidFill>
                <a:srgbClr val="000000"/>
              </a:solidFill>
              <a:latin typeface="Arial"/>
            </a:endParaRPr>
          </a:p>
        </p:txBody>
      </p:sp>
      <p:sp>
        <p:nvSpPr>
          <p:cNvPr id="296" name=""/>
          <p:cNvSpPr/>
          <p:nvPr/>
        </p:nvSpPr>
        <p:spPr>
          <a:xfrm>
            <a:off x="365760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9.4%</a:t>
            </a:r>
            <a:endParaRPr b="0" lang="en-US" sz="1200" spc="-1" strike="noStrike">
              <a:solidFill>
                <a:srgbClr val="000000"/>
              </a:solidFill>
              <a:latin typeface="Arial"/>
            </a:endParaRPr>
          </a:p>
        </p:txBody>
      </p:sp>
      <p:graphicFrame>
        <p:nvGraphicFramePr>
          <p:cNvPr id="297" name=""/>
          <p:cNvGraphicFramePr/>
          <p:nvPr/>
        </p:nvGraphicFramePr>
        <p:xfrm>
          <a:off x="3886200" y="4114800"/>
          <a:ext cx="5410080" cy="2297160"/>
        </p:xfrm>
        <a:graphic>
          <a:graphicData uri="http://schemas.openxmlformats.org/presentationml/2006/ole">
            <p:oleObj r:id="rId3" spid="">
              <p:embed/>
              <p:pic>
                <p:nvPicPr>
                  <p:cNvPr id="298" name="" descr=""/>
                  <p:cNvPicPr/>
                  <p:nvPr/>
                </p:nvPicPr>
                <p:blipFill>
                  <a:blip r:embed="rId4"/>
                  <a:stretch/>
                </p:blipFill>
                <p:spPr>
                  <a:xfrm>
                    <a:off x="3886200" y="4114800"/>
                    <a:ext cx="5410080" cy="2297160"/>
                  </a:xfrm>
                  <a:prstGeom prst="rect">
                    <a:avLst/>
                  </a:prstGeom>
                  <a:ln w="0">
                    <a:noFill/>
                  </a:ln>
                </p:spPr>
              </p:pic>
            </p:oleObj>
          </a:graphicData>
        </a:graphic>
      </p:graphicFrame>
      <p:sp>
        <p:nvSpPr>
          <p:cNvPr id="299" name=""/>
          <p:cNvSpPr/>
          <p:nvPr/>
        </p:nvSpPr>
        <p:spPr>
          <a:xfrm>
            <a:off x="5410080" y="54864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9%</a:t>
            </a:r>
            <a:endParaRPr b="0" lang="en-US" sz="1200" spc="-1" strike="noStrike">
              <a:solidFill>
                <a:srgbClr val="000000"/>
              </a:solidFill>
              <a:latin typeface="Arial"/>
            </a:endParaRPr>
          </a:p>
        </p:txBody>
      </p:sp>
      <p:sp>
        <p:nvSpPr>
          <p:cNvPr id="300" name=""/>
          <p:cNvSpPr/>
          <p:nvPr/>
        </p:nvSpPr>
        <p:spPr>
          <a:xfrm>
            <a:off x="7924680" y="4800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1%</a:t>
            </a:r>
            <a:endParaRPr b="0" lang="en-US" sz="1200" spc="-1" strike="noStrike">
              <a:solidFill>
                <a:srgbClr val="000000"/>
              </a:solidFill>
              <a:latin typeface="Arial"/>
            </a:endParaRPr>
          </a:p>
        </p:txBody>
      </p:sp>
      <p:graphicFrame>
        <p:nvGraphicFramePr>
          <p:cNvPr id="301" name=""/>
          <p:cNvGraphicFramePr/>
          <p:nvPr/>
        </p:nvGraphicFramePr>
        <p:xfrm>
          <a:off x="609480" y="1447920"/>
          <a:ext cx="7467840" cy="3170160"/>
        </p:xfrm>
        <a:graphic>
          <a:graphicData uri="http://schemas.openxmlformats.org/presentationml/2006/ole">
            <p:oleObj r:id="rId5" spid="">
              <p:embed/>
              <p:pic>
                <p:nvPicPr>
                  <p:cNvPr id="302" name="" descr=""/>
                  <p:cNvPicPr/>
                  <p:nvPr/>
                </p:nvPicPr>
                <p:blipFill>
                  <a:blip r:embed="rId6"/>
                  <a:stretch/>
                </p:blipFill>
                <p:spPr>
                  <a:xfrm>
                    <a:off x="609480" y="1447920"/>
                    <a:ext cx="7467840" cy="3170160"/>
                  </a:xfrm>
                  <a:prstGeom prst="rect">
                    <a:avLst/>
                  </a:prstGeom>
                  <a:ln w="0">
                    <a:noFill/>
                  </a:ln>
                </p:spPr>
              </p:pic>
            </p:oleObj>
          </a:graphicData>
        </a:graphic>
      </p:graphicFrame>
      <p:sp>
        <p:nvSpPr>
          <p:cNvPr id="303" name=""/>
          <p:cNvSpPr/>
          <p:nvPr/>
        </p:nvSpPr>
        <p:spPr>
          <a:xfrm>
            <a:off x="2666880" y="33066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9.7%</a:t>
            </a:r>
            <a:endParaRPr b="0" lang="en-US" sz="1200" spc="-1" strike="noStrike">
              <a:solidFill>
                <a:srgbClr val="000000"/>
              </a:solidFill>
              <a:latin typeface="Arial"/>
            </a:endParaRPr>
          </a:p>
        </p:txBody>
      </p:sp>
      <p:sp>
        <p:nvSpPr>
          <p:cNvPr id="304" name=""/>
          <p:cNvSpPr/>
          <p:nvPr/>
        </p:nvSpPr>
        <p:spPr>
          <a:xfrm>
            <a:off x="624852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3%</a:t>
            </a:r>
            <a:endParaRPr b="0" lang="en-US" sz="1200" spc="-1" strike="noStrike">
              <a:solidFill>
                <a:srgbClr val="000000"/>
              </a:solidFill>
              <a:latin typeface="Arial"/>
            </a:endParaRPr>
          </a:p>
        </p:txBody>
      </p:sp>
      <p:sp>
        <p:nvSpPr>
          <p:cNvPr id="30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enue by Project type</a:t>
            </a: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C6B54CAD-9625-4300-B55F-A7255A895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 and Utilization</a:t>
            </a:r>
            <a:endParaRPr b="0" lang="en-US" sz="2800" spc="-1" strike="noStrike">
              <a:solidFill>
                <a:srgbClr val="ffff00"/>
              </a:solidFill>
              <a:latin typeface="Arial"/>
            </a:endParaRPr>
          </a:p>
        </p:txBody>
      </p:sp>
      <p:graphicFrame>
        <p:nvGraphicFramePr>
          <p:cNvPr id="307" name=""/>
          <p:cNvGraphicFramePr/>
          <p:nvPr/>
        </p:nvGraphicFramePr>
        <p:xfrm>
          <a:off x="533520" y="1503360"/>
          <a:ext cx="8076960" cy="4764240"/>
        </p:xfrm>
        <a:graphic>
          <a:graphicData uri="http://schemas.openxmlformats.org/drawingml/2006/table">
            <a:tbl>
              <a:tblPr/>
              <a:tblGrid>
                <a:gridCol w="2825640"/>
                <a:gridCol w="1752480"/>
                <a:gridCol w="1749600"/>
                <a:gridCol w="1749240"/>
              </a:tblGrid>
              <a:tr h="3999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6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88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Effort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9.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9.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7.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932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Revenue – Servic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nsit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   </a:t>
                      </a:r>
                      <a:r>
                        <a:rPr b="0" lang="en-US" sz="1200" spc="-1" strike="noStrike">
                          <a:solidFill>
                            <a:srgbClr val="ffffff"/>
                          </a:solidFill>
                          <a:latin typeface="Arial"/>
                          <a:ea typeface="Arial Unicode MS"/>
                        </a:rPr>
                        <a:t>Offshore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8.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7.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4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6775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Utiliza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In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0.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6.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Excluding trainees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83.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08" name=""/>
          <p:cNvSpPr/>
          <p:nvPr/>
        </p:nvSpPr>
        <p:spPr>
          <a:xfrm>
            <a:off x="523080" y="6324480"/>
            <a:ext cx="352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Excluding software products and business management revenue</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B0700595-C754-4489-B4BB-91B25F067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ployee Metrics</a:t>
            </a:r>
            <a:endParaRPr b="0" lang="en-US" sz="2800" spc="-1" strike="noStrike">
              <a:solidFill>
                <a:srgbClr val="ffff00"/>
              </a:solidFill>
              <a:latin typeface="Arial"/>
            </a:endParaRPr>
          </a:p>
        </p:txBody>
      </p:sp>
      <p:graphicFrame>
        <p:nvGraphicFramePr>
          <p:cNvPr id="310" name=""/>
          <p:cNvGraphicFramePr/>
          <p:nvPr/>
        </p:nvGraphicFramePr>
        <p:xfrm>
          <a:off x="457200" y="1752480"/>
          <a:ext cx="8229600" cy="4491000"/>
        </p:xfrm>
        <a:graphic>
          <a:graphicData uri="http://schemas.openxmlformats.org/drawingml/2006/table">
            <a:tbl>
              <a:tblPr/>
              <a:tblGrid>
                <a:gridCol w="2879640"/>
                <a:gridCol w="1646280"/>
                <a:gridCol w="1920960"/>
                <a:gridCol w="1782720"/>
              </a:tblGrid>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3">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Quarter ended</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Mar 31, 20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Unicode MS"/>
                        </a:rPr>
                        <a:t>Jun 30, 200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ot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7,93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6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97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w professional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6,028</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86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6,4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218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illable</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76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18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4,0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Banking Product Group</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8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60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51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40176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Train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8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067</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0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764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Sales &amp; Support</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91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53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Gross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233</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849</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592</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80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Net Addition</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30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42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2,101</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620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Lateral Employees</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46</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74</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33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75120">
                <a:tc>
                  <a:txBody>
                    <a:bodyPr lIns="90000" rIns="90000" tIns="46800" bIns="46800" anchor="ctr">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Attrition % (LTM)*</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ctr" pos="2743200"/>
                          <a:tab algn="r"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10.45</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Unicode MS"/>
                        </a:rPr>
                        <a:t>7.90</a:t>
                      </a:r>
                      <a:endParaRPr b="0" lang="en-US" sz="12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311" name=""/>
          <p:cNvSpPr/>
          <p:nvPr/>
        </p:nvSpPr>
        <p:spPr>
          <a:xfrm>
            <a:off x="414360" y="6240600"/>
            <a:ext cx="4048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luding subsidiaries</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5E335B1-6D78-4E96-9D32-352D8A0AC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314"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nancial Performance</a:t>
            </a:r>
            <a:endParaRPr b="0" lang="en-US" sz="3200" spc="-1" strike="noStrike">
              <a:solidFill>
                <a:srgbClr val="000000"/>
              </a:solidFill>
              <a:latin typeface="Arial"/>
            </a:endParaRPr>
          </a:p>
        </p:txBody>
      </p:sp>
      <p:grpSp>
        <p:nvGrpSpPr>
          <p:cNvPr id="315" name=""/>
          <p:cNvGrpSpPr/>
          <p:nvPr/>
        </p:nvGrpSpPr>
        <p:grpSpPr>
          <a:xfrm>
            <a:off x="457200" y="76320"/>
            <a:ext cx="696600" cy="256680"/>
            <a:chOff x="457200" y="76320"/>
            <a:chExt cx="696600" cy="256680"/>
          </a:xfrm>
        </p:grpSpPr>
        <p:sp>
          <p:nvSpPr>
            <p:cNvPr id="316"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17"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4685EB96-2CF0-4E9B-887F-76E474D7A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Indian GAAP-YoY)</a:t>
            </a:r>
            <a:endParaRPr b="0" lang="en-US" sz="2800" spc="-1" strike="noStrike">
              <a:solidFill>
                <a:srgbClr val="ffff00"/>
              </a:solidFill>
              <a:latin typeface="Arial"/>
            </a:endParaRPr>
          </a:p>
        </p:txBody>
      </p:sp>
      <p:sp>
        <p:nvSpPr>
          <p:cNvPr id="321" name=""/>
          <p:cNvSpPr/>
          <p:nvPr/>
        </p:nvSpPr>
        <p:spPr>
          <a:xfrm>
            <a:off x="571680" y="2722680"/>
            <a:ext cx="436320" cy="2463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4880" y="245916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94.70</a:t>
            </a:r>
            <a:endParaRPr b="0" lang="en-US" sz="1600" spc="-1" strike="noStrike">
              <a:solidFill>
                <a:srgbClr val="000000"/>
              </a:solidFill>
              <a:latin typeface="Arial"/>
            </a:endParaRPr>
          </a:p>
        </p:txBody>
      </p:sp>
      <p:sp>
        <p:nvSpPr>
          <p:cNvPr id="323"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25"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26" name=""/>
          <p:cNvSpPr/>
          <p:nvPr/>
        </p:nvSpPr>
        <p:spPr>
          <a:xfrm>
            <a:off x="1276200" y="15796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17.38</a:t>
            </a:r>
            <a:endParaRPr b="0" lang="en-US" sz="1600" spc="-1" strike="noStrike">
              <a:solidFill>
                <a:srgbClr val="000000"/>
              </a:solidFill>
              <a:latin typeface="Arial"/>
            </a:endParaRPr>
          </a:p>
        </p:txBody>
      </p:sp>
      <p:sp>
        <p:nvSpPr>
          <p:cNvPr id="327"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28" name=""/>
          <p:cNvSpPr/>
          <p:nvPr/>
        </p:nvSpPr>
        <p:spPr>
          <a:xfrm rot="18868200">
            <a:off x="294120" y="171396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8.61%</a:t>
            </a:r>
            <a:endParaRPr b="0" lang="en-US" sz="1500" spc="-1" strike="noStrike">
              <a:solidFill>
                <a:srgbClr val="000000"/>
              </a:solidFill>
              <a:latin typeface="Arial"/>
            </a:endParaRPr>
          </a:p>
        </p:txBody>
      </p:sp>
      <p:sp>
        <p:nvSpPr>
          <p:cNvPr id="329"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0"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743200" y="2900520"/>
            <a:ext cx="436680" cy="22860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671920" y="263700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0.48</a:t>
            </a:r>
            <a:endParaRPr b="0" lang="en-US" sz="1600" spc="-1" strike="noStrike">
              <a:solidFill>
                <a:srgbClr val="000000"/>
              </a:solidFill>
              <a:latin typeface="Arial"/>
            </a:endParaRPr>
          </a:p>
        </p:txBody>
      </p:sp>
      <p:sp>
        <p:nvSpPr>
          <p:cNvPr id="333"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452760" y="1550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9.27</a:t>
            </a:r>
            <a:endParaRPr b="0" lang="en-US" sz="1600" spc="-1" strike="noStrike">
              <a:solidFill>
                <a:srgbClr val="000000"/>
              </a:solidFill>
              <a:latin typeface="Arial"/>
            </a:endParaRPr>
          </a:p>
        </p:txBody>
      </p:sp>
      <p:sp>
        <p:nvSpPr>
          <p:cNvPr id="335"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36" name=""/>
          <p:cNvSpPr/>
          <p:nvPr/>
        </p:nvSpPr>
        <p:spPr>
          <a:xfrm rot="18929400">
            <a:off x="2515320" y="173160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60%</a:t>
            </a:r>
            <a:endParaRPr b="0" lang="en-US" sz="1400" spc="-1" strike="noStrike">
              <a:solidFill>
                <a:srgbClr val="000000"/>
              </a:solidFill>
              <a:latin typeface="Arial"/>
            </a:endParaRPr>
          </a:p>
        </p:txBody>
      </p:sp>
      <p:sp>
        <p:nvSpPr>
          <p:cNvPr id="337"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180280" y="334152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4</a:t>
            </a:r>
            <a:endParaRPr b="0" lang="en-US" sz="1600" spc="-1" strike="noStrike">
              <a:solidFill>
                <a:srgbClr val="000000"/>
              </a:solidFill>
              <a:latin typeface="Arial"/>
            </a:endParaRPr>
          </a:p>
        </p:txBody>
      </p:sp>
      <p:sp>
        <p:nvSpPr>
          <p:cNvPr id="341"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a:t>
            </a:r>
            <a:endParaRPr b="0" lang="en-US" sz="1600" spc="-1" strike="noStrike">
              <a:solidFill>
                <a:srgbClr val="000000"/>
              </a:solidFill>
              <a:latin typeface="Arial"/>
            </a:endParaRPr>
          </a:p>
        </p:txBody>
      </p:sp>
      <p:sp>
        <p:nvSpPr>
          <p:cNvPr id="342" name=""/>
          <p:cNvSpPr/>
          <p:nvPr/>
        </p:nvSpPr>
        <p:spPr>
          <a:xfrm rot="18829200">
            <a:off x="7145280" y="330372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08%</a:t>
            </a:r>
            <a:endParaRPr b="0" lang="en-US" sz="1400" spc="-1" strike="noStrike">
              <a:solidFill>
                <a:srgbClr val="000000"/>
              </a:solidFill>
              <a:latin typeface="Arial"/>
            </a:endParaRPr>
          </a:p>
        </p:txBody>
      </p:sp>
      <p:sp>
        <p:nvSpPr>
          <p:cNvPr id="343"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45"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46"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47"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8"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49"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50" name=""/>
          <p:cNvSpPr/>
          <p:nvPr/>
        </p:nvSpPr>
        <p:spPr>
          <a:xfrm>
            <a:off x="7354800" y="39672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53</a:t>
            </a:r>
            <a:endParaRPr b="0" lang="en-US" sz="1600" spc="-1" strike="noStrike">
              <a:solidFill>
                <a:srgbClr val="000000"/>
              </a:solidFill>
              <a:latin typeface="Arial"/>
            </a:endParaRPr>
          </a:p>
        </p:txBody>
      </p:sp>
      <p:sp>
        <p:nvSpPr>
          <p:cNvPr id="351" name=""/>
          <p:cNvSpPr/>
          <p:nvPr/>
        </p:nvSpPr>
        <p:spPr>
          <a:xfrm rot="2700000">
            <a:off x="685440" y="156708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rot="2700000">
            <a:off x="2865600" y="1762200"/>
            <a:ext cx="312480" cy="861840"/>
          </a:xfrm>
          <a:prstGeom prst="upArrow">
            <a:avLst>
              <a:gd name="adj1" fmla="val 50000"/>
              <a:gd name="adj2" fmla="val 6895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013360" y="308124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8.92</a:t>
            </a:r>
            <a:endParaRPr b="0" lang="en-US" sz="1600" spc="-1" strike="noStrike">
              <a:solidFill>
                <a:srgbClr val="000000"/>
              </a:solidFill>
              <a:latin typeface="Arial"/>
            </a:endParaRPr>
          </a:p>
        </p:txBody>
      </p:sp>
      <p:sp>
        <p:nvSpPr>
          <p:cNvPr id="356" name=""/>
          <p:cNvSpPr/>
          <p:nvPr/>
        </p:nvSpPr>
        <p:spPr>
          <a:xfrm>
            <a:off x="5867280" y="2519280"/>
            <a:ext cx="438120" cy="266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796000" y="218592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34</a:t>
            </a:r>
            <a:endParaRPr b="0" lang="en-US" sz="1600" spc="-1" strike="noStrike">
              <a:solidFill>
                <a:srgbClr val="000000"/>
              </a:solidFill>
              <a:latin typeface="Arial"/>
            </a:endParaRPr>
          </a:p>
        </p:txBody>
      </p:sp>
      <p:sp>
        <p:nvSpPr>
          <p:cNvPr id="358"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59" name=""/>
          <p:cNvSpPr/>
          <p:nvPr/>
        </p:nvSpPr>
        <p:spPr>
          <a:xfrm rot="18929400">
            <a:off x="4871160" y="21394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23%</a:t>
            </a:r>
            <a:endParaRPr b="0" lang="en-US" sz="1400" spc="-1" strike="noStrike">
              <a:solidFill>
                <a:srgbClr val="000000"/>
              </a:solidFill>
              <a:latin typeface="Arial"/>
            </a:endParaRPr>
          </a:p>
        </p:txBody>
      </p:sp>
      <p:sp>
        <p:nvSpPr>
          <p:cNvPr id="360"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62"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4</a:t>
            </a:r>
            <a:endParaRPr b="0" lang="en-US" sz="1400" spc="-1" strike="noStrike">
              <a:solidFill>
                <a:srgbClr val="000000"/>
              </a:solidFill>
              <a:latin typeface="Arial"/>
            </a:endParaRPr>
          </a:p>
        </p:txBody>
      </p:sp>
      <p:sp>
        <p:nvSpPr>
          <p:cNvPr id="363"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64" name=""/>
          <p:cNvSpPr/>
          <p:nvPr/>
        </p:nvSpPr>
        <p:spPr>
          <a:xfrm rot="2700000">
            <a:off x="5221440" y="217008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E71E06-DDE7-4AB5-9301-802D9181C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Quarter at a Glance (Indian GAAP-QoQ)</a:t>
            </a:r>
            <a:endParaRPr b="0" lang="en-US" sz="2800" spc="-1" strike="noStrike">
              <a:solidFill>
                <a:srgbClr val="ffff00"/>
              </a:solidFill>
              <a:latin typeface="Arial"/>
            </a:endParaRPr>
          </a:p>
        </p:txBody>
      </p:sp>
      <p:sp>
        <p:nvSpPr>
          <p:cNvPr id="366" name=""/>
          <p:cNvSpPr/>
          <p:nvPr/>
        </p:nvSpPr>
        <p:spPr>
          <a:xfrm>
            <a:off x="571680" y="2373480"/>
            <a:ext cx="436320" cy="28130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34880" y="21160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9.45</a:t>
            </a:r>
            <a:endParaRPr b="0" lang="en-US" sz="1600" spc="-1" strike="noStrike">
              <a:solidFill>
                <a:srgbClr val="000000"/>
              </a:solidFill>
              <a:latin typeface="Arial"/>
            </a:endParaRPr>
          </a:p>
        </p:txBody>
      </p:sp>
      <p:sp>
        <p:nvSpPr>
          <p:cNvPr id="368" name=""/>
          <p:cNvSpPr/>
          <p:nvPr/>
        </p:nvSpPr>
        <p:spPr>
          <a:xfrm>
            <a:off x="1409760" y="1859040"/>
            <a:ext cx="438120" cy="3327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0120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70" name=""/>
          <p:cNvSpPr/>
          <p:nvPr/>
        </p:nvSpPr>
        <p:spPr>
          <a:xfrm>
            <a:off x="13507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71" name=""/>
          <p:cNvSpPr/>
          <p:nvPr/>
        </p:nvSpPr>
        <p:spPr>
          <a:xfrm>
            <a:off x="1276200" y="1579680"/>
            <a:ext cx="733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17.38</a:t>
            </a:r>
            <a:endParaRPr b="0" lang="en-US" sz="1600" spc="-1" strike="noStrike">
              <a:solidFill>
                <a:srgbClr val="000000"/>
              </a:solidFill>
              <a:latin typeface="Arial"/>
            </a:endParaRPr>
          </a:p>
        </p:txBody>
      </p:sp>
      <p:sp>
        <p:nvSpPr>
          <p:cNvPr id="372" name=""/>
          <p:cNvSpPr/>
          <p:nvPr/>
        </p:nvSpPr>
        <p:spPr>
          <a:xfrm>
            <a:off x="-19044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73" name=""/>
          <p:cNvSpPr/>
          <p:nvPr/>
        </p:nvSpPr>
        <p:spPr>
          <a:xfrm rot="18868200">
            <a:off x="292680" y="1413720"/>
            <a:ext cx="844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2.44%</a:t>
            </a:r>
            <a:endParaRPr b="0" lang="en-US" sz="1500" spc="-1" strike="noStrike">
              <a:solidFill>
                <a:srgbClr val="000000"/>
              </a:solidFill>
              <a:latin typeface="Arial"/>
            </a:endParaRPr>
          </a:p>
        </p:txBody>
      </p:sp>
      <p:sp>
        <p:nvSpPr>
          <p:cNvPr id="374" name=""/>
          <p:cNvSpPr/>
          <p:nvPr/>
        </p:nvSpPr>
        <p:spPr>
          <a:xfrm>
            <a:off x="57168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5" name=""/>
          <p:cNvSpPr/>
          <p:nvPr/>
        </p:nvSpPr>
        <p:spPr>
          <a:xfrm>
            <a:off x="75096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43200" y="2305080"/>
            <a:ext cx="436680" cy="28814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671920" y="2036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9.17</a:t>
            </a:r>
            <a:endParaRPr b="0" lang="en-US" sz="1600" spc="-1" strike="noStrike">
              <a:solidFill>
                <a:srgbClr val="000000"/>
              </a:solidFill>
              <a:latin typeface="Arial"/>
            </a:endParaRPr>
          </a:p>
        </p:txBody>
      </p:sp>
      <p:sp>
        <p:nvSpPr>
          <p:cNvPr id="378" name=""/>
          <p:cNvSpPr/>
          <p:nvPr/>
        </p:nvSpPr>
        <p:spPr>
          <a:xfrm>
            <a:off x="3524400" y="1808280"/>
            <a:ext cx="438120" cy="3378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452760" y="15508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9.27</a:t>
            </a:r>
            <a:endParaRPr b="0" lang="en-US" sz="1600" spc="-1" strike="noStrike">
              <a:solidFill>
                <a:srgbClr val="000000"/>
              </a:solidFill>
              <a:latin typeface="Arial"/>
            </a:endParaRPr>
          </a:p>
        </p:txBody>
      </p:sp>
      <p:sp>
        <p:nvSpPr>
          <p:cNvPr id="380" name=""/>
          <p:cNvSpPr/>
          <p:nvPr/>
        </p:nvSpPr>
        <p:spPr>
          <a:xfrm>
            <a:off x="198108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381" name=""/>
          <p:cNvSpPr/>
          <p:nvPr/>
        </p:nvSpPr>
        <p:spPr>
          <a:xfrm rot="18929400">
            <a:off x="2515320" y="120312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93%</a:t>
            </a:r>
            <a:endParaRPr b="0" lang="en-US" sz="1400" spc="-1" strike="noStrike">
              <a:solidFill>
                <a:srgbClr val="000000"/>
              </a:solidFill>
              <a:latin typeface="Arial"/>
            </a:endParaRPr>
          </a:p>
        </p:txBody>
      </p:sp>
      <p:sp>
        <p:nvSpPr>
          <p:cNvPr id="382" name=""/>
          <p:cNvSpPr/>
          <p:nvPr/>
        </p:nvSpPr>
        <p:spPr>
          <a:xfrm>
            <a:off x="289548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372440" y="4348080"/>
            <a:ext cx="436320" cy="8384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8210520" y="3662280"/>
            <a:ext cx="438120" cy="1524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0280" y="334152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54</a:t>
            </a:r>
            <a:endParaRPr b="0" lang="en-US" sz="1600" spc="-1" strike="noStrike">
              <a:solidFill>
                <a:srgbClr val="000000"/>
              </a:solidFill>
              <a:latin typeface="Arial"/>
            </a:endParaRPr>
          </a:p>
        </p:txBody>
      </p:sp>
      <p:sp>
        <p:nvSpPr>
          <p:cNvPr id="386" name=""/>
          <p:cNvSpPr/>
          <p:nvPr/>
        </p:nvSpPr>
        <p:spPr>
          <a:xfrm>
            <a:off x="662940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E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a:t>
            </a:r>
            <a:endParaRPr b="0" lang="en-US" sz="1600" spc="-1" strike="noStrike">
              <a:solidFill>
                <a:srgbClr val="000000"/>
              </a:solidFill>
              <a:latin typeface="Arial"/>
            </a:endParaRPr>
          </a:p>
        </p:txBody>
      </p:sp>
      <p:sp>
        <p:nvSpPr>
          <p:cNvPr id="387" name=""/>
          <p:cNvSpPr/>
          <p:nvPr/>
        </p:nvSpPr>
        <p:spPr>
          <a:xfrm rot="18829200">
            <a:off x="7145280" y="3302280"/>
            <a:ext cx="96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49%</a:t>
            </a:r>
            <a:endParaRPr b="0" lang="en-US" sz="1400" spc="-1" strike="noStrike">
              <a:solidFill>
                <a:srgbClr val="000000"/>
              </a:solidFill>
              <a:latin typeface="Arial"/>
            </a:endParaRPr>
          </a:p>
        </p:txBody>
      </p:sp>
      <p:sp>
        <p:nvSpPr>
          <p:cNvPr id="388" name=""/>
          <p:cNvSpPr/>
          <p:nvPr/>
        </p:nvSpPr>
        <p:spPr>
          <a:xfrm>
            <a:off x="7551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74320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0" name=""/>
          <p:cNvSpPr/>
          <p:nvPr/>
        </p:nvSpPr>
        <p:spPr>
          <a:xfrm>
            <a:off x="7372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91" name=""/>
          <p:cNvSpPr/>
          <p:nvPr/>
        </p:nvSpPr>
        <p:spPr>
          <a:xfrm>
            <a:off x="269676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2" name=""/>
          <p:cNvSpPr/>
          <p:nvPr/>
        </p:nvSpPr>
        <p:spPr>
          <a:xfrm>
            <a:off x="345888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3" name=""/>
          <p:cNvSpPr/>
          <p:nvPr/>
        </p:nvSpPr>
        <p:spPr>
          <a:xfrm>
            <a:off x="8151480" y="52912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394" name=""/>
          <p:cNvSpPr/>
          <p:nvPr/>
        </p:nvSpPr>
        <p:spPr>
          <a:xfrm>
            <a:off x="7402320" y="527832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395" name=""/>
          <p:cNvSpPr/>
          <p:nvPr/>
        </p:nvSpPr>
        <p:spPr>
          <a:xfrm>
            <a:off x="7354800" y="39672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9</a:t>
            </a:r>
            <a:endParaRPr b="0" lang="en-US" sz="1600" spc="-1" strike="noStrike">
              <a:solidFill>
                <a:srgbClr val="000000"/>
              </a:solidFill>
              <a:latin typeface="Arial"/>
            </a:endParaRPr>
          </a:p>
        </p:txBody>
      </p:sp>
      <p:sp>
        <p:nvSpPr>
          <p:cNvPr id="396" name=""/>
          <p:cNvSpPr/>
          <p:nvPr/>
        </p:nvSpPr>
        <p:spPr>
          <a:xfrm rot="2700000">
            <a:off x="685440" y="1266840"/>
            <a:ext cx="304920" cy="990360"/>
          </a:xfrm>
          <a:prstGeom prst="upArrow">
            <a:avLst>
              <a:gd name="adj1" fmla="val 50000"/>
              <a:gd name="adj2" fmla="val 81198"/>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rot="2700000">
            <a:off x="2865600" y="1233360"/>
            <a:ext cx="312840" cy="861840"/>
          </a:xfrm>
          <a:prstGeom prst="upArrow">
            <a:avLst>
              <a:gd name="adj1" fmla="val 50000"/>
              <a:gd name="adj2" fmla="val 6887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rot="2695200">
            <a:off x="7676640" y="3281040"/>
            <a:ext cx="241560" cy="762120"/>
          </a:xfrm>
          <a:prstGeom prst="upArrow">
            <a:avLst>
              <a:gd name="adj1" fmla="val 50000"/>
              <a:gd name="adj2" fmla="val 78875"/>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5086440" y="3344760"/>
            <a:ext cx="436320" cy="1841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013360" y="307656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5.23</a:t>
            </a:r>
            <a:endParaRPr b="0" lang="en-US" sz="1600" spc="-1" strike="noStrike">
              <a:solidFill>
                <a:srgbClr val="000000"/>
              </a:solidFill>
              <a:latin typeface="Arial"/>
            </a:endParaRPr>
          </a:p>
        </p:txBody>
      </p:sp>
      <p:sp>
        <p:nvSpPr>
          <p:cNvPr id="401" name=""/>
          <p:cNvSpPr/>
          <p:nvPr/>
        </p:nvSpPr>
        <p:spPr>
          <a:xfrm>
            <a:off x="5867280" y="2692440"/>
            <a:ext cx="438120" cy="2494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796000" y="2400480"/>
            <a:ext cx="621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34</a:t>
            </a:r>
            <a:endParaRPr b="0" lang="en-US" sz="1600" spc="-1" strike="noStrike">
              <a:solidFill>
                <a:srgbClr val="000000"/>
              </a:solidFill>
              <a:latin typeface="Arial"/>
            </a:endParaRPr>
          </a:p>
        </p:txBody>
      </p:sp>
      <p:sp>
        <p:nvSpPr>
          <p:cNvPr id="403" name=""/>
          <p:cNvSpPr/>
          <p:nvPr/>
        </p:nvSpPr>
        <p:spPr>
          <a:xfrm>
            <a:off x="4324320" y="5614920"/>
            <a:ext cx="281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s.cr)</a:t>
            </a:r>
            <a:endParaRPr b="0" lang="en-US" sz="1600" spc="-1" strike="noStrike">
              <a:solidFill>
                <a:srgbClr val="000000"/>
              </a:solidFill>
              <a:latin typeface="Arial"/>
            </a:endParaRPr>
          </a:p>
        </p:txBody>
      </p:sp>
      <p:sp>
        <p:nvSpPr>
          <p:cNvPr id="404" name=""/>
          <p:cNvSpPr/>
          <p:nvPr/>
        </p:nvSpPr>
        <p:spPr>
          <a:xfrm rot="18929400">
            <a:off x="4871160" y="227304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84%</a:t>
            </a:r>
            <a:endParaRPr b="0" lang="en-US" sz="1400" spc="-1" strike="noStrike">
              <a:solidFill>
                <a:srgbClr val="000000"/>
              </a:solidFill>
              <a:latin typeface="Arial"/>
            </a:endParaRPr>
          </a:p>
        </p:txBody>
      </p:sp>
      <p:sp>
        <p:nvSpPr>
          <p:cNvPr id="405" name=""/>
          <p:cNvSpPr/>
          <p:nvPr/>
        </p:nvSpPr>
        <p:spPr>
          <a:xfrm>
            <a:off x="5238720" y="5567400"/>
            <a:ext cx="963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086440" y="5186520"/>
            <a:ext cx="1295280" cy="88920"/>
          </a:xfrm>
          <a:custGeom>
            <a:avLst/>
            <a:gdLst/>
            <a:ahLst/>
            <a:rect l="l" t="t" r="r" b="b"/>
            <a:pathLst>
              <a:path w="876" h="39">
                <a:moveTo>
                  <a:pt x="0" y="39"/>
                </a:moveTo>
                <a:lnTo>
                  <a:pt x="0" y="0"/>
                </a:lnTo>
                <a:lnTo>
                  <a:pt x="876" y="0"/>
                </a:lnTo>
                <a:lnTo>
                  <a:pt x="876" y="36"/>
                </a:lnTo>
              </a:path>
            </a:pathLst>
          </a:custGeom>
          <a:noFill/>
          <a:ln w="9360">
            <a:solidFill>
              <a:srgbClr val="dddddd"/>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07" name=""/>
          <p:cNvSpPr/>
          <p:nvPr/>
        </p:nvSpPr>
        <p:spPr>
          <a:xfrm>
            <a:off x="504000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4 04</a:t>
            </a:r>
            <a:endParaRPr b="0" lang="en-US" sz="1400" spc="-1" strike="noStrike">
              <a:solidFill>
                <a:srgbClr val="000000"/>
              </a:solidFill>
              <a:latin typeface="Arial"/>
            </a:endParaRPr>
          </a:p>
        </p:txBody>
      </p:sp>
      <p:sp>
        <p:nvSpPr>
          <p:cNvPr id="408" name=""/>
          <p:cNvSpPr/>
          <p:nvPr/>
        </p:nvSpPr>
        <p:spPr>
          <a:xfrm>
            <a:off x="5802120" y="5262480"/>
            <a:ext cx="486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1 05</a:t>
            </a:r>
            <a:endParaRPr b="0" lang="en-US" sz="1400" spc="-1" strike="noStrike">
              <a:solidFill>
                <a:srgbClr val="000000"/>
              </a:solidFill>
              <a:latin typeface="Arial"/>
            </a:endParaRPr>
          </a:p>
        </p:txBody>
      </p:sp>
      <p:sp>
        <p:nvSpPr>
          <p:cNvPr id="409" name=""/>
          <p:cNvSpPr/>
          <p:nvPr/>
        </p:nvSpPr>
        <p:spPr>
          <a:xfrm rot="2700000">
            <a:off x="5221440" y="2252520"/>
            <a:ext cx="312840" cy="861840"/>
          </a:xfrm>
          <a:prstGeom prst="upArrow">
            <a:avLst>
              <a:gd name="adj1" fmla="val 50000"/>
              <a:gd name="adj2" fmla="val 688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FD3B8C-67F1-4127-9358-FCFEE3D9B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8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olidated Financials (Indian GAAP) </a:t>
            </a:r>
            <a:endParaRPr b="0" lang="en-US" sz="2800" spc="-1" strike="noStrike">
              <a:solidFill>
                <a:srgbClr val="ffff00"/>
              </a:solidFill>
              <a:latin typeface="Arial"/>
            </a:endParaRPr>
          </a:p>
        </p:txBody>
      </p:sp>
      <p:graphicFrame>
        <p:nvGraphicFramePr>
          <p:cNvPr id="411" name=""/>
          <p:cNvGraphicFramePr/>
          <p:nvPr/>
        </p:nvGraphicFramePr>
        <p:xfrm>
          <a:off x="507960" y="914400"/>
          <a:ext cx="8229600" cy="4967280"/>
        </p:xfrm>
        <a:graphic>
          <a:graphicData uri="http://schemas.openxmlformats.org/drawingml/2006/table">
            <a:tbl>
              <a:tblPr/>
              <a:tblGrid>
                <a:gridCol w="2746440"/>
                <a:gridCol w="1098360"/>
                <a:gridCol w="1097280"/>
                <a:gridCol w="1096920"/>
                <a:gridCol w="1096920"/>
                <a:gridCol w="1093680"/>
              </a:tblGrid>
              <a:tr h="191160">
                <a:tc rowSpan="2">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Particular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grid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June 3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Growth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March 31,  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rowSpan="2">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Growth % in </a:t>
                      </a: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Q1 FY 2005 </a:t>
                      </a: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ver Q4 FY 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8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0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00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oftware services, products and business process managemen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Oversea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93.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71.3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9.3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333.2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0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Domestic</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3.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3.3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6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6.1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7.9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TOTAL 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517.3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094.7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38.6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1,349.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               </a:t>
                      </a:r>
                      <a:r>
                        <a:rPr b="1" lang="en-US" sz="800" spc="-1" strike="noStrike">
                          <a:solidFill>
                            <a:srgbClr val="ffffff"/>
                          </a:solidFill>
                          <a:latin typeface="Arial"/>
                          <a:ea typeface="Times New Roman"/>
                        </a:rPr>
                        <a:t>12.4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Software development and business process management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805.2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79.6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38.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707.0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3.8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GROSS PROFI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712.1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515.1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38.2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642.3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0.8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elling and marketing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5.2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81.6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8.8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1.6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4.7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3855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General and administration expense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17.6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82.9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41.8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01.52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5.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1564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22.8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r>
                        <a:rPr b="0" lang="en-US" sz="800" spc="-1" strike="noStrike">
                          <a:solidFill>
                            <a:srgbClr val="ffffff"/>
                          </a:solidFill>
                          <a:latin typeface="Arial"/>
                          <a:ea typeface="Times New Roman"/>
                        </a:rPr>
                        <a:t>164.6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35.4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93.1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15.3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PERATING PROFIT (EBIDTA)</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89.2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50.4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39.6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49.1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8.9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Interes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Depreciation and amortiz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2.5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5.1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6.3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4.4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8.4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OPERATING PROFIT AFTER INTEREST, DEPRECIATION AND AMORTIZ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36.7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05.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43.0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4.7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13.5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Other income</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7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1.9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50.8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8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762.6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Provision for investments</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0.0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36</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0.8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PROFIT BEFORE TAX </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452.4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30.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36.7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5.77</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17.2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Provision for taxation</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4.11</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2.0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3.2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0.5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Unicode MS"/>
                        </a:rPr>
                        <a:t>26.85</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NET PROFIT AFTER TAX</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88.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278.9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39.2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335.2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Unicode MS"/>
                        </a:rPr>
                        <a:t>               </a:t>
                      </a:r>
                      <a:r>
                        <a:rPr b="1" lang="en-US" sz="800" spc="-1" strike="noStrike">
                          <a:solidFill>
                            <a:srgbClr val="ffffff"/>
                          </a:solidFill>
                          <a:latin typeface="Arial"/>
                          <a:ea typeface="Arial Unicode MS"/>
                        </a:rPr>
                        <a:t>15.8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2883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EARNINGS PER SHARE</a:t>
                      </a:r>
                      <a:r>
                        <a:rPr b="0" i="1" lang="en-US" sz="800" spc="-1" strike="noStrike">
                          <a:solidFill>
                            <a:srgbClr val="ffffff"/>
                          </a:solidFill>
                          <a:latin typeface="Arial"/>
                          <a:ea typeface="Arial"/>
                        </a:rPr>
                        <a:t>*</a:t>
                      </a:r>
                      <a:endParaRPr b="0" lang="en-US" sz="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Equity shares, par value Rs. 5/- each)</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Basic</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5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53</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8.08</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5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4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r h="191160">
                <a:tc>
                  <a:txBody>
                    <a:bodyPr lIns="90000" rIns="90000" tIns="46800" bIns="46800" anchor="ctr">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Diluted</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2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49</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6.22</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2.34</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ctr">
                      <a:noAutofit/>
                    </a:bodyPr>
                    <a:p>
                      <a:pPr marL="343080" indent="-34308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5.80</a:t>
                      </a:r>
                      <a:endParaRPr b="0" lang="en-US" sz="800" spc="-1" strike="noStrike">
                        <a:solidFill>
                          <a:srgbClr val="000000"/>
                        </a:solidFill>
                        <a:latin typeface="Arial"/>
                      </a:endParaRPr>
                    </a:p>
                  </a:txBody>
                  <a:tcPr anchor="ctr"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412" name=""/>
          <p:cNvSpPr/>
          <p:nvPr/>
        </p:nvSpPr>
        <p:spPr>
          <a:xfrm>
            <a:off x="6823440" y="690480"/>
            <a:ext cx="197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 Rs.Crore , except per share data</a:t>
            </a:r>
            <a:endParaRPr b="0" lang="en-US" sz="900" spc="-1" strike="noStrike">
              <a:solidFill>
                <a:srgbClr val="000000"/>
              </a:solidFill>
              <a:latin typeface="Arial"/>
            </a:endParaRPr>
          </a:p>
        </p:txBody>
      </p:sp>
      <p:sp>
        <p:nvSpPr>
          <p:cNvPr id="413" name=""/>
          <p:cNvSpPr/>
          <p:nvPr/>
        </p:nvSpPr>
        <p:spPr>
          <a:xfrm>
            <a:off x="439560" y="5965920"/>
            <a:ext cx="512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justed for the 3 :1 bonus issue of shares distributed on July 6, 200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2795948-3843-4EB1-A30F-975A8CDAB4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sys Technologies Limited </a:t>
            </a:r>
            <a:br>
              <a:rPr sz="2400"/>
            </a:br>
            <a:r>
              <a:rPr b="0" lang="en-US" sz="2400" spc="-1" strike="noStrike">
                <a:solidFill>
                  <a:srgbClr val="ffff00"/>
                </a:solidFill>
                <a:latin typeface="Arial"/>
              </a:rPr>
              <a:t>Financial Year 2004 - 2005</a:t>
            </a:r>
            <a:endParaRPr b="0" lang="en-US" sz="2400" spc="-1" strike="noStrike">
              <a:solidFill>
                <a:srgbClr val="ffff00"/>
              </a:solidFill>
              <a:latin typeface="Arial"/>
            </a:endParaRPr>
          </a:p>
        </p:txBody>
      </p:sp>
      <p:sp>
        <p:nvSpPr>
          <p:cNvPr id="136" name="PlaceHolder 2"/>
          <p:cNvSpPr>
            <a:spLocks noGrp="1"/>
          </p:cNvSpPr>
          <p:nvPr>
            <p:ph/>
          </p:nvPr>
        </p:nvSpPr>
        <p:spPr>
          <a:xfrm>
            <a:off x="0" y="2933640"/>
            <a:ext cx="9144000" cy="990720"/>
          </a:xfrm>
          <a:prstGeom prst="rect">
            <a:avLst/>
          </a:prstGeom>
          <a:noFill/>
          <a:ln w="0">
            <a:noFill/>
          </a:ln>
        </p:spPr>
        <p:txBody>
          <a:bodyPr lIns="90000" rIns="90000" tIns="46800" bIns="46800" anchor="t">
            <a:normAutofit fontScale="68000"/>
          </a:bodyPr>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Quarter Results</a:t>
            </a:r>
            <a:endParaRPr b="0" lang="en-US" sz="3200" spc="-1" strike="noStrike">
              <a:solidFill>
                <a:srgbClr val="ffffff"/>
              </a:solidFill>
              <a:latin typeface="Arial"/>
            </a:endParaRPr>
          </a:p>
          <a:p>
            <a:pPr marL="2332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3, 2004</a:t>
            </a:r>
            <a:endParaRPr b="0" lang="en-US" sz="3200" spc="-1" strike="noStrike">
              <a:solidFill>
                <a:srgbClr val="ffffff"/>
              </a:solidFill>
              <a:latin typeface="Arial"/>
            </a:endParaRPr>
          </a:p>
          <a:p>
            <a:pPr marL="2332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AC9D544-E430-43B5-9C23-6503417EF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0" y="0"/>
            <a:ext cx="9144000" cy="6858000"/>
          </a:xfrm>
          <a:prstGeom prst="rect">
            <a:avLst/>
          </a:prstGeom>
          <a:ln w="0">
            <a:noFill/>
          </a:ln>
        </p:spPr>
      </p:pic>
      <p:sp>
        <p:nvSpPr>
          <p:cNvPr id="415"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416"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uidance</a:t>
            </a:r>
            <a:endParaRPr b="0" lang="en-US" sz="3200" spc="-1" strike="noStrike">
              <a:solidFill>
                <a:srgbClr val="000000"/>
              </a:solidFill>
              <a:latin typeface="Arial"/>
            </a:endParaRPr>
          </a:p>
        </p:txBody>
      </p:sp>
      <p:grpSp>
        <p:nvGrpSpPr>
          <p:cNvPr id="417" name=""/>
          <p:cNvGrpSpPr/>
          <p:nvPr/>
        </p:nvGrpSpPr>
        <p:grpSpPr>
          <a:xfrm>
            <a:off x="457200" y="76320"/>
            <a:ext cx="696600" cy="256680"/>
            <a:chOff x="457200" y="76320"/>
            <a:chExt cx="696600" cy="256680"/>
          </a:xfrm>
        </p:grpSpPr>
        <p:sp>
          <p:nvSpPr>
            <p:cNvPr id="418"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9"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6BFB29DE-AE14-4FB1-B673-9C9C88C91E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ndian GAAP – Consolidated</a:t>
            </a:r>
            <a:endParaRPr b="0" lang="en-US" sz="2800" spc="-1" strike="noStrike">
              <a:solidFill>
                <a:srgbClr val="ffff00"/>
              </a:solidFill>
              <a:latin typeface="Arial"/>
            </a:endParaRPr>
          </a:p>
        </p:txBody>
      </p:sp>
      <p:sp>
        <p:nvSpPr>
          <p:cNvPr id="423" name="PlaceHolder 2"/>
          <p:cNvSpPr>
            <a:spLocks noGrp="1"/>
          </p:cNvSpPr>
          <p:nvPr>
            <p:ph/>
          </p:nvPr>
        </p:nvSpPr>
        <p:spPr>
          <a:xfrm>
            <a:off x="609480" y="1523520"/>
            <a:ext cx="8229600" cy="4419720"/>
          </a:xfrm>
          <a:prstGeom prst="rect">
            <a:avLst/>
          </a:prstGeom>
          <a:noFill/>
          <a:ln w="0">
            <a:noFill/>
          </a:ln>
        </p:spPr>
        <p:txBody>
          <a:bodyPr lIns="90000" rIns="90000" tIns="46800" bIns="46800" anchor="t">
            <a:normAutofit fontScale="99000"/>
          </a:bodyPr>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arter ending Sept 30, 2004*</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ome is projected to be between Rs.1,631crore to Rs. 1,645 crore; YoY growth of 42% to 43%</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rnings per share is expected to be Rs.15.10; YoY growth of 33% </a:t>
            </a:r>
            <a:endParaRPr b="0" lang="en-US" sz="2000" spc="-1" strike="noStrike">
              <a:solidFill>
                <a:srgbClr val="ffffff"/>
              </a:solidFill>
              <a:latin typeface="Arial"/>
            </a:endParaRPr>
          </a:p>
          <a:p>
            <a:pPr lvl="1" marL="6742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116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scal year ending March 31, 2005*</a:t>
            </a:r>
            <a:r>
              <a:rPr b="0" lang="en-GB" sz="1800" spc="-1" strike="noStrike">
                <a:solidFill>
                  <a:srgbClr val="ffffff"/>
                </a:solidFill>
                <a:latin typeface="Arial"/>
              </a:rPr>
              <a:t> </a:t>
            </a:r>
            <a:endParaRPr b="0" lang="en-US" sz="18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ome is projected to be between Rs. 6,731crore  to  Rs. 6,772 crore; growth of 39% to 40% </a:t>
            </a:r>
            <a:endParaRPr b="0" lang="en-US" sz="2000" spc="-1" strike="noStrike">
              <a:solidFill>
                <a:srgbClr val="ffffff"/>
              </a:solidFill>
              <a:latin typeface="Arial"/>
            </a:endParaRPr>
          </a:p>
          <a:p>
            <a:pPr lvl="1" marL="674280" indent="-22140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rnings per share is expected to be Rs. 62.70; YoY growth of 34%</a:t>
            </a:r>
            <a:endParaRPr b="0" lang="en-US" sz="2000" spc="-1" strike="noStrike">
              <a:solidFill>
                <a:srgbClr val="ffffff"/>
              </a:solidFill>
              <a:latin typeface="Arial"/>
            </a:endParaRPr>
          </a:p>
          <a:p>
            <a:pPr marL="28116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
          <p:cNvSpPr/>
          <p:nvPr/>
        </p:nvSpPr>
        <p:spPr>
          <a:xfrm>
            <a:off x="668160" y="6151680"/>
            <a:ext cx="5123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justed for the 3 :1 bonus issue of shares distributed on July 6, 2004</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6F907065-DA0C-4741-84F9-F903E81CAF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PlaceHolder 1"/>
          <p:cNvSpPr>
            <a:spLocks noGrp="1"/>
          </p:cNvSpPr>
          <p:nvPr>
            <p:ph type="title"/>
          </p:nvPr>
        </p:nvSpPr>
        <p:spPr>
          <a:xfrm>
            <a:off x="0" y="5711400"/>
            <a:ext cx="9144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nk You</a:t>
            </a:r>
            <a:endParaRPr b="0" lang="en-US" sz="2400" spc="-1" strike="noStrike">
              <a:solidFill>
                <a:srgbClr val="ffff00"/>
              </a:solidFill>
              <a:latin typeface="Arial"/>
            </a:endParaRPr>
          </a:p>
        </p:txBody>
      </p:sp>
      <p:sp>
        <p:nvSpPr>
          <p:cNvPr id="3" name="PlaceHolder 2"/>
          <p:cNvSpPr>
            <a:spLocks noGrp="1"/>
          </p:cNvSpPr>
          <p:nvPr>
            <p:ph type="sldNum" idx="4"/>
          </p:nvPr>
        </p:nvSpPr>
        <p:spPr/>
        <p:txBody>
          <a:bodyPr/>
          <a:p>
            <a:fld id="{31A2E67D-C4A7-48FB-AC7B-35E7221F33D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 Harbor</a:t>
            </a:r>
            <a:endParaRPr b="0" lang="en-US" sz="2800" spc="-1" strike="noStrike">
              <a:solidFill>
                <a:srgbClr val="ffff00"/>
              </a:solidFill>
              <a:latin typeface="Arial"/>
            </a:endParaRPr>
          </a:p>
        </p:txBody>
      </p:sp>
      <p:sp>
        <p:nvSpPr>
          <p:cNvPr id="138" name="PlaceHolder 2"/>
          <p:cNvSpPr>
            <a:spLocks noGrp="1"/>
          </p:cNvSpPr>
          <p:nvPr>
            <p:ph/>
          </p:nvPr>
        </p:nvSpPr>
        <p:spPr>
          <a:xfrm>
            <a:off x="0" y="1600200"/>
            <a:ext cx="876312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ertain statements in this release concerning our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 price, fixed-time frame contracts, client concentration, restrictions on immigration, industry segment concentration, our ability to manage our international operations, reduced demand for technology in our key focus areas, disruptions in telecommunication networks or system failures, our ability to successfully complete and integrate potential acquisitions, liability for damages on our service contracts, the success of the companies in which Infosys has made strategic investments, withdrawal of governmental fiscal incentives, political instability and regional conflicts,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F for the fiscal year ended March 31, 2004. These filings are available at </a:t>
            </a:r>
            <a:r>
              <a:rPr b="0" lang="en-US" sz="1400" spc="-1" strike="noStrike" u="sng">
                <a:solidFill>
                  <a:srgbClr val="009999"/>
                </a:solidFill>
                <a:uFillTx/>
                <a:latin typeface="Arial"/>
                <a:hlinkClick r:id="rId1"/>
              </a:rPr>
              <a:t>www.sec.gov</a:t>
            </a:r>
            <a:r>
              <a:rPr b="0" lang="en-US" sz="1400" spc="-1" strike="noStrike">
                <a:solidFill>
                  <a:srgbClr val="ffffff"/>
                </a:solidFill>
                <a:latin typeface="Arial"/>
              </a:rPr>
              <a:t>.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a:t>
            </a: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9010E55C-9074-4CB7-9C84-AA1CF71D6F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ents</a:t>
            </a:r>
            <a:endParaRPr b="0" lang="en-US" sz="2800" spc="-1" strike="noStrike">
              <a:solidFill>
                <a:srgbClr val="ffff00"/>
              </a:solidFill>
              <a:latin typeface="Arial"/>
            </a:endParaRPr>
          </a:p>
        </p:txBody>
      </p:sp>
      <p:sp>
        <p:nvSpPr>
          <p:cNvPr id="140" name="PlaceHolder 2"/>
          <p:cNvSpPr>
            <a:spLocks noGrp="1"/>
          </p:cNvSpPr>
          <p:nvPr>
            <p:ph/>
          </p:nvPr>
        </p:nvSpPr>
        <p:spPr>
          <a:xfrm>
            <a:off x="838080" y="17226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s</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Performance</a:t>
            </a:r>
            <a:endParaRPr b="0" lang="en-US" sz="2400" spc="-1" strike="noStrike">
              <a:solidFill>
                <a:srgbClr val="ffffff"/>
              </a:solidFill>
              <a:latin typeface="Arial"/>
            </a:endParaRPr>
          </a:p>
          <a:p>
            <a:pPr marL="343080" indent="-343080">
              <a:lnSpc>
                <a:spcPct val="15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ance</a:t>
            </a:r>
            <a:endParaRPr b="0" lang="en-US" sz="2400" spc="-1" strike="noStrike">
              <a:solidFill>
                <a:srgbClr val="ffffff"/>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4171525-A848-41A9-8E6F-FF708C600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43"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lights</a:t>
            </a:r>
            <a:endParaRPr b="0" lang="en-US" sz="3200" spc="-1" strike="noStrike">
              <a:solidFill>
                <a:srgbClr val="000000"/>
              </a:solidFill>
              <a:latin typeface="Arial"/>
            </a:endParaRPr>
          </a:p>
        </p:txBody>
      </p:sp>
      <p:grpSp>
        <p:nvGrpSpPr>
          <p:cNvPr id="144" name=""/>
          <p:cNvGrpSpPr/>
          <p:nvPr/>
        </p:nvGrpSpPr>
        <p:grpSpPr>
          <a:xfrm>
            <a:off x="457200" y="76320"/>
            <a:ext cx="696600" cy="256680"/>
            <a:chOff x="457200" y="76320"/>
            <a:chExt cx="696600" cy="256680"/>
          </a:xfrm>
        </p:grpSpPr>
        <p:sp>
          <p:nvSpPr>
            <p:cNvPr id="145"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6"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0863D572-2160-458D-AFAB-1E4C6F481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9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50" name="PlaceHolder 2"/>
          <p:cNvSpPr>
            <a:spLocks noGrp="1"/>
          </p:cNvSpPr>
          <p:nvPr>
            <p:ph/>
          </p:nvPr>
        </p:nvSpPr>
        <p:spPr>
          <a:xfrm>
            <a:off x="304560" y="1614600"/>
            <a:ext cx="8553240" cy="4525920"/>
          </a:xfrm>
          <a:prstGeom prst="rect">
            <a:avLst/>
          </a:prstGeom>
          <a:noFill/>
          <a:ln w="0">
            <a:noFill/>
          </a:ln>
        </p:spPr>
        <p:txBody>
          <a:bodyPr lIns="90000" rIns="90000" tIns="46800" bIns="46800" anchor="t">
            <a:normAutofit/>
          </a:bodyPr>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beginning of the quarter</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ertainty existed relating to</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ate on Outsourcing</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pee – US$ movement</a:t>
            </a:r>
            <a:endParaRPr b="0" lang="en-US" sz="18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was projected to be between Rs. 1,363 crore and Rs. 1,371 crore; YoY growth of 25%</a:t>
            </a:r>
            <a:endParaRPr b="0" lang="en-US" sz="2000" spc="-1" strike="noStrike">
              <a:solidFill>
                <a:srgbClr val="ffffff"/>
              </a:solidFill>
              <a:latin typeface="Arial"/>
            </a:endParaRPr>
          </a:p>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grew to Rs. 1,517.38 crore; YoY growth of 38.61% and sequential growth of 12.44%</a:t>
            </a:r>
            <a:endParaRPr b="0" lang="en-US" sz="2000" spc="-1" strike="noStrike">
              <a:solidFill>
                <a:srgbClr val="ffffff"/>
              </a:solidFill>
              <a:latin typeface="Arial"/>
            </a:endParaRPr>
          </a:p>
          <a:p>
            <a:pPr marL="343080" indent="-343080">
              <a:lnSpc>
                <a:spcPct val="12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have increased guidance for fiscal 2005. Income is projected to be between Rs.6,731 crore and Rs.6,772 crore; YoY growth of 39% to 4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155E7D-28CE-49C1-917F-764790B0E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ights</a:t>
            </a:r>
            <a:endParaRPr b="0" lang="en-US" sz="2800" spc="-1" strike="noStrike">
              <a:solidFill>
                <a:srgbClr val="ffff00"/>
              </a:solidFill>
              <a:latin typeface="Arial"/>
            </a:endParaRPr>
          </a:p>
        </p:txBody>
      </p:sp>
      <p:sp>
        <p:nvSpPr>
          <p:cNvPr id="152"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business model enabled us to respond quickly to enhanced business opportunities in the market place</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to see a stable pricing environment</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ucturing into Integrated Business Units has created multiple engines of growth with strong leadership</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ly introduced a new approach to outsourcing called ‘Modular Global Sourcing’</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d investment in developing new solutions</a:t>
            </a:r>
            <a:endParaRPr b="0" lang="en-US" sz="2000" spc="-1" strike="noStrike">
              <a:solidFill>
                <a:srgbClr val="ffffff"/>
              </a:solidFill>
              <a:latin typeface="Arial"/>
            </a:endParaRPr>
          </a:p>
          <a:p>
            <a:pPr marL="343080" indent="-343080">
              <a:lnSpc>
                <a:spcPct val="105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focus on integration of Infosys’ subsidiaries with the overall strategy and operations of the corporation</a:t>
            </a:r>
            <a:endParaRPr b="0" lang="en-US" sz="2000" spc="-1" strike="noStrike">
              <a:solidFill>
                <a:srgbClr val="ffffff"/>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Good improvement in business environment with healthy pipeline</a:t>
            </a:r>
            <a:endParaRPr b="0" lang="en-US" sz="2000" spc="-1" strike="noStrike">
              <a:solidFill>
                <a:srgbClr val="ffffff"/>
              </a:solidFill>
              <a:latin typeface="Arial"/>
            </a:endParaRPr>
          </a:p>
        </p:txBody>
      </p:sp>
      <p:sp>
        <p:nvSpPr>
          <p:cNvPr id="153" name=""/>
          <p:cNvSpPr/>
          <p:nvPr/>
        </p:nvSpPr>
        <p:spPr>
          <a:xfrm>
            <a:off x="1127160" y="2170080"/>
            <a:ext cx="7254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
          <p:cNvSpPr/>
          <p:nvPr/>
        </p:nvSpPr>
        <p:spPr>
          <a:xfrm>
            <a:off x="762120" y="2286000"/>
            <a:ext cx="7772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B379E-DE66-4F30-954B-5E09608FB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380880" y="6689880"/>
            <a:ext cx="2895840" cy="16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Infosys Technologies Limited 2004-2005</a:t>
            </a:r>
            <a:endParaRPr b="0" lang="en-US" sz="800" spc="-1" strike="noStrike">
              <a:solidFill>
                <a:srgbClr val="000000"/>
              </a:solidFill>
              <a:latin typeface="Arial"/>
            </a:endParaRPr>
          </a:p>
        </p:txBody>
      </p:sp>
      <p:sp>
        <p:nvSpPr>
          <p:cNvPr id="157" name=""/>
          <p:cNvSpPr/>
          <p:nvPr/>
        </p:nvSpPr>
        <p:spPr>
          <a:xfrm>
            <a:off x="0" y="5668920"/>
            <a:ext cx="91440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Performance</a:t>
            </a:r>
            <a:endParaRPr b="0" lang="en-US" sz="3200" spc="-1" strike="noStrike">
              <a:solidFill>
                <a:srgbClr val="000000"/>
              </a:solidFill>
              <a:latin typeface="Arial"/>
            </a:endParaRPr>
          </a:p>
        </p:txBody>
      </p:sp>
      <p:grpSp>
        <p:nvGrpSpPr>
          <p:cNvPr id="158" name=""/>
          <p:cNvGrpSpPr/>
          <p:nvPr/>
        </p:nvGrpSpPr>
        <p:grpSpPr>
          <a:xfrm>
            <a:off x="457200" y="76320"/>
            <a:ext cx="696600" cy="256680"/>
            <a:chOff x="457200" y="76320"/>
            <a:chExt cx="696600" cy="256680"/>
          </a:xfrm>
        </p:grpSpPr>
        <p:sp>
          <p:nvSpPr>
            <p:cNvPr id="159" name=""/>
            <p:cNvSpPr/>
            <p:nvPr/>
          </p:nvSpPr>
          <p:spPr>
            <a:xfrm>
              <a:off x="1112040" y="76320"/>
              <a:ext cx="41760" cy="42120"/>
            </a:xfrm>
            <a:custGeom>
              <a:avLst/>
              <a:gdLst/>
              <a:ahLst/>
              <a:rect l="l" t="t" r="r" b="b"/>
              <a:pathLst>
                <a:path w="223" h="222">
                  <a:moveTo>
                    <a:pt x="112" y="222"/>
                  </a:moveTo>
                  <a:lnTo>
                    <a:pt x="123" y="221"/>
                  </a:lnTo>
                  <a:lnTo>
                    <a:pt x="134" y="220"/>
                  </a:lnTo>
                  <a:lnTo>
                    <a:pt x="145" y="217"/>
                  </a:lnTo>
                  <a:lnTo>
                    <a:pt x="155" y="213"/>
                  </a:lnTo>
                  <a:lnTo>
                    <a:pt x="165" y="209"/>
                  </a:lnTo>
                  <a:lnTo>
                    <a:pt x="174" y="203"/>
                  </a:lnTo>
                  <a:lnTo>
                    <a:pt x="182" y="197"/>
                  </a:lnTo>
                  <a:lnTo>
                    <a:pt x="190" y="190"/>
                  </a:lnTo>
                  <a:lnTo>
                    <a:pt x="197" y="182"/>
                  </a:lnTo>
                  <a:lnTo>
                    <a:pt x="204" y="173"/>
                  </a:lnTo>
                  <a:lnTo>
                    <a:pt x="209" y="164"/>
                  </a:lnTo>
                  <a:lnTo>
                    <a:pt x="214" y="154"/>
                  </a:lnTo>
                  <a:lnTo>
                    <a:pt x="218" y="144"/>
                  </a:lnTo>
                  <a:lnTo>
                    <a:pt x="221" y="133"/>
                  </a:lnTo>
                  <a:lnTo>
                    <a:pt x="222" y="122"/>
                  </a:lnTo>
                  <a:lnTo>
                    <a:pt x="223" y="111"/>
                  </a:lnTo>
                  <a:lnTo>
                    <a:pt x="222" y="100"/>
                  </a:lnTo>
                  <a:lnTo>
                    <a:pt x="221" y="89"/>
                  </a:lnTo>
                  <a:lnTo>
                    <a:pt x="218" y="78"/>
                  </a:lnTo>
                  <a:lnTo>
                    <a:pt x="214" y="68"/>
                  </a:lnTo>
                  <a:lnTo>
                    <a:pt x="209" y="58"/>
                  </a:lnTo>
                  <a:lnTo>
                    <a:pt x="204" y="49"/>
                  </a:lnTo>
                  <a:lnTo>
                    <a:pt x="197" y="40"/>
                  </a:lnTo>
                  <a:lnTo>
                    <a:pt x="190" y="32"/>
                  </a:lnTo>
                  <a:lnTo>
                    <a:pt x="182" y="25"/>
                  </a:lnTo>
                  <a:lnTo>
                    <a:pt x="174" y="19"/>
                  </a:lnTo>
                  <a:lnTo>
                    <a:pt x="165" y="13"/>
                  </a:lnTo>
                  <a:lnTo>
                    <a:pt x="155" y="8"/>
                  </a:lnTo>
                  <a:lnTo>
                    <a:pt x="145" y="5"/>
                  </a:lnTo>
                  <a:lnTo>
                    <a:pt x="134" y="2"/>
                  </a:lnTo>
                  <a:lnTo>
                    <a:pt x="123" y="0"/>
                  </a:lnTo>
                  <a:lnTo>
                    <a:pt x="112" y="0"/>
                  </a:lnTo>
                  <a:lnTo>
                    <a:pt x="100" y="0"/>
                  </a:lnTo>
                  <a:lnTo>
                    <a:pt x="89" y="2"/>
                  </a:lnTo>
                  <a:lnTo>
                    <a:pt x="79" y="5"/>
                  </a:lnTo>
                  <a:lnTo>
                    <a:pt x="69" y="8"/>
                  </a:lnTo>
                  <a:lnTo>
                    <a:pt x="59" y="13"/>
                  </a:lnTo>
                  <a:lnTo>
                    <a:pt x="50" y="19"/>
                  </a:lnTo>
                  <a:lnTo>
                    <a:pt x="40" y="25"/>
                  </a:lnTo>
                  <a:lnTo>
                    <a:pt x="32" y="32"/>
                  </a:lnTo>
                  <a:lnTo>
                    <a:pt x="25" y="40"/>
                  </a:lnTo>
                  <a:lnTo>
                    <a:pt x="19" y="49"/>
                  </a:lnTo>
                  <a:lnTo>
                    <a:pt x="13" y="58"/>
                  </a:lnTo>
                  <a:lnTo>
                    <a:pt x="8" y="68"/>
                  </a:lnTo>
                  <a:lnTo>
                    <a:pt x="5" y="78"/>
                  </a:lnTo>
                  <a:lnTo>
                    <a:pt x="2" y="89"/>
                  </a:lnTo>
                  <a:lnTo>
                    <a:pt x="0" y="100"/>
                  </a:lnTo>
                  <a:lnTo>
                    <a:pt x="0" y="111"/>
                  </a:lnTo>
                  <a:lnTo>
                    <a:pt x="0" y="122"/>
                  </a:lnTo>
                  <a:lnTo>
                    <a:pt x="2" y="133"/>
                  </a:lnTo>
                  <a:lnTo>
                    <a:pt x="5" y="144"/>
                  </a:lnTo>
                  <a:lnTo>
                    <a:pt x="8" y="154"/>
                  </a:lnTo>
                  <a:lnTo>
                    <a:pt x="13" y="164"/>
                  </a:lnTo>
                  <a:lnTo>
                    <a:pt x="19" y="173"/>
                  </a:lnTo>
                  <a:lnTo>
                    <a:pt x="25" y="182"/>
                  </a:lnTo>
                  <a:lnTo>
                    <a:pt x="32" y="190"/>
                  </a:lnTo>
                  <a:lnTo>
                    <a:pt x="40" y="197"/>
                  </a:lnTo>
                  <a:lnTo>
                    <a:pt x="50" y="203"/>
                  </a:lnTo>
                  <a:lnTo>
                    <a:pt x="59" y="209"/>
                  </a:lnTo>
                  <a:lnTo>
                    <a:pt x="69" y="213"/>
                  </a:lnTo>
                  <a:lnTo>
                    <a:pt x="79" y="217"/>
                  </a:lnTo>
                  <a:lnTo>
                    <a:pt x="89" y="220"/>
                  </a:lnTo>
                  <a:lnTo>
                    <a:pt x="100" y="221"/>
                  </a:lnTo>
                  <a:lnTo>
                    <a:pt x="112" y="222"/>
                  </a:lnTo>
                  <a:close/>
                  <a:moveTo>
                    <a:pt x="16" y="111"/>
                  </a:moveTo>
                  <a:lnTo>
                    <a:pt x="17" y="101"/>
                  </a:lnTo>
                  <a:lnTo>
                    <a:pt x="18" y="92"/>
                  </a:lnTo>
                  <a:lnTo>
                    <a:pt x="20" y="83"/>
                  </a:lnTo>
                  <a:lnTo>
                    <a:pt x="24" y="74"/>
                  </a:lnTo>
                  <a:lnTo>
                    <a:pt x="28" y="66"/>
                  </a:lnTo>
                  <a:lnTo>
                    <a:pt x="32" y="58"/>
                  </a:lnTo>
                  <a:lnTo>
                    <a:pt x="38" y="51"/>
                  </a:lnTo>
                  <a:lnTo>
                    <a:pt x="45" y="44"/>
                  </a:lnTo>
                  <a:lnTo>
                    <a:pt x="52" y="38"/>
                  </a:lnTo>
                  <a:lnTo>
                    <a:pt x="59" y="32"/>
                  </a:lnTo>
                  <a:lnTo>
                    <a:pt x="67" y="28"/>
                  </a:lnTo>
                  <a:lnTo>
                    <a:pt x="75" y="24"/>
                  </a:lnTo>
                  <a:lnTo>
                    <a:pt x="84" y="21"/>
                  </a:lnTo>
                  <a:lnTo>
                    <a:pt x="93" y="18"/>
                  </a:lnTo>
                  <a:lnTo>
                    <a:pt x="102" y="17"/>
                  </a:lnTo>
                  <a:lnTo>
                    <a:pt x="112" y="16"/>
                  </a:lnTo>
                  <a:lnTo>
                    <a:pt x="121" y="17"/>
                  </a:lnTo>
                  <a:lnTo>
                    <a:pt x="131" y="18"/>
                  </a:lnTo>
                  <a:lnTo>
                    <a:pt x="140" y="21"/>
                  </a:lnTo>
                  <a:lnTo>
                    <a:pt x="149" y="24"/>
                  </a:lnTo>
                  <a:lnTo>
                    <a:pt x="157" y="28"/>
                  </a:lnTo>
                  <a:lnTo>
                    <a:pt x="165" y="32"/>
                  </a:lnTo>
                  <a:lnTo>
                    <a:pt x="172" y="38"/>
                  </a:lnTo>
                  <a:lnTo>
                    <a:pt x="179" y="44"/>
                  </a:lnTo>
                  <a:lnTo>
                    <a:pt x="185" y="51"/>
                  </a:lnTo>
                  <a:lnTo>
                    <a:pt x="190" y="58"/>
                  </a:lnTo>
                  <a:lnTo>
                    <a:pt x="195" y="66"/>
                  </a:lnTo>
                  <a:lnTo>
                    <a:pt x="199" y="74"/>
                  </a:lnTo>
                  <a:lnTo>
                    <a:pt x="202" y="83"/>
                  </a:lnTo>
                  <a:lnTo>
                    <a:pt x="204" y="92"/>
                  </a:lnTo>
                  <a:lnTo>
                    <a:pt x="206" y="101"/>
                  </a:lnTo>
                  <a:lnTo>
                    <a:pt x="206" y="111"/>
                  </a:lnTo>
                  <a:lnTo>
                    <a:pt x="206" y="120"/>
                  </a:lnTo>
                  <a:lnTo>
                    <a:pt x="204" y="130"/>
                  </a:lnTo>
                  <a:lnTo>
                    <a:pt x="202" y="139"/>
                  </a:lnTo>
                  <a:lnTo>
                    <a:pt x="199" y="148"/>
                  </a:lnTo>
                  <a:lnTo>
                    <a:pt x="195" y="156"/>
                  </a:lnTo>
                  <a:lnTo>
                    <a:pt x="190" y="164"/>
                  </a:lnTo>
                  <a:lnTo>
                    <a:pt x="185" y="171"/>
                  </a:lnTo>
                  <a:lnTo>
                    <a:pt x="179" y="178"/>
                  </a:lnTo>
                  <a:lnTo>
                    <a:pt x="172" y="184"/>
                  </a:lnTo>
                  <a:lnTo>
                    <a:pt x="165" y="189"/>
                  </a:lnTo>
                  <a:lnTo>
                    <a:pt x="157" y="194"/>
                  </a:lnTo>
                  <a:lnTo>
                    <a:pt x="149" y="198"/>
                  </a:lnTo>
                  <a:lnTo>
                    <a:pt x="140" y="201"/>
                  </a:lnTo>
                  <a:lnTo>
                    <a:pt x="131" y="204"/>
                  </a:lnTo>
                  <a:lnTo>
                    <a:pt x="121" y="205"/>
                  </a:lnTo>
                  <a:lnTo>
                    <a:pt x="112" y="205"/>
                  </a:lnTo>
                  <a:lnTo>
                    <a:pt x="102" y="205"/>
                  </a:lnTo>
                  <a:lnTo>
                    <a:pt x="93" y="204"/>
                  </a:lnTo>
                  <a:lnTo>
                    <a:pt x="84" y="201"/>
                  </a:lnTo>
                  <a:lnTo>
                    <a:pt x="75" y="198"/>
                  </a:lnTo>
                  <a:lnTo>
                    <a:pt x="67" y="194"/>
                  </a:lnTo>
                  <a:lnTo>
                    <a:pt x="59" y="189"/>
                  </a:lnTo>
                  <a:lnTo>
                    <a:pt x="52" y="184"/>
                  </a:lnTo>
                  <a:lnTo>
                    <a:pt x="45" y="178"/>
                  </a:lnTo>
                  <a:lnTo>
                    <a:pt x="38" y="171"/>
                  </a:lnTo>
                  <a:lnTo>
                    <a:pt x="32" y="164"/>
                  </a:lnTo>
                  <a:lnTo>
                    <a:pt x="28" y="156"/>
                  </a:lnTo>
                  <a:lnTo>
                    <a:pt x="24" y="148"/>
                  </a:lnTo>
                  <a:lnTo>
                    <a:pt x="20" y="139"/>
                  </a:lnTo>
                  <a:lnTo>
                    <a:pt x="18" y="130"/>
                  </a:lnTo>
                  <a:lnTo>
                    <a:pt x="17" y="120"/>
                  </a:lnTo>
                  <a:lnTo>
                    <a:pt x="16" y="111"/>
                  </a:lnTo>
                  <a:close/>
                  <a:moveTo>
                    <a:pt x="70" y="167"/>
                  </a:moveTo>
                  <a:lnTo>
                    <a:pt x="91" y="167"/>
                  </a:lnTo>
                  <a:lnTo>
                    <a:pt x="91" y="119"/>
                  </a:lnTo>
                  <a:lnTo>
                    <a:pt x="116" y="119"/>
                  </a:lnTo>
                  <a:lnTo>
                    <a:pt x="135" y="167"/>
                  </a:lnTo>
                  <a:lnTo>
                    <a:pt x="158" y="167"/>
                  </a:lnTo>
                  <a:lnTo>
                    <a:pt x="136" y="116"/>
                  </a:lnTo>
                  <a:lnTo>
                    <a:pt x="143" y="113"/>
                  </a:lnTo>
                  <a:lnTo>
                    <a:pt x="149" y="108"/>
                  </a:lnTo>
                  <a:lnTo>
                    <a:pt x="152" y="104"/>
                  </a:lnTo>
                  <a:lnTo>
                    <a:pt x="155" y="100"/>
                  </a:lnTo>
                  <a:lnTo>
                    <a:pt x="156" y="94"/>
                  </a:lnTo>
                  <a:lnTo>
                    <a:pt x="157" y="87"/>
                  </a:lnTo>
                  <a:lnTo>
                    <a:pt x="156" y="81"/>
                  </a:lnTo>
                  <a:lnTo>
                    <a:pt x="156" y="76"/>
                  </a:lnTo>
                  <a:lnTo>
                    <a:pt x="154" y="71"/>
                  </a:lnTo>
                  <a:lnTo>
                    <a:pt x="152" y="67"/>
                  </a:lnTo>
                  <a:lnTo>
                    <a:pt x="150" y="63"/>
                  </a:lnTo>
                  <a:lnTo>
                    <a:pt x="147" y="60"/>
                  </a:lnTo>
                  <a:lnTo>
                    <a:pt x="144" y="58"/>
                  </a:lnTo>
                  <a:lnTo>
                    <a:pt x="141" y="55"/>
                  </a:lnTo>
                  <a:lnTo>
                    <a:pt x="134" y="52"/>
                  </a:lnTo>
                  <a:lnTo>
                    <a:pt x="126" y="50"/>
                  </a:lnTo>
                  <a:lnTo>
                    <a:pt x="117" y="50"/>
                  </a:lnTo>
                  <a:lnTo>
                    <a:pt x="109" y="49"/>
                  </a:lnTo>
                  <a:lnTo>
                    <a:pt x="70" y="49"/>
                  </a:lnTo>
                  <a:lnTo>
                    <a:pt x="70" y="167"/>
                  </a:lnTo>
                  <a:close/>
                  <a:moveTo>
                    <a:pt x="91" y="70"/>
                  </a:moveTo>
                  <a:lnTo>
                    <a:pt x="115" y="70"/>
                  </a:lnTo>
                  <a:lnTo>
                    <a:pt x="119" y="70"/>
                  </a:lnTo>
                  <a:lnTo>
                    <a:pt x="123" y="71"/>
                  </a:lnTo>
                  <a:lnTo>
                    <a:pt x="127" y="72"/>
                  </a:lnTo>
                  <a:lnTo>
                    <a:pt x="129" y="74"/>
                  </a:lnTo>
                  <a:lnTo>
                    <a:pt x="132" y="76"/>
                  </a:lnTo>
                  <a:lnTo>
                    <a:pt x="133" y="78"/>
                  </a:lnTo>
                  <a:lnTo>
                    <a:pt x="134" y="82"/>
                  </a:lnTo>
                  <a:lnTo>
                    <a:pt x="135" y="85"/>
                  </a:lnTo>
                  <a:lnTo>
                    <a:pt x="134" y="89"/>
                  </a:lnTo>
                  <a:lnTo>
                    <a:pt x="133" y="92"/>
                  </a:lnTo>
                  <a:lnTo>
                    <a:pt x="131" y="95"/>
                  </a:lnTo>
                  <a:lnTo>
                    <a:pt x="129" y="97"/>
                  </a:lnTo>
                  <a:lnTo>
                    <a:pt x="127" y="98"/>
                  </a:lnTo>
                  <a:lnTo>
                    <a:pt x="124" y="100"/>
                  </a:lnTo>
                  <a:lnTo>
                    <a:pt x="120" y="100"/>
                  </a:lnTo>
                  <a:lnTo>
                    <a:pt x="117" y="100"/>
                  </a:lnTo>
                  <a:lnTo>
                    <a:pt x="91" y="100"/>
                  </a:lnTo>
                  <a:lnTo>
                    <a:pt x="91" y="7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0" name=""/>
            <p:cNvSpPr/>
            <p:nvPr/>
          </p:nvSpPr>
          <p:spPr>
            <a:xfrm>
              <a:off x="457200" y="81720"/>
              <a:ext cx="24840" cy="207000"/>
            </a:xfrm>
            <a:custGeom>
              <a:avLst/>
              <a:gdLst/>
              <a:ahLst/>
              <a:rect l="l" t="t" r="r" b="b"/>
              <a:pathLst>
                <a:path w="131" h="1095">
                  <a:moveTo>
                    <a:pt x="0" y="133"/>
                  </a:moveTo>
                  <a:lnTo>
                    <a:pt x="0" y="131"/>
                  </a:lnTo>
                  <a:lnTo>
                    <a:pt x="0" y="0"/>
                  </a:lnTo>
                  <a:lnTo>
                    <a:pt x="131" y="0"/>
                  </a:lnTo>
                  <a:lnTo>
                    <a:pt x="131" y="131"/>
                  </a:lnTo>
                  <a:lnTo>
                    <a:pt x="131" y="133"/>
                  </a:lnTo>
                  <a:lnTo>
                    <a:pt x="131" y="963"/>
                  </a:lnTo>
                  <a:lnTo>
                    <a:pt x="131" y="966"/>
                  </a:lnTo>
                  <a:lnTo>
                    <a:pt x="131" y="1095"/>
                  </a:lnTo>
                  <a:lnTo>
                    <a:pt x="0" y="1095"/>
                  </a:lnTo>
                  <a:lnTo>
                    <a:pt x="0" y="964"/>
                  </a:lnTo>
                  <a:lnTo>
                    <a:pt x="0" y="963"/>
                  </a:lnTo>
                  <a:lnTo>
                    <a:pt x="0"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6040" y="80640"/>
              <a:ext cx="480600" cy="252360"/>
            </a:xfrm>
            <a:custGeom>
              <a:avLst/>
              <a:gdLst/>
              <a:ahLst/>
              <a:rect l="l" t="t" r="r" b="b"/>
              <a:pathLst>
                <a:path w="2544" h="1336">
                  <a:moveTo>
                    <a:pt x="451" y="700"/>
                  </a:moveTo>
                  <a:lnTo>
                    <a:pt x="451" y="720"/>
                  </a:lnTo>
                  <a:lnTo>
                    <a:pt x="453" y="738"/>
                  </a:lnTo>
                  <a:lnTo>
                    <a:pt x="455" y="756"/>
                  </a:lnTo>
                  <a:lnTo>
                    <a:pt x="457" y="774"/>
                  </a:lnTo>
                  <a:lnTo>
                    <a:pt x="461" y="791"/>
                  </a:lnTo>
                  <a:lnTo>
                    <a:pt x="465" y="808"/>
                  </a:lnTo>
                  <a:lnTo>
                    <a:pt x="469" y="825"/>
                  </a:lnTo>
                  <a:lnTo>
                    <a:pt x="474" y="841"/>
                  </a:lnTo>
                  <a:lnTo>
                    <a:pt x="480" y="857"/>
                  </a:lnTo>
                  <a:lnTo>
                    <a:pt x="486" y="872"/>
                  </a:lnTo>
                  <a:lnTo>
                    <a:pt x="493" y="887"/>
                  </a:lnTo>
                  <a:lnTo>
                    <a:pt x="500" y="902"/>
                  </a:lnTo>
                  <a:lnTo>
                    <a:pt x="508" y="916"/>
                  </a:lnTo>
                  <a:lnTo>
                    <a:pt x="516" y="929"/>
                  </a:lnTo>
                  <a:lnTo>
                    <a:pt x="525" y="942"/>
                  </a:lnTo>
                  <a:lnTo>
                    <a:pt x="534" y="954"/>
                  </a:lnTo>
                  <a:lnTo>
                    <a:pt x="544" y="966"/>
                  </a:lnTo>
                  <a:lnTo>
                    <a:pt x="554" y="977"/>
                  </a:lnTo>
                  <a:lnTo>
                    <a:pt x="564" y="988"/>
                  </a:lnTo>
                  <a:lnTo>
                    <a:pt x="575" y="997"/>
                  </a:lnTo>
                  <a:lnTo>
                    <a:pt x="586" y="1007"/>
                  </a:lnTo>
                  <a:lnTo>
                    <a:pt x="597" y="1015"/>
                  </a:lnTo>
                  <a:lnTo>
                    <a:pt x="609" y="1023"/>
                  </a:lnTo>
                  <a:lnTo>
                    <a:pt x="621" y="1030"/>
                  </a:lnTo>
                  <a:lnTo>
                    <a:pt x="634" y="1036"/>
                  </a:lnTo>
                  <a:lnTo>
                    <a:pt x="646" y="1041"/>
                  </a:lnTo>
                  <a:lnTo>
                    <a:pt x="659" y="1046"/>
                  </a:lnTo>
                  <a:lnTo>
                    <a:pt x="672" y="1050"/>
                  </a:lnTo>
                  <a:lnTo>
                    <a:pt x="686" y="1053"/>
                  </a:lnTo>
                  <a:lnTo>
                    <a:pt x="699" y="1055"/>
                  </a:lnTo>
                  <a:lnTo>
                    <a:pt x="713" y="1056"/>
                  </a:lnTo>
                  <a:lnTo>
                    <a:pt x="727" y="1056"/>
                  </a:lnTo>
                  <a:lnTo>
                    <a:pt x="741" y="1055"/>
                  </a:lnTo>
                  <a:lnTo>
                    <a:pt x="755" y="1054"/>
                  </a:lnTo>
                  <a:lnTo>
                    <a:pt x="768" y="1051"/>
                  </a:lnTo>
                  <a:lnTo>
                    <a:pt x="781" y="1048"/>
                  </a:lnTo>
                  <a:lnTo>
                    <a:pt x="795" y="1044"/>
                  </a:lnTo>
                  <a:lnTo>
                    <a:pt x="808" y="1039"/>
                  </a:lnTo>
                  <a:lnTo>
                    <a:pt x="821" y="1033"/>
                  </a:lnTo>
                  <a:lnTo>
                    <a:pt x="833" y="1026"/>
                  </a:lnTo>
                  <a:lnTo>
                    <a:pt x="845" y="1019"/>
                  </a:lnTo>
                  <a:lnTo>
                    <a:pt x="856" y="1010"/>
                  </a:lnTo>
                  <a:lnTo>
                    <a:pt x="867" y="1002"/>
                  </a:lnTo>
                  <a:lnTo>
                    <a:pt x="878" y="992"/>
                  </a:lnTo>
                  <a:lnTo>
                    <a:pt x="888" y="982"/>
                  </a:lnTo>
                  <a:lnTo>
                    <a:pt x="898" y="971"/>
                  </a:lnTo>
                  <a:lnTo>
                    <a:pt x="908" y="959"/>
                  </a:lnTo>
                  <a:lnTo>
                    <a:pt x="917" y="947"/>
                  </a:lnTo>
                  <a:lnTo>
                    <a:pt x="926" y="935"/>
                  </a:lnTo>
                  <a:lnTo>
                    <a:pt x="934" y="922"/>
                  </a:lnTo>
                  <a:lnTo>
                    <a:pt x="942" y="908"/>
                  </a:lnTo>
                  <a:lnTo>
                    <a:pt x="949" y="894"/>
                  </a:lnTo>
                  <a:lnTo>
                    <a:pt x="956" y="879"/>
                  </a:lnTo>
                  <a:lnTo>
                    <a:pt x="962" y="864"/>
                  </a:lnTo>
                  <a:lnTo>
                    <a:pt x="968" y="848"/>
                  </a:lnTo>
                  <a:lnTo>
                    <a:pt x="973" y="832"/>
                  </a:lnTo>
                  <a:lnTo>
                    <a:pt x="978" y="816"/>
                  </a:lnTo>
                  <a:lnTo>
                    <a:pt x="982" y="799"/>
                  </a:lnTo>
                  <a:lnTo>
                    <a:pt x="985" y="782"/>
                  </a:lnTo>
                  <a:lnTo>
                    <a:pt x="988" y="764"/>
                  </a:lnTo>
                  <a:lnTo>
                    <a:pt x="990" y="746"/>
                  </a:lnTo>
                  <a:lnTo>
                    <a:pt x="991" y="728"/>
                  </a:lnTo>
                  <a:lnTo>
                    <a:pt x="992" y="709"/>
                  </a:lnTo>
                  <a:lnTo>
                    <a:pt x="992" y="691"/>
                  </a:lnTo>
                  <a:lnTo>
                    <a:pt x="991" y="672"/>
                  </a:lnTo>
                  <a:lnTo>
                    <a:pt x="990" y="654"/>
                  </a:lnTo>
                  <a:lnTo>
                    <a:pt x="988" y="636"/>
                  </a:lnTo>
                  <a:lnTo>
                    <a:pt x="985" y="618"/>
                  </a:lnTo>
                  <a:lnTo>
                    <a:pt x="982" y="601"/>
                  </a:lnTo>
                  <a:lnTo>
                    <a:pt x="978" y="584"/>
                  </a:lnTo>
                  <a:lnTo>
                    <a:pt x="974" y="567"/>
                  </a:lnTo>
                  <a:lnTo>
                    <a:pt x="969" y="551"/>
                  </a:lnTo>
                  <a:lnTo>
                    <a:pt x="963" y="535"/>
                  </a:lnTo>
                  <a:lnTo>
                    <a:pt x="957" y="520"/>
                  </a:lnTo>
                  <a:lnTo>
                    <a:pt x="950" y="505"/>
                  </a:lnTo>
                  <a:lnTo>
                    <a:pt x="943" y="490"/>
                  </a:lnTo>
                  <a:lnTo>
                    <a:pt x="935" y="476"/>
                  </a:lnTo>
                  <a:lnTo>
                    <a:pt x="926" y="463"/>
                  </a:lnTo>
                  <a:lnTo>
                    <a:pt x="918" y="450"/>
                  </a:lnTo>
                  <a:lnTo>
                    <a:pt x="909" y="438"/>
                  </a:lnTo>
                  <a:lnTo>
                    <a:pt x="899" y="426"/>
                  </a:lnTo>
                  <a:lnTo>
                    <a:pt x="889" y="415"/>
                  </a:lnTo>
                  <a:lnTo>
                    <a:pt x="879" y="404"/>
                  </a:lnTo>
                  <a:lnTo>
                    <a:pt x="868" y="394"/>
                  </a:lnTo>
                  <a:lnTo>
                    <a:pt x="857" y="385"/>
                  </a:lnTo>
                  <a:lnTo>
                    <a:pt x="845" y="377"/>
                  </a:lnTo>
                  <a:lnTo>
                    <a:pt x="833" y="369"/>
                  </a:lnTo>
                  <a:lnTo>
                    <a:pt x="821" y="362"/>
                  </a:lnTo>
                  <a:lnTo>
                    <a:pt x="809" y="356"/>
                  </a:lnTo>
                  <a:lnTo>
                    <a:pt x="796" y="350"/>
                  </a:lnTo>
                  <a:lnTo>
                    <a:pt x="782" y="346"/>
                  </a:lnTo>
                  <a:lnTo>
                    <a:pt x="769" y="342"/>
                  </a:lnTo>
                  <a:lnTo>
                    <a:pt x="756" y="339"/>
                  </a:lnTo>
                  <a:lnTo>
                    <a:pt x="742" y="337"/>
                  </a:lnTo>
                  <a:lnTo>
                    <a:pt x="729" y="336"/>
                  </a:lnTo>
                  <a:lnTo>
                    <a:pt x="715" y="336"/>
                  </a:lnTo>
                  <a:lnTo>
                    <a:pt x="701" y="336"/>
                  </a:lnTo>
                  <a:lnTo>
                    <a:pt x="687" y="338"/>
                  </a:lnTo>
                  <a:lnTo>
                    <a:pt x="674" y="340"/>
                  </a:lnTo>
                  <a:lnTo>
                    <a:pt x="660" y="344"/>
                  </a:lnTo>
                  <a:lnTo>
                    <a:pt x="647" y="348"/>
                  </a:lnTo>
                  <a:lnTo>
                    <a:pt x="635" y="353"/>
                  </a:lnTo>
                  <a:lnTo>
                    <a:pt x="622" y="359"/>
                  </a:lnTo>
                  <a:lnTo>
                    <a:pt x="610" y="366"/>
                  </a:lnTo>
                  <a:lnTo>
                    <a:pt x="598" y="373"/>
                  </a:lnTo>
                  <a:lnTo>
                    <a:pt x="587" y="381"/>
                  </a:lnTo>
                  <a:lnTo>
                    <a:pt x="575" y="390"/>
                  </a:lnTo>
                  <a:lnTo>
                    <a:pt x="565" y="400"/>
                  </a:lnTo>
                  <a:lnTo>
                    <a:pt x="554" y="410"/>
                  </a:lnTo>
                  <a:lnTo>
                    <a:pt x="544" y="421"/>
                  </a:lnTo>
                  <a:lnTo>
                    <a:pt x="535" y="432"/>
                  </a:lnTo>
                  <a:lnTo>
                    <a:pt x="525" y="444"/>
                  </a:lnTo>
                  <a:lnTo>
                    <a:pt x="517" y="457"/>
                  </a:lnTo>
                  <a:lnTo>
                    <a:pt x="508" y="470"/>
                  </a:lnTo>
                  <a:lnTo>
                    <a:pt x="501" y="484"/>
                  </a:lnTo>
                  <a:lnTo>
                    <a:pt x="493" y="498"/>
                  </a:lnTo>
                  <a:lnTo>
                    <a:pt x="487" y="513"/>
                  </a:lnTo>
                  <a:lnTo>
                    <a:pt x="480" y="528"/>
                  </a:lnTo>
                  <a:lnTo>
                    <a:pt x="475" y="544"/>
                  </a:lnTo>
                  <a:lnTo>
                    <a:pt x="469" y="560"/>
                  </a:lnTo>
                  <a:lnTo>
                    <a:pt x="465" y="576"/>
                  </a:lnTo>
                  <a:lnTo>
                    <a:pt x="461" y="593"/>
                  </a:lnTo>
                  <a:lnTo>
                    <a:pt x="458" y="610"/>
                  </a:lnTo>
                  <a:lnTo>
                    <a:pt x="455" y="628"/>
                  </a:lnTo>
                  <a:lnTo>
                    <a:pt x="453" y="645"/>
                  </a:lnTo>
                  <a:lnTo>
                    <a:pt x="451" y="663"/>
                  </a:lnTo>
                  <a:lnTo>
                    <a:pt x="451" y="682"/>
                  </a:lnTo>
                  <a:lnTo>
                    <a:pt x="451" y="700"/>
                  </a:lnTo>
                  <a:close/>
                  <a:moveTo>
                    <a:pt x="1543" y="460"/>
                  </a:moveTo>
                  <a:lnTo>
                    <a:pt x="1542" y="457"/>
                  </a:lnTo>
                  <a:lnTo>
                    <a:pt x="1538" y="449"/>
                  </a:lnTo>
                  <a:lnTo>
                    <a:pt x="1543" y="460"/>
                  </a:lnTo>
                  <a:close/>
                  <a:moveTo>
                    <a:pt x="1633" y="1285"/>
                  </a:moveTo>
                  <a:lnTo>
                    <a:pt x="1638" y="1276"/>
                  </a:lnTo>
                  <a:lnTo>
                    <a:pt x="1643" y="1265"/>
                  </a:lnTo>
                  <a:lnTo>
                    <a:pt x="1650" y="1253"/>
                  </a:lnTo>
                  <a:lnTo>
                    <a:pt x="1657" y="1239"/>
                  </a:lnTo>
                  <a:lnTo>
                    <a:pt x="1633" y="1285"/>
                  </a:lnTo>
                  <a:close/>
                  <a:moveTo>
                    <a:pt x="1640" y="391"/>
                  </a:moveTo>
                  <a:lnTo>
                    <a:pt x="1643" y="398"/>
                  </a:lnTo>
                  <a:lnTo>
                    <a:pt x="1646" y="405"/>
                  </a:lnTo>
                  <a:lnTo>
                    <a:pt x="1690" y="514"/>
                  </a:lnTo>
                  <a:lnTo>
                    <a:pt x="1640" y="391"/>
                  </a:lnTo>
                  <a:close/>
                  <a:moveTo>
                    <a:pt x="1087" y="938"/>
                  </a:moveTo>
                  <a:lnTo>
                    <a:pt x="1102" y="952"/>
                  </a:lnTo>
                  <a:lnTo>
                    <a:pt x="1117" y="964"/>
                  </a:lnTo>
                  <a:lnTo>
                    <a:pt x="1132" y="976"/>
                  </a:lnTo>
                  <a:lnTo>
                    <a:pt x="1147" y="987"/>
                  </a:lnTo>
                  <a:lnTo>
                    <a:pt x="1163" y="997"/>
                  </a:lnTo>
                  <a:lnTo>
                    <a:pt x="1178" y="1006"/>
                  </a:lnTo>
                  <a:lnTo>
                    <a:pt x="1192" y="1014"/>
                  </a:lnTo>
                  <a:lnTo>
                    <a:pt x="1207" y="1022"/>
                  </a:lnTo>
                  <a:lnTo>
                    <a:pt x="1223" y="1028"/>
                  </a:lnTo>
                  <a:lnTo>
                    <a:pt x="1238" y="1034"/>
                  </a:lnTo>
                  <a:lnTo>
                    <a:pt x="1254" y="1039"/>
                  </a:lnTo>
                  <a:lnTo>
                    <a:pt x="1269" y="1043"/>
                  </a:lnTo>
                  <a:lnTo>
                    <a:pt x="1285" y="1046"/>
                  </a:lnTo>
                  <a:lnTo>
                    <a:pt x="1302" y="1048"/>
                  </a:lnTo>
                  <a:lnTo>
                    <a:pt x="1319" y="1050"/>
                  </a:lnTo>
                  <a:lnTo>
                    <a:pt x="1336" y="1050"/>
                  </a:lnTo>
                  <a:lnTo>
                    <a:pt x="1354" y="1050"/>
                  </a:lnTo>
                  <a:lnTo>
                    <a:pt x="1371" y="1048"/>
                  </a:lnTo>
                  <a:lnTo>
                    <a:pt x="1388" y="1046"/>
                  </a:lnTo>
                  <a:lnTo>
                    <a:pt x="1405" y="1042"/>
                  </a:lnTo>
                  <a:lnTo>
                    <a:pt x="1421" y="1037"/>
                  </a:lnTo>
                  <a:lnTo>
                    <a:pt x="1436" y="1031"/>
                  </a:lnTo>
                  <a:lnTo>
                    <a:pt x="1450" y="1024"/>
                  </a:lnTo>
                  <a:lnTo>
                    <a:pt x="1463" y="1016"/>
                  </a:lnTo>
                  <a:lnTo>
                    <a:pt x="1475" y="1007"/>
                  </a:lnTo>
                  <a:lnTo>
                    <a:pt x="1485" y="997"/>
                  </a:lnTo>
                  <a:lnTo>
                    <a:pt x="1495" y="986"/>
                  </a:lnTo>
                  <a:lnTo>
                    <a:pt x="1502" y="973"/>
                  </a:lnTo>
                  <a:lnTo>
                    <a:pt x="1509" y="960"/>
                  </a:lnTo>
                  <a:lnTo>
                    <a:pt x="1513" y="946"/>
                  </a:lnTo>
                  <a:lnTo>
                    <a:pt x="1516" y="930"/>
                  </a:lnTo>
                  <a:lnTo>
                    <a:pt x="1517" y="914"/>
                  </a:lnTo>
                  <a:lnTo>
                    <a:pt x="1516" y="900"/>
                  </a:lnTo>
                  <a:lnTo>
                    <a:pt x="1514" y="887"/>
                  </a:lnTo>
                  <a:lnTo>
                    <a:pt x="1510" y="875"/>
                  </a:lnTo>
                  <a:lnTo>
                    <a:pt x="1505" y="863"/>
                  </a:lnTo>
                  <a:lnTo>
                    <a:pt x="1498" y="851"/>
                  </a:lnTo>
                  <a:lnTo>
                    <a:pt x="1490" y="840"/>
                  </a:lnTo>
                  <a:lnTo>
                    <a:pt x="1480" y="830"/>
                  </a:lnTo>
                  <a:lnTo>
                    <a:pt x="1469" y="820"/>
                  </a:lnTo>
                  <a:lnTo>
                    <a:pt x="1456" y="810"/>
                  </a:lnTo>
                  <a:lnTo>
                    <a:pt x="1442" y="800"/>
                  </a:lnTo>
                  <a:lnTo>
                    <a:pt x="1427" y="791"/>
                  </a:lnTo>
                  <a:lnTo>
                    <a:pt x="1411" y="781"/>
                  </a:lnTo>
                  <a:lnTo>
                    <a:pt x="1373" y="763"/>
                  </a:lnTo>
                  <a:lnTo>
                    <a:pt x="1331" y="744"/>
                  </a:lnTo>
                  <a:lnTo>
                    <a:pt x="1295" y="728"/>
                  </a:lnTo>
                  <a:lnTo>
                    <a:pt x="1260" y="712"/>
                  </a:lnTo>
                  <a:lnTo>
                    <a:pt x="1229" y="697"/>
                  </a:lnTo>
                  <a:lnTo>
                    <a:pt x="1200" y="682"/>
                  </a:lnTo>
                  <a:lnTo>
                    <a:pt x="1187" y="674"/>
                  </a:lnTo>
                  <a:lnTo>
                    <a:pt x="1175" y="665"/>
                  </a:lnTo>
                  <a:lnTo>
                    <a:pt x="1163" y="657"/>
                  </a:lnTo>
                  <a:lnTo>
                    <a:pt x="1151" y="648"/>
                  </a:lnTo>
                  <a:lnTo>
                    <a:pt x="1140" y="638"/>
                  </a:lnTo>
                  <a:lnTo>
                    <a:pt x="1131" y="628"/>
                  </a:lnTo>
                  <a:lnTo>
                    <a:pt x="1122" y="617"/>
                  </a:lnTo>
                  <a:lnTo>
                    <a:pt x="1115" y="605"/>
                  </a:lnTo>
                  <a:lnTo>
                    <a:pt x="1118" y="626"/>
                  </a:lnTo>
                  <a:lnTo>
                    <a:pt x="1120" y="647"/>
                  </a:lnTo>
                  <a:lnTo>
                    <a:pt x="1121" y="669"/>
                  </a:lnTo>
                  <a:lnTo>
                    <a:pt x="1122" y="690"/>
                  </a:lnTo>
                  <a:lnTo>
                    <a:pt x="1121" y="713"/>
                  </a:lnTo>
                  <a:lnTo>
                    <a:pt x="1120" y="737"/>
                  </a:lnTo>
                  <a:lnTo>
                    <a:pt x="1117" y="759"/>
                  </a:lnTo>
                  <a:lnTo>
                    <a:pt x="1114" y="781"/>
                  </a:lnTo>
                  <a:lnTo>
                    <a:pt x="1110" y="802"/>
                  </a:lnTo>
                  <a:lnTo>
                    <a:pt x="1104" y="823"/>
                  </a:lnTo>
                  <a:lnTo>
                    <a:pt x="1098" y="843"/>
                  </a:lnTo>
                  <a:lnTo>
                    <a:pt x="1091" y="863"/>
                  </a:lnTo>
                  <a:lnTo>
                    <a:pt x="1083" y="883"/>
                  </a:lnTo>
                  <a:lnTo>
                    <a:pt x="1074" y="902"/>
                  </a:lnTo>
                  <a:lnTo>
                    <a:pt x="1065" y="921"/>
                  </a:lnTo>
                  <a:lnTo>
                    <a:pt x="1054" y="939"/>
                  </a:lnTo>
                  <a:lnTo>
                    <a:pt x="1043" y="956"/>
                  </a:lnTo>
                  <a:lnTo>
                    <a:pt x="1032" y="973"/>
                  </a:lnTo>
                  <a:lnTo>
                    <a:pt x="1019" y="989"/>
                  </a:lnTo>
                  <a:lnTo>
                    <a:pt x="1006" y="1004"/>
                  </a:lnTo>
                  <a:lnTo>
                    <a:pt x="992" y="1019"/>
                  </a:lnTo>
                  <a:lnTo>
                    <a:pt x="978" y="1032"/>
                  </a:lnTo>
                  <a:lnTo>
                    <a:pt x="963" y="1046"/>
                  </a:lnTo>
                  <a:lnTo>
                    <a:pt x="948" y="1058"/>
                  </a:lnTo>
                  <a:lnTo>
                    <a:pt x="932" y="1069"/>
                  </a:lnTo>
                  <a:lnTo>
                    <a:pt x="915" y="1080"/>
                  </a:lnTo>
                  <a:lnTo>
                    <a:pt x="898" y="1090"/>
                  </a:lnTo>
                  <a:lnTo>
                    <a:pt x="880" y="1099"/>
                  </a:lnTo>
                  <a:lnTo>
                    <a:pt x="862" y="1107"/>
                  </a:lnTo>
                  <a:lnTo>
                    <a:pt x="844" y="1113"/>
                  </a:lnTo>
                  <a:lnTo>
                    <a:pt x="825" y="1119"/>
                  </a:lnTo>
                  <a:lnTo>
                    <a:pt x="806" y="1124"/>
                  </a:lnTo>
                  <a:lnTo>
                    <a:pt x="786" y="1128"/>
                  </a:lnTo>
                  <a:lnTo>
                    <a:pt x="766" y="1132"/>
                  </a:lnTo>
                  <a:lnTo>
                    <a:pt x="746" y="1134"/>
                  </a:lnTo>
                  <a:lnTo>
                    <a:pt x="725" y="1134"/>
                  </a:lnTo>
                  <a:lnTo>
                    <a:pt x="705" y="1134"/>
                  </a:lnTo>
                  <a:lnTo>
                    <a:pt x="685" y="1132"/>
                  </a:lnTo>
                  <a:lnTo>
                    <a:pt x="665" y="1128"/>
                  </a:lnTo>
                  <a:lnTo>
                    <a:pt x="646" y="1124"/>
                  </a:lnTo>
                  <a:lnTo>
                    <a:pt x="627" y="1119"/>
                  </a:lnTo>
                  <a:lnTo>
                    <a:pt x="608" y="1113"/>
                  </a:lnTo>
                  <a:lnTo>
                    <a:pt x="589" y="1107"/>
                  </a:lnTo>
                  <a:lnTo>
                    <a:pt x="571" y="1099"/>
                  </a:lnTo>
                  <a:lnTo>
                    <a:pt x="554" y="1090"/>
                  </a:lnTo>
                  <a:lnTo>
                    <a:pt x="537" y="1080"/>
                  </a:lnTo>
                  <a:lnTo>
                    <a:pt x="520" y="1069"/>
                  </a:lnTo>
                  <a:lnTo>
                    <a:pt x="504" y="1058"/>
                  </a:lnTo>
                  <a:lnTo>
                    <a:pt x="489" y="1046"/>
                  </a:lnTo>
                  <a:lnTo>
                    <a:pt x="474" y="1032"/>
                  </a:lnTo>
                  <a:lnTo>
                    <a:pt x="459" y="1019"/>
                  </a:lnTo>
                  <a:lnTo>
                    <a:pt x="446" y="1004"/>
                  </a:lnTo>
                  <a:lnTo>
                    <a:pt x="433" y="989"/>
                  </a:lnTo>
                  <a:lnTo>
                    <a:pt x="419" y="973"/>
                  </a:lnTo>
                  <a:lnTo>
                    <a:pt x="407" y="956"/>
                  </a:lnTo>
                  <a:lnTo>
                    <a:pt x="396" y="939"/>
                  </a:lnTo>
                  <a:lnTo>
                    <a:pt x="386" y="921"/>
                  </a:lnTo>
                  <a:lnTo>
                    <a:pt x="377" y="902"/>
                  </a:lnTo>
                  <a:lnTo>
                    <a:pt x="368" y="883"/>
                  </a:lnTo>
                  <a:lnTo>
                    <a:pt x="360" y="863"/>
                  </a:lnTo>
                  <a:lnTo>
                    <a:pt x="353" y="843"/>
                  </a:lnTo>
                  <a:lnTo>
                    <a:pt x="347" y="823"/>
                  </a:lnTo>
                  <a:lnTo>
                    <a:pt x="341" y="802"/>
                  </a:lnTo>
                  <a:lnTo>
                    <a:pt x="337" y="781"/>
                  </a:lnTo>
                  <a:lnTo>
                    <a:pt x="333" y="759"/>
                  </a:lnTo>
                  <a:lnTo>
                    <a:pt x="331" y="737"/>
                  </a:lnTo>
                  <a:lnTo>
                    <a:pt x="329" y="713"/>
                  </a:lnTo>
                  <a:lnTo>
                    <a:pt x="329" y="690"/>
                  </a:lnTo>
                  <a:lnTo>
                    <a:pt x="330" y="663"/>
                  </a:lnTo>
                  <a:lnTo>
                    <a:pt x="332" y="636"/>
                  </a:lnTo>
                  <a:lnTo>
                    <a:pt x="336" y="610"/>
                  </a:lnTo>
                  <a:lnTo>
                    <a:pt x="341" y="584"/>
                  </a:lnTo>
                  <a:lnTo>
                    <a:pt x="347" y="558"/>
                  </a:lnTo>
                  <a:lnTo>
                    <a:pt x="354" y="534"/>
                  </a:lnTo>
                  <a:lnTo>
                    <a:pt x="363" y="510"/>
                  </a:lnTo>
                  <a:lnTo>
                    <a:pt x="373" y="487"/>
                  </a:lnTo>
                  <a:lnTo>
                    <a:pt x="385" y="464"/>
                  </a:lnTo>
                  <a:lnTo>
                    <a:pt x="397" y="442"/>
                  </a:lnTo>
                  <a:lnTo>
                    <a:pt x="410" y="422"/>
                  </a:lnTo>
                  <a:lnTo>
                    <a:pt x="425" y="402"/>
                  </a:lnTo>
                  <a:lnTo>
                    <a:pt x="441" y="383"/>
                  </a:lnTo>
                  <a:lnTo>
                    <a:pt x="458" y="365"/>
                  </a:lnTo>
                  <a:lnTo>
                    <a:pt x="475" y="348"/>
                  </a:lnTo>
                  <a:lnTo>
                    <a:pt x="493" y="333"/>
                  </a:lnTo>
                  <a:lnTo>
                    <a:pt x="225" y="333"/>
                  </a:lnTo>
                  <a:lnTo>
                    <a:pt x="225" y="967"/>
                  </a:lnTo>
                  <a:lnTo>
                    <a:pt x="225" y="969"/>
                  </a:lnTo>
                  <a:lnTo>
                    <a:pt x="225" y="1099"/>
                  </a:lnTo>
                  <a:lnTo>
                    <a:pt x="106" y="1099"/>
                  </a:lnTo>
                  <a:lnTo>
                    <a:pt x="106" y="974"/>
                  </a:lnTo>
                  <a:lnTo>
                    <a:pt x="106" y="970"/>
                  </a:lnTo>
                  <a:lnTo>
                    <a:pt x="106" y="967"/>
                  </a:lnTo>
                  <a:lnTo>
                    <a:pt x="106" y="333"/>
                  </a:lnTo>
                  <a:lnTo>
                    <a:pt x="0" y="333"/>
                  </a:lnTo>
                  <a:lnTo>
                    <a:pt x="0" y="252"/>
                  </a:lnTo>
                  <a:lnTo>
                    <a:pt x="107" y="252"/>
                  </a:lnTo>
                  <a:lnTo>
                    <a:pt x="109" y="237"/>
                  </a:lnTo>
                  <a:lnTo>
                    <a:pt x="111" y="223"/>
                  </a:lnTo>
                  <a:lnTo>
                    <a:pt x="113" y="209"/>
                  </a:lnTo>
                  <a:lnTo>
                    <a:pt x="116" y="195"/>
                  </a:lnTo>
                  <a:lnTo>
                    <a:pt x="120" y="182"/>
                  </a:lnTo>
                  <a:lnTo>
                    <a:pt x="124" y="169"/>
                  </a:lnTo>
                  <a:lnTo>
                    <a:pt x="128" y="157"/>
                  </a:lnTo>
                  <a:lnTo>
                    <a:pt x="133" y="145"/>
                  </a:lnTo>
                  <a:lnTo>
                    <a:pt x="138" y="133"/>
                  </a:lnTo>
                  <a:lnTo>
                    <a:pt x="144" y="122"/>
                  </a:lnTo>
                  <a:lnTo>
                    <a:pt x="150" y="112"/>
                  </a:lnTo>
                  <a:lnTo>
                    <a:pt x="157" y="102"/>
                  </a:lnTo>
                  <a:lnTo>
                    <a:pt x="163" y="92"/>
                  </a:lnTo>
                  <a:lnTo>
                    <a:pt x="171" y="83"/>
                  </a:lnTo>
                  <a:lnTo>
                    <a:pt x="178" y="74"/>
                  </a:lnTo>
                  <a:lnTo>
                    <a:pt x="186" y="66"/>
                  </a:lnTo>
                  <a:lnTo>
                    <a:pt x="195" y="58"/>
                  </a:lnTo>
                  <a:lnTo>
                    <a:pt x="204" y="51"/>
                  </a:lnTo>
                  <a:lnTo>
                    <a:pt x="213" y="44"/>
                  </a:lnTo>
                  <a:lnTo>
                    <a:pt x="222" y="38"/>
                  </a:lnTo>
                  <a:lnTo>
                    <a:pt x="232" y="32"/>
                  </a:lnTo>
                  <a:lnTo>
                    <a:pt x="242" y="26"/>
                  </a:lnTo>
                  <a:lnTo>
                    <a:pt x="252" y="22"/>
                  </a:lnTo>
                  <a:lnTo>
                    <a:pt x="263" y="17"/>
                  </a:lnTo>
                  <a:lnTo>
                    <a:pt x="274" y="13"/>
                  </a:lnTo>
                  <a:lnTo>
                    <a:pt x="285" y="10"/>
                  </a:lnTo>
                  <a:lnTo>
                    <a:pt x="297" y="7"/>
                  </a:lnTo>
                  <a:lnTo>
                    <a:pt x="309" y="5"/>
                  </a:lnTo>
                  <a:lnTo>
                    <a:pt x="321" y="3"/>
                  </a:lnTo>
                  <a:lnTo>
                    <a:pt x="333" y="1"/>
                  </a:lnTo>
                  <a:lnTo>
                    <a:pt x="346" y="1"/>
                  </a:lnTo>
                  <a:lnTo>
                    <a:pt x="359" y="0"/>
                  </a:lnTo>
                  <a:lnTo>
                    <a:pt x="390" y="1"/>
                  </a:lnTo>
                  <a:lnTo>
                    <a:pt x="418" y="2"/>
                  </a:lnTo>
                  <a:lnTo>
                    <a:pt x="444" y="4"/>
                  </a:lnTo>
                  <a:lnTo>
                    <a:pt x="466" y="7"/>
                  </a:lnTo>
                  <a:lnTo>
                    <a:pt x="485" y="10"/>
                  </a:lnTo>
                  <a:lnTo>
                    <a:pt x="501" y="14"/>
                  </a:lnTo>
                  <a:lnTo>
                    <a:pt x="515" y="18"/>
                  </a:lnTo>
                  <a:lnTo>
                    <a:pt x="527" y="23"/>
                  </a:lnTo>
                  <a:lnTo>
                    <a:pt x="527" y="132"/>
                  </a:lnTo>
                  <a:lnTo>
                    <a:pt x="526" y="141"/>
                  </a:lnTo>
                  <a:lnTo>
                    <a:pt x="526" y="145"/>
                  </a:lnTo>
                  <a:lnTo>
                    <a:pt x="524" y="145"/>
                  </a:lnTo>
                  <a:lnTo>
                    <a:pt x="522" y="145"/>
                  </a:lnTo>
                  <a:lnTo>
                    <a:pt x="506" y="130"/>
                  </a:lnTo>
                  <a:lnTo>
                    <a:pt x="489" y="117"/>
                  </a:lnTo>
                  <a:lnTo>
                    <a:pt x="480" y="111"/>
                  </a:lnTo>
                  <a:lnTo>
                    <a:pt x="471" y="105"/>
                  </a:lnTo>
                  <a:lnTo>
                    <a:pt x="461" y="100"/>
                  </a:lnTo>
                  <a:lnTo>
                    <a:pt x="451" y="95"/>
                  </a:lnTo>
                  <a:lnTo>
                    <a:pt x="440" y="91"/>
                  </a:lnTo>
                  <a:lnTo>
                    <a:pt x="428" y="87"/>
                  </a:lnTo>
                  <a:lnTo>
                    <a:pt x="414" y="84"/>
                  </a:lnTo>
                  <a:lnTo>
                    <a:pt x="401" y="81"/>
                  </a:lnTo>
                  <a:lnTo>
                    <a:pt x="386" y="79"/>
                  </a:lnTo>
                  <a:lnTo>
                    <a:pt x="371" y="77"/>
                  </a:lnTo>
                  <a:lnTo>
                    <a:pt x="354" y="76"/>
                  </a:lnTo>
                  <a:lnTo>
                    <a:pt x="336" y="76"/>
                  </a:lnTo>
                  <a:lnTo>
                    <a:pt x="322" y="76"/>
                  </a:lnTo>
                  <a:lnTo>
                    <a:pt x="308" y="79"/>
                  </a:lnTo>
                  <a:lnTo>
                    <a:pt x="295" y="82"/>
                  </a:lnTo>
                  <a:lnTo>
                    <a:pt x="283" y="87"/>
                  </a:lnTo>
                  <a:lnTo>
                    <a:pt x="271" y="94"/>
                  </a:lnTo>
                  <a:lnTo>
                    <a:pt x="261" y="102"/>
                  </a:lnTo>
                  <a:lnTo>
                    <a:pt x="252" y="111"/>
                  </a:lnTo>
                  <a:lnTo>
                    <a:pt x="243" y="122"/>
                  </a:lnTo>
                  <a:lnTo>
                    <a:pt x="236" y="134"/>
                  </a:lnTo>
                  <a:lnTo>
                    <a:pt x="230" y="147"/>
                  </a:lnTo>
                  <a:lnTo>
                    <a:pt x="225" y="161"/>
                  </a:lnTo>
                  <a:lnTo>
                    <a:pt x="222" y="177"/>
                  </a:lnTo>
                  <a:lnTo>
                    <a:pt x="220" y="194"/>
                  </a:lnTo>
                  <a:lnTo>
                    <a:pt x="220" y="212"/>
                  </a:lnTo>
                  <a:lnTo>
                    <a:pt x="221" y="232"/>
                  </a:lnTo>
                  <a:lnTo>
                    <a:pt x="223" y="252"/>
                  </a:lnTo>
                  <a:lnTo>
                    <a:pt x="669" y="252"/>
                  </a:lnTo>
                  <a:lnTo>
                    <a:pt x="683" y="250"/>
                  </a:lnTo>
                  <a:lnTo>
                    <a:pt x="697" y="249"/>
                  </a:lnTo>
                  <a:lnTo>
                    <a:pt x="711" y="248"/>
                  </a:lnTo>
                  <a:lnTo>
                    <a:pt x="725" y="248"/>
                  </a:lnTo>
                  <a:lnTo>
                    <a:pt x="740" y="248"/>
                  </a:lnTo>
                  <a:lnTo>
                    <a:pt x="755" y="249"/>
                  </a:lnTo>
                  <a:lnTo>
                    <a:pt x="769" y="250"/>
                  </a:lnTo>
                  <a:lnTo>
                    <a:pt x="784" y="252"/>
                  </a:lnTo>
                  <a:lnTo>
                    <a:pt x="799" y="255"/>
                  </a:lnTo>
                  <a:lnTo>
                    <a:pt x="813" y="258"/>
                  </a:lnTo>
                  <a:lnTo>
                    <a:pt x="827" y="262"/>
                  </a:lnTo>
                  <a:lnTo>
                    <a:pt x="840" y="266"/>
                  </a:lnTo>
                  <a:lnTo>
                    <a:pt x="854" y="271"/>
                  </a:lnTo>
                  <a:lnTo>
                    <a:pt x="867" y="276"/>
                  </a:lnTo>
                  <a:lnTo>
                    <a:pt x="880" y="282"/>
                  </a:lnTo>
                  <a:lnTo>
                    <a:pt x="893" y="288"/>
                  </a:lnTo>
                  <a:lnTo>
                    <a:pt x="905" y="295"/>
                  </a:lnTo>
                  <a:lnTo>
                    <a:pt x="918" y="304"/>
                  </a:lnTo>
                  <a:lnTo>
                    <a:pt x="930" y="311"/>
                  </a:lnTo>
                  <a:lnTo>
                    <a:pt x="941" y="319"/>
                  </a:lnTo>
                  <a:lnTo>
                    <a:pt x="953" y="328"/>
                  </a:lnTo>
                  <a:lnTo>
                    <a:pt x="964" y="337"/>
                  </a:lnTo>
                  <a:lnTo>
                    <a:pt x="975" y="347"/>
                  </a:lnTo>
                  <a:lnTo>
                    <a:pt x="985" y="356"/>
                  </a:lnTo>
                  <a:lnTo>
                    <a:pt x="1006" y="377"/>
                  </a:lnTo>
                  <a:lnTo>
                    <a:pt x="1024" y="400"/>
                  </a:lnTo>
                  <a:lnTo>
                    <a:pt x="1042" y="424"/>
                  </a:lnTo>
                  <a:lnTo>
                    <a:pt x="1058" y="449"/>
                  </a:lnTo>
                  <a:lnTo>
                    <a:pt x="1072" y="475"/>
                  </a:lnTo>
                  <a:lnTo>
                    <a:pt x="1085" y="503"/>
                  </a:lnTo>
                  <a:lnTo>
                    <a:pt x="1084" y="490"/>
                  </a:lnTo>
                  <a:lnTo>
                    <a:pt x="1084" y="477"/>
                  </a:lnTo>
                  <a:lnTo>
                    <a:pt x="1084" y="462"/>
                  </a:lnTo>
                  <a:lnTo>
                    <a:pt x="1086" y="449"/>
                  </a:lnTo>
                  <a:lnTo>
                    <a:pt x="1088" y="435"/>
                  </a:lnTo>
                  <a:lnTo>
                    <a:pt x="1091" y="422"/>
                  </a:lnTo>
                  <a:lnTo>
                    <a:pt x="1094" y="410"/>
                  </a:lnTo>
                  <a:lnTo>
                    <a:pt x="1099" y="398"/>
                  </a:lnTo>
                  <a:lnTo>
                    <a:pt x="1104" y="387"/>
                  </a:lnTo>
                  <a:lnTo>
                    <a:pt x="1110" y="376"/>
                  </a:lnTo>
                  <a:lnTo>
                    <a:pt x="1117" y="365"/>
                  </a:lnTo>
                  <a:lnTo>
                    <a:pt x="1124" y="356"/>
                  </a:lnTo>
                  <a:lnTo>
                    <a:pt x="1132" y="346"/>
                  </a:lnTo>
                  <a:lnTo>
                    <a:pt x="1140" y="337"/>
                  </a:lnTo>
                  <a:lnTo>
                    <a:pt x="1149" y="329"/>
                  </a:lnTo>
                  <a:lnTo>
                    <a:pt x="1160" y="321"/>
                  </a:lnTo>
                  <a:lnTo>
                    <a:pt x="1170" y="313"/>
                  </a:lnTo>
                  <a:lnTo>
                    <a:pt x="1181" y="306"/>
                  </a:lnTo>
                  <a:lnTo>
                    <a:pt x="1192" y="300"/>
                  </a:lnTo>
                  <a:lnTo>
                    <a:pt x="1203" y="293"/>
                  </a:lnTo>
                  <a:lnTo>
                    <a:pt x="1215" y="287"/>
                  </a:lnTo>
                  <a:lnTo>
                    <a:pt x="1227" y="282"/>
                  </a:lnTo>
                  <a:lnTo>
                    <a:pt x="1240" y="277"/>
                  </a:lnTo>
                  <a:lnTo>
                    <a:pt x="1253" y="273"/>
                  </a:lnTo>
                  <a:lnTo>
                    <a:pt x="1266" y="269"/>
                  </a:lnTo>
                  <a:lnTo>
                    <a:pt x="1280" y="265"/>
                  </a:lnTo>
                  <a:lnTo>
                    <a:pt x="1307" y="260"/>
                  </a:lnTo>
                  <a:lnTo>
                    <a:pt x="1336" y="256"/>
                  </a:lnTo>
                  <a:lnTo>
                    <a:pt x="1365" y="253"/>
                  </a:lnTo>
                  <a:lnTo>
                    <a:pt x="1395" y="253"/>
                  </a:lnTo>
                  <a:lnTo>
                    <a:pt x="1404" y="253"/>
                  </a:lnTo>
                  <a:lnTo>
                    <a:pt x="1412" y="253"/>
                  </a:lnTo>
                  <a:lnTo>
                    <a:pt x="1434" y="253"/>
                  </a:lnTo>
                  <a:lnTo>
                    <a:pt x="1458" y="255"/>
                  </a:lnTo>
                  <a:lnTo>
                    <a:pt x="1482" y="258"/>
                  </a:lnTo>
                  <a:lnTo>
                    <a:pt x="1507" y="263"/>
                  </a:lnTo>
                  <a:lnTo>
                    <a:pt x="1532" y="267"/>
                  </a:lnTo>
                  <a:lnTo>
                    <a:pt x="1555" y="273"/>
                  </a:lnTo>
                  <a:lnTo>
                    <a:pt x="1577" y="278"/>
                  </a:lnTo>
                  <a:lnTo>
                    <a:pt x="1596" y="283"/>
                  </a:lnTo>
                  <a:lnTo>
                    <a:pt x="1640" y="391"/>
                  </a:lnTo>
                  <a:lnTo>
                    <a:pt x="1690" y="514"/>
                  </a:lnTo>
                  <a:lnTo>
                    <a:pt x="1824" y="841"/>
                  </a:lnTo>
                  <a:lnTo>
                    <a:pt x="1840" y="893"/>
                  </a:lnTo>
                  <a:lnTo>
                    <a:pt x="1857" y="841"/>
                  </a:lnTo>
                  <a:lnTo>
                    <a:pt x="2027" y="421"/>
                  </a:lnTo>
                  <a:lnTo>
                    <a:pt x="2031" y="411"/>
                  </a:lnTo>
                  <a:lnTo>
                    <a:pt x="2034" y="400"/>
                  </a:lnTo>
                  <a:lnTo>
                    <a:pt x="2039" y="390"/>
                  </a:lnTo>
                  <a:lnTo>
                    <a:pt x="2043" y="381"/>
                  </a:lnTo>
                  <a:lnTo>
                    <a:pt x="2049" y="372"/>
                  </a:lnTo>
                  <a:lnTo>
                    <a:pt x="2054" y="363"/>
                  </a:lnTo>
                  <a:lnTo>
                    <a:pt x="2060" y="355"/>
                  </a:lnTo>
                  <a:lnTo>
                    <a:pt x="2067" y="347"/>
                  </a:lnTo>
                  <a:lnTo>
                    <a:pt x="2074" y="339"/>
                  </a:lnTo>
                  <a:lnTo>
                    <a:pt x="2081" y="332"/>
                  </a:lnTo>
                  <a:lnTo>
                    <a:pt x="2089" y="325"/>
                  </a:lnTo>
                  <a:lnTo>
                    <a:pt x="2097" y="318"/>
                  </a:lnTo>
                  <a:lnTo>
                    <a:pt x="2115" y="306"/>
                  </a:lnTo>
                  <a:lnTo>
                    <a:pt x="2134" y="294"/>
                  </a:lnTo>
                  <a:lnTo>
                    <a:pt x="2154" y="285"/>
                  </a:lnTo>
                  <a:lnTo>
                    <a:pt x="2175" y="277"/>
                  </a:lnTo>
                  <a:lnTo>
                    <a:pt x="2197" y="270"/>
                  </a:lnTo>
                  <a:lnTo>
                    <a:pt x="2220" y="265"/>
                  </a:lnTo>
                  <a:lnTo>
                    <a:pt x="2244" y="260"/>
                  </a:lnTo>
                  <a:lnTo>
                    <a:pt x="2269" y="257"/>
                  </a:lnTo>
                  <a:lnTo>
                    <a:pt x="2294" y="256"/>
                  </a:lnTo>
                  <a:lnTo>
                    <a:pt x="2320" y="255"/>
                  </a:lnTo>
                  <a:lnTo>
                    <a:pt x="2345" y="255"/>
                  </a:lnTo>
                  <a:lnTo>
                    <a:pt x="2368" y="257"/>
                  </a:lnTo>
                  <a:lnTo>
                    <a:pt x="2390" y="259"/>
                  </a:lnTo>
                  <a:lnTo>
                    <a:pt x="2412" y="262"/>
                  </a:lnTo>
                  <a:lnTo>
                    <a:pt x="2433" y="266"/>
                  </a:lnTo>
                  <a:lnTo>
                    <a:pt x="2454" y="271"/>
                  </a:lnTo>
                  <a:lnTo>
                    <a:pt x="2476" y="277"/>
                  </a:lnTo>
                  <a:lnTo>
                    <a:pt x="2498" y="284"/>
                  </a:lnTo>
                  <a:lnTo>
                    <a:pt x="2498" y="412"/>
                  </a:lnTo>
                  <a:lnTo>
                    <a:pt x="2471" y="393"/>
                  </a:lnTo>
                  <a:lnTo>
                    <a:pt x="2446" y="376"/>
                  </a:lnTo>
                  <a:lnTo>
                    <a:pt x="2433" y="368"/>
                  </a:lnTo>
                  <a:lnTo>
                    <a:pt x="2421" y="361"/>
                  </a:lnTo>
                  <a:lnTo>
                    <a:pt x="2409" y="355"/>
                  </a:lnTo>
                  <a:lnTo>
                    <a:pt x="2396" y="349"/>
                  </a:lnTo>
                  <a:lnTo>
                    <a:pt x="2384" y="344"/>
                  </a:lnTo>
                  <a:lnTo>
                    <a:pt x="2371" y="340"/>
                  </a:lnTo>
                  <a:lnTo>
                    <a:pt x="2358" y="336"/>
                  </a:lnTo>
                  <a:lnTo>
                    <a:pt x="2345" y="333"/>
                  </a:lnTo>
                  <a:lnTo>
                    <a:pt x="2331" y="330"/>
                  </a:lnTo>
                  <a:lnTo>
                    <a:pt x="2317" y="328"/>
                  </a:lnTo>
                  <a:lnTo>
                    <a:pt x="2302" y="327"/>
                  </a:lnTo>
                  <a:lnTo>
                    <a:pt x="2287" y="327"/>
                  </a:lnTo>
                  <a:lnTo>
                    <a:pt x="2273" y="327"/>
                  </a:lnTo>
                  <a:lnTo>
                    <a:pt x="2259" y="328"/>
                  </a:lnTo>
                  <a:lnTo>
                    <a:pt x="2244" y="331"/>
                  </a:lnTo>
                  <a:lnTo>
                    <a:pt x="2229" y="334"/>
                  </a:lnTo>
                  <a:lnTo>
                    <a:pt x="2216" y="338"/>
                  </a:lnTo>
                  <a:lnTo>
                    <a:pt x="2202" y="343"/>
                  </a:lnTo>
                  <a:lnTo>
                    <a:pt x="2189" y="349"/>
                  </a:lnTo>
                  <a:lnTo>
                    <a:pt x="2177" y="357"/>
                  </a:lnTo>
                  <a:lnTo>
                    <a:pt x="2166" y="366"/>
                  </a:lnTo>
                  <a:lnTo>
                    <a:pt x="2155" y="376"/>
                  </a:lnTo>
                  <a:lnTo>
                    <a:pt x="2146" y="387"/>
                  </a:lnTo>
                  <a:lnTo>
                    <a:pt x="2138" y="400"/>
                  </a:lnTo>
                  <a:lnTo>
                    <a:pt x="2135" y="407"/>
                  </a:lnTo>
                  <a:lnTo>
                    <a:pt x="2132" y="415"/>
                  </a:lnTo>
                  <a:lnTo>
                    <a:pt x="2130" y="423"/>
                  </a:lnTo>
                  <a:lnTo>
                    <a:pt x="2127" y="431"/>
                  </a:lnTo>
                  <a:lnTo>
                    <a:pt x="2126" y="440"/>
                  </a:lnTo>
                  <a:lnTo>
                    <a:pt x="2124" y="449"/>
                  </a:lnTo>
                  <a:lnTo>
                    <a:pt x="2124" y="458"/>
                  </a:lnTo>
                  <a:lnTo>
                    <a:pt x="2123" y="468"/>
                  </a:lnTo>
                  <a:lnTo>
                    <a:pt x="2124" y="483"/>
                  </a:lnTo>
                  <a:lnTo>
                    <a:pt x="2125" y="496"/>
                  </a:lnTo>
                  <a:lnTo>
                    <a:pt x="2128" y="508"/>
                  </a:lnTo>
                  <a:lnTo>
                    <a:pt x="2133" y="519"/>
                  </a:lnTo>
                  <a:lnTo>
                    <a:pt x="2138" y="529"/>
                  </a:lnTo>
                  <a:lnTo>
                    <a:pt x="2145" y="538"/>
                  </a:lnTo>
                  <a:lnTo>
                    <a:pt x="2154" y="547"/>
                  </a:lnTo>
                  <a:lnTo>
                    <a:pt x="2165" y="556"/>
                  </a:lnTo>
                  <a:lnTo>
                    <a:pt x="2177" y="564"/>
                  </a:lnTo>
                  <a:lnTo>
                    <a:pt x="2191" y="573"/>
                  </a:lnTo>
                  <a:lnTo>
                    <a:pt x="2206" y="582"/>
                  </a:lnTo>
                  <a:lnTo>
                    <a:pt x="2224" y="591"/>
                  </a:lnTo>
                  <a:lnTo>
                    <a:pt x="2266" y="612"/>
                  </a:lnTo>
                  <a:lnTo>
                    <a:pt x="2316" y="636"/>
                  </a:lnTo>
                  <a:lnTo>
                    <a:pt x="2338" y="646"/>
                  </a:lnTo>
                  <a:lnTo>
                    <a:pt x="2359" y="656"/>
                  </a:lnTo>
                  <a:lnTo>
                    <a:pt x="2381" y="666"/>
                  </a:lnTo>
                  <a:lnTo>
                    <a:pt x="2401" y="676"/>
                  </a:lnTo>
                  <a:lnTo>
                    <a:pt x="2421" y="688"/>
                  </a:lnTo>
                  <a:lnTo>
                    <a:pt x="2440" y="700"/>
                  </a:lnTo>
                  <a:lnTo>
                    <a:pt x="2457" y="712"/>
                  </a:lnTo>
                  <a:lnTo>
                    <a:pt x="2474" y="726"/>
                  </a:lnTo>
                  <a:lnTo>
                    <a:pt x="2489" y="741"/>
                  </a:lnTo>
                  <a:lnTo>
                    <a:pt x="2502" y="756"/>
                  </a:lnTo>
                  <a:lnTo>
                    <a:pt x="2508" y="764"/>
                  </a:lnTo>
                  <a:lnTo>
                    <a:pt x="2514" y="773"/>
                  </a:lnTo>
                  <a:lnTo>
                    <a:pt x="2520" y="781"/>
                  </a:lnTo>
                  <a:lnTo>
                    <a:pt x="2524" y="790"/>
                  </a:lnTo>
                  <a:lnTo>
                    <a:pt x="2529" y="800"/>
                  </a:lnTo>
                  <a:lnTo>
                    <a:pt x="2532" y="810"/>
                  </a:lnTo>
                  <a:lnTo>
                    <a:pt x="2536" y="820"/>
                  </a:lnTo>
                  <a:lnTo>
                    <a:pt x="2538" y="830"/>
                  </a:lnTo>
                  <a:lnTo>
                    <a:pt x="2541" y="841"/>
                  </a:lnTo>
                  <a:lnTo>
                    <a:pt x="2542" y="852"/>
                  </a:lnTo>
                  <a:lnTo>
                    <a:pt x="2543" y="864"/>
                  </a:lnTo>
                  <a:lnTo>
                    <a:pt x="2544" y="876"/>
                  </a:lnTo>
                  <a:lnTo>
                    <a:pt x="2543" y="896"/>
                  </a:lnTo>
                  <a:lnTo>
                    <a:pt x="2541" y="915"/>
                  </a:lnTo>
                  <a:lnTo>
                    <a:pt x="2538" y="933"/>
                  </a:lnTo>
                  <a:lnTo>
                    <a:pt x="2534" y="950"/>
                  </a:lnTo>
                  <a:lnTo>
                    <a:pt x="2529" y="966"/>
                  </a:lnTo>
                  <a:lnTo>
                    <a:pt x="2523" y="981"/>
                  </a:lnTo>
                  <a:lnTo>
                    <a:pt x="2516" y="995"/>
                  </a:lnTo>
                  <a:lnTo>
                    <a:pt x="2508" y="1008"/>
                  </a:lnTo>
                  <a:lnTo>
                    <a:pt x="2500" y="1021"/>
                  </a:lnTo>
                  <a:lnTo>
                    <a:pt x="2490" y="1032"/>
                  </a:lnTo>
                  <a:lnTo>
                    <a:pt x="2480" y="1043"/>
                  </a:lnTo>
                  <a:lnTo>
                    <a:pt x="2470" y="1053"/>
                  </a:lnTo>
                  <a:lnTo>
                    <a:pt x="2459" y="1062"/>
                  </a:lnTo>
                  <a:lnTo>
                    <a:pt x="2447" y="1071"/>
                  </a:lnTo>
                  <a:lnTo>
                    <a:pt x="2435" y="1079"/>
                  </a:lnTo>
                  <a:lnTo>
                    <a:pt x="2423" y="1086"/>
                  </a:lnTo>
                  <a:lnTo>
                    <a:pt x="2410" y="1093"/>
                  </a:lnTo>
                  <a:lnTo>
                    <a:pt x="2397" y="1099"/>
                  </a:lnTo>
                  <a:lnTo>
                    <a:pt x="2384" y="1104"/>
                  </a:lnTo>
                  <a:lnTo>
                    <a:pt x="2371" y="1109"/>
                  </a:lnTo>
                  <a:lnTo>
                    <a:pt x="2344" y="1117"/>
                  </a:lnTo>
                  <a:lnTo>
                    <a:pt x="2318" y="1123"/>
                  </a:lnTo>
                  <a:lnTo>
                    <a:pt x="2292" y="1128"/>
                  </a:lnTo>
                  <a:lnTo>
                    <a:pt x="2267" y="1132"/>
                  </a:lnTo>
                  <a:lnTo>
                    <a:pt x="2243" y="1133"/>
                  </a:lnTo>
                  <a:lnTo>
                    <a:pt x="2222" y="1134"/>
                  </a:lnTo>
                  <a:lnTo>
                    <a:pt x="2205" y="1133"/>
                  </a:lnTo>
                  <a:lnTo>
                    <a:pt x="2188" y="1133"/>
                  </a:lnTo>
                  <a:lnTo>
                    <a:pt x="2171" y="1131"/>
                  </a:lnTo>
                  <a:lnTo>
                    <a:pt x="2154" y="1128"/>
                  </a:lnTo>
                  <a:lnTo>
                    <a:pt x="2138" y="1126"/>
                  </a:lnTo>
                  <a:lnTo>
                    <a:pt x="2122" y="1123"/>
                  </a:lnTo>
                  <a:lnTo>
                    <a:pt x="2106" y="1120"/>
                  </a:lnTo>
                  <a:lnTo>
                    <a:pt x="2091" y="1116"/>
                  </a:lnTo>
                  <a:lnTo>
                    <a:pt x="2077" y="1112"/>
                  </a:lnTo>
                  <a:lnTo>
                    <a:pt x="2063" y="1107"/>
                  </a:lnTo>
                  <a:lnTo>
                    <a:pt x="2050" y="1102"/>
                  </a:lnTo>
                  <a:lnTo>
                    <a:pt x="2038" y="1096"/>
                  </a:lnTo>
                  <a:lnTo>
                    <a:pt x="2026" y="1090"/>
                  </a:lnTo>
                  <a:lnTo>
                    <a:pt x="2015" y="1084"/>
                  </a:lnTo>
                  <a:lnTo>
                    <a:pt x="2004" y="1077"/>
                  </a:lnTo>
                  <a:lnTo>
                    <a:pt x="1995" y="1070"/>
                  </a:lnTo>
                  <a:lnTo>
                    <a:pt x="1995" y="926"/>
                  </a:lnTo>
                  <a:lnTo>
                    <a:pt x="2003" y="932"/>
                  </a:lnTo>
                  <a:lnTo>
                    <a:pt x="2019" y="946"/>
                  </a:lnTo>
                  <a:lnTo>
                    <a:pt x="2034" y="960"/>
                  </a:lnTo>
                  <a:lnTo>
                    <a:pt x="2050" y="973"/>
                  </a:lnTo>
                  <a:lnTo>
                    <a:pt x="2065" y="984"/>
                  </a:lnTo>
                  <a:lnTo>
                    <a:pt x="2081" y="995"/>
                  </a:lnTo>
                  <a:lnTo>
                    <a:pt x="2096" y="1005"/>
                  </a:lnTo>
                  <a:lnTo>
                    <a:pt x="2112" y="1014"/>
                  </a:lnTo>
                  <a:lnTo>
                    <a:pt x="2127" y="1022"/>
                  </a:lnTo>
                  <a:lnTo>
                    <a:pt x="2143" y="1029"/>
                  </a:lnTo>
                  <a:lnTo>
                    <a:pt x="2159" y="1035"/>
                  </a:lnTo>
                  <a:lnTo>
                    <a:pt x="2175" y="1041"/>
                  </a:lnTo>
                  <a:lnTo>
                    <a:pt x="2191" y="1045"/>
                  </a:lnTo>
                  <a:lnTo>
                    <a:pt x="2208" y="1048"/>
                  </a:lnTo>
                  <a:lnTo>
                    <a:pt x="2225" y="1051"/>
                  </a:lnTo>
                  <a:lnTo>
                    <a:pt x="2242" y="1052"/>
                  </a:lnTo>
                  <a:lnTo>
                    <a:pt x="2261" y="1053"/>
                  </a:lnTo>
                  <a:lnTo>
                    <a:pt x="2279" y="1052"/>
                  </a:lnTo>
                  <a:lnTo>
                    <a:pt x="2297" y="1051"/>
                  </a:lnTo>
                  <a:lnTo>
                    <a:pt x="2314" y="1048"/>
                  </a:lnTo>
                  <a:lnTo>
                    <a:pt x="2330" y="1044"/>
                  </a:lnTo>
                  <a:lnTo>
                    <a:pt x="2346" y="1039"/>
                  </a:lnTo>
                  <a:lnTo>
                    <a:pt x="2361" y="1034"/>
                  </a:lnTo>
                  <a:lnTo>
                    <a:pt x="2375" y="1027"/>
                  </a:lnTo>
                  <a:lnTo>
                    <a:pt x="2388" y="1019"/>
                  </a:lnTo>
                  <a:lnTo>
                    <a:pt x="2400" y="1009"/>
                  </a:lnTo>
                  <a:lnTo>
                    <a:pt x="2410" y="999"/>
                  </a:lnTo>
                  <a:lnTo>
                    <a:pt x="2420" y="988"/>
                  </a:lnTo>
                  <a:lnTo>
                    <a:pt x="2428" y="976"/>
                  </a:lnTo>
                  <a:lnTo>
                    <a:pt x="2434" y="962"/>
                  </a:lnTo>
                  <a:lnTo>
                    <a:pt x="2439" y="948"/>
                  </a:lnTo>
                  <a:lnTo>
                    <a:pt x="2441" y="933"/>
                  </a:lnTo>
                  <a:lnTo>
                    <a:pt x="2442" y="916"/>
                  </a:lnTo>
                  <a:lnTo>
                    <a:pt x="2442" y="903"/>
                  </a:lnTo>
                  <a:lnTo>
                    <a:pt x="2439" y="889"/>
                  </a:lnTo>
                  <a:lnTo>
                    <a:pt x="2435" y="877"/>
                  </a:lnTo>
                  <a:lnTo>
                    <a:pt x="2430" y="865"/>
                  </a:lnTo>
                  <a:lnTo>
                    <a:pt x="2423" y="854"/>
                  </a:lnTo>
                  <a:lnTo>
                    <a:pt x="2415" y="843"/>
                  </a:lnTo>
                  <a:lnTo>
                    <a:pt x="2405" y="832"/>
                  </a:lnTo>
                  <a:lnTo>
                    <a:pt x="2394" y="822"/>
                  </a:lnTo>
                  <a:lnTo>
                    <a:pt x="2382" y="812"/>
                  </a:lnTo>
                  <a:lnTo>
                    <a:pt x="2368" y="803"/>
                  </a:lnTo>
                  <a:lnTo>
                    <a:pt x="2352" y="793"/>
                  </a:lnTo>
                  <a:lnTo>
                    <a:pt x="2336" y="784"/>
                  </a:lnTo>
                  <a:lnTo>
                    <a:pt x="2299" y="765"/>
                  </a:lnTo>
                  <a:lnTo>
                    <a:pt x="2256" y="747"/>
                  </a:lnTo>
                  <a:lnTo>
                    <a:pt x="2215" y="729"/>
                  </a:lnTo>
                  <a:lnTo>
                    <a:pt x="2177" y="711"/>
                  </a:lnTo>
                  <a:lnTo>
                    <a:pt x="2160" y="702"/>
                  </a:lnTo>
                  <a:lnTo>
                    <a:pt x="2144" y="694"/>
                  </a:lnTo>
                  <a:lnTo>
                    <a:pt x="2129" y="685"/>
                  </a:lnTo>
                  <a:lnTo>
                    <a:pt x="2115" y="676"/>
                  </a:lnTo>
                  <a:lnTo>
                    <a:pt x="2101" y="667"/>
                  </a:lnTo>
                  <a:lnTo>
                    <a:pt x="2089" y="657"/>
                  </a:lnTo>
                  <a:lnTo>
                    <a:pt x="2078" y="646"/>
                  </a:lnTo>
                  <a:lnTo>
                    <a:pt x="2067" y="635"/>
                  </a:lnTo>
                  <a:lnTo>
                    <a:pt x="2058" y="623"/>
                  </a:lnTo>
                  <a:lnTo>
                    <a:pt x="2050" y="610"/>
                  </a:lnTo>
                  <a:lnTo>
                    <a:pt x="2042" y="597"/>
                  </a:lnTo>
                  <a:lnTo>
                    <a:pt x="2036" y="582"/>
                  </a:lnTo>
                  <a:lnTo>
                    <a:pt x="2026" y="608"/>
                  </a:lnTo>
                  <a:lnTo>
                    <a:pt x="2011" y="642"/>
                  </a:lnTo>
                  <a:lnTo>
                    <a:pt x="1994" y="684"/>
                  </a:lnTo>
                  <a:lnTo>
                    <a:pt x="1975" y="732"/>
                  </a:lnTo>
                  <a:lnTo>
                    <a:pt x="1953" y="785"/>
                  </a:lnTo>
                  <a:lnTo>
                    <a:pt x="1930" y="841"/>
                  </a:lnTo>
                  <a:lnTo>
                    <a:pt x="1906" y="900"/>
                  </a:lnTo>
                  <a:lnTo>
                    <a:pt x="1880" y="959"/>
                  </a:lnTo>
                  <a:lnTo>
                    <a:pt x="1855" y="1019"/>
                  </a:lnTo>
                  <a:lnTo>
                    <a:pt x="1831" y="1078"/>
                  </a:lnTo>
                  <a:lnTo>
                    <a:pt x="1807" y="1135"/>
                  </a:lnTo>
                  <a:lnTo>
                    <a:pt x="1786" y="1187"/>
                  </a:lnTo>
                  <a:lnTo>
                    <a:pt x="1765" y="1235"/>
                  </a:lnTo>
                  <a:lnTo>
                    <a:pt x="1748" y="1276"/>
                  </a:lnTo>
                  <a:lnTo>
                    <a:pt x="1733" y="1310"/>
                  </a:lnTo>
                  <a:lnTo>
                    <a:pt x="1722" y="1336"/>
                  </a:lnTo>
                  <a:lnTo>
                    <a:pt x="1605" y="1336"/>
                  </a:lnTo>
                  <a:lnTo>
                    <a:pt x="1633" y="1285"/>
                  </a:lnTo>
                  <a:lnTo>
                    <a:pt x="1657" y="1239"/>
                  </a:lnTo>
                  <a:lnTo>
                    <a:pt x="1658" y="1238"/>
                  </a:lnTo>
                  <a:lnTo>
                    <a:pt x="1669" y="1215"/>
                  </a:lnTo>
                  <a:lnTo>
                    <a:pt x="1682" y="1189"/>
                  </a:lnTo>
                  <a:lnTo>
                    <a:pt x="1695" y="1161"/>
                  </a:lnTo>
                  <a:lnTo>
                    <a:pt x="1709" y="1131"/>
                  </a:lnTo>
                  <a:lnTo>
                    <a:pt x="1724" y="1099"/>
                  </a:lnTo>
                  <a:lnTo>
                    <a:pt x="1738" y="1067"/>
                  </a:lnTo>
                  <a:lnTo>
                    <a:pt x="1753" y="1035"/>
                  </a:lnTo>
                  <a:lnTo>
                    <a:pt x="1767" y="1002"/>
                  </a:lnTo>
                  <a:lnTo>
                    <a:pt x="1543" y="460"/>
                  </a:lnTo>
                  <a:lnTo>
                    <a:pt x="1539" y="451"/>
                  </a:lnTo>
                  <a:lnTo>
                    <a:pt x="1530" y="431"/>
                  </a:lnTo>
                  <a:lnTo>
                    <a:pt x="1524" y="417"/>
                  </a:lnTo>
                  <a:lnTo>
                    <a:pt x="1516" y="403"/>
                  </a:lnTo>
                  <a:lnTo>
                    <a:pt x="1509" y="389"/>
                  </a:lnTo>
                  <a:lnTo>
                    <a:pt x="1500" y="377"/>
                  </a:lnTo>
                  <a:lnTo>
                    <a:pt x="1495" y="371"/>
                  </a:lnTo>
                  <a:lnTo>
                    <a:pt x="1490" y="365"/>
                  </a:lnTo>
                  <a:lnTo>
                    <a:pt x="1484" y="360"/>
                  </a:lnTo>
                  <a:lnTo>
                    <a:pt x="1478" y="354"/>
                  </a:lnTo>
                  <a:lnTo>
                    <a:pt x="1472" y="350"/>
                  </a:lnTo>
                  <a:lnTo>
                    <a:pt x="1464" y="345"/>
                  </a:lnTo>
                  <a:lnTo>
                    <a:pt x="1456" y="341"/>
                  </a:lnTo>
                  <a:lnTo>
                    <a:pt x="1448" y="338"/>
                  </a:lnTo>
                  <a:lnTo>
                    <a:pt x="1428" y="332"/>
                  </a:lnTo>
                  <a:lnTo>
                    <a:pt x="1407" y="328"/>
                  </a:lnTo>
                  <a:lnTo>
                    <a:pt x="1385" y="325"/>
                  </a:lnTo>
                  <a:lnTo>
                    <a:pt x="1362" y="324"/>
                  </a:lnTo>
                  <a:lnTo>
                    <a:pt x="1348" y="325"/>
                  </a:lnTo>
                  <a:lnTo>
                    <a:pt x="1333" y="326"/>
                  </a:lnTo>
                  <a:lnTo>
                    <a:pt x="1319" y="328"/>
                  </a:lnTo>
                  <a:lnTo>
                    <a:pt x="1304" y="331"/>
                  </a:lnTo>
                  <a:lnTo>
                    <a:pt x="1290" y="335"/>
                  </a:lnTo>
                  <a:lnTo>
                    <a:pt x="1276" y="340"/>
                  </a:lnTo>
                  <a:lnTo>
                    <a:pt x="1263" y="347"/>
                  </a:lnTo>
                  <a:lnTo>
                    <a:pt x="1250" y="354"/>
                  </a:lnTo>
                  <a:lnTo>
                    <a:pt x="1238" y="363"/>
                  </a:lnTo>
                  <a:lnTo>
                    <a:pt x="1227" y="373"/>
                  </a:lnTo>
                  <a:lnTo>
                    <a:pt x="1218" y="385"/>
                  </a:lnTo>
                  <a:lnTo>
                    <a:pt x="1209" y="398"/>
                  </a:lnTo>
                  <a:lnTo>
                    <a:pt x="1206" y="405"/>
                  </a:lnTo>
                  <a:lnTo>
                    <a:pt x="1203" y="412"/>
                  </a:lnTo>
                  <a:lnTo>
                    <a:pt x="1200" y="420"/>
                  </a:lnTo>
                  <a:lnTo>
                    <a:pt x="1198" y="428"/>
                  </a:lnTo>
                  <a:lnTo>
                    <a:pt x="1196" y="437"/>
                  </a:lnTo>
                  <a:lnTo>
                    <a:pt x="1195" y="446"/>
                  </a:lnTo>
                  <a:lnTo>
                    <a:pt x="1194" y="456"/>
                  </a:lnTo>
                  <a:lnTo>
                    <a:pt x="1194" y="466"/>
                  </a:lnTo>
                  <a:lnTo>
                    <a:pt x="1194" y="480"/>
                  </a:lnTo>
                  <a:lnTo>
                    <a:pt x="1196" y="493"/>
                  </a:lnTo>
                  <a:lnTo>
                    <a:pt x="1199" y="505"/>
                  </a:lnTo>
                  <a:lnTo>
                    <a:pt x="1203" y="516"/>
                  </a:lnTo>
                  <a:lnTo>
                    <a:pt x="1210" y="526"/>
                  </a:lnTo>
                  <a:lnTo>
                    <a:pt x="1217" y="536"/>
                  </a:lnTo>
                  <a:lnTo>
                    <a:pt x="1227" y="545"/>
                  </a:lnTo>
                  <a:lnTo>
                    <a:pt x="1238" y="553"/>
                  </a:lnTo>
                  <a:lnTo>
                    <a:pt x="1250" y="562"/>
                  </a:lnTo>
                  <a:lnTo>
                    <a:pt x="1265" y="570"/>
                  </a:lnTo>
                  <a:lnTo>
                    <a:pt x="1281" y="579"/>
                  </a:lnTo>
                  <a:lnTo>
                    <a:pt x="1299" y="589"/>
                  </a:lnTo>
                  <a:lnTo>
                    <a:pt x="1341" y="609"/>
                  </a:lnTo>
                  <a:lnTo>
                    <a:pt x="1391" y="633"/>
                  </a:lnTo>
                  <a:lnTo>
                    <a:pt x="1413" y="643"/>
                  </a:lnTo>
                  <a:lnTo>
                    <a:pt x="1434" y="653"/>
                  </a:lnTo>
                  <a:lnTo>
                    <a:pt x="1455" y="663"/>
                  </a:lnTo>
                  <a:lnTo>
                    <a:pt x="1476" y="674"/>
                  </a:lnTo>
                  <a:lnTo>
                    <a:pt x="1496" y="685"/>
                  </a:lnTo>
                  <a:lnTo>
                    <a:pt x="1514" y="697"/>
                  </a:lnTo>
                  <a:lnTo>
                    <a:pt x="1533" y="710"/>
                  </a:lnTo>
                  <a:lnTo>
                    <a:pt x="1549" y="724"/>
                  </a:lnTo>
                  <a:lnTo>
                    <a:pt x="1565" y="738"/>
                  </a:lnTo>
                  <a:lnTo>
                    <a:pt x="1578" y="754"/>
                  </a:lnTo>
                  <a:lnTo>
                    <a:pt x="1584" y="762"/>
                  </a:lnTo>
                  <a:lnTo>
                    <a:pt x="1590" y="770"/>
                  </a:lnTo>
                  <a:lnTo>
                    <a:pt x="1595" y="779"/>
                  </a:lnTo>
                  <a:lnTo>
                    <a:pt x="1600" y="788"/>
                  </a:lnTo>
                  <a:lnTo>
                    <a:pt x="1604" y="797"/>
                  </a:lnTo>
                  <a:lnTo>
                    <a:pt x="1608" y="807"/>
                  </a:lnTo>
                  <a:lnTo>
                    <a:pt x="1611" y="817"/>
                  </a:lnTo>
                  <a:lnTo>
                    <a:pt x="1614" y="828"/>
                  </a:lnTo>
                  <a:lnTo>
                    <a:pt x="1616" y="838"/>
                  </a:lnTo>
                  <a:lnTo>
                    <a:pt x="1618" y="850"/>
                  </a:lnTo>
                  <a:lnTo>
                    <a:pt x="1619" y="861"/>
                  </a:lnTo>
                  <a:lnTo>
                    <a:pt x="1619" y="873"/>
                  </a:lnTo>
                  <a:lnTo>
                    <a:pt x="1619" y="893"/>
                  </a:lnTo>
                  <a:lnTo>
                    <a:pt x="1617" y="912"/>
                  </a:lnTo>
                  <a:lnTo>
                    <a:pt x="1614" y="930"/>
                  </a:lnTo>
                  <a:lnTo>
                    <a:pt x="1610" y="947"/>
                  </a:lnTo>
                  <a:lnTo>
                    <a:pt x="1605" y="963"/>
                  </a:lnTo>
                  <a:lnTo>
                    <a:pt x="1599" y="978"/>
                  </a:lnTo>
                  <a:lnTo>
                    <a:pt x="1592" y="992"/>
                  </a:lnTo>
                  <a:lnTo>
                    <a:pt x="1584" y="1006"/>
                  </a:lnTo>
                  <a:lnTo>
                    <a:pt x="1575" y="1018"/>
                  </a:lnTo>
                  <a:lnTo>
                    <a:pt x="1566" y="1030"/>
                  </a:lnTo>
                  <a:lnTo>
                    <a:pt x="1556" y="1041"/>
                  </a:lnTo>
                  <a:lnTo>
                    <a:pt x="1546" y="1051"/>
                  </a:lnTo>
                  <a:lnTo>
                    <a:pt x="1534" y="1060"/>
                  </a:lnTo>
                  <a:lnTo>
                    <a:pt x="1523" y="1069"/>
                  </a:lnTo>
                  <a:lnTo>
                    <a:pt x="1510" y="1076"/>
                  </a:lnTo>
                  <a:lnTo>
                    <a:pt x="1497" y="1084"/>
                  </a:lnTo>
                  <a:lnTo>
                    <a:pt x="1485" y="1090"/>
                  </a:lnTo>
                  <a:lnTo>
                    <a:pt x="1472" y="1096"/>
                  </a:lnTo>
                  <a:lnTo>
                    <a:pt x="1459" y="1102"/>
                  </a:lnTo>
                  <a:lnTo>
                    <a:pt x="1445" y="1106"/>
                  </a:lnTo>
                  <a:lnTo>
                    <a:pt x="1419" y="1114"/>
                  </a:lnTo>
                  <a:lnTo>
                    <a:pt x="1392" y="1121"/>
                  </a:lnTo>
                  <a:lnTo>
                    <a:pt x="1366" y="1125"/>
                  </a:lnTo>
                  <a:lnTo>
                    <a:pt x="1342" y="1128"/>
                  </a:lnTo>
                  <a:lnTo>
                    <a:pt x="1319" y="1131"/>
                  </a:lnTo>
                  <a:lnTo>
                    <a:pt x="1298" y="1131"/>
                  </a:lnTo>
                  <a:lnTo>
                    <a:pt x="1267" y="1130"/>
                  </a:lnTo>
                  <a:lnTo>
                    <a:pt x="1237" y="1127"/>
                  </a:lnTo>
                  <a:lnTo>
                    <a:pt x="1208" y="1123"/>
                  </a:lnTo>
                  <a:lnTo>
                    <a:pt x="1180" y="1117"/>
                  </a:lnTo>
                  <a:lnTo>
                    <a:pt x="1153" y="1110"/>
                  </a:lnTo>
                  <a:lnTo>
                    <a:pt x="1129" y="1101"/>
                  </a:lnTo>
                  <a:lnTo>
                    <a:pt x="1118" y="1096"/>
                  </a:lnTo>
                  <a:lnTo>
                    <a:pt x="1107" y="1091"/>
                  </a:lnTo>
                  <a:lnTo>
                    <a:pt x="1097" y="1086"/>
                  </a:lnTo>
                  <a:lnTo>
                    <a:pt x="1087" y="1080"/>
                  </a:lnTo>
                  <a:lnTo>
                    <a:pt x="1087" y="9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06880" y="128160"/>
              <a:ext cx="115560" cy="160560"/>
            </a:xfrm>
            <a:custGeom>
              <a:avLst/>
              <a:gdLst/>
              <a:ahLst/>
              <a:rect l="l" t="t" r="r" b="b"/>
              <a:pathLst>
                <a:path w="611" h="851">
                  <a:moveTo>
                    <a:pt x="116" y="11"/>
                  </a:moveTo>
                  <a:lnTo>
                    <a:pt x="117" y="108"/>
                  </a:lnTo>
                  <a:lnTo>
                    <a:pt x="117" y="114"/>
                  </a:lnTo>
                  <a:lnTo>
                    <a:pt x="119" y="114"/>
                  </a:lnTo>
                  <a:lnTo>
                    <a:pt x="121" y="109"/>
                  </a:lnTo>
                  <a:lnTo>
                    <a:pt x="124" y="104"/>
                  </a:lnTo>
                  <a:lnTo>
                    <a:pt x="143" y="85"/>
                  </a:lnTo>
                  <a:lnTo>
                    <a:pt x="164" y="66"/>
                  </a:lnTo>
                  <a:lnTo>
                    <a:pt x="175" y="57"/>
                  </a:lnTo>
                  <a:lnTo>
                    <a:pt x="188" y="48"/>
                  </a:lnTo>
                  <a:lnTo>
                    <a:pt x="201" y="40"/>
                  </a:lnTo>
                  <a:lnTo>
                    <a:pt x="215" y="32"/>
                  </a:lnTo>
                  <a:lnTo>
                    <a:pt x="230" y="25"/>
                  </a:lnTo>
                  <a:lnTo>
                    <a:pt x="247" y="19"/>
                  </a:lnTo>
                  <a:lnTo>
                    <a:pt x="265" y="14"/>
                  </a:lnTo>
                  <a:lnTo>
                    <a:pt x="284" y="9"/>
                  </a:lnTo>
                  <a:lnTo>
                    <a:pt x="305" y="5"/>
                  </a:lnTo>
                  <a:lnTo>
                    <a:pt x="329" y="2"/>
                  </a:lnTo>
                  <a:lnTo>
                    <a:pt x="353" y="1"/>
                  </a:lnTo>
                  <a:lnTo>
                    <a:pt x="379" y="0"/>
                  </a:lnTo>
                  <a:lnTo>
                    <a:pt x="392" y="0"/>
                  </a:lnTo>
                  <a:lnTo>
                    <a:pt x="405" y="1"/>
                  </a:lnTo>
                  <a:lnTo>
                    <a:pt x="417" y="3"/>
                  </a:lnTo>
                  <a:lnTo>
                    <a:pt x="429" y="5"/>
                  </a:lnTo>
                  <a:lnTo>
                    <a:pt x="440" y="8"/>
                  </a:lnTo>
                  <a:lnTo>
                    <a:pt x="452" y="11"/>
                  </a:lnTo>
                  <a:lnTo>
                    <a:pt x="463" y="15"/>
                  </a:lnTo>
                  <a:lnTo>
                    <a:pt x="473" y="20"/>
                  </a:lnTo>
                  <a:lnTo>
                    <a:pt x="484" y="24"/>
                  </a:lnTo>
                  <a:lnTo>
                    <a:pt x="494" y="30"/>
                  </a:lnTo>
                  <a:lnTo>
                    <a:pt x="503" y="35"/>
                  </a:lnTo>
                  <a:lnTo>
                    <a:pt x="512" y="41"/>
                  </a:lnTo>
                  <a:lnTo>
                    <a:pt x="530" y="55"/>
                  </a:lnTo>
                  <a:lnTo>
                    <a:pt x="546" y="69"/>
                  </a:lnTo>
                  <a:lnTo>
                    <a:pt x="560" y="84"/>
                  </a:lnTo>
                  <a:lnTo>
                    <a:pt x="573" y="100"/>
                  </a:lnTo>
                  <a:lnTo>
                    <a:pt x="584" y="116"/>
                  </a:lnTo>
                  <a:lnTo>
                    <a:pt x="593" y="132"/>
                  </a:lnTo>
                  <a:lnTo>
                    <a:pt x="600" y="148"/>
                  </a:lnTo>
                  <a:lnTo>
                    <a:pt x="606" y="163"/>
                  </a:lnTo>
                  <a:lnTo>
                    <a:pt x="609" y="178"/>
                  </a:lnTo>
                  <a:lnTo>
                    <a:pt x="611" y="193"/>
                  </a:lnTo>
                  <a:lnTo>
                    <a:pt x="611" y="718"/>
                  </a:lnTo>
                  <a:lnTo>
                    <a:pt x="611" y="720"/>
                  </a:lnTo>
                  <a:lnTo>
                    <a:pt x="611" y="850"/>
                  </a:lnTo>
                  <a:lnTo>
                    <a:pt x="492" y="850"/>
                  </a:lnTo>
                  <a:lnTo>
                    <a:pt x="492" y="694"/>
                  </a:lnTo>
                  <a:lnTo>
                    <a:pt x="492" y="247"/>
                  </a:lnTo>
                  <a:lnTo>
                    <a:pt x="491" y="230"/>
                  </a:lnTo>
                  <a:lnTo>
                    <a:pt x="489" y="214"/>
                  </a:lnTo>
                  <a:lnTo>
                    <a:pt x="484" y="198"/>
                  </a:lnTo>
                  <a:lnTo>
                    <a:pt x="478" y="183"/>
                  </a:lnTo>
                  <a:lnTo>
                    <a:pt x="470" y="169"/>
                  </a:lnTo>
                  <a:lnTo>
                    <a:pt x="461" y="156"/>
                  </a:lnTo>
                  <a:lnTo>
                    <a:pt x="451" y="144"/>
                  </a:lnTo>
                  <a:lnTo>
                    <a:pt x="439" y="133"/>
                  </a:lnTo>
                  <a:lnTo>
                    <a:pt x="427" y="123"/>
                  </a:lnTo>
                  <a:lnTo>
                    <a:pt x="413" y="114"/>
                  </a:lnTo>
                  <a:lnTo>
                    <a:pt x="398" y="106"/>
                  </a:lnTo>
                  <a:lnTo>
                    <a:pt x="382" y="100"/>
                  </a:lnTo>
                  <a:lnTo>
                    <a:pt x="365" y="95"/>
                  </a:lnTo>
                  <a:lnTo>
                    <a:pt x="348" y="91"/>
                  </a:lnTo>
                  <a:lnTo>
                    <a:pt x="330" y="89"/>
                  </a:lnTo>
                  <a:lnTo>
                    <a:pt x="311" y="88"/>
                  </a:lnTo>
                  <a:lnTo>
                    <a:pt x="295" y="89"/>
                  </a:lnTo>
                  <a:lnTo>
                    <a:pt x="279" y="91"/>
                  </a:lnTo>
                  <a:lnTo>
                    <a:pt x="263" y="95"/>
                  </a:lnTo>
                  <a:lnTo>
                    <a:pt x="247" y="101"/>
                  </a:lnTo>
                  <a:lnTo>
                    <a:pt x="231" y="108"/>
                  </a:lnTo>
                  <a:lnTo>
                    <a:pt x="215" y="115"/>
                  </a:lnTo>
                  <a:lnTo>
                    <a:pt x="200" y="124"/>
                  </a:lnTo>
                  <a:lnTo>
                    <a:pt x="185" y="134"/>
                  </a:lnTo>
                  <a:lnTo>
                    <a:pt x="172" y="145"/>
                  </a:lnTo>
                  <a:lnTo>
                    <a:pt x="160" y="157"/>
                  </a:lnTo>
                  <a:lnTo>
                    <a:pt x="148" y="169"/>
                  </a:lnTo>
                  <a:lnTo>
                    <a:pt x="139" y="182"/>
                  </a:lnTo>
                  <a:lnTo>
                    <a:pt x="131" y="196"/>
                  </a:lnTo>
                  <a:lnTo>
                    <a:pt x="125" y="209"/>
                  </a:lnTo>
                  <a:lnTo>
                    <a:pt x="123" y="216"/>
                  </a:lnTo>
                  <a:lnTo>
                    <a:pt x="121" y="223"/>
                  </a:lnTo>
                  <a:lnTo>
                    <a:pt x="120" y="230"/>
                  </a:lnTo>
                  <a:lnTo>
                    <a:pt x="119" y="237"/>
                  </a:lnTo>
                  <a:lnTo>
                    <a:pt x="119" y="718"/>
                  </a:lnTo>
                  <a:lnTo>
                    <a:pt x="119" y="721"/>
                  </a:lnTo>
                  <a:lnTo>
                    <a:pt x="119" y="851"/>
                  </a:lnTo>
                  <a:lnTo>
                    <a:pt x="0" y="851"/>
                  </a:lnTo>
                  <a:lnTo>
                    <a:pt x="0" y="718"/>
                  </a:lnTo>
                  <a:lnTo>
                    <a:pt x="0" y="122"/>
                  </a:lnTo>
                  <a:lnTo>
                    <a:pt x="0" y="11"/>
                  </a:lnTo>
                  <a:lnTo>
                    <a:pt x="22" y="11"/>
                  </a:lnTo>
                  <a:lnTo>
                    <a:pt x="86" y="11"/>
                  </a:lnTo>
                  <a:lnTo>
                    <a:pt x="11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5C14E0FF-C089-42D4-A080-A31BBFCED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lient Concentration</a:t>
            </a:r>
            <a:endParaRPr b="0" lang="en-US" sz="2800" spc="-1" strike="noStrike">
              <a:solidFill>
                <a:srgbClr val="ffff00"/>
              </a:solidFill>
              <a:latin typeface="Arial"/>
            </a:endParaRPr>
          </a:p>
        </p:txBody>
      </p:sp>
      <p:graphicFrame>
        <p:nvGraphicFramePr>
          <p:cNvPr id="164" name=""/>
          <p:cNvGraphicFramePr/>
          <p:nvPr/>
        </p:nvGraphicFramePr>
        <p:xfrm>
          <a:off x="6172200" y="2206800"/>
          <a:ext cx="3351240" cy="2288880"/>
        </p:xfrm>
        <a:graphic>
          <a:graphicData uri="http://schemas.openxmlformats.org/presentationml/2006/ole">
            <p:oleObj r:id="rId1" spid="">
              <p:embed/>
              <p:pic>
                <p:nvPicPr>
                  <p:cNvPr id="165" name="" descr=""/>
                  <p:cNvPicPr/>
                  <p:nvPr/>
                </p:nvPicPr>
                <p:blipFill>
                  <a:blip r:embed="rId2"/>
                  <a:stretch/>
                </p:blipFill>
                <p:spPr>
                  <a:xfrm>
                    <a:off x="6172200" y="2206800"/>
                    <a:ext cx="3351240" cy="2288880"/>
                  </a:xfrm>
                  <a:prstGeom prst="rect">
                    <a:avLst/>
                  </a:prstGeom>
                  <a:ln w="0">
                    <a:noFill/>
                  </a:ln>
                </p:spPr>
              </p:pic>
            </p:oleObj>
          </a:graphicData>
        </a:graphic>
      </p:graphicFrame>
      <p:sp>
        <p:nvSpPr>
          <p:cNvPr id="166" name=""/>
          <p:cNvSpPr/>
          <p:nvPr/>
        </p:nvSpPr>
        <p:spPr>
          <a:xfrm>
            <a:off x="7162560" y="1981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Arial"/>
              </a:rPr>
              <a:t>% Revenues*</a:t>
            </a:r>
            <a:endParaRPr b="0" lang="en-US" sz="1400" spc="-1" strike="noStrike">
              <a:solidFill>
                <a:srgbClr val="000000"/>
              </a:solidFill>
              <a:latin typeface="Arial"/>
            </a:endParaRPr>
          </a:p>
        </p:txBody>
      </p:sp>
      <p:sp>
        <p:nvSpPr>
          <p:cNvPr id="167" name=""/>
          <p:cNvSpPr/>
          <p:nvPr/>
        </p:nvSpPr>
        <p:spPr>
          <a:xfrm>
            <a:off x="266760" y="1962000"/>
            <a:ext cx="5676840" cy="3280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	</a:t>
            </a:r>
            <a:r>
              <a:rPr b="1" lang="en-GB" sz="1400" spc="-1" strike="noStrike">
                <a:solidFill>
                  <a:srgbClr val="ffffff"/>
                </a:solidFill>
                <a:latin typeface="Arial"/>
              </a:rPr>
              <a:t>FY 2005 </a:t>
            </a:r>
            <a:r>
              <a:rPr b="1" lang="en-GB" sz="1400" spc="-1" strike="noStrike">
                <a:solidFill>
                  <a:srgbClr val="ffffff"/>
                </a:solidFill>
                <a:latin typeface="Arial"/>
              </a:rPr>
              <a:t>	</a:t>
            </a:r>
            <a:r>
              <a:rPr b="1" lang="en-GB" sz="1400" spc="-1" strike="noStrike">
                <a:solidFill>
                  <a:srgbClr val="ffffff"/>
                </a:solidFill>
                <a:latin typeface="Arial"/>
              </a:rPr>
              <a:t>FY 2004  </a:t>
            </a:r>
            <a:r>
              <a:rPr b="1" lang="en-GB" sz="1400" spc="-1" strike="noStrike">
                <a:solidFill>
                  <a:srgbClr val="ffffff"/>
                </a:solidFill>
                <a:latin typeface="Arial"/>
              </a:rPr>
              <a:t>	</a:t>
            </a:r>
            <a:r>
              <a:rPr b="1" lang="en-GB" sz="1400" spc="-1" strike="noStrike">
                <a:solidFill>
                  <a:srgbClr val="ffffff"/>
                </a:solidFill>
                <a:latin typeface="Arial"/>
              </a:rPr>
              <a:t>FY 2004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Q1          </a:t>
            </a:r>
            <a:r>
              <a:rPr b="1" lang="en-GB" sz="1400" spc="-1" strike="noStrike">
                <a:solidFill>
                  <a:srgbClr val="ffffff"/>
                </a:solidFill>
                <a:latin typeface="Arial"/>
              </a:rPr>
              <a:t>	</a:t>
            </a:r>
            <a:r>
              <a:rPr b="1" lang="en-GB" sz="1400" spc="-1" strike="noStrike">
                <a:solidFill>
                  <a:srgbClr val="ffffff"/>
                </a:solidFill>
                <a:latin typeface="Arial"/>
              </a:rPr>
              <a:t>Q4           </a:t>
            </a:r>
            <a:r>
              <a:rPr b="1" lang="en-GB" sz="1400" spc="-1" strike="noStrike">
                <a:solidFill>
                  <a:srgbClr val="ffffff"/>
                </a:solidFill>
                <a:latin typeface="Arial"/>
              </a:rPr>
              <a:t>	</a:t>
            </a:r>
            <a:r>
              <a:rPr b="1" lang="en-GB" sz="1400" spc="-1" strike="noStrike">
                <a:solidFill>
                  <a:srgbClr val="ffffff"/>
                </a:solidFill>
                <a:latin typeface="Arial"/>
              </a:rPr>
              <a:t>       Q1</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New Clients       </a:t>
            </a:r>
            <a:r>
              <a:rPr b="0" lang="en-GB" sz="1400" spc="-1" strike="noStrike">
                <a:solidFill>
                  <a:srgbClr val="ffffff"/>
                </a:solidFill>
                <a:latin typeface="Arial"/>
              </a:rPr>
              <a:t>	</a:t>
            </a:r>
            <a:r>
              <a:rPr b="0" lang="en-GB" sz="1400" spc="-1" strike="noStrike">
                <a:solidFill>
                  <a:srgbClr val="ffffff"/>
                </a:solidFill>
                <a:latin typeface="Arial"/>
              </a:rPr>
              <a:t>29</a:t>
            </a:r>
            <a:r>
              <a:rPr b="0" lang="en-GB" sz="1400" spc="-1" strike="noStrike">
                <a:solidFill>
                  <a:srgbClr val="ffffff"/>
                </a:solidFill>
                <a:latin typeface="Arial"/>
              </a:rPr>
              <a:t>	</a:t>
            </a:r>
            <a:r>
              <a:rPr b="0" lang="en-GB" sz="1400" spc="-1" strike="noStrike">
                <a:solidFill>
                  <a:srgbClr val="ffffff"/>
                </a:solidFill>
                <a:latin typeface="Arial"/>
              </a:rPr>
              <a:t>38</a:t>
            </a:r>
            <a:r>
              <a:rPr b="0" lang="en-GB" sz="1400" spc="-1" strike="noStrike">
                <a:solidFill>
                  <a:srgbClr val="ffffff"/>
                </a:solidFill>
                <a:latin typeface="Arial"/>
              </a:rPr>
              <a:t>	</a:t>
            </a:r>
            <a:r>
              <a:rPr b="0" lang="en-GB" sz="1400" spc="-1" strike="noStrike">
                <a:solidFill>
                  <a:srgbClr val="ffffff"/>
                </a:solidFill>
                <a:latin typeface="Arial"/>
              </a:rPr>
              <a:t> 22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p client contribution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to revenues</a:t>
            </a:r>
            <a:r>
              <a:rPr b="0" lang="en-GB" sz="1400" spc="-1" strike="noStrike">
                <a:solidFill>
                  <a:srgbClr val="ffffff"/>
                </a:solidFill>
                <a:latin typeface="Arial"/>
              </a:rPr>
              <a:t>	</a:t>
            </a:r>
            <a:r>
              <a:rPr b="0" lang="en-GB" sz="1400" spc="-1" strike="noStrike">
                <a:solidFill>
                  <a:srgbClr val="ffffff"/>
                </a:solidFill>
                <a:latin typeface="Arial"/>
              </a:rPr>
              <a:t>                   5.3%</a:t>
            </a:r>
            <a:r>
              <a:rPr b="0" lang="en-GB" sz="1400" spc="-1" strike="noStrike">
                <a:solidFill>
                  <a:srgbClr val="ffffff"/>
                </a:solidFill>
                <a:latin typeface="Arial"/>
              </a:rPr>
              <a:t>	</a:t>
            </a:r>
            <a:r>
              <a:rPr b="0" lang="en-GB" sz="1400" spc="-1" strike="noStrike">
                <a:solidFill>
                  <a:srgbClr val="ffffff"/>
                </a:solidFill>
                <a:latin typeface="Arial"/>
              </a:rPr>
              <a:t> 6.5%</a:t>
            </a:r>
            <a:r>
              <a:rPr b="0" lang="en-GB" sz="1400" spc="-1" strike="noStrike">
                <a:solidFill>
                  <a:srgbClr val="ffffff"/>
                </a:solidFill>
                <a:latin typeface="Arial"/>
              </a:rPr>
              <a:t>	</a:t>
            </a:r>
            <a:r>
              <a:rPr b="0" lang="en-GB" sz="1400" spc="-1" strike="noStrike">
                <a:solidFill>
                  <a:srgbClr val="ffffff"/>
                </a:solidFill>
                <a:latin typeface="Arial"/>
              </a:rPr>
              <a:t>    5.7%</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Million dollar clients*            </a:t>
            </a:r>
            <a:r>
              <a:rPr b="0" lang="en-GB" sz="1400" spc="-1" strike="noStrike">
                <a:solidFill>
                  <a:srgbClr val="ffffff"/>
                </a:solidFill>
                <a:latin typeface="Arial"/>
              </a:rPr>
              <a:t>	</a:t>
            </a:r>
            <a:r>
              <a:rPr b="0" lang="en-GB" sz="1400" spc="-1" strike="noStrike">
                <a:solidFill>
                  <a:srgbClr val="ffffff"/>
                </a:solidFill>
                <a:latin typeface="Arial"/>
              </a:rPr>
              <a:t>141</a:t>
            </a:r>
            <a:r>
              <a:rPr b="0" lang="en-GB" sz="1400" spc="-1" strike="noStrike">
                <a:solidFill>
                  <a:srgbClr val="ffffff"/>
                </a:solidFill>
                <a:latin typeface="Arial"/>
              </a:rPr>
              <a:t>	</a:t>
            </a:r>
            <a:r>
              <a:rPr b="0" lang="en-GB" sz="1400" spc="-1" strike="noStrike">
                <a:solidFill>
                  <a:srgbClr val="ffffff"/>
                </a:solidFill>
                <a:latin typeface="Arial"/>
              </a:rPr>
              <a:t>131  </a:t>
            </a:r>
            <a:r>
              <a:rPr b="0" lang="en-GB" sz="1400" spc="-1" strike="noStrike">
                <a:solidFill>
                  <a:srgbClr val="ffffff"/>
                </a:solidFill>
                <a:latin typeface="Arial"/>
              </a:rPr>
              <a:t>	</a:t>
            </a:r>
            <a:r>
              <a:rPr b="0" lang="en-GB" sz="1400" spc="-1" strike="noStrike">
                <a:solidFill>
                  <a:srgbClr val="ffffff"/>
                </a:solidFill>
                <a:latin typeface="Arial"/>
              </a:rPr>
              <a:t>      113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Fifty million + dollar clients*</a:t>
            </a:r>
            <a:r>
              <a:rPr b="0" lang="en-GB" sz="1400" spc="-1" strike="noStrike">
                <a:solidFill>
                  <a:srgbClr val="ffffff"/>
                </a:solidFill>
                <a:latin typeface="Arial"/>
              </a:rPr>
              <a:t>	</a:t>
            </a:r>
            <a:r>
              <a:rPr b="0" lang="en-GB" sz="1400" spc="-1" strike="noStrike">
                <a:solidFill>
                  <a:srgbClr val="ffffff"/>
                </a:solidFill>
                <a:latin typeface="Arial"/>
              </a:rPr>
              <a:t>        3</a:t>
            </a:r>
            <a:r>
              <a:rPr b="0" lang="en-GB" sz="1400" spc="-1" strike="noStrike">
                <a:solidFill>
                  <a:srgbClr val="ffffff"/>
                </a:solidFill>
                <a:latin typeface="Arial"/>
              </a:rPr>
              <a:t>	</a:t>
            </a:r>
            <a:r>
              <a:rPr b="0" lang="en-GB" sz="1400" spc="-1" strike="noStrike">
                <a:solidFill>
                  <a:srgbClr val="ffffff"/>
                </a:solidFill>
                <a:latin typeface="Arial"/>
              </a:rPr>
              <a:t>          3  </a:t>
            </a:r>
            <a:r>
              <a:rPr b="0" lang="en-GB" sz="1400" spc="-1" strike="noStrike">
                <a:solidFill>
                  <a:srgbClr val="ffffff"/>
                </a:solidFill>
                <a:latin typeface="Arial"/>
              </a:rPr>
              <a:t>	</a:t>
            </a:r>
            <a:r>
              <a:rPr b="0" lang="en-GB" sz="1400" spc="-1" strike="noStrike">
                <a:solidFill>
                  <a:srgbClr val="ffffff"/>
                </a:solidFill>
                <a:latin typeface="Arial"/>
              </a:rPr>
              <a:t>         -</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Active Clients</a:t>
            </a:r>
            <a:r>
              <a:rPr b="0" lang="en-GB" sz="1400" spc="-1" strike="noStrike">
                <a:solidFill>
                  <a:srgbClr val="ffffff"/>
                </a:solidFill>
                <a:latin typeface="Arial"/>
              </a:rPr>
              <a:t>	</a:t>
            </a:r>
            <a:r>
              <a:rPr b="0" lang="en-GB" sz="1400" spc="-1" strike="noStrike">
                <a:solidFill>
                  <a:srgbClr val="ffffff"/>
                </a:solidFill>
                <a:latin typeface="Arial"/>
              </a:rPr>
              <a:t>419</a:t>
            </a:r>
            <a:r>
              <a:rPr b="0" lang="en-GB" sz="1400" spc="-1" strike="noStrike">
                <a:solidFill>
                  <a:srgbClr val="ffffff"/>
                </a:solidFill>
                <a:latin typeface="Arial"/>
              </a:rPr>
              <a:t>	</a:t>
            </a:r>
            <a:r>
              <a:rPr b="0" lang="en-GB" sz="1400" spc="-1" strike="noStrike">
                <a:solidFill>
                  <a:srgbClr val="ffffff"/>
                </a:solidFill>
                <a:latin typeface="Arial"/>
              </a:rPr>
              <a:t>393</a:t>
            </a:r>
            <a:r>
              <a:rPr b="0" lang="en-GB" sz="1400" spc="-1" strike="noStrike">
                <a:solidFill>
                  <a:srgbClr val="ffffff"/>
                </a:solidFill>
                <a:latin typeface="Arial"/>
              </a:rPr>
              <a:t>	</a:t>
            </a:r>
            <a:r>
              <a:rPr b="0" lang="en-GB" sz="1400" spc="-1" strike="noStrike">
                <a:solidFill>
                  <a:srgbClr val="ffffff"/>
                </a:solidFill>
                <a:latin typeface="Arial"/>
              </a:rPr>
              <a:t>346</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GB" sz="1400" spc="-1" strike="noStrike">
                <a:solidFill>
                  <a:srgbClr val="ffffff"/>
                </a:solidFill>
                <a:latin typeface="Arial"/>
              </a:rPr>
              <a:t>Repeat Business                 </a:t>
            </a:r>
            <a:r>
              <a:rPr b="0" lang="en-GB" sz="1400" spc="-1" strike="noStrike">
                <a:solidFill>
                  <a:srgbClr val="ffffff"/>
                </a:solidFill>
                <a:latin typeface="Arial"/>
              </a:rPr>
              <a:t>	</a:t>
            </a:r>
            <a:r>
              <a:rPr b="0" lang="en-GB" sz="1400" spc="-1" strike="noStrike">
                <a:solidFill>
                  <a:srgbClr val="ffffff"/>
                </a:solidFill>
                <a:latin typeface="Arial"/>
              </a:rPr>
              <a:t>98.5%              </a:t>
            </a:r>
            <a:r>
              <a:rPr b="0" lang="en-GB" sz="1400" spc="-1" strike="noStrike">
                <a:solidFill>
                  <a:srgbClr val="ffffff"/>
                </a:solidFill>
                <a:latin typeface="Arial"/>
              </a:rPr>
              <a:t>	</a:t>
            </a:r>
            <a:r>
              <a:rPr b="0" lang="en-GB" sz="1400" spc="-1" strike="noStrike">
                <a:solidFill>
                  <a:srgbClr val="ffffff"/>
                </a:solidFill>
                <a:latin typeface="Arial"/>
              </a:rPr>
              <a:t>   88.6%              97.8%</a:t>
            </a: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r" pos="2917800"/>
                <a:tab algn="r" pos="4224240"/>
                <a:tab algn="r" pos="5370480"/>
                <a:tab algn="l" pos="5486400"/>
                <a:tab algn="l" pos="6400800"/>
                <a:tab algn="l" pos="7315200"/>
                <a:tab algn="l" pos="8229600"/>
                <a:tab algn="l" pos="9144000"/>
                <a:tab algn="l" pos="10058400"/>
              </a:tabLst>
            </a:pPr>
            <a:r>
              <a:rPr b="0" lang="en-US" sz="1000" spc="-1" strike="noStrike">
                <a:solidFill>
                  <a:srgbClr val="ffffff"/>
                </a:solidFill>
                <a:latin typeface="Arial"/>
              </a:rPr>
              <a:t>*LTM – Last Twelve Months</a:t>
            </a:r>
            <a:endParaRPr b="0" lang="en-US" sz="1000" spc="-1" strike="noStrike">
              <a:solidFill>
                <a:srgbClr val="000000"/>
              </a:solidFill>
              <a:latin typeface="Arial"/>
            </a:endParaRPr>
          </a:p>
        </p:txBody>
      </p:sp>
      <p:sp>
        <p:nvSpPr>
          <p:cNvPr id="168" name=""/>
          <p:cNvSpPr/>
          <p:nvPr/>
        </p:nvSpPr>
        <p:spPr>
          <a:xfrm>
            <a:off x="228600" y="23907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04920" y="4648320"/>
            <a:ext cx="566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8600" y="193356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42C6A4-611C-4A60-AB4F-6DD394B22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0T15:38:07Z</dcterms:created>
  <dc:creator>rajiv_parekh</dc:creator>
  <dc:description/>
  <dc:language>en-US</dc:language>
  <cp:lastModifiedBy>rajasimha_s</cp:lastModifiedBy>
  <dcterms:modified xsi:type="dcterms:W3CDTF">2004-07-13T08:28:43Z</dcterms:modified>
  <cp:revision>221</cp:revision>
  <dc:subject/>
  <dc:title>Slide 1</dc:title>
</cp:coreProperties>
</file>